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62E5-D07A-4FE4-A45B-2BAC70C3F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E8DF-FE00-4790-8519-9C71DA728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8C5F-A27E-4594-90C7-BFA31B2B2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B61A-1545-48C6-B759-FDA936F9C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DCB26-CBBB-40C1-9535-03E19AA63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D7275-60A2-4694-B82F-1A75D38FE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56763-F55B-4781-8505-2EFF04FBE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9FD54-D8D3-4150-ADD1-7FB94445D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6C27A-BE8C-4156-9BF1-AF1D4144E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FD1EC-22A0-4E34-959E-0880449F7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4D6E7-60D2-49FD-B1EB-1BC9F57FD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0474-5866-463B-A242-261352922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14C3B-A8A6-4FDD-BFBE-913293693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099B3-EC46-49C8-A976-BC5133EE2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051D5-70A6-430A-B7AC-ED96AB380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70A30-98E4-4270-AC29-CB911A53E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828CF-5F4C-4908-9063-1A6AE02EF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FE75-05A0-4C52-AEF6-8CA1D6B25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6E6A-B024-42F0-8F80-29D361619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02A9-7C57-463D-8172-222CFF984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FDF8-D14B-4221-8F6D-8646627E3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58AA-8899-4129-BB75-1BA0817C8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826F-1BC3-4817-B3F2-E98721EF8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4489-385D-49BF-B89C-AFEEBFA7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76130-6230-4E02-A3EB-BAC6005CEAB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D4ECA-596F-41A2-849E-01BB764D72E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560" y="1413000"/>
            <a:ext cx="8569080" cy="18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แนวทางการวางแผนภาษีธุรกิจเฉพาะ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Specific Business Tax Plann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411280" y="3933720"/>
            <a:ext cx="590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สุเทพ  พงษ์พิทักษ์</a:t>
            </a:r>
            <a:r>
              <a:rPr b="1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br>
              <a:rPr sz="2800"/>
            </a:br>
            <a:r>
              <a:rPr b="1" lang="hi-IN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ผู้อำนวยกา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สำนักมาตรฐานการสอบบัญชีภาษีอาก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3739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.2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ศึกษารูปแบบการจัดองค์การ ขั้นตอนการดำเนินธุรกิจ ตลอดจนเอกสารทางธุรกิจ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5993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ึกษารูปแบบการจัดองค์การ อาทิ โครงสร้างเงินทุนของกิจการ และวิธีการจัดการทางการเงิน เช่น แหล่งเงินทุน จำนวนเงินทุน รูปแบบหรือลักษณะของการเป็นเจ้าของกิจการ วัตถุประสงค์ของกิจการ ปรัชญา วิสัยทัศน์ และภารกิจ แผนเชิงกลยุทธ์ การบริหารเชิงกลยุทธ์ การจัดแบ่งองค์การ และสายการบังคับบัญชา การบริหารทรัพยากรมนุษย์ในองค์การ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HRM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ผู้บริหา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วิเคราะห์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WO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วิเคราะห์ ปัจจัยด้านเศรษฐกิจ และอุตสาหกรรมที่เกี่ยวข้องกับกิจการ สภาวการณ์ที่สำคัญ ซึ่งมีผลกระทบต่อธุรกิจ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3640" y="115920"/>
            <a:ext cx="83739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.2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ศึกษารูปแบบการจัดองค์การ ขั้นตอนการดำเนินธุรกิจ ตลอดจนเอกสารทางธุรกิจ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6407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ึกษาขั้นตอนการดำเนินธุรกิจเกี่ยวกับประเด็นทางภาษีอากรและการปรับระบบเอกสารทางธุรกิจให้สอดคล้องกับภาษีธุรกิจเฉพา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ึกษาระบบเอกสารทางธุรกิจและระบบบัญชีของกิจการ อาทิ ผังบัญชี ระบบบัญชี และการวางรูประบบบัญชี รูปแบบของเอกสารประกอบการลงบัญชี วิธีการบันทึกบัญชี และการจัดทำเอกสารหลักฐานทางธุรกิจและทางภาษีอากร งบการเงิน เอกสารสัญญาทางธุรกิจ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ึกษาระบบการควบคุมภายในและการตรวจสอบภายใ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ึกษาและวิเคราะห์ผลการประกอบกิจกา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ึกษานโยบายขององค์กรต่อสังคมและสิ่งแวดล้อม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23640" y="1670040"/>
            <a:ext cx="8057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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โครงสร้างภาษีธุรกิจเฉพา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ักการของภาษีธุรกิจเฉพาะ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มีหน้าที่เสียภาษีธุรกิจเฉพา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ิธีการคำนวณภาษีธุรกิจเฉพาะ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ิธีการเสียภาษีธุรกิจเฉพา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ยกเว้นภาษีธุรกิจเฉพา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อคืนภาษีธุรกิจเฉพา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น้าที่อื่นในทางภาษีธุรกิจเฉพา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จัดข้อโต้แย้งทางภาษีธุรกิจเฉพาะ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ทกำหนดโทษทางภาษีธุรกิจเฉพา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9152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.3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ศึกษาหลักเกณฑ์ วิธีการ และเงื่อนไขเกี่ยวกับภาษีธุรกิจเฉพา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.4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ปัญหาภาษีธุรกิจเฉพาะของธุรกิจที่ต้องการจัดให้มีการวางแผน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ัญหาการปฏิบัติการต่างๆ ทางภาษีธุรกิจเฉพาะในงานปกติประจำวั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IT Routine Fault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ิดพลาดไม่ถูกต้อง ครบถ้วน ตามหลักเกณฑ์ วิธีการ และเงื่อนไขของกฎหมาย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วามไม่ถูกต้องเกี่ยวกับการบันทึกรับรู้รายรั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2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วามไม่ถูกต้องเกี่ยวกับเอกสารประกอบการลงรายกา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3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วามไม่ถูกต้องเกี่ยวกับการใช้แบบแสดงรายการ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4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วามไม่ถูกต้องเกี่ยวกับการให้ความร่วมมือแก่เจ้าพนักงา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ัญหาการปฏิบัติการในแต่ละขั้นตอนของการดำเนินธุรกิจ ตลอดจนการจัดทำสัญญาไม่สอดคล้องกับหลักเกณฑ์ วิธีการ และเงื่อนไขของกฎหมา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.4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ปัญหาภาษีธุรกิจเฉพาะของธุรกิจที่ต้องการจัดให้มีการวางแผน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7854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ัญหาความแตกต่างของหลักเกณฑ์ วิธีการ และเงื่อนไขทางธุรกิจและบัญชีการเงิน กับหลักเกณฑ์ วิธีการ และเงื่อนไขทางภาษีธุรกิจเฉพา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ัญหาความแตกต่างของเงื่อนไขเกี่ยวกับรายได้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ัญหาความแตกต่างของเงื่อนไขเกี่ยวกับรายจ่าย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3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ัญหาความแตกต่างของหลักเกณฑ์ในการตีราคาทรัพย์สิน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นี้สิ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เปลี่ยนแปลง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/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วามหลายหลาย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Diversification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าทิ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้องการเปลี่ยนเป็นบริษัทมหาชนจำกัด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้องการเป็นบริษัทจดทะเบียนในตลาดหลักทรัพย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้องการผู้ร่วมลงทุนรายใหม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้องการความเป็นมาตรฐานสาก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.4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ปัญหาภาษีธุรกิจเฉพาะของธุรกิจที่ต้องการจัดให้มีการวางแผน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ัญหาการใช้สิทธิประโยชน์ทางภาษีธุรกิจเฉพาะขององค์กรยังเป็นไปอย่างไม่เต็มที่หรือสมบูรณ์ตามที่ควรจะเป็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ิทธิประโยชน์ด้านรายได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2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ิทธิประโยชน์ด้านรายจ่าย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3)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ิทธิประโยชน์ด้านทรัพย์สินและหนี้สิ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2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ขั้นตอนการวางแผน</a:t>
            </a:r>
            <a:br>
              <a:rPr sz="4000"/>
            </a:b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ภาษีธุรกิจเฉพาะ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59932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1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ำหนดประเด็นภาษีธุรกิจเฉพาะที่เกี่ยวข้อง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2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ัญหาภาษีธุรกิจเฉพา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ำหนดเป้าหมายของการแก้ปัญหาภาษีธุรกิจเฉพา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4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ั้นตอนการแก้ปัญหาภาษีอาก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09720" indent="-285840">
              <a:lnSpc>
                <a:spcPct val="11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จัดทำ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Tax Mapp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9720" indent="-285840">
              <a:lnSpc>
                <a:spcPct val="11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จัดทำ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Tax Manu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9720" indent="-285840">
              <a:lnSpc>
                <a:spcPct val="11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จัดทำ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Tax Calendar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ขั้นตอนการนำแผน</a:t>
            </a:r>
            <a:br>
              <a:rPr sz="4000"/>
            </a:b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ภาษีธุรกิจเฉพาะไปปฏิบัติ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59932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1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ปฏิบัติการทางด้านผู้บังคับบัญช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2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ปฏิบัติการทางด้านผู้รับมอบหมายให้ปฏิบัติงานตามแผน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4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ขั้นตอนการประเมินผล</a:t>
            </a:r>
            <a:br>
              <a:rPr sz="4000"/>
            </a:b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แผนภาษีธุรกิจเฉพาะ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59932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1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ประเมินผลการปฏิบัติโดยรวม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2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ประเมินอุปสรรค ปัญหาในการปฏิบัติตามแผนภาษ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ูลค่าเพิ่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3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ประเมินผลการปฏิบัติ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4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ประเมินความรู้ความสามารถของเจ้าหน้าที่ผู้ปฏิบัติตามแผนภาษีธุรกิจเฉพา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6040" y="170136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ศึกษาหลักเกณฑ์ วิธีการ และ</a:t>
            </a:r>
            <a:br>
              <a:rPr sz="4400"/>
            </a:b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เงื่อนไขเกี่ยวกับภาษีธุรกิจเฉพาะ</a:t>
            </a:r>
            <a:br>
              <a:rPr sz="4400"/>
            </a:b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เพื่อการวางแผนภาษีอากร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50560" y="1483920"/>
            <a:ext cx="87138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วางแผนภาษีธุรกิจเฉพาะ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คือ การกำหนดแนวทางการปฏิบัติที่เป็นรูปธรรม เพื่อการปฏิบัติในอนาคตเกี่ยวกับรายการทางการเงิ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Financial Transactions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ี่เกี่ยวข้อง มุ่งหมายให้การเสียภาษีธุรกิจเฉพาะและการปฏิบัติการเกี่ยวกับภาษีธุรกิจเฉพาะขององค์กรเป็นไปโดยถูกต้อง และครบถ้วนตามหลักเกณฑ์ วิธีการ และเงื่อนไขที่กฎหมายภาษีธุรกิจเฉพาะกำหนด และเป็นผลให้จำนวนภาษีธุรกิจเฉพาะที่ต้องเสียเป็นจำนวนน้อยที่สุดหรือประหยัดที่สุด รวมทั้งใช้สิทธิประโยชน์ทางภาษีธุรกิจเฉพาะสูงสุด ทั้งนี้ โดยไม่อาศัยการทุจริตหลีกเลี่ยงภาษีธุรกิจเฉพา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9152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วางแผนภาษีธุรกิจเฉพา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681640" y="122400"/>
            <a:ext cx="3548880" cy="520560"/>
          </a:xfrm>
          <a:prstGeom prst="rect">
            <a:avLst/>
          </a:prstGeom>
          <a:solidFill>
            <a:srgbClr val="010175"/>
          </a:solidFill>
          <a:ln w="9360">
            <a:solidFill>
              <a:srgbClr val="0066ff"/>
            </a:solidFill>
            <a:miter/>
          </a:ln>
          <a:effectLst>
            <a:outerShdw dist="17819" dir="2700000" blurRad="0" rotWithShape="0">
              <a:srgbClr val="0101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นวทางการศึกษา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B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19040" y="811080"/>
            <a:ext cx="3457800" cy="947160"/>
          </a:xfrm>
          <a:prstGeom prst="rect">
            <a:avLst/>
          </a:prstGeom>
          <a:solidFill>
            <a:srgbClr val="010175"/>
          </a:solidFill>
          <a:ln w="9360">
            <a:solidFill>
              <a:srgbClr val="dddddd"/>
            </a:solidFill>
            <a:miter/>
          </a:ln>
          <a:effectLst>
            <a:outerShdw dist="17819" dir="2700000" blurRad="0" rotWithShape="0">
              <a:srgbClr val="0101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BT Law Stru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95960" y="1501920"/>
            <a:ext cx="284940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1) SBT Princi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29800" y="1863720"/>
            <a:ext cx="251856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2) SBT Pay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99200" y="2243160"/>
            <a:ext cx="349560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3)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BT Compu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32680" y="2678040"/>
            <a:ext cx="280980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4) SBT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ay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32680" y="3141720"/>
            <a:ext cx="308700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5) SBT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xem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7120" y="3573360"/>
            <a:ext cx="260532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6) SBT Ref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57080" y="4005360"/>
            <a:ext cx="408816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7) Other SBT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73280" y="4437000"/>
            <a:ext cx="322704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8) SBT Settl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87320" y="4869000"/>
            <a:ext cx="338256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9) SBT Punish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31040" y="5270400"/>
            <a:ext cx="305460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ivil Punish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003680" y="5661000"/>
            <a:ext cx="368712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buClr>
                <a:srgbClr val="e4e9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e917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4e917"/>
                </a:solidFill>
                <a:latin typeface="Arial"/>
              </a:rPr>
              <a:t>Criminal Punish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160600" y="3429000"/>
            <a:ext cx="3696480" cy="1557000"/>
          </a:xfrm>
          <a:prstGeom prst="rect">
            <a:avLst/>
          </a:prstGeom>
          <a:noFill/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Tax Identification N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SBT Regis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SBT Documents &amp; Boo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SBT Co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82400" y="795240"/>
            <a:ext cx="3553200" cy="14101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To understand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B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To apply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t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he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BT l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a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To up date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B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To create SBT benef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76840" y="1125360"/>
            <a:ext cx="11509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730760" y="4199040"/>
            <a:ext cx="4572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635280" y="2924280"/>
            <a:ext cx="2305080" cy="5047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83160" y="2170080"/>
            <a:ext cx="31982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BT Base &amp; SBT Rat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9564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794480" y="5270400"/>
            <a:ext cx="366300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- Penalty &amp; Surchar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74680" y="5661000"/>
            <a:ext cx="289044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- Fine &amp; Impri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84720" y="2492280"/>
            <a:ext cx="1655640" cy="9367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หลักการภาษีธุรกิจเฉพา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7854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ภาษีทางอ้อม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Indirect Tax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ัดเก็บจากการขายสินค้าหรือการให้บริการชนิดพิเศษที่ไม่อาจคำนวณหามูลค่าเพิ่มได้โดยง่าย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ัดเก็บแทนที่ภาษีการค้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Business Tax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ั้งแต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2535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ต้นมา โดยจัดเก็บจากยอดรายรับก่อนหักรายจ่ายใดๆ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ัดเก็บเป็นรายเดือนภาษ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ภาษีอากรประเมิ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ภาษีทางเลือก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Alternative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Tax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ภาษีธุรกิจเฉพาะ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7/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อบ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1/2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1/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1844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e4e917"/>
                </a:solidFill>
                <a:latin typeface="Microsoft Sans Serif"/>
                <a:cs typeface="Microsoft Sans Serif"/>
              </a:rPr>
              <a:t>หลักการภาษีธุรกิจเฉพา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8856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ธุรกิจเฉพาะ เป็นภาษีที่เก็บจากการบริโภคหรือการบริการเฉพาะอย่าง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โดยบัญญัติไว้ในหมวด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่าด้วยภาษีธุรกิจเฉพาะ แห่งประมวลรัษฎากรการจัดเก็บภาษีธุรกิจเฉพาะประมวลรัษฎากรบัญญัติไว้ตั้งแต่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1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ึง 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1/21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่วนภาษีท้องถิ่นยังคงกำหนดให้จัดเก็บในอัตราร้อยละ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อัตราภาษีธุรกิจเฉพา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ำหนดเวลาการเสียภาษี ต้องชำระภาษีธุรกิจเฉพาะตามอัตราภาษีเป็นร้อยละของยอดรายรับก่อนหักรายจ่ายเป็นรายเดือนภาษ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ยในวันที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5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เดือนถัดไป หากผู้มีหน้าที่เสียภาษีธุรกิจเฉพาะไม่ยื่นรายการ หรือยื่นไม่ครบจะต้องรับผิดเสียเงินเพิ่ม ถ้ามีภาษีต้องเสีย และเบี้ยปรับตามกฎหมา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7545240" y="4076640"/>
            <a:ext cx="914400" cy="609840"/>
          </a:xfrm>
          <a:prstGeom prst="flowChartDocument">
            <a:avLst/>
          </a:prstGeom>
          <a:solidFill>
            <a:srgbClr val="0101d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ภพ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3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708360" y="907920"/>
            <a:ext cx="0" cy="511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794680" y="189000"/>
            <a:ext cx="174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1 Jan 199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1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ม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ค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 253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95280" y="1484280"/>
            <a:ext cx="3313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708360" y="1484280"/>
            <a:ext cx="504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11280" y="3573360"/>
            <a:ext cx="30240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708360" y="3573360"/>
            <a:ext cx="504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7640" y="998640"/>
            <a:ext cx="22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Excise Tax: 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5280" y="5499000"/>
            <a:ext cx="3313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708360" y="5499000"/>
            <a:ext cx="504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8360" y="5013360"/>
            <a:ext cx="25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Business Tax: B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181560" y="5013360"/>
            <a:ext cx="256572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Specific Busi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Tax: SB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3708360" y="3573360"/>
            <a:ext cx="647640" cy="194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356000" y="1483920"/>
            <a:ext cx="647640" cy="20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08360" y="1484280"/>
            <a:ext cx="647640" cy="20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914000" y="1862280"/>
            <a:ext cx="2078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Luxury Goo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&amp;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7600" y="3903840"/>
            <a:ext cx="21452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Normal Goo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&amp;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07960" y="3184560"/>
            <a:ext cx="2008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Value Add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Tax: V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662520" y="1027080"/>
            <a:ext cx="22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Excise Tax: 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327040" y="33321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86840" y="3068640"/>
            <a:ext cx="1415160" cy="1154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Draf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VAT &amp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SBT La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16120" y="2997360"/>
            <a:ext cx="14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Approv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06400" y="33321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695960" y="3573360"/>
            <a:ext cx="19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26 Nov 199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9640" y="5589720"/>
            <a:ext cx="914400" cy="609480"/>
          </a:xfrm>
          <a:prstGeom prst="flowChartDocument">
            <a:avLst/>
          </a:prstGeom>
          <a:solidFill>
            <a:srgbClr val="0101d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ภ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4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5589720"/>
            <a:ext cx="914400" cy="609480"/>
          </a:xfrm>
          <a:prstGeom prst="flowChartDocument">
            <a:avLst/>
          </a:prstGeom>
          <a:solidFill>
            <a:srgbClr val="0101d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ภธ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4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77080" y="4005360"/>
            <a:ext cx="914400" cy="609480"/>
          </a:xfrm>
          <a:prstGeom prst="flowChartDocument">
            <a:avLst/>
          </a:prstGeom>
          <a:solidFill>
            <a:srgbClr val="0101d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ภพ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79280" y="115920"/>
            <a:ext cx="8964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บทบัญญัติหมวด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Microsoft Sans Serif"/>
              </a:rPr>
              <a:t>5 </a:t>
            </a: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ภาษีธุรกิจเฉพา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79280" y="1052640"/>
            <a:ext cx="871380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1650600" indent="-1650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1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ธุรกิจเฉพาะเป็นภาษีอากรประเมิ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50600" indent="-1650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1/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ิยามศัพท์คำว่า “รายรับ” “มูลค่า” “ราคาตลาด” “ขาย” และให้นำให้นำบทนิยามคำว่า “บุคคล” “บุคคลธรรมดา” “คณะบุคคลที่มิใช่นิติบุคคล” “นิติบุคคล” “ตัวแทน” “สถานประกอบ การ” และ “เดือนภาษี” ตาม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7/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ใช้บังคับ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50600" indent="-1650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1/2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ักการจัดเก็บภาษีธุรกิจเฉพา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50600" indent="-1650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1/3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ิจการที่ได้รับยกเว้นภาษีธุรกิจเฉพาะ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50600" indent="-16506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1/4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ิจการเฉพาะอย่างของกิจการตามที่กำหนดไว้ใน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1/2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ังต่อไปนี้ให้เสียภาษีมูลค่าเพิ่ม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650600" indent="-1650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1/5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ฐานภาษีธุรกิจเฉพา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50600" indent="-1650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1/6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ัตราภาษีธุรกิจเฉพา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50600" indent="-1650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1/7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มีหน้าทีเสียภาษีธุรกิจเฉพา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50600" indent="-1650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1/8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คำนวณภาษีธุรกิจเฉพา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50600" indent="-1650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1/9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เสียภาษีธุรกิจเฉพาะกรณีการขายหลักทรัพย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79280" y="115920"/>
            <a:ext cx="8964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บทบัญญัติหมวด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Microsoft Sans Serif"/>
              </a:rPr>
              <a:t>5 </a:t>
            </a: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ภาษีธุรกิจเฉพา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9280" y="1052640"/>
            <a:ext cx="871380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90640" indent="-1790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1/10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เสียภาษีธุรกิจเฉพาะโดยการยื่นรายการประเมินตนเอ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90640" indent="-1790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1/11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อคืนภาษีธุรกิจเฉพา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90640" indent="-1790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1/12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จดทะเบียนภาษีธุรกิจเฉพา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90640" indent="-1790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1/13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ประกอบกิจการที่ไม่ต้องจดทะเบียนภาษีธุรกิจเฉพาะ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90640" indent="-1790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1/14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งานภาษีธุรกิจเฉพา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90640" indent="-1790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1/15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ำนาจเจ้าพนักงานประเมินในการประเมินภาษีธุรกิจเฉพาะ เบี้ยปรับและเงินเพิ่ม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90640" indent="-1790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1/16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ำนาจเจ้าพนักงานประเมินในการประเมินภาษีธุรกิจเฉพา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90640" indent="-1790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1/17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ยกเว้นจำนวนภาษีธุรกิจเฉพา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90640" indent="-1790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1/18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ทลงโทษกรณีไม่จดทะเบียนภาษีธุรกิจเฉพา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90640" indent="-1790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1/19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ทลงโทษกรณีไม่จัดทำรายงานภาษีธุรกิจเฉพา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90640" indent="-1790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1/20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ทลงโทษกรณีจัดทำรายงานไม่เป็นไปตามหลักเกณฑ์ วิธีการและเงือนไขทีกฎหมายกำหนด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90640" indent="-1790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1/21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นำบทบัญญัติภาษีมูลค่าเพิ่มมาใช้บังคับโดยอนุโลม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ิจการที่อยู่ในข่ายที่ต้องเสีย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SBT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856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1.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กิจการธนาคารพาณิชย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2.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กิจการบริษัทเงินทุน หลักทรัพย์ และเครดิตฟองซิเอร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3. </a:t>
            </a:r>
            <a:r>
              <a:rPr b="0" lang="th-TH" sz="2800" spc="-1" strike="noStrike" u="sng">
                <a:solidFill>
                  <a:srgbClr val="ffffff"/>
                </a:solidFill>
                <a:uFillTx/>
                <a:latin typeface="Arial"/>
                <a:cs typeface="Microsoft Sans Serif"/>
              </a:rPr>
              <a:t>การประกอบกิจการเยี่ยงธนาคารพาณิชย์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เข่น การให้กู้ยืม การ    แลกเปลี่ยนเงินตรา ค้ำประกัน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ดู คำสั่งกรมสรรพากรที ป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26/2534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4.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กิจการประกันชีวิต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5.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กิจการโรงรับจำนำ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6. </a:t>
            </a:r>
            <a:r>
              <a:rPr b="0" lang="th-TH" sz="2800" spc="-1" strike="noStrike" u="sng">
                <a:solidFill>
                  <a:srgbClr val="ffffff"/>
                </a:solidFill>
                <a:uFillTx/>
                <a:latin typeface="Arial"/>
                <a:cs typeface="Microsoft Sans Serif"/>
              </a:rPr>
              <a:t>การขายอสังหาริมทรัพย์เป็นทางค้าหรือหากำไร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ดู พรฎ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 (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342)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พ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ศ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2541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7. </a:t>
            </a:r>
            <a:r>
              <a:rPr b="0" lang="th-TH" sz="2800" spc="-1" strike="noStrike" u="sng">
                <a:solidFill>
                  <a:srgbClr val="ffffff"/>
                </a:solidFill>
                <a:uFillTx/>
                <a:latin typeface="Arial"/>
                <a:cs typeface="Microsoft Sans Serif"/>
              </a:rPr>
              <a:t>กิจการแฟ็กเตอริ่ง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Factoring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79280" y="981000"/>
            <a:ext cx="8785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ธนาคาร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ามกฎหมายว่าด้วยการธนาคารพาณิชย์ หรือกฎหมายเฉพา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ประกอบธุรกิจเงินทุน ธุรกิจหลักทรัพย์ ธุรกิจเครดิตฟองซิเอร์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ตามกฎหมายว่าด้วย การประกอบธุรกิจเงินทุน ธุรกิจหลักทรัพย์ และธุรกิจเครดิตฟองซิเอร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รับประกันชีวิต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ามกฎหมายว่าด้วยการประกันชีวิต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รับจำนำ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ตามกฎหมายว่าด้วยโรงรับจำนำ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ประกอบกิจการโดยปกติเยี่ยงธนาคารพาณิชย์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เช่น การให้กู้ยืมเงินค้ำประกัน แลกเปลี่ยนเงินตรา ออก ซื้อ หรือขายตั๋วเงิน หรือรับส่งเงินไปต่างประเทศด้วยวิธีต่าง 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ายอสังหาริมทรัพย์เป็นทางค้าหรือหากำไร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ฎ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342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2541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ิจการซื้อและขายคืนหลักทรัพย์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ฎ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350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2542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ู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ฎ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364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2542)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อบ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ธุรกิจแฟ็คตอริ่ง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ฎ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358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2542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455760" y="189000"/>
            <a:ext cx="822960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e4e917"/>
                </a:solidFill>
                <a:latin typeface="Microsoft Sans Serif"/>
                <a:cs typeface="Microsoft Sans Serif"/>
              </a:rPr>
              <a:t>กิจการที่อยู่ในบังคับต้องเสียภาษีธุรกิจเฉพาะ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e4e917"/>
                </a:solidFill>
                <a:latin typeface="Microsoft Sans Serif"/>
                <a:cs typeface="Microsoft Sans Serif"/>
              </a:rPr>
              <a:t>กิจการซื้อและขายคืนหลักทรัพย์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8000" y="1197000"/>
            <a:ext cx="896472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“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ิจการซื้อและขายคืนหลักทรัพย์”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้องเป็นไปตามหลักเกณฑ์และเงื่อนไขที่สำนักงานคณะกรรมการกำกับหลักทรัพย์และตลาดหลักทรัพย์อนุญาตให้บริษัทหลักทรัพย์ประกอบกิจการซื้อหรือขายหลักทรัพย์โดยมีสัญญาขายหรือซื้อคืนหรือที่ธนาคารแห่งประเทศไทยกำหนดให้สถาบันการเงินที่อยู่ภายใต้การกำกับดูแลประกอบกิจการซื้อหรือขายหลักทรัพย์โดยมีสัญญาขายหรือซื้อคืน แล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้องเป็นไปตามหลักเกณฑ์ วิธีการ และเงื่อนไขประกาศอธิบดีกรมสรรพากร เกี่ยวกับภาษีธุรกิจเฉพาะ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e4e917"/>
                </a:solidFill>
                <a:latin typeface="Microsoft Sans Serif"/>
                <a:cs typeface="Microsoft Sans Serif"/>
              </a:rPr>
              <a:t>กิจการซื้อหรือขายคืนหลักทรัพย์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8000" y="1197000"/>
            <a:ext cx="89647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“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ิจการซื้อขายหลักทรัพย์โดยมีสัญญาว่าจะมีการซื้อคืน” หมายถึง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ิจการที่มีการตกลงกันระหว่างผู้ขายหลักทรัพย์ และผู้ซื้อหลัก ทรัพย์ โดยผู้ขายหลักทรัพย์ตกลงที่จะขายหลักทรัพย์ให้แก่ผู้ซื้อหลักทรัพย์ โดยมีสัญญาว่าจะมีการซื้อคืนในอนาคตในขณะเดียว กันผู้ซื้อหลักทรัพย์ตกลงที่จะซื้อหลักทรัพย์จากผู้ขายหลักทรัพย์โดยมีสัญญาว่าจะขายคืนในอนาคต ตามกำหนดเวลาและในราคาที่ตกลงกันไว้ล่วงหน้า ทั้งนี้ ตามหลักเกณฑ์ วิธีการ และเงื่อนไขประกาศอธิบดีกรมสรรพากร เกี่ยวกับภาษีเงินได้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“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ักทรัพย์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”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ายความว่า หลักทรัพย์ตามกฎหมายว่าด้วยหลักทรัพย์และตลาดหลักทรัพย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ฎ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364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254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9152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วางแผนภาษีธุรกิจเฉพา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วางแผนภาษีธุรกิจเฉพาะด้านรายได้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วางแผนภาษีธุรกิจเฉพาะด้านรายจ่าย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วางแผนภาษีธุรกิจเฉพาะด้านทรัพย์สินและหนี้สิน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วางแผนเกี่ยวกับหน้าที่ทางภาษีธุรกิจเฉพา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e4e917"/>
                </a:solidFill>
                <a:latin typeface="Microsoft Sans Serif"/>
                <a:cs typeface="Microsoft Sans Serif"/>
              </a:rPr>
              <a:t>กิจการซื้อและขายคืนหลักทรัพย์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8000" y="1197000"/>
            <a:ext cx="89647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“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งินชดเชยเงินปันผล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”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ายความว่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งินที่ผู้ซื้อหลักทรัพย์จะต้องจ่ายให้แก่ ผู้ขายหลักทรัพย์ เนื่องจากมีการจ่ายเงินปันผลของหลักทรัพย์ที่ได้ซื้อจากผู้ขายหลักทรัพย์ และได้ถือครองไว้ก่อนที่จะขายคืนให้แก่ผู้ขายหลักทรัพย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“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งินชดเชยดอกเบี้ย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”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ายความว่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งินที่ผู้ซื้อหลักทรัพย์จะต้องจ่ายให้แก่ ผู้ขายหลักทรัพย์ เนื่องจากมีการจ่ายดอกเบี้ยของหลักทรัพย์ที่ได้ซื้อจากผู้ขายหลักทรัพย์ และได้ถือครองไว้ก่อนที่จะขายคืนให้แก่ผู้ขายหลักทรัพย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e4e917"/>
                </a:solidFill>
                <a:latin typeface="Microsoft Sans Serif"/>
                <a:cs typeface="Microsoft Sans Serif"/>
              </a:rPr>
              <a:t>ธุรกิจแฟ็กเตอริง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8000" y="1034640"/>
            <a:ext cx="8964720" cy="491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ธุรกิจแฟ็กเตอริง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ายถึง ธุรกิจที่ผู้ขายสินค้าหรือผู้ให้บริการตกลงจะโอนทรัพย์สินที่จะได้รับจากการชำระหนี้เนื่องจากการขายสินค้าหรือการให้บริการระหว่างตน กับลูกหนี้ของตนให้แก่ผู้ประกอบธุรกิจแฟ็กเตอริง โดยผู้ประกอบธุรกิจแฟ็กเตอริงตกลงจะให้ สินเชื่อซึ่งรวมถึงการให้กู้ยืมและการทดรองจ่ายแก่ผู้ขายสินค้าหรือผู้ให้บริการและรับที่จะดำเนินการอย่างหนึ่งอย่างใดดังต่อไปนี้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ัดให้มีบัญชีทรัพย์สินที่จะได้รับจากการชำระหนี้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รียกเก็บทรัพย์สินที่จะได้รับจากการชำระหนี้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ับผิดชอบในหนี้ที่ลูกหนี้ของผู้ขายสินค้าหรือผู้ให้บริการผิดนัด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e4e917"/>
                </a:solidFill>
                <a:latin typeface="Microsoft Sans Serif"/>
                <a:cs typeface="Microsoft Sans Serif"/>
              </a:rPr>
              <a:t>ผู้ประกอบธุรกิจแฟ็กเตอริง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8000" y="1035000"/>
            <a:ext cx="89647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ประกอบธุรกิจแฟ็กเตอริงตามนิยามศัพท์ข้างต้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หมายความรวมถึง ผู้ประกอบธุรกิจแฟ็กเตอริงอื่น ซึ่งรับโอนหรือตกลงจะรับโอนทรัพย์สินจากผู้ประกอบธุรกิจแฟ็กเตอริงดังกล่าว และรับที่จะดำเนินการตามอย่างใดอย่างหนึ่งดังต่อไปนี้ด้วย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ัดให้มีบัญชีทรัพย์สินที่จะได้รับจากการชำระหนี้ หรื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รียกเก็บทรัพย์สินที่จะได้รับจากการชำระหนี้ หรื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ับผิดชอบในหนี้ที่ลูกหนี้ของผู้ขายสินค้าหรือผู้ให้บริการผิดนัด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5760" y="189000"/>
            <a:ext cx="822960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e4e917"/>
                </a:solidFill>
                <a:latin typeface="Microsoft Sans Serif"/>
                <a:cs typeface="Microsoft Sans Serif"/>
              </a:rPr>
              <a:t>ผู้มีหน้าที่เสียภาษีธุรกิจเฉพา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0560" y="999720"/>
            <a:ext cx="87138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มีหน้าที่เสียภาษีธุรกิจเฉพาะ ได้แก่ ผู้ประกอบกิจการที่ต้องเสียภาษีธุรกิจเฉพาะ ไม่ว่าผู้ประกอบกิจการดังกล่าวจะประกอบกิจการในรูปของ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ุคคลธรรมด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ณะบุคคลที่มิใช่นิติบุคคล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องมรดก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้างหุ้นส่วนสามัญ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องทุน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น่วยงานหรือกิจการของเอกชนที่กระทำโดยบุคคลธรรมดาตั้งแต่สองคนขึ้นไปอันมิใช่นิติบุคคล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งค์การของรัฐบาล สหกรณ์ และองค์กรอื่นที่กฎหมายกำหนดให้เป็นนิติบุคคล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กรณีผู้ประกอบกิจการอยู่นอกราชอาณาจักร ให้ผู้มีหน้าที่รับผิดชอบในการประกอบกิจการรวมตลอดถึง ลูกจ้าง ตัวแทน หรือผู้ทำการแทนซึ่งมีอำนาจในการจัดการแทนที่อยู่ในราชอาณาจักร เป็นผู้มีหน้าที่เสียภาษีร่วมกับผู้ประกอบกิจการดังกล่าวข้างต้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178920" y="1412640"/>
            <a:ext cx="87138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คำนวณภาษีธุรกิจเฉพา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มีหน้าที่เสียภาษีธุรกิจเฉพาะ จะต้องเสียภาษีโดยคำนวณภาษี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1/8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ผู้มีหน้าที่เสียภาษีธุรกิจเฉพาะเสียภาษีโดยคำนวณจากฐานภาษีตาม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1/5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เดือนภาษีของผู้มีหน้าที่เสียภาษีธุรกิจเฉพาะ ตามอัตราภาษีที่กำหนดไว้ตาม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1/6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ต่ผู้มีหน้าที่เสียภาษีมีสิทธิอุทธรณ์การประเมินภาษีตามบทบัญญัติว่าด้วยการอุทธรณ์ในส่ว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ักษณะ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1844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e4e917"/>
                </a:solidFill>
                <a:latin typeface="Microsoft Sans Serif"/>
                <a:cs typeface="Microsoft Sans Serif"/>
              </a:rPr>
              <a:t>การคำนวณภาษีธุรกิจเฉพา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108000" y="1197000"/>
            <a:ext cx="89647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ฐานภาษีสำหรับการประกอบกิจการที่ต้องเสียภาษีธุรกิจเฉพาะ ได้แก่ รายรับก่อนหักรายจ่ายใด ๆ ที่ผู้ประกอบกิจการได้รับ หรือพึงได้รับเนื่องจากการประกอบกิจกา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หรับกิจการธนาคาร กิจการธุรกิจเงินทุน ธุรกิจหลักทรัพย์ และธุรกิจเครดิตฟองซิเอร์ และธุรกิจเยี่ยงธนาคารพาณิชย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อกเบี้ย ส่วนลด ค่าธรรมเนียม ค่าบริการ หรือกำไรก่อนหักรายจ่ายใดๆ จากการซื้อหรือขายหรือที่ได้จากตั๋วเงิน หรือตราสารแสดงสิทธิในหนี้ใดๆ แล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ำไรก่อนหักรายจ่ายใดๆ จากการแลกเปลี่ยนหรือซื้อขายเงินตรา การออกตั๋วเงิน หรือตราสารแสดงสิทธิในหนี้ใดๆ หรือการส่งเงินไปต่างประเท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หรับกิจการรับประกันชีวิต ได้แก่ ดอกเบี้ย ค่าธรรมเนียม หรือค่าบริการ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e4e917"/>
                </a:solidFill>
                <a:latin typeface="Microsoft Sans Serif"/>
                <a:cs typeface="Microsoft Sans Serif"/>
              </a:rPr>
              <a:t>ฐานภาษีธุรกิจเฉพา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08000" y="1197000"/>
            <a:ext cx="89647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หรับกิจการโรงรับจำนำ ได้แก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อกเบี้ย ค่าธรรมเนียม แล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งิน ทรัพย์สิน ค่าตอบแทน หรือประโยชน์ใดๆ อันมีมูลค่าที่ได้รับหรือพึงได้รับจากการขายของที่จำนำหลุดเป็นสิทธิ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หรับกิจการขายอสังหาริมทรัพย์เป็นทางค้าหรือหากำไร ได้แก่ รายรับก่อนหักรายจ่ายใดๆ ทั้งสิ้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หรับกิจการซื้อและขายคืนหลักทรัพย์ ได้แก่ กำไรก่อนหักรายจ่ายใดๆ จากการขายคืนหลักทรัพย์ แต่ไม่รวมถึง ดอกเบี้ย เงินปันผล หรือผลประโยชน์ใด ๆ ที่ได้จากหลักทรัพย์ ทั้งนี้ ตามหลักเกณฑ์ วิธีการ และ เงื่อนไขตามประกาศอธิบดีกรมสรรพากรเกี่ยวกับภาษีธุรกิจเฉพาะ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หรับการประกอบธุรกิจแฟ็กเตอริงได้แก่ ดอกเบี้ย ส่วนลด ค่าธรรมเนียม หรือค่าบริการ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e4e917"/>
                </a:solidFill>
                <a:latin typeface="Microsoft Sans Serif"/>
                <a:cs typeface="Microsoft Sans Serif"/>
              </a:rPr>
              <a:t>ฐานภาษีธุรกิจเฉพา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เกณฑ์การคำนวณรายรับเพื่อเสีย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SBT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91/8 </a:t>
            </a:r>
            <a:r>
              <a:rPr b="0" lang="hi-IN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วรรคสอ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ให้เลือกใช้เกณฑ์เงินสด หรือเกณฑ์สิทธิ เว้นแต่ </a:t>
            </a:r>
            <a:r>
              <a:rPr b="0" lang="hi-IN" sz="2800" spc="-1" strike="noStrike" u="sng">
                <a:solidFill>
                  <a:srgbClr val="ffffff"/>
                </a:solidFill>
                <a:uFillTx/>
                <a:latin typeface="Arial"/>
                <a:cs typeface="Microsoft Sans Serif"/>
              </a:rPr>
              <a:t>การขายอสังหาริมทรัพย์เป็นทางค้าหรือหากำไร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ดู มาตรา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50(5) </a:t>
            </a:r>
            <a:r>
              <a:rPr b="0" lang="hi-IN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และ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(6) </a:t>
            </a:r>
            <a:r>
              <a:rPr b="0" lang="hi-IN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69 </a:t>
            </a:r>
            <a:r>
              <a:rPr b="0" lang="hi-IN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ตรี มาตรา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91/10 </a:t>
            </a:r>
            <a:r>
              <a:rPr b="0" lang="hi-IN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วรรคสี่ วรรคห้า วรรคหก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24000" y="1196640"/>
            <a:ext cx="8496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ัตราภาษีธุรกิจเฉพาะมี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ัตรา แยกใช้กับกิจการดังนี้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้อยละ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0.1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หรับกิจการขายหลักทรัพย์ในตลาดหลักทรัพย์ ซึ่งปัจจุบันนี้ได้รับยกเว้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้อยละ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5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หรับกิจการประกันชีวิตและกิจการโรงรับจำนำ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้อยละ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0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หรับกิจการธนาคาร กิจการธุรกิจเงินทุน ธุรกิจหลักทรัพย์ ธุรกิจเครดิตฟองซิเอร์ กิจการเยี่ยงธนาคารพาณิชย์และกิจการขายอสังหาริมทรัพย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เสียภาษีธุรกิจเฉพาะตามอัตราดังกล่าว จะต้องเสียภาษีท้องถิ่นอีกร้อยละ </a:t>
            </a:r>
            <a:r>
              <a:rPr b="0" i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 </a:t>
            </a:r>
            <a:r>
              <a:rPr b="0" i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ภาษีธุรกิจเฉพาะด้ว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e4e917"/>
                </a:solidFill>
                <a:latin typeface="Microsoft Sans Serif"/>
                <a:cs typeface="Microsoft Sans Serif"/>
              </a:rPr>
              <a:t>อัตราภาษีธุรกิจเฉพา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ฐานภาษีและอัตราภาษีธุรกิจเฉพา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79280" y="1052640"/>
          <a:ext cx="8902800" cy="5343480"/>
        </p:xfrm>
        <a:graphic>
          <a:graphicData uri="http://schemas.openxmlformats.org/drawingml/2006/table">
            <a:tbl>
              <a:tblPr/>
              <a:tblGrid>
                <a:gridCol w="2967120"/>
                <a:gridCol w="4665600"/>
                <a:gridCol w="1270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ประเภทกิจกา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รับ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อั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62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ิจการธนาคาร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ิจการธุรกิจเงินทุน ธุรกิจหลักทรัพย์ และธุรกิจเครดิตฟองซิเอร์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ธุรกิจเยี่ยงธนาคารพาณิชย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ดอกเบี้ย ส่วนลด ค่าธรรมเนียม ค่า บริการ หรือกำไรก่อนหักรายจ่ายใดๆ จากการซื้อหรือขายหรือที่ได้จากตั๋วเงิน หรือตราสารแสดงสิทธิในหนี้ใดๆ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ำไรก่อนหักรายจ่ายใดๆ จากการแลกเปลี่ยนหรือซื้อขายเงินตรา การออกตั๋วเงิน หรือตราสารแสดงสิทธิในหนี้ใดๆ หรือการส่งเงินไปต่างประเทศ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.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ิจการรับประกันชีวิต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ดอกเบี้ย ส่วนลด ค่าธรรมเนียม หรือค่าบริการ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.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ธุรกิจแฟ็กเตอริ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ดอกเบี้ย ส่วนลด ค่าธรรมเนียม หรือค่าบริกา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.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วัตถุประสงค์การวางแผน</a:t>
            </a:r>
            <a:br>
              <a:rPr sz="4000"/>
            </a:b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ภาษีธุรกิจเฉพาะ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8588160" cy="44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พื่อให้การเสียภาษีธุรกิจเฉพาะ เป็นไปโดยถูกต้อง และครบถ้วนตามที่กฎหมายกำหนดบัญญัติไว้ โดยไม่มีการหลีกเลี่ยงภาษีอาก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พื่อขจัดปัญหาเกี่ยวกับภาษีธุรกิจเฉพาะที่อาจเกิดขึ้นในทุกกรณ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พื่อประหยัดหรือลดค่าใช้จ่ายที่อาจเกิดขึ้นเนื่องจากการเสียภาษีเงินได้บุคคลธรรมดาไม่ถูกต้อง อาทิ เบี้ยปรับ เงินเพิ่มภาษี ค่าปรับทางอาญ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1" name=""/>
          <p:cNvGraphicFramePr/>
          <p:nvPr/>
        </p:nvGraphicFramePr>
        <p:xfrm>
          <a:off x="179280" y="1081080"/>
          <a:ext cx="8902800" cy="5300640"/>
        </p:xfrm>
        <a:graphic>
          <a:graphicData uri="http://schemas.openxmlformats.org/drawingml/2006/table">
            <a:tbl>
              <a:tblPr/>
              <a:tblGrid>
                <a:gridCol w="2967120"/>
                <a:gridCol w="4665600"/>
                <a:gridCol w="1270080"/>
              </a:tblGrid>
              <a:tr h="55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ประเภทกิจกา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รับ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อั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99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ิจการโรงรับจำนำ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ดอกเบี้ย ค่าธรรมเนียม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งิน ทรัพย์สิน ค่าตอบแทน หรือประโยชน์ใดๆ อันมีมูลค่าที่ได้รับหรือพึงได้รับจากการขายของที่จำนำหลุดเป็นสิทธิ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.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ิจการขายอสังหาริมทรัพย์เป็นทางค้าหรือหากำไร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ดอกเบี้ย ส่วนลด ค่าธรรมเนียม หรือค่าบริการ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.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ิจการซื้อและขายคืนหลักทรัพย์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ำไรก่อนหักรายจ่ายใดๆ จากการขายคืนหลักทรัพย์ แต่ไม่รวมถึง ดอกเบี้ย เงินปันผล หรือผลประโยชน์ใด ๆ ที่ได้จากหลักทรัพย์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.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ฐานภาษีและอัตราภาษีธุรกิจเฉพา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179280" y="1299960"/>
            <a:ext cx="8785440" cy="24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ประกอบกิจการมีหน้าที่คำนวณเงินภาษีอากรที่ต้องชำระดังนี้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อากรที่ต้องชำระทั้งสิ้น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=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ธุรกิจเฉพาะ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+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ท้องถิ่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ธุรกิจเฉพาะ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=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ฐานภาษี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x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ัตราภาษีธุรกิจเฉพา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ท้องถิ่น         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=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้อยละ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ภาษีธุรกิจเฉพา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คำนวณภาษีธุรกิจเฉพา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e4e917"/>
                </a:solidFill>
                <a:latin typeface="Microsoft Sans Serif"/>
                <a:cs typeface="Microsoft Sans Serif"/>
              </a:rPr>
              <a:t>การยกเว้นภาษีธุรกิจเฉพา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056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ยกเว้นตามประมวลรัษฎาก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ิจการที่ได้รับยกเว้นภาษีธุรกิจเฉพาะ ตามที่กำหนดไว้ใน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1/3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ห่งประมวลรัษฎากร คื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ิจการของธนาคารแห่งประเทศไทย ธนาคารออมสิน ธนาคารอาคารสงเคราะห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ิจการของบรรษัทเงินทุนอุตสาหกรรมแห่งประเทศไท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ิจการของสหกรณ์ออมทรัพย์เฉพาะการให้กู้ยืมแก่สมาชิกหรือแก่สหกรณ์ออมทรัพย์อื่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ิจการของกองทุนสำรองเลี้ยงชีพตามกฎหมายว่าด้วยกองทุนสำรองเลี้ยงชี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ิจการของการเคหะแห่งชาติ เฉพาะการขายหรือให้เช่าซื้ออสังหาริมทรัพย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ิจการรับจำนำของกระทรวง ทบวง กรม และราชการส่วนท้องถิ่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250920" y="1153800"/>
            <a:ext cx="8424720" cy="49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ยกเว้นตามพระราชกฤษฎีก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ยกเว้นตามพระราชกฤษฎีกา ฉบับที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40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2534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ช้บังคับตั้งแต่วันที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กราคม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35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หรับกิจการดังต่อไปนี้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2779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ิจการขายหลักทรัพย์ตามกฎหมายว่าด้วยตลาดหลักทรัพย์แห่งประเทศไทยในตลาดหลักทรัพย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2779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ิจการของบรรษัทเงินทุนอุตสาหกรรมขนาดย่อ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2779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ิจการของบรรษัทประกันสินเชื่ออุตสาหกรรมขนาดย่อม แก้ไขเพิ่มเติมโดยพระราชกฤษฎีกา ฉบับที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7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2779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ิจการของธนาคารเพื่อการส่งออกและนำเข้าแห่งประเทศไทย แก้ไขเพิ่มเติมโดยพระราชกฤษฎีกา ฉบับที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e4e917"/>
                </a:solidFill>
                <a:latin typeface="Microsoft Sans Serif"/>
                <a:cs typeface="Microsoft Sans Serif"/>
              </a:rPr>
              <a:t>การยกเว้นภาษีธุรกิจเฉพา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250560" y="1153800"/>
            <a:ext cx="8713800" cy="49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ยกเว้นตามพระราชกฤษฎีก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7792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ยกเว้นตามพระราชกฤษฎีกา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2500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ังต่อไปนี้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5424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ศษของบาทจากการคำนวณภาษีธุรกิจเฉพาะแก่ผู้มีหน้าที่เสียภาษีเฉพาะ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5424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หรับการโอนกรรมสิทธิ์หรือสิทธิครอบครองในที่ดินโดยไม่มีค่าตอบแทนให้แก่วัด วัดบาดหลวงโรมันคาธอลิค หรือมัสยิด ที่จัดตั้งขึ้นตามกฎหมายว่าด้วยการนั้น ทั้งนี้ เฉพาะการโอนที่ดินส่วนที่ทำให้วัด วัดบาทหลวงโรมันคาธอลิค หรือมัสยิด มีที่ดินไม่เกินห้าสิบไร่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ัณรส แก้ไขเพิ่มเติมโดยพระราชกฤษฎีกาฯ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26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e4e917"/>
                </a:solidFill>
                <a:latin typeface="Microsoft Sans Serif"/>
                <a:cs typeface="Microsoft Sans Serif"/>
              </a:rPr>
              <a:t>การยกเว้นภาษีธุรกิจเฉพา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179280" y="1125000"/>
            <a:ext cx="8893440" cy="53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02000" indent="-2692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ยกเว้นตามพระราชกฤษฎีกา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) -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่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19680" indent="-34344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ตรส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ช้บังคับ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3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ฤษภาคม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40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ึงวันที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7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มษายน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52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19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ายอสังหาริมทรัพย์ของผู้ประกอบกิจการให้แก่องค์การบริหารสินเชื่ออสังหาริมทรัพย์หรือบริษัทจำกัดที่สถาบันการเงินตามพระราชกฤษฎีกาจัดตั้งองค์การบริหารสินเชื่ออสังหาริมทรัพย์ พ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40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ด้จัดตั้งขึ้นเพื่อดำเนินการบริการสินเชื่ออสังหาริมทรัพย์โดยความเห็นชอบของธนาคารแห่งประเทศไทย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19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ายอสังหาริมทรัพย์ขององค์การบริหารสินเชื่ออสังหาริมทรัพย์หรือของบริษัทจำกัดที่สถาบันการเงินตามพระราชกฤษฎีกาจัดตั้งองค์การบริหารสินเชื่ออสังหาริมทรัพย์ พ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40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ด้จัดตั้งขึ้นเพื่อดำเนินการบริหารสินเชื่ออสังหาริมทรัพย์โดยความเห็นชอบของธนาคารแห่งประเทศไทย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19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ก้ไขเพิ่มเติมโดยพระราชกฤษฎีก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03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40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ลิกโดยพระราชกฤษฎีกาฯ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54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2549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e4e917"/>
                </a:solidFill>
                <a:latin typeface="Microsoft Sans Serif"/>
                <a:cs typeface="Microsoft Sans Serif"/>
              </a:rPr>
              <a:t>การยกเว้นภาษีธุรกิจเฉพา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79280" y="764640"/>
            <a:ext cx="889344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23960" indent="-2779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ยกเว้นตามพระราชกฤษฎีกา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) -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่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68560" indent="-26532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หรับรายรับจากการขายอสังหาริมทรัพย์ที่ผู้ขายมีไว้ในการประกอบกิจการ เฉพาะการโอนอสังหาริมทรัพย์อันเนื่องมาจากการที่ผู้ประกอบกิจการซึ่งเป็นบริษัทมหาชนจำกัด หรือบริษัทจำกัดควบเข้ากันหรือโอนกิจการทั้งหมดให้แก่กัน ตามหลักเกณฑ์ วิธีการ และเงื่อนไขที่อธิบดีกรมสรรพากรประกาศกำหนด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โสฬส แก้ไขเพิ่มเติมโดยพระราชกฤษฎีก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30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4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ช้บังคับ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7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ุลาคม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4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ต้นไป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12800" indent="-264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ควบเข้ากันหรือการโอนกิจการทั้งหมดให้แก่กันของบริษัทมหาชน จำกัดหรือบริษัทจำกัด จะต้องมีลักษณะและหรือเงื่อนไขดังต่อไปนี้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าศอธิบดีกรมสรรพากร ลงวันที่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7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ันยายน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42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     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้องเป็นการควบเข้ากันหรือโอนกิจการทั้งหมดให้แก่กันของบริษัท มหาชน จำกัด และบริษัทจำกัด ที่ตั้งขึ้นตามกฎหมายไทย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1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         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บริษัทมหาชน จำกัด หรือบริษัทจำกัด อันได้ตั้งขึ้นใหม่ด้วย ควบเข้ากันนั้น และบริษัทมหาชน จำกัด หรือบริษั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e4e917"/>
                </a:solidFill>
                <a:latin typeface="Microsoft Sans Serif"/>
                <a:cs typeface="Microsoft Sans Serif"/>
              </a:rPr>
              <a:t>การยกเว้นภาษีธุรกิจเฉพา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179280" y="1125000"/>
            <a:ext cx="8893440" cy="53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16400" indent="-2750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ยกเว้นตามพระราชกฤษฎีกา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) -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่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420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ำกัดผู้รับโอน แจ้งรายชื่อผู้ถือหุ้น จำนวนหุ้นและมูลค่าหุ้น ตามทะเบียนหุ้นทั้งของต่างบริษัทที่ควบเข้ากัน บริษัทที่ตั้งใหม่ บริษัทผู้โอน และบริษัทผู้รับโอน ต่ออธิบดีกรมสรรพากรภายใน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0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ัน นับแต่วันที่ได้จดทะเบียนเป็นบริษัทใหม่ กรณีควบ หรือนับแต่วันจดทะเบียนเปลี่ยนแปลงกรณีโอน ตามแบบที่อธิบดีกำหนด ณ สำนักงานสรรพากรพื้นที่ ซึ่งเป็นที่ตั้งของบริษัทมหาชน จำกัด หรือบริษัทจำกัด อันได้ตั้งขึ้นใหม่ด้วย ควบเข้ากัน และบริษัทมหาชน จำกัด หรือบริษัทจำกัด ผู้รับโอน แล้วแต่กรณ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0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   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ริษัทที่ควบเข้ากัน และบริษัทผู้โอนหรือผู้รับโอนจะต้องไม่เป็นลูกหนี้ภาษีอากรค้างของกรมสรรพากร ณ วันที่ควบหรือวันที่โอน เว้นแต่ได้จัดให้มีธนาคารหรือหลักทรัพย์ค้ำประกันหนี้ภาษีอากรค้างและค่าใช้จ่ายในการบังคับหนี้ดังกล่าวแล้ว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0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e4e917"/>
                </a:solidFill>
                <a:latin typeface="Microsoft Sans Serif"/>
                <a:cs typeface="Microsoft Sans Serif"/>
              </a:rPr>
              <a:t>การยกเว้นภาษีธุรกิจเฉพา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179280" y="1125000"/>
            <a:ext cx="8893440" cy="53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23960" indent="-27792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ยกเว้นตามพระราชกฤษฎีกา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) -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่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434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     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การโอนกิจการให้แก่กัน บริษัทผู้โอนกิจการต้องจดทะเบียนเลิกและมีการชำระบัญชีในรอบระยะเวลาบัญชีที่โอนกิจการนั้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34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   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กรณีที่มีปัญหาในการปฏิบัติ ให้อธิบดีกรมสรรพากรมีอำนาจวินิจฉัย และคำวินิจฉัยของอธิบดีกรมสรรพากร ให้ถือเป็นหลักเกณฑ์ วิธีการ และเงื่อนไขที่กำหนดตามประกาศนี้ด้วย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34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โดยกำหนดแบบสำหรับการแจ้งรายการกรณีการควบเข้ากันหรือโอนกิจการทั้งหมดให้แก่กันของบริษัทมหาชนจำกัดหรือบริษัทจำกัด เพื่อยกเว้นรัษฎากร ดังต่อไปนี้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34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บบ ค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บบแจ้งรายชื่อผู้ถือหุ้นและแจ้งการเป็นลูกหนี้ค่าภาษีอากรสำหรับการควบเข้ากันหรือโอนกิจการทั้งหมดให้แก่กันของบริษัทมหาชนจำกัดหรือบริษัทจำกัด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e4e917"/>
                </a:solidFill>
                <a:latin typeface="Microsoft Sans Serif"/>
                <a:cs typeface="Microsoft Sans Serif"/>
              </a:rPr>
              <a:t>การยกเว้นภาษีธุรกิจเฉพา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179280" y="1125360"/>
            <a:ext cx="889344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16400" indent="-2750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ยกเว้นตามพระราชกฤษฎีกา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) -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่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420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บบ ค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บบแจ้งรายชื่อบริษัทที่ควบเข้ากันหรือโอนกิจการทั้งหมดให้แก่กันของบริษัทมหาชนจำกัดหรือบริษัทจำกัด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0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บบ ค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บบแจ้งรายชื่อผู้ถือหุ้นสำหรับการควบเข้ากันหรือโอนกิจการทั้งหมดให้แก่กันของบริษัทมหาชนจำกัดหรือบริษัทจำกัด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0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บบ ค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บบแจ้งการเป็นลูกหนี้ค่าภาษีอากรสำหรับการควบเข้ากันหรือโอนกิจการทั้งหมดให้แก่กันของบริษัทมหาชนจำกัดหรือบริษัทจำกัด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56680" indent="-26244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อกวีสติ ให้ยกเว้นภาษีธุรกิจเฉพาะ สำหรับรายรับจากการขายอสังหาริมทรัพย์ที่ผู้ขายมีไว้ในการประกอบกิจการ เฉพาะการขายอสังหาริมทรัพย์ที่เป็นโรงงานพร้อมที่ดินของบริษัทหรือห้างหุ้นส่วนนิติบุคคลเพื่อย้ายสถานประกอบการเข้าไปอยู่ในนิคมอุตสาหกรรมเป็นจำนวนไม่เกินมูลค่าของอสังหาริมทรัพย์ที่เป็นโรงงานพร้อมที่ดินแห่งใหม่และย้ายโรงงานเข้าไปในนิค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e4e917"/>
                </a:solidFill>
                <a:latin typeface="Microsoft Sans Serif"/>
                <a:cs typeface="Microsoft Sans Serif"/>
              </a:rPr>
              <a:t>การยกเว้นภาษีธุรกิจเฉพา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วัตถุประสงค์การวางแผน</a:t>
            </a:r>
            <a:br>
              <a:rPr sz="4000"/>
            </a:b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ภาษีธุรกิจเฉพาะ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700280"/>
            <a:ext cx="873612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พื่อใช้สิทธิประโยชน์เกี่ยวกับภาษีธุรกิจเฉพา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พื่อลดขั้นตอนในการปฏิบัติงานที่ไม่จำเป็น และไม่ได้มาตรฐา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พื่อเตรียมพร้อมต่อการเรียกตรวจสอบภาษีอากรของเจ้าพนักงานประเมินสรรพาก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พื่อเสริมสร้างระบบการควบคุมภายในให้มีประสิทธิภาพ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179280" y="1125000"/>
            <a:ext cx="8893440" cy="53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23960" indent="-27792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ยกเว้นตามพระราชกฤษฎีกา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) -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่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68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ุตสาหกรรมเพื่อใช้เป็นสถานประกอบการแห่งใหม่ภายในกำหนดเวลาหนึ่งปีก่อนหรือหลังวันที่ทำสัญญาขายอสังหาริมทรัพย์ที่เป็นโรงงานพร้อมที่ดินแห่งเดิม โดยต้องดำเนินการให้แล้วเสร็จภายในวันที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0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ันยายน พ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53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68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ูลค่าของอสังหาริมทรัพย์ที่เป็นโรงงานพร้อมที่ดินแห่งใหม่ ให้ถือตามราคาประเมินทุนทรัพย์เพื่อเรียกเก็บค่าธรรมเนียมจดทะเบียนสิทธิและนิติกรรมตามประมวลกฎหมายที่ดิ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68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ั้งนี้ ตามหลักเกณฑ์ วิธีการ และเงื่อนไขตามประกาศอธิบดีกรมสรรพากร เกี่ยวกับภาษีธุรกิจเฉพาะ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68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e4e917"/>
                </a:solidFill>
                <a:latin typeface="Microsoft Sans Serif"/>
                <a:cs typeface="Microsoft Sans Serif"/>
              </a:rPr>
              <a:t>การยกเว้นภาษีธุรกิจเฉพา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179280" y="1153800"/>
            <a:ext cx="8893440" cy="49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23960" indent="-27792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ยกเว้นตามพระราชกฤษฎีกาฯ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40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2534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ช้บังคับตั้งแต่วันที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กราคม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35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หรับกิจการดังต่อไปนี้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5424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ิจการขายหลักทรัพย์ตามกฎหมายว่าด้วยตลาดหลักทรัพย์แห่งประเทศไทยในตลาดหลักทรัพย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5424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ิจการของบรรษัทเงินทุนอุตสาหกรรมขนาดย่อ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5424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ิจการของบรรษัทประกันสินเชื่ออุตสาหกรรมขนาดย่อม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ก้ไขเพิ่มเติมโดยพระราชกฤษฎีกาฯ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7)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5424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ิจการของธนาคารเพื่อการส่งออกและนำเข้าแห่งประเทศไทย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ก้ไขเพิ่มเติมโดยพระราชกฤษฎีกาฯ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65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e4e917"/>
                </a:solidFill>
                <a:latin typeface="Microsoft Sans Serif"/>
                <a:cs typeface="Microsoft Sans Serif"/>
              </a:rPr>
              <a:t>การยกเว้นภาษีธุรกิจเฉพา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179280" y="1153800"/>
            <a:ext cx="8893440" cy="49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23960" indent="-27792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ยกเว้นตามพระราชกฤษฎีกา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40) -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่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5424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ิจการขายอสังหาริมทรัพย์เฉพาะที่อยู่ในบังคับต้องเสียภาษีธุรกิจเฉพาะตาม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1/2(6)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ายอสังหาริมทรัพย์เป็นทางค้าหรือหากำไร ไม่ว่าอสังหาริมทรัพย์นั้นจะได้มาโดยวิธีใดก็ตาม ทั้งนี้ เฉพาะที่เป็นไปตามหลักเกณฑ์ วิธีการ และเงื่อนไขตามที่กำหนดโดยพระราชกฤษฎีกา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42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254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5424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รับไถ่อสังหาริมทรัพย์จากการขายฝากหรือ จากการขายฝากโดยการวางทรัพย์ต่อสำนักงานวางทรัพย์ภายในเวลาที่กำหนด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5424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ายอสังหาริมทรัพย์ภายหลังที่ได้ไถ่จากการขายฝาก ซึ่งเมื่อรวมระยะเวลาการได้มาซึ่งอสังหาริมทรัพย์ก่อนการขายฝาก และระยะเวลาหลังจากการขายฝากแล้วเกินห้าปี กำหนด แก้ไขเพิ่มเติมโดยพระราชกฤษฎีก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6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e4e917"/>
                </a:solidFill>
                <a:latin typeface="Microsoft Sans Serif"/>
                <a:cs typeface="Microsoft Sans Serif"/>
              </a:rPr>
              <a:t>การยกเว้นภาษีธุรกิจเฉพา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250920" y="1154160"/>
            <a:ext cx="8424720" cy="53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23960" indent="-27792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ยกเว้นตามพระราชกฤษฎีกา 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27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2548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ช้บังคับตั้งแต่วัน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กราคม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35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หรับกิจการดังต่อไปนี้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5424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รับ และการกระทำตราสารอันเนื่องมาจากการโอนกรรม สิทธิ์ในที่ดินให้แก่สถาบันอุดมศึกษาเอกชนตามพระราชบัญญัติสถาบันอุดมศึกษาเอกชน พ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46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ั้งนี้ สำหรับการโอนกรรมสิทธิ์ในที่ดินตั้งแต่วันที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ุลาคม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46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ต้นไป ให้แก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2187720" indent="-3812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รับใบอนุญาตจัดตั้งสถาบันอุดมศึกษาเอกช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2187720" indent="-3812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บริจาคอสังหาริมทรัพย์ให้แก่สถาบันอุดมศึกษาเอกช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e4e917"/>
                </a:solidFill>
                <a:latin typeface="Microsoft Sans Serif"/>
                <a:cs typeface="Microsoft Sans Serif"/>
              </a:rPr>
              <a:t>การยกเว้นภาษีธุรกิจเฉพา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250560" y="1226880"/>
            <a:ext cx="856908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23960" indent="-27936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ิจการขายอสังหาริมทรัพย์เฉพาะที่อยู่ในบังคับต้องเสียภาษีธุรกิจเฉพาะตาม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1/2(6)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ายอสังหาริมทรัพย์เป็นทางค้าหรือหากำไร ไม่ว่าอสังหาริมทรัพย์นั้นจะได้มาโดยวิธีใดก็ตาม ทั้งนี้ เฉพาะที่เป็นไปตามหลักเกณฑ์ วิธีการ และเงื่อนไขตามที่กำหนดโดยพระราชกฤษฎีกา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42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254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7936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รับไถ่อสังหาริมทรัพย์จากการขายฝากหรือ จากการขายฝากโดยการวางทรัพย์ต่อสำนักงานวางทรัพย์ภายในเวลาที่กำหนด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7936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ายอสังหาริมทรัพย์ภายหลังที่ได้ไถ่จากการขายฝาก ซึ่งเมื่อรวมระยะเวลาการได้มาซึ่งอสังหาริมทรัพย์ก่อนการขายฝาก และระยะเวลาหลังจากการขายฝากแล้วเกินห้าปี กำหนด แก้ไขเพิ่มเติมโดยพระราชกฤษฎีก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6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e4e917"/>
                </a:solidFill>
                <a:latin typeface="Microsoft Sans Serif"/>
                <a:cs typeface="Microsoft Sans Serif"/>
              </a:rPr>
              <a:t>การยกเว้นภาษีธุรกิจเฉพา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581040" y="569880"/>
            <a:ext cx="1614600" cy="520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A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ก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195640" y="836640"/>
            <a:ext cx="7920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87640" y="395280"/>
            <a:ext cx="2284560" cy="861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ด้รับดอกเบี้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งินกู้ยื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292720" y="836640"/>
            <a:ext cx="11509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405480" y="549360"/>
            <a:ext cx="1567440" cy="520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ุคคลใด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851280" y="133524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86000" y="1751040"/>
            <a:ext cx="3097080" cy="914400"/>
          </a:xfrm>
          <a:prstGeom prst="diamond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ff Welfa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383080" y="2205000"/>
            <a:ext cx="10796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654880" y="1700280"/>
            <a:ext cx="38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494760" y="1916280"/>
            <a:ext cx="1600920" cy="520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on SB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886200" y="263052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3046320"/>
            <a:ext cx="3097080" cy="914400"/>
          </a:xfrm>
          <a:prstGeom prst="diamond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ance Instit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383080" y="3505320"/>
            <a:ext cx="10796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654880" y="2995560"/>
            <a:ext cx="38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94760" y="3095640"/>
            <a:ext cx="1600920" cy="861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on SB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WT 1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051800" y="2638440"/>
            <a:ext cx="45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886200" y="3933720"/>
            <a:ext cx="0" cy="432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286000" y="4349880"/>
            <a:ext cx="3097080" cy="914400"/>
          </a:xfrm>
          <a:prstGeom prst="diamond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filiated C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383080" y="4800600"/>
            <a:ext cx="10796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654880" y="4299120"/>
            <a:ext cx="38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94760" y="4398840"/>
            <a:ext cx="1600920" cy="861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on SB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WT 1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051800" y="3941640"/>
            <a:ext cx="45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886200" y="522936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286000" y="5645160"/>
            <a:ext cx="3097080" cy="914400"/>
          </a:xfrm>
          <a:prstGeom prst="diamond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383080" y="6095880"/>
            <a:ext cx="10796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654880" y="5594400"/>
            <a:ext cx="38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527880" y="5694480"/>
            <a:ext cx="1692360" cy="861840"/>
          </a:xfrm>
          <a:prstGeom prst="rect">
            <a:avLst/>
          </a:prstGeom>
          <a:solidFill>
            <a:srgbClr val="6600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BT 3.3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WT 1%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051800" y="5237280"/>
            <a:ext cx="45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8240" y="1371600"/>
            <a:ext cx="1681920" cy="459720"/>
          </a:xfrm>
          <a:prstGeom prst="rect">
            <a:avLst/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26/253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50560" y="4332240"/>
            <a:ext cx="2098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25% Hol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at least 6 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fore lo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145640" y="163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79280" y="5661000"/>
            <a:ext cx="230508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Bo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Sharehol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Custom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323640" y="1413000"/>
            <a:ext cx="805788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ยื่นแบบแสดงรายการภาษีธุรกิจเฉพา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มีหน้าที่ยื่นแบบแสดงรายการภาษีธุรกิจเฉพาะ ได้แก่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ุคคลซึ่งประกอบกิจการที่ต้องเสียภาษีธุรกิจเฉพาะ โดยกิจการนั้นไม่ได้รับยกเว้น ภาษีธุรกิจเฉพา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มีหน้าที่รับผิดชอบในการประกอบกิจการในราชอาณาจักรของผู้ประกอบกิจการอยู่นอกราชอาณาจักร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ูกจ้าง ตัวแทน หรือผู้ทำการแทนซึ่งมีอำนาจในการจัดการแทนโดยตรงหรือโดยปริยายที่อยู่ในราช อาณาจักรของผู้ประกอบกิจการที่อยู่นอกราชอาณาจักร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1844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e4e917"/>
                </a:solidFill>
                <a:latin typeface="Microsoft Sans Serif"/>
                <a:cs typeface="Microsoft Sans Serif"/>
              </a:rPr>
              <a:t>วิธีการเสียภาษีธุรกิจเฉพา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250920" y="1371240"/>
            <a:ext cx="864216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บบแสดงรายการที่ใช้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ด้แก่ แบบ ภ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ธ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40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1/1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ำหนดเวลาในการยื่นแบบแสดงรายการภาษ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ประกอบการจดทะเบียนภาษีธุรกิจเฉพาะ มีหน้าที่ต้องยื่นแบบแสดงรายการ และชำระภาษีโดยใช้แบบ ภ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ธ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40 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สดงประเภทของกิจการ จำนวนรายรับ จำนวนภาษีธุรกิจเฉพาะ และภาษีท้องถิ่นอีกร้อยละ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ภาษีธุรกิจเฉพาะ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ื่นแบบแสดงรายการเป็นรายเดือนภาษี ภายในวันที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5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เดือนถัดไป ไม่ว่าจะมีรายรับในเดือนนั้น หรือไม่ก็ตาม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ในเดือนภาษีใด เมื่อรวมคำนวณแล้วมีจำนวนไม่ถึง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0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าท ผู้ประกอบกิจการไม่ต้องเสียภาษีสำหรับ เดือนภาษีนั้น แต่ยังคงมีหน้าที่ต้องยื่นแบบแสดงรายการตามปกติ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1/17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e4e917"/>
                </a:solidFill>
                <a:latin typeface="Microsoft Sans Serif"/>
                <a:cs typeface="Microsoft Sans Serif"/>
              </a:rPr>
              <a:t>วิธีการเสียภาษีธุรกิจเฉพา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e4e917"/>
                </a:solidFill>
                <a:latin typeface="Microsoft Sans Serif"/>
                <a:cs typeface="Microsoft Sans Serif"/>
              </a:rPr>
              <a:t>วิธีการเสียภาษีธุรกิจเฉพา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95280" y="1155600"/>
            <a:ext cx="8353440" cy="51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ถานที่ยื่นแบบแสดงรายการภาษ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ประกอบกิจการจะต้องยื่นแบบ ภ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ธ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40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้อมกับชำระภาษี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้ามี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ณ สถานที่ดังต่อไปนี้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เขตกรุงเทพมหานคร ให้ยื่น ณ สำนักงานสรรพากรพื้นที่สาข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ขต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/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ำเภอ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ท้องที่ที่สถานประกอบการตั้งอยู่ หรือสถานที่อื่นซึ่งอธิบดีกรมสรรพากรกำหนดให้เป็นสถานที่ยื่นแบบและชำระภาษ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เขตจังหวัดอื่น ให้ยื่น ณ สำนักงานสรรพากรพื้นที่สาข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ำเภอ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/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ิ่งอำเภอ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ท้องที่ที่สถานประกอบการตั้งอยู่ หรือสถานที่อื่นซึ่งอธิบดีกรมสรรพากรกำหนดให้เป็นสถานที่ยื่นแบบและชำระภาษ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 u="sng">
                <a:solidFill>
                  <a:srgbClr val="ffffff"/>
                </a:solidFill>
                <a:uFillTx/>
                <a:latin typeface="Microsoft Sans Serif"/>
                <a:cs typeface="Microsoft Sans Serif"/>
              </a:rPr>
              <a:t>หมายเหตุ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ยื่นแบบแสดงรายการและชำระภาษี สามารถยื่นผ่านเว็บไซต์ของกรมสรรพากรได้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2184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e4e917"/>
                </a:solidFill>
                <a:latin typeface="Microsoft Sans Serif"/>
                <a:cs typeface="Microsoft Sans Serif"/>
              </a:rPr>
              <a:t>การขอคืนภาษีธุรกิจเฉพา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มีสิทธิขอคืนภาษีธุรกิจเฉพาะ ได้แก่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ประกอบกิจการที่มีหน้าที่เสียภาษี ซึ่งได้ชำระภาษีไว้เกิน ผิด หรือซ้ำ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ไม่มีหน้าที่เสียภาษีแต่ได้ชำระภาษีไว้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ผู้มีสิทธิขอคืนเงินภาษีใช้คำร้องขอคืนเงินภาษีอากร คือ แบบ ค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10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ยื่นคำร้องขอคืนเงินภาษีธุรกิจเฉพาะ ตามแบบ ค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10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ะต้องแนบเอกสารที่เกี่ยวข้องไปพร้อมกับคำร้อง ด้วยได้แก่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นังสือรับรองการจดทะเบียนเป็นนิติบุคคล กรณีผู้ขอคืนเป็นนิติบุคค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บเสร็จรับเงินภาษีธุรกิจเฉพา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ักฐานอื่นที่เกี่ยวข้องกับประเด็นที่ขอคื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มีหน้าที่เสียภาษีธุรกิจเฉพาะ มีสิทธิยื่นคำร้องขอคืนเงินภาษีภายใ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ีนับแต่วันพ้นกำหนดเวลายื่น แบบแสดงรายการภาษ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184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ช่องโหว่ของกฎหมายภาษีธุรกิจเฉพา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7640" y="1052640"/>
            <a:ext cx="8893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ห้กู้ยืมตามคำสั่งกรมสรรพากรที่ ป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23/2534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ก่บุคคลดังนี้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“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ริษัทหรือห้างหุ้นส่วนนิติบุคคลในเครือเดียวกัน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ถาบันการเงิ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นักงานกู้ยืมจากกองทุนสวัสดิการเงินกู้ยืม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เข้าถือหุ้นกิจการที่มีอสังหาริมทรัพย์เพื่อเข้าบริหารอสังหาริม ทรัพย์นั้นโดยไม่ต้องเสียภาษีธุรกิจเฉพาะและค่าธรรมเนียมตามกฎหมายที่ดิ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เลือกใช้เกณฑ์การคำนวณรายรับตามเกณฑ์เงินสด เพื่อเสียภาษีธุรกิจเฉพาะ ตาม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1/8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รรคสอ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ช้สิทธิยกเว้นภาษีธุรกิจเฉพาะตามกฎหมายต่างๆ อาทิ การปรับปรุงโครงสร้างหนี้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179280" y="1197000"/>
            <a:ext cx="8856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ประกอบกิจการที่ต้องเสียภาษีธุรกิจเฉพาะ มีหน้าที่ต้องปฏิบัติดังนี้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น้าที่ในการจดทะเบียนภาษีธุรกิจเฉพา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ประกอบกิจการที่มีหน้าที่เสียภาษีธุรกิจเฉพาะ จะต้องยื่นคำขอจดทะเบียนภาษีธุรกิจเฉพาะ ตามแบบคำขอจดทะเบียนภาษีธุรกิจเฉพาะ ภายใน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0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ันนับแต่วันเริ่มประกอบกิจการ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ิธีการจดทะเบียนภาษีธุรกิจเฉพา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1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บบคำขอจดทะเบียนภาษีธุรกิจเฉพาะ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ธ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01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   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บบคำขอที่ใช้ในการจดทะเบียนภาษีธุรกิจเฉพาะ ได้แก่ แบบ ภ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ธ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01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ั้งนี้ให้ผู้ประกอบกิจการ ขอรับแบบคำขอจดทะเบียนได้ที่สำนักงานสรรพากรอำเภอ หรือสำนักงานภาษีสรรรพากรพื้นที่ทุกแห่ง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title"/>
          </p:nvPr>
        </p:nvSpPr>
        <p:spPr>
          <a:xfrm>
            <a:off x="456840" y="189000"/>
            <a:ext cx="82184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หน้าที่อื่นในทางภาษีธุรกิจเฉพา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107640" y="1155240"/>
            <a:ext cx="9001080" cy="544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2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กรอกแบบคำขอจดทะเบียนภาษีธุรกิจเฉพาะ การยื่นคำขอจดทะเบียนภาษีธุรกิจเฉพาะ ผู้ประกอบกิจการต้องกรอกแบบคำขอจดทะเบียนภาษีธุรกิจเฉพาะ คือ แบบ ภ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ธ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01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ำนวน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 โดยมีข้อความครบถ้วนถูกต้องตรงกันทั้ง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 ในการกรอกรายการ ตามแบบ ภ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ธ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01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ประกอบกิจการต้องแสดงสถานภาพต่างๆ ของการประกอบกิจการ ดังนี้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ชื่อผู้ประกอบกิจการ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หรับผู้ประกอบกิจการที่เป็นบุคคลธรรมดาให้กรอกชื่อ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ามสกุล ที่อยู่ วัน เดือน ปีเกิด เลขประจำตัวประชาชน และเลขประจำตัวผู้เสียภาษีอากร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  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หรับผู้ประกอบกิจการที่เป็นนิติบุคคล ให้กรอกชื่อของนิติบุคคลที่ใช้ใน การจัดตั้งห้างหุ้นส่วนบริษัท ตามที่ปรากฏในหนังสือรับรองของนายทะเบียนหุ้นส่วนบริษัท กระทรวงพาณิชย์ และชื่อภาษาอังกฤษ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้ามี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้อมรายละเอียดเลขที่ทะเบียนนิติบุคคล วัน เดือน ปีที่จดทะเบียน สถานที่จดทะเบียน รอบระยะเวลาบัญชี และเลขประจำตัวผู้เสียภาษีอากรของนิติบุคคลนั้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title"/>
          </p:nvPr>
        </p:nvSpPr>
        <p:spPr>
          <a:xfrm>
            <a:off x="456840" y="189000"/>
            <a:ext cx="82184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หน้าที่อื่นในทางภาษีธุรกิจเฉพา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107640" y="1155240"/>
            <a:ext cx="9001080" cy="544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2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ชื่อและสถานที่ตั้งสถานประกอบการ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ชื่อและที่ตั้งสำนักงานใหญ่ให้กรอกชื่อของสถานประกอบการของ บุคคลธรรมดาหรือนิติบุคคล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้ามี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ซึ่งได้แก่ชื่อทางการค้าและกรอกเลขที่ตั้งของสถานประกอบการหรือที่ตั้ง ของสถานประกอบการที่เป็นสำนักงานใหญ่ชื่อและที่ตั้งสาขา กรณีมีสถานประกอบการหลายแห่งให้ระบุจำนวน สถานประกอบการที่เป็นสาขา พร้อมทั้งกรอกรายละเอียด ชื่อ และที่ตั้งสาขาทั้งหมดลง ในด้านหลังของแบบ ภ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ธ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01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3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ันเริ่มประกอบกิจการ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กรอกวันที่ผู้ประกอบกิจการเริ่มประกอบกิจการจริง พร้อมทั้งกรอก รายละเอียดเกี่ยวกับเงินทุน รายรับ ลูกจ้าง และค่าเช่าสถานประกอบการ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4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เภทของการประกอบกิจการ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  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ผู้ประกอบกิจการเลือกใส่เครื่องหมายหน้าข้อความประเภทของการ ประกอบกิจการแล้วแต่กรณ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456840" y="189000"/>
            <a:ext cx="82184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หน้าที่อื่นในทางภาษีธุรกิจเฉพา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แนวทางในการวางแผนภาษีธุรกิจเฉพา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BT 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ภาษีที่จัดเก็บจากรายได้ และเป็นภาษีทางเลือกของ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BT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ึงต้องพิจารณาว่ารายได้ประเภทนั้นๆ อยู่ในข่ายต้องเสีย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BT 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 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B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รายได้นั้นต้องเสีย 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BT 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พิจารณาฐานภาษี อัตราภาษี วิธีการเสียภาษี และหน้าที่อื่นที่เกี่ยวข้อง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ิจารณาช่องโหว่และสิทธิประโยชน์ทางภาษีที่เกี่ยวข้องกับ 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B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ขั้นตอนการวางแผน</a:t>
            </a:r>
            <a:br>
              <a:rPr sz="4000"/>
            </a:b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ภาษีธุรกิจเฉพาะ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38188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ั้นตอนก่อนการวางแผนภาษีธุรกิจเฉพา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ั้นตอนการวางแผนภาษีธุรกิจเฉพา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ั้นตอนการนำแผนภาษีธุรกิจเฉพาะไปปฏิบัติ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ั้นตอนการติดตามประเมินผลการปฏิบัติตามแผนภาษีธุรกิจเฉพา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. </a:t>
            </a: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ขั้นตอนก่อนการวางแผน</a:t>
            </a:r>
            <a:br>
              <a:rPr sz="4000"/>
            </a:b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ภาษีธุรกิจเฉพาะ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59932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ำหนดบุคลากรที่เกี่ยวข้องกับการวางแผนภาษีธุรกิจเฉพา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2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ึกษารูปแบบการจัดองค์การ ขั้นตอนการดำเนินธุรกิจ ตลอดจนเอกสารทางธุรกิจ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ึกษาหลักเกณฑ์ วิธีการ และเงื่อนไขเกี่ยวกับภาษีธุรกิจเฉพา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4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ัญหาภาษีธุรกิจเฉพาะของธุรกิจที่ต้องการจัดให้มีการวางแผ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725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.1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ำหนดบุคลากรที่เกี่ยวข้องกับการวางแผนภาษีธุรกิจเฉพา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9214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ฝ่ายจัดการหรือผู้บริหารระดับสูง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ฝ่ายบัญชีการเงินและภาษีอาก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ฝ่ายการตลาด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ฝ่ายกฎหมาย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ฝ่ายอื่นที่เกี่ยวข้อง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เชี่ยวชาญทางภาษีอาก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03:31:15Z</dcterms:created>
  <dc:creator>pool</dc:creator>
  <dc:description/>
  <dc:language>en-US</dc:language>
  <cp:lastModifiedBy>Persoanal</cp:lastModifiedBy>
  <dcterms:modified xsi:type="dcterms:W3CDTF">2008-02-27T02:09:37Z</dcterms:modified>
  <cp:revision>59</cp:revision>
  <dc:subject/>
  <dc:title>Slide 1</dc:title>
</cp:coreProperties>
</file>