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77.xml.rels" ContentType="application/vnd.openxmlformats-package.relationships+xml"/>
  <Override PartName="/ppt/slides/_rels/slide172.xml.rels" ContentType="application/vnd.openxmlformats-package.relationships+xml"/>
  <Override PartName="/ppt/slides/_rels/slide43.xml.rels" ContentType="application/vnd.openxmlformats-package.relationships+xml"/>
  <Override PartName="/ppt/slides/_rels/slide38.xml.rels" ContentType="application/vnd.openxmlformats-package.relationships+xml"/>
  <Override PartName="/ppt/slides/_rels/slide329.xml.rels" ContentType="application/vnd.openxmlformats-package.relationships+xml"/>
  <Override PartName="/ppt/slides/_rels/slide328.xml.rels" ContentType="application/vnd.openxmlformats-package.relationships+xml"/>
  <Override PartName="/ppt/slides/_rels/slide211.xml.rels" ContentType="application/vnd.openxmlformats-package.relationships+xml"/>
  <Override PartName="/ppt/slides/_rels/slide190.xml.rels" ContentType="application/vnd.openxmlformats-package.relationships+xml"/>
  <Override PartName="/ppt/slides/_rels/slide185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322.xml.rels" ContentType="application/vnd.openxmlformats-package.relationships+xml"/>
  <Override PartName="/ppt/slides/_rels/slide26.xml.rels" ContentType="application/vnd.openxmlformats-package.relationships+xml"/>
  <Override PartName="/ppt/slides/_rels/slide218.xml.rels" ContentType="application/vnd.openxmlformats-package.relationships+xml"/>
  <Override PartName="/ppt/slides/_rels/slide210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1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54.xml.rels" ContentType="application/vnd.openxmlformats-package.relationships+xml"/>
  <Override PartName="/ppt/slides/_rels/slide49.xml.rels" ContentType="application/vnd.openxmlformats-package.relationships+xml"/>
  <Override PartName="/ppt/slides/_rels/slide142.xml.rels" ContentType="application/vnd.openxmlformats-package.relationships+xml"/>
  <Override PartName="/ppt/slides/_rels/slide308.xml.rels" ContentType="application/vnd.openxmlformats-package.relationships+xml"/>
  <Override PartName="/ppt/slides/_rels/slide313.xml.rels" ContentType="application/vnd.openxmlformats-package.relationships+xml"/>
  <Override PartName="/ppt/slides/_rels/slide17.xml.rels" ContentType="application/vnd.openxmlformats-package.relationships+xml"/>
  <Override PartName="/ppt/slides/_rels/slide45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212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34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14.xml.rels" ContentType="application/vnd.openxmlformats-package.relationships+xml"/>
  <Override PartName="/ppt/slides/_rels/slide9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243.xml.rels" ContentType="application/vnd.openxmlformats-package.relationships+xml"/>
  <Override PartName="/ppt/slides/_rels/slide51.xml.rels" ContentType="application/vnd.openxmlformats-package.relationships+xml"/>
  <Override PartName="/ppt/slides/_rels/slide238.xml.rels" ContentType="application/vnd.openxmlformats-package.relationships+xml"/>
  <Override PartName="/ppt/slides/_rels/slide58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249.xml.rels" ContentType="application/vnd.openxmlformats-package.relationships+xml"/>
  <Override PartName="/ppt/slides/_rels/slide69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267.xml.rels" ContentType="application/vnd.openxmlformats-package.relationships+xml"/>
  <Override PartName="/ppt/slides/_rels/slide272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146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22.xml.rels" ContentType="application/vnd.openxmlformats-package.relationships+xml"/>
  <Override PartName="/ppt/slides/_rels/slide258.xml.rels" ContentType="application/vnd.openxmlformats-package.relationships+xml"/>
  <Override PartName="/ppt/slides/_rels/slide78.xml.rels" ContentType="application/vnd.openxmlformats-package.relationships+xml"/>
  <Override PartName="/ppt/slides/_rels/slide77.xml.rels" ContentType="application/vnd.openxmlformats-package.relationships+xml"/>
  <Override PartName="/ppt/slides/_rels/slide46.xml.rels" ContentType="application/vnd.openxmlformats-package.relationships+xml"/>
  <Override PartName="/ppt/slides/_rels/slide61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73.xml.rels" ContentType="application/vnd.openxmlformats-package.relationships+xml"/>
  <Override PartName="/ppt/slides/_rels/slide62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63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257.xml.rels" ContentType="application/vnd.openxmlformats-package.relationships+xml"/>
  <Override PartName="/ppt/slides/_rels/slide70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326.xml.rels" ContentType="application/vnd.openxmlformats-package.relationships+xml"/>
  <Override PartName="/ppt/slides/_rels/slide236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60.xml.rels" ContentType="application/vnd.openxmlformats-package.relationships+xml"/>
  <Override PartName="/ppt/slides/_rels/slide235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224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25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102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261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32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5.xml.rels" ContentType="application/vnd.openxmlformats-package.relationships+xml"/>
  <Override PartName="/ppt/slides/_rels/slide80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216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255.xml.rels" ContentType="application/vnd.openxmlformats-package.relationships+xml"/>
  <Override PartName="/ppt/slides/_rels/slide260.xml.rels" ContentType="application/vnd.openxmlformats-package.relationships+xml"/>
  <Override PartName="/ppt/slides/_rels/slide41.xml.rels" ContentType="application/vnd.openxmlformats-package.relationships+xml"/>
  <Override PartName="/ppt/slides/_rels/slide36.xml.rels" ContentType="application/vnd.openxmlformats-package.relationships+xml"/>
  <Override PartName="/ppt/slides/_rels/slide217.xml.rels" ContentType="application/vnd.openxmlformats-package.relationships+xml"/>
  <Override PartName="/ppt/slides/_rels/slide196.xml.rels" ContentType="application/vnd.openxmlformats-package.relationships+xml"/>
  <Override PartName="/ppt/slides/_rels/slide222.xml.rels" ContentType="application/vnd.openxmlformats-package.relationships+xml"/>
  <Override PartName="/ppt/slides/_rels/slide325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179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178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99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327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170.xml.rels" ContentType="application/vnd.openxmlformats-package.relationships+xml"/>
  <Override PartName="/ppt/slides/_rels/slide171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78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122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121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120.xml.rels" ContentType="application/vnd.openxmlformats-package.relationships+xml"/>
  <Override PartName="/ppt/slides/_rels/slide167.xml.rels" ContentType="application/vnd.openxmlformats-package.relationships+xml"/>
  <Override PartName="/ppt/slides/_rels/slide15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186.xml.rels" ContentType="application/vnd.openxmlformats-package.relationships+xml"/>
  <Override PartName="/ppt/slides/_rels/slide207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19.xml.rels" ContentType="application/vnd.openxmlformats-package.relationships+xml"/>
  <Override PartName="/ppt/slides/_rels/slide28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40.xml.rels" ContentType="application/vnd.openxmlformats-package.relationships+xml"/>
  <Override PartName="/ppt/slides/_rels/slide35.xml.rels" ContentType="application/vnd.openxmlformats-package.relationships+xml"/>
  <Override PartName="/ppt/slides/_rels/slide194.xml.rels" ContentType="application/vnd.openxmlformats-package.relationships+xml"/>
  <Override PartName="/ppt/slides/_rels/slide220.xml.rels" ContentType="application/vnd.openxmlformats-package.relationships+xml"/>
  <Override PartName="/ppt/slides/_rels/slide215.xml.rels" ContentType="application/vnd.openxmlformats-package.relationships+xml"/>
  <Override PartName="/ppt/slides/_rels/slide162.xml.rels" ContentType="application/vnd.openxmlformats-package.relationships+xml"/>
  <Override PartName="/ppt/slides/_rels/slide157.xml.rels" ContentType="application/vnd.openxmlformats-package.relationships+xml"/>
  <Override PartName="/ppt/slides/_rels/slide6.xml.rels" ContentType="application/vnd.openxmlformats-package.relationships+xml"/>
  <Override PartName="/ppt/slides/_rels/slide10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154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98.xml.rels" ContentType="application/vnd.openxmlformats-package.relationships+xml"/>
  <Override PartName="/ppt/slides/_rels/slide319.xml.rels" ContentType="application/vnd.openxmlformats-package.relationships+xml"/>
  <Override PartName="/ppt/slides/_rels/slide1.xml.rels" ContentType="application/vnd.openxmlformats-package.relationships+xml"/>
  <Override PartName="/ppt/slides/_rels/slide2.xml.rels" ContentType="application/vnd.openxmlformats-package.relationships+xml"/>
  <Override PartName="/ppt/slides/_rels/slide3.xml.rels" ContentType="application/vnd.openxmlformats-package.relationships+xml"/>
  <Override PartName="/ppt/slides/_rels/slide18.xml.rels" ContentType="application/vnd.openxmlformats-package.relationships+xml"/>
  <Override PartName="/ppt/slides/_rels/slide288.xml.rels" ContentType="application/vnd.openxmlformats-package.relationships+xml"/>
  <Override PartName="/ppt/slides/_rels/slide314.xml.rels" ContentType="application/vnd.openxmlformats-package.relationships+xml"/>
  <Override PartName="/ppt/slides/_rels/slide309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12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313.xml" ContentType="application/vnd.openxmlformats-officedocument.presentationml.slide+xml"/>
  <Override PartName="/ppt/slides/slide258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6.xml" ContentType="application/vnd.openxmlformats-officedocument.presentationml.slide+xml"/>
  <Override PartName="/ppt/slides/slide100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90.xml" ContentType="application/vnd.openxmlformats-officedocument.presentationml.slide+xml"/>
  <Override PartName="/ppt/slides/slide297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60.xml" ContentType="application/vnd.openxmlformats-officedocument.presentationml.slide+xml"/>
  <Override PartName="/ppt/slides/slide298.xml" ContentType="application/vnd.openxmlformats-officedocument.presentationml.slide+xml"/>
  <Override PartName="/ppt/slides/slide314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61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289.xml" ContentType="application/vnd.openxmlformats-officedocument.presentationml.slide+xml"/>
  <Override PartName="/ppt/slides/slide171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291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90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284.xml" ContentType="application/vnd.openxmlformats-officedocument.presentationml.slide+xml"/>
  <Override PartName="/ppt/slides/slide292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4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91.xml" ContentType="application/vnd.openxmlformats-officedocument.presentationml.slide+xml"/>
  <Override PartName="/ppt/slides/slide123.xml" ContentType="application/vnd.openxmlformats-officedocument.presentationml.slide+xml"/>
  <Override PartName="/ppt/slides/slide285.xml" ContentType="application/vnd.openxmlformats-officedocument.presentationml.slide+xml"/>
  <Override PartName="/ppt/slides/slide293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86.xml" ContentType="application/vnd.openxmlformats-officedocument.presentationml.slide+xml"/>
  <Override PartName="/ppt/slides/slide294.xml" ContentType="application/vnd.openxmlformats-officedocument.presentationml.slide+xml"/>
  <Override PartName="/ppt/slides/slide310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295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27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271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70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299.xml" ContentType="application/vnd.openxmlformats-officedocument.presentationml.slide+xml"/>
  <Override PartName="/ppt/slides/slide262.xml" ContentType="application/vnd.openxmlformats-officedocument.presentationml.slide+xml"/>
  <Override PartName="/ppt/slides/slide69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320.xml" ContentType="application/vnd.openxmlformats-officedocument.presentationml.slide+xml"/>
  <Override PartName="/ppt/slides/slide283.xml" ContentType="application/vnd.openxmlformats-officedocument.presentationml.slide+xml"/>
  <Override PartName="/ppt/slides/slide282.xml" ContentType="application/vnd.openxmlformats-officedocument.presentationml.slide+xml"/>
  <Override PartName="/ppt/slides/slide281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280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77.xml" ContentType="application/vnd.openxmlformats-officedocument.presentationml.slide+xml"/>
  <Override PartName="/ppt/slides/slide276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269.xml" ContentType="application/vnd.openxmlformats-officedocument.presentationml.slide+xml"/>
  <Override PartName="/ppt/slides/slide268.xml" ContentType="application/vnd.openxmlformats-officedocument.presentationml.slide+xml"/>
  <Override PartName="/ppt/slides/slide267.xml" ContentType="application/vnd.openxmlformats-officedocument.presentationml.slide+xml"/>
  <Override PartName="/ppt/slides/slide266.xml" ContentType="application/vnd.openxmlformats-officedocument.presentationml.slide+xml"/>
  <Override PartName="/ppt/slides/slide265.xml" ContentType="application/vnd.openxmlformats-officedocument.presentationml.slide+xml"/>
  <Override PartName="/ppt/slides/slide264.xml" ContentType="application/vnd.openxmlformats-officedocument.presentationml.slide+xml"/>
  <Override PartName="/ppt/slides/slide26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3.xml" ContentType="application/vnd.openxmlformats-officedocument.presentationml.slide+xml"/>
  <Override PartName="/ppt/slides/slide47.xml" ContentType="application/vnd.openxmlformats-officedocument.presentationml.slide+xml"/>
  <Override PartName="/ppt/slides/slide309.xml" ContentType="application/vnd.openxmlformats-officedocument.presentationml.slide+xml"/>
  <Override PartName="/ppt/slides/slide143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  <p:sldId id="554" r:id="rId302"/>
    <p:sldId id="555" r:id="rId303"/>
    <p:sldId id="556" r:id="rId304"/>
    <p:sldId id="557" r:id="rId305"/>
    <p:sldId id="558" r:id="rId306"/>
    <p:sldId id="559" r:id="rId307"/>
    <p:sldId id="560" r:id="rId308"/>
    <p:sldId id="561" r:id="rId309"/>
    <p:sldId id="562" r:id="rId310"/>
    <p:sldId id="563" r:id="rId311"/>
    <p:sldId id="564" r:id="rId312"/>
    <p:sldId id="565" r:id="rId313"/>
    <p:sldId id="566" r:id="rId314"/>
    <p:sldId id="567" r:id="rId315"/>
    <p:sldId id="568" r:id="rId316"/>
    <p:sldId id="569" r:id="rId317"/>
    <p:sldId id="570" r:id="rId318"/>
    <p:sldId id="571" r:id="rId319"/>
    <p:sldId id="572" r:id="rId320"/>
    <p:sldId id="573" r:id="rId321"/>
    <p:sldId id="574" r:id="rId322"/>
    <p:sldId id="575" r:id="rId323"/>
    <p:sldId id="576" r:id="rId324"/>
    <p:sldId id="577" r:id="rId325"/>
    <p:sldId id="578" r:id="rId326"/>
    <p:sldId id="579" r:id="rId327"/>
    <p:sldId id="580" r:id="rId328"/>
    <p:sldId id="581" r:id="rId329"/>
    <p:sldId id="582" r:id="rId330"/>
    <p:sldId id="583" r:id="rId331"/>
    <p:sldId id="584" r:id="rId3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slide" Target="slides/slide299.xml"/><Relationship Id="rId303" Type="http://schemas.openxmlformats.org/officeDocument/2006/relationships/slide" Target="slides/slide300.xml"/><Relationship Id="rId304" Type="http://schemas.openxmlformats.org/officeDocument/2006/relationships/slide" Target="slides/slide301.xml"/><Relationship Id="rId305" Type="http://schemas.openxmlformats.org/officeDocument/2006/relationships/slide" Target="slides/slide302.xml"/><Relationship Id="rId306" Type="http://schemas.openxmlformats.org/officeDocument/2006/relationships/slide" Target="slides/slide303.xml"/><Relationship Id="rId307" Type="http://schemas.openxmlformats.org/officeDocument/2006/relationships/slide" Target="slides/slide304.xml"/><Relationship Id="rId308" Type="http://schemas.openxmlformats.org/officeDocument/2006/relationships/slide" Target="slides/slide305.xml"/><Relationship Id="rId309" Type="http://schemas.openxmlformats.org/officeDocument/2006/relationships/slide" Target="slides/slide306.xml"/><Relationship Id="rId310" Type="http://schemas.openxmlformats.org/officeDocument/2006/relationships/slide" Target="slides/slide307.xml"/><Relationship Id="rId311" Type="http://schemas.openxmlformats.org/officeDocument/2006/relationships/slide" Target="slides/slide308.xml"/><Relationship Id="rId312" Type="http://schemas.openxmlformats.org/officeDocument/2006/relationships/slide" Target="slides/slide309.xml"/><Relationship Id="rId313" Type="http://schemas.openxmlformats.org/officeDocument/2006/relationships/slide" Target="slides/slide310.xml"/><Relationship Id="rId314" Type="http://schemas.openxmlformats.org/officeDocument/2006/relationships/slide" Target="slides/slide311.xml"/><Relationship Id="rId315" Type="http://schemas.openxmlformats.org/officeDocument/2006/relationships/slide" Target="slides/slide312.xml"/><Relationship Id="rId316" Type="http://schemas.openxmlformats.org/officeDocument/2006/relationships/slide" Target="slides/slide313.xml"/><Relationship Id="rId317" Type="http://schemas.openxmlformats.org/officeDocument/2006/relationships/slide" Target="slides/slide314.xml"/><Relationship Id="rId318" Type="http://schemas.openxmlformats.org/officeDocument/2006/relationships/slide" Target="slides/slide315.xml"/><Relationship Id="rId319" Type="http://schemas.openxmlformats.org/officeDocument/2006/relationships/slide" Target="slides/slide316.xml"/><Relationship Id="rId320" Type="http://schemas.openxmlformats.org/officeDocument/2006/relationships/slide" Target="slides/slide317.xml"/><Relationship Id="rId321" Type="http://schemas.openxmlformats.org/officeDocument/2006/relationships/slide" Target="slides/slide318.xml"/><Relationship Id="rId322" Type="http://schemas.openxmlformats.org/officeDocument/2006/relationships/slide" Target="slides/slide319.xml"/><Relationship Id="rId323" Type="http://schemas.openxmlformats.org/officeDocument/2006/relationships/slide" Target="slides/slide320.xml"/><Relationship Id="rId324" Type="http://schemas.openxmlformats.org/officeDocument/2006/relationships/slide" Target="slides/slide321.xml"/><Relationship Id="rId325" Type="http://schemas.openxmlformats.org/officeDocument/2006/relationships/slide" Target="slides/slide322.xml"/><Relationship Id="rId326" Type="http://schemas.openxmlformats.org/officeDocument/2006/relationships/slide" Target="slides/slide323.xml"/><Relationship Id="rId327" Type="http://schemas.openxmlformats.org/officeDocument/2006/relationships/slide" Target="slides/slide324.xml"/><Relationship Id="rId328" Type="http://schemas.openxmlformats.org/officeDocument/2006/relationships/slide" Target="slides/slide325.xml"/><Relationship Id="rId329" Type="http://schemas.openxmlformats.org/officeDocument/2006/relationships/slide" Target="slides/slide326.xml"/><Relationship Id="rId330" Type="http://schemas.openxmlformats.org/officeDocument/2006/relationships/slide" Target="slides/slide327.xml"/><Relationship Id="rId331" Type="http://schemas.openxmlformats.org/officeDocument/2006/relationships/slide" Target="slides/slide328.xml"/><Relationship Id="rId332" Type="http://schemas.openxmlformats.org/officeDocument/2006/relationships/slide" Target="slides/slide329.xml"/><Relationship Id="rId3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1A83-C0C5-475A-9E03-AF14F742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2359-5155-4467-BB0E-23A30849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2CB-7DDA-445C-A9BA-3489F757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DAF-AA47-435F-AE5F-3982BC38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1377-A749-4B71-8CBA-3527C551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B4B0-267E-47C2-9DF7-D7C4C35D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1AFF-70A9-41D9-A487-647B176B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C683-10E9-4AE6-A0D8-2C63C9A2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1653-EDE7-4993-9028-D25865EB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F457-1A11-4436-8C26-377B5C49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C876-5DB3-4788-A730-2D752C2C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880-8682-4329-A2AD-900342AF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3C4C-608F-487D-A804-3E99B4FA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8D15-652C-4D44-885B-DB5FD597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14AA-E1DB-4608-B198-098E650A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F9C4-BF2E-4954-B034-51EA8922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095C-4DA3-473D-86DC-07F78689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6425-0557-4362-A72B-DC86EA6D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41E4-FBEA-4B76-B6A6-0662B0A1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B66E-D6EC-4BCB-BD62-C7D54F2E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20D-3D46-4486-BF40-E0238FE9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189C-6AA9-43B5-9B35-F80970EF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5AD-178F-4656-B22D-91FA2CAB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14DD-BB2E-4FB9-B78D-E23E621D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7167-542D-4B39-96DC-3039C9D2037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3D3F-CEF2-4AC4-B23F-2DE742694F7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55.xml"/><Relationship Id="rId3" Type="http://schemas.openxmlformats.org/officeDocument/2006/relationships/slide" Target="slide126.xml"/><Relationship Id="rId4" Type="http://schemas.openxmlformats.org/officeDocument/2006/relationships/slide" Target="slide127.xml"/><Relationship Id="rId5" Type="http://schemas.openxmlformats.org/officeDocument/2006/relationships/slide" Target="slide129.xml"/><Relationship Id="rId6" Type="http://schemas.openxmlformats.org/officeDocument/2006/relationships/slide" Target="slide180.xml"/><Relationship Id="rId7" Type="http://schemas.openxmlformats.org/officeDocument/2006/relationships/slide" Target="slide135.xml"/><Relationship Id="rId8" Type="http://schemas.openxmlformats.org/officeDocument/2006/relationships/slide" Target="slide9.xml"/><Relationship Id="rId9" Type="http://schemas.openxmlformats.org/officeDocument/2006/relationships/slide" Target="slide185.xml"/><Relationship Id="rId10" Type="http://schemas.openxmlformats.org/officeDocument/2006/relationships/slide" Target="slide127.xml"/><Relationship Id="rId11" Type="http://schemas.openxmlformats.org/officeDocument/2006/relationships/slide" Target="slide127.xml"/><Relationship Id="rId12" Type="http://schemas.openxmlformats.org/officeDocument/2006/relationships/slide" Target="slide9.xml"/><Relationship Id="rId13" Type="http://schemas.openxmlformats.org/officeDocument/2006/relationships/slide" Target="slide9.xml"/><Relationship Id="rId14" Type="http://schemas.openxmlformats.org/officeDocument/2006/relationships/slide" Target="slide9.xml"/><Relationship Id="rId15" Type="http://schemas.openxmlformats.org/officeDocument/2006/relationships/slide" Target="slide9.xml"/><Relationship Id="rId16" Type="http://schemas.openxmlformats.org/officeDocument/2006/relationships/slide" Target="slide127.xml"/><Relationship Id="rId17" Type="http://schemas.openxmlformats.org/officeDocument/2006/relationships/slideLayout" Target="../slideLayouts/slideLayout14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2720" y="1197000"/>
            <a:ext cx="79916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วางแผนภาษีมูลค่าเพิ่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 Plan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4378320"/>
            <a:ext cx="792144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ุเทพ  พงษ์พิทักษ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อำนวยการสำนักมาตรฐานการสอบบัญชี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451880" y="255600"/>
            <a:ext cx="624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wo Sides of a Same Co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21080" y="1700280"/>
            <a:ext cx="2017800" cy="2879640"/>
          </a:xfrm>
          <a:prstGeom prst="ellipse">
            <a:avLst/>
          </a:prstGeom>
          <a:solidFill>
            <a:srgbClr val="66003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68720" y="1700280"/>
            <a:ext cx="2016000" cy="28796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29080" y="4579920"/>
            <a:ext cx="647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40360" y="4508640"/>
            <a:ext cx="647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97440" y="443556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24360" y="436392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52720" y="4292640"/>
            <a:ext cx="6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429080" y="1700280"/>
            <a:ext cx="647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1771560"/>
            <a:ext cx="6476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81440" y="421956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97440" y="184464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08360" y="4148280"/>
            <a:ext cx="649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37080" y="407664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65440" y="393228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65440" y="378792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2360" y="3645000"/>
            <a:ext cx="6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25800" y="191628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81440" y="206064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37080" y="220356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565440" y="234792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565440" y="241920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92360" y="2635200"/>
            <a:ext cx="6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21080" y="277956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21080" y="292428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21080" y="306864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21080" y="321156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21080" y="350028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52720" y="1987560"/>
            <a:ext cx="6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37080" y="400356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08360" y="213192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37080" y="227664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65440" y="249228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2708280"/>
            <a:ext cx="6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92360" y="2563920"/>
            <a:ext cx="6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21080" y="285264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21080" y="299556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21080" y="313992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21080" y="328464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1080" y="335592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21080" y="342756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92360" y="3571920"/>
            <a:ext cx="6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92360" y="3716280"/>
            <a:ext cx="6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65440" y="386064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005440" y="2131920"/>
            <a:ext cx="187164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16720" y="1490760"/>
            <a:ext cx="1873080" cy="581400"/>
          </a:xfrm>
          <a:prstGeom prst="rect">
            <a:avLst/>
          </a:prstGeom>
          <a:solidFill>
            <a:srgbClr val="33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G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20720" y="2131920"/>
            <a:ext cx="1800360" cy="936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4000" y="1484280"/>
            <a:ext cx="2305080" cy="581400"/>
          </a:xfrm>
          <a:prstGeom prst="rect">
            <a:avLst/>
          </a:prstGeom>
          <a:solidFill>
            <a:srgbClr val="a5002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1405080" y="3284640"/>
            <a:ext cx="2232000" cy="10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4000" y="4292640"/>
            <a:ext cx="2305080" cy="581400"/>
          </a:xfrm>
          <a:prstGeom prst="rect">
            <a:avLst/>
          </a:prstGeom>
          <a:solidFill>
            <a:srgbClr val="59336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Ca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76360" y="4940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76360" y="5445000"/>
            <a:ext cx="5977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7453440" y="5011560"/>
            <a:ext cx="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45080" y="3787920"/>
            <a:ext cx="2303640" cy="10688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Sol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7453440" y="2131920"/>
            <a:ext cx="0" cy="165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58760" y="5772240"/>
            <a:ext cx="94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olve the problem mean solve at the causes of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179280" y="3284640"/>
            <a:ext cx="1513080" cy="1079280"/>
          </a:xfrm>
          <a:custGeom>
            <a:avLst/>
            <a:gdLst>
              <a:gd name="textAreaLeft" fmla="*/ 355680 w 1513080"/>
              <a:gd name="textAreaRight" fmla="*/ 1156680 w 1513080"/>
              <a:gd name="textAreaTop" fmla="*/ 126720 h 1079280"/>
              <a:gd name="textAreaBottom" fmla="*/ 677160 h 10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79280" y="1052640"/>
            <a:ext cx="8713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ความทั่ว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เป็นภาษีอากรประเมิ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ยามศัพท์เกี่ยวกั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อยู่ในข่ายต้องเสียภาษี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จัดเก็บภาษี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หรือการให้บริการในทางธุรกิจหรือวิชาชี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เข้าสินค้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อยู่ในข่ายต้องเสียภาษีธุรกิจเฉพาะหรือที่ได้รั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ธุรกิจเฉพาะได้รับยกเว้นภาษี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่งสำเนาสัญญาที่มีมูลค่าตั้งแต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0,00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ขึ้นไป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อธิบดีกรมสรรพากรในการตีความว่ากิจการใดเป็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หรือการให้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179280" y="1052640"/>
            <a:ext cx="8713800" cy="31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ในการเสีย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ในกรณีขาย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/1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ในกรณีให้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/2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ในกรณีนำเข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/3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ในกรณีการขายสินค้าหรือการให้บริการที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โดยกฎกระทรวง 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79280" y="1031760"/>
            <a:ext cx="8785440" cy="54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ภาษีสำหรับการขายสินค้าหรือการให้บริการ รูปแบบ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ฐานภาษี และกรณีที่ไม่นับรวมเป็นมูลค่าของฐาน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1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ภาษีสำหรับการส่งออก การขนส่งระหว่างประเทศ และ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ที่จะกำหนดโดยพระราชกฤษฎีก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2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ภาษีสำหรับการนำเข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3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มูลค่าของฐานภาษีสำหรับการขายสินค้าหรือ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4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มูลค่าของฐานภาษีที่เป็นเงินตราต่างประเทศให้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เงินตราไท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5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ภาษีสำหรับการนำเข้าและขายยาสู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6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ภาษีสำหรับการนำเข้าและขายน้ำมันดิบและผลิตภัณฑ์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้ำมั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7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ำหนดฐานภาษีโดยพระราชกฤษฎีก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179280" y="1052640"/>
            <a:ext cx="8713800" cy="295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0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ที่เสียภาษีมูลค่าเพิ่มในอัตราร้อย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40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0/1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ที่เสียภาษีมูลค่าเพิ่มในอัตราร้อย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0/2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ที่เสียภาษีมูลค่าเพิ่มในอั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5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.5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79280" y="1125360"/>
            <a:ext cx="8713800" cy="43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มูลค่าเพิ่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มูลค่าเพิ่มสำหรับการประกอบกิจการประเภ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ๆ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/1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มูลค่าเพิ่มให้แก่กิจการขนาดย่อ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/2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อธิบดีในการกำหนดให้ผู้ประกอบการที่ได้รับยกเว้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จัดทำราย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/3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ในการขอแจ้งต่ออธิบดีเพื่อขอจดทะเบียนภาษี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4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3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4360" y="981000"/>
            <a:ext cx="896472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และการคำนวณ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ที่กฎหมายกำหนดให้เป็นผู้มีหน้าที่เสียภาษีมูลค่าเพิ่มใ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ต่าง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2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มูลค่าเพิ่มร่วมกับผู้ประกอบการที่อยู่นอก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ชอาณาจักร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3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มูลค่าเพิ่มที่ต้องเสียภาษีขายหักด้วยภาษีซื้อ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4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ในการเรียกภาษีขายจากผู้ซื้อสินค้าหรือผู้รับบริ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ที่ไม่ให้นำมาหักในการคำนวณภาษี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6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ฉลี่ยภาษีซื้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7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มูลค่าเพิ่มสำหรับการขายยาสู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8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มูลค่าเพิ่มสำหรับการขายน้ำมันและ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ลิตภัณฑ์น้ำมั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9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การออกใบเพิ่มหนี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0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การออกใบลดหนี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50920" y="1052640"/>
            <a:ext cx="866124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และการคำนวณภาษ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1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ขายที่คำนวณจากส่วนของหนี้สูญ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2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มูลค่าเพิ่มกรณีรับโอนกรรมสิทธิ์ใน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สิทธิในบริการอัตราศูนย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3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มูลค่าเพิ่มของผู้ประกอบการนอก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ชอาณ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กรและได้เข้ามาประกอบกิจการในราชอาณาจั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4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มูลค่าเพิ่มกรณีนำเข้าสินค้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5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มูลค่าเพิ่มกรณีรับโอนกรรมสิทธิ์ในสินค้าที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แนกประเภทไว้ในภาคว่าด้วยของที่ได้รับยกเว้นอาก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ุลกา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6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มูลค่าเพิ่มอัตรา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7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ขอเข้าสู่ระบบภาษีมูลค่าเพิ่มอัตรา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8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ข้าสู่ระบบภาษีมูลค่าเพิ่มแบบเต็มรูปของผู้เสียภาษ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เพิ่มอัตรา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76200" y="1176480"/>
            <a:ext cx="85885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แบบและการชำระภาษ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แบบแสดงรายการภาษีมูลค่าเพิ่มกรณีทั่วไ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1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แบบแสดงรายการภาษีมูลค่าเพิ่มสำหรับกิจการบา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ภ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2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แบบแสดงรายการภาษีมูลค่าเพิ่มของผู้ที่กฎหมาย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ให้มีหน้าที่เสีย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3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ยื่นแบบแสดงรายการแทนหรือร่วมกับ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4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แบบแสดงรายการภาษี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5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ส่งภาษีมูลค่าเพิ่มของผู้ขายทอดตลา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6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ส่งภาษีมูลค่าเพิ่มของผู้ซื้อสินค้าหรือรับบริการจาก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ที่อยู่นอกราชอาณาจั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79280" y="1052640"/>
            <a:ext cx="871380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แบบและการชำระภาษ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7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ส่งภาษีมูลค่าเพิ่มของผู้รับโอนกรรมสิทธิ์ในสินค้าหรือ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ในบริการอัตราศูนย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8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ใบขนสินค้าและชำระภาษีมูลค่าเพิ่มของผู้นำเข้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9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ใบขนสินค้าและชำระภาษีมูลค่าเพิ่มกรณีนำสินค้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จากเขตปลอดอ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10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กรมศุลกากรหรือกรมสรรพสามิตเรียกเก็บภาษีมูลค่าเพิ่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กรมสรรพ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179280" y="1052640"/>
            <a:ext cx="8713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ครดิตภาษีและการขอคืนภาษี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4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ขอคืนหรือขอเครดิต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4/1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การขอคืน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4/2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สำหรับการนำเข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4/3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ดอกเบี้ยสำหรับการคืน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4/4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การขอคืนภาษีมูลค่าเพิ่มสำหรับผู้เดินทางออก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อกราชอาณาจั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24000" y="1125360"/>
            <a:ext cx="8496000" cy="5183280"/>
          </a:xfrm>
          <a:prstGeom prst="rect">
            <a:avLst/>
          </a:prstGeom>
          <a:solidFill>
            <a:srgbClr val="0101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95280" y="3286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แบบซองจดหมาย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Envelop Mod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763640" y="1989000"/>
            <a:ext cx="5472360" cy="3527640"/>
          </a:xfrm>
          <a:prstGeom prst="ellipse">
            <a:avLst/>
          </a:prstGeom>
          <a:solidFill>
            <a:srgbClr val="9900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2360" y="1700280"/>
            <a:ext cx="2087640" cy="58140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G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90320" y="3284640"/>
            <a:ext cx="2346480" cy="58140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22800" y="5084640"/>
            <a:ext cx="4301640" cy="58140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Causes of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91760" y="3284640"/>
            <a:ext cx="2704320" cy="5814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Proced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834920" y="3068640"/>
            <a:ext cx="14436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5651280" y="2133720"/>
            <a:ext cx="215640" cy="7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164360" y="3933720"/>
            <a:ext cx="7164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203640" y="2133720"/>
            <a:ext cx="216000" cy="7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38000" y="268452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งมือปฏิบัติจริ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59280" y="3716280"/>
            <a:ext cx="3960720" cy="237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1270080"/>
            <a:ext cx="4248000" cy="25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24000" y="3716280"/>
            <a:ext cx="396072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572000" y="1270080"/>
            <a:ext cx="4248000" cy="25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1763280" y="3933720"/>
            <a:ext cx="7164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6720" y="2565360"/>
            <a:ext cx="194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ในอดี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เกิดขึ้นแล้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5280" y="3933720"/>
            <a:ext cx="2305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ในอนาค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ยังไม่เกิ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771640" y="4629240"/>
            <a:ext cx="3240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เหตุแห่งปัญหาในอดี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698920" y="5661000"/>
            <a:ext cx="352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เหตุแห่งปัญหาในอนาค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835280" y="1457280"/>
            <a:ext cx="165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้าหมายที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าดหวั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92720" y="1457280"/>
            <a:ext cx="208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้าหมายที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ิดขึ้นจริ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16160" y="3908520"/>
            <a:ext cx="30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แนวทางปฏิบัต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179280" y="1052640"/>
            <a:ext cx="8713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ดทะเบียนภาษี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ขอจดทะเบียนก่อนวันเริ่มประกอบ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ขอจดทะเบียนของกิจการเกินขนาดย่อ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2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ตัวแทนมีหน้าที่รับผิดชอบในการจดทะเบียน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3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ไม่ต้องจดทะเบียน และ การจดทะเบียนชั่วครา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4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แสดงใบทะเบียนไว้ ณ ที่เปิดเผย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5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ทะเบียนสูญหาย ถูกทำลาย หรือ ชำรุ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6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แจ้งการเปลี่ยนแปลงสาระสำคัญ ในการจดทะเบีย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7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ปิดสถานประกอบการ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8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้ายสถานประกอบ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9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ถานประกอบการเฉพาะกิ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0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ให้อธิบดีสั่งถอนทะเบียนได้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79280" y="1052640"/>
            <a:ext cx="896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ดทะเบียนภาษีมูลค่าเพิ่ม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1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เพิ่มมูลค่าของกิจการขนาดย่อ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2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จ้งหยุดประกอบกิจการชั่วครา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3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จ้งโอนกิจการ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4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วบบริษัทเข้ากัน ให้แจ้งการเลิก และการจดทะเบียนใหม่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5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จ้งการเลิก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6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ต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7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ั่งเพิกถอนการจดทะเบีย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8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รับผิดชอบ กรณีถอนทะเบียน กรณีเลิก กรณีต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9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ที่อธิบดีสั่งขีดชื่อออกจากทะเบีย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42920" y="1052640"/>
            <a:ext cx="8893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530720" indent="-1530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 ใบเพิ่มหนี้ ใบลดหนี้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30720" indent="-153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การจัดทำใบกำกับภาษี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30720" indent="-153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ที่ไม่มีสิทธิออกใบกำกับภาษี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30720" indent="-153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2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อกใบกำกับภาษีของผู้ประกอบการที่อยู่นอกราชอาณาจั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30720" indent="-153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3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อกใบกำกับภาษีของผู้ทอดตลาด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30720" indent="-153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ในใบกำกับภาษีแบบเต็มรู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30720" indent="-153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5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ในใบกำกับภาษีที่อธิบดีกำหนดเป็นอย่างอื่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30720" indent="-153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6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ในใบกำกับภาษีอย่างย่อของกิจการค้าปลีก และการขออนุมัติใช้เครื่องบันทึกการเก็บเงินเพื่อการออกใบกำกับภาษีอย่างย่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30720" indent="-153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7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ออกใบกำกับภาษีอย่างย่อ และการขออนุมัติใช้เครื่องบันทึกการเก็บเงินเพื่อการออกใบกำกับภาษีอย่างย่อของกิจการอย่างอื่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71280" y="1052640"/>
            <a:ext cx="8893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00360" indent="-180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 ใบเพิ่มหนี้ ใบลดหนี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00360" indent="-180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8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ผ่อนปรนเกี่ยวกับการออกใบกำกับภาษี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00360" indent="-180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9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ูปแบบของใบเพิ่ม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00360" indent="-180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0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ูปแบบของใบลด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00360" indent="-180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1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ออกใบกำกับภาษีต่อไป กรณีเลิกกิจการหรือขอให้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ิกถอนทะเบียนภาษีมูลค่าเพิ่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00360" indent="-180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2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แทนใบกำกับภาษี ใบแทนใบเพิ่มหนี้ และใบแทนใบลดหนี้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00360" indent="-180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3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ของผู้ออกใบกำกับภาษี ใบเพิ่มหนี้ และใบลด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00360" indent="-180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ไม่มีสิทธิที่จะออ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800360" indent="-1800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4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เสร็จรับเงินที่กรมสรรพากร กรมศุลกากร กรมสรรพสามิตออกให้ถือเป็นใบกำกับ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179280" y="1197000"/>
            <a:ext cx="8713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1498320" indent="-149832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ัดทำรายงาน และการเก็บรักษาเอกสารและหลักฐ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98320" indent="-1498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7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การจัดทำรายการภาษีขาย ภาษีซื้อ สินค้าและวัตถุดิ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98320" indent="-1498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7/1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อธิบดีในการกำหนดให้จัดทำรายงานเป็นอย่างอื่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98320" indent="-1498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7/2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อธิบดีในการกำหนดให้ตัวแทนจัดทำราย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98320" indent="-1498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7/3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การเก็บรักษารายงาน ใบกำกับภาษี และเอกสารอื่น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08000" y="33336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179280" y="1197000"/>
            <a:ext cx="8713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เจ้าพนักงานประเมิ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8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ในการประเมินภาษีมูลค่าเพิ่ม เบี้ยปรับ และเงิน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8/1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ในการประเมินภาษีมูลค่าเพิ่ม เบี้ยปรับ และเงินเพิ่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ากผู้ที่ไม่มีสิทธิออกใบกำกับภาษี ใบเพิ่มหนี้ และใบลด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8/2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ในการดำเนินการเพื่อประโยชน์ในการประเมินตา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8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8/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8/3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ในเข้าไปในสถานประกอบการเพื่อตรวจปฏิบัต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8/4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ในการออกหมายเรีย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8/5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แจ้งการประเมินเป็นหนังสื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8/6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การประเมิน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79280" y="260280"/>
            <a:ext cx="896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79280" y="1197000"/>
            <a:ext cx="8713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11360" indent="-161136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ี้ยปรับ เงิน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11360" indent="-16113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9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เกี่ยวกับเบี้ยปรั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11360" indent="-161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9/1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เกี่ยวกับเงิน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11360" indent="-161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9/2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ี้ยปรับและเงินเพิ่มถือเป็น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8000" y="260280"/>
            <a:ext cx="896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142920" y="1197000"/>
            <a:ext cx="8713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546560" indent="-1546560"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46560" indent="-1546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ความผิดที่ระวางโทษปรับ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,00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46560" indent="-1546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/1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ความผิดที่ระวางโทษปรับ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,00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46560" indent="-1546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/2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ความผิดที่ระวางโทษจำคุก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ปรับ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,00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หรือทั้งจำทั้งปรั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46560" indent="-1546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/3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ความผิดที่ระวางโทษจำคุก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ปรับ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,00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หรือทั้งจำทั้งปรั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46560" indent="-1546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/4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ความผิดที่ระวางโทษจำคุกตั้งแต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ถึ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และ ปรับตั้งแต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,00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ถึ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0,00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46560" indent="-1546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/5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ต้องรับโทษกรณีผู้กระทำความผิดเป็นนิติบุคค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1280" y="260280"/>
            <a:ext cx="896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348840"/>
            <a:ext cx="8291520" cy="84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นิยามศัพท์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77/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847" name=""/>
          <p:cNvGraphicFramePr/>
          <p:nvPr/>
        </p:nvGraphicFramePr>
        <p:xfrm>
          <a:off x="108000" y="1341360"/>
          <a:ext cx="8964720" cy="4314960"/>
        </p:xfrm>
        <a:graphic>
          <a:graphicData uri="http://schemas.openxmlformats.org/drawingml/2006/table">
            <a:tbl>
              <a:tblPr/>
              <a:tblGrid>
                <a:gridCol w="3456000"/>
                <a:gridCol w="5508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นิยามศัพท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ทบัญญัติตาม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7/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กี่ยวกับผู้มีหน้าที่เสียภาษี มูลค่า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ุคคล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2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ุคคลธรรมด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3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ณะบุคคลที่มิใช่นิติบุคคล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4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ิติบุคคล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5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าร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6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ารจดทะเบีย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7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ัวแท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1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นำเข้า และ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3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ส่งออ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กี่ยวกับกิจการที่อยู่ในข่ายต้องเสียภาษีมูลค่า 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8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าย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9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นค้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0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ริการ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2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ำเข้า และ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4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งออก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21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ขตปลอดอากร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FZ)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กี่ยวกับการคำนวณภาษี มูลค่า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5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ซื้อ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6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ค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7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ขาย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8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ซื้อ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9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สรรพสามิต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20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ถานประกอบ การ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22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บกำกับภาษี และ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23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ดือนภาษ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611280" y="1125360"/>
            <a:ext cx="7993080" cy="554364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26920" y="1916280"/>
            <a:ext cx="2232360" cy="2304720"/>
          </a:xfrm>
          <a:prstGeom prst="rect">
            <a:avLst/>
          </a:prstGeom>
          <a:solidFill>
            <a:srgbClr val="15def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การขายสินค้าหรื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ให้บริการโดยผู้ที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มิใช่ผู้ประกอบ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ไม่อยู่ในบังคับที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ต้องเสียภาษีมูลค่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0" name=""/>
          <p:cNvGraphicFramePr/>
          <p:nvPr/>
        </p:nvGraphicFramePr>
        <p:xfrm>
          <a:off x="3276720" y="1916280"/>
          <a:ext cx="5182920" cy="3203280"/>
        </p:xfrm>
        <a:graphic>
          <a:graphicData uri="http://schemas.openxmlformats.org/drawingml/2006/table">
            <a:tbl>
              <a:tblPr/>
              <a:tblGrid>
                <a:gridCol w="2087280"/>
                <a:gridCol w="3095640"/>
              </a:tblGrid>
              <a:tr h="828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ขายสินค้าหรือให้บริการที่อยู่ในบังค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เสียภาษีมูลค่าเพิ่มตาม 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77/2(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Microsoft Sans Serif"/>
                        </a:rPr>
                        <a:t>มีรายได้ไม่เกิ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Sans Serif"/>
                        </a:rPr>
                        <a:t>1.8 </a:t>
                      </a: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Microsoft Sans Serif"/>
                        </a:rPr>
                        <a:t>ล้านบาทต่อปี ได้ รับยกเว้นภาษี มูลค่าเพิ่มตาม 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Sans Serif"/>
                        </a:rPr>
                        <a:t>. 81/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dd4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ีรายได้เกินกว่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8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ล้านบาทต่อปีโดยต้องจดทะเบียนภายใ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ั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ีรายได้ไม่ถึงเกณฑ์ที่กำหนด แต่ขอเสียภาษีมูลค่า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33"/>
                    </a:solidFill>
                  </a:tcPr>
                </a:tc>
              </a:tr>
            </a:tbl>
          </a:graphicData>
        </a:graphic>
      </p:graphicFrame>
      <p:sp>
        <p:nvSpPr>
          <p:cNvPr id="851" name=""/>
          <p:cNvSpPr/>
          <p:nvPr/>
        </p:nvSpPr>
        <p:spPr>
          <a:xfrm>
            <a:off x="1719360" y="1254240"/>
            <a:ext cx="60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หรือให้บริการในราชอาณาจั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24520" y="44280"/>
            <a:ext cx="64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หรือให้บริการนอกราชอาณาจั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อยู่ในบังคับที่ต้องเสีย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750680" y="5605560"/>
            <a:ext cx="56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ที่ได้รับยกเว้น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8101080" y="549360"/>
            <a:ext cx="0" cy="20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886880" y="83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341120" y="74520"/>
            <a:ext cx="1233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ออ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79280" y="494172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08240" y="465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189080" y="4581360"/>
            <a:ext cx="12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เข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T 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611280" y="6093000"/>
          <a:ext cx="7993080" cy="57600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Microsoft Sans Serif"/>
                          <a:cs typeface="Microsoft Sans Serif"/>
                        </a:rPr>
                        <a:t>รายได้ที่ไม่อยู่ในบังคับที่ต้องเสียภาษีมูลค่าเพิ่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5def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1" name=""/>
          <p:cNvGraphicFramePr/>
          <p:nvPr/>
        </p:nvGraphicFramePr>
        <p:xfrm>
          <a:off x="3276720" y="5084640"/>
          <a:ext cx="5182920" cy="455760"/>
        </p:xfrm>
        <a:graphic>
          <a:graphicData uri="http://schemas.openxmlformats.org/drawingml/2006/table">
            <a:tbl>
              <a:tblPr/>
              <a:tblGrid>
                <a:gridCol w="5182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Microsoft Sans Serif"/>
                          <a:cs typeface="Microsoft Sans Serif"/>
                        </a:rPr>
                        <a:t>รายได้ที่ไม่นับรวมเป็นมูลค่าของฐาน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48d5"/>
                    </a:solidFill>
                  </a:tcPr>
                </a:tc>
              </a:tr>
            </a:tbl>
          </a:graphicData>
        </a:graphic>
      </p:graphicFrame>
      <p:sp>
        <p:nvSpPr>
          <p:cNvPr id="862" name=""/>
          <p:cNvSpPr/>
          <p:nvPr/>
        </p:nvSpPr>
        <p:spPr>
          <a:xfrm>
            <a:off x="108000" y="117360"/>
            <a:ext cx="503280" cy="432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059280" y="1773360"/>
            <a:ext cx="502920" cy="431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332000" y="5661000"/>
            <a:ext cx="503280" cy="432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042920" y="6165720"/>
            <a:ext cx="503280" cy="432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1628640"/>
            <a:ext cx="503280" cy="432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8000" y="4365720"/>
            <a:ext cx="503280" cy="431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059280" y="2492280"/>
            <a:ext cx="502920" cy="432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003640" y="2637000"/>
            <a:ext cx="503280" cy="431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076720" y="3718080"/>
            <a:ext cx="503280" cy="431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51640" y="836640"/>
            <a:ext cx="503280" cy="431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989440" y="5157720"/>
            <a:ext cx="502920" cy="4320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877880" y="3716280"/>
            <a:ext cx="1233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3325680" y="189000"/>
            <a:ext cx="2541600" cy="358560"/>
          </a:xfrm>
          <a:prstGeom prst="flowChartProcess">
            <a:avLst/>
          </a:prstGeom>
          <a:solidFill>
            <a:srgbClr val="ffff66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Arial"/>
              </a:rPr>
              <a:t>อาการปัญหา </a:t>
            </a:r>
            <a:r>
              <a:rPr b="1" lang="th-TH" sz="1600" spc="-1" strike="noStrike">
                <a:solidFill>
                  <a:srgbClr val="0000ff"/>
                </a:solidFill>
                <a:latin typeface="Tahoma"/>
                <a:ea typeface="Arial"/>
              </a:rPr>
              <a:t>(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Symptom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>
            <a:hlinkClick r:id="rId2" action="ppaction://hlinksldjump"/>
          </p:cNvPr>
          <p:cNvSpPr/>
          <p:nvPr/>
        </p:nvSpPr>
        <p:spPr>
          <a:xfrm>
            <a:off x="3348000" y="836640"/>
            <a:ext cx="2448000" cy="357120"/>
          </a:xfrm>
          <a:prstGeom prst="flowChartProcess">
            <a:avLst/>
          </a:prstGeom>
          <a:solidFill>
            <a:srgbClr val="ff9966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199"/>
                </a:solidFill>
                <a:latin typeface="Tahoma"/>
                <a:ea typeface="Arial"/>
              </a:rPr>
              <a:t>1.</a:t>
            </a:r>
            <a:r>
              <a:rPr b="1" lang="th-TH" sz="1600" spc="-1" strike="noStrike">
                <a:solidFill>
                  <a:srgbClr val="010199"/>
                </a:solidFill>
                <a:latin typeface="Tahoma"/>
                <a:cs typeface="Arial"/>
              </a:rPr>
              <a:t>ปัญหา </a:t>
            </a:r>
            <a:r>
              <a:rPr b="1" lang="th-TH" sz="1600" spc="-1" strike="noStrike">
                <a:solidFill>
                  <a:srgbClr val="010199"/>
                </a:solidFill>
                <a:latin typeface="Tahoma"/>
                <a:ea typeface="Arial"/>
              </a:rPr>
              <a:t>(</a:t>
            </a:r>
            <a:r>
              <a:rPr b="1" lang="en-US" sz="1600" spc="-1" strike="noStrike">
                <a:solidFill>
                  <a:srgbClr val="010199"/>
                </a:solidFill>
                <a:latin typeface="Tahoma"/>
                <a:ea typeface="Arial"/>
              </a:rPr>
              <a:t>Problem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>
            <a:hlinkClick r:id="rId3" action="ppaction://hlinksldjump"/>
          </p:cNvPr>
          <p:cNvSpPr/>
          <p:nvPr/>
        </p:nvSpPr>
        <p:spPr>
          <a:xfrm>
            <a:off x="3348000" y="1482840"/>
            <a:ext cx="2448000" cy="361800"/>
          </a:xfrm>
          <a:prstGeom prst="flowChartProcess">
            <a:avLst/>
          </a:prstGeom>
          <a:solidFill>
            <a:srgbClr val="cc33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2. </a:t>
            </a:r>
            <a:r>
              <a:rPr b="1" lang="th-TH" sz="1600" spc="-1" strike="noStrike">
                <a:solidFill>
                  <a:srgbClr val="ffffff"/>
                </a:solidFill>
                <a:latin typeface="Tahoma"/>
                <a:cs typeface="Arial"/>
              </a:rPr>
              <a:t>สาเหตุ </a:t>
            </a:r>
            <a:r>
              <a:rPr b="1" lang="th-TH" sz="1600" spc="-1" strike="noStrike">
                <a:solidFill>
                  <a:srgbClr val="ffffff"/>
                </a:solidFill>
                <a:latin typeface="Tahoma"/>
                <a:ea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Arial"/>
              </a:rPr>
              <a:t>Cau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>
            <a:hlinkClick r:id="rId4" action="ppaction://hlinksldjump"/>
          </p:cNvPr>
          <p:cNvSpPr/>
          <p:nvPr/>
        </p:nvSpPr>
        <p:spPr>
          <a:xfrm>
            <a:off x="3398760" y="2128680"/>
            <a:ext cx="2360520" cy="719280"/>
          </a:xfrm>
          <a:prstGeom prst="flowChartProcess">
            <a:avLst/>
          </a:prstGeom>
          <a:solidFill>
            <a:srgbClr val="3366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Arial"/>
              </a:rPr>
              <a:t>4.</a:t>
            </a:r>
            <a:r>
              <a:rPr b="1" lang="th-TH" sz="1600" spc="-1" strike="noStrike">
                <a:solidFill>
                  <a:srgbClr val="ffff00"/>
                </a:solidFill>
                <a:latin typeface="Tahoma"/>
                <a:cs typeface="Arial"/>
              </a:rPr>
              <a:t>แนวทางแก้ไขปัญห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Tahoma"/>
                <a:ea typeface="Arial"/>
              </a:rPr>
              <a:t>(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Arial"/>
              </a:rPr>
              <a:t>Solutions Approac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Tahoma"/>
                <a:cs typeface="Tahoma"/>
              </a:rPr>
              <a:t>โดยกำหนดจากสาเหต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>
            <a:hlinkClick r:id="rId5" action="ppaction://hlinksldjump"/>
          </p:cNvPr>
          <p:cNvSpPr/>
          <p:nvPr/>
        </p:nvSpPr>
        <p:spPr>
          <a:xfrm>
            <a:off x="3419640" y="3141720"/>
            <a:ext cx="2304720" cy="361800"/>
          </a:xfrm>
          <a:prstGeom prst="flowChartPreparation">
            <a:avLst/>
          </a:prstGeom>
          <a:solidFill>
            <a:srgbClr val="66ff33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ff"/>
                </a:solidFill>
                <a:latin typeface="Tahoma"/>
                <a:cs typeface="Arial"/>
              </a:rPr>
              <a:t>วิธีการแก้ไ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>
            <a:hlinkClick r:id="rId6" action="ppaction://hlinksldjump"/>
          </p:cNvPr>
          <p:cNvSpPr/>
          <p:nvPr/>
        </p:nvSpPr>
        <p:spPr>
          <a:xfrm>
            <a:off x="3492360" y="3789360"/>
            <a:ext cx="2159280" cy="43020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ahoma"/>
                <a:cs typeface="Arial"/>
              </a:rPr>
              <a:t>แผนปฏิบัต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>
            <a:hlinkClick r:id="rId7" action="ppaction://hlinksldjump"/>
          </p:cNvPr>
          <p:cNvSpPr/>
          <p:nvPr/>
        </p:nvSpPr>
        <p:spPr>
          <a:xfrm>
            <a:off x="3348000" y="5516640"/>
            <a:ext cx="2448000" cy="506160"/>
          </a:xfrm>
          <a:prstGeom prst="flowChartProcess">
            <a:avLst/>
          </a:prstGeom>
          <a:solidFill>
            <a:srgbClr val="ff99ff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ff"/>
                </a:solidFill>
                <a:latin typeface="Tahoma"/>
                <a:cs typeface="Arial"/>
              </a:rPr>
              <a:t>ผลงาน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/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hi-IN" sz="1600" spc="-1" strike="noStrike">
                <a:solidFill>
                  <a:srgbClr val="0000ff"/>
                </a:solidFill>
                <a:latin typeface="Tahoma"/>
                <a:cs typeface="Arial"/>
              </a:rPr>
              <a:t>ผลสำเร็จ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(</a:t>
            </a:r>
            <a:r>
              <a:rPr b="1" lang="hi-IN" sz="1600" spc="-1" strike="noStrike">
                <a:solidFill>
                  <a:srgbClr val="0000ff"/>
                </a:solidFill>
                <a:latin typeface="Tahoma"/>
                <a:cs typeface="Tahoma"/>
              </a:rPr>
              <a:t>รูปธรรม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>
            <a:hlinkClick r:id="rId8" action="ppaction://hlinksldjump"/>
          </p:cNvPr>
          <p:cNvSpPr/>
          <p:nvPr/>
        </p:nvSpPr>
        <p:spPr>
          <a:xfrm>
            <a:off x="6300720" y="5589720"/>
            <a:ext cx="2016360" cy="35856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Arial"/>
              </a:rPr>
              <a:t>ตัวชี้วัด</a:t>
            </a:r>
            <a:r>
              <a:rPr b="1" lang="th-TH" sz="16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(Indicato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302520" y="3789360"/>
            <a:ext cx="2014560" cy="360360"/>
          </a:xfrm>
          <a:prstGeom prst="flowChartProcess">
            <a:avLst/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Arial"/>
              </a:rPr>
              <a:t>ปรับแผน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(Adjus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0200" y="4797360"/>
            <a:ext cx="1513080" cy="43344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Tahoma"/>
              </a:rPr>
              <a:t>การกำกับดูแ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(Monitorin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>
            <a:hlinkClick r:id="rId9" action="ppaction://hlinksldjump"/>
          </p:cNvPr>
          <p:cNvSpPr/>
          <p:nvPr/>
        </p:nvSpPr>
        <p:spPr>
          <a:xfrm>
            <a:off x="179280" y="549360"/>
            <a:ext cx="2665440" cy="1295280"/>
          </a:xfrm>
          <a:prstGeom prst="flowChartAlternateProcess">
            <a:avLst/>
          </a:prstGeom>
          <a:solidFill>
            <a:srgbClr val="ffffcc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Arial"/>
              </a:rPr>
              <a:t>ข้อมูล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(da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Arial"/>
              </a:rPr>
              <a:t>ความรู้ </a:t>
            </a:r>
            <a:r>
              <a:rPr b="1" lang="th-TH" sz="1600" spc="-1" strike="noStrike">
                <a:solidFill>
                  <a:srgbClr val="0000ff"/>
                </a:solidFill>
                <a:latin typeface="Tahoma"/>
                <a:ea typeface="Arial"/>
              </a:rPr>
              <a:t>(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knowledg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Arial"/>
              </a:rPr>
              <a:t>ประสบการณ์ </a:t>
            </a:r>
            <a:r>
              <a:rPr b="1" lang="th-TH" sz="1600" spc="-1" strike="noStrike">
                <a:solidFill>
                  <a:srgbClr val="0000ff"/>
                </a:solidFill>
                <a:latin typeface="Tahoma"/>
                <a:ea typeface="Arial"/>
              </a:rPr>
              <a:t>(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experienc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Arial"/>
              </a:rPr>
              <a:t>ความชำนาญ </a:t>
            </a:r>
            <a:r>
              <a:rPr b="1" lang="th-TH" sz="1600" spc="-1" strike="noStrike">
                <a:solidFill>
                  <a:srgbClr val="0000ff"/>
                </a:solidFill>
                <a:latin typeface="Tahoma"/>
                <a:ea typeface="Arial"/>
              </a:rPr>
              <a:t>(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expertis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Tahoma"/>
              </a:rPr>
              <a:t>ด้วยแนวคิดเชิงบว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>
            <a:hlinkClick r:id="rId10" action="ppaction://hlinksldjump"/>
          </p:cNvPr>
          <p:cNvSpPr/>
          <p:nvPr/>
        </p:nvSpPr>
        <p:spPr>
          <a:xfrm>
            <a:off x="7701120" y="1625760"/>
            <a:ext cx="863280" cy="720720"/>
          </a:xfrm>
          <a:prstGeom prst="wedgeRoundRectCallout">
            <a:avLst>
              <a:gd name="adj1" fmla="val -71324"/>
              <a:gd name="adj2" fmla="val 71805"/>
              <a:gd name="adj3" fmla="val 16667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ff"/>
                </a:solidFill>
                <a:latin typeface="Tahoma"/>
                <a:cs typeface="Arial"/>
              </a:rPr>
              <a:t>ข้อด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ff"/>
                </a:solidFill>
                <a:latin typeface="Tahoma"/>
                <a:cs typeface="Arial"/>
              </a:rPr>
              <a:t>ข้อเสีย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04000" y="2305080"/>
            <a:ext cx="10792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72360" y="2089080"/>
            <a:ext cx="595080" cy="476280"/>
          </a:xfrm>
          <a:custGeom>
            <a:avLst/>
            <a:gdLst/>
            <a:ahLst/>
            <a:rect l="l" t="t" r="r" b="b"/>
            <a:pathLst>
              <a:path w="363" h="454">
                <a:moveTo>
                  <a:pt x="363" y="0"/>
                </a:moveTo>
                <a:lnTo>
                  <a:pt x="0" y="0"/>
                </a:lnTo>
                <a:lnTo>
                  <a:pt x="0" y="454"/>
                </a:lnTo>
                <a:lnTo>
                  <a:pt x="363" y="454"/>
                </a:lnTo>
              </a:path>
            </a:pathLst>
          </a:custGeom>
          <a:noFill/>
          <a:ln w="9360">
            <a:solidFill>
              <a:srgbClr val="ffff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34040" y="1811160"/>
            <a:ext cx="4176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Tahoma"/>
                <a:ea typeface="Arial"/>
              </a:rPr>
              <a:t>1</a:t>
            </a:r>
            <a:r>
              <a:rPr b="1" lang="th-TH" sz="16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Tahoma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Tahoma"/>
                <a:ea typeface="Arial"/>
              </a:rPr>
              <a:t>2</a:t>
            </a:r>
            <a:r>
              <a:rPr b="1" lang="th-TH" sz="16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Tahoma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Tahoma"/>
                <a:ea typeface="Arial"/>
              </a:rPr>
              <a:t>3</a:t>
            </a:r>
            <a:r>
              <a:rPr b="1" lang="th-TH" sz="16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Tahoma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38320" y="906480"/>
            <a:ext cx="338400" cy="216000"/>
          </a:xfrm>
          <a:prstGeom prst="rightArrow">
            <a:avLst>
              <a:gd name="adj1" fmla="val 50000"/>
              <a:gd name="adj2" fmla="val 39167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987640" y="4870440"/>
            <a:ext cx="324000" cy="2160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298560" y="162864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ahoma"/>
                <a:cs typeface="Arial"/>
              </a:rPr>
              <a:t>ทางเลือ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>
            <a:hlinkClick r:id="rId11" action="ppaction://hlinksldjump"/>
          </p:cNvPr>
          <p:cNvSpPr/>
          <p:nvPr/>
        </p:nvSpPr>
        <p:spPr>
          <a:xfrm>
            <a:off x="6378480" y="2637000"/>
            <a:ext cx="857520" cy="28728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Cau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796000" y="3859200"/>
            <a:ext cx="360360" cy="217440"/>
          </a:xfrm>
          <a:prstGeom prst="leftArrow">
            <a:avLst>
              <a:gd name="adj1" fmla="val 50000"/>
              <a:gd name="adj2" fmla="val 41432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61000"/>
            <a:ext cx="360360" cy="216000"/>
          </a:xfrm>
          <a:prstGeom prst="leftArrow">
            <a:avLst>
              <a:gd name="adj1" fmla="val 50000"/>
              <a:gd name="adj2" fmla="val 41708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2924280"/>
            <a:ext cx="466920" cy="144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3575160"/>
            <a:ext cx="432000" cy="14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4365720"/>
            <a:ext cx="432000" cy="14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4392720" y="619920"/>
            <a:ext cx="466560" cy="144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906480"/>
            <a:ext cx="470160" cy="216000"/>
          </a:xfrm>
          <a:prstGeom prst="leftRightArrow">
            <a:avLst>
              <a:gd name="adj1" fmla="val 50000"/>
              <a:gd name="adj2" fmla="val 4333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92720" y="1914480"/>
            <a:ext cx="466560" cy="144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48000" y="4581360"/>
            <a:ext cx="2376360" cy="650880"/>
          </a:xfrm>
          <a:prstGeom prst="flowChartProcess">
            <a:avLst/>
          </a:prstGeom>
          <a:solidFill>
            <a:srgbClr val="00ff99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Tahoma"/>
              </a:rPr>
              <a:t>การนำแผนไปปฏิบัต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(Implement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356000" y="5303880"/>
            <a:ext cx="432000" cy="146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302520" y="4724280"/>
            <a:ext cx="2014560" cy="36036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Arial"/>
              </a:rPr>
              <a:t>ปรับแผน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(Adjus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867280" y="4795920"/>
            <a:ext cx="360360" cy="215640"/>
          </a:xfrm>
          <a:prstGeom prst="leftArrow">
            <a:avLst>
              <a:gd name="adj1" fmla="val 50000"/>
              <a:gd name="adj2" fmla="val 41778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3213000"/>
            <a:ext cx="360360" cy="217440"/>
          </a:xfrm>
          <a:prstGeom prst="leftArrow">
            <a:avLst>
              <a:gd name="adj1" fmla="val 50000"/>
              <a:gd name="adj2" fmla="val 41432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3211560"/>
            <a:ext cx="360360" cy="218880"/>
          </a:xfrm>
          <a:prstGeom prst="rightArrow">
            <a:avLst>
              <a:gd name="adj1" fmla="val 50000"/>
              <a:gd name="adj2" fmla="val 41160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00720" y="3070080"/>
            <a:ext cx="2627280" cy="505080"/>
          </a:xfrm>
          <a:prstGeom prst="flowChartProcess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Tahoma"/>
              </a:rPr>
              <a:t>การ</a:t>
            </a: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Arial"/>
              </a:rPr>
              <a:t>ป</a:t>
            </a: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Tahoma"/>
              </a:rPr>
              <a:t>้องกัน</a:t>
            </a:r>
            <a:r>
              <a:rPr b="1" lang="th-TH" sz="1600" spc="-1" strike="noStrike">
                <a:solidFill>
                  <a:srgbClr val="0000ff"/>
                </a:solidFill>
                <a:latin typeface="Tahoma"/>
                <a:ea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(Preven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Tahoma"/>
              </a:rPr>
              <a:t>ปัญหาที่จะเกิดขึ้นในอนาค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5280" y="3073320"/>
            <a:ext cx="2448000" cy="573120"/>
          </a:xfrm>
          <a:prstGeom prst="flowChartProcess">
            <a:avLst/>
          </a:prstGeom>
          <a:solidFill>
            <a:srgbClr val="ffffcc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Tahoma"/>
              </a:rPr>
              <a:t>การแก้ปัญหา</a:t>
            </a:r>
            <a:r>
              <a:rPr b="1" lang="th-TH" sz="1600" spc="-1" strike="noStrike">
                <a:solidFill>
                  <a:srgbClr val="0000ff"/>
                </a:solidFill>
                <a:latin typeface="Tahoma"/>
                <a:ea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Arial"/>
              </a:rPr>
              <a:t>(Solvin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Tahoma"/>
              </a:rPr>
              <a:t>ที่เกิดขึ้นจากสาเหตุในอดี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5280" y="2060640"/>
            <a:ext cx="2448000" cy="720720"/>
          </a:xfrm>
          <a:prstGeom prst="flowChartProcess">
            <a:avLst/>
          </a:prstGeom>
          <a:solidFill>
            <a:srgbClr val="ffff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1 + 2 + 3 = 4       Pl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With Positive Thin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916360" y="234936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429264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-36360" y="530064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>
            <a:hlinkClick r:id="rId12" action="ppaction://hlinksldjump"/>
          </p:cNvPr>
          <p:cNvSpPr/>
          <p:nvPr/>
        </p:nvSpPr>
        <p:spPr>
          <a:xfrm>
            <a:off x="34920" y="44280"/>
            <a:ext cx="2808360" cy="360360"/>
          </a:xfrm>
          <a:prstGeom prst="flowChartProcess">
            <a:avLst/>
          </a:prstGeom>
          <a:solidFill>
            <a:srgbClr val="0000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Tahoma"/>
                <a:cs typeface="Tahoma"/>
              </a:rPr>
              <a:t>ขั้นศึกษา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Tahoma"/>
              </a:rPr>
              <a:t>(Studying Proc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>
            <a:hlinkClick r:id="rId13" action="ppaction://hlinksldjump"/>
          </p:cNvPr>
          <p:cNvSpPr/>
          <p:nvPr/>
        </p:nvSpPr>
        <p:spPr>
          <a:xfrm>
            <a:off x="34920" y="4363920"/>
            <a:ext cx="2952720" cy="360360"/>
          </a:xfrm>
          <a:prstGeom prst="flowChartProcess">
            <a:avLst/>
          </a:prstGeom>
          <a:solidFill>
            <a:srgbClr val="0000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Tahoma"/>
                <a:cs typeface="Tahoma"/>
              </a:rPr>
              <a:t>ขั้นปฏิบัติ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Tahoma"/>
              </a:rPr>
              <a:t>(Operation Proc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>
            <a:hlinkClick r:id="rId14" action="ppaction://hlinksldjump"/>
          </p:cNvPr>
          <p:cNvSpPr/>
          <p:nvPr/>
        </p:nvSpPr>
        <p:spPr>
          <a:xfrm>
            <a:off x="34920" y="5373720"/>
            <a:ext cx="3168720" cy="360360"/>
          </a:xfrm>
          <a:prstGeom prst="flowChartProcess">
            <a:avLst/>
          </a:prstGeom>
          <a:solidFill>
            <a:srgbClr val="0000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Tahoma"/>
                <a:cs typeface="Tahoma"/>
              </a:rPr>
              <a:t>ขั้นผลการปฏิบัติ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  <a:ea typeface="Tahoma"/>
              </a:rPr>
              <a:t>(Result Proc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>
            <a:hlinkClick r:id="rId15" action="ppaction://hlinksldjump"/>
          </p:cNvPr>
          <p:cNvSpPr/>
          <p:nvPr/>
        </p:nvSpPr>
        <p:spPr>
          <a:xfrm>
            <a:off x="3348000" y="6311880"/>
            <a:ext cx="2448000" cy="476280"/>
          </a:xfrm>
          <a:prstGeom prst="flowChartProcess">
            <a:avLst/>
          </a:prstGeom>
          <a:solidFill>
            <a:srgbClr val="ccff66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ff"/>
                </a:solidFill>
                <a:latin typeface="Tahoma"/>
                <a:cs typeface="Tahoma"/>
              </a:rPr>
              <a:t>ข้อมูลย้อนกลั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Tahoma"/>
              </a:rPr>
              <a:t>(Feed Back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79640" y="2205000"/>
            <a:ext cx="217440" cy="219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>
            <a:hlinkClick r:id="rId16" action="ppaction://hlinksldjump"/>
          </p:cNvPr>
          <p:cNvSpPr/>
          <p:nvPr/>
        </p:nvSpPr>
        <p:spPr>
          <a:xfrm>
            <a:off x="6443640" y="690480"/>
            <a:ext cx="1873440" cy="576360"/>
          </a:xfrm>
          <a:prstGeom prst="flowChartProcess">
            <a:avLst/>
          </a:prstGeom>
          <a:solidFill>
            <a:srgbClr val="66ff33"/>
          </a:solidFill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  <a:ea typeface="Tahoma"/>
              </a:rPr>
              <a:t>3. </a:t>
            </a:r>
            <a:r>
              <a:rPr b="1" lang="hi-IN" sz="1600" spc="-1" strike="noStrike">
                <a:solidFill>
                  <a:srgbClr val="0000cc"/>
                </a:solidFill>
                <a:latin typeface="Tahoma"/>
                <a:cs typeface="Tahoma"/>
              </a:rPr>
              <a:t>เป้าหมาย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  <a:ea typeface="Tahoma"/>
              </a:rPr>
              <a:t>(</a:t>
            </a:r>
            <a:r>
              <a:rPr b="1" lang="hi-IN" sz="1600" spc="-1" strike="noStrike">
                <a:solidFill>
                  <a:srgbClr val="0000cc"/>
                </a:solidFill>
                <a:latin typeface="Tahoma"/>
                <a:cs typeface="Tahoma"/>
              </a:rPr>
              <a:t>นามธรรม</a:t>
            </a:r>
            <a:r>
              <a:rPr b="1" lang="en-US" sz="1600" spc="-1" strike="noStrike">
                <a:solidFill>
                  <a:srgbClr val="0000cc"/>
                </a:solidFill>
                <a:latin typeface="Tahoma"/>
                <a:ea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392720" y="1266120"/>
            <a:ext cx="46656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356000" y="6095880"/>
            <a:ext cx="432000" cy="146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179280" y="468144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ใบกำกับภาษี ใบเพิ่มหนี้ ใบลดหนี้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6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–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6/14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747880" y="115920"/>
            <a:ext cx="3681360" cy="82548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2 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572000" y="907920"/>
            <a:ext cx="1440" cy="238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762280" y="1154160"/>
            <a:ext cx="3681360" cy="108108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Point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 -78/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กระทรวง 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572000" y="1916280"/>
            <a:ext cx="144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771640" y="2133720"/>
            <a:ext cx="3681720" cy="7887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 - 79/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4572000" y="2924280"/>
            <a:ext cx="144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771640" y="3141720"/>
            <a:ext cx="3681720" cy="7887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0- 80/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72000" y="3933720"/>
            <a:ext cx="14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771640" y="4149720"/>
            <a:ext cx="368172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79280" y="544500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78fb3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cs typeface="Microsoft Sans Serif"/>
              </a:rPr>
              <a:t>การคำนวณภาษี 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e4e917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82/3 – 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82/1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79280" y="587700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การยื่นรายการและการชำระภาษี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3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-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3/10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79280" y="5000760"/>
            <a:ext cx="864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การจัดทำรายงานและการเก็บรักษาหลักฐานและเอกสาร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7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–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7/3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79280" y="630864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78fb3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cs typeface="Microsoft Sans Serif"/>
              </a:rPr>
              <a:t>การขอคืนภาษีมูลค่าเพิ่ม 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e4e917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84 – 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 84/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ไล่สายการจัดการภาษีมูลค่าเพิ่ม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ลือกรูปแบบในการประกอบธุรกิ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ดทะเบียน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ิจการขายสินค้าหรือให้บริ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ในการเสีย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ใบกำกับภาษีเมื่อความรับผิดฯ เกิดขึ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ทำรายงาน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นวณ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ื่นแบบแสดงรายการ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ำระหรือขอคืน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1403280" y="981000"/>
            <a:ext cx="6264360" cy="5040360"/>
          </a:xfrm>
          <a:custGeom>
            <a:avLst/>
            <a:gdLst>
              <a:gd name="textAreaLeft" fmla="*/ 1472040 w 6264360"/>
              <a:gd name="textAreaRight" fmla="*/ 4788000 w 6264360"/>
              <a:gd name="textAreaTop" fmla="*/ 592560 h 5040360"/>
              <a:gd name="textAreaBottom" fmla="*/ 3161520 h 504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กิจกรรมที่อยู่ในข่ายต้องเสียภาษีมูลค่าเพิ่ม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99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3399ff"/>
                </a:solidFill>
                <a:latin typeface="Microsoft Sans Serif"/>
                <a:ea typeface="Microsoft Sans Serif"/>
              </a:rPr>
              <a:t>77/2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ระทำดังกิจการดังต่อไปนี้ ในราชอาณาจัก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อยู่ในบังคับต้องเสียภาษีมูลค่าเพิ่ม ตามบทบัญญัติในหมวด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หรือการให้บริการโดยผู้ประกอบ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เข้าสินค้าโดยผู้นำเข้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ในราชอาณาจักรให้หมายถึง บริการที่ทำในราชอาณาจักร โดยไม่คำนึงว่าการใช้บริการนั้น จะอยู่ในต่าง ประเทศ หรือในราชอาณาจั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ที่ทำในต่างประเทศ และได้มีการใช้บริการนั้นในราชอาณาจักร ให้ถือว่า การให้บริการนั้นเป็นการให้บริการในราชอาณาจั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การจัดเก็บภาษีอากร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มประมวลรัษฎ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250920" y="1395360"/>
          <a:ext cx="8713800" cy="5019840"/>
        </p:xfrm>
        <a:graphic>
          <a:graphicData uri="http://schemas.openxmlformats.org/drawingml/2006/table">
            <a:tbl>
              <a:tblPr/>
              <a:tblGrid>
                <a:gridCol w="2160360"/>
                <a:gridCol w="1800360"/>
                <a:gridCol w="475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เภทภาษ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ทบัญญัต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P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แหล่งเงินได้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ถิ่นที่อยู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แหล่งเงินได้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ถิ่นที่อยู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7/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ประกอบกิจการขายสินค้าในทางธุรกิจหรือวิชาชีพโดยบุคคลใดๆ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นำเข้าสิน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ประกอบกิจการโดยผู้ประกอบกิจ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SD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ากรแสตมป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กระทำตราสารตามลักษณะตราสารที่กำหนด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28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ลักษณะตราสาร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ขายสินค้าในทางธุรกิจหรือวิชาชีพ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นราชอาณาจักรโดยผู้ประกอบการ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ย”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จำหน่าย จ่าย โอนสินค้า โดยได้รับประโยชน์หรือค่าตอบแทน ได้แก่ การขายสินค้าโดยทั่วไป การแลกเปลี่ย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Barter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de-in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ารจำหน่าย จ่าย โอนสินค้าโดยไม่ได้รับประโยชน์หรือค่าตอบแทน ได้แก่ การแจก การแถม การให้ การบริจาคสินค้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อกจากนี้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ขาย”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ยังหมายความรวมถึงกรณีดัง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ญญาให้เช่าซื้อสินค้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Hire Purchas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ญญาซื้อขายผ่อนชำระที่กรรมสิทธิ์ในสินค้ายังไม่โอนไปยังผู้ซื้อ เมื่อได้ส่งมอบสินค้าให้ผู้ซื้อแล้ว หรื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ญญาจะขายสินค้าที่เป็นไปตามหลักเกณฑ์ และเงื่อนไขที่อธิบดีกรมสรรพากรกำหนด โดยอนุมัติรัฐมนตรีว่า การกระทรวงการคลั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มอบสินค้าให้ตัวแทนเพื่อขา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ฝากข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412880" y="317664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emed S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ขายสินค้าในทางธุรกิจหรือวิชาชีพ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นราชอาณาจักรโดยผู้ประกอบการ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สินค้าออกนอกราชอาณาจั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่งออ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“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ออก”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ส่งสินค้าออกไปนอกราชอาณาจักรเพื่อส่งไปต่างประเทศและให้หมายความรวมถึง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7/254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สินค้าในราชอาณาจักร เข้าไปในเขตปลอดอากร เฉพาะสินค้าที่ต้องเสียอากรขาออกหรือที่ได้รับยกเว้นอากรขาออกตามตามแบบ หลักเกณฑ์ วิธีการ และเงื่อนไขตามกฎหมายว่าด้วยศุลกา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ของคลังสินค้าทัณฑ์บนประเภทร้านค้าปลอดอากรตามกฎหมายว่าด้วยศุลกากรที่ขายให้แก่ผู้ที่เดินทางออกไปนอกราชอาณาจักรตามแบบ หลักเกณฑ์ วิธีการ และเงื่อนไขตามกฎหมายว่าด้วยศุลก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1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กาศอธิบดีฯ เกี่ยวกับ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269560" y="2492280"/>
            <a:ext cx="5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526520" y="40514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ty F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ขายสินค้าในทางธุรกิจหรือวิชาชีพ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นราชอาณาจักรโดยผู้ประกอบการ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สินค้าไปใช้ไม่ว่าประการใดๆ  เว้นแต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280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สินค้าไปใช้ในการผลิตสินค้า การให้บริการ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การบริหารงานของกิจการ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หรือเพื่อประโยชน์ของทรัพย์สินที่มีไว้ในการประกอบกิจการของตนเอ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280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ต้องเป็นการใช้ในกิจการที่อยู่ในบังคับที่ต้องเสียภาษี 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280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นึ่ง สินค้าดังกล่าวต้องมิใช่รถยนต์นั่ง หรือรถยนต์โดยสารที่มีที่นั่ง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ตามกฎหมายว่าด้วยพิกัดอัตราภาษีสรรพสามิต และสินค้าหรือบริการที่เกี่ยวข้องกับรถยนต์ดังกล่า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280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ไม่รวมถึงการนำรถยนต์ประเภทดังกล่าวไปไว้ในสถานแสดงรถยนต์เพื่อขาย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อธิบดีฯ เกี่ยวกับภาษีมูลค่าเพิ่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ขายสินค้าในทางธุรกิจหรือวิชาชีพ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นราชอาณาจักรโดยผู้ประกอบการ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สินค้าขาดจากรายงานสินค้าและวัตถุดิบ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7(3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7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สินค้าคงเหลือ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หรือทรัพย์สินที่ผู้ประกอบการมีไว้ในการประกอบกิจการ ณ วันเลิกประกอบกิจการ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ไม่รวมถึงสินค้าคงเหลือ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หรือทรัพย์สินดังกล่าวของผู้ประกอบการ ซึ่งได้ควบเข้ากันหรือได้โอนกิจการทั้งหมดให้แก่กัน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ใหม่อันได้ควบเข้ากันหรือผู้รับโอนกิจการต้องอยู่ในบังคับที่ต้องเสียภาษีมูลค่าเพิ่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7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อื่นตามที่กำหนดในกฎกระทรวง 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8 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34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ลิกกิจการ เพิกถอนทะเบีย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ิกประกอบกิจการ ดู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ให้อธิบดีกรมสรรพากรสั่งถอนทะเบียนภาษีมูลค่า เพิ่ม 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ั่งเพิกถอนทะเบียนภาษีมูลค่าเพิ่มโดยอธิบดีกรมสรรพากร 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ินค้าในระบบ 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3399ff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2800" spc="-1" strike="noStrike">
                <a:solidFill>
                  <a:srgbClr val="3399ff"/>
                </a:solidFill>
                <a:latin typeface="Microsoft Sans Serif"/>
                <a:cs typeface="Microsoft Sans Serif"/>
              </a:rPr>
              <a:t>สินค้า”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ทรัพย์สินที่มีรูปร่าง และไม่มีรูปร่าง ที่อาจมีราคาและถือเอาได้ ไม่ว่าจะมีไว้เพื่อขาย เพื่อใช้ หรือเพื่อการใดๆ รวมทั้งสิ่งของทุกชนิดที่นำเข้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9)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จจำแนกได้ดัง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2360" indent="-277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สำเร็จรูป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Finished Goods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FG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2360" indent="-27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ตถุดิบ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Raw Material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RM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2360" indent="-27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านระหว่างทำ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Work in Process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WIP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2360" indent="-277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ถาวรที่มีรูปร่าง เช่น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ครื่องจักร เครื่องมือ เครื่องใช้ ยานพาหน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2360" indent="-277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ถาวรที่ไม่มีรูปร่าง เช่น ลิขสิทธิ์ หรือสิทธิอย่างอื่น สิทธิการเช่า สิทธิบัตร เครื่องหมายการค้า สูตร กรรมวิธ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82360" indent="-277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อื่นใดที่ผู้ประกอบการมีไว้เพื่อใช้หรือเพื่อการใดๆ เช่น สิ่งของที่ซื้อมาเพื่อใช้เป็นรางวัล หรือเพื่อแจกให้แก่พนักงานหรือบุคคลใดๆ เพื่อใช้ใน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ว่าทั้งหมดหรือบางส่วนเป็นต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144000" y="1371600"/>
            <a:ext cx="8999640" cy="392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คิดเล็กคิดน้อย แต่คิดโดยละเอียดรอบคอบ เป็นระบ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คิดสั้นหรือคิดสั้นๆ เอาตัวรอดคนเดียว แต่คิดครอบคลุม ทั่วถึง ยาวไกล อย่างมีวิสัยทัศน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คิดเนรคุณ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คนหายา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คิดทำบาปทั้งปวง ละอายต่อบาป เกรงกลัวบา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คิดเห็นแก่ตัว ไม่มีอคต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33360"/>
            <a:ext cx="21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28000" y="287280"/>
            <a:ext cx="749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Executive’s Positive Thin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AC17-FBCD-4515-BB8D-E49BE884A1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ให้เช่าซื้อสินค้า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85560" y="1557000"/>
            <a:ext cx="850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การขายสินค้า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8)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ในการเสียภาษีมูลค่าเพิ่ม เป็นไป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คำสั่งกรมสรรพากรที่ 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/253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คำสั่งกรมสรรพากรที่ ท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/2528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ก้ไขเพิ่มเติมโดย ท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5/2549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(5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ญญาเช่าซื้อต้องปิดแสตมป์บริบูรณ์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ลักษณะตราสาร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539640" y="1557360"/>
            <a:ext cx="8280360" cy="309564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78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รณียกเว้น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ืชผลทางการเกษตร ไม่ว่าจะเป็นส่วนใดของพืช และผลพลอยได้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1(1)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ัตว์ ไม่ว่าจะเป็นส่วนใดของสัตว์ และผลพลอยได้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1(1)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ข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ปุ๋ย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1(1)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ปลาป่น อาหารสัตว์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1(1)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ยา เคม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ี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ัณฑ์ เพื่อบำรุง รักษา ป้องกัน ทำลาย หรือกำจัดศัตรูหรือโรคของพืชและสัตว์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1(1)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นังสือพิมพ์ นิตยสาร ตำราเรียน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1(1)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ยาสูบของโรงงานยาสูบที่ขายโดยบุคคลอื่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ของที่นำเข้าซึ่งได้รับยกเว้นอากรขาเข้าตามกฎหมายศุลก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title"/>
          </p:nvPr>
        </p:nvSpPr>
        <p:spPr>
          <a:xfrm>
            <a:off x="456840" y="259920"/>
            <a:ext cx="8147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ินค้าที่ไม่อยู่ในข่ายต้องเสีย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ินค้าที่ได้รับยกเว้นภาษีมูลค่าเพิ่ม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81(1)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– (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สำหรับการขายสินค้าดังกล่าวในราชอาณาจั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ว่าจะมีมูลค่าของฐานภาษีเป็นจำนวนเท่าใดก็ตา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สำหรับการส่งออกสินค้าดังกล่าวเป็นกิจการที่อยู่ในบังคับที่ต้องเสียภาษีมูลค่าเพิ่ม ทั้งนี้ ภายใต้บังคับ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/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ของฐานภาษีในปีหนึ่งปีใดเกินกว่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ขายสินค้าในราชอาณาจักรมีสิทธิขอเข้าสู่ระบบภาษีมูลค่าเพิ่ม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/3(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นำเข้าสินค้าดังกล่าว ได้รับยกเว้นภาษีมูลค่าเพิ่ม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147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ินค้าที่ไม่อยู่ในข่ายต้องเสีย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ไม่อยู่ในข่ายที่ต้องเสี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ธนบัตร เหรียญกษาปณ์ ตั๋วเงิน บัตรกำนั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บัตรภาษี ดูคำวินิจฉัยของคณะกรรมการวินิจฉัยภาษีอากรที่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6/25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ash Card by Magic Card Co. Lt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ทองคำแท่ง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=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งินตรา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ินค้าในระบบภาษีธุรกิจเฉพาะ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อสังหาริมทรัพย์ ของที่จำนำหลุดเป็นสิทธิแก่ผู้รับจำนำ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ินค้าในต่างประเทศ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ทรัพย์สินใดๆ บรรดาที่ใช้ในระบบภาษีธุรกิจเฉพาะเป็นต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1332000" y="5983200"/>
            <a:ext cx="3671640" cy="459720"/>
          </a:xfrm>
          <a:prstGeom prst="rect">
            <a:avLst/>
          </a:prstGeom>
          <a:solidFill>
            <a:srgbClr val="0033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ว้นแต่กรณีตามมาตรา 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81/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915080" y="10238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826920" y="404640"/>
            <a:ext cx="3816360" cy="459720"/>
          </a:xfrm>
          <a:prstGeom prst="rect">
            <a:avLst/>
          </a:prstGeom>
          <a:solidFill>
            <a:srgbClr val="003300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ายได้จากการขายสินค้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4360" y="1060560"/>
            <a:ext cx="3989160" cy="720720"/>
          </a:xfrm>
          <a:prstGeom prst="diamond">
            <a:avLst/>
          </a:prstGeom>
          <a:solidFill>
            <a:srgbClr val="0000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ผู้ประกอบ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695680" y="871560"/>
            <a:ext cx="144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700360" y="1773360"/>
            <a:ext cx="0" cy="43164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932360" y="20685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916360" y="2805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700360" y="2860560"/>
            <a:ext cx="0" cy="43344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621400" y="1204920"/>
            <a:ext cx="2911320" cy="459720"/>
          </a:xfrm>
          <a:prstGeom prst="rect">
            <a:avLst/>
          </a:prstGeom>
          <a:solidFill>
            <a:srgbClr val="0033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ิจกรรม </a:t>
            </a: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on 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643280" y="1420920"/>
            <a:ext cx="936720" cy="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643280" y="2502000"/>
            <a:ext cx="2233800" cy="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886120" y="1700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84360" y="2141640"/>
            <a:ext cx="3989160" cy="720720"/>
          </a:xfrm>
          <a:prstGeom prst="diamond">
            <a:avLst/>
          </a:prstGeom>
          <a:solidFill>
            <a:srgbClr val="0000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ย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6877080" y="17092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932360" y="321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916360" y="39560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700360" y="4011480"/>
            <a:ext cx="0" cy="43344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643280" y="3652920"/>
            <a:ext cx="2233800" cy="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84360" y="3292560"/>
            <a:ext cx="3989160" cy="720720"/>
          </a:xfrm>
          <a:prstGeom prst="diamond">
            <a:avLst/>
          </a:prstGeom>
          <a:solidFill>
            <a:srgbClr val="0000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ยในราชอาณาจั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6877080" y="250164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893560" y="30448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ut of VAT 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45320" y="199692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Exe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932360" y="437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916360" y="51069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00360" y="5162400"/>
            <a:ext cx="0" cy="43344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643280" y="4803840"/>
            <a:ext cx="2233800" cy="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4360" y="4443480"/>
            <a:ext cx="3989160" cy="720720"/>
          </a:xfrm>
          <a:prstGeom prst="diamond">
            <a:avLst/>
          </a:prstGeom>
          <a:solidFill>
            <a:srgbClr val="0000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ับรวมเป็นฐานภาษ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6877080" y="365256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911560" y="41958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826920" y="5551560"/>
            <a:ext cx="3673800" cy="459720"/>
          </a:xfrm>
          <a:prstGeom prst="rect">
            <a:avLst/>
          </a:prstGeom>
          <a:solidFill>
            <a:srgbClr val="0033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77/2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086360" y="4869000"/>
            <a:ext cx="45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(1)-(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(#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256640" y="2492280"/>
            <a:ext cx="44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39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7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153760" y="5892840"/>
            <a:ext cx="38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นาดย่อม 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3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ให้บริการในทางธุรกิจหรือวิชาชีพในราชอาณาจักรโดยผู้ประกอบการ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Microsoft Sans Serif"/>
                <a:ea typeface="Microsoft Sans Serif"/>
              </a:rPr>
              <a:t>“</a:t>
            </a:r>
            <a:r>
              <a:rPr b="1" lang="hi-IN" sz="2800" spc="-1" strike="noStrike">
                <a:solidFill>
                  <a:srgbClr val="3399ff"/>
                </a:solidFill>
                <a:latin typeface="Microsoft Sans Serif"/>
                <a:cs typeface="Microsoft Sans Serif"/>
              </a:rPr>
              <a:t>บริการ”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การกระทำใดๆ อันอาจหาประโยชน์อันมีมูลค่าซึ่งมิใช่เป็นการขายสินค้า ทั้งกรณีได้รับประโยชน์หรือค่าตอบแทน และที่ไม่ได้รับประโยชน์หรือค่าตอบ แทน รวมทั้งการใช้บริการของตนเองไม่ว่าประการใดๆ แต่ไม่รวมถึ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บริการหรือการนำสินค้าไปใช้เพื่อประกอบกิจการของตนเองโดยตรง ได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สินค้าไปใช้ในการผลิตสินค้า การให้บริการ การบริหารของกิจการ หรือเพื่อประโยชน์ของทรัพย์สินที่มีไว้ในการประกอบกิจการให้บริการของตนเอ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ต้องเป็นการใช้ในกิจการที่อยู่ในบังคับที่ต้องเสียภาษีมูลค่าเพิ่ม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นึ่ง การให้บริการดังกล่าวต้องมิใช่เพื่อการรับรอง หรือเพื่อการบริการอันมีลักษณะทำนองเดียวกั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อธิบดีฯ เกี่ยวกับภาษีมูลค่าเพิ่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)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ให้บริการในทางธุรกิจหรือวิชาชีพในราชอาณาจักรโดยผู้ประกอบการ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เงินไปหาผลประโยชน์โดยการฝากธนาคาร หรือซื้อพันธบัตร หรือหลักทรัพย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ระทำตามที่อธิบดีกรมสรรพากรกำหนดโดยอนุมัติรัฐมนตรีว่าการกระทรวงการคลั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10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นั้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Microsoft Sans Serif"/>
                <a:ea typeface="Microsoft Sans Serif"/>
              </a:rPr>
              <a:t>“</a:t>
            </a:r>
            <a:r>
              <a:rPr b="1" lang="hi-IN" sz="2800" spc="-1" strike="noStrike">
                <a:solidFill>
                  <a:srgbClr val="3399ff"/>
                </a:solidFill>
                <a:latin typeface="Microsoft Sans Serif"/>
                <a:cs typeface="Microsoft Sans Serif"/>
              </a:rPr>
              <a:t>การให้บริการในราชอาณาจักร”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ถึ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ff33"/>
                </a:solidFill>
                <a:latin typeface="Microsoft Sans Serif"/>
                <a:cs typeface="Microsoft Sans Serif"/>
              </a:rPr>
              <a:t>กรณีที่ </a:t>
            </a:r>
            <a:r>
              <a:rPr b="1" lang="en-US" sz="2800" spc="-1" strike="noStrike">
                <a:solidFill>
                  <a:srgbClr val="66ff33"/>
                </a:solidFill>
                <a:latin typeface="Microsoft Sans Serif"/>
                <a:ea typeface="Microsoft Sans Serif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ที่ทำในราชอาณาจักรและได้มีการใช้บริการนั้นในราชอาณาจั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ff33"/>
                </a:solidFill>
                <a:latin typeface="Microsoft Sans Serif"/>
                <a:cs typeface="Microsoft Sans Serif"/>
              </a:rPr>
              <a:t>กรณีที่ </a:t>
            </a:r>
            <a:r>
              <a:rPr b="1" lang="en-US" sz="2800" spc="-1" strike="noStrike">
                <a:solidFill>
                  <a:srgbClr val="66ff33"/>
                </a:solidFill>
                <a:latin typeface="Microsoft Sans Serif"/>
                <a:ea typeface="Microsoft Sans Serif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ที่ทำในราชอาณาจักรและได้มีการใช้บริการนั้นในต่างประเทศ เช่น การให้บริการนำเที่ยวในต่างประเทศ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ff33"/>
                </a:solidFill>
                <a:latin typeface="Microsoft Sans Serif"/>
                <a:cs typeface="Microsoft Sans Serif"/>
              </a:rPr>
              <a:t>กรณีที่ </a:t>
            </a:r>
            <a:r>
              <a:rPr b="1" lang="en-US" sz="2800" spc="-1" strike="noStrike">
                <a:solidFill>
                  <a:srgbClr val="66ff33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ที่ทำในต่างประเทศ และได้มีการใช้บริการนั้นในราชอาณาจักร ให้ถือว่าเป็นการให้บริการที่กระทำในราชอาณาจักรด้ว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และวรรคสา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1332000" y="5983200"/>
            <a:ext cx="3671640" cy="459720"/>
          </a:xfrm>
          <a:prstGeom prst="rect">
            <a:avLst/>
          </a:prstGeom>
          <a:solidFill>
            <a:srgbClr val="0033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ว้นแต่กรณีตามมาตรา 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81/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915080" y="10238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826920" y="404640"/>
            <a:ext cx="3816360" cy="459720"/>
          </a:xfrm>
          <a:prstGeom prst="rect">
            <a:avLst/>
          </a:prstGeom>
          <a:solidFill>
            <a:srgbClr val="003300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ายได้จากการให้บริ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84360" y="1060560"/>
            <a:ext cx="3989160" cy="720720"/>
          </a:xfrm>
          <a:prstGeom prst="diamond">
            <a:avLst/>
          </a:prstGeom>
          <a:solidFill>
            <a:srgbClr val="0000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ผู้ประกอบ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695680" y="871560"/>
            <a:ext cx="144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700360" y="1773360"/>
            <a:ext cx="0" cy="43164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932360" y="20685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916360" y="2805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700360" y="2860560"/>
            <a:ext cx="0" cy="43344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621400" y="1204920"/>
            <a:ext cx="2911320" cy="459720"/>
          </a:xfrm>
          <a:prstGeom prst="rect">
            <a:avLst/>
          </a:prstGeom>
          <a:solidFill>
            <a:srgbClr val="0033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ิจกรรม </a:t>
            </a: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on 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643280" y="1420920"/>
            <a:ext cx="936720" cy="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643280" y="2502000"/>
            <a:ext cx="2233800" cy="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886120" y="1700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84360" y="2141640"/>
            <a:ext cx="3989160" cy="720720"/>
          </a:xfrm>
          <a:prstGeom prst="diamond">
            <a:avLst/>
          </a:prstGeom>
          <a:solidFill>
            <a:srgbClr val="0000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6877080" y="17092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32360" y="321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916360" y="39560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700360" y="4011480"/>
            <a:ext cx="0" cy="43344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643280" y="3652920"/>
            <a:ext cx="2233800" cy="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84360" y="3292560"/>
            <a:ext cx="3989160" cy="720720"/>
          </a:xfrm>
          <a:prstGeom prst="diamond">
            <a:avLst/>
          </a:prstGeom>
          <a:solidFill>
            <a:srgbClr val="0000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บริการในราชอาณาจั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6877080" y="250164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893560" y="30448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ut of VAT 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845320" y="199692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Exe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932360" y="437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916360" y="51069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700360" y="5162400"/>
            <a:ext cx="0" cy="43344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643280" y="4803840"/>
            <a:ext cx="2233800" cy="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4360" y="4443480"/>
            <a:ext cx="3989160" cy="720720"/>
          </a:xfrm>
          <a:prstGeom prst="diamond">
            <a:avLst/>
          </a:prstGeom>
          <a:solidFill>
            <a:srgbClr val="0000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ับรวมเป็นฐานภาษ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6877080" y="365256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911560" y="41958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26920" y="5551560"/>
            <a:ext cx="3673800" cy="459720"/>
          </a:xfrm>
          <a:prstGeom prst="rect">
            <a:avLst/>
          </a:prstGeom>
          <a:solidFill>
            <a:srgbClr val="0033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77/2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086360" y="4869000"/>
            <a:ext cx="45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(1)-(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(#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256640" y="2492280"/>
            <a:ext cx="44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39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7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777560" y="5460840"/>
            <a:ext cx="40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ทั้งการนำเที่ยวในต่างประเท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ริการที่ได้ให้ในต่างประเทศ</a:t>
            </a:r>
            <a:br>
              <a:rPr sz="3600"/>
            </a:b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มีการใช้บริการนั้นในราชอาณาจักร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ารบัญญัติจัดเก็บภาษีมูลค่าเพิ่มตามหลักปลายทา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stination Principl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การให้บริการในราชอาณาจักร 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าม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ในการเสียภาษีมูลค่าเพิ่ม เป็นไป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/1 (3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ื่อมีการชำระค่าบริ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ผู้จ่ายค่าบริการมีหน้าที่นำส่งภาษีมูลค่าเพิ่ม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6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้วยแบบ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Destination Principle: Import Servic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79280" y="1324080"/>
            <a:ext cx="878544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ท้าย กรณ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ที่ทำในต่างประเทศ และได้มีการใช้บริการนั้นในราชอาณาจั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การให้บริการที่กระทำในราชอาณาจักร เพื่อประโยชน์ในการบริหารการจัดเก็บภาษีมูลค่าเพิ่ม เพราะกรมศุลกากรไม่สามารถจัดเก็บภาษีมูลค่าเพิ่มจากบริการที่นำเข้าได้เนื่องจากข้อจำกัดด้านกฎหม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/1(3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ในการเสียภาษีมูลค่าเพิ่มเกิดขึ้นเมื่อมีการชำระราคาค่าบริ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6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ผู้ชำระค่าบริการมีหน้าที่นำส่งภาษีมูลค่าเพิ่มตามแบบ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น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เดือนถัดไ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เสร็จรับเงินค่าภาษีมูลค่าเพิ่มถือเป็นใบกำกับภาษี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ที่นำส่งถือเป็นภาษีซื้อ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1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89080" y="1440000"/>
            <a:ext cx="8604000" cy="37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1. Systematic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2. Vision; Forecasting, Scenario, Thinking to Solve the Problem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3. Do not be Ungrateful/ Bet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4. Try to do the Best, Creativ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5. Do not be Selfish, Do not Bi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28000" y="471600"/>
            <a:ext cx="749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Executive’s Positive Thin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431-FEBE-44F8-AEB2-3377BA0FB4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ัตราภาษีมูลค่าเพิ่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71280" y="1038240"/>
            <a:ext cx="8893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ระบบอัตราเดียวทั่วประเทศและในทุกกิจกรรม สำหรับวัตถุประสงค์อย่างใดอย่างหนึ่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การจัดเก็บภาษีจากการบริโภค ใช้อั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การขจัดภาระภาษีมูลค่าเพิ่มในสินค้าหรือบริการ ใช้อั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% 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ำให้ได้คืนภาษีซื้อจากการประกอบกิจการได้ทั้งหมด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อัตราแยกนอกฐาน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ขายไมถือเป็นรายได้ของผู้ประกอบ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วมอัตราภาษีส่วนท้องถิ่นที่กรมสรรพากรรับฝากจัดเก็บแทนราชการส่วนท้องถิ่นในอั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26920" y="3774960"/>
            <a:ext cx="7201080" cy="50508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คาสินค้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00%)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+ VAT 7% =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คารวมทั้งสิ้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07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8" name=""/>
          <p:cNvGraphicFramePr/>
          <p:nvPr/>
        </p:nvGraphicFramePr>
        <p:xfrm>
          <a:off x="1116000" y="5781600"/>
          <a:ext cx="6095880" cy="455760"/>
        </p:xfrm>
        <a:graphic>
          <a:graphicData uri="http://schemas.openxmlformats.org/drawingml/2006/table">
            <a:tbl>
              <a:tblPr/>
              <a:tblGrid>
                <a:gridCol w="576360"/>
                <a:gridCol w="642960"/>
                <a:gridCol w="652320"/>
                <a:gridCol w="566640"/>
                <a:gridCol w="586080"/>
                <a:gridCol w="633240"/>
                <a:gridCol w="590400"/>
                <a:gridCol w="628920"/>
                <a:gridCol w="595080"/>
                <a:gridCol w="6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c2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c2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c2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c2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c2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c2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c2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c2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c2c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cdaf0"/>
                    </a:solidFill>
                  </a:tcPr>
                </a:tc>
              </a:tr>
            </a:tbl>
          </a:graphicData>
        </a:graphic>
      </p:graphicFrame>
      <p:sp>
        <p:nvSpPr>
          <p:cNvPr id="999" name=""/>
          <p:cNvSpPr/>
          <p:nvPr/>
        </p:nvSpPr>
        <p:spPr>
          <a:xfrm>
            <a:off x="6328080" y="628488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ส่วนท้องถิ่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 flipV="1">
            <a:off x="7020000" y="6068520"/>
            <a:ext cx="28872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040920" y="628488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ัตราภาษีมูลค่าเพิ่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324000" y="1224000"/>
          <a:ext cx="8424720" cy="3801960"/>
        </p:xfrm>
        <a:graphic>
          <a:graphicData uri="http://schemas.openxmlformats.org/drawingml/2006/table">
            <a:tbl>
              <a:tblPr/>
              <a:tblGrid>
                <a:gridCol w="2376360"/>
                <a:gridCol w="2879640"/>
                <a:gridCol w="316872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ตราโดยรว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ตราภาษีมูลค่าเพิ่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ตราภาษีส่วนท้องถิ่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Local Ta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0.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crosoft Sans Serif"/>
                          <a:ea typeface="Microsoft Sans Serif"/>
                        </a:rPr>
                        <a:t>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cd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crosoft Sans Serif"/>
                          <a:ea typeface="Microsoft Sans Serif"/>
                        </a:rPr>
                        <a:t>6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cd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0.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.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0.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.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0.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crosoft Sans Serif"/>
                          <a:ea typeface="Microsoft Sans Serif"/>
                        </a:rPr>
                        <a:t>1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d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Microsoft Sans Serif"/>
                          <a:ea typeface="Microsoft Sans Serif"/>
                        </a:rPr>
                        <a:t>9.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ed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.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9933"/>
                    </a:solidFill>
                  </a:tcPr>
                </a:tc>
              </a:tr>
            </a:tbl>
          </a:graphicData>
        </a:graphic>
      </p:graphicFrame>
      <p:sp>
        <p:nvSpPr>
          <p:cNvPr id="1004" name=""/>
          <p:cNvSpPr/>
          <p:nvPr/>
        </p:nvSpPr>
        <p:spPr>
          <a:xfrm>
            <a:off x="6877080" y="5040360"/>
            <a:ext cx="70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651640" y="5410080"/>
            <a:ext cx="31064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มสรรพากรส่งให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ทรวงมหาดไท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คิดค่าใช้จ่าย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88360" y="5419800"/>
            <a:ext cx="4779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งห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0 – 31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น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803160" y="4365720"/>
            <a:ext cx="384120" cy="1150920"/>
          </a:xfrm>
          <a:custGeom>
            <a:avLst/>
            <a:gdLst/>
            <a:ahLst/>
            <a:rect l="l" t="t" r="r" b="b"/>
            <a:pathLst>
              <a:path w="242" h="725">
                <a:moveTo>
                  <a:pt x="151" y="0"/>
                </a:moveTo>
                <a:cubicBezTo>
                  <a:pt x="75" y="143"/>
                  <a:pt x="0" y="287"/>
                  <a:pt x="15" y="408"/>
                </a:cubicBezTo>
                <a:cubicBezTo>
                  <a:pt x="30" y="529"/>
                  <a:pt x="204" y="672"/>
                  <a:pt x="242" y="725"/>
                </a:cubicBezTo>
              </a:path>
            </a:pathLst>
          </a:custGeom>
          <a:noFill/>
          <a:ln w="28440">
            <a:solidFill>
              <a:srgbClr val="dc2cc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รุปอัตราภาษีมูลค่าเพิ่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09" name=""/>
          <p:cNvGraphicFramePr/>
          <p:nvPr/>
        </p:nvGraphicFramePr>
        <p:xfrm>
          <a:off x="179280" y="1341360"/>
          <a:ext cx="8893440" cy="4610160"/>
        </p:xfrm>
        <a:graphic>
          <a:graphicData uri="http://schemas.openxmlformats.org/drawingml/2006/table">
            <a:tbl>
              <a:tblPr/>
              <a:tblGrid>
                <a:gridCol w="3221280"/>
                <a:gridCol w="1531800"/>
                <a:gridCol w="4140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ระราชกฤษฎีกาฯ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ช่วงเวลาที่ใช้บังค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บับ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36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25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35 – 15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บับ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9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254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.0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6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0 – 3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ี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บับ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53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254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2 – 3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ี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บับ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68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254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4 – 30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บับ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83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254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4 – 30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บับ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07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254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5 – 30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บับ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16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254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7 – 30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บับ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40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25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48 – 30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บับ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65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25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50 – 30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5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0" name=""/>
          <p:cNvSpPr/>
          <p:nvPr/>
        </p:nvSpPr>
        <p:spPr>
          <a:xfrm>
            <a:off x="608040" y="61088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นี้ยังไม่รวมภาษีส่วนท้องถิ่นอีก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อัตรา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ประกอบการ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07640" y="1198440"/>
            <a:ext cx="88930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หมา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5)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ซึ่งกระทำกิจการดังต่อไปนี้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ยสินค้าในทางธุรกิจหรือวิชาชี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บริการในทางธุรกิจหรือวิขาชี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ไม่ว่าการกระทำดังกล่าวจะได้รับประโยชน์ หรือได้รับค่าตอบแทนหรือไม่ และไม่ว่าจะได้จดทะเบียนภาษีมูลค่าเพิ่มแล้วหรือไม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ยายความด้ว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(3)(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6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ไล่สาย “ผู้ประกอบการ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2(1)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(1)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Pa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enal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งค์ประกอบของผู้ประกอบกา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79280" y="105372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ุคคล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(1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2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ณะบุคคลที่มิใช่นิติบุคคล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3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4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ิจการในทางธุรกิจหรือวิชาชีพ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ยสินค้าหรือให้บริการเป็นทางค้าหรือหากำไรเป็นปกติธุรกิ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หน้าที่เสียภาษีมูลค่าเพิ่มเฉพาะสำหรับการขายสินค้าหรือการให้บริการในราชอาณาจั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อยู่ในบังคับที่ต้องเสีย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2(1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ไม่นับรวมเป็นมูลค่าของฐานภาษ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(1)-(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กาศอธิบดีกรมสรรพากร เกี่ยวกับ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ได้รับยกเว้น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ไม่อยู่ในบังคับที่ต้องเสีย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ประกอบการจดทะเบียน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930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หม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ที่ได้จดทะเบียนภาษีมูลค่าเพิ่ม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ที่ได้จดทะเบียนภาษีมูลค่าเพิ่มชั่วคราว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และสิทธิของ “ผู้ประกอบการจดทะเบียน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ในการออกใบกำกับภาษีเมื่อความรับผิดในการ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สียภาษีมูลค่าเพิ่มเกิดขึ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ในการเรียกเก็บภาษีขายจากผู้ซื้อสินค้า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ผู้รับ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ที่จะนำภาษีซื้อมาหักออกจากภาษีข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ที่จะขอคื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ภาษีซื้อมากกว่าภาษีข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0/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ที่จะเสีย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ถอนทะเบียน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ประกอบการจดทะเบียน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: </a:t>
            </a:r>
            <a:r>
              <a:rPr b="0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250920" y="1179360"/>
            <a:ext cx="87249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 (18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26676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ภาษีมูลค่าเพิ่มที่ผู้ประกอบการจดทะเบียนถูกผู้ประกอบการจดทะเบียนอื่นเรียกเก็บ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ี่ และให้หมายความรวมถึ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ที่ผู้ประกอบการจดทะเบียนได้เสียเมื่อนำเข้า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ที่ผู้ประกอบการจดทะเบียนได้เสีย เนื่องจากได้รับโอนสินค้านำเข้าที่จำแนกประเภทไว้ในภาคว่าด้วยของที่ได้รับยกเว้นอากร ตามกฎหมายว่าด้วยพิกัดอัตราศุลกากร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ที่ได้นำส่ง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ลของการเป็นผู้ประกอบการจดทะเบีย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นื่องจา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นำมาจัดเก็บในประเทศไทยเป็นแบบการบริโภค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umption Type 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จึงได้สิทธินำภาษีซื้อจากการลงทุนและการประกอบการมาเครดิตหักออกจากภาษีขายในการคำนวณภาษีมูลค่าเพิ่มที่ต้องเสียได้ทั้งหมด เว้นแต่ภาษีซื้อต้องห้ามบางกรณี เป็นผลให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นทุนในการประกอบกิจการต่ำกว่าผู้ประกอบการที่มิได้จดทะเบียน อ้นเป็น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de off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ับหน้าที่ในระบบ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ประกอบการจดทะเบียน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07640" y="119664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ของ “ผู้ประกอบการจดทะเบียน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ทะเบียนภาษีมูลค่าเพิ่ม ตามส่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 –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ใบกำกับภาษี ใบเพิ่มหนี้ และใบลดหนี้ ตามส่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 –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การจัดทำรายงานและการเก็บรักษาหลักฐานและเอกสาร ตามส่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7 - 87/3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การคำนวณภาษีมูลค่าเพิ่ม ตามส่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3 –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5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การยื่นรายการและการเสียภาษีมูลค่าเพิ่ม ส่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 –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1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ประกอบการและผู้ประกอบการจดทะเบีย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108000" y="984240"/>
          <a:ext cx="8964720" cy="5504040"/>
        </p:xfrm>
        <a:graphic>
          <a:graphicData uri="http://schemas.openxmlformats.org/drawingml/2006/table">
            <a:tbl>
              <a:tblPr/>
              <a:tblGrid>
                <a:gridCol w="5327640"/>
                <a:gridCol w="1800360"/>
                <a:gridCol w="183672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ารจดทะเบีย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ระภาษีมูลค่าเพิ่มสำหรับการขายสินค้าหรือการให้บริ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น้าที่ในระบบภาษีมูลค่า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กี่ยวกับทะเบียน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บกำกับภาษี ใบเพิ่มหนี้ ใบลดหนี้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จัดทำรายงานและเก็บรักษาเอกสาร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1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คำนวณภาษีมูลค่าเพิ่ม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รายการและการเสียภาษีมูลค่าเพิ่ม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มีหน้าที่แต่ต้องเสียเบี้ย ปรับ และค่าปรับทางอาญ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0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ทธิในระบบภาษีมูลค่า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อกใบกำกับภาษี ใบเพิ่มหนี้ ใบลดหนี้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รียกเก็บภาษีมูลค่าเพิ่ม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2/4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ำภาษีซื้อมาใช้เป็นเครดิต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2/3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คืนภาษีมูลค่าเพิ่ม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สียภาษีมูลค่าเพิ่มอัตรา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0%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0/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ได้รับสิทธิใดๆ ในระบบภาษีมูลค่า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16000" y="1557360"/>
            <a:ext cx="8604000" cy="37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Suffering as the </a:t>
            </a:r>
            <a:r>
              <a:rPr b="1" lang="en-US" sz="2800" spc="-1" strike="noStrike">
                <a:solidFill>
                  <a:srgbClr val="ff0066"/>
                </a:solidFill>
                <a:latin typeface="Microsoft Sans Serif"/>
                <a:ea typeface="Microsoft Sans Serif"/>
              </a:rPr>
              <a:t>Problem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Craving as </a:t>
            </a:r>
            <a:r>
              <a:rPr b="1" lang="en-US" sz="2800" spc="-1" strike="noStrike">
                <a:solidFill>
                  <a:srgbClr val="ff9933"/>
                </a:solidFill>
                <a:latin typeface="Microsoft Sans Serif"/>
                <a:ea typeface="Microsoft Sans Serif"/>
              </a:rPr>
              <a:t>Cause of Problem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Liberation or Salvation as </a:t>
            </a:r>
            <a:r>
              <a:rPr b="1" lang="en-US" sz="2800" spc="-1" strike="noStrike">
                <a:solidFill>
                  <a:srgbClr val="00ff00"/>
                </a:solidFill>
                <a:latin typeface="Microsoft Sans Serif"/>
                <a:ea typeface="Microsoft Sans Serif"/>
              </a:rPr>
              <a:t>the end of Resul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The Noble 8-fold Path or Middle Way Practice (Magga) as </a:t>
            </a:r>
            <a:r>
              <a:rPr b="1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the Method of Problem Sol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ารแห่งอริยสัจ มีอยู่ในทุกกิจกรรม อากัปกริยา ทั้งในส่วนที่เป็นนามธรรมและรูปธรร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9240" y="372960"/>
            <a:ext cx="84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ริยสัจ </a:t>
            </a: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0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The 4 Noble Truths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4DDC-383A-4664-AD6C-465D581685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ัวแทนในระบบภาษีมูลค่าเพิ่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50560" y="1252440"/>
            <a:ext cx="871380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7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แทนในราชอาณาจักรของผู้ประกอบการนอกราชอาณาจั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rincipal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นอกราชอาณาจักรไม่จดทะเบียน ดูมาต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กรณีภาษีเงินได้นิติบุคค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(3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แทน” รับฝากขายสินค้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gne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ประกาศอธิบดีกรมสรรพากร เกี่ยวกับ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คำสั่งกรมสรรพากรที่ 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/252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ิ่มเติมโดย 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5/254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แทนขายทอดตลาดสินค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หน้าที่ออกใบกำกับภาษีแทนตัวกา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หน้าที่นำส่งภาษีมูลค่าเพิ่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2556000" y="981000"/>
            <a:ext cx="3932280" cy="459720"/>
          </a:xfrm>
          <a:prstGeom prst="rect">
            <a:avLst/>
          </a:prstGeom>
          <a:solidFill>
            <a:srgbClr val="003300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Revenue of Registr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743200" y="1676520"/>
            <a:ext cx="3514680" cy="609480"/>
          </a:xfrm>
          <a:prstGeom prst="diamond">
            <a:avLst/>
          </a:prstGeom>
          <a:solidFill>
            <a:srgbClr val="0000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001320" y="174780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upply of VAT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666880" y="2590920"/>
            <a:ext cx="3681360" cy="609480"/>
          </a:xfrm>
          <a:prstGeom prst="diamond">
            <a:avLst/>
          </a:prstGeom>
          <a:solidFill>
            <a:srgbClr val="0000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922120" y="263700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upply of VAT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495680" y="1447920"/>
            <a:ext cx="180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495680" y="2286000"/>
            <a:ext cx="1800" cy="30492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572000" y="2209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572000" y="3124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495680" y="3200400"/>
            <a:ext cx="1800" cy="30492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819520" y="3505320"/>
            <a:ext cx="368136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on VAT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629400" y="1752480"/>
            <a:ext cx="2335320" cy="459720"/>
          </a:xfrm>
          <a:prstGeom prst="rect">
            <a:avLst/>
          </a:prstGeom>
          <a:solidFill>
            <a:srgbClr val="0033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095880" y="1981080"/>
            <a:ext cx="586080" cy="18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06744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095880" y="4419720"/>
            <a:ext cx="3048120" cy="459720"/>
          </a:xfrm>
          <a:prstGeom prst="rect">
            <a:avLst/>
          </a:prstGeom>
          <a:solidFill>
            <a:srgbClr val="003300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3.Out of VAT 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124080" y="4406760"/>
            <a:ext cx="2895840" cy="459720"/>
          </a:xfrm>
          <a:prstGeom prst="rect">
            <a:avLst/>
          </a:prstGeom>
          <a:solidFill>
            <a:srgbClr val="003399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2. Non VAT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6320" y="4419720"/>
            <a:ext cx="2911320" cy="459720"/>
          </a:xfrm>
          <a:prstGeom prst="rect">
            <a:avLst/>
          </a:prstGeom>
          <a:solidFill>
            <a:srgbClr val="660033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1. VAT Exe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447920" y="4191120"/>
            <a:ext cx="6172200" cy="0"/>
          </a:xfrm>
          <a:prstGeom prst="line">
            <a:avLst/>
          </a:prstGeom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447920" y="4191120"/>
            <a:ext cx="144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248520" y="2895480"/>
            <a:ext cx="1600200" cy="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7848720" y="2209320"/>
            <a:ext cx="1440" cy="6858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75324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7620120" y="4191120"/>
            <a:ext cx="144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4495320" y="4191120"/>
            <a:ext cx="180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4495320" y="3962520"/>
            <a:ext cx="180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6320" y="5084640"/>
            <a:ext cx="2911320" cy="1947600"/>
          </a:xfrm>
          <a:prstGeom prst="rect">
            <a:avLst/>
          </a:prstGeom>
          <a:solidFill>
            <a:srgbClr val="660033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)-(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น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และ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23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77/3 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–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BT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 91/2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และ ม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 91/3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26/253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124080" y="5105520"/>
            <a:ext cx="2895840" cy="1618560"/>
          </a:xfrm>
          <a:prstGeom prst="rect">
            <a:avLst/>
          </a:prstGeom>
          <a:solidFill>
            <a:srgbClr val="003399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 79(1) 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–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(4)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และประกาศ 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40)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ารน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ินค้า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บริการไปใช้ในกิจการ 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ของตนเอง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,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All VAT Business Transf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095880" y="5113440"/>
            <a:ext cx="3048120" cy="2228400"/>
          </a:xfrm>
          <a:prstGeom prst="rect">
            <a:avLst/>
          </a:prstGeom>
          <a:solidFill>
            <a:srgbClr val="003300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Run oversea busi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ash discount &amp; penal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ale promotion rewar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ubsidy, Support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1447920" y="4876920"/>
            <a:ext cx="144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4495320" y="4876920"/>
            <a:ext cx="180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7620120" y="4876920"/>
            <a:ext cx="144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838440" y="1752480"/>
            <a:ext cx="1797840" cy="459720"/>
          </a:xfrm>
          <a:prstGeom prst="rect">
            <a:avLst/>
          </a:prstGeom>
          <a:solidFill>
            <a:srgbClr val="0033cc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77/1(8)(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28360" y="2590920"/>
            <a:ext cx="1614960" cy="459720"/>
          </a:xfrm>
          <a:prstGeom prst="rect">
            <a:avLst/>
          </a:prstGeom>
          <a:noFill/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77/1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183800" y="129528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77/2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869480" y="171360"/>
            <a:ext cx="5207040" cy="581400"/>
          </a:xfrm>
          <a:prstGeom prst="rect">
            <a:avLst/>
          </a:prstGeom>
          <a:solidFill>
            <a:srgbClr val="010199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&amp; Non VAT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742440" y="217980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ราชอาณาจั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237440" y="3068640"/>
            <a:ext cx="1655640" cy="43164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/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FC37-65F1-4EFB-A124-1FE6C005BF22}" type="slidenum">
              <a:t>1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2819520" y="1066680"/>
            <a:ext cx="368136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on VAT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095880" y="1981080"/>
            <a:ext cx="3048120" cy="459720"/>
          </a:xfrm>
          <a:prstGeom prst="rect">
            <a:avLst/>
          </a:prstGeom>
          <a:solidFill>
            <a:srgbClr val="003300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3.Out of VAT 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124080" y="1968480"/>
            <a:ext cx="2895840" cy="459720"/>
          </a:xfrm>
          <a:prstGeom prst="rect">
            <a:avLst/>
          </a:prstGeom>
          <a:solidFill>
            <a:srgbClr val="003399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2. Non VAT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6320" y="1981080"/>
            <a:ext cx="2911320" cy="459720"/>
          </a:xfrm>
          <a:prstGeom prst="rect">
            <a:avLst/>
          </a:prstGeom>
          <a:solidFill>
            <a:srgbClr val="660033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1. VAT Exe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447920" y="1752480"/>
            <a:ext cx="6172200" cy="0"/>
          </a:xfrm>
          <a:prstGeom prst="line">
            <a:avLst/>
          </a:prstGeom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1447920" y="1752480"/>
            <a:ext cx="144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7620120" y="1752480"/>
            <a:ext cx="144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4495320" y="1752480"/>
            <a:ext cx="180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4495320" y="1523880"/>
            <a:ext cx="1800" cy="22860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1447920" y="2438280"/>
            <a:ext cx="1440" cy="30492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4495320" y="2438280"/>
            <a:ext cx="1800" cy="30492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7620120" y="2438280"/>
            <a:ext cx="1440" cy="304920"/>
          </a:xfrm>
          <a:prstGeom prst="line">
            <a:avLst/>
          </a:prstGeom>
          <a:ln w="1260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556280" y="120600"/>
            <a:ext cx="5834880" cy="642600"/>
          </a:xfrm>
          <a:prstGeom prst="rect">
            <a:avLst/>
          </a:prstGeom>
          <a:solidFill>
            <a:srgbClr val="010199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&amp; Non VAT 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523880" y="4950000"/>
            <a:ext cx="0" cy="3808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648320" y="4950000"/>
            <a:ext cx="0" cy="3808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7696080" y="4950000"/>
            <a:ext cx="0" cy="3808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0" name=""/>
          <p:cNvGraphicFramePr/>
          <p:nvPr/>
        </p:nvGraphicFramePr>
        <p:xfrm>
          <a:off x="108000" y="2781360"/>
          <a:ext cx="9036000" cy="2160360"/>
        </p:xfrm>
        <a:graphic>
          <a:graphicData uri="http://schemas.openxmlformats.org/drawingml/2006/table">
            <a:tbl>
              <a:tblPr/>
              <a:tblGrid>
                <a:gridCol w="2951280"/>
                <a:gridCol w="3025440"/>
                <a:gridCol w="3059280"/>
              </a:tblGrid>
              <a:tr h="521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Output Ta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N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Declar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e</a:t>
                      </a:r>
                      <a:r>
                        <a:rPr b="0" lang="th-TH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 in PP30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e for allocate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put Ta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N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N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N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n’t use f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locate Input Ta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1" name=""/>
          <p:cNvGraphicFramePr/>
          <p:nvPr/>
        </p:nvGraphicFramePr>
        <p:xfrm>
          <a:off x="108000" y="5300640"/>
          <a:ext cx="9036000" cy="973080"/>
        </p:xfrm>
        <a:graphic>
          <a:graphicData uri="http://schemas.openxmlformats.org/drawingml/2006/table">
            <a:tbl>
              <a:tblPr/>
              <a:tblGrid>
                <a:gridCol w="2951280"/>
                <a:gridCol w="3097080"/>
                <a:gridCol w="298764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put Ta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-claim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im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-claim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AA7-492C-4BEA-9044-E0BE500C2E29}" type="slidenum">
              <a:t>1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"/>
          <p:cNvSpPr/>
          <p:nvPr/>
        </p:nvSpPr>
        <p:spPr>
          <a:xfrm>
            <a:off x="1556280" y="254160"/>
            <a:ext cx="5834880" cy="642600"/>
          </a:xfrm>
          <a:prstGeom prst="rect">
            <a:avLst/>
          </a:prstGeom>
          <a:solidFill>
            <a:srgbClr val="010199"/>
          </a:solidFill>
          <a:ln w="1260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&amp; Non VAT 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3" name=""/>
          <p:cNvGraphicFramePr/>
          <p:nvPr/>
        </p:nvGraphicFramePr>
        <p:xfrm>
          <a:off x="71280" y="1197000"/>
          <a:ext cx="8964720" cy="5110200"/>
        </p:xfrm>
        <a:graphic>
          <a:graphicData uri="http://schemas.openxmlformats.org/drawingml/2006/table">
            <a:tbl>
              <a:tblPr/>
              <a:tblGrid>
                <a:gridCol w="1908360"/>
                <a:gridCol w="1728720"/>
                <a:gridCol w="1741680"/>
                <a:gridCol w="1792080"/>
                <a:gridCol w="1793880"/>
              </a:tblGrid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Activit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Exemp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Non VAT B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Out of VAT Sco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ขายสำหรับรายได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Non V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Non V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Non V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แสดงราย ได้ในแบบ ภ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แสดงทั้งอัตรา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0%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แสดง โดย เฉพาะรายการตามม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1(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แสด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แสด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ที่ต้องนำ ไปใช้เป็นฐานในการเฉลี่ยภาษีซื้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นำไปใช้เป็นฐานในการเฉลี่ยภาษีซื้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นำไปใช้เป็นฐานในการเฉลี่ยภาษีซื้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นำไปใช้เป็นฐานในการเฉลี่ยภาษีซื้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นำไปใช้เป็นฐานในการเฉลี่ยภาษีซื้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ซื้อที่เกี่ยว ข้องโดยตร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เป็นภาษีซื้อได้ทั้งจำนว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ซื้อต้องห้ามนำไปถือเป็นราย จ่ายหรือต้นทุ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เป็นภาษีซื้อได้ทั้งจำนว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ซื้อต้องห้ามนำไปถือเป็นราย จ่ายหรือต้นทุ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ว้นแต่ใช้ร่วมกันใช้เป็นภาษีซื้อได้ทั้งจำนว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1676520" y="950760"/>
            <a:ext cx="4267080" cy="53352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pply of goods (Mov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514600" y="1752480"/>
            <a:ext cx="2590920" cy="79236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or Bene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495680" y="2708280"/>
            <a:ext cx="3200400" cy="865080"/>
          </a:xfrm>
          <a:prstGeom prst="diamond">
            <a:avLst/>
          </a:prstGeom>
          <a:solidFill>
            <a:srgbClr val="0d23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Activ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7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2360" y="4076640"/>
            <a:ext cx="2303640" cy="571680"/>
          </a:xfrm>
          <a:prstGeom prst="rect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843280" y="5346720"/>
            <a:ext cx="2016000" cy="914400"/>
          </a:xfrm>
          <a:prstGeom prst="rect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Exem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076720" y="5346720"/>
            <a:ext cx="1944720" cy="914400"/>
          </a:xfrm>
          <a:prstGeom prst="rect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นับเป็นฐานภาษ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 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236000" y="5346720"/>
            <a:ext cx="1836720" cy="914400"/>
          </a:xfrm>
          <a:prstGeom prst="rect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อยู่ในบังคับ 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ut of VAT 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24000" y="2852640"/>
            <a:ext cx="2087280" cy="5763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24000" y="3956040"/>
            <a:ext cx="2160360" cy="62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Market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3886200" y="5029200"/>
            <a:ext cx="4463640" cy="344520"/>
            <a:chOff x="3886200" y="5029200"/>
            <a:chExt cx="4463640" cy="344520"/>
          </a:xfrm>
        </p:grpSpPr>
        <p:sp>
          <p:nvSpPr>
            <p:cNvPr id="1094" name=""/>
            <p:cNvSpPr/>
            <p:nvPr/>
          </p:nvSpPr>
          <p:spPr>
            <a:xfrm>
              <a:off x="3886200" y="5029200"/>
              <a:ext cx="446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886200" y="5029200"/>
              <a:ext cx="0" cy="34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349840" y="5029200"/>
              <a:ext cx="0" cy="34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7" name=""/>
          <p:cNvSpPr/>
          <p:nvPr/>
        </p:nvSpPr>
        <p:spPr>
          <a:xfrm>
            <a:off x="6084720" y="4653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809880" y="1484280"/>
            <a:ext cx="0" cy="268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1371600" y="2133720"/>
            <a:ext cx="1184400" cy="718920"/>
            <a:chOff x="1371600" y="2133720"/>
            <a:chExt cx="1184400" cy="718920"/>
          </a:xfrm>
        </p:grpSpPr>
        <p:sp>
          <p:nvSpPr>
            <p:cNvPr id="1100" name=""/>
            <p:cNvSpPr/>
            <p:nvPr/>
          </p:nvSpPr>
          <p:spPr>
            <a:xfrm flipH="1">
              <a:off x="1371600" y="2133720"/>
              <a:ext cx="118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71600" y="2133720"/>
              <a:ext cx="0" cy="71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1403280" y="342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5032440" y="2133720"/>
            <a:ext cx="1063080" cy="608760"/>
            <a:chOff x="5032440" y="2133720"/>
            <a:chExt cx="1063080" cy="608760"/>
          </a:xfrm>
        </p:grpSpPr>
        <p:sp>
          <p:nvSpPr>
            <p:cNvPr id="1104" name=""/>
            <p:cNvSpPr/>
            <p:nvPr/>
          </p:nvSpPr>
          <p:spPr>
            <a:xfrm>
              <a:off x="5032440" y="2133720"/>
              <a:ext cx="106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095520" y="2133720"/>
              <a:ext cx="0" cy="608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6084720" y="3573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2437920" y="31240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5292720" y="1700280"/>
            <a:ext cx="35892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156360" y="3573360"/>
            <a:ext cx="36036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28800" y="1700280"/>
            <a:ext cx="366840" cy="361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419640" y="2708280"/>
            <a:ext cx="350640" cy="3301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992160" y="260280"/>
            <a:ext cx="5884920" cy="9471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กับ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 ม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7/1(8)(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544480" y="311616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emed 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2556000" y="549360"/>
            <a:ext cx="3959280" cy="78264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pply of g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Movable) No Bene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500720" y="134136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132000" y="1700280"/>
            <a:ext cx="2808360" cy="865080"/>
          </a:xfrm>
          <a:prstGeom prst="diamond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harge 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2088720" y="2133720"/>
            <a:ext cx="1042920" cy="718920"/>
            <a:chOff x="2088720" y="2133720"/>
            <a:chExt cx="1042920" cy="718920"/>
          </a:xfrm>
        </p:grpSpPr>
        <p:sp>
          <p:nvSpPr>
            <p:cNvPr id="1118" name=""/>
            <p:cNvSpPr/>
            <p:nvPr/>
          </p:nvSpPr>
          <p:spPr>
            <a:xfrm flipH="1">
              <a:off x="2088720" y="2133720"/>
              <a:ext cx="10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089080" y="2133720"/>
              <a:ext cx="0" cy="71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0" name=""/>
          <p:cNvSpPr/>
          <p:nvPr/>
        </p:nvSpPr>
        <p:spPr>
          <a:xfrm>
            <a:off x="6051600" y="1700280"/>
            <a:ext cx="392040" cy="357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546280" y="1700280"/>
            <a:ext cx="370080" cy="361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041480" y="2852640"/>
            <a:ext cx="2158920" cy="1368360"/>
          </a:xfrm>
          <a:prstGeom prst="flowChartDocumen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Inv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08720" y="2852640"/>
            <a:ext cx="2592360" cy="1373760"/>
          </a:xfrm>
          <a:prstGeom prst="rect">
            <a:avLst/>
          </a:prstGeom>
          <a:solidFill>
            <a:srgbClr val="66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No ne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Issue Tax In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804000" y="4292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364000" y="4653000"/>
            <a:ext cx="3024360" cy="154404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- WT. on value of goods &amp; 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- VAT: Non deductible ex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052720" y="4221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84360" y="4581360"/>
            <a:ext cx="2735280" cy="94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- WT. on value of goods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867280" y="213372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804000" y="213372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42920" y="620640"/>
            <a:ext cx="2052720" cy="60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195640" y="9079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516720" y="90792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877080" y="620640"/>
            <a:ext cx="1908000" cy="60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. Co.,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1949400" y="836640"/>
            <a:ext cx="4267080" cy="433440"/>
          </a:xfrm>
          <a:prstGeom prst="rect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upply of Goods with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319480" y="1609560"/>
            <a:ext cx="3528720" cy="865440"/>
          </a:xfrm>
          <a:prstGeom prst="diamond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Separate Service F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21400" y="1598760"/>
            <a:ext cx="2514600" cy="9144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ale all of am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: deliv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W.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921200" y="3351240"/>
            <a:ext cx="2232000" cy="57456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oods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44480" y="3308400"/>
            <a:ext cx="1873440" cy="57636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ervice F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676600" y="5332320"/>
            <a:ext cx="2244600" cy="1081080"/>
          </a:xfrm>
          <a:prstGeom prst="rect">
            <a:avLst/>
          </a:prstGeom>
          <a:solidFill>
            <a:srgbClr val="0101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Point: wh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cei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.T. 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2558880" y="2894040"/>
            <a:ext cx="3429000" cy="431280"/>
            <a:chOff x="2558880" y="2894040"/>
            <a:chExt cx="3429000" cy="431280"/>
          </a:xfrm>
        </p:grpSpPr>
        <p:sp>
          <p:nvSpPr>
            <p:cNvPr id="1141" name=""/>
            <p:cNvSpPr/>
            <p:nvPr/>
          </p:nvSpPr>
          <p:spPr>
            <a:xfrm>
              <a:off x="2558880" y="2894040"/>
              <a:ext cx="3429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87880" y="2894040"/>
              <a:ext cx="0" cy="43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558880" y="2894040"/>
              <a:ext cx="0" cy="431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4" name=""/>
          <p:cNvSpPr/>
          <p:nvPr/>
        </p:nvSpPr>
        <p:spPr>
          <a:xfrm>
            <a:off x="4083120" y="243684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558880" y="39020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5987880" y="2550960"/>
            <a:ext cx="1980000" cy="1790640"/>
            <a:chOff x="5987880" y="2550960"/>
            <a:chExt cx="1980000" cy="1790640"/>
          </a:xfrm>
        </p:grpSpPr>
        <p:sp>
          <p:nvSpPr>
            <p:cNvPr id="1147" name=""/>
            <p:cNvSpPr/>
            <p:nvPr/>
          </p:nvSpPr>
          <p:spPr>
            <a:xfrm>
              <a:off x="5987880" y="4341600"/>
              <a:ext cx="198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7967880" y="2550960"/>
              <a:ext cx="0" cy="1790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4048200" y="125100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49200" y="4417920"/>
            <a:ext cx="2209680" cy="70380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e item in same Tax In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689200" y="4417920"/>
            <a:ext cx="2232000" cy="703800"/>
          </a:xfrm>
          <a:prstGeom prst="rect">
            <a:avLst/>
          </a:prstGeom>
          <a:solidFill>
            <a:srgbClr val="0101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e Tax In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683320" y="205596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835600" y="1679400"/>
            <a:ext cx="304920" cy="300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159080" y="2513160"/>
            <a:ext cx="3049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904400" y="195120"/>
            <a:ext cx="434592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ารขายสินค้าพร้อมให้บริ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415880" y="418932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415880" y="41893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778200" y="41893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987880" y="3960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49200" y="5332320"/>
            <a:ext cx="2209680" cy="108108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Point: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ith Sale am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.T. 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415880" y="511488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778200" y="510372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/>
          <p:nvPr/>
        </p:nvSpPr>
        <p:spPr>
          <a:xfrm>
            <a:off x="2176560" y="1365120"/>
            <a:ext cx="3529080" cy="846360"/>
          </a:xfrm>
          <a:prstGeom prst="diamond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ยกค่าขนส่งต่างหา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300720" y="1335240"/>
            <a:ext cx="2843280" cy="103824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การขายทั้งจำนว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: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ื่อส่งมอ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W.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778280" y="4406760"/>
            <a:ext cx="2232000" cy="5749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oods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84360" y="4389480"/>
            <a:ext cx="2520720" cy="5047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nsportation F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826920" y="5253120"/>
            <a:ext cx="2244960" cy="108108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.T. 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1979640" y="3957480"/>
            <a:ext cx="3887640" cy="423720"/>
            <a:chOff x="1979640" y="3957480"/>
            <a:chExt cx="3887640" cy="423720"/>
          </a:xfrm>
        </p:grpSpPr>
        <p:sp>
          <p:nvSpPr>
            <p:cNvPr id="1169" name=""/>
            <p:cNvSpPr/>
            <p:nvPr/>
          </p:nvSpPr>
          <p:spPr>
            <a:xfrm>
              <a:off x="1979640" y="3957480"/>
              <a:ext cx="3887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67280" y="3957480"/>
              <a:ext cx="0" cy="42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979640" y="3957480"/>
              <a:ext cx="0" cy="42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3940200" y="349236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5845320" y="2301840"/>
            <a:ext cx="1965240" cy="3095280"/>
            <a:chOff x="5845320" y="2301840"/>
            <a:chExt cx="1965240" cy="3095280"/>
          </a:xfrm>
        </p:grpSpPr>
        <p:sp>
          <p:nvSpPr>
            <p:cNvPr id="1174" name=""/>
            <p:cNvSpPr/>
            <p:nvPr/>
          </p:nvSpPr>
          <p:spPr>
            <a:xfrm>
              <a:off x="5845320" y="5397120"/>
              <a:ext cx="1965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7810560" y="2301840"/>
              <a:ext cx="0" cy="30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3905280" y="98748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5651640" y="1792080"/>
            <a:ext cx="622080" cy="4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692680" y="1415880"/>
            <a:ext cx="304920" cy="300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051440" y="2249640"/>
            <a:ext cx="30456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308960" y="476280"/>
            <a:ext cx="520236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ารขายสินค้าพร้อมให้บริการขนส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845320" y="50166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1979640" y="48942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124000" y="2637000"/>
            <a:ext cx="3529080" cy="906480"/>
          </a:xfrm>
          <a:prstGeom prst="diamond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ใบอนุญาตประกอบ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บจ้างขนส่งสาธารณ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851440" y="2747880"/>
            <a:ext cx="304920" cy="300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067280" y="3581280"/>
            <a:ext cx="30456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924360" y="220356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651640" y="3094200"/>
            <a:ext cx="21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8760" y="2589120"/>
            <a:ext cx="190908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ไม่ว่าจะประกอ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ิจการโดยตนเอ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รือว่าจ้างผู้อื่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1763640" y="30942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267960" y="2708280"/>
            <a:ext cx="293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ใน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Inv.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เดียวกัน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ยกคนละฉบับกับ 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In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372360" y="3357720"/>
            <a:ext cx="1368360" cy="79056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เพิ่มหนี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187280" y="836640"/>
            <a:ext cx="5400720" cy="431640"/>
          </a:xfrm>
          <a:prstGeom prst="rect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upply of Services with Transpo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176560" y="1609560"/>
            <a:ext cx="3529080" cy="865440"/>
          </a:xfrm>
          <a:prstGeom prst="diamond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Separ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ransportation F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378480" y="1598760"/>
            <a:ext cx="2514600" cy="91440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ervice all of am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: Recei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 2%,3%,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778280" y="4670280"/>
            <a:ext cx="2232000" cy="5749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ervices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84360" y="4653000"/>
            <a:ext cx="2520720" cy="5047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nsportation F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826920" y="5516640"/>
            <a:ext cx="2244960" cy="10810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.T. 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8" name=""/>
          <p:cNvGrpSpPr/>
          <p:nvPr/>
        </p:nvGrpSpPr>
        <p:grpSpPr>
          <a:xfrm>
            <a:off x="1979640" y="4221000"/>
            <a:ext cx="3887640" cy="423720"/>
            <a:chOff x="1979640" y="4221000"/>
            <a:chExt cx="3887640" cy="423720"/>
          </a:xfrm>
        </p:grpSpPr>
        <p:sp>
          <p:nvSpPr>
            <p:cNvPr id="1199" name=""/>
            <p:cNvSpPr/>
            <p:nvPr/>
          </p:nvSpPr>
          <p:spPr>
            <a:xfrm>
              <a:off x="1979640" y="4221000"/>
              <a:ext cx="3887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867280" y="4221000"/>
              <a:ext cx="0" cy="42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979640" y="4221000"/>
              <a:ext cx="0" cy="42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3940200" y="37558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5845320" y="2565360"/>
            <a:ext cx="1965240" cy="3095280"/>
            <a:chOff x="5845320" y="2565360"/>
            <a:chExt cx="1965240" cy="3095280"/>
          </a:xfrm>
        </p:grpSpPr>
        <p:sp>
          <p:nvSpPr>
            <p:cNvPr id="1204" name=""/>
            <p:cNvSpPr/>
            <p:nvPr/>
          </p:nvSpPr>
          <p:spPr>
            <a:xfrm>
              <a:off x="5845320" y="5660640"/>
              <a:ext cx="1965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7810560" y="2565360"/>
              <a:ext cx="0" cy="30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6" name=""/>
          <p:cNvSpPr/>
          <p:nvPr/>
        </p:nvSpPr>
        <p:spPr>
          <a:xfrm>
            <a:off x="3905280" y="125100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540400" y="205596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692680" y="1679400"/>
            <a:ext cx="304920" cy="300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051440" y="2513160"/>
            <a:ext cx="30456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744560" y="195120"/>
            <a:ext cx="434880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ารให้บริการพร้อมการขนส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845320" y="52801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979640" y="5157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124000" y="2941560"/>
            <a:ext cx="3529080" cy="865440"/>
          </a:xfrm>
          <a:prstGeom prst="diamond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Public Transport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Lice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851440" y="3011400"/>
            <a:ext cx="304920" cy="300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067280" y="3844800"/>
            <a:ext cx="30456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924360" y="2467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651640" y="3357720"/>
            <a:ext cx="21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7160" y="2852640"/>
            <a:ext cx="18252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Either, sel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ransport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hire the 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763640" y="3357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218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ารขายสินค้ากับการให้บริกา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21" name=""/>
          <p:cNvGraphicFramePr/>
          <p:nvPr/>
        </p:nvGraphicFramePr>
        <p:xfrm>
          <a:off x="179280" y="1251000"/>
          <a:ext cx="8785440" cy="4681440"/>
        </p:xfrm>
        <a:graphic>
          <a:graphicData uri="http://schemas.openxmlformats.org/drawingml/2006/table">
            <a:tbl>
              <a:tblPr/>
              <a:tblGrid>
                <a:gridCol w="2808360"/>
                <a:gridCol w="3097080"/>
                <a:gridCol w="2880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ายสิน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ห้บริกา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วามมุ่งหม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ุ่งโอนกรรมสิทธิ์ในสิน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ุ่งผลสำเร็จของงา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วามรับผิดในการ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สีย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ส่งมอบสิน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รับชำระราค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1960" indent="-2919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หัก ณ ที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โดยทั่วไปไม่ต้องหักภาษีเงินได้ ณ ที่จ่าย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ักภาษีเงินได้ ณ ที่จ่าย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%, 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1960" indent="-2919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จัดทำรายงานสินค้าและวัตถุดิ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จัดท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จัดท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91960" indent="-2919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ิดอากรแสตมป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ปิดอากรแสตมป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โดยเฉพาะสัญญาจ้างทำของต้องปิด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,00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: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522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5920" indent="0">
              <a:lnSpc>
                <a:spcPct val="120000"/>
              </a:lnSpc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The Three-fold Training                Magg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120000"/>
              </a:lnSpc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120000"/>
              </a:lnSpc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a.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Panna or Wisdom    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1. Right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120000"/>
              </a:lnSpc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2. Right Thought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120000"/>
              </a:lnSpc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b. Sila or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Morality            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1. Right Speech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2. Right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120000"/>
              </a:lnSpc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3. Right Liveli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120000"/>
              </a:lnSpc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c. Samadhi or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Meditation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1. Right Eff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120000"/>
              </a:lnSpc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2. Right Mindfu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120000"/>
              </a:lnSpc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</a:rPr>
              <a:t>3. Right Concentration</a:t>
            </a:r>
            <a:r>
              <a:rPr b="1" lang="en-US" sz="20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-486000" y="255600"/>
            <a:ext cx="1001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ัชฌิมาปฏิปท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The Middle Way Practic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076040" y="262260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ปัญญ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306800" y="3701880"/>
            <a:ext cx="6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ศี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28960" y="5229360"/>
            <a:ext cx="93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สมาธ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90640" y="162864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ไตรสิกข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494320" y="1614600"/>
            <a:ext cx="9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มรร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915D-E6C2-4C2E-9CF4-92B2D6694B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2771640" y="92160"/>
            <a:ext cx="3745080" cy="5205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Taxable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is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08000" y="1197000"/>
            <a:ext cx="2286000" cy="429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de  Dis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200400" y="1197000"/>
            <a:ext cx="2286000" cy="429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ash   Dis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6156360" y="1150920"/>
            <a:ext cx="2374920" cy="429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pecial  Dis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8000" y="1916280"/>
            <a:ext cx="2303280" cy="20822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ดให้ในขณะขายหรือให้บริ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ออก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ull Form  Tax Inv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แสดงให้ชัดแจ้งใ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 In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2987640" y="1916280"/>
            <a:ext cx="2592360" cy="703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เสริมให้ชำระหนี้ตามกำหนด 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/10 ,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191280" y="1773360"/>
            <a:ext cx="2413080" cy="13136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Target  Promotion  - Special  Discount  - 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95200" y="4173480"/>
            <a:ext cx="1828800" cy="703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duce  VAT  Base 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9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5200" y="5278320"/>
            <a:ext cx="1828800" cy="7405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 W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or  Dis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571840" y="3181320"/>
            <a:ext cx="1523880" cy="13136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redit Sale /Services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ได้ออกใบกำ กับภาษีแล้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571840" y="4809960"/>
            <a:ext cx="1523880" cy="703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กระทบต่อ 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333600" y="6165720"/>
            <a:ext cx="1743120" cy="1008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 WT.  For  Dis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4210200" y="3181320"/>
            <a:ext cx="1409400" cy="16185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redit  Services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ยังมิได้ออกใบกำกับภาษ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210200" y="4718160"/>
            <a:ext cx="1409400" cy="1008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duce VAT Base 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8/1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3324240" y="2924280"/>
            <a:ext cx="175248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333600" y="5950080"/>
            <a:ext cx="18288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333600" y="5543640"/>
            <a:ext cx="14400" cy="4064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148360" y="5734080"/>
            <a:ext cx="0" cy="21600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4172040" y="5940360"/>
            <a:ext cx="0" cy="1526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257640" y="451476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076720" y="4508640"/>
            <a:ext cx="0" cy="2156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4284720" y="270828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3333600" y="2924280"/>
            <a:ext cx="14400" cy="2570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5076720" y="2924280"/>
            <a:ext cx="9720" cy="2570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295280" y="981000"/>
            <a:ext cx="609624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284720" y="620640"/>
            <a:ext cx="0" cy="5763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295280" y="981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276200" y="162864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285920" y="3716280"/>
            <a:ext cx="0" cy="4572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285920" y="4897440"/>
            <a:ext cx="0" cy="3808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715000" y="3181320"/>
            <a:ext cx="1600200" cy="13136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ลทางปฏิบัติเหมือนกับ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de  Dis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715000" y="4724280"/>
            <a:ext cx="1600200" cy="703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de  Dis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77120" y="5759280"/>
            <a:ext cx="1828800" cy="3988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.T. 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7448400" y="3181320"/>
            <a:ext cx="1600200" cy="13136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ลทางปฏิบัติเหมือนกับ 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ash  Dis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7448400" y="4734000"/>
            <a:ext cx="1600200" cy="703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ash  Dis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477120" y="3029040"/>
            <a:ext cx="175248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477120" y="5589720"/>
            <a:ext cx="18288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6477120" y="4952880"/>
            <a:ext cx="0" cy="1526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8305920" y="4933800"/>
            <a:ext cx="0" cy="1526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7380360" y="5581800"/>
            <a:ext cx="0" cy="1522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443640" y="4508640"/>
            <a:ext cx="0" cy="2156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7315200" y="276876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477120" y="3029040"/>
            <a:ext cx="0" cy="1522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8229600" y="3029040"/>
            <a:ext cx="0" cy="1522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300720" y="6335640"/>
            <a:ext cx="2324160" cy="703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 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aler 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ผู้รั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7391520" y="98100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284720" y="1611360"/>
            <a:ext cx="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7380000" y="1557360"/>
            <a:ext cx="11160" cy="1983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8229600" y="4508640"/>
            <a:ext cx="14400" cy="2156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443640" y="5445000"/>
            <a:ext cx="0" cy="1447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8317080" y="5373720"/>
            <a:ext cx="0" cy="216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380360" y="6153120"/>
            <a:ext cx="0" cy="2286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277920" y="322200"/>
            <a:ext cx="2411280" cy="762120"/>
          </a:xfrm>
          <a:prstGeom prst="rect">
            <a:avLst/>
          </a:prstGeom>
          <a:solidFill>
            <a:srgbClr val="010175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Princip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gn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070080" y="322200"/>
            <a:ext cx="2949840" cy="744480"/>
          </a:xfrm>
          <a:prstGeom prst="rect">
            <a:avLst/>
          </a:prstGeom>
          <a:solidFill>
            <a:srgbClr val="0000ff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ฝากขาย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nsignment S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982960" y="2390760"/>
            <a:ext cx="3058920" cy="884160"/>
          </a:xfrm>
          <a:prstGeom prst="diamond">
            <a:avLst/>
          </a:prstGeom>
          <a:solidFill>
            <a:srgbClr val="0d23f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ollow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432400" y="4137120"/>
            <a:ext cx="3429000" cy="691920"/>
          </a:xfrm>
          <a:prstGeom prst="rect">
            <a:avLst/>
          </a:prstGeom>
          <a:solidFill>
            <a:srgbClr val="154e08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ใบกำกับ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965920" y="703440"/>
            <a:ext cx="45720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880320" y="2847960"/>
            <a:ext cx="0" cy="6858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519440" y="1066680"/>
            <a:ext cx="6480" cy="216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2079720" y="2833560"/>
            <a:ext cx="91440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455920" y="2411280"/>
            <a:ext cx="414360" cy="384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689200" y="703440"/>
            <a:ext cx="38088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965920" y="2847960"/>
            <a:ext cx="91440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203800" y="3533760"/>
            <a:ext cx="3429000" cy="720720"/>
          </a:xfrm>
          <a:prstGeom prst="rect">
            <a:avLst/>
          </a:prstGeom>
          <a:solidFill>
            <a:srgbClr val="154e08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Point: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ื่อส่งมอบ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ตัวแท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77920" y="706320"/>
            <a:ext cx="24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23120" y="322200"/>
            <a:ext cx="2514600" cy="762120"/>
          </a:xfrm>
          <a:prstGeom prst="rect">
            <a:avLst/>
          </a:prstGeom>
          <a:solidFill>
            <a:srgbClr val="154e08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แท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Ag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gn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222720" y="1282680"/>
            <a:ext cx="2514600" cy="762120"/>
          </a:xfrm>
          <a:prstGeom prst="rect">
            <a:avLst/>
          </a:prstGeom>
          <a:solidFill>
            <a:srgbClr val="0033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การขายสินค้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Deemed S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4518000" y="2085840"/>
            <a:ext cx="0" cy="30492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10280" y="2354400"/>
            <a:ext cx="380880" cy="380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2079720" y="2833560"/>
            <a:ext cx="0" cy="6858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423120" y="703440"/>
            <a:ext cx="249552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880320" y="4829040"/>
            <a:ext cx="0" cy="3812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203800" y="5203800"/>
            <a:ext cx="3352680" cy="692280"/>
          </a:xfrm>
          <a:prstGeom prst="rect">
            <a:avLst/>
          </a:prstGeom>
          <a:solidFill>
            <a:srgbClr val="154e08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ใบลดหนี้เมื่อคืน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250920" y="3519360"/>
            <a:ext cx="3886200" cy="2362320"/>
          </a:xfrm>
          <a:prstGeom prst="rect">
            <a:avLst/>
          </a:prstGeom>
          <a:solidFill>
            <a:srgbClr val="66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Point: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ื่อตัวแทนส่งมอ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ให้ลูก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แทนต้องออกใบกำกับแบ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็มรูปเท่านั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แทนต้องจัดทำรายงาน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วัตถุดิบแทนตัว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851400" y="2266920"/>
            <a:ext cx="13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78(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213960" y="993600"/>
            <a:ext cx="2940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iscount St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partment St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venience St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972000" y="140184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77/1(8)(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799680" y="2266920"/>
            <a:ext cx="13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78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44520" y="5883120"/>
            <a:ext cx="36766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 ของคำสั่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มสรรพากรที่ 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/25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114880" y="5881680"/>
            <a:ext cx="36705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แรก ของคำสั่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มสรรพากรที่ 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/25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กาศอธิบดีฯ เกี่ยวกับภาษีมูลค่าเพิ่ม 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8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 วิธีการ และเงื่อนไขของสัญญาการตั้งตัวแทนเพื่อขาย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(3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เป็นสัญญาการตั้งตัวแทนเพื่อขายสินค้าโดยตัวแทนได้รับค่าตอบแทนหรือบำเหน็จจากตัวการตามที่ได้กำหนดไว้ในสัญญาตั้งตัวแท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ญญาตาม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จัดทำเป็นลายลักษณ์อักษร และเป็นสัญญาที่ตั้งตัวแทนเพื่อขายสินค้าประเภทใดประเภทหนึ่ง หรือทุกประเภทก็ได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การและตัวแทนต้องเป็นผู้ประกอบการจดทะเบียนซึ่งต้องคำนวณเสียภาษีมูลค่าเพิ่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การและตัวแทนต้องเก็บรักษาต้นฉบับสัญญาการตั้งตัวแทนไว้ ณ สถานประกอบการที่เป็นสำนักงานใหญ่ เป็นเวลาไม่น้อยกว่าห้าปีนับแต่วันสิ้นสุดสัญญ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กาศอธิบดีฯ เกี่ยวกับภาษีมูลค่าเพิ่ม 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8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896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 วิธีการ และเงื่อนไขของสัญญาการตั้งตัวแทนเพื่อขาย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การต้องแจ้งสัญญาการตั้งตัวแทนต่อเจ้าพนักงานสรรพากรภายใ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นับแต่วันทำสัญญาตั้งตัวแทน ณ สำนักงานสรรพากรพื้นที่ หรือสำนักงานสรรพากรพื้นที่สาขาในเขตท้องที่ที่สถานประกอบการที่เป็นสำนักงานใหญ่ของตัวการตั้งอยู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แทนต้องจัดทำรายงานสินค้าและวัตถุดิบ โดยให้จัดทำแยกต่างหากจากรายงานสินค้าและวัตถุดิบของตน 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ำสั่งกรมสรรพากรที่ ท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1/2528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3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3556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รายได้และรายจ่ายของบริษัทหรือห้างหุ้นส่วนนิติบุคคลซึ่งประกอบกิจการฝากขายสินค้าซึ่งผู้รับฝากสินค้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gne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ำหน้าที่ขายสินค้าแทนผู้ฝากสินค้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gnor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เกณฑ์สิทธิตาม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บริษัทหรือห้างหุ้นส่วนนิติบุคคลนั้นต้องนำรายได้จากการขายสินค้ามารวมคำนวณเป็นรายได้ทั้งจำนวนในรอบระยะเวลาบัญชีที่มีการฝากขายสินค้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3556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บริษัทหรือห้างหุ้นส่วนนิติบุคคลซึ่งประกอบกิจการฝากขาย สินค้าตามวรรคหนึ่งได้ทำสัญญาการตั้งตัวแทนผู้รับฝากสินค้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gne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ขายเป็นหนังสือ โดยตัวแทนผู้รับฝากสินค้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gne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ค่าตอบแทนหรือบำเหน็จตามที่กำหนดไว้ในสัญญา บริษัทหรือห้างหุ้นส่วนนิติบุคคลนั้นจะคำนวณรายได้เมื่อตัวแทนผู้รับฝากสินค้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gne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ยสินค้าให้แก่ผู้ซื้อก็ได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ของ 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onsignment Sale 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8(3) 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8(1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09" name=""/>
          <p:cNvGraphicFramePr/>
          <p:nvPr/>
        </p:nvGraphicFramePr>
        <p:xfrm>
          <a:off x="108000" y="1438200"/>
          <a:ext cx="8964720" cy="3738600"/>
        </p:xfrm>
        <a:graphic>
          <a:graphicData uri="http://schemas.openxmlformats.org/drawingml/2006/table">
            <a:tbl>
              <a:tblPr/>
              <a:tblGrid>
                <a:gridCol w="3033720"/>
                <a:gridCol w="3039840"/>
                <a:gridCol w="2891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8(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8(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วามรับผิดในการเสีย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ส่งมอบสินค้าให้ผู้รับฝากข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ผู้รับฝากขายได้ส่งมอบสินค้าให้ผู้ซื้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รับรู้รายได้ในทา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ูข้อ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3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รรคแรกของ ท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1/25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ูข้อ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3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รรคสองของ ท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1/25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ออก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 Inv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ะออกแบบเต็มรูปหรืออย่างย่อก็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ออกแบบเต็มรูปเท่านั้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จัดทำ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Stock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Boo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่างฝ่ายต่างจัดทำในส่วนของต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ัวแทนต้องจัดทำแทนตัว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/>
          <p:nvPr/>
        </p:nvSpPr>
        <p:spPr>
          <a:xfrm>
            <a:off x="179280" y="189000"/>
            <a:ext cx="1441440" cy="431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18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25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81080" y="981000"/>
            <a:ext cx="2303280" cy="1295640"/>
          </a:xfrm>
          <a:prstGeom prst="rect">
            <a:avLst/>
          </a:prstGeom>
          <a:solidFill>
            <a:srgbClr val="288a1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ppli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Manufactur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mpo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holesa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187280" y="2300400"/>
            <a:ext cx="10083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 3%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52280" y="2637000"/>
            <a:ext cx="1871640" cy="720720"/>
          </a:xfrm>
          <a:prstGeom prst="diamond">
            <a:avLst/>
          </a:prstGeom>
          <a:solidFill>
            <a:srgbClr val="78fb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</a:rPr>
              <a:t>สินค้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33520" y="3832200"/>
            <a:ext cx="1152360" cy="358920"/>
          </a:xfrm>
          <a:prstGeom prst="rect">
            <a:avLst/>
          </a:prstGeom>
          <a:solidFill>
            <a:srgbClr val="0101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692360" y="3284640"/>
            <a:ext cx="1079280" cy="358560"/>
          </a:xfrm>
          <a:prstGeom prst="rect">
            <a:avLst/>
          </a:prstGeom>
          <a:solidFill>
            <a:srgbClr val="46843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52280" y="4419720"/>
            <a:ext cx="1800360" cy="792000"/>
          </a:xfrm>
          <a:prstGeom prst="diamond">
            <a:avLst/>
          </a:prstGeom>
          <a:solidFill>
            <a:srgbClr val="46843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รียกเก็บจา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รับรางวั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965240" y="5200560"/>
            <a:ext cx="1006560" cy="362160"/>
          </a:xfrm>
          <a:prstGeom prst="rect">
            <a:avLst/>
          </a:prstGeom>
          <a:solidFill>
            <a:srgbClr val="46843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ส่ง </a:t>
            </a:r>
            <a:r>
              <a:rPr b="1" lang="en-US" sz="1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066680" y="332748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66680" y="4191120"/>
            <a:ext cx="0" cy="245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066680" y="5181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1906560" y="4800600"/>
            <a:ext cx="577440" cy="431640"/>
            <a:chOff x="1906560" y="4800600"/>
            <a:chExt cx="577440" cy="431640"/>
          </a:xfrm>
        </p:grpSpPr>
        <p:sp>
          <p:nvSpPr>
            <p:cNvPr id="1322" name=""/>
            <p:cNvSpPr/>
            <p:nvPr/>
          </p:nvSpPr>
          <p:spPr>
            <a:xfrm>
              <a:off x="1906560" y="4800600"/>
              <a:ext cx="577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484000" y="4800600"/>
              <a:ext cx="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1908000" y="5592600"/>
            <a:ext cx="576000" cy="502560"/>
            <a:chOff x="1908000" y="5592600"/>
            <a:chExt cx="576000" cy="502560"/>
          </a:xfrm>
        </p:grpSpPr>
        <p:sp>
          <p:nvSpPr>
            <p:cNvPr id="1325" name=""/>
            <p:cNvSpPr/>
            <p:nvPr/>
          </p:nvSpPr>
          <p:spPr>
            <a:xfrm>
              <a:off x="1908000" y="6095160"/>
              <a:ext cx="57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2484000" y="5592600"/>
              <a:ext cx="0" cy="50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7" name=""/>
          <p:cNvSpPr/>
          <p:nvPr/>
        </p:nvSpPr>
        <p:spPr>
          <a:xfrm>
            <a:off x="2195640" y="29955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066680" y="2276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050920" y="4508640"/>
            <a:ext cx="2890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930240" y="5299200"/>
            <a:ext cx="289080" cy="263520"/>
          </a:xfrm>
          <a:prstGeom prst="ellipse">
            <a:avLst/>
          </a:prstGeom>
          <a:solidFill>
            <a:srgbClr val="46843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484360" y="1341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916360" y="981000"/>
            <a:ext cx="338436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ward, Discount, Oth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enefit for Sale Promo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ลดต้นทุนให้หรื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ร้าง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ิ่มยอดขายให้ลูกค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300720" y="1341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732720" y="981000"/>
            <a:ext cx="2376360" cy="129564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aler /Distribut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holesa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tai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xpo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500720" y="213372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6360" y="2492280"/>
            <a:ext cx="3456000" cy="2089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ธรรมเนียมแรกเข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ช่วยเหลือค่าใช้จ่า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สนับสนุ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ลดพิเศ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ลดตามเป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ื่น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500720" y="458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7956720" y="2276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804000" y="2637000"/>
            <a:ext cx="2303640" cy="129672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บรู้เป็นรายได้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Non V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ูกหัก ณ ที่จ่าย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1860480" y="155520"/>
            <a:ext cx="595836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สินค้าเพื่อการส่งเสริมการจำหน่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1908000" y="299736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914400" y="3419640"/>
            <a:ext cx="287280" cy="296640"/>
          </a:xfrm>
          <a:prstGeom prst="ellipse">
            <a:avLst/>
          </a:prstGeom>
          <a:solidFill>
            <a:srgbClr val="46843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79280" y="1341360"/>
            <a:ext cx="230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732720" y="1341360"/>
            <a:ext cx="241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24000" y="5691240"/>
            <a:ext cx="1562040" cy="86184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ใบกำกับภาษ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586320" y="5013360"/>
            <a:ext cx="2209680" cy="1295280"/>
          </a:xfrm>
          <a:prstGeom prst="flowChartDocumen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ppo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133720" y="2852640"/>
            <a:ext cx="277560" cy="271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6948360" y="4451400"/>
            <a:ext cx="2016360" cy="161856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มายเหต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รณีผู้ซื้อเป็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ผู้ผลิต ผู้ให้บริ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ผู้ใช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ผู้บริโภ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Non W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888240" y="4437000"/>
            <a:ext cx="420480" cy="401760"/>
          </a:xfrm>
          <a:custGeom>
            <a:avLst/>
            <a:gdLst/>
            <a:ahLst/>
            <a:rect l="l" t="t" r="r" b="b"/>
            <a:pathLst>
              <a:path w="1167" h="1117">
                <a:moveTo>
                  <a:pt x="19149" y="12005"/>
                </a:moveTo>
                <a:cubicBezTo>
                  <a:pt x="19261" y="12013"/>
                  <a:pt x="19298" y="12028"/>
                  <a:pt x="19397" y="12080"/>
                </a:cubicBezTo>
                <a:cubicBezTo>
                  <a:pt x="19590" y="12181"/>
                  <a:pt x="19785" y="12270"/>
                  <a:pt x="19968" y="12378"/>
                </a:cubicBezTo>
                <a:cubicBezTo>
                  <a:pt x="20080" y="12444"/>
                  <a:pt x="20160" y="12557"/>
                  <a:pt x="20290" y="12576"/>
                </a:cubicBezTo>
                <a:cubicBezTo>
                  <a:pt x="20298" y="12576"/>
                  <a:pt x="20307" y="12576"/>
                  <a:pt x="20315" y="12576"/>
                </a:cubicBezTo>
              </a:path>
              <a:path w="1167" h="1117">
                <a:moveTo>
                  <a:pt x="19968" y="11906"/>
                </a:moveTo>
                <a:cubicBezTo>
                  <a:pt x="19940" y="11906"/>
                  <a:pt x="19883" y="11917"/>
                  <a:pt x="19869" y="11931"/>
                </a:cubicBezTo>
                <a:cubicBezTo>
                  <a:pt x="19835" y="11966"/>
                  <a:pt x="19793" y="12057"/>
                  <a:pt x="19769" y="12105"/>
                </a:cubicBezTo>
                <a:cubicBezTo>
                  <a:pt x="19749" y="12146"/>
                  <a:pt x="19692" y="12257"/>
                  <a:pt x="19670" y="12278"/>
                </a:cubicBezTo>
                <a:cubicBezTo>
                  <a:pt x="19609" y="12335"/>
                  <a:pt x="19587" y="12397"/>
                  <a:pt x="19546" y="12477"/>
                </a:cubicBezTo>
                <a:cubicBezTo>
                  <a:pt x="19512" y="12545"/>
                  <a:pt x="19485" y="12611"/>
                  <a:pt x="19447" y="12675"/>
                </a:cubicBezTo>
                <a:cubicBezTo>
                  <a:pt x="19426" y="12709"/>
                  <a:pt x="19382" y="12781"/>
                  <a:pt x="19372" y="12799"/>
                </a:cubicBezTo>
                <a:cubicBezTo>
                  <a:pt x="19372" y="12827"/>
                  <a:pt x="19370" y="12838"/>
                  <a:pt x="19348" y="12849"/>
                </a:cubicBezTo>
              </a:path>
              <a:path w="1167" h="1117">
                <a:moveTo>
                  <a:pt x="19174" y="12502"/>
                </a:moveTo>
                <a:cubicBezTo>
                  <a:pt x="19174" y="12477"/>
                  <a:pt x="19174" y="12469"/>
                  <a:pt x="19174" y="12452"/>
                </a:cubicBezTo>
                <a:cubicBezTo>
                  <a:pt x="19214" y="12442"/>
                  <a:pt x="19294" y="12398"/>
                  <a:pt x="19323" y="12378"/>
                </a:cubicBezTo>
                <a:cubicBezTo>
                  <a:pt x="19406" y="12322"/>
                  <a:pt x="19389" y="12300"/>
                  <a:pt x="19496" y="12278"/>
                </a:cubicBezTo>
                <a:cubicBezTo>
                  <a:pt x="19546" y="12268"/>
                  <a:pt x="19594" y="12258"/>
                  <a:pt x="19645" y="12254"/>
                </a:cubicBezTo>
                <a:cubicBezTo>
                  <a:pt x="19695" y="12250"/>
                  <a:pt x="19772" y="12220"/>
                  <a:pt x="19819" y="12204"/>
                </a:cubicBezTo>
                <a:cubicBezTo>
                  <a:pt x="19872" y="12186"/>
                  <a:pt x="19949" y="12151"/>
                  <a:pt x="19993" y="12129"/>
                </a:cubicBezTo>
                <a:cubicBezTo>
                  <a:pt x="20028" y="12112"/>
                  <a:pt x="20050" y="12088"/>
                  <a:pt x="20092" y="12080"/>
                </a:cubicBezTo>
                <a:cubicBezTo>
                  <a:pt x="20103" y="12048"/>
                  <a:pt x="20126" y="12040"/>
                  <a:pt x="20166" y="12030"/>
                </a:cubicBezTo>
                <a:cubicBezTo>
                  <a:pt x="20179" y="11991"/>
                  <a:pt x="20178" y="12020"/>
                  <a:pt x="20191" y="11981"/>
                </a:cubicBezTo>
              </a:path>
              <a:path w="1167" h="1117">
                <a:moveTo>
                  <a:pt x="19769" y="11733"/>
                </a:moveTo>
                <a:cubicBezTo>
                  <a:pt x="19758" y="11777"/>
                  <a:pt x="19745" y="11804"/>
                  <a:pt x="19745" y="11857"/>
                </a:cubicBezTo>
                <a:cubicBezTo>
                  <a:pt x="19745" y="12113"/>
                  <a:pt x="19745" y="12370"/>
                  <a:pt x="19745" y="1262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8412120" y="4938840"/>
            <a:ext cx="180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23366" y="13742"/>
                </a:moveTo>
                <a:cubicBezTo>
                  <a:pt x="23366" y="13734"/>
                  <a:pt x="23366" y="13725"/>
                  <a:pt x="23366" y="137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236000" y="5734080"/>
            <a:ext cx="28728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3276720" y="3141720"/>
            <a:ext cx="2303280" cy="57456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50920" y="184320"/>
            <a:ext cx="3313080" cy="502920"/>
          </a:xfrm>
          <a:prstGeom prst="rect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ินค้าที่ให้ฟรี </a:t>
            </a: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FOC Good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58920" y="976320"/>
            <a:ext cx="2700360" cy="719280"/>
          </a:xfrm>
          <a:prstGeom prst="diamond">
            <a:avLst/>
          </a:prstGeom>
          <a:solidFill>
            <a:srgbClr val="46843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ของแถ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Prem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395280" y="1911240"/>
            <a:ext cx="2592360" cy="64944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Uni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31640" y="2776680"/>
            <a:ext cx="2556000" cy="863280"/>
          </a:xfrm>
          <a:prstGeom prst="diamond">
            <a:avLst/>
          </a:prstGeom>
          <a:solidFill>
            <a:srgbClr val="66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สินค้าตัวอย่างเพื่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การส่งเสริมการขา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60360" y="3855960"/>
            <a:ext cx="2627280" cy="719280"/>
          </a:xfrm>
          <a:prstGeom prst="diamond">
            <a:avLst/>
          </a:prstGeom>
          <a:solidFill>
            <a:srgbClr val="0000ff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Rew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างวัลแต่ละวั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33440" y="4792680"/>
            <a:ext cx="2482920" cy="720720"/>
          </a:xfrm>
          <a:prstGeom prst="diamond">
            <a:avLst/>
          </a:prstGeom>
          <a:solidFill>
            <a:srgbClr val="0033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รางวัลจากการชิงโช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24000" y="5729400"/>
            <a:ext cx="2663640" cy="861840"/>
          </a:xfrm>
          <a:prstGeom prst="diamond">
            <a:avLst/>
          </a:prstGeom>
          <a:solidFill>
            <a:srgbClr val="33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Reward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ให้กั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Dealer Sale Promo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1692360" y="5511960"/>
            <a:ext cx="1440" cy="28872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692360" y="4503600"/>
            <a:ext cx="1440" cy="2890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1692360" y="3639960"/>
            <a:ext cx="1440" cy="216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692360" y="2560680"/>
            <a:ext cx="1440" cy="2872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692360" y="1695600"/>
            <a:ext cx="1440" cy="28872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763640" y="615960"/>
            <a:ext cx="1800" cy="4316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156360" y="1120680"/>
            <a:ext cx="2736720" cy="503280"/>
          </a:xfrm>
          <a:prstGeom prst="rect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Arial"/>
              </a:rPr>
              <a:t>Non VAT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211640" y="4865760"/>
            <a:ext cx="2089080" cy="57456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Arial"/>
              </a:rPr>
              <a:t>V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211640" y="5873760"/>
            <a:ext cx="2089080" cy="57456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Arial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940360" y="5229360"/>
            <a:ext cx="1871640" cy="3988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WT. 5 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5869080" y="6257880"/>
            <a:ext cx="1942920" cy="3988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     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WT. 3 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3059280" y="1336680"/>
            <a:ext cx="2838240" cy="14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7093080" y="1623600"/>
            <a:ext cx="1440" cy="259236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916360" y="4221000"/>
            <a:ext cx="410364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916360" y="3208320"/>
            <a:ext cx="4103640" cy="46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987640" y="2273400"/>
            <a:ext cx="4105440" cy="32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916360" y="5153040"/>
            <a:ext cx="1187280" cy="14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916360" y="6161040"/>
            <a:ext cx="1238040" cy="64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1187280" y="5514840"/>
            <a:ext cx="289080" cy="219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187280" y="4579920"/>
            <a:ext cx="289080" cy="219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1187280" y="3639960"/>
            <a:ext cx="289080" cy="219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187280" y="2565360"/>
            <a:ext cx="289080" cy="219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187280" y="1700280"/>
            <a:ext cx="289080" cy="218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220920" y="990720"/>
            <a:ext cx="287280" cy="27756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2764440" y="1303200"/>
            <a:ext cx="32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lue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เกินมูลค่าขาย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2909880" y="2311560"/>
            <a:ext cx="35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เกิน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ุด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สื้อนอก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ป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3296880" y="321300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b2b2b2"/>
                </a:solidFill>
                <a:latin typeface="Arial"/>
                <a:cs typeface="Microsoft Sans Serif"/>
              </a:rPr>
              <a:t>แก่ผู้บริโภคคนสุดท้า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567240" y="4149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่น ห้างสรรพสินค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3220920" y="3836880"/>
            <a:ext cx="287280" cy="2779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203640" y="1905120"/>
            <a:ext cx="304560" cy="2998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203640" y="2824200"/>
            <a:ext cx="304560" cy="2998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3259080" y="4797360"/>
            <a:ext cx="304920" cy="30024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3259080" y="5788080"/>
            <a:ext cx="304920" cy="2998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3588120" y="94464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แถมพร้อมขาย</a:t>
            </a: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/</a:t>
            </a:r>
            <a:r>
              <a:rPr b="0" lang="hi-IN" sz="20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บริ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068880" y="68724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ม</a:t>
            </a:r>
            <a:r>
              <a:rPr b="0" lang="th-TH" sz="2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79(4) </a:t>
            </a:r>
            <a:r>
              <a:rPr b="0" lang="th-TH" sz="2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ประกาศ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VAT#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213080" y="281628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(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4141800" y="184464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(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170240" y="3824280"/>
            <a:ext cx="97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2124000" y="3500280"/>
            <a:ext cx="1295640" cy="1008360"/>
          </a:xfrm>
          <a:prstGeom prst="flowChartDocumen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124000" y="2057400"/>
            <a:ext cx="1295640" cy="1008000"/>
          </a:xfrm>
          <a:prstGeom prst="flowChartDocumen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5114520" y="1625760"/>
            <a:ext cx="162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FO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Non 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475560" y="2314440"/>
            <a:ext cx="1486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Suppl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2000160" y="2562120"/>
            <a:ext cx="165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674520" y="2320920"/>
            <a:ext cx="12294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Dea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4932360" y="2562120"/>
            <a:ext cx="1893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843600" y="2320920"/>
            <a:ext cx="20005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Consu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2270520" y="2057400"/>
            <a:ext cx="89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S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4427640" y="285120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1187280" y="285120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1187280" y="400356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337480" y="350028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C/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4897440" y="3425760"/>
            <a:ext cx="21207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On behalf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Suppl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124000" y="692280"/>
            <a:ext cx="1295640" cy="1008000"/>
          </a:xfrm>
          <a:prstGeom prst="flowChartDocumen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4427640" y="112248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1187280" y="112248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187280" y="11224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1710000" y="620640"/>
            <a:ext cx="20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Handle F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7%</a:t>
            </a:r>
            <a:r>
              <a:rPr b="0" lang="th-TH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Microsoft Sans Serif"/>
              </a:rPr>
              <a:t>WT 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906560" y="1989000"/>
            <a:ext cx="289080" cy="28908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692360" y="3645000"/>
            <a:ext cx="288720" cy="28872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4932360" y="1916280"/>
            <a:ext cx="289080" cy="28872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403280" y="765000"/>
            <a:ext cx="289080" cy="28908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"/>
          <p:cNvSpPr/>
          <p:nvPr/>
        </p:nvSpPr>
        <p:spPr>
          <a:xfrm>
            <a:off x="457200" y="228600"/>
            <a:ext cx="3429000" cy="60804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ารนำสินค้าไปใช้ในกิจการ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Own use VAT Goo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50920" y="1197000"/>
            <a:ext cx="3313080" cy="71928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on 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Activi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91960" y="2290680"/>
            <a:ext cx="3200400" cy="706680"/>
          </a:xfrm>
          <a:prstGeom prst="diamond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Entertai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79280" y="3357720"/>
            <a:ext cx="3313080" cy="1143000"/>
          </a:xfrm>
          <a:prstGeom prst="diamond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ใช้กับรถยนต์นั่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หรือรถยนต์โดยส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ที่มีที่นั่งไม่เกิน 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10 </a:t>
            </a: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ค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09480" y="4881600"/>
            <a:ext cx="2590920" cy="609480"/>
          </a:xfrm>
          <a:prstGeom prst="diamond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taff Welfa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85800" y="5872320"/>
            <a:ext cx="2514600" cy="533160"/>
          </a:xfrm>
          <a:prstGeom prst="rect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Activi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105520" y="1147680"/>
            <a:ext cx="3047760" cy="71604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ถือเป็นการขาย</a:t>
            </a:r>
            <a:r>
              <a:rPr b="0" lang="th-TH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2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บริการ</a:t>
            </a: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:</a:t>
            </a:r>
            <a:r>
              <a:rPr b="0" lang="th-TH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: Deemed Sa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257800" y="4911840"/>
            <a:ext cx="251460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on VAT B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181480" y="3510000"/>
            <a:ext cx="3048120" cy="7621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ถือเป็นการขาย</a:t>
            </a:r>
            <a:r>
              <a:rPr b="0" lang="th-TH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2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บริการ  </a:t>
            </a: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: Deemed Sa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181480" y="2421000"/>
            <a:ext cx="2990880" cy="647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ถือเป็นการบริการมี </a:t>
            </a: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: Deemed Ser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276720" y="394956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124080" y="51865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419640" y="2638440"/>
            <a:ext cx="180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492360" y="1557360"/>
            <a:ext cx="165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1908000" y="836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1908000" y="1916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05120" y="299736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1905120" y="4510080"/>
            <a:ext cx="2880" cy="355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905120" y="5511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825720" y="1268280"/>
            <a:ext cx="289080" cy="29232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387440" y="4500720"/>
            <a:ext cx="289080" cy="296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825720" y="2278080"/>
            <a:ext cx="289080" cy="28908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825720" y="3573360"/>
            <a:ext cx="289080" cy="29232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828960" y="4797360"/>
            <a:ext cx="285840" cy="29232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257800" y="5902200"/>
            <a:ext cx="2514600" cy="503280"/>
          </a:xfrm>
          <a:prstGeom prst="rect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on VAT B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200400" y="61768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371600" y="3129120"/>
            <a:ext cx="289080" cy="296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371600" y="1916280"/>
            <a:ext cx="289080" cy="296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387440" y="5499000"/>
            <a:ext cx="289080" cy="297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522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lnSpc>
                <a:spcPct val="120000"/>
              </a:lnSpc>
              <a:buNone/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ฏิจจสมุปบาท คือ อริยสัจสบูรณ์แบบ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ริยสัจเต็มขนา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20000"/>
              </a:lnSpc>
              <a:buNone/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ฎิจจ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ศัย   สมุปปาท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ิดขึ้นพร้อ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ctr">
              <a:lnSpc>
                <a:spcPct val="120000"/>
              </a:lnSpc>
              <a:buNone/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อิทัปปัจจยต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วใจปฏิจจสมุปบาท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ctr">
              <a:lnSpc>
                <a:spcPct val="120000"/>
              </a:lnSpc>
              <a:buNone/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เพราะสิ่งนี้ มี   สิ่งนี้ ย่อมม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ctr">
              <a:lnSpc>
                <a:spcPct val="120000"/>
              </a:lnSpc>
              <a:buNone/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เพราะความเกิดขึ้นแห่งสิ่งนี้   สิ่งนี้จึงเกิ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ctr">
              <a:lnSpc>
                <a:spcPct val="120000"/>
              </a:lnSpc>
              <a:buNone/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เมื่อสิ่งนี้ ไม่มี       สิ่งนี้ ย่อมไม่ม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ctr">
              <a:lnSpc>
                <a:spcPct val="120000"/>
              </a:lnSpc>
              <a:buNone/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เพราะความดับไปแห่งสิ่งนี้      สิ่งนี้จึงดับ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-258480" y="255600"/>
            <a:ext cx="956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ฏิจจสมุปบาท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Dependent Originatio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6520" y="5079960"/>
            <a:ext cx="615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ฏิจจสมุปบาทธรรม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าร มีสองส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ยเกิดทุกข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ยดับทุกข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66D-BE58-4C17-B031-48A8AF0754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609480" y="457200"/>
            <a:ext cx="57150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นำสินค้าไปใช้กับรถยนต์ของตนเ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819520" y="1066680"/>
            <a:ext cx="0" cy="41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990720" y="1482840"/>
            <a:ext cx="3657600" cy="91440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641160" y="1413000"/>
            <a:ext cx="431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รถยนต์นั่งหรือรถยนต์โดยส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ที่มีที่นั่งไม่เกิน </a:t>
            </a: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ค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648320" y="194004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821480" y="1393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498280" y="1482840"/>
            <a:ext cx="27255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ถือเป็นการขาย</a:t>
            </a:r>
            <a:r>
              <a:rPr b="0" lang="th-TH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การให้บริการ </a:t>
            </a: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2819520" y="23972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2829600" y="238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990720" y="3006720"/>
            <a:ext cx="3657600" cy="91440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785600" y="2975040"/>
            <a:ext cx="221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รถยนต์อื่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ในกิจการ </a:t>
            </a: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4648320" y="34639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4821480" y="2917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490720" y="3159000"/>
            <a:ext cx="25308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Non VAT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819520" y="3921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829600" y="3908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463040" y="4530600"/>
            <a:ext cx="27255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ถือเป็นการขาย</a:t>
            </a:r>
            <a:r>
              <a:rPr b="0" lang="th-TH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การให้บริการ </a:t>
            </a: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476000" y="336600"/>
            <a:ext cx="6551640" cy="931680"/>
          </a:xfrm>
          <a:prstGeom prst="rect">
            <a:avLst/>
          </a:prstGeom>
          <a:noFill/>
          <a:ln w="9360">
            <a:solidFill>
              <a:srgbClr val="f4f03a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ale on Approval:</a:t>
            </a:r>
            <a:r>
              <a:rPr b="0" lang="th-TH" sz="36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36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ขายเผื่อชอบ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1403280" y="3141720"/>
            <a:ext cx="6624720" cy="1154160"/>
          </a:xfrm>
          <a:prstGeom prst="rect">
            <a:avLst/>
          </a:prstGeom>
          <a:noFill/>
          <a:ln w="9360">
            <a:solidFill>
              <a:srgbClr val="f4f03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Tax Point: Delivery to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reate Tax Inv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4643280" y="1268280"/>
            <a:ext cx="0" cy="432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4572000" y="4294080"/>
            <a:ext cx="0" cy="4302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403280" y="4653000"/>
            <a:ext cx="6624720" cy="1152360"/>
          </a:xfrm>
          <a:prstGeom prst="rect">
            <a:avLst/>
          </a:prstGeom>
          <a:noFill/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ustomers refund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reate Credit Note (C/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403280" y="1628640"/>
            <a:ext cx="6624720" cy="1152720"/>
          </a:xfrm>
          <a:prstGeom prst="rect">
            <a:avLst/>
          </a:prstGeom>
          <a:noFill/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Delivery Goods to 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to use before bu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643280" y="2781360"/>
            <a:ext cx="0" cy="36036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"/>
          <p:cNvSpPr/>
          <p:nvPr/>
        </p:nvSpPr>
        <p:spPr>
          <a:xfrm>
            <a:off x="2771640" y="228600"/>
            <a:ext cx="3672000" cy="455760"/>
          </a:xfrm>
          <a:prstGeom prst="rect">
            <a:avLst/>
          </a:prstGeom>
          <a:solidFill>
            <a:srgbClr val="3399ff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onation VAT G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08000" y="1214280"/>
            <a:ext cx="2879640" cy="2808360"/>
          </a:xfrm>
          <a:prstGeom prst="rect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องค์กรสาธารณะกุศ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1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ถานศึกษาของราช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2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โรงพยาบาลราช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3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ภากาชาดไท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4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วัดวาอารา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5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ูลนิธิ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มาคม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Public Or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6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โรงเรียน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หาวิทยาลั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อกชนประกอบกิจการใ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ูปนิติบุคค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132000" y="1197000"/>
            <a:ext cx="2952720" cy="280980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องค์การ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หน่วยงานราช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ที่มีโครงการเพื่อ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1.</a:t>
            </a: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ช่วยเหลือผู้ประสบภั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  </a:t>
            </a: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พิบัต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2.</a:t>
            </a: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พื่อให้รัฐบาล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่วนราช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  </a:t>
            </a: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บริจาคต่อให้แก่สถา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  </a:t>
            </a: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ศึกษ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227640" y="1197000"/>
            <a:ext cx="2843280" cy="2805120"/>
          </a:xfrm>
          <a:prstGeom prst="rect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4f03a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่วนราชการ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,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ัฐวิสาหกิ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ช่น กรมตำรว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08000" y="4387680"/>
            <a:ext cx="2879640" cy="912960"/>
          </a:xfrm>
          <a:prstGeom prst="rect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IT :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65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ตรี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Exempt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81(1)(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น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132000" y="4390920"/>
            <a:ext cx="2952720" cy="90972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IT: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65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: Non Vat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227640" y="4389480"/>
            <a:ext cx="2881440" cy="911160"/>
          </a:xfrm>
          <a:prstGeom prst="rect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IT: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65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3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Deemed Sale V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114560" y="4103640"/>
            <a:ext cx="720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476360" y="907920"/>
            <a:ext cx="6191280" cy="0"/>
          </a:xfrm>
          <a:prstGeom prst="line">
            <a:avLst/>
          </a:prstGeom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643280" y="692280"/>
            <a:ext cx="0" cy="4888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7667640" y="907920"/>
            <a:ext cx="0" cy="270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476360" y="907920"/>
            <a:ext cx="0" cy="2890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08000" y="5445000"/>
            <a:ext cx="2879640" cy="1008720"/>
          </a:xfrm>
          <a:prstGeom prst="rect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Input Tax: Unclaimable</a:t>
            </a: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	</a:t>
            </a: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Deduct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Output Tax: N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4211640" y="4103640"/>
            <a:ext cx="720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7236000" y="4103640"/>
            <a:ext cx="720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271320" y="3357720"/>
            <a:ext cx="2725560" cy="3988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ประกาศ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VAT </a:t>
            </a:r>
            <a:r>
              <a:rPr b="0" lang="th-TH" sz="2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(</a:t>
            </a:r>
            <a:r>
              <a:rPr b="0" lang="th-TH" sz="2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ฉบับที่ </a:t>
            </a:r>
            <a:r>
              <a:rPr b="0" lang="th-TH" sz="2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4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132000" y="5452920"/>
            <a:ext cx="2952720" cy="100872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Input Tax: Claim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	</a:t>
            </a: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Output Tax: N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227640" y="5452920"/>
            <a:ext cx="2881440" cy="1008720"/>
          </a:xfrm>
          <a:prstGeom prst="rect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Input Tax: Unclaim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	</a:t>
            </a: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Output Tax: VA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1463760" y="477720"/>
            <a:ext cx="2232000" cy="719280"/>
          </a:xfrm>
          <a:prstGeom prst="rect">
            <a:avLst/>
          </a:prstGeom>
          <a:solidFill>
            <a:srgbClr val="0d23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ของขวัญ </a:t>
            </a: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Gift)</a:t>
            </a:r>
            <a:r>
              <a:rPr b="1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นื่องในเทศกาล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1103400" y="1628640"/>
            <a:ext cx="2952720" cy="72072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ฏิทิน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Dia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468360" y="2781360"/>
            <a:ext cx="4174920" cy="1152360"/>
          </a:xfrm>
          <a:prstGeom prst="diamond">
            <a:avLst/>
          </a:prstGeom>
          <a:solidFill>
            <a:srgbClr val="0d23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ชื่อ หรือเครื่องหมายการค้าอยู่ถาว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สิ่งของที่พึงให้กันตามประเพณ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คาไม่เกินสมควร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152360" y="4267080"/>
            <a:ext cx="2895840" cy="914400"/>
          </a:xfrm>
          <a:prstGeom prst="diamond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การส่งเสริมการขาย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247760" y="5516640"/>
            <a:ext cx="2592360" cy="731880"/>
          </a:xfrm>
          <a:prstGeom prst="diamond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ื่นๆ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640480" y="1773360"/>
            <a:ext cx="1873080" cy="43488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 Ba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5135400" y="4419720"/>
            <a:ext cx="1960560" cy="5331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, W.T.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5208480" y="5661000"/>
            <a:ext cx="1514520" cy="43200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6606360" y="5626080"/>
            <a:ext cx="20689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ไม่เรียกเก็บ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ต้องห้าม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971880" y="1981080"/>
            <a:ext cx="160020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3819600" y="5866920"/>
            <a:ext cx="137160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971880" y="4719600"/>
            <a:ext cx="1163520" cy="4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600280" y="5181480"/>
            <a:ext cx="180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2543040" y="3933720"/>
            <a:ext cx="18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2523960" y="2362320"/>
            <a:ext cx="1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2542680" y="1052640"/>
            <a:ext cx="180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082960" y="2389320"/>
            <a:ext cx="288720" cy="277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082960" y="4005360"/>
            <a:ext cx="288720" cy="261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082960" y="5214960"/>
            <a:ext cx="288720" cy="271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4643280" y="3357720"/>
            <a:ext cx="178920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6432480" y="2205000"/>
            <a:ext cx="180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4962600" y="2924280"/>
            <a:ext cx="304560" cy="30456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4505400" y="1628640"/>
            <a:ext cx="304560" cy="3049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4276800" y="4371840"/>
            <a:ext cx="304560" cy="3049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3796560" y="263520"/>
            <a:ext cx="2544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ใหม่ สงกรานต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nniver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ิดแนะนำสินค้าใหม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3348000" y="461880"/>
            <a:ext cx="2376360" cy="5205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ven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4500720" y="1038240"/>
            <a:ext cx="0" cy="28908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043080" y="1263600"/>
            <a:ext cx="2900520" cy="1066680"/>
          </a:xfrm>
          <a:prstGeom prst="flowChartDecision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490920" y="1469880"/>
            <a:ext cx="2160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Used in V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 flipH="1">
            <a:off x="1676520" y="1797120"/>
            <a:ext cx="137160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676520" y="1797120"/>
            <a:ext cx="0" cy="60948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3" name=""/>
          <p:cNvGraphicFramePr/>
          <p:nvPr/>
        </p:nvGraphicFramePr>
        <p:xfrm>
          <a:off x="324000" y="4311720"/>
          <a:ext cx="3638520" cy="1781280"/>
        </p:xfrm>
        <a:graphic>
          <a:graphicData uri="http://schemas.openxmlformats.org/drawingml/2006/table">
            <a:tbl>
              <a:tblPr/>
              <a:tblGrid>
                <a:gridCol w="3638520"/>
              </a:tblGrid>
              <a:tr h="152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ar &amp; Involve Car Goo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= Deemed Sale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Deemed Serv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A/S , Exp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4" name=""/>
          <p:cNvSpPr/>
          <p:nvPr/>
        </p:nvSpPr>
        <p:spPr>
          <a:xfrm>
            <a:off x="5943600" y="1797120"/>
            <a:ext cx="144792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391520" y="1797120"/>
            <a:ext cx="0" cy="68112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737320" y="2482920"/>
            <a:ext cx="3178080" cy="1315800"/>
          </a:xfrm>
          <a:prstGeom prst="rect">
            <a:avLst/>
          </a:pr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Deemed  Sale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emed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391520" y="3778200"/>
            <a:ext cx="0" cy="68580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5796000" y="4465800"/>
            <a:ext cx="3124080" cy="1271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st of Fixed As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xpen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6300720" y="804960"/>
            <a:ext cx="251928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Exe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2133720" y="1371600"/>
            <a:ext cx="30456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6477120" y="1371600"/>
            <a:ext cx="3045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5791320" y="3397320"/>
            <a:ext cx="30456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3" name=""/>
          <p:cNvGraphicFramePr/>
          <p:nvPr/>
        </p:nvGraphicFramePr>
        <p:xfrm>
          <a:off x="128520" y="2406600"/>
          <a:ext cx="3529080" cy="193680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Non VAT B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1959"/>
                    </a:solidFill>
                  </a:tcPr>
                </a:tc>
              </a:tr>
              <a:tr h="174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Microsoft Sans Serif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Write off Sto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Microsoft Sans Serif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Reco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Fixed Assets, Depr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Expen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b195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"/>
          <p:cNvSpPr/>
          <p:nvPr/>
        </p:nvSpPr>
        <p:spPr>
          <a:xfrm>
            <a:off x="3564000" y="336600"/>
            <a:ext cx="2016000" cy="785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hor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t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4572000" y="1125360"/>
            <a:ext cx="0" cy="35892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3276720" y="1484280"/>
            <a:ext cx="2590560" cy="720720"/>
          </a:xfrm>
          <a:prstGeom prst="flowChartDecision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637080" y="160344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ason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5724360" y="1833480"/>
            <a:ext cx="1727280" cy="1116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7451640" y="1844640"/>
            <a:ext cx="0" cy="1008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804000" y="2924280"/>
            <a:ext cx="1225440" cy="5205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 flipH="1">
            <a:off x="2050560" y="1844640"/>
            <a:ext cx="122580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451640" y="1844640"/>
            <a:ext cx="0" cy="100800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2050920" y="1854360"/>
            <a:ext cx="0" cy="100800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042920" y="2884320"/>
            <a:ext cx="2016360" cy="5205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 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395280" y="3716280"/>
            <a:ext cx="4464000" cy="25524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* Considered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 Physical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รระเห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ack of Doc. to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 Compare with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Th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5. Acc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6. Manual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786720" y="3467160"/>
            <a:ext cx="136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ena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F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2484360" y="1484280"/>
            <a:ext cx="287280" cy="28908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72360" y="1468440"/>
            <a:ext cx="288720" cy="3049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2701800" y="132552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/>
          <p:nvPr/>
        </p:nvSpPr>
        <p:spPr>
          <a:xfrm>
            <a:off x="380880" y="3124080"/>
            <a:ext cx="800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635360" y="2239920"/>
            <a:ext cx="0" cy="1728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247680" y="836640"/>
            <a:ext cx="341136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ล้าสมั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bsolete Goods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เสื่อมคุณภา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xpired Goods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ชำรุ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am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6214680" y="275436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4414680" y="274464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5364000" y="1413000"/>
            <a:ext cx="2448000" cy="1187280"/>
          </a:xfrm>
          <a:prstGeom prst="wedgeRectCallout">
            <a:avLst>
              <a:gd name="adj1" fmla="val -74773"/>
              <a:gd name="adj2" fmla="val 88236"/>
            </a:avLst>
          </a:prstGeom>
          <a:solidFill>
            <a:srgbClr val="99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Deduct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xpendi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5289840" y="533520"/>
            <a:ext cx="25430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CM Princi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6251400" y="3657600"/>
            <a:ext cx="2308320" cy="990720"/>
          </a:xfrm>
          <a:prstGeom prst="wedgeEllipseCallout">
            <a:avLst>
              <a:gd name="adj1" fmla="val -40578"/>
              <a:gd name="adj2" fmla="val -92148"/>
            </a:avLst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6405480" y="3657600"/>
            <a:ext cx="1903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stroy #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25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290240" y="274464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52440" y="3809880"/>
            <a:ext cx="1742760" cy="520560"/>
          </a:xfrm>
          <a:prstGeom prst="rect">
            <a:avLst/>
          </a:prstGeom>
          <a:solidFill>
            <a:srgbClr val="660066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pprai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2677680" y="276876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2590920" y="3657600"/>
            <a:ext cx="2209680" cy="990720"/>
          </a:xfrm>
          <a:prstGeom prst="wedgeEllipseCallout">
            <a:avLst>
              <a:gd name="adj1" fmla="val -36277"/>
              <a:gd name="adj2" fmla="val -89421"/>
            </a:avLst>
          </a:prstGeom>
          <a:solidFill>
            <a:srgbClr val="0000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2768040" y="3657600"/>
            <a:ext cx="200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stroy #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25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2523960" y="4800600"/>
            <a:ext cx="2797560" cy="819000"/>
          </a:xfrm>
          <a:prstGeom prst="rect">
            <a:avLst/>
          </a:prstGeom>
          <a:solidFill>
            <a:srgbClr val="33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รายจ่ายต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คาทุ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5878440" y="4800600"/>
            <a:ext cx="3038400" cy="819000"/>
          </a:xfrm>
          <a:prstGeom prst="rect">
            <a:avLst/>
          </a:prstGeom>
          <a:solidFill>
            <a:srgbClr val="33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รายจ่ายต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คาทุนคงเหลือสุทธ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4142520" y="162864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1476360" y="3284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828440" y="115560"/>
            <a:ext cx="5715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Destroyed Good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haracter of Goods that Want to Destro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OOThaiSymbol"/>
                <a:ea typeface="OOThaiSymbo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t Normal Waste in manufactur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xpired Goods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หมดอายุ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bsolete Goods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ล้าสมั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amage Goods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ชำรุ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have Good Internal Control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n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eparate Stoc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have Supporting Documents (C/N, Stock Book,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por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has Authorized Approv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form Au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clare to RD’s Offic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/>
          <p:nvPr/>
        </p:nvSpPr>
        <p:spPr>
          <a:xfrm>
            <a:off x="5435640" y="11592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9/25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609480" y="152280"/>
            <a:ext cx="3110040" cy="947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stroyed G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762120" y="1066680"/>
            <a:ext cx="2743200" cy="762120"/>
          </a:xfrm>
          <a:prstGeom prst="flowChartDecision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328760" y="12193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OI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762120" y="2492280"/>
            <a:ext cx="2743200" cy="784440"/>
          </a:xfrm>
          <a:prstGeom prst="flowChartDecision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1112760" y="2565360"/>
            <a:ext cx="20876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ngsana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PZ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Z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2122200" y="730080"/>
            <a:ext cx="11160" cy="33660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122560" y="1828800"/>
            <a:ext cx="11160" cy="66348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2127240" y="3276720"/>
            <a:ext cx="6480" cy="66492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762120" y="3886200"/>
            <a:ext cx="2743200" cy="1066680"/>
          </a:xfrm>
          <a:prstGeom prst="flowChartDecision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1547640" y="4114800"/>
            <a:ext cx="172908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ait f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stro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133720" y="4952880"/>
            <a:ext cx="0" cy="60984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609480" y="5562720"/>
            <a:ext cx="3168720" cy="119124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re-declare ≥30 days before destr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3429000" y="1447920"/>
            <a:ext cx="190512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5343480" y="1066680"/>
            <a:ext cx="2428920" cy="7963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ollow BO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g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3429000" y="2895480"/>
            <a:ext cx="190512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5364000" y="2514600"/>
            <a:ext cx="3168720" cy="1198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ollow EPZ, Cus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g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505320" y="4419720"/>
            <a:ext cx="1752480" cy="0"/>
          </a:xfrm>
          <a:prstGeom prst="line">
            <a:avLst/>
          </a:prstGeom>
          <a:ln w="1260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5292720" y="3962520"/>
            <a:ext cx="2479680" cy="83304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re-decl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3962520" y="1052640"/>
            <a:ext cx="393480" cy="3603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3924360" y="2492280"/>
            <a:ext cx="360360" cy="36036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2286000" y="4941720"/>
            <a:ext cx="414360" cy="392400"/>
          </a:xfrm>
          <a:prstGeom prst="ellipse">
            <a:avLst/>
          </a:prstGeom>
          <a:solidFill>
            <a:srgbClr val="00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2254320" y="1989000"/>
            <a:ext cx="372960" cy="3603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254320" y="3429000"/>
            <a:ext cx="372960" cy="3603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4006800" y="4005360"/>
            <a:ext cx="349200" cy="3380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3957480" y="5073480"/>
            <a:ext cx="4539240" cy="17391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Name, Category, Quantity 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lue of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Destroy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Timing &amp; 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Reason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3465720" y="3352680"/>
            <a:ext cx="19425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hemica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Fresh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7" name=""/>
          <p:cNvGraphicFramePr/>
          <p:nvPr/>
        </p:nvGraphicFramePr>
        <p:xfrm>
          <a:off x="2556000" y="333360"/>
          <a:ext cx="4024080" cy="1101600"/>
        </p:xfrm>
        <a:graphic>
          <a:graphicData uri="http://schemas.openxmlformats.org/drawingml/2006/table">
            <a:tbl>
              <a:tblPr/>
              <a:tblGrid>
                <a:gridCol w="402408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Member Fee, Fe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Golf Club, Sport Clu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Entertainment Clu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8" name=""/>
          <p:cNvSpPr/>
          <p:nvPr/>
        </p:nvSpPr>
        <p:spPr>
          <a:xfrm>
            <a:off x="4570560" y="1415880"/>
            <a:ext cx="1440" cy="2844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843280" y="1700280"/>
            <a:ext cx="3457440" cy="1171440"/>
          </a:xfrm>
          <a:prstGeom prst="flowChartDecision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3203640" y="1773360"/>
            <a:ext cx="27399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กเป็นกรรมสิทธิ์โดยเด็ดขาดของกรรม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ปรึกษาหรือพนัก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H="1">
            <a:off x="6300720" y="2276640"/>
            <a:ext cx="719280" cy="0"/>
          </a:xfrm>
          <a:prstGeom prst="line">
            <a:avLst/>
          </a:prstGeom>
          <a:ln w="1908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 flipH="1">
            <a:off x="2124000" y="2276640"/>
            <a:ext cx="7192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2122560" y="2276640"/>
            <a:ext cx="1440" cy="50292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971640" y="3789360"/>
            <a:ext cx="2282760" cy="719280"/>
          </a:xfrm>
          <a:prstGeom prst="flowChartDecision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ไปใช้เพื่อการรับรอ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684360" y="4149720"/>
            <a:ext cx="0" cy="5032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2484360" y="4653000"/>
            <a:ext cx="1943280" cy="119124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รายจ่ายต้องห้าม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GB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Deductible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 ม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GB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3225960" y="4149720"/>
            <a:ext cx="40932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3635280" y="4149720"/>
            <a:ext cx="0" cy="5014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108000" y="4653000"/>
            <a:ext cx="1728720" cy="91692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รับรองโดย  เฉลียเป็นรายปีตามอายุสมาชิ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2411280" y="1916280"/>
            <a:ext cx="289080" cy="3045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682560" y="3789360"/>
            <a:ext cx="28908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3276720" y="378936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6516720" y="190008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84360" y="2781360"/>
            <a:ext cx="2808000" cy="67932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เงินได้ของผู้รั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en-GB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put Tax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ห้า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684360" y="4149720"/>
            <a:ext cx="2872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2122560" y="3500280"/>
            <a:ext cx="1440" cy="2844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7020000" y="2276640"/>
            <a:ext cx="1440" cy="50292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5869080" y="3789360"/>
            <a:ext cx="2282760" cy="719280"/>
          </a:xfrm>
          <a:prstGeom prst="flowChartDecision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ไปใช้เพื่อการรับรอ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5581800" y="4149720"/>
            <a:ext cx="0" cy="5032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7236000" y="4653000"/>
            <a:ext cx="1909440" cy="146556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นำไปใช้ในกิจการไม่ต้องห้ามม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GB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พิจารณาเป็นรายกรณ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8532720" y="4149720"/>
            <a:ext cx="0" cy="5014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580000" y="3789360"/>
            <a:ext cx="28908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8174160" y="378936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581800" y="2781360"/>
            <a:ext cx="2808000" cy="95364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ถือเป็นเงินได้ของผู้รั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en-GB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put Tax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ห้า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7020000" y="3500280"/>
            <a:ext cx="1440" cy="2844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8101080" y="4149720"/>
            <a:ext cx="409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flipH="1">
            <a:off x="5559480" y="4149720"/>
            <a:ext cx="2872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4859280" y="4653000"/>
            <a:ext cx="1728720" cy="91692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รับรองโดย  เฉลียเป็นรายปีตามอายุสมาชิ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459360" y="2602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6/253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640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ด็นทางด้านราย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venu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ด็นทางด้านรายจ่า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xpenditur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ด็นทางด้านทรัพย์สิน หนี้สิน และทุ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ssets Liability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&amp; Capital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ด็นหน้าที่ภาษีอ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Functions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0640" y="404640"/>
            <a:ext cx="86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Times New Roman"/>
                <a:cs typeface="Microsoft Sans Serif"/>
              </a:rPr>
              <a:t>ประเด็นทางภาษีอากรที่เกี่ยวข้องกับธุรกิ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/>
          <p:nvPr/>
        </p:nvSpPr>
        <p:spPr>
          <a:xfrm>
            <a:off x="3421080" y="620640"/>
            <a:ext cx="3166920" cy="1152720"/>
          </a:xfrm>
          <a:prstGeom prst="rect">
            <a:avLst/>
          </a:prstGeom>
          <a:solidFill>
            <a:srgbClr val="00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ขตปลอดอ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Free Z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77/1(2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1135080" y="2819520"/>
            <a:ext cx="3886200" cy="74916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Bonded Wareh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คลังสินค้าทัณฑ์บ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5653080" y="2852640"/>
            <a:ext cx="3456000" cy="792360"/>
          </a:xfrm>
          <a:prstGeom prst="rect">
            <a:avLst/>
          </a:prstGeom>
          <a:solidFill>
            <a:srgbClr val="66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EPZ: Ex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Processing Z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44360" y="4952880"/>
            <a:ext cx="2057400" cy="709560"/>
          </a:xfrm>
          <a:prstGeom prst="rect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Duty F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้านค้าปลอดอ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2367000" y="4941720"/>
            <a:ext cx="1511280" cy="720720"/>
          </a:xfrm>
          <a:prstGeom prst="rect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ar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โรงพัก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4076640" y="4941720"/>
            <a:ext cx="2087640" cy="720720"/>
          </a:xfrm>
          <a:prstGeom prst="rect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Manufa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โรงผลิต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3132000" y="2276640"/>
            <a:ext cx="4321440" cy="0"/>
          </a:xfrm>
          <a:prstGeom prst="line">
            <a:avLst/>
          </a:prstGeom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3116160" y="2276640"/>
            <a:ext cx="0" cy="576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7453440" y="2276640"/>
            <a:ext cx="0" cy="576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5003640" y="1773360"/>
            <a:ext cx="0" cy="5032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3116160" y="3645000"/>
            <a:ext cx="0" cy="12952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1260360" y="4292640"/>
            <a:ext cx="3672000" cy="0"/>
          </a:xfrm>
          <a:prstGeom prst="line">
            <a:avLst/>
          </a:prstGeom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4932360" y="4292640"/>
            <a:ext cx="0" cy="6490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1260360" y="4292640"/>
            <a:ext cx="0" cy="6490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5884200" y="3575160"/>
            <a:ext cx="31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เขตอุตสาหกรรมส่งออก</a:t>
            </a:r>
            <a:r>
              <a:rPr b="0" lang="en-US" sz="2400" spc="-1" strike="noStrike">
                <a:solidFill>
                  <a:srgbClr val="f4f03a"/>
                </a:solidFill>
                <a:latin typeface="Arial"/>
                <a:ea typeface="Microsoft Sans Serif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Arial"/>
                <a:ea typeface="Microsoft Sans Serif"/>
              </a:rPr>
              <a:t>I-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/>
          <p:nvPr/>
        </p:nvSpPr>
        <p:spPr>
          <a:xfrm>
            <a:off x="755640" y="2205000"/>
            <a:ext cx="2664000" cy="1224000"/>
          </a:xfrm>
          <a:prstGeom prst="rect">
            <a:avLst/>
          </a:prstGeom>
          <a:solidFill>
            <a:srgbClr val="0066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971640" y="2565360"/>
            <a:ext cx="431640" cy="432000"/>
          </a:xfrm>
          <a:prstGeom prst="ellipse">
            <a:avLst/>
          </a:prstGeom>
          <a:solidFill>
            <a:srgbClr val="0101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2843280" y="2565360"/>
            <a:ext cx="433440" cy="399960"/>
          </a:xfrm>
          <a:prstGeom prst="ellipse">
            <a:avLst/>
          </a:prstGeom>
          <a:solidFill>
            <a:srgbClr val="0101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5076720" y="2173320"/>
            <a:ext cx="2808360" cy="1224000"/>
          </a:xfrm>
          <a:prstGeom prst="rect">
            <a:avLst/>
          </a:prstGeom>
          <a:solidFill>
            <a:srgbClr val="8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5292720" y="2565360"/>
            <a:ext cx="431640" cy="399960"/>
          </a:xfrm>
          <a:prstGeom prst="ellipse">
            <a:avLst/>
          </a:prstGeom>
          <a:solidFill>
            <a:srgbClr val="0101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164360" y="2597040"/>
            <a:ext cx="432000" cy="400320"/>
          </a:xfrm>
          <a:prstGeom prst="ellipse">
            <a:avLst/>
          </a:prstGeom>
          <a:solidFill>
            <a:srgbClr val="0101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1476360" y="2820960"/>
            <a:ext cx="1295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5796000" y="2820960"/>
            <a:ext cx="1368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3419640" y="2820960"/>
            <a:ext cx="1657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881640" y="431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เข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6955200" y="43164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ออ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 flipV="1">
            <a:off x="7380360" y="875880"/>
            <a:ext cx="0" cy="1584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187280" y="1020600"/>
            <a:ext cx="0" cy="1513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95280" y="1380960"/>
            <a:ext cx="849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2484360" y="4508640"/>
            <a:ext cx="433440" cy="401400"/>
          </a:xfrm>
          <a:prstGeom prst="ellipse">
            <a:avLst/>
          </a:prstGeom>
          <a:solidFill>
            <a:srgbClr val="0101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5292720" y="4540320"/>
            <a:ext cx="433440" cy="401400"/>
          </a:xfrm>
          <a:prstGeom prst="ellipse">
            <a:avLst/>
          </a:prstGeom>
          <a:solidFill>
            <a:srgbClr val="0101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2971800" y="3181320"/>
            <a:ext cx="0" cy="1224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5508720" y="3110040"/>
            <a:ext cx="0" cy="1366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7487640" y="105264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0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0/1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341360" y="1052640"/>
            <a:ext cx="207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อากรนำเข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แล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81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3751200" y="79200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ประเท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924360" y="153180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ประเท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1173240" y="36082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เข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252160" y="34909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971800" y="3446640"/>
            <a:ext cx="181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สียอากรนำเข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5559840" y="3575160"/>
            <a:ext cx="189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% =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ออ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0/1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1891440" y="23684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6158520" y="24066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3964680" y="24066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973440" y="112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7201080" y="1111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5295960" y="3168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2773440" y="31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1598040" y="163512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FZ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5906520" y="16146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FZ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849320" y="5100480"/>
            <a:ext cx="241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ดู ประกาศ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(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ฉ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4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ข้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(4) (5)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Non VAT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3635280" y="2924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80/1(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4912920" y="5423040"/>
            <a:ext cx="3010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A,B,C,D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ด้สิทธิจด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ามมาตร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1/3(3)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ประกอ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รฎ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(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ฉ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41)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3059280" y="4508640"/>
            <a:ext cx="433080" cy="401400"/>
          </a:xfrm>
          <a:prstGeom prst="ellipse">
            <a:avLst/>
          </a:prstGeom>
          <a:solidFill>
            <a:srgbClr val="0101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"/>
          <p:cNvSpPr/>
          <p:nvPr/>
        </p:nvSpPr>
        <p:spPr>
          <a:xfrm>
            <a:off x="1835280" y="3573360"/>
            <a:ext cx="1081080" cy="719280"/>
          </a:xfrm>
          <a:prstGeom prst="flowChartDocumen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1834920" y="2421000"/>
            <a:ext cx="2305080" cy="20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826920" y="3252960"/>
            <a:ext cx="792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258920" y="1700280"/>
            <a:ext cx="504720" cy="504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258920" y="4548240"/>
            <a:ext cx="504720" cy="504720"/>
          </a:xfrm>
          <a:prstGeom prst="ellipse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4500720" y="4549680"/>
            <a:ext cx="502920" cy="5032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308720" y="4548240"/>
            <a:ext cx="576360" cy="50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5148360" y="476424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1523880" y="2209680"/>
            <a:ext cx="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1908000" y="2100240"/>
            <a:ext cx="1295640" cy="118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487080" y="914400"/>
            <a:ext cx="17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ประเท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403920" y="58816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ประเท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1157040" y="227160"/>
            <a:ext cx="353952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สิทธิ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ปออกข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58440" y="314640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2842920" y="4746600"/>
            <a:ext cx="8056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1476360" y="508464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1476360" y="558972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 flipV="1">
            <a:off x="4716360" y="508428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2014560" y="5187960"/>
            <a:ext cx="356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มอบสินค้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นับรวมเป็นฐาน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(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# 40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(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5634720" y="4902120"/>
            <a:ext cx="122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ยสินค้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227640" y="170028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6948360" y="1413000"/>
            <a:ext cx="503280" cy="5032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3939480" y="2406600"/>
            <a:ext cx="48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 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 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ustoms Clearance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่ายอากรและ 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นั้น ภาษีซื้อเป็นของ 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/3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แร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1922400" y="3581280"/>
            <a:ext cx="897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3009960" y="2986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 flipH="1">
            <a:off x="2267640" y="4869000"/>
            <a:ext cx="358920" cy="360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 flipH="1">
            <a:off x="899280" y="3645000"/>
            <a:ext cx="358920" cy="360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 flipH="1">
            <a:off x="3276720" y="2349360"/>
            <a:ext cx="358560" cy="360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2195640" y="5877000"/>
            <a:ext cx="358560" cy="360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4211640" y="1125360"/>
            <a:ext cx="1800360" cy="1008360"/>
          </a:xfrm>
          <a:prstGeom prst="flowChartDocumen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/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067280" y="1341360"/>
            <a:ext cx="1800000" cy="1008000"/>
          </a:xfrm>
          <a:prstGeom prst="flowChartDocumen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/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3276720" y="3357720"/>
            <a:ext cx="1224000" cy="1150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1908000" y="4764240"/>
            <a:ext cx="2376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"/>
          <p:cNvSpPr/>
          <p:nvPr/>
        </p:nvSpPr>
        <p:spPr>
          <a:xfrm>
            <a:off x="1835280" y="3573360"/>
            <a:ext cx="1081080" cy="719280"/>
          </a:xfrm>
          <a:prstGeom prst="flowChartDocumen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2629080" y="5445000"/>
            <a:ext cx="24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ออกสินค้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0/1(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0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 flipH="1">
            <a:off x="1834920" y="2421000"/>
            <a:ext cx="2305080" cy="20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826920" y="3252960"/>
            <a:ext cx="792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1258920" y="1700280"/>
            <a:ext cx="504720" cy="504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1258920" y="4548240"/>
            <a:ext cx="504720" cy="504720"/>
          </a:xfrm>
          <a:prstGeom prst="ellipse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4500720" y="4549680"/>
            <a:ext cx="502920" cy="5032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1523880" y="2209680"/>
            <a:ext cx="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1835280" y="2060640"/>
            <a:ext cx="1295280" cy="11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487080" y="914400"/>
            <a:ext cx="17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ประเท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403920" y="58816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ประเท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1157040" y="227160"/>
            <a:ext cx="353952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สิทธิ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ปออกข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658440" y="314640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842920" y="4746600"/>
            <a:ext cx="8056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547640" y="508464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547640" y="587700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 flipV="1">
            <a:off x="4716360" y="5516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5357520" y="4437000"/>
            <a:ext cx="14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ree Zo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3564000" y="1341360"/>
            <a:ext cx="503280" cy="50328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3962160" y="2567160"/>
            <a:ext cx="487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ผู้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ustoms Clearance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นื่องจาก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ิจการในเขตปลอดอากรจึงได้รับยกเว้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ศุลกากรและ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2)(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925280" y="3581280"/>
            <a:ext cx="891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3009960" y="2986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2267640" y="4869000"/>
            <a:ext cx="358920" cy="360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899280" y="3645000"/>
            <a:ext cx="358920" cy="360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3276720" y="2349360"/>
            <a:ext cx="358560" cy="360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2483640" y="5948280"/>
            <a:ext cx="358920" cy="360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4211640" y="1125360"/>
            <a:ext cx="1800360" cy="1008360"/>
          </a:xfrm>
          <a:prstGeom prst="flowChartDocumen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/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4067280" y="1341360"/>
            <a:ext cx="1800000" cy="1008000"/>
          </a:xfrm>
          <a:prstGeom prst="flowChartDocumen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/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4140360" y="4149720"/>
            <a:ext cx="2808000" cy="1224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908000" y="4764240"/>
            <a:ext cx="2376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3276720" y="3357720"/>
            <a:ext cx="1224000" cy="1150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4502520" y="5141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"/>
          <p:cNvSpPr/>
          <p:nvPr/>
        </p:nvSpPr>
        <p:spPr>
          <a:xfrm>
            <a:off x="1332000" y="1484280"/>
            <a:ext cx="503280" cy="432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971640" y="2565360"/>
            <a:ext cx="705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403280" y="3213000"/>
            <a:ext cx="432000" cy="432000"/>
          </a:xfrm>
          <a:prstGeom prst="ellipse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4284720" y="3213000"/>
            <a:ext cx="503280" cy="4320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1619280" y="198900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1835280" y="1773360"/>
            <a:ext cx="259236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1908000" y="3357720"/>
            <a:ext cx="223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1047960" y="20559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/O  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2599200" y="3284640"/>
            <a:ext cx="9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/O 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4858920" y="3110040"/>
            <a:ext cx="122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acto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918720" y="874800"/>
            <a:ext cx="17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ประเท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831240" y="404352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ประเท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5028120" y="282600"/>
            <a:ext cx="179784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่งออ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3200760" y="1428840"/>
            <a:ext cx="35121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ผู้ดำเนินการ  ศุลก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ustoms Clea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3111480" y="3886200"/>
            <a:ext cx="534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2596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ดำเนินการ ศุลกากร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2596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ส่งออกที่แท้จริง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2596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ได้สิทธิอัตรา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%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2596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เสียภาษี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%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ประเทศ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2596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ออกใบกำกับภาษีขาย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2596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ใช้ภาษีซื้อ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%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3086280" y="2300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"/>
          <p:cNvSpPr/>
          <p:nvPr/>
        </p:nvSpPr>
        <p:spPr>
          <a:xfrm>
            <a:off x="4500720" y="1481040"/>
            <a:ext cx="502920" cy="432000"/>
          </a:xfrm>
          <a:prstGeom prst="ellipse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2629080" y="3716280"/>
            <a:ext cx="504720" cy="43344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6661080" y="3784680"/>
            <a:ext cx="503280" cy="4334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572000" y="2994120"/>
            <a:ext cx="503280" cy="431640"/>
          </a:xfrm>
          <a:prstGeom prst="ellipse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788000" y="198612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 flipV="1">
            <a:off x="3059280" y="1844640"/>
            <a:ext cx="158400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859280" y="1844640"/>
            <a:ext cx="1873440" cy="20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 flipH="1">
            <a:off x="3058920" y="4076640"/>
            <a:ext cx="3313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3203280" y="3357720"/>
            <a:ext cx="1297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 flipH="1" flipV="1">
            <a:off x="5148360" y="3357720"/>
            <a:ext cx="15112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6316560" y="4402080"/>
            <a:ext cx="276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ขาย</a:t>
            </a: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ssues Tax Inv to 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2181960" y="4253040"/>
            <a:ext cx="1778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การสินค้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439880" y="946080"/>
            <a:ext cx="125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ขาย</a:t>
            </a: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3094560" y="2314440"/>
            <a:ext cx="11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/O (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5831640" y="2386080"/>
            <a:ext cx="11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/O (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4241160" y="370836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มอบสินค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469440" y="4989600"/>
            <a:ext cx="2783880" cy="10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พ</a:t>
            </a:r>
            <a:r>
              <a:rPr b="1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6(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Point: Delive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066680" y="3429000"/>
            <a:ext cx="3144960" cy="1600200"/>
          </a:xfrm>
          <a:custGeom>
            <a:avLst/>
            <a:gdLst/>
            <a:ahLst/>
            <a:rect l="l" t="t" r="r" b="b"/>
            <a:pathLst>
              <a:path w="2222" h="1633">
                <a:moveTo>
                  <a:pt x="2222" y="0"/>
                </a:moveTo>
                <a:cubicBezTo>
                  <a:pt x="1613" y="0"/>
                  <a:pt x="1005" y="0"/>
                  <a:pt x="635" y="272"/>
                </a:cubicBezTo>
                <a:cubicBezTo>
                  <a:pt x="265" y="544"/>
                  <a:pt x="106" y="1406"/>
                  <a:pt x="0" y="163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116000" y="2781360"/>
            <a:ext cx="712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625320" y="227160"/>
            <a:ext cx="37058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่งสินค้าจากต่างประเท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สินค้าอยู่ในประเท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"/>
          <p:cNvSpPr/>
          <p:nvPr/>
        </p:nvSpPr>
        <p:spPr>
          <a:xfrm>
            <a:off x="4268880" y="5029200"/>
            <a:ext cx="4168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 flipV="1">
            <a:off x="4500720" y="1197000"/>
            <a:ext cx="0" cy="4680000"/>
          </a:xfrm>
          <a:prstGeom prst="line">
            <a:avLst/>
          </a:prstGeom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3179880" y="1995480"/>
            <a:ext cx="262080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ormal Ex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2895480" y="2438280"/>
            <a:ext cx="3124440" cy="68580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ustoms Clea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7596360" y="3573360"/>
            <a:ext cx="576000" cy="50508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755640" y="3306600"/>
            <a:ext cx="576360" cy="503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066680" y="2666880"/>
            <a:ext cx="190512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6019920" y="2666880"/>
            <a:ext cx="180000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1066680" y="3809880"/>
            <a:ext cx="6781680" cy="1447560"/>
            <a:chOff x="1066680" y="3809880"/>
            <a:chExt cx="6781680" cy="1447560"/>
          </a:xfrm>
        </p:grpSpPr>
        <p:sp>
          <p:nvSpPr>
            <p:cNvPr id="1794" name=""/>
            <p:cNvSpPr/>
            <p:nvPr/>
          </p:nvSpPr>
          <p:spPr>
            <a:xfrm>
              <a:off x="1066680" y="3809880"/>
              <a:ext cx="0" cy="1447560"/>
            </a:xfrm>
            <a:prstGeom prst="line">
              <a:avLst/>
            </a:prstGeom>
            <a:ln w="9360">
              <a:solidFill>
                <a:srgbClr val="f4f0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066680" y="5257440"/>
              <a:ext cx="6781680" cy="0"/>
            </a:xfrm>
            <a:prstGeom prst="line">
              <a:avLst/>
            </a:prstGeom>
            <a:ln w="9360">
              <a:solidFill>
                <a:srgbClr val="f4f0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6" name=""/>
          <p:cNvSpPr/>
          <p:nvPr/>
        </p:nvSpPr>
        <p:spPr>
          <a:xfrm>
            <a:off x="105120" y="4038480"/>
            <a:ext cx="2018520" cy="947160"/>
          </a:xfrm>
          <a:prstGeom prst="rect">
            <a:avLst/>
          </a:prstGeom>
          <a:solidFill>
            <a:srgbClr val="80008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Mail &amp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Hand ca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231480" y="345960"/>
            <a:ext cx="7575120" cy="100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4f03a"/>
            </a:solidFill>
            <a:miter/>
          </a:ln>
          <a:effectLst>
            <a:outerShdw dist="53966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ารส่งสินค้าออกทางไปรษณีย์และถือออกไปเอ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Mail Export &amp; Hand Car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flipV="1">
            <a:off x="1066680" y="2666880"/>
            <a:ext cx="0" cy="6098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7848720" y="2666880"/>
            <a:ext cx="0" cy="9144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3581280" y="3124080"/>
            <a:ext cx="1905120" cy="914400"/>
          </a:xfrm>
          <a:prstGeom prst="flowChartDocument">
            <a:avLst/>
          </a:prstGeom>
          <a:solidFill>
            <a:srgbClr val="010175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Arial"/>
              </a:rPr>
              <a:t>Customs B/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4572000" y="5562720"/>
            <a:ext cx="4191120" cy="1218960"/>
          </a:xfrm>
          <a:prstGeom prst="wedgeRectCallout">
            <a:avLst>
              <a:gd name="adj1" fmla="val -50300"/>
              <a:gd name="adj2" fmla="val -70314"/>
            </a:avLst>
          </a:prstGeom>
          <a:solidFill>
            <a:srgbClr val="80008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ustoms Clearance Proc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- Yes = Export VAT 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- Not  = No doc. VAT 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4553280" y="3870360"/>
            <a:ext cx="2658600" cy="398880"/>
          </a:xfrm>
          <a:prstGeom prst="rect">
            <a:avLst/>
          </a:prstGeom>
          <a:solidFill>
            <a:srgbClr val="80008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ฉบับสลักหลังตรวจปล่อ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7848720" y="4114440"/>
            <a:ext cx="0" cy="1143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"/>
          <p:cNvSpPr/>
          <p:nvPr/>
        </p:nvSpPr>
        <p:spPr>
          <a:xfrm>
            <a:off x="720720" y="341280"/>
            <a:ext cx="2949480" cy="744480"/>
          </a:xfrm>
          <a:prstGeom prst="rect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อาหารเลี้ยงพนัก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taff M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611280" y="1484280"/>
            <a:ext cx="3097080" cy="100800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วัสดิการในสำนัก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Welf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611280" y="2997360"/>
            <a:ext cx="3058920" cy="1008000"/>
          </a:xfrm>
          <a:prstGeom prst="diamond">
            <a:avLst/>
          </a:prstGeom>
          <a:solidFill>
            <a:srgbClr val="8000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ให้ใช้ส่วนตั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Pri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622440" y="4581360"/>
            <a:ext cx="3047760" cy="1079640"/>
          </a:xfrm>
          <a:prstGeom prst="diamond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ขายในราคาถู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Dis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605560" y="4753080"/>
            <a:ext cx="2927160" cy="691920"/>
          </a:xfrm>
          <a:prstGeom prst="rect">
            <a:avLst/>
          </a:prstGeom>
          <a:solidFill>
            <a:srgbClr val="0000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ตามราคาขายจริ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5618160" y="1662120"/>
            <a:ext cx="2519280" cy="576360"/>
          </a:xfrm>
          <a:prstGeom prst="rect">
            <a:avLst/>
          </a:prstGeom>
          <a:solidFill>
            <a:srgbClr val="80008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on VAT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6108840" y="2255760"/>
            <a:ext cx="2590560" cy="459720"/>
          </a:xfrm>
          <a:prstGeom prst="rect">
            <a:avLst/>
          </a:prstGeom>
          <a:solidFill>
            <a:srgbClr val="80008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หัก </a:t>
            </a: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W.T.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 50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3708360" y="1989000"/>
            <a:ext cx="180036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3470400" y="5122800"/>
            <a:ext cx="210960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2146320" y="2484360"/>
            <a:ext cx="0" cy="5032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2146320" y="4019400"/>
            <a:ext cx="0" cy="57636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1701720" y="2622600"/>
            <a:ext cx="3412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4253040" y="1563840"/>
            <a:ext cx="304560" cy="3045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1576440" y="4095720"/>
            <a:ext cx="341280" cy="3398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2146320" y="1085760"/>
            <a:ext cx="0" cy="39852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4253040" y="4746600"/>
            <a:ext cx="30456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3613320" y="3500280"/>
            <a:ext cx="188568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5575320" y="3068640"/>
            <a:ext cx="2819520" cy="828720"/>
          </a:xfrm>
          <a:prstGeom prst="rect">
            <a:avLst/>
          </a:prstGeom>
          <a:solidFill>
            <a:srgbClr val="0000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ตามราคาตลา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4253040" y="3240000"/>
            <a:ext cx="30456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/>
          <p:nvPr/>
        </p:nvSpPr>
        <p:spPr>
          <a:xfrm>
            <a:off x="2481120" y="404640"/>
            <a:ext cx="2954520" cy="538200"/>
          </a:xfrm>
          <a:prstGeom prst="rect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ผู้ประกอบการจดทะเบีย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2371680" y="2276640"/>
            <a:ext cx="3059280" cy="86328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ีค่าตอบแท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2627280" y="5445000"/>
            <a:ext cx="2232000" cy="576360"/>
          </a:xfrm>
          <a:prstGeom prst="rect">
            <a:avLst/>
          </a:prstGeom>
          <a:solidFill>
            <a:srgbClr val="80008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on VAT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5362560" y="2708280"/>
            <a:ext cx="115416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3922560" y="1844640"/>
            <a:ext cx="0" cy="432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5599080" y="2349360"/>
            <a:ext cx="3412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603440" y="2332080"/>
            <a:ext cx="30456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3906720" y="942840"/>
            <a:ext cx="0" cy="39852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2482920" y="1341360"/>
            <a:ext cx="2879640" cy="503280"/>
          </a:xfrm>
          <a:prstGeom prst="rect">
            <a:avLst/>
          </a:prstGeom>
          <a:solidFill>
            <a:srgbClr val="0000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ให้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042920" y="2708280"/>
            <a:ext cx="1368360" cy="0"/>
          </a:xfrm>
          <a:prstGeom prst="line">
            <a:avLst/>
          </a:prstGeom>
          <a:ln w="9360">
            <a:solidFill>
              <a:srgbClr val="f4f0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042920" y="2709720"/>
            <a:ext cx="0" cy="17272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6516720" y="2708280"/>
            <a:ext cx="0" cy="4316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5219640" y="3141720"/>
            <a:ext cx="2592360" cy="86364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ใช้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โดยตนเอ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635280" y="4078440"/>
            <a:ext cx="2411640" cy="86328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ใช้ในกิจการ </a:t>
            </a: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4859280" y="3573360"/>
            <a:ext cx="433440" cy="0"/>
          </a:xfrm>
          <a:prstGeom prst="line">
            <a:avLst/>
          </a:prstGeom>
          <a:ln w="9360">
            <a:solidFill>
              <a:srgbClr val="f4f0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3132000" y="4508640"/>
            <a:ext cx="503280" cy="0"/>
          </a:xfrm>
          <a:prstGeom prst="line">
            <a:avLst/>
          </a:prstGeom>
          <a:ln w="9360">
            <a:solidFill>
              <a:srgbClr val="f4f0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6012000" y="4508640"/>
            <a:ext cx="122400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3132000" y="4508640"/>
            <a:ext cx="0" cy="936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7812000" y="3573360"/>
            <a:ext cx="4320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7236000" y="4508280"/>
            <a:ext cx="0" cy="936360"/>
          </a:xfrm>
          <a:prstGeom prst="line">
            <a:avLst/>
          </a:prstGeom>
          <a:ln w="9360">
            <a:solidFill>
              <a:srgbClr val="f4f0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8244000" y="3573360"/>
            <a:ext cx="0" cy="1871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796000" y="5445000"/>
            <a:ext cx="3168720" cy="576360"/>
          </a:xfrm>
          <a:prstGeom prst="rect">
            <a:avLst/>
          </a:prstGeom>
          <a:solidFill>
            <a:srgbClr val="0000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Point </a:t>
            </a: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มื่อใช้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4859280" y="3573360"/>
            <a:ext cx="0" cy="5032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6175440" y="4132440"/>
            <a:ext cx="34128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7975440" y="3195720"/>
            <a:ext cx="34164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4932360" y="3195720"/>
            <a:ext cx="304920" cy="3045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276720" y="4149720"/>
            <a:ext cx="30456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79280" y="4437000"/>
            <a:ext cx="2160720" cy="1440000"/>
          </a:xfrm>
          <a:prstGeom prst="rect">
            <a:avLst/>
          </a:prstGeom>
          <a:solidFill>
            <a:srgbClr val="0000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Poi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มื่อรับชำระราค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ว้นแต่ออกใ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ำกับภาษีก่อ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5447160" y="3665520"/>
            <a:ext cx="30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ut of VAT Sc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127160" y="18828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ท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6233040" y="184464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ietn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712880" y="3645000"/>
            <a:ext cx="503280" cy="50472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5508720" y="1989000"/>
            <a:ext cx="525240" cy="503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5529240" y="4938840"/>
            <a:ext cx="555480" cy="50616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 flipH="1">
            <a:off x="2268360" y="2349360"/>
            <a:ext cx="3167280" cy="13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5816520" y="256392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3132720" y="2708280"/>
            <a:ext cx="11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/O (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3069360" y="4363920"/>
            <a:ext cx="1116360" cy="429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/O (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106680" y="3181320"/>
            <a:ext cx="224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irect Delive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-122040" y="404640"/>
            <a:ext cx="939780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66ff"/>
            </a:solidFill>
            <a:miter/>
          </a:ln>
          <a:effectLst>
            <a:outerShdw dist="81185" dir="307803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cc00"/>
                </a:solidFill>
                <a:latin typeface="Microsoft Sans Serif"/>
                <a:cs typeface="Microsoft Sans Serif"/>
              </a:rPr>
              <a:t>ต่างประเทศสั่งซื้อสินค้าจากไทย แต่สินค้าอยู่ต่างประเท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6163200" y="5070600"/>
            <a:ext cx="16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2289240" y="3932280"/>
            <a:ext cx="321948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3708360" y="1773360"/>
            <a:ext cx="0" cy="446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6" name=""/>
          <p:cNvGraphicFramePr/>
          <p:nvPr/>
        </p:nvGraphicFramePr>
        <p:xfrm>
          <a:off x="3656160" y="1327320"/>
          <a:ext cx="69984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6160" y="1327320"/>
                    <a:ext cx="6998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01680" y="1268640"/>
            <a:ext cx="85183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วางแผน</a:t>
            </a:r>
            <a:r>
              <a:rPr b="1" lang="en-US" sz="2800" spc="-1" strike="noStrike">
                <a:solidFill>
                  <a:srgbClr val="ffcc66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ถึง</a:t>
            </a:r>
            <a:r>
              <a:rPr b="0" lang="en-US" sz="2800" spc="-1" strike="noStrike">
                <a:solidFill>
                  <a:srgbClr val="ffcc66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ัดสินใจเตรียม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กระทำการอย่างใดอย่างหนึ่งในอนาคต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กำหนดวัตถุประสงค์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วิธีการดำเนินการไว้ล่วงหน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15080" y="372960"/>
            <a:ext cx="289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Plan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0920" y="2854440"/>
            <a:ext cx="86421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วางแผ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หมายถึง การกำหนดแนวทางปฏิบัติเพื่อการแก้ปัญหาในอดีตที่ดำรงอยู่ในปัจจุบัน และการป้องกันปัญหาที่จะเกิดขึ้นในอนาคต ในอันที่จะให้ผลการปฏิบัติงานบรรลุตามเป้าหมายที่กำหนด โดยใช้แนวคิดเชิงบวก และการเข้าถึงสาเหตุแห่งปัญหาอย่างแท้จริง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60E-997B-4669-98BB-F1B367A380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"/>
          <p:cNvSpPr/>
          <p:nvPr/>
        </p:nvSpPr>
        <p:spPr>
          <a:xfrm>
            <a:off x="468360" y="3141720"/>
            <a:ext cx="820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604800" y="4403880"/>
            <a:ext cx="2613240" cy="9471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rin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989640" y="907920"/>
            <a:ext cx="1841760" cy="9471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ro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2700360" y="1341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950440" y="836640"/>
            <a:ext cx="1841760" cy="947160"/>
          </a:xfrm>
          <a:prstGeom prst="rect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Y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ust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2843280" y="1844640"/>
            <a:ext cx="3457440" cy="2952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 flipV="1">
            <a:off x="1835280" y="1844280"/>
            <a:ext cx="0" cy="252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986040" y="21337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m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4032360" y="31798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636840" y="2637000"/>
            <a:ext cx="27457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Non VAT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าม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79(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ประกา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#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ข้อ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(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594240" y="836640"/>
            <a:ext cx="136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"/>
          <p:cNvSpPr/>
          <p:nvPr/>
        </p:nvSpPr>
        <p:spPr>
          <a:xfrm>
            <a:off x="468360" y="3141720"/>
            <a:ext cx="820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04800" y="4403880"/>
            <a:ext cx="2613240" cy="9471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rin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989640" y="907920"/>
            <a:ext cx="1841760" cy="9471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ro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2843280" y="1413000"/>
            <a:ext cx="4033800" cy="30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5950440" y="4489560"/>
            <a:ext cx="1841760" cy="947160"/>
          </a:xfrm>
          <a:prstGeom prst="rect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ust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 flipH="1">
            <a:off x="2842920" y="4869000"/>
            <a:ext cx="3097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1835280" y="1844280"/>
            <a:ext cx="0" cy="252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986040" y="21337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m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852720" y="48546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794160" y="2637000"/>
            <a:ext cx="243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้องนำส่ง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าม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83/6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4930920" y="3068640"/>
            <a:ext cx="136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"/>
          <p:cNvSpPr/>
          <p:nvPr/>
        </p:nvSpPr>
        <p:spPr>
          <a:xfrm>
            <a:off x="468360" y="3141720"/>
            <a:ext cx="820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763200" y="4403880"/>
            <a:ext cx="2296440" cy="9471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ro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905400" y="907920"/>
            <a:ext cx="1841760" cy="9471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rin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2771640" y="1413000"/>
            <a:ext cx="4105440" cy="3024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5950440" y="4489560"/>
            <a:ext cx="1841760" cy="947160"/>
          </a:xfrm>
          <a:prstGeom prst="rect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ust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 flipH="1">
            <a:off x="2842920" y="4869000"/>
            <a:ext cx="3097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 flipV="1">
            <a:off x="1835280" y="1844280"/>
            <a:ext cx="0" cy="252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759240" y="2333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m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852720" y="2133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860760" y="3346560"/>
            <a:ext cx="230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7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าม 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77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710160" y="4365720"/>
            <a:ext cx="136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"/>
          <p:cNvSpPr/>
          <p:nvPr/>
        </p:nvSpPr>
        <p:spPr>
          <a:xfrm>
            <a:off x="468360" y="3141720"/>
            <a:ext cx="820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763200" y="4403880"/>
            <a:ext cx="2296440" cy="9471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ro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905400" y="907920"/>
            <a:ext cx="1841760" cy="9471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rin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2771640" y="1413000"/>
            <a:ext cx="4105440" cy="3024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5950440" y="4489560"/>
            <a:ext cx="1841760" cy="947160"/>
          </a:xfrm>
          <a:prstGeom prst="rect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ust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>
            <a:off x="2842920" y="4869000"/>
            <a:ext cx="30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V="1">
            <a:off x="1835280" y="1844280"/>
            <a:ext cx="0" cy="252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3351600" y="429264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m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852720" y="2133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3359520" y="5011560"/>
            <a:ext cx="23079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7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าม 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77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WT 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1189080" y="2637000"/>
            <a:ext cx="136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/>
          <p:nvPr/>
        </p:nvSpPr>
        <p:spPr>
          <a:xfrm>
            <a:off x="468360" y="3141720"/>
            <a:ext cx="820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763200" y="4403880"/>
            <a:ext cx="2296440" cy="9471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ro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038960" y="907920"/>
            <a:ext cx="1742760" cy="94716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. Co.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rin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2700360" y="1341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950440" y="836640"/>
            <a:ext cx="1841760" cy="947160"/>
          </a:xfrm>
          <a:prstGeom prst="rect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Y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ust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2843280" y="1844640"/>
            <a:ext cx="3457440" cy="295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1835280" y="1844280"/>
            <a:ext cx="0" cy="252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759240" y="240516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m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4282920" y="8222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811080" y="3274920"/>
            <a:ext cx="230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าม 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80/1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3926160" y="2997360"/>
            <a:ext cx="136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"/>
          <p:cNvSpPr/>
          <p:nvPr/>
        </p:nvSpPr>
        <p:spPr>
          <a:xfrm>
            <a:off x="3146400" y="1273320"/>
            <a:ext cx="2949480" cy="744480"/>
          </a:xfrm>
          <a:prstGeom prst="rect">
            <a:avLst/>
          </a:prstGeom>
          <a:solidFill>
            <a:srgbClr val="154e08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่ายค่าโปรแกร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อมพิวเตอร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005280" y="2709720"/>
            <a:ext cx="3058920" cy="1219320"/>
          </a:xfrm>
          <a:prstGeom prst="diamond">
            <a:avLst/>
          </a:prstGeom>
          <a:solidFill>
            <a:srgbClr val="010175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ค่าบริ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ป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04/254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250920" y="1273320"/>
            <a:ext cx="2514600" cy="761760"/>
          </a:xfrm>
          <a:prstGeom prst="rect">
            <a:avLst/>
          </a:prstGeom>
          <a:solidFill>
            <a:srgbClr val="010175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6041880" y="1654200"/>
            <a:ext cx="45720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6902280" y="3319560"/>
            <a:ext cx="0" cy="6858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 flipH="1">
            <a:off x="2101680" y="3319560"/>
            <a:ext cx="91440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2406600" y="2900520"/>
            <a:ext cx="380880" cy="380880"/>
          </a:xfrm>
          <a:prstGeom prst="ellipse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2765520" y="1654200"/>
            <a:ext cx="38088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987880" y="3319560"/>
            <a:ext cx="91440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6499080" y="1273320"/>
            <a:ext cx="2514600" cy="761760"/>
          </a:xfrm>
          <a:prstGeom prst="rect">
            <a:avLst/>
          </a:prstGeom>
          <a:solidFill>
            <a:srgbClr val="010175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. Co.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Foreign 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4540320" y="1963800"/>
            <a:ext cx="7920" cy="74592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6216480" y="2900520"/>
            <a:ext cx="381240" cy="323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2101680" y="3319560"/>
            <a:ext cx="0" cy="6858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88960" y="4052880"/>
            <a:ext cx="2949480" cy="744480"/>
          </a:xfrm>
          <a:prstGeom prst="rect">
            <a:avLst/>
          </a:prstGeom>
          <a:solidFill>
            <a:srgbClr val="154e08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้องนำส่ง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าม ม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 83/6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487840" y="4052880"/>
            <a:ext cx="2949840" cy="744480"/>
          </a:xfrm>
          <a:prstGeom prst="rect">
            <a:avLst/>
          </a:prstGeom>
          <a:solidFill>
            <a:srgbClr val="154e08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่ต้องนำส่ง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าม ม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 83/6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356400" y="2246400"/>
            <a:ext cx="268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่าใช้โปรแกร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่าจ้างเขียนโปรแกร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6222960" y="22464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่าซื้อลิขสิทธิ์โดยเด็ดขา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ในโปรแกร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"/>
          <p:cNvSpPr/>
          <p:nvPr/>
        </p:nvSpPr>
        <p:spPr>
          <a:xfrm>
            <a:off x="4572000" y="1917720"/>
            <a:ext cx="0" cy="424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324000" y="2852640"/>
            <a:ext cx="2232000" cy="9144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ระบ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2556000" y="335772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2484360" y="4962600"/>
            <a:ext cx="1636920" cy="691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 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1763640" y="3789360"/>
            <a:ext cx="122400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379920" y="2905200"/>
            <a:ext cx="16210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 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4356000" y="307656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2824200" y="467532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4859280" y="3811680"/>
            <a:ext cx="936720" cy="576000"/>
          </a:xfrm>
          <a:prstGeom prst="wedgeRectCallout">
            <a:avLst>
              <a:gd name="adj1" fmla="val -76777"/>
              <a:gd name="adj2" fmla="val -127134"/>
            </a:avLst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3132000" y="3738600"/>
            <a:ext cx="914400" cy="576360"/>
          </a:xfrm>
          <a:prstGeom prst="wedgeRectCallout">
            <a:avLst>
              <a:gd name="adj1" fmla="val -63194"/>
              <a:gd name="adj2" fmla="val 153583"/>
            </a:avLst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1842840" y="191772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ทศไท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5307840" y="191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ประเท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19440" y="1471680"/>
          <a:ext cx="62892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9440" y="1471680"/>
                    <a:ext cx="62892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4" name=""/>
          <p:cNvSpPr/>
          <p:nvPr/>
        </p:nvSpPr>
        <p:spPr>
          <a:xfrm>
            <a:off x="1619280" y="115920"/>
            <a:ext cx="5832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นำสินค้าในระบบ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br>
              <a:rPr sz="4000"/>
            </a:b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ไปใช้ในระบบ 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Non V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ับผิดในการเสียภาษีมูลค่าเพิ่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่งออกเป็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สำหรับการขายสินค้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/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ฎกระทรวง 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(2)(3)(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สำหรับการให้บริ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/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ฎกระทรวง 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/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(2)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สำหรับการนำเข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/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สรุป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Microsoft Sans Serif"/>
              </a:rPr>
              <a:t>: </a:t>
            </a:r>
            <a:r>
              <a:rPr b="0" lang="th-TH" sz="44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ขาย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206280" y="139500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14316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กิดจากการขายสินค้าหรือการให้บริการในราชอาณาจักร โดยผู้ประกอบ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14316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ำนวนภาษีขา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=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ูลค่าของฐานภาษ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อั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7%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รือ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14316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กิดขึ้นเมื่อความรับผิดในการเสียภาษีมูลค่าเพิ่มเกิดขึ้น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78, 78/1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แล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78/3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ฎกระทรวง 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8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14316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ำหรับผู้ประกอบการจดทะเบียน ใช้หลักฐานใบกำกับภาษี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6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ใบเพิ่มหนี้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6/9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และใบลดหนี้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6/10)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ในเดือนที่ออกหลักฐานดังกล่า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2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มูลค่าเพิ่มแบ่งออกเป็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 ดัง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มูลค่าเพิ่มสำหรับการขายสินค้าที่มิใช่การส่งออก และการให้บริกา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-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มูลค่าเพิ่มสำหรับการนำเข้าสินค้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2)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มูลค่าเพิ่มสำหรับการส่งออก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3)) 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จจุบันไม่มีผลใช้บังคับแล้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มูลค่าเพิ่มสำหรับผู้ประกอบการที่เป็นผู้ประกอบกิจการขนาดย่อม หรือการยกเว้นสำหรับรายรับ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/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32)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มูลค่าเพิ่มสำหรับกิจการที่ต้องเสียภาษีธุรกิจเฉพาะและกิจการที่ได้รับยกเว้นภาษีธุรกิจเฉพา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3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Abbreviation 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 this Presentation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800" cy="540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ภาษีสรรพาก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WT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: 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Withholding Ta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PIT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: 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Personal Income Ta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CIT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: 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Corporate Income Ta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VAT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: 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Value Added Ta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SBT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: 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Specific Business Ta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SD  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: 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Stamp Du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DTA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: 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Double Taxation Agre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ประเภทอื่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D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Customs Du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T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Excise 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T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Local Tax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115080" y="157320"/>
            <a:ext cx="289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Plan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250560" y="1195200"/>
            <a:ext cx="856908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งค์ประกอบสำคัญของการวางแผ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ส่วนหนึ่งของกระบวนการบริหารงา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ข้อกำหนดเกี่ยวกับการปฏิบัติ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4600" indent="-276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การแก้ปัญหาในอดีต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olved the past problems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4600" indent="-276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้องกันปัญหาในอนาคต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reventiv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he future problems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เรื่องที่ต้องปฏิบัติในกาลอนาคต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เรื่องที่เกี่ยวกับการจัดระบบงานและการจัดสรรเจ้าหน้าที่ที่จะปฏิบัติงานนั้น  โดยวิธีที่เหมาะสมที่สุด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B15-51E6-4DCE-83CE-82D81B6D95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การขายสินค้าที่มิใช่การส่งออก และการให้บริการ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55960" indent="-2559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เกษตร ที่เป็นผลผลิตจากเกษตรกรรม ปศุสัตว์ และการประมง ทั้งนี้ เฉพาะที่ยังมิได้แปรรูป หรือแปรรูปเบื้องต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พืชผลทางการเกษต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ัตว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ที่เกี่ยวเนื่องกับการเกษตร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ปุ๋ย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1(1)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ปลาป่น อาหารสัตว์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480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ย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คมีภัณฑ์ที่ใช้เพื่อบำรุง รักษา ป้องกัน ทำลาย หรือกำจัดศัตรูหรือโรคของพืชหรือสัตว์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1(1)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หนังสือพิมพ์ นิตยสาร หรือตำราเรีย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1(1)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ขายพืชผลทางการเกษตร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่วนต่างของพืช ไม่ว่าจะเป็น ลำต้น กิ่ง ใบ เปลือก หน่อ รากเหง้า ดอก หัว ฝัก เมล็ด หรือส่วนอื่นๆ ของพืช และวัตถุพลอยได้จากพืช ทั้งนี้ ที่อยู่ในสภาพสด หรือรักษาสภาพไว้เพื่อมิให้เสียเป็นการชั่วคราวในระหว่างขนส่ง ด้วยการแช่เย็น แช่เย็นจนแข็ง หรือด้วยการจัดทำหรือปรุงแต่งโดยวิธีการอื่น หรือรักษาสภาพไว้เพื่อมิให้เสีย เพื่อการขายปลีกหรือขายส่งด้วยวิธีการแช่เย็น แช่เย็นจนแข็ง ทำให้แห้ง บด ทำให้เป็นชิ้น หรือด้วยวิธีอื่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ข้าวสาร หรือผลิตภัณฑ์ที่ได้จากการสีข้าวส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ไม่รวมถึงไม้ซุง ฟืน หรือผลิตภัณฑ์ที่ได้จากการเลื่อยไม้ หรือผลิตภัณฑ์อาหารที่บรรจุกระป๋อง ภาชนะ หรือหีบห่อที่ทำเป็นอุตสาหกรรม ได้แก่ การผนึกในลักษณะมั่นคง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กาศอธิบดีฯ เกี่ยวกับ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คำสั่งกรมสรรพากรที่ 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/253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ขายสัตว์ที่ได้รับยกเว้น 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ัตว์ที่มีชีวิ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ัตว์ที่ไม่มีชีวิต และส่วนต่างๆ ของสัตว์ ไม่ว่าจะเป็น เนื้อ ไข่ น้ำนม และวัตถุพลอยได้จากสัตว์ ทั้งนี้ ที่อยู่ในสภาพสด หรือรักษาสภาพไว้เพื่อมิให้เสียเป็นการชั่วคราวในระหว่างการขนส่งด้วยการแช่เย็น แช่เย็นจนแข็ง หรือด้วยการจัดทำ หรือปรุงแต่งโดยวิธีการอื่น หรือรักษาสภาพไว้มิให้เสียเพื่อการขายปลีก หรือขายส่ง ด้วยวิธีการแช่เย็น แช่เย็นจนแข็ง ทำให้แห้งบด ทำให้เป็นชิ้น หรือด้วยวิธีอื่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มส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สจื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มิได้มีการปรุงแต่งรส กลิ่น และส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ไม่รวมถึงผลิตภัณฑ์อาหารที่บรรจุกระป๋อง ภาชนะ หรือหีบห่อ ที่ทำเป็นอุตสาหกรรม ได้แก่ การผนึกในลักษณะมั่นคง นมปรุงแต่งรส กลิ่น ส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กาศอธิบดีฯ เกี่ยวกับ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คำสั่งกรมสรรพากรที่ 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/253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ำราเรียน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ำราเรีย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ทั่วไป หมายถึง สิ่งพิมพ์ใดๆ ที่จัดทำขึ้นเพื่อการอ่า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หนังสือเรียนภาษาต่าง ประเทศหรือภาษาไทยพร้อมเทปคำบรรยาย หรือวิดีโอ เทป โดยเทปคำบรรยายหรือวิดีโอเทปเป็นเรื่องที่มีเนื้อหาเดียวกับหนังสือ และได้ขายในราคารวมโดยมิได้แบ่งแยกราคา เข้าลักษณะเป็นการขายตำราเรียน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–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ได้รับยกเว้น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วินิจฉัยของคณะกรรมการวินิจฉัยภาษีอากร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2/253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การขายสินค้าที่มิใช่การส่งออก และการให้บริการ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5905440" cy="496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เกษตร ที่เป็นผลผลิตจากเกษตร กรรม ปศุสัตว์ และการประมง ทั้งนี้ เฉพาะที่ยังมิได้แปรรูป หรือแปรรูปเบื้องต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พืชผลทางการเกษต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1(1)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ัตว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1(1)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ที่เกี่ยวเนื่องกับการเกษตร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ปุ๋ย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1(1)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ปลาป่น อาหารสัตว์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1(1)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ยา เคมีภัณฑ์ที่ใช้เพื่อบำรุง รักษา ป้องกัน ทำลายหรือกำจัดศัตรูหรือโรคของพืชหรือสัตว์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1(1)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หนังสือพิมพ์ นิตยสาร หรือตำราเรีย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1(1)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6516720" y="1346040"/>
            <a:ext cx="2448000" cy="250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ทั่วไปที่เป็นการ ขายในประเทศ จะได้รับยกเว้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ผู้ประกอบการมีสิทธิที่ขอจดทะเบีย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6496200" y="4457880"/>
            <a:ext cx="2468520" cy="170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ส่งออกอยู่ใ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่ายต้องเสีย เว้นแต่มีรายได้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8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ต่อป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6084720" y="2133720"/>
            <a:ext cx="360360" cy="86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6084720" y="5013360"/>
            <a:ext cx="360360" cy="86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การขายสินค้าที่มิใช่การส่งออก และการให้บริการ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79280" y="148608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ที่จำเป็นต่อการครองชีพและบริการที่เป็นสวัสดิการสังคม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การศึกษาของสถานศึกษาทั้งของทางราชการ และเอกช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รักษาพยาบาลของสถานพยาบาล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ญ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ขนส่งในราชอาณาจัก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ขนส่งระหว่างประเทศ ซึ่งมิใช่เป็นการขนส่งโดยอากาศยานหรือเรือเดินทะเล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ของสถาบั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I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นติบัณฑิตยสภ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การขายสินค้าที่มิใช่การส่งออก และการให้บริการ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178920" y="1486080"/>
            <a:ext cx="87138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ที่เป็นสื่อวัฒนธรรม และพลานามั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ได้แก่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9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ห้องสมุด พิพิธภัณฑ์ สวนสัตว์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ฏ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9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จัดแข่งขันกีฬาสมัครเล่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ฑ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9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เป็นงานทางศิลปะ และวัฒนธรรมในสาขานาฏศิลป์ หรือดุริยางคศิลป์ ที่มิได้เรียกเก็บค่าบริการโดยตรงจากผู้ชม หรือผู้ฟัง แต่ไม่รวมถึงการให้บริการโดยกระทรวง ทบวง กรม ราชการส่วนท้องถิ่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การขายสินค้าที่มิใช่การส่งออก และการให้บริการ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179280" y="148608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ที่มีลักษณะคล้ายการใช้แรงงาน และปัจจัยการผลิต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ได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ด้านการประกอบโรคศิลปะ การสอบบัญชี และการว่าควา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ฌ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วิจัย หรือการให้บริการทางวิชาการในสาขาวิทยาศาสตร์ และสังคมศาสตร์ ที่มิใช่เป็นการกระทำในทางธุรกิ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ที่กระทำโดยบุคคลธรรม คณะบุคคลที่มิใช่นิติบุคคล หรือมูลนิธิ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ฏ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ามสัญญาจ้างแรงงาน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ของนักแสดงสาธารณ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ฒ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ช่าอสังหาริมทรัพย์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การขายสินค้าที่มิใช่การส่งออก และการให้บริการ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179280" y="148608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หรือการให้บริการอี่นๆ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ได้แก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ของราชการส่วนท้องถิ่น ที่ไม่เป็นการพาณิชย์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 หรือการให้บริการของกระทรวง ทบวง กรม ซึ่งส่งรายรับทั้งสิ้นให้แก่รัฐโดยไม่หักรายจ่าย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ตามที่กำหนดโดยพระราชกฤษฎีก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39)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ตามที่กำหนดโดยพระราชกฤษฎีก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39)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เช่าอสังหาริมทรัพย์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เงินไปหาผลประโยชน์โดยการฝากธนาคาร หรือซื้อพันธบัตร หรือหลักทรัพย์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10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การขายสินค้าตามพรฎ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ea typeface="Microsoft Sans Serif"/>
              </a:rPr>
              <a:t>. (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ฉบับที่ 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ea typeface="Microsoft Sans Serif"/>
              </a:rPr>
              <a:t>239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ตาม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พรฎ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39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บุหรี่ซิกาแรตที่ผลิตโดยโรงงานยาสูบ กระทรวงการคลัง โดยผู้ขายที่มิใช่ผู้ผลิตสินค้าดังกล่าว แต่ไม่รวมถึงผู้ขายที่เป็นคลังสินค้าทัณฑ์บนประเภทร้านค้าปลอดอ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(1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ลากกินแบ่งของรัฐบาล สลากออมสินของรัฐบาล และสลากบำรุงกาชาดไท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(2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แสตมป์ไปรษณีย์ แสตมป์อากร หรือแสตมป์อื่นของรัฐบาล องค์การของรัฐบาล หรือองค์การบริหารราชการส่วนท้องถิ่น ทั้งนี้ เฉพาะที่ยังไม่ได้ใช้ในราคาที่ไม่เกินมูลค่าที่ตราไว้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(3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ที่ได้กระทำในเขตพื้นที่พัฒนาร่วมตามกฎหมายว่าด้วยองค์กรร่วมไท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เลเซี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(11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71280"/>
            <a:ext cx="829152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วางแผน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Planning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250920" y="1269720"/>
            <a:ext cx="86421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ทุกขณะ ผู้บริหารต้องกำหนดรู้ทั้งปัญหาที่เกิดขึ้นในอดีตทั้งที่จบสิ้นไปแล้วและที่ยังคงดำรงอยู่ ในขณะ เดียวกันก็ต้องรู้ปัญหาที่จะเกิดในอนาคต จากนั้นกำหนดรู้เป้าหมายและเข้าถึงสาเหตุของปัญหาทั้งปวง ด้วยสติ ปัญญาอันเป็นเชิงบวก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ositive Thinking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หาแนวทางปฏิบัติในการแก้ปัญหาในอดีตที่ดำรงอยู่ในปัจจุบัน และป้องกันปัญหาที่จะเกิดขึ้นในอนาคต ในอันที่จะให้ผลการปฏิบัติงานบรรลุตามเป้าหมายที่กำหนด โดยใช้แนวคิดเชิงบวก และการเข้าถึงสาเหตุแห่งปัญหาอย่างแท้จริง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การขายสินค้าตามพรฎ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ea typeface="Microsoft Sans Serif"/>
              </a:rPr>
              <a:t>. (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ฉบับที่ 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ea typeface="Microsoft Sans Serif"/>
              </a:rPr>
              <a:t>239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1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ตาม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พรฎ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39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บริจาคสินค้าให้องค์การสาธารณกุศล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7(7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นี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(4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652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ถานพยาบาลและสถานศึกษาของทางราช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652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ถานพยาบาลและสถานศึกษาขององค์การของรัฐบา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652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ภากาชาดไท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652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ดวาอารา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652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นิธิหรือสมาคมที่รัฐมนตรีว่าการกระทรวงการคลังประกาศกำหนดให้เป็นองค์การสาธารณกุศ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652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รงเรียนเอกชนที่ประกอบกิจการในรูปของบริษัทหรือห้างหุ้นส่วนนิติบุคคล หรือนิติบุคคลอื่น สถาบันอุดมศึกษาเอกชน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การขายสินค้าตามพรฎ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ea typeface="Microsoft Sans Serif"/>
              </a:rPr>
              <a:t>. (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ฉบับที่ 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ea typeface="Microsoft Sans Serif"/>
              </a:rPr>
              <a:t>239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ตาม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พรฎ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39)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น้ำมันดีเซลของผู้ประกอบการซึ่งเป็นผู้ค้าน้ำมัน สำหรับมูลค่าของฐานภาษีที่เกิดขึ้นจากการขายน้ำมันดีเซลให้แก่สถานีบริการจำหน่ายน้ำมันกลางทะเลในเขตต่อเนื่องของราชอาณาจักรไทย ซึ่งกระทำตั้งแต่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 ตามหลักเกณฑ์ วิธีการ และเงื่อนไขที่อธิบดีกรมสรรพากรประกาศกำหนด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(14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น้ำมันดีเซลของผู้ประกอบการซึ่งเป็นสถานีบริการจำหน่าย น้ำมันกลางทะเลในเขตต่อเนื่องของราชอาณาจักรไทย สำหรับมูลค่าของฐานภาษีที่เกิดขึ้นจากการขายน้ำมันดีเซลที่ซื้อมาจากผู้ค้าน้ำมันตา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แก่เรือจดทะเบียนสำหรับการประมง ซึ่งกระทำตั้งแต่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 ตามหลักเกณฑ์ วิธีการ และเงื่อนไขที่อธิบดีกรมสรรพากรประกาศกำหน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(15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การขายสินค้าตามพรฎ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ea typeface="Microsoft Sans Serif"/>
              </a:rPr>
              <a:t>. (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ฉบับที่ </a:t>
            </a:r>
            <a:r>
              <a:rPr b="1" lang="th-TH" sz="3600" spc="-1" strike="noStrike">
                <a:solidFill>
                  <a:srgbClr val="ffff00"/>
                </a:solidFill>
                <a:latin typeface="Arial"/>
                <a:ea typeface="Microsoft Sans Serif"/>
              </a:rPr>
              <a:t>239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ตาม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39)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2653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ของคลังสินค้าทัณฑ์บนสำหรับแสดงและขายของที่เก็บในคลังสินค้าทัณฑ์บนนั้นที่ตั้งอยู่ในสนามบินศุลกากร ให้แก่ผู้เดินทางเข้ามาในราชอาณาจักร สำหรับมูลค่าของฐานภาษีอันเนื่องมาจากการขายสินค้า ดังต่อไปนี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9640" indent="-277920">
              <a:lnSpc>
                <a:spcPct val="11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ที่ผู้เดินทางเข้ามาในราชอาณาจักรซื้อเพื่อใช้เองเป็นการส่วนตัว หรือใช้ในวิชาชีพ ราคารวมกันไม่เกินสองหมื่นบา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9640" indent="-27792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ที่ใช้ในบ้านเรือนที่ผู้เดินทางเข้ามาในราชอาณาจักรเนื่องจากการย้ายภูมิลำเนาซื้อ ราคารวมกันไม่เกินห้าหมื่นบา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9640" indent="-27792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หรี่ปริมาณไม่เกินสองร้อยมวน หรือซิการ์หรือยาเส้นปริมาณไม่เกินอย่างละสองร้อยห้าสิบกรัม หรือหลายชนิดรวมกันปริมาณไม่เกินสองร้อยห้าสิบกรัม แต่ทั้งนี้ บุหรี่ต้องมีปริมาณไม่เกินสองร้อยมวน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9640" indent="-27792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ุราปริมาณไม่เกินหนึ่งลิต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ตามหลักเกณฑ์ วิธีการ และเงื่อนไขที่อธิบดีกรมสรรพากรประกาศกำหนด 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(16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1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ตาม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39)</a:t>
            </a:r>
            <a:r>
              <a:rPr b="0" lang="th-TH" sz="3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6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ีข้าว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(1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6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สื่อสารทางวิทยุเกี่ยวกับการบินระหว่างประเทศ ระหว่างสถานีพื้นดิน หรือระหว่างอากาศกับพื้นดิน และการสื่อสารวิทยุเกี่ยวกับงานอุตุนิยม ตลอดจนการบริการอื่นๆ ที่เกี่ยวข้อง ทั้งนี้ เฉพาะส่วนที่บริษัทหรือห้างหุ้นส่วนนิติบุคคล ซึ่งได้รับมอบหมายจากรัฐบาลให้จัดบริการดังกล่าว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(3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การศึกษาของสถานศึกษาที่รัฐมนตรีกำหนดโดยประกาศในราชกิจจานุเบกษา โดยประกาศดังกล่าวจะกำหนดขอบเขตและเงื่อนไขอย่างใดก็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(4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ที่ได้กระทำในเขตพื้นที่พัฒนาร่วมตามกฎหมายว่าด้วยองค์กรร่วมไท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เลเซี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(9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กเว้นภาษีมูลค่าเพิ่ม สำหรับการขายสินค้าตามพรฎ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39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964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-2584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ตาม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39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8400" indent="-3556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รับประกันวินาศภัยตามกฎหมายว่าด้วยการประกันวินาศภัยของบรรษัทประกันต่อแห่งเอเชีย เฉพาะการให้บริการซึ่งกระทำตั้งแต่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(11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8400" indent="-3556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รับประกันวินาศภัยตามกฎหมายว่าด้วยการประกันวินาศภัยของผู้ประกอบการที่อยู่นอกราชอาณาจักร เฉพาะการให้บริการแก่บรรษัทประกันต่อแห่งเอเชียที่กระทำตั้งแต่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 และได้มีการใช้บริการนั้นในราชอาณาจั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(12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กเว้นภาษีมูลค่าเพิ่ม สำหรับการขายสินค้าตามพรฎ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39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การนำเข้าสินค้า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179280" y="1007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ตาม 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1(2)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ืชผลทางการเกษต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ตว์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ุ๋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ลาป่น อาหารสัตว์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า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คมีภัณฑ์ที่ใช้เพื่อบำรุง รักษา ป้องกัน ทำลาย หรือกำจัดศัตรูหรือโรคของพืชหรือสัตว์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ังสือพิมพ์ นิตยสาร ตำราเรีย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1(1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จากต่างประเทศที่นำเข้าไปในเขตปลอดอากร ทั้งนี้ เฉพาะสินค้าที่ได้รับยกเว้นอากรขาเข้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1(2)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ที่จำแนกประเภทไว้ในภาคว่าด้วยของที่ได้รับยกเว้นอากร ตามกฎหมายว่าด้วยพิกัดอัตราศุลก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1(2)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ซึ่งนำเข้าและอยู่ในอารักขาของศุลกากร แล้วได้ส่งกลับออกไปต่างประเทศ โดยได้คืนอากรขาเข้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1(2)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ไล่สายมาตรา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Microsoft Sans Serif"/>
              </a:rPr>
              <a:t>81/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77/2(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ูลค่าของฐานภาษีขนาดย่อม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1/1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ด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ฉบับที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37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534 (1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2535 – 31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ี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254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54)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542 (1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ม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ย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2542 – 31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ี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2548)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432)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548 (1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ม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ย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2548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ป็นต้นม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1/3(2)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ิทธิในการขอเข้าสู่ระบบ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สำหรับมูลค่าของฐานภาษีที่ไม่เกินกิจการขนาดย่อ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มูลค่าเพิ่ม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/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ั้ง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37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3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มูลค่าของฐานภาษีในส่วนที่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00,0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ต่อปี ตั้งแต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3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ั้ง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54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มูลค่าของฐานภาษีในส่วนที่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,200,0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ต่อปี ตั้งแต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ั้ง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มูลค่าของฐานภาษีในส่วนที่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,800,0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ต่อปี ตั้งแต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/>
          <p:nvPr/>
        </p:nvSpPr>
        <p:spPr>
          <a:xfrm>
            <a:off x="611280" y="261936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619280" y="153828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1457640" y="2467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6940440" y="153828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6778800" y="2467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3970440" y="24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4140360" y="204300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3059280" y="14842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Income 1.8 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5050080" y="2467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5219640" y="204300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 flipV="1">
            <a:off x="4357800" y="3067920"/>
            <a:ext cx="2303280" cy="1081080"/>
          </a:xfrm>
          <a:prstGeom prst="wedgeRectCallout">
            <a:avLst>
              <a:gd name="adj1" fmla="val -44555"/>
              <a:gd name="adj2" fmla="val 87000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4356000" y="299736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Regist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within 30 day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5/1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069080" y="20430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0 day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250920" y="189000"/>
            <a:ext cx="8642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ยกเว้นภาษีมูลค่าเพิ่ม สำหรับมูลค่าของฐานภาษีไม่เกินกิจการขนาดย่อม มาตรา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Microsoft Sans Serif"/>
              </a:rPr>
              <a:t>81/1</a:t>
            </a:r>
            <a:r>
              <a:rPr b="0" lang="th-TH" sz="3600" spc="-1" strike="noStrike">
                <a:solidFill>
                  <a:srgbClr val="ffff00"/>
                </a:solidFill>
                <a:latin typeface="Arial"/>
                <a:ea typeface="Microsoft Sans Serif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324000" y="4365720"/>
            <a:ext cx="86407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37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34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มูลค่าของฐานภาษีต่อปี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00,00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มูลค่าของฐานภาษีต่อปี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,200,00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มูลค่าของฐานภาษีต่อปี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,800,00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/>
          <p:nvPr/>
        </p:nvSpPr>
        <p:spPr>
          <a:xfrm>
            <a:off x="179280" y="404640"/>
            <a:ext cx="896472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ase Study: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ผลกระทบอย่างไรในกรณี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ไม่ได้จดทะเบีย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นับแต่วันที่มีมูลค่าของฐานภาษ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ินกว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ได้จดทะเบีย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นับแต่วันที่มีมูลค่าของฐานภาษ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ินกว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te: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นับแต่วันที่มีมูลค่าของฐานภาษีเกินกว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มีขึ้นเพื่อวัตถุประสงค์ที่จะให้ผู้ประกอบการมีเวลาในการเตรียมตัวเข้าสู่ระบ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หาความรู้เกี่ยวกับระบบ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เตรียมเอกสารหลักฐานในระบ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ดทะเบียนในกำหนดเวลา เป็นการปฏิบัติตามกฎหมายไม่ควรได้รับโทษใดๆ ทาง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เป็นผู้ประกอบการจดทะเบียนตั้งแต่วันที่จดทะเบีย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395280" y="115920"/>
            <a:ext cx="82915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วางแผน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Planning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0920" y="2685960"/>
            <a:ext cx="8713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00720" y="1820880"/>
            <a:ext cx="0" cy="187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55640" y="2470320"/>
            <a:ext cx="360360" cy="43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755280" y="2470320"/>
            <a:ext cx="360360" cy="43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028000" y="2470320"/>
            <a:ext cx="35892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8027640" y="2470320"/>
            <a:ext cx="36036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274560" y="406548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898200" y="4065480"/>
            <a:ext cx="649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898560" y="3201840"/>
            <a:ext cx="0" cy="865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075280" y="406548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883640" y="4076640"/>
            <a:ext cx="288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8172360" y="3212640"/>
            <a:ext cx="0" cy="86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00720" y="4194000"/>
            <a:ext cx="0" cy="187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00720" y="4913280"/>
            <a:ext cx="1944360" cy="0"/>
          </a:xfrm>
          <a:prstGeom prst="line">
            <a:avLst/>
          </a:prstGeom>
          <a:ln cap="rnd" w="34920">
            <a:solidFill>
              <a:srgbClr val="ff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443640" y="4627440"/>
            <a:ext cx="0" cy="574920"/>
          </a:xfrm>
          <a:prstGeom prst="line">
            <a:avLst/>
          </a:prstGeom>
          <a:ln cap="rnd" w="349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00720" y="5778360"/>
            <a:ext cx="4319280" cy="0"/>
          </a:xfrm>
          <a:prstGeom prst="line">
            <a:avLst/>
          </a:prstGeom>
          <a:ln cap="rnd" w="34920">
            <a:solidFill>
              <a:srgbClr val="ff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820000" y="5346720"/>
            <a:ext cx="0" cy="719280"/>
          </a:xfrm>
          <a:prstGeom prst="line">
            <a:avLst/>
          </a:prstGeom>
          <a:ln cap="rnd" w="349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284720" y="2421000"/>
            <a:ext cx="431640" cy="50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4284360" y="2421000"/>
            <a:ext cx="431640" cy="50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55880" y="119700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203240" y="1197000"/>
            <a:ext cx="2003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800" y="1197000"/>
            <a:ext cx="176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50160" y="3683160"/>
            <a:ext cx="1605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o solve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547600" y="3662280"/>
            <a:ext cx="20401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o prevent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ccu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916360" y="1700280"/>
            <a:ext cx="3384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Find out: the causes of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749960" y="2909880"/>
            <a:ext cx="55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Set: Problem Solving/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456440" y="4508640"/>
            <a:ext cx="2098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hort- te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671800" y="5305320"/>
            <a:ext cx="2032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ong- te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030920" y="368460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"/>
          <p:cNvSpPr/>
          <p:nvPr/>
        </p:nvSpPr>
        <p:spPr>
          <a:xfrm>
            <a:off x="250920" y="695160"/>
            <a:ext cx="87138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ctr">
              <a:lnSpc>
                <a:spcPct val="110000"/>
              </a:lnSpc>
              <a:tabLst>
                <a:tab algn="l" pos="0"/>
                <a:tab algn="l" pos="9907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ase Study: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ผลกระทบอย่างไรในกรณี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ctr">
              <a:lnSpc>
                <a:spcPct val="110000"/>
              </a:lnSpc>
              <a:tabLst>
                <a:tab algn="l" pos="0"/>
                <a:tab algn="l" pos="9907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907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ไม่ได้จดทะเบีย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นับแต่วันที่มีมูลค่าของฐานภาษ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ินกว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907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อ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ต้องรับผิดเสี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รายได้ใ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ที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907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ต้องรับผิดเสียเบี้ยปรับ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9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907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ระวางโทษอาญา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/2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9907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เหตุ เป็นเพราะผู้ประกอบการสละสิทธิประโยชน์อันจะพึงม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ากการจดทะเบีย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นกำหนดเวล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"/>
          <p:cNvSpPr/>
          <p:nvPr/>
        </p:nvSpPr>
        <p:spPr>
          <a:xfrm>
            <a:off x="179280" y="433440"/>
            <a:ext cx="871380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ctr">
              <a:lnSpc>
                <a:spcPct val="110000"/>
              </a:lnSpc>
              <a:tabLst>
                <a:tab algn="l" pos="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ase Study: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ผลกระทบอย่างไรในกรณี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ได้จดทะเบีย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นับแต่วันที่มีมูลค่าของฐานภาษ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ินกว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อ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ในส่วนที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 ก่อนวันจดทะเบีย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ต้องเสี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ราะเป็นการปฏิบัติตา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 และเงื่อนไขที่กฎหมายกำหน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ณฑ์รายได้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 มีขึ้นเพื่อเริ่มต้นในการนั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ที่ได้จดทะเบียนในกำหนดเวลาดังกล่าว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สิทธิการเป็นผู้ประกอบการจดทะเบียนตั้งแต่วันที่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ดทะเบีย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/>
          </p:nvPr>
        </p:nvSpPr>
        <p:spPr>
          <a:xfrm>
            <a:off x="304920" y="101592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ว้นแต่จะมีบัญญัติไว้เป็นอย่างอื่น ถ้าจำเป็นต้องคำนวณเงินตราต่างประเทศเป็นเงินตราไทยเพื่อปฏิบัติการตามลักษณะนี้ ให้คิดตามอัตราแลกเปลี่ยนซึ่งกระทรวงการคลังประกาศเป็นคราว 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042920" y="2852640"/>
            <a:ext cx="5400720" cy="703800"/>
          </a:xfrm>
          <a:prstGeom prst="rect">
            <a:avLst/>
          </a:prstGeom>
          <a:solidFill>
            <a:srgbClr val="010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ไม่มีบัญญัติเป็นอื่นให้ใช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ที่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1042920" y="5673600"/>
            <a:ext cx="5400720" cy="1313640"/>
          </a:xfrm>
          <a:prstGeom prst="rect">
            <a:avLst/>
          </a:prstGeom>
          <a:solidFill>
            <a:srgbClr val="66366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ลัง ลว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ให้ใช้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อ้างอิง</a:t>
            </a: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Actual Rate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OT Rate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ต้องปฏิบัติตามหลักความสม่ำเสมอ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Consistenc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3543480" y="3575160"/>
            <a:ext cx="28872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3543480" y="5448240"/>
            <a:ext cx="288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047600" y="3790800"/>
            <a:ext cx="5410440" cy="703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ลัง ลว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ที่กรมสรรพากรประกาศกำหน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543480" y="4511520"/>
            <a:ext cx="288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1047600" y="4724280"/>
            <a:ext cx="5410440" cy="703800"/>
          </a:xfrm>
          <a:prstGeom prst="rect">
            <a:avLst/>
          </a:prstGeom>
          <a:solidFill>
            <a:srgbClr val="551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ลัง ลว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อ้างอิงของธนาคารแห่งประเทศไท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6676560" y="3789360"/>
            <a:ext cx="149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6678000" y="4743360"/>
            <a:ext cx="151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6674400" y="5823000"/>
            <a:ext cx="149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2514600" y="157320"/>
            <a:ext cx="411480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Exchange R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"/>
          <p:cNvSpPr/>
          <p:nvPr/>
        </p:nvSpPr>
        <p:spPr>
          <a:xfrm>
            <a:off x="2133720" y="44280"/>
            <a:ext cx="273528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xchange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934200" y="728640"/>
            <a:ext cx="1386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่วไ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304920" y="1371600"/>
            <a:ext cx="28954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9 </a:t>
            </a:r>
            <a:r>
              <a:rPr b="0" lang="hi-IN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ไม่มีบัญญัติเป็นอื่นให้ใช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ที่ ก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222480" y="2579760"/>
            <a:ext cx="3030480" cy="91692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ก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ลัง ลว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อัตราอ้างอิ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Reference Ra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228600" y="3809880"/>
            <a:ext cx="2971800" cy="91692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ือกใช้ 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ctual Rate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OT Rate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วันนั้น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st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223920" y="5078520"/>
            <a:ext cx="3128760" cy="17398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บุคคลธรรมดาทุกกรณ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หัก ณ ที่จ่ายทุกกรณ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ุรกิจเฉพาะทุกกรณ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ทุกกรณ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VAT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อกจากประเด็น ม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9/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1523880" y="2374920"/>
            <a:ext cx="2890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1523880" y="3594240"/>
            <a:ext cx="2890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1523880" y="4800600"/>
            <a:ext cx="2890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4912200" y="728640"/>
            <a:ext cx="1491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708000" y="1447920"/>
            <a:ext cx="5328720" cy="2440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65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ตรา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 ที่เป็นเงินตราต่างประเทศ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คงเหลือในวันสุดท้ายของรอบบัญชี หรือ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ได้มาหรือจ่ายไปในระหว่างรอบระยะเวล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ที่เกิดเหตุการณ์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8)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นทุนสินค้าที่นำเข้าจากต่างประเทศ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738960" y="4044960"/>
            <a:ext cx="5247720" cy="143460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Export goods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อื่นจากต่างประเทศ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Import goo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24000" y="692280"/>
            <a:ext cx="864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324000" y="126828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3581280" y="692280"/>
            <a:ext cx="0" cy="590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228600" y="44197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Foreign Exchan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ash Received – Spot Rate at Receiving 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CD: Foreign Currency Deposit, Credit Sale/ Services 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,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32/2548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วางแผนเกี่ยวกับภาษีขาย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ลัก “ภาษีขายห้ามขาด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ูลเหตุที่ทำให้ภาษีขายขา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ิจกรรม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่ถูกต้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ูลค่าของฐานภาษีไม่ถูกต้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Tax Point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่ถูกต้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“VAT” Human: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- Tax Mapping &amp; Tax Man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- Internal Audit/ Control “Check &amp; Balanc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roblem Sol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ภาษีซื้อ</a:t>
            </a:r>
            <a:r>
              <a:rPr b="0" lang="th-TH" sz="4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4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4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Input Tax</a:t>
            </a:r>
            <a:r>
              <a:rPr b="0" lang="th-TH" sz="4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“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 หมายถึง ภาษีมูลค่าเพิ่มในอัตราร้อย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คาสินค้าหรือราคาค่าบริการที่ผู้ประกอบการจดทะเบียนได้จ่าย หรือพึงต้องจ่ายตามหลักฐานต้นฉบับใบกำกับภาษี เนื่องจากการซื้อสินค้าหรือการรับบริการในราชอาณาจักร หรือเนื่องจากการนำเข้า หรือเนื่องจากได้รับโอนสินค้านำเข้าที่จำแนกประเภทไว้ในภาคว่าด้วยของที่ได้รับยกเว้นอากร ตามกฎหมายว่าด้วยพิกัดอัตราศุลกากร หรือเนื่องจากการนำส่ง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6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7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"/>
          <p:cNvSpPr/>
          <p:nvPr/>
        </p:nvSpPr>
        <p:spPr>
          <a:xfrm>
            <a:off x="4140360" y="765000"/>
            <a:ext cx="1584000" cy="1079640"/>
          </a:xfrm>
          <a:prstGeom prst="flowChartDocumen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152280" y="3276720"/>
            <a:ext cx="8839440" cy="3429000"/>
          </a:xfrm>
          <a:prstGeom prst="rec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539640" y="0"/>
            <a:ext cx="8153640" cy="30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Input  Ta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urchase goods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ull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Used Services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In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 Import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 goods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Customs’ Recei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 Services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d’s Receip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380880" y="4952880"/>
            <a:ext cx="792504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1403280" y="4800600"/>
            <a:ext cx="1800" cy="25704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4191120" y="4800600"/>
            <a:ext cx="1440" cy="25704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7093080" y="4800600"/>
            <a:ext cx="1440" cy="25704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2411280" y="4632480"/>
            <a:ext cx="67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1600200" y="42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Microsoft Sans Serif"/>
                <a:ea typeface="Microsoft Sans Serif"/>
              </a:rPr>
              <a:t>Paid Service F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4343400" y="4632480"/>
            <a:ext cx="67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3809880" y="35053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Microsoft Sans Serif"/>
                <a:ea typeface="Microsoft Sans Serif"/>
              </a:rPr>
              <a:t>7/ Next Month</a:t>
            </a:r>
            <a:r>
              <a:rPr b="0" lang="en-US" sz="2400" spc="-1" strike="noStrike">
                <a:solidFill>
                  <a:srgbClr val="ffff66"/>
                </a:solidFill>
                <a:latin typeface="Microsoft Sans Serif"/>
                <a:ea typeface="Microsoft Sans Serif"/>
              </a:rPr>
              <a:t> (7/02/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6934320" y="5257800"/>
            <a:ext cx="1574640" cy="759600"/>
          </a:xfrm>
          <a:prstGeom prst="rect">
            <a:avLst/>
          </a:prstGeom>
          <a:noFill/>
          <a:ln w="9360">
            <a:solidFill>
              <a:srgbClr val="010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put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/2/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1981080" y="5943600"/>
            <a:ext cx="5327640" cy="6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6323040" y="5805360"/>
            <a:ext cx="1440" cy="25740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6400800" y="5589720"/>
            <a:ext cx="67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715000" y="6172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rcharge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9/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2091240" y="396252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5/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1/0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2043000" y="3290760"/>
            <a:ext cx="16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3/6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4267080" y="3962520"/>
            <a:ext cx="1219320" cy="761760"/>
          </a:xfrm>
          <a:prstGeom prst="flowChartDocument">
            <a:avLst/>
          </a:prstGeom>
          <a:solidFill>
            <a:srgbClr val="01017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231840" y="417996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 flipH="1">
            <a:off x="533160" y="5943600"/>
            <a:ext cx="1447560" cy="0"/>
          </a:xfrm>
          <a:prstGeom prst="line">
            <a:avLst/>
          </a:prstGeom>
          <a:ln w="2844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156600" y="532116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pe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 flipH="1">
            <a:off x="5486040" y="4267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6705720" y="426708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7162920" y="3505320"/>
            <a:ext cx="1600200" cy="759600"/>
          </a:xfrm>
          <a:prstGeom prst="rect">
            <a:avLst/>
          </a:prstGeom>
          <a:noFill/>
          <a:ln w="9360">
            <a:solidFill>
              <a:srgbClr val="0101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put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/2/0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4648320" y="457200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H="1">
            <a:off x="533520" y="4952880"/>
            <a:ext cx="7696080" cy="990720"/>
          </a:xfrm>
          <a:prstGeom prst="line">
            <a:avLst/>
          </a:prstGeom>
          <a:ln w="9360">
            <a:solidFill>
              <a:srgbClr val="eeee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6588000" y="836640"/>
            <a:ext cx="2016360" cy="50472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gistr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H="1">
            <a:off x="5724000" y="105264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"/>
          <p:cNvSpPr/>
          <p:nvPr/>
        </p:nvSpPr>
        <p:spPr>
          <a:xfrm>
            <a:off x="3538800" y="304920"/>
            <a:ext cx="20901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ภาษีซื้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1984680" y="1066680"/>
            <a:ext cx="56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ลงวันที่ใด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มารถใช้ได้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644040" y="1765440"/>
            <a:ext cx="24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ที่ระบุในใบกำกับภาษ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1295280" y="260352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flipV="1">
            <a:off x="1295280" y="2374560"/>
            <a:ext cx="0" cy="43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 flipV="1">
            <a:off x="2209680" y="222228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 flipV="1">
            <a:off x="5181480" y="222228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3117600" y="21463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เดือ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6418800" y="170028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ป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1676160" y="2984400"/>
            <a:ext cx="5105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 flipV="1">
            <a:off x="6781680" y="26971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 flipV="1">
            <a:off x="1676520" y="27558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1676520" y="21463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304920" y="3213000"/>
            <a:ext cx="8588160" cy="10087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เป็นภาษีซื้อในเดือนภาษีที่ระบุในใบกำกับภาษี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3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ของผู้ขายอยู่วันใด ผู้ซื้อสามารถใช้ได้ในวันนั้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160920" y="5635800"/>
            <a:ext cx="8993880" cy="703800"/>
          </a:xfrm>
          <a:prstGeom prst="rect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ได้รับหลังช่วง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แต่ไม่เกิ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วันที่ออกใบกำกับภาษี ให้นำไปใช้ในเดือ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ระบุในใบกำกับภาษีซื้อเท่านั้น ด้วยวิธียื่นเพิ่มเติม ตามม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3/4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ขอคืนเป็นเงินสดเท่านั้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8532720" y="1844640"/>
            <a:ext cx="1800" cy="103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6705720" y="252720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6705360" y="252720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1599840" y="252720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600200" y="252720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2209680" y="23749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4267080" y="23749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304920" y="4432320"/>
            <a:ext cx="8588160" cy="100872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ยกเว้น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สามารถใช้ได้ใ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ถัดมาโดยให้มีข้อความว่า “ถือเป็นภาษีซื้อในเดือน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..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ต้องพิสูจน์ว่าได้รับเมื่อไ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3059280" y="1989000"/>
            <a:ext cx="3241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7093080" y="19890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กาศ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(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ที่มิได้นำไปหักในการคำนวณภาษีในเดือนภาษีเพราะเหตุดังต่อไป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   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หตุจำเป็นซึ่งเกิดขึ้นตามประเพณีทางการค้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   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หตุสุดวิสั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   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ใบกำกับภาษีในเดือนภาษีอื่นที่มิใช่เดือนภาษีที่ระบุไว้ในใบกำกับภาษ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ที่มิได้นำไปหักในการคำนวณภาษีในเดือนภาษีเพราะมีเหตุจำเป็นตาม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มีสิทธินำไปหักในการคำนวณภาษีในเดือนภาษีหลังจากนั้นได้ แต่ต้องไม่เกินหกเดือนนับแต่เดือนถัดจากเดือนที่ออกใบกำกับ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     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ฏิบัติตามวรรคหนึ่ง ให้ผู้ประกอบการจดทะเบียนระบุข้อความว่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ภาษีซื้อในเดือนภาษ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.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ว้ในใบกำกับภาษีดังกล่าว โดยข้อความดังกล่าวจะตีพิมพ์ จัดทำขึ้นด้วยระบบคอมพิวเตอร์ ประทับด้วยตรายาง เขียนด้วยหมึก พิมพ์ดีด หรือทำให้ปรากฏขึ้นด้วย วิธีการอื่นใดในลักษณะทำนองเดียวกันก็ได้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วางแผนภาษีอ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138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ภาษีอาก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คือ การกำหนดแนวทางการปฏิบัติที่เป็นรูปธรรม เพื่อการปฏิบัติในอนาคตเกี่ยวกับรายการทางการเง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Financial Transactions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เกี่ยวข้องมุ่งหมายให้การเสียภาษีอากรและการปฏิบัติการเกี่ยวกับภาษีอากรของกิจการเป็น ไปโดยถูกต้อง และครบถ้วนตามหลักเกณฑ์ วิธีการ และเงื่อนไขที่กฎหมายภาษีอากรกำหนดไว้ และเป็นผลให้จำนวนภาษีอากรที่ต้องเสียนั้น เป็นจำนวนน้อยที่สุดหรือประหยัดที่สุด รวมทั้งใช้สิทธิประโยชน์ทางภาษีอากรสูงสุด ทั้งนี้ โดยไม่อาศัยการทุจริตหลีกเลี่ยง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ค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811/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25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ว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ฤษภาค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รื่อง ซ้อมความเข้าใจเกี่ยวกับการปฏิบัติตามประกาศอธิบดีกรมสรรพากร เกี่ยวกับภาษีมูลค่าเพิ่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งวันท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ษาย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ต้องพิสูจน์ว่าได้รับใบกำกับภาษีเมื่อใ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"/>
          <p:cNvSpPr/>
          <p:nvPr/>
        </p:nvSpPr>
        <p:spPr>
          <a:xfrm>
            <a:off x="366840" y="166680"/>
            <a:ext cx="8415000" cy="520560"/>
          </a:xfrm>
          <a:prstGeom prst="rect">
            <a:avLst/>
          </a:prstGeom>
          <a:solidFill>
            <a:srgbClr val="154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แบบเต็มรูป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Full Form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Invoice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6/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144000" y="947880"/>
            <a:ext cx="9100440" cy="411588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ว่า ใบกำกับภาษ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 ที่อยู่ เลขประจำตัวผู้เสียภาษี ผู้ออก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Suppli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 และที่อยู่ ของผู้ซื้อสินค้า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รับบริการ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ขที่ใบกำกับภาษี และเล่มที่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.. (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มี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ละเอียดของสินค้า หรือบริการ ได้แก่ ชื่อ ชนิด ประเภท ปริมาณ มูลค่า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รวม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)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ให้ส่วนการค้าต้องแสดงส่วนการค้าโดยชัดแจ้ง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(1)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ศนิยม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ำแหน่ง ส่วนที่เกิน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ำแหน่งให้ใช้หลัก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/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ที่ออกใบกำกับ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อื่นที่อธิบดีกรมสรรพากรกำหนด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1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อกสารออกเป็นชุด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เอกสารฉบับแรกไม่ใช่ใบกำกับภาษี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2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ขาที่ออก ระบุสาขา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...(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เอาใบกำกับภาษีของสำนักงานใหญ่มาใช้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3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เลขทะเบียนรถยนต์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ผู้ออกเป็นสถานีบริการน้ำมัน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87480" y="5456160"/>
            <a:ext cx="7939080" cy="109944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ที่ไม่มีการบังคับ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อดเงินรวม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</a:t>
            </a:r>
            <a:r>
              <a:rPr b="0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นวนเงินตัวอักษร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</a:t>
            </a:r>
            <a:r>
              <a:rPr b="0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อร์โทรศัพท์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</a:t>
            </a:r>
            <a:r>
              <a:rPr b="0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ายมือชื่อผู้ออกใบกำกับ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เหล่านี้ แก้ไข เขียนผิดได้ ไม่มีปัญหา ไม่เซ็นชื่อก็ได้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/>
          <p:nvPr/>
        </p:nvSpPr>
        <p:spPr>
          <a:xfrm>
            <a:off x="395280" y="115920"/>
            <a:ext cx="84978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ต้องห้ามตามมาตรา 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82/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Non Creditable Input Tax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360360" y="1533600"/>
            <a:ext cx="6659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ที่ไม่มีใบกำกับ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181080" y="2959200"/>
            <a:ext cx="630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396720" y="2502000"/>
            <a:ext cx="871236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ซื้อตาม </a:t>
            </a:r>
            <a:r>
              <a:rPr b="0" lang="en-GB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Inv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เต็มรูปไม่มีข้อความครบถ้วนสมบรูณ์ ตาม 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6/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ซื้อที่ไม่เกี่ยวข้องโดยตรงกับการประกอบกิจการ ได้แก่ ภาษีซื้อสำหรับรายจ่ายต้องห้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สำหรับค่ารับร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ที่ออกโดยผู้ไม่มีสิทธิที่จะออกตามกฎหม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ประกาศ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786240" y="1998720"/>
            <a:ext cx="8114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เคยมีใบกำกับภาษี หรือเคยมีแต่สูญหายโดยไม่มีใบแทน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/>
          <p:nvPr/>
        </p:nvSpPr>
        <p:spPr>
          <a:xfrm>
            <a:off x="1392120" y="44280"/>
            <a:ext cx="712944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Non Creditable Input Tax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Non deductible Ex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250920" y="1341360"/>
            <a:ext cx="6659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ที่ไม่มีใบกำกับภาษ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(1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108000" y="2478240"/>
            <a:ext cx="630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385920" y="2286000"/>
            <a:ext cx="8712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ซื้อตาม </a:t>
            </a:r>
            <a:r>
              <a:rPr b="0" lang="en-GB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Inv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เต็มรูปไม่มีข้อความครบถ้วนสมบรูณ์ ตาม 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6/4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(2)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ซื้อที่ไม่เกี่ยวข้องโดยตรงกับการประกอบกิจการ ได้แก่ ภาษีซื้อสำหรับรายจ่ายต้องห้า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(3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ที่ออกโดยผู้ไม่มีสิทธิที่จะออกตาม ก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(5)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659160" y="1773360"/>
            <a:ext cx="8114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เคยมีใบกำกับภาษี หรือเคยมีแต่สูญหายโดยไม่มีใบแทน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238320" y="5538960"/>
            <a:ext cx="87152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นึ่ง ภาษีซื้อที่เครดิตได้ แต่ไม่นำไปใช้ ก็ถือเป็นรายจ่ายต้องห้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้ว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/>
          </p:nvPr>
        </p:nvSpPr>
        <p:spPr>
          <a:xfrm>
            <a:off x="250560" y="1490400"/>
            <a:ext cx="8675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้องห้ามที่ถือเป็นรายจ่ายในการคำนวณกำไรสุทธิได้ ได้แก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ค่ารับรอ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้องห้ามตามที่จะได้กำหนดโดย 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3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้องห้ามตาม 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3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3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ภาษีซื้อต้องห้าม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(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้องห้าม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(6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ภาษีซื้อต้องห้ามตามประกาศอธิบดีฯ เกี่ยวกับภาษีมูลค่าเพิ่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ต้องห้ามที่ถือเป็นรายจ่ายได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ต้องห้ามที่ถือเป็นรายจ่ายได้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2228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ภาษีซื้อสำหรับค่ารับรอง และภาษีซื้อต้องห้าม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 (6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นี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ค่ารับร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รถยนต์นั่งหรือรถยนต์โดยสารที่มีที่นั่ง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รวมทั้งภาษีซื้อสำหรับสินค้าหรือบริการที่เกี่ยวกับรถยนต์ดังกล่า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รถยนต์ที่ไม่ใช่รถยนต์นั่งหรือรถยนต์โดยสารที่มีที่นั่ง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ซึ่งทำการดัดแปลงให้เป็นรถยนต์ที่ไม่ใช่รถยนต์นั่งหรือรถยนต์โดยสารที่มีที่นั่ง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อย่างย่อ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ทรัพย์สินหรือรายจ่ายที่ใช้ในกิจการประเภทที่ไม่ต้องเสียภาษ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394920" y="277560"/>
            <a:ext cx="806292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ต้องห้ามที่ถือเป็นรายจ่ายได้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4596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จากการเฉลี่ยในส่วนที่เป็นของกิจการที่ไม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สินค้าหรือบริการที่ต้องใช้ในกิจการทั้งที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ไม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รายได้ในส่วนที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น้อยกว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ผู้ประกอบการจดทะเบียนเลือกใช้สิทธิไม่เฉลี่ยภาษีซื้อ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การก่อสร้างอาคารหรืออสังหาริมทรัพย์ที่ใช้ในกิจการที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ต่อมา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นับแต่เดือนที่สร้างเสร็จสมบูรณ์ได้ขายหรือให้เช่าหรือนำไปใช้ในกิจการที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ที่รายการ 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ได้ตีพิมพ์หรือจัดทำด้วยระบบคอมพิวเตอร์ กรณีจัดทำใบกำกับภาษีด้วยระบบคอมพิวเตอร์ทั้งฉบ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539640" y="152280"/>
            <a:ext cx="8121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ต้องห้ามที่ถือเป็นรายจ่ายได้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3)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395280" y="914040"/>
            <a:ext cx="8623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ที่รายกา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ื่อ ที่อยู่ และเลขประจำตัวผู้เสียภาษีอากรของผู้ออกใบกำกับภาษี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ได้ตีพิมพ์หรือจัดทำด้วยระบบคอมพิวเตอร์ กรณีจัดทำใบกำกับภาษีด้วยระบบคอมพิวเตอร์ทั้งฉบั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ที่ใบกำกับภาษีไม่ใช่เอกสารฉบับแรก และรายกา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อกสารออกเป็นชุด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ได้ตีพิมพ์หรือจัดทำด้วยระบบคอมพิวเตอร์ กรณีจัดทำใบกำกับภาษีด้วยระบบคอมพิวเตอร์ทั้งฉบั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ของสำนักใหญ่ที่สาขานำไปออกโดยไม่มีรายกา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าขาที่ออกใบกำกับภาษีคือ 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..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สำหรับค่าใช้จ่ายเกี่ยวกับรถยนต์ที่ออกโดยผู้ประกอบกิจการสถานีบริการน้ำมัน โดยไม่มีรายกา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ลขทะเบียนรถยนต์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13564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ต้องห้ามที่ถือเป็นรายจ่ายได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สำเนาใบกำกับภาษีแบบเต็มรูป เว้นแต่ใบกำกับภาษีที่ไม่ใช่เอกสารฉบับแรกซึ่งมีรายกา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อกสารออกเป็นชุ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ที่รายการในใบกำกับภาษีได้ถูกแก้ไขเปลี่ยนแปลง เว้นแต่รายการดังต่อไป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ก้ไขที่อยู่ของผู้ออกใบกำกับภาษี เนื่องจากทางราชการได้ประกาศเปลี่ยนแปลง เลขที่ ชื่อถนน หมู่บ้าน ตำบลหรือแขวง อำเภอหรือเขต หรือจังหวัด โดยลงลายมือชื่อกำกับการแก้ไข หรือประทับด้วยตรายางภาย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วันที่ทางราชการประกาศเปลี่ยนแปลง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ก้ไขเลขประจำตัวผู้เสียภาษีอากรของผู้ออกใบกำกับภาษี โดยลงลายมือชื่อกำกับการแก้ไข หรือประทับด้วยตรายางภาย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นับแต่วันที่กรมสรรพากรได้แจ้งการเปลี่ยนแปลงรายการดังกล่าวให้ใหม่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/>
          </p:nvPr>
        </p:nvSpPr>
        <p:spPr>
          <a:xfrm>
            <a:off x="250560" y="151128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ค่ารับรอง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อย่างย่อ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รายการดังต่อไปนี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ถยนต์นั่งหรือรถยนต์โดยสารที่มีที่นั่ง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รวมทั้งรายจ่ายเกี่ยวกับรถยนต์ดังกล่าว เว้นแต่ในกิจการขาย ให้เช่าซื้อ หรือให้เช่ารถยนต์ดังกล่า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หรือทรัพย์สินของ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ลี่ยภาษีซื้อ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กาศ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ของกิจ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ทรัพย์สินและค่าใช้จ่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ว่าจะเป็นภาษีซื้อทั้งฉบับหรือเกิดจากการเฉลี่ยภาษีซื้อ หรือเปลี่ยนแปลงวัตถุประสงค์ในการใช้ทรัพย์สิ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รุป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: </a:t>
            </a:r>
            <a:r>
              <a:rPr b="1" lang="en-GB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Non Creditable Input Tax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s. Deductible Exp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วางแผนภาษีมูลค่าเพิ่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ภาษีอาก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คือ การกำหนดแนวทางการปฏิบัติที่เป็นรูปธรรม เพื่อการปฏิบัติในอนาคตเกี่ยวกับรายการทางการเง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Financial Transactions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เกี่ยวข้องมุ่งหมายให้การเสียภาษีมูลค่าเพิ่ม และการปฏิบัติการเกี่ยวกับภาษีมูลค่าเพิ่มของกิจการเป็นไปโดยถูกต้อง และครบถ้วนตามหลักเกณฑ์ วิธีการ และเงื่อนไขที่กฎหมายภาษีมูลค่าเพิ่มกำหนดไว้ และเป็นผลให้จำนวนภาษีมูลค่าเพิ่มที่ต้องเสียนั้น เป็นจำนวนน้อยที่สุดหรือประหยัดที่สุด รวมทั้งใช้สิทธิประโยชน์ทางภาษีมูลค่าเพิ่มสูงสุด ทั้งนี้ โดยไม่อาศัยการทุจริตหลีกเลี่ยง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/>
          </p:nvPr>
        </p:nvSpPr>
        <p:spPr>
          <a:xfrm>
            <a:off x="250560" y="151128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ดังต่อไปนี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ซื้อที่มีรายการครบถ้วน แต่มีรายการแก้ไขเปลี่ยนแปล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ซื้อที่มีรายการครบถ้วน แต่มิได้จัดทำให้เป็นไปตามหลักเกณฑ์ของกฎหม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r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rinted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, 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mpute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ซื้อที่ไม่มีรายการดังนี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ขาที่ออก กรณีสาขานำใบกำกับภาษีของสำนักงานใหญ่ไปออ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ขทะเบียนรถยนต์ กรณีออกโดยสถานีบริการน้ำมั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รุป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: </a:t>
            </a:r>
            <a:r>
              <a:rPr b="1" lang="en-GB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Non Creditable Input Tax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s. Deductible Exp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"/>
          <p:cNvSpPr/>
          <p:nvPr/>
        </p:nvSpPr>
        <p:spPr>
          <a:xfrm>
            <a:off x="3081240" y="3114720"/>
            <a:ext cx="3429000" cy="1179360"/>
          </a:xfrm>
          <a:custGeom>
            <a:avLst/>
            <a:gdLst/>
            <a:ahLst/>
            <a:rect l="l" t="t" r="r" b="b"/>
            <a:pathLst>
              <a:path w="9526" h="3275">
                <a:moveTo>
                  <a:pt x="9277" y="11534"/>
                </a:moveTo>
                <a:cubicBezTo>
                  <a:pt x="9277" y="11454"/>
                  <a:pt x="9252" y="11322"/>
                  <a:pt x="9302" y="11261"/>
                </a:cubicBezTo>
                <a:cubicBezTo>
                  <a:pt x="9319" y="11240"/>
                  <a:pt x="9333" y="11210"/>
                  <a:pt x="9351" y="11187"/>
                </a:cubicBezTo>
                <a:cubicBezTo>
                  <a:pt x="9387" y="11141"/>
                  <a:pt x="9375" y="11156"/>
                  <a:pt x="9401" y="11112"/>
                </a:cubicBezTo>
                <a:cubicBezTo>
                  <a:pt x="9407" y="11102"/>
                  <a:pt x="9465" y="11075"/>
                  <a:pt x="9475" y="11063"/>
                </a:cubicBezTo>
                <a:cubicBezTo>
                  <a:pt x="9490" y="11045"/>
                  <a:pt x="9511" y="10997"/>
                  <a:pt x="9525" y="10988"/>
                </a:cubicBezTo>
                <a:cubicBezTo>
                  <a:pt x="9572" y="10958"/>
                  <a:pt x="9564" y="10956"/>
                  <a:pt x="9599" y="10914"/>
                </a:cubicBezTo>
                <a:cubicBezTo>
                  <a:pt x="9611" y="10900"/>
                  <a:pt x="9646" y="10882"/>
                  <a:pt x="9674" y="10864"/>
                </a:cubicBezTo>
                <a:cubicBezTo>
                  <a:pt x="9705" y="10844"/>
                  <a:pt x="9758" y="10823"/>
                  <a:pt x="9798" y="10815"/>
                </a:cubicBezTo>
                <a:cubicBezTo>
                  <a:pt x="9862" y="10803"/>
                  <a:pt x="9834" y="10793"/>
                  <a:pt x="9897" y="10790"/>
                </a:cubicBezTo>
                <a:cubicBezTo>
                  <a:pt x="10024" y="10783"/>
                  <a:pt x="10176" y="10774"/>
                  <a:pt x="10294" y="10815"/>
                </a:cubicBezTo>
                <a:cubicBezTo>
                  <a:pt x="10381" y="10845"/>
                  <a:pt x="10477" y="10897"/>
                  <a:pt x="10567" y="10914"/>
                </a:cubicBezTo>
                <a:cubicBezTo>
                  <a:pt x="10602" y="10921"/>
                  <a:pt x="10668" y="10938"/>
                  <a:pt x="10691" y="10964"/>
                </a:cubicBezTo>
                <a:cubicBezTo>
                  <a:pt x="10721" y="10999"/>
                  <a:pt x="10796" y="11069"/>
                  <a:pt x="10815" y="11112"/>
                </a:cubicBezTo>
                <a:cubicBezTo>
                  <a:pt x="10832" y="11150"/>
                  <a:pt x="10850" y="11152"/>
                  <a:pt x="10864" y="11187"/>
                </a:cubicBezTo>
                <a:cubicBezTo>
                  <a:pt x="10893" y="11261"/>
                  <a:pt x="10864" y="11405"/>
                  <a:pt x="10864" y="11485"/>
                </a:cubicBezTo>
              </a:path>
              <a:path w="9526" h="3275">
                <a:moveTo>
                  <a:pt x="14436" y="11485"/>
                </a:moveTo>
                <a:cubicBezTo>
                  <a:pt x="14428" y="11485"/>
                  <a:pt x="14420" y="11485"/>
                  <a:pt x="14412" y="11485"/>
                </a:cubicBezTo>
                <a:cubicBezTo>
                  <a:pt x="14430" y="11453"/>
                  <a:pt x="14454" y="11437"/>
                  <a:pt x="14461" y="11410"/>
                </a:cubicBezTo>
                <a:cubicBezTo>
                  <a:pt x="14476" y="11353"/>
                  <a:pt x="14462" y="11314"/>
                  <a:pt x="14486" y="11261"/>
                </a:cubicBezTo>
                <a:cubicBezTo>
                  <a:pt x="14496" y="11238"/>
                  <a:pt x="14499" y="11181"/>
                  <a:pt x="14511" y="11162"/>
                </a:cubicBezTo>
                <a:cubicBezTo>
                  <a:pt x="14532" y="11127"/>
                  <a:pt x="14570" y="11103"/>
                  <a:pt x="14585" y="11088"/>
                </a:cubicBezTo>
                <a:cubicBezTo>
                  <a:pt x="14603" y="11070"/>
                  <a:pt x="14610" y="11046"/>
                  <a:pt x="14635" y="11013"/>
                </a:cubicBezTo>
                <a:cubicBezTo>
                  <a:pt x="14643" y="11002"/>
                  <a:pt x="14684" y="10977"/>
                  <a:pt x="14709" y="10964"/>
                </a:cubicBezTo>
                <a:cubicBezTo>
                  <a:pt x="14745" y="10945"/>
                  <a:pt x="14770" y="10914"/>
                  <a:pt x="14808" y="10889"/>
                </a:cubicBezTo>
                <a:cubicBezTo>
                  <a:pt x="14836" y="10870"/>
                  <a:pt x="14878" y="10878"/>
                  <a:pt x="14908" y="10864"/>
                </a:cubicBezTo>
                <a:cubicBezTo>
                  <a:pt x="14941" y="10849"/>
                  <a:pt x="14953" y="10837"/>
                  <a:pt x="14982" y="10815"/>
                </a:cubicBezTo>
                <a:cubicBezTo>
                  <a:pt x="15011" y="10794"/>
                  <a:pt x="15028" y="10793"/>
                  <a:pt x="15081" y="10790"/>
                </a:cubicBezTo>
                <a:cubicBezTo>
                  <a:pt x="15286" y="10780"/>
                  <a:pt x="15506" y="10782"/>
                  <a:pt x="15701" y="10815"/>
                </a:cubicBezTo>
                <a:cubicBezTo>
                  <a:pt x="15781" y="10828"/>
                  <a:pt x="15870" y="10823"/>
                  <a:pt x="15949" y="10840"/>
                </a:cubicBezTo>
                <a:cubicBezTo>
                  <a:pt x="15994" y="10850"/>
                  <a:pt x="16003" y="10890"/>
                  <a:pt x="16024" y="10914"/>
                </a:cubicBezTo>
                <a:cubicBezTo>
                  <a:pt x="16062" y="10957"/>
                  <a:pt x="16075" y="10977"/>
                  <a:pt x="16098" y="11038"/>
                </a:cubicBezTo>
                <a:cubicBezTo>
                  <a:pt x="16111" y="11075"/>
                  <a:pt x="16121" y="11095"/>
                  <a:pt x="16123" y="11137"/>
                </a:cubicBezTo>
                <a:cubicBezTo>
                  <a:pt x="16129" y="11251"/>
                  <a:pt x="16103" y="11411"/>
                  <a:pt x="16148" y="11485"/>
                </a:cubicBezTo>
              </a:path>
              <a:path w="9526" h="3275">
                <a:moveTo>
                  <a:pt x="15528" y="10790"/>
                </a:moveTo>
                <a:cubicBezTo>
                  <a:pt x="15598" y="10790"/>
                  <a:pt x="15643" y="10796"/>
                  <a:pt x="15701" y="10815"/>
                </a:cubicBezTo>
                <a:cubicBezTo>
                  <a:pt x="15741" y="10828"/>
                  <a:pt x="15788" y="10828"/>
                  <a:pt x="15825" y="10840"/>
                </a:cubicBezTo>
                <a:cubicBezTo>
                  <a:pt x="15864" y="10853"/>
                  <a:pt x="15864" y="10847"/>
                  <a:pt x="15875" y="10889"/>
                </a:cubicBezTo>
                <a:cubicBezTo>
                  <a:pt x="15941" y="10906"/>
                  <a:pt x="15901" y="10920"/>
                  <a:pt x="15925" y="10964"/>
                </a:cubicBezTo>
                <a:cubicBezTo>
                  <a:pt x="15947" y="10986"/>
                  <a:pt x="15952" y="10994"/>
                  <a:pt x="15974" y="10988"/>
                </a:cubicBezTo>
                <a:cubicBezTo>
                  <a:pt x="15974" y="11061"/>
                  <a:pt x="15996" y="11008"/>
                  <a:pt x="16024" y="11063"/>
                </a:cubicBezTo>
                <a:cubicBezTo>
                  <a:pt x="16077" y="11168"/>
                  <a:pt x="15944" y="11488"/>
                  <a:pt x="16073" y="11509"/>
                </a:cubicBezTo>
              </a:path>
              <a:path w="9526" h="3275">
                <a:moveTo>
                  <a:pt x="15652" y="10815"/>
                </a:moveTo>
                <a:cubicBezTo>
                  <a:pt x="15691" y="10825"/>
                  <a:pt x="15706" y="10840"/>
                  <a:pt x="15751" y="10840"/>
                </a:cubicBezTo>
                <a:cubicBezTo>
                  <a:pt x="15796" y="10840"/>
                  <a:pt x="15815" y="10834"/>
                  <a:pt x="15850" y="10864"/>
                </a:cubicBezTo>
                <a:cubicBezTo>
                  <a:pt x="15891" y="10900"/>
                  <a:pt x="15910" y="10867"/>
                  <a:pt x="15949" y="10889"/>
                </a:cubicBezTo>
                <a:cubicBezTo>
                  <a:pt x="15972" y="10912"/>
                  <a:pt x="15980" y="10916"/>
                  <a:pt x="15974" y="10939"/>
                </a:cubicBezTo>
                <a:cubicBezTo>
                  <a:pt x="15999" y="10939"/>
                  <a:pt x="16024" y="10939"/>
                  <a:pt x="16049" y="10939"/>
                </a:cubicBezTo>
                <a:cubicBezTo>
                  <a:pt x="16049" y="11009"/>
                  <a:pt x="16072" y="10966"/>
                  <a:pt x="16098" y="11038"/>
                </a:cubicBezTo>
                <a:cubicBezTo>
                  <a:pt x="16098" y="11046"/>
                  <a:pt x="16098" y="11055"/>
                  <a:pt x="16098" y="11063"/>
                </a:cubicBezTo>
                <a:cubicBezTo>
                  <a:pt x="16164" y="11080"/>
                  <a:pt x="16124" y="11094"/>
                  <a:pt x="16148" y="11137"/>
                </a:cubicBezTo>
                <a:cubicBezTo>
                  <a:pt x="16168" y="11173"/>
                  <a:pt x="16192" y="11195"/>
                  <a:pt x="16197" y="11237"/>
                </a:cubicBezTo>
                <a:cubicBezTo>
                  <a:pt x="16197" y="11261"/>
                  <a:pt x="16197" y="11270"/>
                  <a:pt x="16197" y="11286"/>
                </a:cubicBezTo>
                <a:cubicBezTo>
                  <a:pt x="16247" y="11298"/>
                  <a:pt x="16247" y="11310"/>
                  <a:pt x="16247" y="11361"/>
                </a:cubicBezTo>
                <a:cubicBezTo>
                  <a:pt x="16247" y="11406"/>
                  <a:pt x="16268" y="11420"/>
                  <a:pt x="16272" y="11460"/>
                </a:cubicBezTo>
                <a:cubicBezTo>
                  <a:pt x="16276" y="11500"/>
                  <a:pt x="16272" y="11544"/>
                  <a:pt x="16272" y="11584"/>
                </a:cubicBezTo>
              </a:path>
              <a:path w="9526" h="3275">
                <a:moveTo>
                  <a:pt x="16321" y="11559"/>
                </a:moveTo>
                <a:cubicBezTo>
                  <a:pt x="16718" y="11559"/>
                  <a:pt x="17115" y="11559"/>
                  <a:pt x="17512" y="11559"/>
                </a:cubicBezTo>
              </a:path>
              <a:path w="9526" h="3275">
                <a:moveTo>
                  <a:pt x="16297" y="11460"/>
                </a:moveTo>
                <a:cubicBezTo>
                  <a:pt x="16776" y="11460"/>
                  <a:pt x="17256" y="11460"/>
                  <a:pt x="17735" y="11460"/>
                </a:cubicBezTo>
              </a:path>
              <a:path w="9526" h="3275">
                <a:moveTo>
                  <a:pt x="17214" y="9277"/>
                </a:moveTo>
                <a:cubicBezTo>
                  <a:pt x="17206" y="9277"/>
                  <a:pt x="17198" y="9277"/>
                  <a:pt x="17190" y="9277"/>
                </a:cubicBezTo>
                <a:cubicBezTo>
                  <a:pt x="17198" y="9326"/>
                  <a:pt x="17196" y="9302"/>
                  <a:pt x="17214" y="9327"/>
                </a:cubicBezTo>
                <a:cubicBezTo>
                  <a:pt x="17214" y="9583"/>
                  <a:pt x="17214" y="9840"/>
                  <a:pt x="17214" y="10096"/>
                </a:cubicBezTo>
                <a:cubicBezTo>
                  <a:pt x="17437" y="10096"/>
                  <a:pt x="17661" y="10096"/>
                  <a:pt x="17884" y="10096"/>
                </a:cubicBezTo>
                <a:cubicBezTo>
                  <a:pt x="17884" y="10281"/>
                  <a:pt x="18010" y="11441"/>
                  <a:pt x="17859" y="11534"/>
                </a:cubicBezTo>
                <a:cubicBezTo>
                  <a:pt x="17835" y="11534"/>
                  <a:pt x="17826" y="11534"/>
                  <a:pt x="17810" y="11534"/>
                </a:cubicBezTo>
              </a:path>
              <a:path w="9526" h="3275">
                <a:moveTo>
                  <a:pt x="11509" y="10071"/>
                </a:moveTo>
                <a:cubicBezTo>
                  <a:pt x="11536" y="10048"/>
                  <a:pt x="11561" y="10036"/>
                  <a:pt x="11584" y="10021"/>
                </a:cubicBezTo>
                <a:cubicBezTo>
                  <a:pt x="11592" y="10013"/>
                  <a:pt x="11625" y="9979"/>
                  <a:pt x="11633" y="9971"/>
                </a:cubicBezTo>
                <a:cubicBezTo>
                  <a:pt x="11655" y="9944"/>
                  <a:pt x="11672" y="9901"/>
                  <a:pt x="11708" y="9872"/>
                </a:cubicBezTo>
                <a:cubicBezTo>
                  <a:pt x="11733" y="9851"/>
                  <a:pt x="11776" y="9827"/>
                  <a:pt x="11807" y="9798"/>
                </a:cubicBezTo>
                <a:cubicBezTo>
                  <a:pt x="11832" y="9774"/>
                  <a:pt x="11852" y="9755"/>
                  <a:pt x="11881" y="9723"/>
                </a:cubicBezTo>
                <a:cubicBezTo>
                  <a:pt x="11912" y="9689"/>
                  <a:pt x="11959" y="9646"/>
                  <a:pt x="11981" y="9624"/>
                </a:cubicBezTo>
                <a:cubicBezTo>
                  <a:pt x="12037" y="9599"/>
                  <a:pt x="12052" y="9577"/>
                  <a:pt x="12105" y="9550"/>
                </a:cubicBezTo>
                <a:cubicBezTo>
                  <a:pt x="12113" y="9550"/>
                  <a:pt x="12121" y="9550"/>
                  <a:pt x="12129" y="9550"/>
                </a:cubicBezTo>
                <a:cubicBezTo>
                  <a:pt x="12144" y="9540"/>
                  <a:pt x="12192" y="9492"/>
                  <a:pt x="12229" y="9475"/>
                </a:cubicBezTo>
                <a:cubicBezTo>
                  <a:pt x="12237" y="9475"/>
                  <a:pt x="12246" y="9475"/>
                  <a:pt x="12254" y="9475"/>
                </a:cubicBezTo>
                <a:cubicBezTo>
                  <a:pt x="12273" y="9460"/>
                  <a:pt x="12289" y="9441"/>
                  <a:pt x="12328" y="9426"/>
                </a:cubicBezTo>
                <a:cubicBezTo>
                  <a:pt x="12366" y="9412"/>
                  <a:pt x="12416" y="9394"/>
                  <a:pt x="12452" y="9376"/>
                </a:cubicBezTo>
                <a:cubicBezTo>
                  <a:pt x="12489" y="9357"/>
                  <a:pt x="12513" y="9341"/>
                  <a:pt x="12551" y="9327"/>
                </a:cubicBezTo>
                <a:cubicBezTo>
                  <a:pt x="12584" y="9315"/>
                  <a:pt x="12616" y="9314"/>
                  <a:pt x="12650" y="9302"/>
                </a:cubicBezTo>
                <a:cubicBezTo>
                  <a:pt x="12663" y="9296"/>
                  <a:pt x="12711" y="9258"/>
                  <a:pt x="12750" y="9252"/>
                </a:cubicBezTo>
                <a:cubicBezTo>
                  <a:pt x="12782" y="9247"/>
                  <a:pt x="12816" y="9255"/>
                  <a:pt x="12849" y="9252"/>
                </a:cubicBezTo>
                <a:cubicBezTo>
                  <a:pt x="12862" y="9248"/>
                  <a:pt x="12879" y="9229"/>
                  <a:pt x="12923" y="9227"/>
                </a:cubicBezTo>
                <a:cubicBezTo>
                  <a:pt x="12988" y="9224"/>
                  <a:pt x="13011" y="9210"/>
                  <a:pt x="13072" y="9203"/>
                </a:cubicBezTo>
                <a:cubicBezTo>
                  <a:pt x="13201" y="9189"/>
                  <a:pt x="13353" y="9191"/>
                  <a:pt x="13469" y="9178"/>
                </a:cubicBezTo>
                <a:cubicBezTo>
                  <a:pt x="14007" y="9117"/>
                  <a:pt x="14588" y="9178"/>
                  <a:pt x="15131" y="9178"/>
                </a:cubicBezTo>
              </a:path>
              <a:path w="9526" h="3275">
                <a:moveTo>
                  <a:pt x="14387" y="9178"/>
                </a:moveTo>
                <a:cubicBezTo>
                  <a:pt x="14592" y="9178"/>
                  <a:pt x="14836" y="9144"/>
                  <a:pt x="15032" y="9203"/>
                </a:cubicBezTo>
                <a:cubicBezTo>
                  <a:pt x="15104" y="9225"/>
                  <a:pt x="15183" y="9238"/>
                  <a:pt x="15255" y="9252"/>
                </a:cubicBezTo>
                <a:cubicBezTo>
                  <a:pt x="15263" y="9252"/>
                  <a:pt x="15272" y="9252"/>
                  <a:pt x="15280" y="9252"/>
                </a:cubicBezTo>
                <a:cubicBezTo>
                  <a:pt x="15280" y="9558"/>
                  <a:pt x="15280" y="9864"/>
                  <a:pt x="15280" y="10170"/>
                </a:cubicBezTo>
              </a:path>
              <a:path w="9526" h="3275">
                <a:moveTo>
                  <a:pt x="11509" y="10170"/>
                </a:moveTo>
                <a:cubicBezTo>
                  <a:pt x="11800" y="10170"/>
                  <a:pt x="12096" y="10164"/>
                  <a:pt x="12378" y="10145"/>
                </a:cubicBezTo>
                <a:cubicBezTo>
                  <a:pt x="12470" y="10139"/>
                  <a:pt x="12562" y="10127"/>
                  <a:pt x="12650" y="10120"/>
                </a:cubicBezTo>
                <a:cubicBezTo>
                  <a:pt x="13571" y="10045"/>
                  <a:pt x="14528" y="10120"/>
                  <a:pt x="15453" y="10120"/>
                </a:cubicBezTo>
              </a:path>
              <a:path w="9526" h="3275">
                <a:moveTo>
                  <a:pt x="15553" y="9227"/>
                </a:moveTo>
                <a:cubicBezTo>
                  <a:pt x="15553" y="9416"/>
                  <a:pt x="15613" y="9739"/>
                  <a:pt x="15528" y="9897"/>
                </a:cubicBezTo>
                <a:cubicBezTo>
                  <a:pt x="15499" y="9952"/>
                  <a:pt x="15503" y="9985"/>
                  <a:pt x="15503" y="10046"/>
                </a:cubicBezTo>
                <a:cubicBezTo>
                  <a:pt x="15503" y="10129"/>
                  <a:pt x="15496" y="10069"/>
                  <a:pt x="15478" y="10120"/>
                </a:cubicBezTo>
              </a:path>
              <a:path w="9526" h="3275">
                <a:moveTo>
                  <a:pt x="15528" y="9252"/>
                </a:moveTo>
                <a:cubicBezTo>
                  <a:pt x="15714" y="9252"/>
                  <a:pt x="15896" y="9254"/>
                  <a:pt x="16073" y="9277"/>
                </a:cubicBezTo>
                <a:cubicBezTo>
                  <a:pt x="16142" y="9286"/>
                  <a:pt x="16162" y="9292"/>
                  <a:pt x="16222" y="9327"/>
                </a:cubicBezTo>
                <a:cubicBezTo>
                  <a:pt x="16278" y="9360"/>
                  <a:pt x="16316" y="9336"/>
                  <a:pt x="16371" y="9351"/>
                </a:cubicBezTo>
                <a:cubicBezTo>
                  <a:pt x="16412" y="9362"/>
                  <a:pt x="16462" y="9397"/>
                  <a:pt x="16495" y="9426"/>
                </a:cubicBezTo>
                <a:cubicBezTo>
                  <a:pt x="16517" y="9448"/>
                  <a:pt x="16526" y="9453"/>
                  <a:pt x="16520" y="9475"/>
                </a:cubicBezTo>
                <a:cubicBezTo>
                  <a:pt x="16551" y="9496"/>
                  <a:pt x="16549" y="9494"/>
                  <a:pt x="16570" y="9525"/>
                </a:cubicBezTo>
                <a:cubicBezTo>
                  <a:pt x="16605" y="9550"/>
                  <a:pt x="16629" y="9595"/>
                  <a:pt x="16669" y="9624"/>
                </a:cubicBezTo>
                <a:cubicBezTo>
                  <a:pt x="16706" y="9651"/>
                  <a:pt x="16719" y="9655"/>
                  <a:pt x="16743" y="9699"/>
                </a:cubicBezTo>
                <a:cubicBezTo>
                  <a:pt x="16763" y="9739"/>
                  <a:pt x="16762" y="9755"/>
                  <a:pt x="16793" y="9748"/>
                </a:cubicBezTo>
                <a:cubicBezTo>
                  <a:pt x="16810" y="9783"/>
                  <a:pt x="16814" y="9815"/>
                  <a:pt x="16842" y="9847"/>
                </a:cubicBezTo>
                <a:cubicBezTo>
                  <a:pt x="16880" y="9889"/>
                  <a:pt x="16851" y="9900"/>
                  <a:pt x="16867" y="9947"/>
                </a:cubicBezTo>
                <a:cubicBezTo>
                  <a:pt x="16876" y="9974"/>
                  <a:pt x="16879" y="10020"/>
                  <a:pt x="16892" y="10046"/>
                </a:cubicBezTo>
                <a:cubicBezTo>
                  <a:pt x="16914" y="10090"/>
                  <a:pt x="16929" y="10059"/>
                  <a:pt x="16867" y="10071"/>
                </a:cubicBezTo>
              </a:path>
              <a:path w="9526" h="3275">
                <a:moveTo>
                  <a:pt x="15751" y="10071"/>
                </a:moveTo>
                <a:cubicBezTo>
                  <a:pt x="16156" y="10071"/>
                  <a:pt x="16561" y="10071"/>
                  <a:pt x="16966" y="10071"/>
                </a:cubicBezTo>
              </a:path>
              <a:path w="9526" h="3275">
                <a:moveTo>
                  <a:pt x="16793" y="9277"/>
                </a:moveTo>
                <a:cubicBezTo>
                  <a:pt x="16785" y="9277"/>
                  <a:pt x="16776" y="9277"/>
                  <a:pt x="16768" y="9277"/>
                </a:cubicBezTo>
                <a:cubicBezTo>
                  <a:pt x="16797" y="9306"/>
                  <a:pt x="16831" y="9339"/>
                  <a:pt x="16867" y="9351"/>
                </a:cubicBezTo>
                <a:cubicBezTo>
                  <a:pt x="16875" y="9351"/>
                  <a:pt x="16884" y="9351"/>
                  <a:pt x="16892" y="9351"/>
                </a:cubicBezTo>
                <a:cubicBezTo>
                  <a:pt x="16902" y="9392"/>
                  <a:pt x="16901" y="9391"/>
                  <a:pt x="16942" y="9401"/>
                </a:cubicBezTo>
                <a:cubicBezTo>
                  <a:pt x="16952" y="9442"/>
                  <a:pt x="16951" y="9441"/>
                  <a:pt x="16991" y="9451"/>
                </a:cubicBezTo>
                <a:cubicBezTo>
                  <a:pt x="17000" y="9497"/>
                  <a:pt x="17005" y="9507"/>
                  <a:pt x="17041" y="9525"/>
                </a:cubicBezTo>
                <a:cubicBezTo>
                  <a:pt x="17051" y="9565"/>
                  <a:pt x="17050" y="9565"/>
                  <a:pt x="17090" y="9575"/>
                </a:cubicBezTo>
                <a:cubicBezTo>
                  <a:pt x="17103" y="9626"/>
                  <a:pt x="17140" y="9639"/>
                  <a:pt x="17140" y="9699"/>
                </a:cubicBezTo>
                <a:cubicBezTo>
                  <a:pt x="17140" y="9749"/>
                  <a:pt x="17151" y="9757"/>
                  <a:pt x="17165" y="9798"/>
                </a:cubicBezTo>
                <a:cubicBezTo>
                  <a:pt x="17184" y="9855"/>
                  <a:pt x="17151" y="9888"/>
                  <a:pt x="17190" y="9947"/>
                </a:cubicBezTo>
                <a:cubicBezTo>
                  <a:pt x="17212" y="9969"/>
                  <a:pt x="17217" y="9977"/>
                  <a:pt x="17239" y="9971"/>
                </a:cubicBezTo>
                <a:cubicBezTo>
                  <a:pt x="17239" y="10016"/>
                  <a:pt x="17226" y="10033"/>
                  <a:pt x="17264" y="10046"/>
                </a:cubicBezTo>
              </a:path>
              <a:path w="9526" h="3275">
                <a:moveTo>
                  <a:pt x="13593" y="9252"/>
                </a:moveTo>
                <a:cubicBezTo>
                  <a:pt x="13593" y="9517"/>
                  <a:pt x="13593" y="9781"/>
                  <a:pt x="13593" y="10046"/>
                </a:cubicBezTo>
              </a:path>
              <a:path w="9526" h="3275">
                <a:moveTo>
                  <a:pt x="13816" y="9302"/>
                </a:moveTo>
                <a:cubicBezTo>
                  <a:pt x="13795" y="9351"/>
                  <a:pt x="13780" y="9406"/>
                  <a:pt x="13767" y="9451"/>
                </a:cubicBezTo>
                <a:cubicBezTo>
                  <a:pt x="13703" y="9667"/>
                  <a:pt x="13767" y="9992"/>
                  <a:pt x="13767" y="10220"/>
                </a:cubicBezTo>
              </a:path>
              <a:path w="9526" h="3275">
                <a:moveTo>
                  <a:pt x="13246" y="10071"/>
                </a:moveTo>
                <a:cubicBezTo>
                  <a:pt x="13280" y="10037"/>
                  <a:pt x="13313" y="10018"/>
                  <a:pt x="13345" y="9996"/>
                </a:cubicBezTo>
                <a:cubicBezTo>
                  <a:pt x="13386" y="9969"/>
                  <a:pt x="13397" y="9934"/>
                  <a:pt x="13444" y="9922"/>
                </a:cubicBezTo>
                <a:cubicBezTo>
                  <a:pt x="13454" y="9881"/>
                  <a:pt x="13453" y="9882"/>
                  <a:pt x="13494" y="9872"/>
                </a:cubicBezTo>
                <a:cubicBezTo>
                  <a:pt x="13494" y="9847"/>
                  <a:pt x="13494" y="9839"/>
                  <a:pt x="13494" y="9823"/>
                </a:cubicBezTo>
              </a:path>
              <a:path w="9526" h="3275">
                <a:moveTo>
                  <a:pt x="13295" y="10046"/>
                </a:moveTo>
                <a:cubicBezTo>
                  <a:pt x="13295" y="9977"/>
                  <a:pt x="13274" y="9874"/>
                  <a:pt x="13320" y="9823"/>
                </a:cubicBezTo>
                <a:cubicBezTo>
                  <a:pt x="13347" y="9793"/>
                  <a:pt x="13352" y="9743"/>
                  <a:pt x="13395" y="9723"/>
                </a:cubicBezTo>
                <a:cubicBezTo>
                  <a:pt x="13428" y="9708"/>
                  <a:pt x="13454" y="9699"/>
                  <a:pt x="13494" y="9699"/>
                </a:cubicBezTo>
                <a:cubicBezTo>
                  <a:pt x="13494" y="9674"/>
                  <a:pt x="13494" y="9666"/>
                  <a:pt x="13519" y="9674"/>
                </a:cubicBezTo>
              </a:path>
              <a:path w="9526" h="3275">
                <a:moveTo>
                  <a:pt x="15180" y="10096"/>
                </a:moveTo>
                <a:cubicBezTo>
                  <a:pt x="15180" y="10071"/>
                  <a:pt x="15180" y="10046"/>
                  <a:pt x="15180" y="10021"/>
                </a:cubicBezTo>
                <a:cubicBezTo>
                  <a:pt x="15227" y="10005"/>
                  <a:pt x="15183" y="9987"/>
                  <a:pt x="15230" y="9971"/>
                </a:cubicBezTo>
              </a:path>
              <a:path w="9526" h="3275">
                <a:moveTo>
                  <a:pt x="16098" y="9996"/>
                </a:moveTo>
                <a:lnTo>
                  <a:pt x="16098" y="9996"/>
                </a:lnTo>
              </a:path>
              <a:path w="9526" h="3275">
                <a:moveTo>
                  <a:pt x="15453" y="10244"/>
                </a:moveTo>
                <a:cubicBezTo>
                  <a:pt x="15445" y="10244"/>
                  <a:pt x="15437" y="10244"/>
                  <a:pt x="15429" y="10244"/>
                </a:cubicBezTo>
                <a:cubicBezTo>
                  <a:pt x="15429" y="10342"/>
                  <a:pt x="15429" y="10433"/>
                  <a:pt x="15404" y="10517"/>
                </a:cubicBezTo>
                <a:cubicBezTo>
                  <a:pt x="15396" y="10544"/>
                  <a:pt x="15404" y="10587"/>
                  <a:pt x="15404" y="10616"/>
                </a:cubicBezTo>
              </a:path>
              <a:path w="9526" h="3275">
                <a:moveTo>
                  <a:pt x="12179" y="9798"/>
                </a:moveTo>
                <a:cubicBezTo>
                  <a:pt x="12179" y="9823"/>
                  <a:pt x="12179" y="9831"/>
                  <a:pt x="12179" y="9847"/>
                </a:cubicBezTo>
                <a:cubicBezTo>
                  <a:pt x="12226" y="9870"/>
                  <a:pt x="12238" y="9926"/>
                  <a:pt x="12278" y="9971"/>
                </a:cubicBezTo>
                <a:cubicBezTo>
                  <a:pt x="12304" y="10000"/>
                  <a:pt x="12354" y="10054"/>
                  <a:pt x="12378" y="10071"/>
                </a:cubicBezTo>
                <a:cubicBezTo>
                  <a:pt x="12416" y="10097"/>
                  <a:pt x="12430" y="10169"/>
                  <a:pt x="12477" y="10195"/>
                </a:cubicBezTo>
                <a:cubicBezTo>
                  <a:pt x="12485" y="10195"/>
                  <a:pt x="12494" y="10195"/>
                  <a:pt x="12502" y="10195"/>
                </a:cubicBezTo>
              </a:path>
              <a:path w="9526" h="3275">
                <a:moveTo>
                  <a:pt x="8582" y="11584"/>
                </a:moveTo>
                <a:cubicBezTo>
                  <a:pt x="8574" y="11584"/>
                  <a:pt x="8566" y="11584"/>
                  <a:pt x="8558" y="11584"/>
                </a:cubicBezTo>
                <a:cubicBezTo>
                  <a:pt x="8789" y="11584"/>
                  <a:pt x="9021" y="11584"/>
                  <a:pt x="9252" y="11584"/>
                </a:cubicBezTo>
              </a:path>
              <a:path w="9526" h="3275">
                <a:moveTo>
                  <a:pt x="10889" y="11609"/>
                </a:moveTo>
                <a:cubicBezTo>
                  <a:pt x="12113" y="11609"/>
                  <a:pt x="13336" y="11609"/>
                  <a:pt x="14560" y="11609"/>
                </a:cubicBezTo>
              </a:path>
              <a:path w="9526" h="3275">
                <a:moveTo>
                  <a:pt x="9550" y="10319"/>
                </a:moveTo>
                <a:cubicBezTo>
                  <a:pt x="9521" y="10348"/>
                  <a:pt x="9512" y="10359"/>
                  <a:pt x="9475" y="10368"/>
                </a:cubicBezTo>
                <a:cubicBezTo>
                  <a:pt x="9464" y="10412"/>
                  <a:pt x="9435" y="10434"/>
                  <a:pt x="9401" y="10468"/>
                </a:cubicBezTo>
                <a:cubicBezTo>
                  <a:pt x="9358" y="10510"/>
                  <a:pt x="9378" y="10533"/>
                  <a:pt x="9327" y="10567"/>
                </a:cubicBezTo>
                <a:cubicBezTo>
                  <a:pt x="9294" y="10589"/>
                  <a:pt x="9268" y="10612"/>
                  <a:pt x="9227" y="10616"/>
                </a:cubicBezTo>
                <a:cubicBezTo>
                  <a:pt x="9154" y="10624"/>
                  <a:pt x="9077" y="10616"/>
                  <a:pt x="9004" y="10616"/>
                </a:cubicBezTo>
                <a:cubicBezTo>
                  <a:pt x="9004" y="10681"/>
                  <a:pt x="9043" y="11117"/>
                  <a:pt x="8979" y="11137"/>
                </a:cubicBezTo>
                <a:cubicBezTo>
                  <a:pt x="8963" y="11137"/>
                  <a:pt x="8946" y="11137"/>
                  <a:pt x="8930" y="11137"/>
                </a:cubicBezTo>
                <a:cubicBezTo>
                  <a:pt x="8930" y="11079"/>
                  <a:pt x="8930" y="11022"/>
                  <a:pt x="8930" y="10964"/>
                </a:cubicBezTo>
              </a:path>
              <a:path w="9526" h="3275">
                <a:moveTo>
                  <a:pt x="10368" y="10096"/>
                </a:moveTo>
                <a:cubicBezTo>
                  <a:pt x="10409" y="10088"/>
                  <a:pt x="10447" y="10081"/>
                  <a:pt x="10492" y="10071"/>
                </a:cubicBezTo>
                <a:cubicBezTo>
                  <a:pt x="10545" y="10059"/>
                  <a:pt x="10586" y="10058"/>
                  <a:pt x="10641" y="10046"/>
                </a:cubicBezTo>
                <a:cubicBezTo>
                  <a:pt x="10677" y="10038"/>
                  <a:pt x="10705" y="10028"/>
                  <a:pt x="10740" y="10021"/>
                </a:cubicBezTo>
                <a:cubicBezTo>
                  <a:pt x="10754" y="10015"/>
                  <a:pt x="10777" y="10006"/>
                  <a:pt x="10815" y="9996"/>
                </a:cubicBezTo>
                <a:cubicBezTo>
                  <a:pt x="10832" y="9992"/>
                  <a:pt x="10894" y="9979"/>
                  <a:pt x="10914" y="9971"/>
                </a:cubicBezTo>
                <a:cubicBezTo>
                  <a:pt x="10960" y="9952"/>
                  <a:pt x="10989" y="9938"/>
                  <a:pt x="11038" y="9922"/>
                </a:cubicBezTo>
                <a:cubicBezTo>
                  <a:pt x="11046" y="9914"/>
                  <a:pt x="11080" y="9880"/>
                  <a:pt x="11088" y="9872"/>
                </a:cubicBezTo>
                <a:cubicBezTo>
                  <a:pt x="11117" y="9825"/>
                  <a:pt x="11084" y="9841"/>
                  <a:pt x="11137" y="9798"/>
                </a:cubicBezTo>
                <a:cubicBezTo>
                  <a:pt x="11171" y="9771"/>
                  <a:pt x="11200" y="9751"/>
                  <a:pt x="11237" y="9723"/>
                </a:cubicBezTo>
                <a:cubicBezTo>
                  <a:pt x="11271" y="9698"/>
                  <a:pt x="11300" y="9690"/>
                  <a:pt x="11336" y="9674"/>
                </a:cubicBezTo>
                <a:cubicBezTo>
                  <a:pt x="11344" y="9666"/>
                  <a:pt x="11377" y="9632"/>
                  <a:pt x="11385" y="9624"/>
                </a:cubicBezTo>
                <a:cubicBezTo>
                  <a:pt x="11387" y="9623"/>
                  <a:pt x="11418" y="9607"/>
                  <a:pt x="11435" y="9599"/>
                </a:cubicBezTo>
                <a:cubicBezTo>
                  <a:pt x="11450" y="9588"/>
                  <a:pt x="11492" y="9542"/>
                  <a:pt x="11509" y="9525"/>
                </a:cubicBezTo>
                <a:cubicBezTo>
                  <a:pt x="11548" y="9521"/>
                  <a:pt x="11575" y="9504"/>
                  <a:pt x="11584" y="9500"/>
                </a:cubicBezTo>
                <a:cubicBezTo>
                  <a:pt x="11613" y="9484"/>
                  <a:pt x="11617" y="9471"/>
                  <a:pt x="11658" y="9451"/>
                </a:cubicBezTo>
                <a:cubicBezTo>
                  <a:pt x="11699" y="9431"/>
                  <a:pt x="11705" y="9422"/>
                  <a:pt x="11733" y="9426"/>
                </a:cubicBezTo>
                <a:cubicBezTo>
                  <a:pt x="11735" y="9425"/>
                  <a:pt x="11766" y="9409"/>
                  <a:pt x="11782" y="9401"/>
                </a:cubicBezTo>
                <a:cubicBezTo>
                  <a:pt x="11803" y="9394"/>
                  <a:pt x="11796" y="9383"/>
                  <a:pt x="11857" y="9376"/>
                </a:cubicBezTo>
                <a:cubicBezTo>
                  <a:pt x="11884" y="9358"/>
                  <a:pt x="11909" y="9321"/>
                  <a:pt x="11956" y="9302"/>
                </a:cubicBezTo>
                <a:cubicBezTo>
                  <a:pt x="11992" y="9288"/>
                  <a:pt x="12014" y="9284"/>
                  <a:pt x="12055" y="9277"/>
                </a:cubicBezTo>
                <a:cubicBezTo>
                  <a:pt x="12080" y="9277"/>
                  <a:pt x="12088" y="9277"/>
                  <a:pt x="12105" y="9277"/>
                </a:cubicBezTo>
                <a:cubicBezTo>
                  <a:pt x="12138" y="9252"/>
                  <a:pt x="12125" y="9243"/>
                  <a:pt x="12179" y="9227"/>
                </a:cubicBezTo>
                <a:cubicBezTo>
                  <a:pt x="12187" y="9227"/>
                  <a:pt x="12196" y="9227"/>
                  <a:pt x="12204" y="9227"/>
                </a:cubicBezTo>
                <a:cubicBezTo>
                  <a:pt x="12215" y="9223"/>
                  <a:pt x="12236" y="9205"/>
                  <a:pt x="12278" y="9203"/>
                </a:cubicBezTo>
                <a:cubicBezTo>
                  <a:pt x="12303" y="9202"/>
                  <a:pt x="12328" y="9203"/>
                  <a:pt x="12353" y="9203"/>
                </a:cubicBezTo>
                <a:cubicBezTo>
                  <a:pt x="12371" y="9197"/>
                  <a:pt x="12424" y="9180"/>
                  <a:pt x="12477" y="9178"/>
                </a:cubicBezTo>
                <a:cubicBezTo>
                  <a:pt x="12930" y="9160"/>
                  <a:pt x="13388" y="9178"/>
                  <a:pt x="13841" y="9178"/>
                </a:cubicBezTo>
              </a:path>
              <a:path w="9526" h="3275">
                <a:moveTo>
                  <a:pt x="12229" y="9153"/>
                </a:moveTo>
                <a:cubicBezTo>
                  <a:pt x="12254" y="9153"/>
                  <a:pt x="12262" y="9153"/>
                  <a:pt x="12278" y="9153"/>
                </a:cubicBezTo>
                <a:cubicBezTo>
                  <a:pt x="12279" y="9153"/>
                  <a:pt x="12327" y="9135"/>
                  <a:pt x="12353" y="9128"/>
                </a:cubicBezTo>
                <a:cubicBezTo>
                  <a:pt x="12385" y="9119"/>
                  <a:pt x="12414" y="9111"/>
                  <a:pt x="12452" y="9103"/>
                </a:cubicBezTo>
                <a:cubicBezTo>
                  <a:pt x="12499" y="9093"/>
                  <a:pt x="12528" y="9086"/>
                  <a:pt x="12576" y="9079"/>
                </a:cubicBezTo>
                <a:cubicBezTo>
                  <a:pt x="12584" y="9079"/>
                  <a:pt x="12593" y="9079"/>
                  <a:pt x="12601" y="9079"/>
                </a:cubicBezTo>
                <a:cubicBezTo>
                  <a:pt x="12603" y="9079"/>
                  <a:pt x="12662" y="9055"/>
                  <a:pt x="12700" y="9054"/>
                </a:cubicBezTo>
                <a:cubicBezTo>
                  <a:pt x="13926" y="9015"/>
                  <a:pt x="15240" y="8978"/>
                  <a:pt x="16446" y="9079"/>
                </a:cubicBezTo>
                <a:cubicBezTo>
                  <a:pt x="16529" y="9086"/>
                  <a:pt x="16623" y="9095"/>
                  <a:pt x="16694" y="9103"/>
                </a:cubicBezTo>
                <a:cubicBezTo>
                  <a:pt x="16718" y="9103"/>
                  <a:pt x="16727" y="9103"/>
                  <a:pt x="16743" y="9103"/>
                </a:cubicBezTo>
                <a:cubicBezTo>
                  <a:pt x="16747" y="9104"/>
                  <a:pt x="16809" y="9122"/>
                  <a:pt x="16842" y="9128"/>
                </a:cubicBezTo>
                <a:cubicBezTo>
                  <a:pt x="16878" y="9135"/>
                  <a:pt x="16904" y="9144"/>
                  <a:pt x="16942" y="9153"/>
                </a:cubicBezTo>
                <a:cubicBezTo>
                  <a:pt x="16978" y="9161"/>
                  <a:pt x="17012" y="9171"/>
                  <a:pt x="17041" y="9178"/>
                </a:cubicBezTo>
                <a:cubicBezTo>
                  <a:pt x="17062" y="9183"/>
                  <a:pt x="17114" y="9194"/>
                  <a:pt x="17140" y="9203"/>
                </a:cubicBezTo>
                <a:cubicBezTo>
                  <a:pt x="17163" y="9225"/>
                  <a:pt x="17168" y="9233"/>
                  <a:pt x="17190" y="9227"/>
                </a:cubicBezTo>
                <a:cubicBezTo>
                  <a:pt x="17208" y="9251"/>
                  <a:pt x="17204" y="9273"/>
                  <a:pt x="17239" y="9302"/>
                </a:cubicBezTo>
                <a:cubicBezTo>
                  <a:pt x="17247" y="9302"/>
                  <a:pt x="17256" y="9302"/>
                  <a:pt x="17264" y="9302"/>
                </a:cubicBezTo>
                <a:cubicBezTo>
                  <a:pt x="17282" y="9325"/>
                  <a:pt x="17280" y="9348"/>
                  <a:pt x="17314" y="9376"/>
                </a:cubicBezTo>
                <a:cubicBezTo>
                  <a:pt x="17322" y="9376"/>
                  <a:pt x="17330" y="9376"/>
                  <a:pt x="17338" y="9376"/>
                </a:cubicBezTo>
                <a:cubicBezTo>
                  <a:pt x="17338" y="9409"/>
                  <a:pt x="17338" y="9442"/>
                  <a:pt x="17338" y="9475"/>
                </a:cubicBezTo>
                <a:cubicBezTo>
                  <a:pt x="17346" y="9487"/>
                  <a:pt x="17375" y="9531"/>
                  <a:pt x="17388" y="9550"/>
                </a:cubicBezTo>
                <a:cubicBezTo>
                  <a:pt x="17388" y="9551"/>
                  <a:pt x="17406" y="9598"/>
                  <a:pt x="17413" y="9624"/>
                </a:cubicBezTo>
                <a:cubicBezTo>
                  <a:pt x="17421" y="9654"/>
                  <a:pt x="17429" y="9688"/>
                  <a:pt x="17438" y="9723"/>
                </a:cubicBezTo>
                <a:cubicBezTo>
                  <a:pt x="17447" y="9758"/>
                  <a:pt x="17453" y="9786"/>
                  <a:pt x="17462" y="9823"/>
                </a:cubicBezTo>
                <a:cubicBezTo>
                  <a:pt x="17471" y="9861"/>
                  <a:pt x="17477" y="9886"/>
                  <a:pt x="17487" y="9922"/>
                </a:cubicBezTo>
                <a:cubicBezTo>
                  <a:pt x="17496" y="9954"/>
                  <a:pt x="17502" y="9964"/>
                  <a:pt x="17512" y="9996"/>
                </a:cubicBezTo>
              </a:path>
              <a:path w="9526" h="3275">
                <a:moveTo>
                  <a:pt x="17661" y="10120"/>
                </a:moveTo>
                <a:cubicBezTo>
                  <a:pt x="17661" y="10183"/>
                  <a:pt x="17632" y="10355"/>
                  <a:pt x="17686" y="10393"/>
                </a:cubicBezTo>
                <a:cubicBezTo>
                  <a:pt x="17730" y="10424"/>
                  <a:pt x="17761" y="10418"/>
                  <a:pt x="17810" y="10418"/>
                </a:cubicBezTo>
                <a:cubicBezTo>
                  <a:pt x="17857" y="10418"/>
                  <a:pt x="17909" y="10380"/>
                  <a:pt x="17959" y="10368"/>
                </a:cubicBezTo>
                <a:cubicBezTo>
                  <a:pt x="17967" y="10368"/>
                  <a:pt x="17975" y="10368"/>
                  <a:pt x="17983" y="10368"/>
                </a:cubicBezTo>
              </a:path>
              <a:path w="9526" h="3275">
                <a:moveTo>
                  <a:pt x="17810" y="10542"/>
                </a:moveTo>
                <a:cubicBezTo>
                  <a:pt x="17802" y="10542"/>
                  <a:pt x="17793" y="10542"/>
                  <a:pt x="17785" y="10542"/>
                </a:cubicBezTo>
                <a:cubicBezTo>
                  <a:pt x="17777" y="10599"/>
                  <a:pt x="17760" y="10629"/>
                  <a:pt x="17760" y="10691"/>
                </a:cubicBezTo>
                <a:cubicBezTo>
                  <a:pt x="17760" y="10765"/>
                  <a:pt x="17760" y="10840"/>
                  <a:pt x="17760" y="10914"/>
                </a:cubicBezTo>
                <a:cubicBezTo>
                  <a:pt x="17810" y="10927"/>
                  <a:pt x="17824" y="10939"/>
                  <a:pt x="17884" y="10939"/>
                </a:cubicBezTo>
                <a:cubicBezTo>
                  <a:pt x="17901" y="10939"/>
                  <a:pt x="17917" y="10939"/>
                  <a:pt x="17934" y="10939"/>
                </a:cubicBezTo>
              </a:path>
              <a:path w="9526" h="3275">
                <a:moveTo>
                  <a:pt x="18083" y="11261"/>
                </a:moveTo>
                <a:cubicBezTo>
                  <a:pt x="18083" y="11286"/>
                  <a:pt x="18083" y="11294"/>
                  <a:pt x="18083" y="11311"/>
                </a:cubicBezTo>
                <a:cubicBezTo>
                  <a:pt x="18052" y="11331"/>
                  <a:pt x="18058" y="11336"/>
                  <a:pt x="18058" y="11385"/>
                </a:cubicBezTo>
                <a:cubicBezTo>
                  <a:pt x="18044" y="11390"/>
                  <a:pt x="17991" y="11432"/>
                  <a:pt x="17983" y="11460"/>
                </a:cubicBezTo>
                <a:cubicBezTo>
                  <a:pt x="17983" y="11476"/>
                  <a:pt x="17983" y="11493"/>
                  <a:pt x="17983" y="11509"/>
                </a:cubicBezTo>
                <a:cubicBezTo>
                  <a:pt x="17953" y="11519"/>
                  <a:pt x="17917" y="11557"/>
                  <a:pt x="17859" y="11534"/>
                </a:cubicBezTo>
                <a:cubicBezTo>
                  <a:pt x="17824" y="11520"/>
                  <a:pt x="17773" y="11504"/>
                  <a:pt x="17760" y="11485"/>
                </a:cubicBezTo>
              </a:path>
              <a:path w="9526" h="3275">
                <a:moveTo>
                  <a:pt x="13742" y="10319"/>
                </a:moveTo>
                <a:cubicBezTo>
                  <a:pt x="13742" y="10633"/>
                  <a:pt x="13742" y="10947"/>
                  <a:pt x="13742" y="11261"/>
                </a:cubicBezTo>
              </a:path>
              <a:path w="9526" h="3275">
                <a:moveTo>
                  <a:pt x="11410" y="11311"/>
                </a:moveTo>
                <a:cubicBezTo>
                  <a:pt x="11506" y="11311"/>
                  <a:pt x="11587" y="11333"/>
                  <a:pt x="11683" y="11336"/>
                </a:cubicBezTo>
                <a:cubicBezTo>
                  <a:pt x="11809" y="11340"/>
                  <a:pt x="11927" y="11361"/>
                  <a:pt x="12055" y="11361"/>
                </a:cubicBezTo>
                <a:cubicBezTo>
                  <a:pt x="12427" y="11361"/>
                  <a:pt x="12799" y="11361"/>
                  <a:pt x="13171" y="11361"/>
                </a:cubicBezTo>
              </a:path>
              <a:path w="9526" h="3275">
                <a:moveTo>
                  <a:pt x="11187" y="10071"/>
                </a:moveTo>
                <a:cubicBezTo>
                  <a:pt x="11200" y="10135"/>
                  <a:pt x="11250" y="10147"/>
                  <a:pt x="11261" y="10195"/>
                </a:cubicBezTo>
                <a:cubicBezTo>
                  <a:pt x="11279" y="10277"/>
                  <a:pt x="11261" y="10384"/>
                  <a:pt x="11261" y="10468"/>
                </a:cubicBezTo>
                <a:cubicBezTo>
                  <a:pt x="11241" y="10378"/>
                  <a:pt x="11203" y="10335"/>
                  <a:pt x="11137" y="10269"/>
                </a:cubicBezTo>
                <a:cubicBezTo>
                  <a:pt x="11100" y="10232"/>
                  <a:pt x="11104" y="10207"/>
                  <a:pt x="11137" y="10170"/>
                </a:cubicBezTo>
                <a:cubicBezTo>
                  <a:pt x="11166" y="10138"/>
                  <a:pt x="11177" y="10125"/>
                  <a:pt x="11187" y="10096"/>
                </a:cubicBezTo>
              </a:path>
              <a:path w="9526" h="3275">
                <a:moveTo>
                  <a:pt x="10939" y="10368"/>
                </a:moveTo>
                <a:cubicBezTo>
                  <a:pt x="10939" y="10360"/>
                  <a:pt x="10939" y="10352"/>
                  <a:pt x="10939" y="10344"/>
                </a:cubicBezTo>
                <a:cubicBezTo>
                  <a:pt x="10977" y="10331"/>
                  <a:pt x="10959" y="10319"/>
                  <a:pt x="11013" y="10319"/>
                </a:cubicBezTo>
                <a:cubicBezTo>
                  <a:pt x="11048" y="10319"/>
                  <a:pt x="11066" y="10314"/>
                  <a:pt x="11088" y="10294"/>
                </a:cubicBezTo>
              </a:path>
              <a:path w="9526" h="3275">
                <a:moveTo>
                  <a:pt x="13494" y="10393"/>
                </a:moveTo>
                <a:lnTo>
                  <a:pt x="13494" y="10393"/>
                </a:lnTo>
              </a:path>
              <a:path w="9526" h="3275">
                <a:moveTo>
                  <a:pt x="14263" y="10294"/>
                </a:moveTo>
                <a:cubicBezTo>
                  <a:pt x="14424" y="10294"/>
                  <a:pt x="14556" y="10320"/>
                  <a:pt x="14709" y="10344"/>
                </a:cubicBezTo>
                <a:cubicBezTo>
                  <a:pt x="14779" y="10355"/>
                  <a:pt x="14860" y="10344"/>
                  <a:pt x="14932" y="10344"/>
                </a:cubicBezTo>
              </a:path>
              <a:path w="9526" h="3275">
                <a:moveTo>
                  <a:pt x="15925" y="10244"/>
                </a:moveTo>
                <a:cubicBezTo>
                  <a:pt x="16041" y="10244"/>
                  <a:pt x="16156" y="10244"/>
                  <a:pt x="16272" y="10244"/>
                </a:cubicBezTo>
              </a:path>
              <a:path w="9526" h="3275">
                <a:moveTo>
                  <a:pt x="9252" y="10418"/>
                </a:moveTo>
                <a:cubicBezTo>
                  <a:pt x="9293" y="10386"/>
                  <a:pt x="9348" y="10353"/>
                  <a:pt x="9401" y="10344"/>
                </a:cubicBezTo>
                <a:cubicBezTo>
                  <a:pt x="9453" y="10335"/>
                  <a:pt x="9502" y="10326"/>
                  <a:pt x="9550" y="10294"/>
                </a:cubicBezTo>
                <a:cubicBezTo>
                  <a:pt x="9588" y="10269"/>
                  <a:pt x="9651" y="10256"/>
                  <a:pt x="9699" y="10244"/>
                </a:cubicBezTo>
                <a:cubicBezTo>
                  <a:pt x="9732" y="10236"/>
                  <a:pt x="9766" y="10222"/>
                  <a:pt x="9798" y="10220"/>
                </a:cubicBezTo>
                <a:cubicBezTo>
                  <a:pt x="9871" y="10215"/>
                  <a:pt x="9919" y="10195"/>
                  <a:pt x="9996" y="10195"/>
                </a:cubicBezTo>
                <a:cubicBezTo>
                  <a:pt x="10087" y="10195"/>
                  <a:pt x="10159" y="10184"/>
                  <a:pt x="10244" y="10170"/>
                </a:cubicBezTo>
                <a:cubicBezTo>
                  <a:pt x="10289" y="10162"/>
                  <a:pt x="10376" y="10163"/>
                  <a:pt x="10418" y="10145"/>
                </a:cubicBezTo>
                <a:cubicBezTo>
                  <a:pt x="10462" y="10127"/>
                  <a:pt x="10489" y="10120"/>
                  <a:pt x="10542" y="10120"/>
                </a:cubicBezTo>
              </a:path>
              <a:path w="9526" h="3275">
                <a:moveTo>
                  <a:pt x="10542" y="12154"/>
                </a:moveTo>
                <a:cubicBezTo>
                  <a:pt x="10253" y="12154"/>
                  <a:pt x="9963" y="12154"/>
                  <a:pt x="9674" y="12154"/>
                </a:cubicBezTo>
                <a:cubicBezTo>
                  <a:pt x="9789" y="12231"/>
                  <a:pt x="9886" y="12213"/>
                  <a:pt x="10021" y="12229"/>
                </a:cubicBezTo>
                <a:cubicBezTo>
                  <a:pt x="10135" y="12242"/>
                  <a:pt x="10230" y="12254"/>
                  <a:pt x="10344" y="12254"/>
                </a:cubicBezTo>
                <a:cubicBezTo>
                  <a:pt x="10278" y="12254"/>
                  <a:pt x="10261" y="12254"/>
                  <a:pt x="10195" y="12254"/>
                </a:cubicBezTo>
                <a:cubicBezTo>
                  <a:pt x="10049" y="12254"/>
                  <a:pt x="9911" y="12260"/>
                  <a:pt x="9773" y="12278"/>
                </a:cubicBezTo>
                <a:cubicBezTo>
                  <a:pt x="9638" y="12296"/>
                  <a:pt x="9488" y="12278"/>
                  <a:pt x="9351" y="12278"/>
                </a:cubicBezTo>
                <a:cubicBezTo>
                  <a:pt x="9334" y="12333"/>
                  <a:pt x="9452" y="12303"/>
                  <a:pt x="9525" y="12303"/>
                </a:cubicBezTo>
                <a:cubicBezTo>
                  <a:pt x="9668" y="12303"/>
                  <a:pt x="9804" y="12328"/>
                  <a:pt x="9947" y="12328"/>
                </a:cubicBezTo>
                <a:cubicBezTo>
                  <a:pt x="10045" y="12328"/>
                  <a:pt x="10124" y="12321"/>
                  <a:pt x="10220" y="12303"/>
                </a:cubicBezTo>
                <a:cubicBezTo>
                  <a:pt x="10380" y="12272"/>
                  <a:pt x="10576" y="12303"/>
                  <a:pt x="10740" y="12303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3940200" y="4440240"/>
            <a:ext cx="2367000" cy="649440"/>
          </a:xfrm>
          <a:custGeom>
            <a:avLst/>
            <a:gdLst/>
            <a:ahLst/>
            <a:rect l="l" t="t" r="r" b="b"/>
            <a:pathLst>
              <a:path w="1491" h="409">
                <a:moveTo>
                  <a:pt x="14" y="360"/>
                </a:moveTo>
                <a:cubicBezTo>
                  <a:pt x="33" y="357"/>
                  <a:pt x="51" y="354"/>
                  <a:pt x="70" y="352"/>
                </a:cubicBezTo>
                <a:cubicBezTo>
                  <a:pt x="126" y="346"/>
                  <a:pt x="238" y="336"/>
                  <a:pt x="238" y="336"/>
                </a:cubicBezTo>
                <a:cubicBezTo>
                  <a:pt x="194" y="347"/>
                  <a:pt x="0" y="338"/>
                  <a:pt x="110" y="368"/>
                </a:cubicBezTo>
                <a:cubicBezTo>
                  <a:pt x="128" y="373"/>
                  <a:pt x="147" y="373"/>
                  <a:pt x="166" y="376"/>
                </a:cubicBezTo>
                <a:cubicBezTo>
                  <a:pt x="143" y="399"/>
                  <a:pt x="148" y="409"/>
                  <a:pt x="118" y="392"/>
                </a:cubicBezTo>
                <a:cubicBezTo>
                  <a:pt x="101" y="383"/>
                  <a:pt x="70" y="360"/>
                  <a:pt x="70" y="360"/>
                </a:cubicBezTo>
                <a:cubicBezTo>
                  <a:pt x="67" y="352"/>
                  <a:pt x="66" y="344"/>
                  <a:pt x="62" y="336"/>
                </a:cubicBezTo>
                <a:cubicBezTo>
                  <a:pt x="58" y="327"/>
                  <a:pt x="41" y="320"/>
                  <a:pt x="46" y="312"/>
                </a:cubicBezTo>
                <a:cubicBezTo>
                  <a:pt x="56" y="295"/>
                  <a:pt x="94" y="280"/>
                  <a:pt x="94" y="280"/>
                </a:cubicBezTo>
                <a:cubicBezTo>
                  <a:pt x="115" y="312"/>
                  <a:pt x="105" y="324"/>
                  <a:pt x="142" y="336"/>
                </a:cubicBezTo>
                <a:cubicBezTo>
                  <a:pt x="147" y="328"/>
                  <a:pt x="154" y="321"/>
                  <a:pt x="158" y="312"/>
                </a:cubicBezTo>
                <a:cubicBezTo>
                  <a:pt x="162" y="304"/>
                  <a:pt x="162" y="295"/>
                  <a:pt x="166" y="288"/>
                </a:cubicBezTo>
                <a:cubicBezTo>
                  <a:pt x="196" y="235"/>
                  <a:pt x="227" y="202"/>
                  <a:pt x="246" y="144"/>
                </a:cubicBezTo>
                <a:cubicBezTo>
                  <a:pt x="252" y="126"/>
                  <a:pt x="225" y="176"/>
                  <a:pt x="214" y="192"/>
                </a:cubicBezTo>
                <a:cubicBezTo>
                  <a:pt x="209" y="199"/>
                  <a:pt x="210" y="209"/>
                  <a:pt x="206" y="216"/>
                </a:cubicBezTo>
                <a:cubicBezTo>
                  <a:pt x="176" y="269"/>
                  <a:pt x="145" y="302"/>
                  <a:pt x="126" y="360"/>
                </a:cubicBezTo>
                <a:cubicBezTo>
                  <a:pt x="123" y="368"/>
                  <a:pt x="131" y="344"/>
                  <a:pt x="134" y="336"/>
                </a:cubicBezTo>
                <a:cubicBezTo>
                  <a:pt x="140" y="319"/>
                  <a:pt x="150" y="304"/>
                  <a:pt x="158" y="288"/>
                </a:cubicBezTo>
                <a:cubicBezTo>
                  <a:pt x="174" y="256"/>
                  <a:pt x="208" y="220"/>
                  <a:pt x="238" y="200"/>
                </a:cubicBezTo>
                <a:cubicBezTo>
                  <a:pt x="260" y="166"/>
                  <a:pt x="293" y="150"/>
                  <a:pt x="326" y="128"/>
                </a:cubicBezTo>
                <a:cubicBezTo>
                  <a:pt x="347" y="114"/>
                  <a:pt x="374" y="88"/>
                  <a:pt x="398" y="80"/>
                </a:cubicBezTo>
                <a:cubicBezTo>
                  <a:pt x="486" y="51"/>
                  <a:pt x="572" y="22"/>
                  <a:pt x="662" y="0"/>
                </a:cubicBezTo>
                <a:cubicBezTo>
                  <a:pt x="809" y="6"/>
                  <a:pt x="955" y="17"/>
                  <a:pt x="1102" y="24"/>
                </a:cubicBezTo>
                <a:cubicBezTo>
                  <a:pt x="1175" y="36"/>
                  <a:pt x="1255" y="46"/>
                  <a:pt x="1318" y="88"/>
                </a:cubicBezTo>
                <a:cubicBezTo>
                  <a:pt x="1361" y="152"/>
                  <a:pt x="1305" y="75"/>
                  <a:pt x="1358" y="128"/>
                </a:cubicBezTo>
                <a:cubicBezTo>
                  <a:pt x="1365" y="135"/>
                  <a:pt x="1367" y="146"/>
                  <a:pt x="1374" y="152"/>
                </a:cubicBezTo>
                <a:cubicBezTo>
                  <a:pt x="1388" y="165"/>
                  <a:pt x="1422" y="184"/>
                  <a:pt x="1422" y="184"/>
                </a:cubicBezTo>
                <a:cubicBezTo>
                  <a:pt x="1459" y="240"/>
                  <a:pt x="1438" y="221"/>
                  <a:pt x="1478" y="248"/>
                </a:cubicBezTo>
                <a:cubicBezTo>
                  <a:pt x="1491" y="208"/>
                  <a:pt x="1479" y="206"/>
                  <a:pt x="1446" y="184"/>
                </a:cubicBezTo>
                <a:cubicBezTo>
                  <a:pt x="1443" y="176"/>
                  <a:pt x="1444" y="166"/>
                  <a:pt x="1438" y="160"/>
                </a:cubicBezTo>
                <a:cubicBezTo>
                  <a:pt x="1422" y="144"/>
                  <a:pt x="1355" y="96"/>
                  <a:pt x="1326" y="9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5965920" y="5046840"/>
            <a:ext cx="44280" cy="9360"/>
          </a:xfrm>
          <a:custGeom>
            <a:avLst/>
            <a:gdLst/>
            <a:ahLst/>
            <a:rect l="l" t="t" r="r" b="b"/>
            <a:pathLst>
              <a:path w="125" h="26">
                <a:moveTo>
                  <a:pt x="16694" y="12799"/>
                </a:moveTo>
                <a:cubicBezTo>
                  <a:pt x="16632" y="12799"/>
                  <a:pt x="16642" y="12824"/>
                  <a:pt x="16570" y="1282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059280" y="4869000"/>
            <a:ext cx="936360" cy="504720"/>
          </a:xfrm>
          <a:custGeom>
            <a:avLst/>
            <a:gdLst/>
            <a:ahLst/>
            <a:rect l="l" t="t" r="r" b="b"/>
            <a:pathLst>
              <a:path w="590" h="318">
                <a:moveTo>
                  <a:pt x="0" y="318"/>
                </a:moveTo>
                <a:cubicBezTo>
                  <a:pt x="11" y="249"/>
                  <a:pt x="23" y="181"/>
                  <a:pt x="91" y="136"/>
                </a:cubicBezTo>
                <a:cubicBezTo>
                  <a:pt x="159" y="91"/>
                  <a:pt x="326" y="69"/>
                  <a:pt x="409" y="46"/>
                </a:cubicBezTo>
                <a:cubicBezTo>
                  <a:pt x="492" y="23"/>
                  <a:pt x="541" y="11"/>
                  <a:pt x="590" y="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5865840" y="4589640"/>
            <a:ext cx="722160" cy="1098360"/>
          </a:xfrm>
          <a:custGeom>
            <a:avLst/>
            <a:gdLst/>
            <a:ahLst/>
            <a:rect l="l" t="t" r="r" b="b"/>
            <a:pathLst>
              <a:path w="1614" h="2456">
                <a:moveTo>
                  <a:pt x="16743" y="12378"/>
                </a:moveTo>
                <a:cubicBezTo>
                  <a:pt x="16743" y="12443"/>
                  <a:pt x="16735" y="12451"/>
                  <a:pt x="16718" y="12502"/>
                </a:cubicBezTo>
                <a:cubicBezTo>
                  <a:pt x="16718" y="12526"/>
                  <a:pt x="16718" y="12535"/>
                  <a:pt x="16718" y="12551"/>
                </a:cubicBezTo>
                <a:cubicBezTo>
                  <a:pt x="16705" y="12521"/>
                  <a:pt x="16684" y="12459"/>
                  <a:pt x="16669" y="12452"/>
                </a:cubicBezTo>
                <a:cubicBezTo>
                  <a:pt x="16661" y="12452"/>
                  <a:pt x="16652" y="12452"/>
                  <a:pt x="16644" y="12452"/>
                </a:cubicBezTo>
              </a:path>
              <a:path w="1614" h="2456">
                <a:moveTo>
                  <a:pt x="16718" y="12477"/>
                </a:moveTo>
                <a:cubicBezTo>
                  <a:pt x="16762" y="12483"/>
                  <a:pt x="16766" y="12481"/>
                  <a:pt x="16793" y="12502"/>
                </a:cubicBezTo>
                <a:cubicBezTo>
                  <a:pt x="16817" y="12521"/>
                  <a:pt x="16842" y="12529"/>
                  <a:pt x="16892" y="12551"/>
                </a:cubicBezTo>
                <a:cubicBezTo>
                  <a:pt x="16933" y="12569"/>
                  <a:pt x="16943" y="12608"/>
                  <a:pt x="16966" y="12626"/>
                </a:cubicBezTo>
                <a:cubicBezTo>
                  <a:pt x="16995" y="12649"/>
                  <a:pt x="17054" y="12650"/>
                  <a:pt x="17090" y="12675"/>
                </a:cubicBezTo>
                <a:cubicBezTo>
                  <a:pt x="17093" y="12677"/>
                  <a:pt x="17157" y="12731"/>
                  <a:pt x="17165" y="12750"/>
                </a:cubicBezTo>
                <a:cubicBezTo>
                  <a:pt x="17184" y="12796"/>
                  <a:pt x="17139" y="12838"/>
                  <a:pt x="17190" y="12874"/>
                </a:cubicBezTo>
                <a:cubicBezTo>
                  <a:pt x="17240" y="12910"/>
                  <a:pt x="17299" y="12898"/>
                  <a:pt x="17363" y="12898"/>
                </a:cubicBezTo>
                <a:cubicBezTo>
                  <a:pt x="17429" y="12898"/>
                  <a:pt x="17446" y="12898"/>
                  <a:pt x="17487" y="12898"/>
                </a:cubicBezTo>
                <a:cubicBezTo>
                  <a:pt x="17497" y="12966"/>
                  <a:pt x="17508" y="12933"/>
                  <a:pt x="17512" y="12998"/>
                </a:cubicBezTo>
                <a:cubicBezTo>
                  <a:pt x="17517" y="13088"/>
                  <a:pt x="17502" y="13169"/>
                  <a:pt x="17537" y="13246"/>
                </a:cubicBezTo>
                <a:cubicBezTo>
                  <a:pt x="17561" y="13300"/>
                  <a:pt x="17559" y="13315"/>
                  <a:pt x="17562" y="13370"/>
                </a:cubicBezTo>
                <a:cubicBezTo>
                  <a:pt x="17579" y="13690"/>
                  <a:pt x="17562" y="14016"/>
                  <a:pt x="17562" y="14337"/>
                </a:cubicBezTo>
                <a:cubicBezTo>
                  <a:pt x="17496" y="14324"/>
                  <a:pt x="17428" y="14325"/>
                  <a:pt x="17363" y="14312"/>
                </a:cubicBezTo>
                <a:cubicBezTo>
                  <a:pt x="17250" y="14290"/>
                  <a:pt x="17300" y="14242"/>
                  <a:pt x="17239" y="14188"/>
                </a:cubicBezTo>
                <a:cubicBezTo>
                  <a:pt x="17231" y="14188"/>
                  <a:pt x="17222" y="14188"/>
                  <a:pt x="17214" y="14188"/>
                </a:cubicBezTo>
                <a:cubicBezTo>
                  <a:pt x="17236" y="14253"/>
                  <a:pt x="17227" y="14238"/>
                  <a:pt x="17314" y="14238"/>
                </a:cubicBezTo>
                <a:cubicBezTo>
                  <a:pt x="17385" y="14238"/>
                  <a:pt x="17433" y="14222"/>
                  <a:pt x="17487" y="14213"/>
                </a:cubicBezTo>
                <a:cubicBezTo>
                  <a:pt x="17552" y="14202"/>
                  <a:pt x="17611" y="14234"/>
                  <a:pt x="17661" y="14188"/>
                </a:cubicBezTo>
                <a:cubicBezTo>
                  <a:pt x="17696" y="14156"/>
                  <a:pt x="17684" y="14133"/>
                  <a:pt x="17686" y="14089"/>
                </a:cubicBezTo>
                <a:cubicBezTo>
                  <a:pt x="17690" y="14021"/>
                  <a:pt x="17669" y="13968"/>
                  <a:pt x="17661" y="13915"/>
                </a:cubicBezTo>
                <a:cubicBezTo>
                  <a:pt x="17652" y="13860"/>
                  <a:pt x="17641" y="13765"/>
                  <a:pt x="17636" y="13742"/>
                </a:cubicBezTo>
                <a:cubicBezTo>
                  <a:pt x="17592" y="13523"/>
                  <a:pt x="17636" y="13246"/>
                  <a:pt x="17636" y="13022"/>
                </a:cubicBezTo>
              </a:path>
              <a:path w="1614" h="2456">
                <a:moveTo>
                  <a:pt x="17239" y="13146"/>
                </a:moveTo>
                <a:cubicBezTo>
                  <a:pt x="17239" y="13112"/>
                  <a:pt x="17226" y="13066"/>
                  <a:pt x="17264" y="13047"/>
                </a:cubicBezTo>
                <a:cubicBezTo>
                  <a:pt x="17272" y="13047"/>
                  <a:pt x="17281" y="13047"/>
                  <a:pt x="17289" y="13047"/>
                </a:cubicBezTo>
              </a:path>
              <a:path w="1614" h="2456">
                <a:moveTo>
                  <a:pt x="17190" y="14436"/>
                </a:moveTo>
                <a:cubicBezTo>
                  <a:pt x="17190" y="14496"/>
                  <a:pt x="17217" y="14664"/>
                  <a:pt x="17165" y="14709"/>
                </a:cubicBezTo>
                <a:cubicBezTo>
                  <a:pt x="17139" y="14732"/>
                  <a:pt x="17127" y="14712"/>
                  <a:pt x="17115" y="14759"/>
                </a:cubicBezTo>
                <a:cubicBezTo>
                  <a:pt x="17061" y="14759"/>
                  <a:pt x="17046" y="14781"/>
                  <a:pt x="16991" y="14784"/>
                </a:cubicBezTo>
                <a:cubicBezTo>
                  <a:pt x="16755" y="14795"/>
                  <a:pt x="16464" y="14738"/>
                  <a:pt x="16247" y="14808"/>
                </a:cubicBezTo>
                <a:cubicBezTo>
                  <a:pt x="16239" y="14808"/>
                  <a:pt x="16230" y="14808"/>
                  <a:pt x="16222" y="14808"/>
                </a:cubicBezTo>
              </a:path>
              <a:path w="1614" h="2456">
                <a:moveTo>
                  <a:pt x="16594" y="12427"/>
                </a:moveTo>
                <a:cubicBezTo>
                  <a:pt x="16542" y="12445"/>
                  <a:pt x="16582" y="12477"/>
                  <a:pt x="16594" y="12526"/>
                </a:cubicBezTo>
                <a:cubicBezTo>
                  <a:pt x="16594" y="12534"/>
                  <a:pt x="16594" y="12543"/>
                  <a:pt x="16594" y="12551"/>
                </a:cubicBezTo>
                <a:cubicBezTo>
                  <a:pt x="16553" y="12494"/>
                  <a:pt x="16519" y="12486"/>
                  <a:pt x="16470" y="12452"/>
                </a:cubicBezTo>
                <a:cubicBezTo>
                  <a:pt x="16426" y="12422"/>
                  <a:pt x="16404" y="12427"/>
                  <a:pt x="16346" y="12427"/>
                </a:cubicBezTo>
              </a:path>
              <a:path w="1614" h="2456">
                <a:moveTo>
                  <a:pt x="16073" y="12353"/>
                </a:moveTo>
                <a:lnTo>
                  <a:pt x="16073" y="12353"/>
                </a:lnTo>
              </a:path>
              <a:path w="1614" h="2456">
                <a:moveTo>
                  <a:pt x="17214" y="14312"/>
                </a:moveTo>
                <a:cubicBezTo>
                  <a:pt x="17214" y="14246"/>
                  <a:pt x="17214" y="14180"/>
                  <a:pt x="17214" y="14114"/>
                </a:cubicBezTo>
              </a:path>
            </a:pathLst>
          </a:custGeom>
          <a:noFill/>
          <a:ln cap="rnd"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2984400" y="4451400"/>
            <a:ext cx="3395880" cy="1282680"/>
          </a:xfrm>
          <a:custGeom>
            <a:avLst/>
            <a:gdLst/>
            <a:ahLst/>
            <a:rect l="l" t="t" r="r" b="b"/>
            <a:pathLst>
              <a:path w="2139" h="808">
                <a:moveTo>
                  <a:pt x="1152" y="656"/>
                </a:moveTo>
                <a:cubicBezTo>
                  <a:pt x="1196" y="626"/>
                  <a:pt x="1161" y="657"/>
                  <a:pt x="1184" y="616"/>
                </a:cubicBezTo>
                <a:cubicBezTo>
                  <a:pt x="1193" y="599"/>
                  <a:pt x="1216" y="568"/>
                  <a:pt x="1216" y="568"/>
                </a:cubicBezTo>
                <a:cubicBezTo>
                  <a:pt x="1224" y="593"/>
                  <a:pt x="1247" y="620"/>
                  <a:pt x="1216" y="640"/>
                </a:cubicBezTo>
                <a:cubicBezTo>
                  <a:pt x="1202" y="649"/>
                  <a:pt x="1168" y="656"/>
                  <a:pt x="1168" y="656"/>
                </a:cubicBezTo>
                <a:cubicBezTo>
                  <a:pt x="1184" y="632"/>
                  <a:pt x="1207" y="611"/>
                  <a:pt x="1216" y="584"/>
                </a:cubicBezTo>
                <a:cubicBezTo>
                  <a:pt x="1221" y="568"/>
                  <a:pt x="1232" y="536"/>
                  <a:pt x="1232" y="536"/>
                </a:cubicBezTo>
                <a:cubicBezTo>
                  <a:pt x="1220" y="501"/>
                  <a:pt x="1203" y="474"/>
                  <a:pt x="1192" y="440"/>
                </a:cubicBezTo>
                <a:cubicBezTo>
                  <a:pt x="1196" y="395"/>
                  <a:pt x="1221" y="330"/>
                  <a:pt x="1168" y="312"/>
                </a:cubicBezTo>
                <a:cubicBezTo>
                  <a:pt x="1151" y="379"/>
                  <a:pt x="1114" y="350"/>
                  <a:pt x="1040" y="344"/>
                </a:cubicBezTo>
                <a:cubicBezTo>
                  <a:pt x="925" y="306"/>
                  <a:pt x="799" y="336"/>
                  <a:pt x="680" y="344"/>
                </a:cubicBezTo>
                <a:cubicBezTo>
                  <a:pt x="672" y="347"/>
                  <a:pt x="662" y="346"/>
                  <a:pt x="656" y="352"/>
                </a:cubicBezTo>
                <a:cubicBezTo>
                  <a:pt x="650" y="358"/>
                  <a:pt x="652" y="368"/>
                  <a:pt x="648" y="376"/>
                </a:cubicBezTo>
                <a:cubicBezTo>
                  <a:pt x="629" y="414"/>
                  <a:pt x="624" y="426"/>
                  <a:pt x="616" y="472"/>
                </a:cubicBezTo>
                <a:cubicBezTo>
                  <a:pt x="625" y="537"/>
                  <a:pt x="628" y="545"/>
                  <a:pt x="664" y="600"/>
                </a:cubicBezTo>
                <a:cubicBezTo>
                  <a:pt x="673" y="614"/>
                  <a:pt x="712" y="616"/>
                  <a:pt x="712" y="616"/>
                </a:cubicBezTo>
                <a:cubicBezTo>
                  <a:pt x="880" y="607"/>
                  <a:pt x="1048" y="598"/>
                  <a:pt x="1216" y="592"/>
                </a:cubicBezTo>
                <a:cubicBezTo>
                  <a:pt x="1168" y="589"/>
                  <a:pt x="1120" y="588"/>
                  <a:pt x="1072" y="584"/>
                </a:cubicBezTo>
                <a:cubicBezTo>
                  <a:pt x="1058" y="583"/>
                  <a:pt x="1019" y="579"/>
                  <a:pt x="1032" y="576"/>
                </a:cubicBezTo>
                <a:cubicBezTo>
                  <a:pt x="1069" y="568"/>
                  <a:pt x="1107" y="571"/>
                  <a:pt x="1144" y="568"/>
                </a:cubicBezTo>
                <a:cubicBezTo>
                  <a:pt x="1155" y="565"/>
                  <a:pt x="1167" y="566"/>
                  <a:pt x="1176" y="560"/>
                </a:cubicBezTo>
                <a:cubicBezTo>
                  <a:pt x="1184" y="555"/>
                  <a:pt x="1198" y="544"/>
                  <a:pt x="1192" y="536"/>
                </a:cubicBezTo>
                <a:cubicBezTo>
                  <a:pt x="1181" y="523"/>
                  <a:pt x="1144" y="520"/>
                  <a:pt x="1144" y="520"/>
                </a:cubicBezTo>
                <a:cubicBezTo>
                  <a:pt x="1152" y="515"/>
                  <a:pt x="1159" y="508"/>
                  <a:pt x="1168" y="504"/>
                </a:cubicBezTo>
                <a:cubicBezTo>
                  <a:pt x="1206" y="488"/>
                  <a:pt x="1205" y="511"/>
                  <a:pt x="1192" y="472"/>
                </a:cubicBezTo>
                <a:cubicBezTo>
                  <a:pt x="1203" y="438"/>
                  <a:pt x="1220" y="411"/>
                  <a:pt x="1232" y="376"/>
                </a:cubicBezTo>
                <a:cubicBezTo>
                  <a:pt x="1235" y="368"/>
                  <a:pt x="1232" y="354"/>
                  <a:pt x="1240" y="352"/>
                </a:cubicBezTo>
                <a:cubicBezTo>
                  <a:pt x="1307" y="339"/>
                  <a:pt x="1375" y="342"/>
                  <a:pt x="1440" y="320"/>
                </a:cubicBezTo>
                <a:cubicBezTo>
                  <a:pt x="1610" y="328"/>
                  <a:pt x="1655" y="305"/>
                  <a:pt x="1560" y="368"/>
                </a:cubicBezTo>
                <a:cubicBezTo>
                  <a:pt x="1525" y="420"/>
                  <a:pt x="1579" y="410"/>
                  <a:pt x="1624" y="416"/>
                </a:cubicBezTo>
                <a:cubicBezTo>
                  <a:pt x="1587" y="472"/>
                  <a:pt x="1576" y="453"/>
                  <a:pt x="1616" y="480"/>
                </a:cubicBezTo>
                <a:cubicBezTo>
                  <a:pt x="1637" y="477"/>
                  <a:pt x="1660" y="481"/>
                  <a:pt x="1680" y="472"/>
                </a:cubicBezTo>
                <a:cubicBezTo>
                  <a:pt x="1700" y="463"/>
                  <a:pt x="1681" y="426"/>
                  <a:pt x="1672" y="400"/>
                </a:cubicBezTo>
                <a:cubicBezTo>
                  <a:pt x="1669" y="392"/>
                  <a:pt x="1664" y="376"/>
                  <a:pt x="1664" y="376"/>
                </a:cubicBezTo>
                <a:cubicBezTo>
                  <a:pt x="1667" y="368"/>
                  <a:pt x="1665" y="357"/>
                  <a:pt x="1672" y="352"/>
                </a:cubicBezTo>
                <a:cubicBezTo>
                  <a:pt x="1696" y="335"/>
                  <a:pt x="1753" y="326"/>
                  <a:pt x="1784" y="320"/>
                </a:cubicBezTo>
                <a:cubicBezTo>
                  <a:pt x="1801" y="321"/>
                  <a:pt x="2027" y="273"/>
                  <a:pt x="2056" y="360"/>
                </a:cubicBezTo>
                <a:cubicBezTo>
                  <a:pt x="2027" y="379"/>
                  <a:pt x="2027" y="396"/>
                  <a:pt x="2008" y="424"/>
                </a:cubicBezTo>
                <a:cubicBezTo>
                  <a:pt x="2028" y="484"/>
                  <a:pt x="1999" y="412"/>
                  <a:pt x="2040" y="464"/>
                </a:cubicBezTo>
                <a:cubicBezTo>
                  <a:pt x="2051" y="478"/>
                  <a:pt x="2054" y="497"/>
                  <a:pt x="2064" y="512"/>
                </a:cubicBezTo>
                <a:cubicBezTo>
                  <a:pt x="2054" y="562"/>
                  <a:pt x="2033" y="566"/>
                  <a:pt x="2072" y="592"/>
                </a:cubicBezTo>
                <a:cubicBezTo>
                  <a:pt x="2112" y="565"/>
                  <a:pt x="2099" y="559"/>
                  <a:pt x="2064" y="536"/>
                </a:cubicBezTo>
                <a:cubicBezTo>
                  <a:pt x="2042" y="551"/>
                  <a:pt x="2035" y="551"/>
                  <a:pt x="2024" y="576"/>
                </a:cubicBezTo>
                <a:cubicBezTo>
                  <a:pt x="2017" y="591"/>
                  <a:pt x="2008" y="624"/>
                  <a:pt x="2008" y="624"/>
                </a:cubicBezTo>
                <a:cubicBezTo>
                  <a:pt x="2016" y="627"/>
                  <a:pt x="2024" y="629"/>
                  <a:pt x="2032" y="632"/>
                </a:cubicBezTo>
                <a:cubicBezTo>
                  <a:pt x="2056" y="640"/>
                  <a:pt x="1960" y="656"/>
                  <a:pt x="1960" y="656"/>
                </a:cubicBezTo>
                <a:cubicBezTo>
                  <a:pt x="1932" y="698"/>
                  <a:pt x="1953" y="691"/>
                  <a:pt x="1992" y="704"/>
                </a:cubicBezTo>
                <a:cubicBezTo>
                  <a:pt x="2019" y="701"/>
                  <a:pt x="2099" y="696"/>
                  <a:pt x="2072" y="696"/>
                </a:cubicBezTo>
                <a:cubicBezTo>
                  <a:pt x="2013" y="696"/>
                  <a:pt x="1955" y="708"/>
                  <a:pt x="1896" y="704"/>
                </a:cubicBezTo>
                <a:cubicBezTo>
                  <a:pt x="1871" y="702"/>
                  <a:pt x="1968" y="680"/>
                  <a:pt x="1968" y="680"/>
                </a:cubicBezTo>
                <a:cubicBezTo>
                  <a:pt x="1929" y="667"/>
                  <a:pt x="1813" y="612"/>
                  <a:pt x="1864" y="688"/>
                </a:cubicBezTo>
                <a:cubicBezTo>
                  <a:pt x="1861" y="696"/>
                  <a:pt x="1861" y="705"/>
                  <a:pt x="1856" y="712"/>
                </a:cubicBezTo>
                <a:cubicBezTo>
                  <a:pt x="1850" y="720"/>
                  <a:pt x="1835" y="719"/>
                  <a:pt x="1832" y="728"/>
                </a:cubicBezTo>
                <a:cubicBezTo>
                  <a:pt x="1824" y="753"/>
                  <a:pt x="1827" y="781"/>
                  <a:pt x="1824" y="808"/>
                </a:cubicBezTo>
                <a:cubicBezTo>
                  <a:pt x="1821" y="787"/>
                  <a:pt x="1812" y="765"/>
                  <a:pt x="1816" y="744"/>
                </a:cubicBezTo>
                <a:cubicBezTo>
                  <a:pt x="1818" y="735"/>
                  <a:pt x="1831" y="732"/>
                  <a:pt x="1840" y="728"/>
                </a:cubicBezTo>
                <a:cubicBezTo>
                  <a:pt x="1879" y="709"/>
                  <a:pt x="1936" y="708"/>
                  <a:pt x="1976" y="704"/>
                </a:cubicBezTo>
                <a:cubicBezTo>
                  <a:pt x="2023" y="692"/>
                  <a:pt x="2101" y="727"/>
                  <a:pt x="2080" y="664"/>
                </a:cubicBezTo>
                <a:cubicBezTo>
                  <a:pt x="2063" y="670"/>
                  <a:pt x="2022" y="688"/>
                  <a:pt x="2008" y="664"/>
                </a:cubicBezTo>
                <a:cubicBezTo>
                  <a:pt x="2008" y="664"/>
                  <a:pt x="2028" y="604"/>
                  <a:pt x="2032" y="592"/>
                </a:cubicBezTo>
                <a:cubicBezTo>
                  <a:pt x="2037" y="576"/>
                  <a:pt x="2048" y="544"/>
                  <a:pt x="2048" y="544"/>
                </a:cubicBezTo>
                <a:cubicBezTo>
                  <a:pt x="2036" y="495"/>
                  <a:pt x="2020" y="448"/>
                  <a:pt x="2008" y="400"/>
                </a:cubicBezTo>
                <a:cubicBezTo>
                  <a:pt x="2033" y="324"/>
                  <a:pt x="2000" y="438"/>
                  <a:pt x="2008" y="344"/>
                </a:cubicBezTo>
                <a:cubicBezTo>
                  <a:pt x="2010" y="322"/>
                  <a:pt x="2024" y="280"/>
                  <a:pt x="2024" y="280"/>
                </a:cubicBezTo>
                <a:cubicBezTo>
                  <a:pt x="2015" y="253"/>
                  <a:pt x="2009" y="227"/>
                  <a:pt x="2000" y="200"/>
                </a:cubicBezTo>
                <a:cubicBezTo>
                  <a:pt x="1992" y="224"/>
                  <a:pt x="1984" y="248"/>
                  <a:pt x="1976" y="272"/>
                </a:cubicBezTo>
                <a:cubicBezTo>
                  <a:pt x="1973" y="280"/>
                  <a:pt x="1968" y="296"/>
                  <a:pt x="1968" y="296"/>
                </a:cubicBezTo>
                <a:cubicBezTo>
                  <a:pt x="1960" y="272"/>
                  <a:pt x="1936" y="215"/>
                  <a:pt x="1944" y="192"/>
                </a:cubicBezTo>
                <a:cubicBezTo>
                  <a:pt x="1947" y="183"/>
                  <a:pt x="1956" y="207"/>
                  <a:pt x="1960" y="216"/>
                </a:cubicBezTo>
                <a:cubicBezTo>
                  <a:pt x="1979" y="255"/>
                  <a:pt x="1952" y="229"/>
                  <a:pt x="1992" y="256"/>
                </a:cubicBezTo>
                <a:cubicBezTo>
                  <a:pt x="2021" y="237"/>
                  <a:pt x="2021" y="220"/>
                  <a:pt x="2040" y="192"/>
                </a:cubicBezTo>
                <a:cubicBezTo>
                  <a:pt x="2045" y="208"/>
                  <a:pt x="2065" y="254"/>
                  <a:pt x="2056" y="240"/>
                </a:cubicBezTo>
                <a:cubicBezTo>
                  <a:pt x="2051" y="232"/>
                  <a:pt x="2044" y="225"/>
                  <a:pt x="2040" y="216"/>
                </a:cubicBezTo>
                <a:cubicBezTo>
                  <a:pt x="2036" y="208"/>
                  <a:pt x="2036" y="200"/>
                  <a:pt x="2032" y="192"/>
                </a:cubicBezTo>
                <a:cubicBezTo>
                  <a:pt x="2028" y="183"/>
                  <a:pt x="2020" y="177"/>
                  <a:pt x="2016" y="168"/>
                </a:cubicBezTo>
                <a:cubicBezTo>
                  <a:pt x="2012" y="160"/>
                  <a:pt x="2014" y="150"/>
                  <a:pt x="2008" y="144"/>
                </a:cubicBezTo>
                <a:cubicBezTo>
                  <a:pt x="2002" y="138"/>
                  <a:pt x="1992" y="139"/>
                  <a:pt x="1984" y="136"/>
                </a:cubicBezTo>
                <a:cubicBezTo>
                  <a:pt x="1956" y="94"/>
                  <a:pt x="1895" y="88"/>
                  <a:pt x="1848" y="72"/>
                </a:cubicBezTo>
                <a:cubicBezTo>
                  <a:pt x="1809" y="59"/>
                  <a:pt x="1840" y="52"/>
                  <a:pt x="1800" y="48"/>
                </a:cubicBezTo>
                <a:cubicBezTo>
                  <a:pt x="1757" y="44"/>
                  <a:pt x="1715" y="43"/>
                  <a:pt x="1672" y="40"/>
                </a:cubicBezTo>
                <a:cubicBezTo>
                  <a:pt x="1643" y="35"/>
                  <a:pt x="1614" y="24"/>
                  <a:pt x="1584" y="24"/>
                </a:cubicBezTo>
                <a:cubicBezTo>
                  <a:pt x="1576" y="24"/>
                  <a:pt x="1608" y="40"/>
                  <a:pt x="1608" y="32"/>
                </a:cubicBezTo>
                <a:cubicBezTo>
                  <a:pt x="1608" y="22"/>
                  <a:pt x="1592" y="21"/>
                  <a:pt x="1584" y="16"/>
                </a:cubicBezTo>
                <a:cubicBezTo>
                  <a:pt x="1419" y="19"/>
                  <a:pt x="1253" y="18"/>
                  <a:pt x="1088" y="24"/>
                </a:cubicBezTo>
                <a:cubicBezTo>
                  <a:pt x="1064" y="25"/>
                  <a:pt x="1136" y="32"/>
                  <a:pt x="1160" y="32"/>
                </a:cubicBezTo>
                <a:cubicBezTo>
                  <a:pt x="1176" y="32"/>
                  <a:pt x="1224" y="24"/>
                  <a:pt x="1208" y="24"/>
                </a:cubicBezTo>
                <a:cubicBezTo>
                  <a:pt x="1136" y="24"/>
                  <a:pt x="1064" y="29"/>
                  <a:pt x="992" y="32"/>
                </a:cubicBezTo>
                <a:cubicBezTo>
                  <a:pt x="984" y="35"/>
                  <a:pt x="968" y="32"/>
                  <a:pt x="968" y="40"/>
                </a:cubicBezTo>
                <a:cubicBezTo>
                  <a:pt x="968" y="48"/>
                  <a:pt x="984" y="48"/>
                  <a:pt x="992" y="48"/>
                </a:cubicBezTo>
                <a:cubicBezTo>
                  <a:pt x="1051" y="48"/>
                  <a:pt x="1109" y="43"/>
                  <a:pt x="1168" y="40"/>
                </a:cubicBezTo>
                <a:cubicBezTo>
                  <a:pt x="1334" y="12"/>
                  <a:pt x="1209" y="29"/>
                  <a:pt x="1440" y="16"/>
                </a:cubicBezTo>
                <a:cubicBezTo>
                  <a:pt x="1475" y="14"/>
                  <a:pt x="1509" y="11"/>
                  <a:pt x="1544" y="8"/>
                </a:cubicBezTo>
                <a:cubicBezTo>
                  <a:pt x="1563" y="6"/>
                  <a:pt x="1619" y="0"/>
                  <a:pt x="1600" y="0"/>
                </a:cubicBezTo>
                <a:cubicBezTo>
                  <a:pt x="1515" y="0"/>
                  <a:pt x="1429" y="5"/>
                  <a:pt x="1344" y="8"/>
                </a:cubicBezTo>
                <a:cubicBezTo>
                  <a:pt x="1293" y="10"/>
                  <a:pt x="1243" y="13"/>
                  <a:pt x="1192" y="16"/>
                </a:cubicBezTo>
                <a:cubicBezTo>
                  <a:pt x="1125" y="27"/>
                  <a:pt x="1079" y="35"/>
                  <a:pt x="1016" y="56"/>
                </a:cubicBezTo>
                <a:cubicBezTo>
                  <a:pt x="996" y="63"/>
                  <a:pt x="1059" y="51"/>
                  <a:pt x="1080" y="48"/>
                </a:cubicBezTo>
                <a:cubicBezTo>
                  <a:pt x="1203" y="57"/>
                  <a:pt x="1190" y="31"/>
                  <a:pt x="1208" y="120"/>
                </a:cubicBezTo>
                <a:cubicBezTo>
                  <a:pt x="1224" y="500"/>
                  <a:pt x="1199" y="320"/>
                  <a:pt x="624" y="328"/>
                </a:cubicBezTo>
                <a:cubicBezTo>
                  <a:pt x="574" y="345"/>
                  <a:pt x="609" y="368"/>
                  <a:pt x="560" y="352"/>
                </a:cubicBezTo>
                <a:cubicBezTo>
                  <a:pt x="557" y="344"/>
                  <a:pt x="548" y="336"/>
                  <a:pt x="552" y="328"/>
                </a:cubicBezTo>
                <a:cubicBezTo>
                  <a:pt x="556" y="320"/>
                  <a:pt x="571" y="313"/>
                  <a:pt x="576" y="320"/>
                </a:cubicBezTo>
                <a:cubicBezTo>
                  <a:pt x="582" y="329"/>
                  <a:pt x="575" y="343"/>
                  <a:pt x="568" y="352"/>
                </a:cubicBezTo>
                <a:cubicBezTo>
                  <a:pt x="563" y="359"/>
                  <a:pt x="552" y="357"/>
                  <a:pt x="544" y="360"/>
                </a:cubicBezTo>
                <a:cubicBezTo>
                  <a:pt x="475" y="314"/>
                  <a:pt x="253" y="352"/>
                  <a:pt x="168" y="408"/>
                </a:cubicBezTo>
                <a:cubicBezTo>
                  <a:pt x="155" y="448"/>
                  <a:pt x="131" y="486"/>
                  <a:pt x="184" y="504"/>
                </a:cubicBezTo>
                <a:cubicBezTo>
                  <a:pt x="171" y="543"/>
                  <a:pt x="158" y="534"/>
                  <a:pt x="120" y="544"/>
                </a:cubicBezTo>
                <a:cubicBezTo>
                  <a:pt x="138" y="616"/>
                  <a:pt x="127" y="672"/>
                  <a:pt x="56" y="696"/>
                </a:cubicBezTo>
                <a:cubicBezTo>
                  <a:pt x="56" y="696"/>
                  <a:pt x="40" y="750"/>
                  <a:pt x="32" y="744"/>
                </a:cubicBezTo>
                <a:cubicBezTo>
                  <a:pt x="19" y="734"/>
                  <a:pt x="16" y="696"/>
                  <a:pt x="16" y="696"/>
                </a:cubicBezTo>
                <a:cubicBezTo>
                  <a:pt x="28" y="659"/>
                  <a:pt x="40" y="669"/>
                  <a:pt x="72" y="648"/>
                </a:cubicBezTo>
                <a:cubicBezTo>
                  <a:pt x="69" y="640"/>
                  <a:pt x="72" y="627"/>
                  <a:pt x="64" y="624"/>
                </a:cubicBezTo>
                <a:cubicBezTo>
                  <a:pt x="22" y="610"/>
                  <a:pt x="9" y="653"/>
                  <a:pt x="0" y="680"/>
                </a:cubicBezTo>
                <a:cubicBezTo>
                  <a:pt x="13" y="718"/>
                  <a:pt x="5" y="729"/>
                  <a:pt x="40" y="752"/>
                </a:cubicBezTo>
                <a:cubicBezTo>
                  <a:pt x="71" y="748"/>
                  <a:pt x="119" y="750"/>
                  <a:pt x="112" y="720"/>
                </a:cubicBezTo>
                <a:cubicBezTo>
                  <a:pt x="108" y="701"/>
                  <a:pt x="91" y="688"/>
                  <a:pt x="80" y="672"/>
                </a:cubicBezTo>
                <a:cubicBezTo>
                  <a:pt x="71" y="658"/>
                  <a:pt x="69" y="640"/>
                  <a:pt x="64" y="624"/>
                </a:cubicBezTo>
                <a:cubicBezTo>
                  <a:pt x="61" y="616"/>
                  <a:pt x="56" y="600"/>
                  <a:pt x="56" y="600"/>
                </a:cubicBezTo>
                <a:cubicBezTo>
                  <a:pt x="64" y="576"/>
                  <a:pt x="66" y="549"/>
                  <a:pt x="80" y="528"/>
                </a:cubicBezTo>
                <a:cubicBezTo>
                  <a:pt x="128" y="456"/>
                  <a:pt x="222" y="385"/>
                  <a:pt x="312" y="376"/>
                </a:cubicBezTo>
                <a:cubicBezTo>
                  <a:pt x="365" y="371"/>
                  <a:pt x="472" y="360"/>
                  <a:pt x="472" y="360"/>
                </a:cubicBezTo>
                <a:cubicBezTo>
                  <a:pt x="523" y="363"/>
                  <a:pt x="584" y="337"/>
                  <a:pt x="624" y="368"/>
                </a:cubicBezTo>
                <a:cubicBezTo>
                  <a:pt x="651" y="389"/>
                  <a:pt x="621" y="438"/>
                  <a:pt x="616" y="472"/>
                </a:cubicBezTo>
                <a:cubicBezTo>
                  <a:pt x="608" y="526"/>
                  <a:pt x="591" y="538"/>
                  <a:pt x="576" y="584"/>
                </a:cubicBezTo>
                <a:cubicBezTo>
                  <a:pt x="592" y="608"/>
                  <a:pt x="615" y="629"/>
                  <a:pt x="624" y="656"/>
                </a:cubicBezTo>
                <a:cubicBezTo>
                  <a:pt x="629" y="672"/>
                  <a:pt x="640" y="704"/>
                  <a:pt x="640" y="704"/>
                </a:cubicBezTo>
                <a:cubicBezTo>
                  <a:pt x="637" y="731"/>
                  <a:pt x="648" y="763"/>
                  <a:pt x="632" y="784"/>
                </a:cubicBezTo>
                <a:cubicBezTo>
                  <a:pt x="622" y="797"/>
                  <a:pt x="616" y="736"/>
                  <a:pt x="616" y="736"/>
                </a:cubicBezTo>
                <a:cubicBezTo>
                  <a:pt x="613" y="746"/>
                  <a:pt x="591" y="808"/>
                  <a:pt x="600" y="808"/>
                </a:cubicBezTo>
                <a:cubicBezTo>
                  <a:pt x="600" y="808"/>
                  <a:pt x="640" y="748"/>
                  <a:pt x="648" y="736"/>
                </a:cubicBezTo>
                <a:cubicBezTo>
                  <a:pt x="657" y="722"/>
                  <a:pt x="680" y="725"/>
                  <a:pt x="696" y="720"/>
                </a:cubicBezTo>
                <a:cubicBezTo>
                  <a:pt x="756" y="700"/>
                  <a:pt x="682" y="727"/>
                  <a:pt x="744" y="696"/>
                </a:cubicBezTo>
                <a:cubicBezTo>
                  <a:pt x="767" y="685"/>
                  <a:pt x="803" y="683"/>
                  <a:pt x="824" y="680"/>
                </a:cubicBezTo>
                <a:cubicBezTo>
                  <a:pt x="904" y="668"/>
                  <a:pt x="983" y="655"/>
                  <a:pt x="1064" y="648"/>
                </a:cubicBezTo>
                <a:cubicBezTo>
                  <a:pt x="1134" y="631"/>
                  <a:pt x="1069" y="634"/>
                  <a:pt x="1040" y="624"/>
                </a:cubicBezTo>
                <a:cubicBezTo>
                  <a:pt x="1127" y="619"/>
                  <a:pt x="1182" y="609"/>
                  <a:pt x="1264" y="600"/>
                </a:cubicBezTo>
                <a:cubicBezTo>
                  <a:pt x="1352" y="618"/>
                  <a:pt x="1271" y="587"/>
                  <a:pt x="1248" y="576"/>
                </a:cubicBezTo>
                <a:cubicBezTo>
                  <a:pt x="1278" y="566"/>
                  <a:pt x="1299" y="555"/>
                  <a:pt x="1336" y="576"/>
                </a:cubicBezTo>
                <a:cubicBezTo>
                  <a:pt x="1350" y="584"/>
                  <a:pt x="1305" y="622"/>
                  <a:pt x="1312" y="624"/>
                </a:cubicBezTo>
                <a:cubicBezTo>
                  <a:pt x="1335" y="631"/>
                  <a:pt x="1360" y="619"/>
                  <a:pt x="1384" y="616"/>
                </a:cubicBezTo>
                <a:cubicBezTo>
                  <a:pt x="1376" y="621"/>
                  <a:pt x="1369" y="628"/>
                  <a:pt x="1360" y="632"/>
                </a:cubicBezTo>
                <a:cubicBezTo>
                  <a:pt x="1345" y="639"/>
                  <a:pt x="1312" y="648"/>
                  <a:pt x="1312" y="648"/>
                </a:cubicBezTo>
                <a:cubicBezTo>
                  <a:pt x="1317" y="656"/>
                  <a:pt x="1318" y="672"/>
                  <a:pt x="1328" y="672"/>
                </a:cubicBezTo>
                <a:cubicBezTo>
                  <a:pt x="1357" y="672"/>
                  <a:pt x="1356" y="612"/>
                  <a:pt x="1376" y="600"/>
                </a:cubicBezTo>
                <a:cubicBezTo>
                  <a:pt x="1390" y="591"/>
                  <a:pt x="1424" y="584"/>
                  <a:pt x="1424" y="584"/>
                </a:cubicBezTo>
                <a:cubicBezTo>
                  <a:pt x="1421" y="592"/>
                  <a:pt x="1421" y="601"/>
                  <a:pt x="1416" y="608"/>
                </a:cubicBezTo>
                <a:cubicBezTo>
                  <a:pt x="1410" y="616"/>
                  <a:pt x="1385" y="631"/>
                  <a:pt x="1392" y="624"/>
                </a:cubicBezTo>
                <a:cubicBezTo>
                  <a:pt x="1469" y="547"/>
                  <a:pt x="1537" y="553"/>
                  <a:pt x="1640" y="536"/>
                </a:cubicBezTo>
                <a:cubicBezTo>
                  <a:pt x="1677" y="539"/>
                  <a:pt x="1715" y="537"/>
                  <a:pt x="1752" y="544"/>
                </a:cubicBezTo>
                <a:cubicBezTo>
                  <a:pt x="1781" y="549"/>
                  <a:pt x="1774" y="568"/>
                  <a:pt x="1792" y="584"/>
                </a:cubicBezTo>
                <a:cubicBezTo>
                  <a:pt x="1830" y="617"/>
                  <a:pt x="1887" y="656"/>
                  <a:pt x="1936" y="672"/>
                </a:cubicBezTo>
                <a:cubicBezTo>
                  <a:pt x="1971" y="725"/>
                  <a:pt x="2003" y="702"/>
                  <a:pt x="2072" y="696"/>
                </a:cubicBezTo>
                <a:cubicBezTo>
                  <a:pt x="2069" y="683"/>
                  <a:pt x="2074" y="666"/>
                  <a:pt x="2064" y="656"/>
                </a:cubicBezTo>
                <a:cubicBezTo>
                  <a:pt x="2038" y="630"/>
                  <a:pt x="1939" y="628"/>
                  <a:pt x="1912" y="624"/>
                </a:cubicBezTo>
                <a:cubicBezTo>
                  <a:pt x="1899" y="622"/>
                  <a:pt x="1885" y="620"/>
                  <a:pt x="1872" y="616"/>
                </a:cubicBezTo>
                <a:cubicBezTo>
                  <a:pt x="1856" y="612"/>
                  <a:pt x="1824" y="600"/>
                  <a:pt x="1824" y="600"/>
                </a:cubicBezTo>
                <a:cubicBezTo>
                  <a:pt x="1886" y="595"/>
                  <a:pt x="1956" y="596"/>
                  <a:pt x="2016" y="576"/>
                </a:cubicBezTo>
                <a:cubicBezTo>
                  <a:pt x="2021" y="568"/>
                  <a:pt x="2038" y="560"/>
                  <a:pt x="2032" y="552"/>
                </a:cubicBezTo>
                <a:cubicBezTo>
                  <a:pt x="2021" y="539"/>
                  <a:pt x="2000" y="541"/>
                  <a:pt x="1984" y="536"/>
                </a:cubicBezTo>
                <a:cubicBezTo>
                  <a:pt x="1976" y="533"/>
                  <a:pt x="1960" y="528"/>
                  <a:pt x="1960" y="528"/>
                </a:cubicBezTo>
                <a:cubicBezTo>
                  <a:pt x="1931" y="499"/>
                  <a:pt x="1900" y="482"/>
                  <a:pt x="1864" y="464"/>
                </a:cubicBezTo>
                <a:cubicBezTo>
                  <a:pt x="1858" y="461"/>
                  <a:pt x="1816" y="451"/>
                  <a:pt x="1816" y="440"/>
                </a:cubicBezTo>
                <a:cubicBezTo>
                  <a:pt x="1816" y="432"/>
                  <a:pt x="1832" y="446"/>
                  <a:pt x="1840" y="448"/>
                </a:cubicBezTo>
                <a:cubicBezTo>
                  <a:pt x="1851" y="451"/>
                  <a:pt x="1861" y="454"/>
                  <a:pt x="1872" y="456"/>
                </a:cubicBezTo>
                <a:cubicBezTo>
                  <a:pt x="1899" y="460"/>
                  <a:pt x="1925" y="461"/>
                  <a:pt x="1952" y="464"/>
                </a:cubicBezTo>
                <a:cubicBezTo>
                  <a:pt x="1983" y="461"/>
                  <a:pt x="2083" y="466"/>
                  <a:pt x="2008" y="416"/>
                </a:cubicBezTo>
                <a:cubicBezTo>
                  <a:pt x="2001" y="390"/>
                  <a:pt x="2009" y="357"/>
                  <a:pt x="1992" y="336"/>
                </a:cubicBezTo>
                <a:cubicBezTo>
                  <a:pt x="1987" y="329"/>
                  <a:pt x="1976" y="343"/>
                  <a:pt x="1968" y="344"/>
                </a:cubicBezTo>
                <a:cubicBezTo>
                  <a:pt x="1931" y="351"/>
                  <a:pt x="1856" y="360"/>
                  <a:pt x="1856" y="360"/>
                </a:cubicBezTo>
                <a:cubicBezTo>
                  <a:pt x="1821" y="353"/>
                  <a:pt x="1787" y="343"/>
                  <a:pt x="1752" y="336"/>
                </a:cubicBezTo>
                <a:cubicBezTo>
                  <a:pt x="1709" y="307"/>
                  <a:pt x="1673" y="228"/>
                  <a:pt x="1656" y="176"/>
                </a:cubicBezTo>
                <a:cubicBezTo>
                  <a:pt x="1647" y="150"/>
                  <a:pt x="1640" y="96"/>
                  <a:pt x="1640" y="96"/>
                </a:cubicBezTo>
                <a:cubicBezTo>
                  <a:pt x="1643" y="88"/>
                  <a:pt x="1643" y="79"/>
                  <a:pt x="1648" y="72"/>
                </a:cubicBezTo>
                <a:cubicBezTo>
                  <a:pt x="1680" y="32"/>
                  <a:pt x="1688" y="80"/>
                  <a:pt x="1696" y="104"/>
                </a:cubicBezTo>
                <a:cubicBezTo>
                  <a:pt x="1680" y="128"/>
                  <a:pt x="1657" y="149"/>
                  <a:pt x="1648" y="176"/>
                </a:cubicBezTo>
                <a:cubicBezTo>
                  <a:pt x="1643" y="192"/>
                  <a:pt x="1632" y="224"/>
                  <a:pt x="1632" y="224"/>
                </a:cubicBezTo>
                <a:cubicBezTo>
                  <a:pt x="1629" y="248"/>
                  <a:pt x="1628" y="272"/>
                  <a:pt x="1624" y="296"/>
                </a:cubicBezTo>
                <a:cubicBezTo>
                  <a:pt x="1623" y="304"/>
                  <a:pt x="1624" y="320"/>
                  <a:pt x="1616" y="320"/>
                </a:cubicBezTo>
                <a:cubicBezTo>
                  <a:pt x="1608" y="320"/>
                  <a:pt x="1611" y="304"/>
                  <a:pt x="1608" y="296"/>
                </a:cubicBezTo>
                <a:cubicBezTo>
                  <a:pt x="1603" y="253"/>
                  <a:pt x="1595" y="125"/>
                  <a:pt x="1592" y="168"/>
                </a:cubicBezTo>
                <a:cubicBezTo>
                  <a:pt x="1589" y="213"/>
                  <a:pt x="1593" y="260"/>
                  <a:pt x="1584" y="304"/>
                </a:cubicBezTo>
                <a:cubicBezTo>
                  <a:pt x="1582" y="313"/>
                  <a:pt x="1560" y="310"/>
                  <a:pt x="1560" y="320"/>
                </a:cubicBezTo>
                <a:cubicBezTo>
                  <a:pt x="1560" y="328"/>
                  <a:pt x="1576" y="315"/>
                  <a:pt x="1584" y="312"/>
                </a:cubicBezTo>
                <a:cubicBezTo>
                  <a:pt x="1598" y="355"/>
                  <a:pt x="1613" y="396"/>
                  <a:pt x="1624" y="440"/>
                </a:cubicBezTo>
                <a:cubicBezTo>
                  <a:pt x="1621" y="453"/>
                  <a:pt x="1616" y="466"/>
                  <a:pt x="1616" y="480"/>
                </a:cubicBezTo>
                <a:cubicBezTo>
                  <a:pt x="1616" y="488"/>
                  <a:pt x="1622" y="464"/>
                  <a:pt x="1624" y="456"/>
                </a:cubicBezTo>
                <a:cubicBezTo>
                  <a:pt x="1627" y="445"/>
                  <a:pt x="1629" y="435"/>
                  <a:pt x="1632" y="424"/>
                </a:cubicBezTo>
                <a:cubicBezTo>
                  <a:pt x="1634" y="416"/>
                  <a:pt x="1648" y="404"/>
                  <a:pt x="1640" y="400"/>
                </a:cubicBezTo>
                <a:cubicBezTo>
                  <a:pt x="1631" y="396"/>
                  <a:pt x="1624" y="411"/>
                  <a:pt x="1616" y="416"/>
                </a:cubicBezTo>
                <a:cubicBezTo>
                  <a:pt x="1602" y="458"/>
                  <a:pt x="1613" y="433"/>
                  <a:pt x="1576" y="488"/>
                </a:cubicBezTo>
                <a:cubicBezTo>
                  <a:pt x="1571" y="496"/>
                  <a:pt x="1560" y="512"/>
                  <a:pt x="1560" y="512"/>
                </a:cubicBezTo>
                <a:cubicBezTo>
                  <a:pt x="1563" y="501"/>
                  <a:pt x="1574" y="489"/>
                  <a:pt x="1568" y="480"/>
                </a:cubicBezTo>
                <a:cubicBezTo>
                  <a:pt x="1563" y="473"/>
                  <a:pt x="1551" y="484"/>
                  <a:pt x="1544" y="488"/>
                </a:cubicBezTo>
                <a:cubicBezTo>
                  <a:pt x="1527" y="497"/>
                  <a:pt x="1512" y="509"/>
                  <a:pt x="1496" y="520"/>
                </a:cubicBezTo>
                <a:cubicBezTo>
                  <a:pt x="1478" y="532"/>
                  <a:pt x="1453" y="526"/>
                  <a:pt x="1432" y="528"/>
                </a:cubicBezTo>
                <a:cubicBezTo>
                  <a:pt x="1392" y="531"/>
                  <a:pt x="1352" y="533"/>
                  <a:pt x="1312" y="536"/>
                </a:cubicBezTo>
                <a:cubicBezTo>
                  <a:pt x="1312" y="536"/>
                  <a:pt x="1327" y="524"/>
                  <a:pt x="1336" y="520"/>
                </a:cubicBezTo>
                <a:cubicBezTo>
                  <a:pt x="1344" y="516"/>
                  <a:pt x="1352" y="515"/>
                  <a:pt x="1360" y="512"/>
                </a:cubicBezTo>
                <a:cubicBezTo>
                  <a:pt x="1310" y="492"/>
                  <a:pt x="1268" y="495"/>
                  <a:pt x="1216" y="512"/>
                </a:cubicBezTo>
                <a:cubicBezTo>
                  <a:pt x="1224" y="515"/>
                  <a:pt x="1240" y="512"/>
                  <a:pt x="1240" y="520"/>
                </a:cubicBezTo>
                <a:cubicBezTo>
                  <a:pt x="1240" y="530"/>
                  <a:pt x="1225" y="534"/>
                  <a:pt x="1216" y="536"/>
                </a:cubicBezTo>
                <a:cubicBezTo>
                  <a:pt x="1185" y="542"/>
                  <a:pt x="1152" y="543"/>
                  <a:pt x="1120" y="544"/>
                </a:cubicBezTo>
                <a:cubicBezTo>
                  <a:pt x="1029" y="548"/>
                  <a:pt x="939" y="549"/>
                  <a:pt x="848" y="552"/>
                </a:cubicBezTo>
                <a:cubicBezTo>
                  <a:pt x="792" y="566"/>
                  <a:pt x="750" y="598"/>
                  <a:pt x="696" y="616"/>
                </a:cubicBezTo>
                <a:cubicBezTo>
                  <a:pt x="688" y="619"/>
                  <a:pt x="713" y="613"/>
                  <a:pt x="720" y="608"/>
                </a:cubicBezTo>
                <a:cubicBezTo>
                  <a:pt x="728" y="603"/>
                  <a:pt x="744" y="602"/>
                  <a:pt x="744" y="592"/>
                </a:cubicBezTo>
                <a:cubicBezTo>
                  <a:pt x="744" y="584"/>
                  <a:pt x="728" y="597"/>
                  <a:pt x="720" y="600"/>
                </a:cubicBezTo>
                <a:cubicBezTo>
                  <a:pt x="715" y="592"/>
                  <a:pt x="713" y="580"/>
                  <a:pt x="704" y="576"/>
                </a:cubicBezTo>
                <a:cubicBezTo>
                  <a:pt x="679" y="566"/>
                  <a:pt x="624" y="560"/>
                  <a:pt x="624" y="560"/>
                </a:cubicBezTo>
                <a:cubicBezTo>
                  <a:pt x="621" y="552"/>
                  <a:pt x="623" y="540"/>
                  <a:pt x="616" y="536"/>
                </a:cubicBezTo>
                <a:cubicBezTo>
                  <a:pt x="599" y="527"/>
                  <a:pt x="527" y="516"/>
                  <a:pt x="504" y="512"/>
                </a:cubicBezTo>
                <a:cubicBezTo>
                  <a:pt x="440" y="515"/>
                  <a:pt x="376" y="514"/>
                  <a:pt x="312" y="520"/>
                </a:cubicBezTo>
                <a:cubicBezTo>
                  <a:pt x="290" y="522"/>
                  <a:pt x="248" y="536"/>
                  <a:pt x="248" y="536"/>
                </a:cubicBezTo>
                <a:cubicBezTo>
                  <a:pt x="212" y="560"/>
                  <a:pt x="201" y="559"/>
                  <a:pt x="184" y="592"/>
                </a:cubicBezTo>
                <a:cubicBezTo>
                  <a:pt x="180" y="600"/>
                  <a:pt x="168" y="616"/>
                  <a:pt x="176" y="616"/>
                </a:cubicBezTo>
                <a:cubicBezTo>
                  <a:pt x="187" y="616"/>
                  <a:pt x="191" y="599"/>
                  <a:pt x="200" y="592"/>
                </a:cubicBezTo>
                <a:cubicBezTo>
                  <a:pt x="216" y="579"/>
                  <a:pt x="231" y="564"/>
                  <a:pt x="248" y="552"/>
                </a:cubicBezTo>
                <a:cubicBezTo>
                  <a:pt x="255" y="547"/>
                  <a:pt x="265" y="548"/>
                  <a:pt x="272" y="544"/>
                </a:cubicBezTo>
                <a:cubicBezTo>
                  <a:pt x="320" y="518"/>
                  <a:pt x="325" y="509"/>
                  <a:pt x="376" y="496"/>
                </a:cubicBezTo>
                <a:cubicBezTo>
                  <a:pt x="553" y="505"/>
                  <a:pt x="485" y="487"/>
                  <a:pt x="584" y="520"/>
                </a:cubicBezTo>
                <a:cubicBezTo>
                  <a:pt x="626" y="534"/>
                  <a:pt x="601" y="523"/>
                  <a:pt x="656" y="560"/>
                </a:cubicBezTo>
                <a:cubicBezTo>
                  <a:pt x="664" y="565"/>
                  <a:pt x="680" y="576"/>
                  <a:pt x="680" y="576"/>
                </a:cubicBezTo>
                <a:cubicBezTo>
                  <a:pt x="685" y="584"/>
                  <a:pt x="689" y="593"/>
                  <a:pt x="696" y="600"/>
                </a:cubicBezTo>
                <a:cubicBezTo>
                  <a:pt x="703" y="607"/>
                  <a:pt x="714" y="609"/>
                  <a:pt x="720" y="616"/>
                </a:cubicBezTo>
                <a:cubicBezTo>
                  <a:pt x="773" y="676"/>
                  <a:pt x="727" y="656"/>
                  <a:pt x="776" y="672"/>
                </a:cubicBezTo>
                <a:cubicBezTo>
                  <a:pt x="758" y="678"/>
                  <a:pt x="733" y="673"/>
                  <a:pt x="720" y="688"/>
                </a:cubicBezTo>
                <a:cubicBezTo>
                  <a:pt x="709" y="701"/>
                  <a:pt x="718" y="727"/>
                  <a:pt x="704" y="736"/>
                </a:cubicBezTo>
                <a:cubicBezTo>
                  <a:pt x="696" y="741"/>
                  <a:pt x="688" y="747"/>
                  <a:pt x="680" y="752"/>
                </a:cubicBezTo>
                <a:cubicBezTo>
                  <a:pt x="710" y="604"/>
                  <a:pt x="1007" y="651"/>
                  <a:pt x="1088" y="648"/>
                </a:cubicBezTo>
                <a:cubicBezTo>
                  <a:pt x="1115" y="645"/>
                  <a:pt x="1144" y="652"/>
                  <a:pt x="1168" y="640"/>
                </a:cubicBezTo>
                <a:cubicBezTo>
                  <a:pt x="1179" y="635"/>
                  <a:pt x="1147" y="628"/>
                  <a:pt x="1136" y="624"/>
                </a:cubicBezTo>
                <a:cubicBezTo>
                  <a:pt x="1123" y="620"/>
                  <a:pt x="1109" y="619"/>
                  <a:pt x="1096" y="616"/>
                </a:cubicBezTo>
                <a:cubicBezTo>
                  <a:pt x="1088" y="614"/>
                  <a:pt x="1080" y="611"/>
                  <a:pt x="1072" y="608"/>
                </a:cubicBezTo>
                <a:cubicBezTo>
                  <a:pt x="1017" y="587"/>
                  <a:pt x="960" y="571"/>
                  <a:pt x="904" y="552"/>
                </a:cubicBezTo>
                <a:cubicBezTo>
                  <a:pt x="864" y="555"/>
                  <a:pt x="824" y="556"/>
                  <a:pt x="784" y="560"/>
                </a:cubicBezTo>
                <a:cubicBezTo>
                  <a:pt x="775" y="561"/>
                  <a:pt x="734" y="570"/>
                  <a:pt x="768" y="592"/>
                </a:cubicBezTo>
                <a:cubicBezTo>
                  <a:pt x="797" y="611"/>
                  <a:pt x="837" y="604"/>
                  <a:pt x="872" y="608"/>
                </a:cubicBezTo>
                <a:cubicBezTo>
                  <a:pt x="977" y="598"/>
                  <a:pt x="1072" y="564"/>
                  <a:pt x="1176" y="552"/>
                </a:cubicBezTo>
                <a:cubicBezTo>
                  <a:pt x="1181" y="553"/>
                  <a:pt x="1301" y="545"/>
                  <a:pt x="1264" y="592"/>
                </a:cubicBezTo>
                <a:cubicBezTo>
                  <a:pt x="1258" y="600"/>
                  <a:pt x="1248" y="603"/>
                  <a:pt x="1240" y="608"/>
                </a:cubicBezTo>
                <a:cubicBezTo>
                  <a:pt x="1251" y="611"/>
                  <a:pt x="1269" y="606"/>
                  <a:pt x="1272" y="616"/>
                </a:cubicBezTo>
                <a:cubicBezTo>
                  <a:pt x="1275" y="625"/>
                  <a:pt x="1248" y="622"/>
                  <a:pt x="1248" y="632"/>
                </a:cubicBezTo>
                <a:cubicBezTo>
                  <a:pt x="1248" y="640"/>
                  <a:pt x="1264" y="637"/>
                  <a:pt x="1272" y="640"/>
                </a:cubicBezTo>
                <a:cubicBezTo>
                  <a:pt x="1344" y="622"/>
                  <a:pt x="1315" y="631"/>
                  <a:pt x="1360" y="616"/>
                </a:cubicBezTo>
                <a:cubicBezTo>
                  <a:pt x="1388" y="531"/>
                  <a:pt x="1591" y="524"/>
                  <a:pt x="1656" y="520"/>
                </a:cubicBezTo>
                <a:cubicBezTo>
                  <a:pt x="1718" y="528"/>
                  <a:pt x="1795" y="540"/>
                  <a:pt x="1848" y="576"/>
                </a:cubicBezTo>
                <a:cubicBezTo>
                  <a:pt x="1893" y="644"/>
                  <a:pt x="1958" y="607"/>
                  <a:pt x="2032" y="600"/>
                </a:cubicBezTo>
                <a:cubicBezTo>
                  <a:pt x="2048" y="603"/>
                  <a:pt x="2091" y="603"/>
                  <a:pt x="2104" y="624"/>
                </a:cubicBezTo>
                <a:cubicBezTo>
                  <a:pt x="2113" y="638"/>
                  <a:pt x="2115" y="656"/>
                  <a:pt x="2120" y="672"/>
                </a:cubicBezTo>
                <a:cubicBezTo>
                  <a:pt x="2123" y="680"/>
                  <a:pt x="2130" y="704"/>
                  <a:pt x="2128" y="696"/>
                </a:cubicBezTo>
                <a:cubicBezTo>
                  <a:pt x="2123" y="675"/>
                  <a:pt x="2112" y="632"/>
                  <a:pt x="2112" y="632"/>
                </a:cubicBezTo>
                <a:cubicBezTo>
                  <a:pt x="2091" y="695"/>
                  <a:pt x="2093" y="663"/>
                  <a:pt x="2104" y="728"/>
                </a:cubicBezTo>
                <a:cubicBezTo>
                  <a:pt x="2107" y="720"/>
                  <a:pt x="2104" y="704"/>
                  <a:pt x="2112" y="704"/>
                </a:cubicBezTo>
                <a:cubicBezTo>
                  <a:pt x="2120" y="704"/>
                  <a:pt x="2114" y="734"/>
                  <a:pt x="2120" y="728"/>
                </a:cubicBezTo>
                <a:cubicBezTo>
                  <a:pt x="2132" y="716"/>
                  <a:pt x="2131" y="696"/>
                  <a:pt x="2136" y="680"/>
                </a:cubicBezTo>
                <a:cubicBezTo>
                  <a:pt x="2139" y="672"/>
                  <a:pt x="2128" y="704"/>
                  <a:pt x="2128" y="704"/>
                </a:cubicBezTo>
                <a:cubicBezTo>
                  <a:pt x="2095" y="654"/>
                  <a:pt x="2096" y="675"/>
                  <a:pt x="2096" y="648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2981160" y="5237280"/>
            <a:ext cx="295560" cy="446040"/>
          </a:xfrm>
          <a:custGeom>
            <a:avLst/>
            <a:gdLst/>
            <a:ahLst/>
            <a:rect l="l" t="t" r="r" b="b"/>
            <a:pathLst>
              <a:path w="820" h="1241">
                <a:moveTo>
                  <a:pt x="9401" y="13593"/>
                </a:moveTo>
                <a:cubicBezTo>
                  <a:pt x="9401" y="13601"/>
                  <a:pt x="9401" y="13610"/>
                  <a:pt x="9401" y="13618"/>
                </a:cubicBezTo>
                <a:cubicBezTo>
                  <a:pt x="9361" y="13618"/>
                  <a:pt x="9321" y="13624"/>
                  <a:pt x="9302" y="13667"/>
                </a:cubicBezTo>
                <a:cubicBezTo>
                  <a:pt x="9302" y="13675"/>
                  <a:pt x="9302" y="13684"/>
                  <a:pt x="9302" y="13692"/>
                </a:cubicBezTo>
                <a:cubicBezTo>
                  <a:pt x="9267" y="13704"/>
                  <a:pt x="9275" y="13730"/>
                  <a:pt x="9227" y="13742"/>
                </a:cubicBezTo>
                <a:cubicBezTo>
                  <a:pt x="9227" y="13767"/>
                  <a:pt x="9227" y="13791"/>
                  <a:pt x="9227" y="13816"/>
                </a:cubicBezTo>
              </a:path>
              <a:path w="820" h="1241">
                <a:moveTo>
                  <a:pt x="9203" y="13717"/>
                </a:moveTo>
                <a:cubicBezTo>
                  <a:pt x="9203" y="13816"/>
                  <a:pt x="9203" y="13916"/>
                  <a:pt x="9203" y="14015"/>
                </a:cubicBezTo>
                <a:cubicBezTo>
                  <a:pt x="9152" y="14027"/>
                  <a:pt x="9138" y="14064"/>
                  <a:pt x="9079" y="14064"/>
                </a:cubicBezTo>
                <a:cubicBezTo>
                  <a:pt x="9033" y="14064"/>
                  <a:pt x="8841" y="14064"/>
                  <a:pt x="8880" y="14064"/>
                </a:cubicBezTo>
              </a:path>
              <a:path w="820" h="1241">
                <a:moveTo>
                  <a:pt x="8880" y="14412"/>
                </a:moveTo>
                <a:cubicBezTo>
                  <a:pt x="8904" y="14446"/>
                  <a:pt x="8906" y="14446"/>
                  <a:pt x="8930" y="14412"/>
                </a:cubicBezTo>
              </a:path>
              <a:path w="820" h="1241">
                <a:moveTo>
                  <a:pt x="8905" y="14610"/>
                </a:moveTo>
                <a:cubicBezTo>
                  <a:pt x="8919" y="14653"/>
                  <a:pt x="8974" y="14635"/>
                  <a:pt x="9029" y="14635"/>
                </a:cubicBezTo>
                <a:cubicBezTo>
                  <a:pt x="9103" y="14635"/>
                  <a:pt x="9128" y="14635"/>
                  <a:pt x="9178" y="14635"/>
                </a:cubicBezTo>
                <a:cubicBezTo>
                  <a:pt x="9292" y="14635"/>
                  <a:pt x="9136" y="14615"/>
                  <a:pt x="9103" y="14610"/>
                </a:cubicBezTo>
                <a:cubicBezTo>
                  <a:pt x="9036" y="14599"/>
                  <a:pt x="8974" y="14585"/>
                  <a:pt x="8905" y="14585"/>
                </a:cubicBezTo>
              </a:path>
              <a:path w="820" h="1241">
                <a:moveTo>
                  <a:pt x="8582" y="14585"/>
                </a:moveTo>
                <a:cubicBezTo>
                  <a:pt x="8582" y="14668"/>
                  <a:pt x="8582" y="14750"/>
                  <a:pt x="8582" y="14833"/>
                </a:cubicBezTo>
                <a:cubicBezTo>
                  <a:pt x="8590" y="14803"/>
                  <a:pt x="8599" y="14789"/>
                  <a:pt x="8607" y="14759"/>
                </a:cubicBezTo>
              </a:path>
            </a:pathLst>
          </a:custGeom>
          <a:noFill/>
          <a:ln cap="rnd" w="34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3059280" y="4365720"/>
            <a:ext cx="3422520" cy="1224000"/>
          </a:xfrm>
          <a:custGeom>
            <a:avLst/>
            <a:gdLst/>
            <a:ahLst/>
            <a:rect l="l" t="t" r="r" b="b"/>
            <a:pathLst>
              <a:path w="2094" h="782">
                <a:moveTo>
                  <a:pt x="0" y="727"/>
                </a:moveTo>
                <a:cubicBezTo>
                  <a:pt x="11" y="682"/>
                  <a:pt x="8" y="642"/>
                  <a:pt x="48" y="615"/>
                </a:cubicBezTo>
                <a:cubicBezTo>
                  <a:pt x="68" y="586"/>
                  <a:pt x="65" y="554"/>
                  <a:pt x="88" y="527"/>
                </a:cubicBezTo>
                <a:cubicBezTo>
                  <a:pt x="95" y="518"/>
                  <a:pt x="112" y="514"/>
                  <a:pt x="112" y="503"/>
                </a:cubicBezTo>
                <a:cubicBezTo>
                  <a:pt x="112" y="493"/>
                  <a:pt x="96" y="514"/>
                  <a:pt x="88" y="519"/>
                </a:cubicBezTo>
                <a:cubicBezTo>
                  <a:pt x="77" y="535"/>
                  <a:pt x="67" y="551"/>
                  <a:pt x="56" y="567"/>
                </a:cubicBezTo>
                <a:cubicBezTo>
                  <a:pt x="52" y="573"/>
                  <a:pt x="45" y="615"/>
                  <a:pt x="32" y="615"/>
                </a:cubicBezTo>
                <a:cubicBezTo>
                  <a:pt x="24" y="615"/>
                  <a:pt x="36" y="599"/>
                  <a:pt x="40" y="591"/>
                </a:cubicBezTo>
                <a:cubicBezTo>
                  <a:pt x="53" y="564"/>
                  <a:pt x="56" y="567"/>
                  <a:pt x="80" y="551"/>
                </a:cubicBezTo>
                <a:cubicBezTo>
                  <a:pt x="86" y="533"/>
                  <a:pt x="94" y="495"/>
                  <a:pt x="112" y="479"/>
                </a:cubicBezTo>
                <a:cubicBezTo>
                  <a:pt x="183" y="417"/>
                  <a:pt x="288" y="422"/>
                  <a:pt x="376" y="407"/>
                </a:cubicBezTo>
                <a:cubicBezTo>
                  <a:pt x="405" y="402"/>
                  <a:pt x="446" y="398"/>
                  <a:pt x="472" y="383"/>
                </a:cubicBezTo>
                <a:cubicBezTo>
                  <a:pt x="489" y="374"/>
                  <a:pt x="520" y="351"/>
                  <a:pt x="520" y="351"/>
                </a:cubicBezTo>
                <a:cubicBezTo>
                  <a:pt x="540" y="322"/>
                  <a:pt x="563" y="314"/>
                  <a:pt x="592" y="295"/>
                </a:cubicBezTo>
                <a:cubicBezTo>
                  <a:pt x="616" y="260"/>
                  <a:pt x="655" y="247"/>
                  <a:pt x="696" y="239"/>
                </a:cubicBezTo>
                <a:cubicBezTo>
                  <a:pt x="768" y="203"/>
                  <a:pt x="842" y="170"/>
                  <a:pt x="920" y="151"/>
                </a:cubicBezTo>
                <a:cubicBezTo>
                  <a:pt x="1032" y="152"/>
                  <a:pt x="1761" y="0"/>
                  <a:pt x="1952" y="287"/>
                </a:cubicBezTo>
                <a:cubicBezTo>
                  <a:pt x="1977" y="412"/>
                  <a:pt x="1946" y="348"/>
                  <a:pt x="2040" y="367"/>
                </a:cubicBezTo>
                <a:cubicBezTo>
                  <a:pt x="2033" y="551"/>
                  <a:pt x="2094" y="605"/>
                  <a:pt x="1952" y="623"/>
                </a:cubicBezTo>
                <a:cubicBezTo>
                  <a:pt x="1925" y="782"/>
                  <a:pt x="1959" y="719"/>
                  <a:pt x="1688" y="719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6197760" y="4888080"/>
            <a:ext cx="269640" cy="474480"/>
          </a:xfrm>
          <a:custGeom>
            <a:avLst/>
            <a:gdLst/>
            <a:ahLst/>
            <a:rect l="l" t="t" r="r" b="b"/>
            <a:pathLst>
              <a:path w="170" h="299">
                <a:moveTo>
                  <a:pt x="0" y="19"/>
                </a:moveTo>
                <a:cubicBezTo>
                  <a:pt x="170" y="36"/>
                  <a:pt x="80" y="0"/>
                  <a:pt x="80" y="299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4089240" y="880920"/>
            <a:ext cx="1981440" cy="376560"/>
          </a:xfrm>
          <a:custGeom>
            <a:avLst/>
            <a:gdLst/>
            <a:ahLst/>
            <a:rect l="l" t="t" r="r" b="b"/>
            <a:pathLst>
              <a:path w="1248" h="237">
                <a:moveTo>
                  <a:pt x="0" y="186"/>
                </a:moveTo>
                <a:cubicBezTo>
                  <a:pt x="45" y="163"/>
                  <a:pt x="86" y="134"/>
                  <a:pt x="128" y="106"/>
                </a:cubicBezTo>
                <a:cubicBezTo>
                  <a:pt x="135" y="101"/>
                  <a:pt x="145" y="102"/>
                  <a:pt x="152" y="98"/>
                </a:cubicBezTo>
                <a:cubicBezTo>
                  <a:pt x="169" y="89"/>
                  <a:pt x="200" y="66"/>
                  <a:pt x="200" y="66"/>
                </a:cubicBezTo>
                <a:cubicBezTo>
                  <a:pt x="228" y="24"/>
                  <a:pt x="288" y="20"/>
                  <a:pt x="336" y="10"/>
                </a:cubicBezTo>
                <a:cubicBezTo>
                  <a:pt x="507" y="13"/>
                  <a:pt x="678" y="0"/>
                  <a:pt x="848" y="18"/>
                </a:cubicBezTo>
                <a:cubicBezTo>
                  <a:pt x="873" y="21"/>
                  <a:pt x="864" y="66"/>
                  <a:pt x="872" y="90"/>
                </a:cubicBezTo>
                <a:cubicBezTo>
                  <a:pt x="886" y="131"/>
                  <a:pt x="938" y="173"/>
                  <a:pt x="976" y="186"/>
                </a:cubicBezTo>
                <a:cubicBezTo>
                  <a:pt x="1027" y="237"/>
                  <a:pt x="1175" y="226"/>
                  <a:pt x="1248" y="226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3492360" y="1413000"/>
            <a:ext cx="1687680" cy="357120"/>
          </a:xfrm>
          <a:custGeom>
            <a:avLst/>
            <a:gdLst/>
            <a:ahLst/>
            <a:rect l="l" t="t" r="r" b="b"/>
            <a:pathLst>
              <a:path w="4689" h="993">
                <a:moveTo>
                  <a:pt x="10815" y="5358"/>
                </a:moveTo>
                <a:cubicBezTo>
                  <a:pt x="11997" y="5358"/>
                  <a:pt x="13180" y="5358"/>
                  <a:pt x="14362" y="5358"/>
                </a:cubicBezTo>
              </a:path>
              <a:path w="4689" h="993">
                <a:moveTo>
                  <a:pt x="9674" y="4465"/>
                </a:moveTo>
                <a:cubicBezTo>
                  <a:pt x="9699" y="4465"/>
                  <a:pt x="9707" y="4465"/>
                  <a:pt x="9723" y="4465"/>
                </a:cubicBezTo>
                <a:cubicBezTo>
                  <a:pt x="9758" y="4413"/>
                  <a:pt x="9787" y="4465"/>
                  <a:pt x="9847" y="4440"/>
                </a:cubicBezTo>
                <a:cubicBezTo>
                  <a:pt x="9886" y="4423"/>
                  <a:pt x="9875" y="4415"/>
                  <a:pt x="9922" y="4415"/>
                </a:cubicBezTo>
              </a:path>
              <a:path w="4689" h="993">
                <a:moveTo>
                  <a:pt x="10567" y="4490"/>
                </a:moveTo>
                <a:cubicBezTo>
                  <a:pt x="10567" y="4498"/>
                  <a:pt x="10567" y="4506"/>
                  <a:pt x="10567" y="4514"/>
                </a:cubicBezTo>
              </a:path>
              <a:path w="4689" h="993">
                <a:moveTo>
                  <a:pt x="10740" y="4762"/>
                </a:moveTo>
                <a:cubicBezTo>
                  <a:pt x="10740" y="4787"/>
                  <a:pt x="10740" y="4795"/>
                  <a:pt x="10740" y="4812"/>
                </a:cubicBezTo>
                <a:cubicBezTo>
                  <a:pt x="10781" y="4812"/>
                  <a:pt x="10823" y="4812"/>
                  <a:pt x="10864" y="4812"/>
                </a:cubicBezTo>
              </a:path>
              <a:path w="4689" h="993">
                <a:moveTo>
                  <a:pt x="10864" y="4986"/>
                </a:moveTo>
                <a:cubicBezTo>
                  <a:pt x="10864" y="4994"/>
                  <a:pt x="10864" y="5003"/>
                  <a:pt x="10864" y="5011"/>
                </a:cubicBezTo>
              </a:path>
              <a:path w="4689" h="993">
                <a:moveTo>
                  <a:pt x="10889" y="5135"/>
                </a:moveTo>
                <a:lnTo>
                  <a:pt x="10889" y="5135"/>
                </a:lnTo>
              </a:path>
              <a:path w="4689" h="993">
                <a:moveTo>
                  <a:pt x="10914" y="5283"/>
                </a:moveTo>
                <a:cubicBezTo>
                  <a:pt x="10914" y="5291"/>
                  <a:pt x="10914" y="5300"/>
                  <a:pt x="10914" y="5308"/>
                </a:cubicBezTo>
              </a:path>
              <a:path w="4689" h="993">
                <a:moveTo>
                  <a:pt x="10740" y="4812"/>
                </a:moveTo>
                <a:cubicBezTo>
                  <a:pt x="10740" y="4853"/>
                  <a:pt x="10740" y="4895"/>
                  <a:pt x="10740" y="4936"/>
                </a:cubicBezTo>
                <a:cubicBezTo>
                  <a:pt x="10778" y="4949"/>
                  <a:pt x="10765" y="4966"/>
                  <a:pt x="10765" y="5011"/>
                </a:cubicBezTo>
                <a:cubicBezTo>
                  <a:pt x="10765" y="5047"/>
                  <a:pt x="10772" y="5084"/>
                  <a:pt x="10790" y="5110"/>
                </a:cubicBezTo>
                <a:cubicBezTo>
                  <a:pt x="10813" y="5133"/>
                  <a:pt x="10817" y="5141"/>
                  <a:pt x="10840" y="5135"/>
                </a:cubicBezTo>
                <a:cubicBezTo>
                  <a:pt x="10840" y="5184"/>
                  <a:pt x="10851" y="5194"/>
                  <a:pt x="10864" y="5234"/>
                </a:cubicBezTo>
                <a:cubicBezTo>
                  <a:pt x="10881" y="5286"/>
                  <a:pt x="10848" y="5312"/>
                  <a:pt x="10889" y="5358"/>
                </a:cubicBezTo>
                <a:cubicBezTo>
                  <a:pt x="10911" y="5380"/>
                  <a:pt x="10920" y="5385"/>
                  <a:pt x="10914" y="5407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3924360" y="4443480"/>
            <a:ext cx="2209680" cy="857160"/>
          </a:xfrm>
          <a:custGeom>
            <a:avLst/>
            <a:gdLst/>
            <a:ahLst/>
            <a:rect l="l" t="t" r="r" b="b"/>
            <a:pathLst>
              <a:path w="1392" h="540">
                <a:moveTo>
                  <a:pt x="88" y="304"/>
                </a:moveTo>
                <a:cubicBezTo>
                  <a:pt x="145" y="218"/>
                  <a:pt x="56" y="348"/>
                  <a:pt x="128" y="256"/>
                </a:cubicBezTo>
                <a:cubicBezTo>
                  <a:pt x="165" y="209"/>
                  <a:pt x="167" y="179"/>
                  <a:pt x="224" y="160"/>
                </a:cubicBezTo>
                <a:cubicBezTo>
                  <a:pt x="232" y="152"/>
                  <a:pt x="239" y="143"/>
                  <a:pt x="248" y="136"/>
                </a:cubicBezTo>
                <a:cubicBezTo>
                  <a:pt x="263" y="124"/>
                  <a:pt x="296" y="104"/>
                  <a:pt x="296" y="104"/>
                </a:cubicBezTo>
                <a:cubicBezTo>
                  <a:pt x="346" y="29"/>
                  <a:pt x="437" y="10"/>
                  <a:pt x="520" y="0"/>
                </a:cubicBezTo>
                <a:cubicBezTo>
                  <a:pt x="568" y="3"/>
                  <a:pt x="616" y="1"/>
                  <a:pt x="664" y="8"/>
                </a:cubicBezTo>
                <a:cubicBezTo>
                  <a:pt x="675" y="10"/>
                  <a:pt x="643" y="13"/>
                  <a:pt x="632" y="16"/>
                </a:cubicBezTo>
                <a:cubicBezTo>
                  <a:pt x="577" y="32"/>
                  <a:pt x="647" y="18"/>
                  <a:pt x="560" y="32"/>
                </a:cubicBezTo>
                <a:cubicBezTo>
                  <a:pt x="668" y="40"/>
                  <a:pt x="771" y="51"/>
                  <a:pt x="880" y="56"/>
                </a:cubicBezTo>
                <a:cubicBezTo>
                  <a:pt x="936" y="62"/>
                  <a:pt x="957" y="60"/>
                  <a:pt x="1000" y="88"/>
                </a:cubicBezTo>
                <a:cubicBezTo>
                  <a:pt x="996" y="155"/>
                  <a:pt x="1013" y="251"/>
                  <a:pt x="960" y="304"/>
                </a:cubicBezTo>
                <a:cubicBezTo>
                  <a:pt x="642" y="295"/>
                  <a:pt x="692" y="369"/>
                  <a:pt x="648" y="192"/>
                </a:cubicBezTo>
                <a:cubicBezTo>
                  <a:pt x="651" y="157"/>
                  <a:pt x="656" y="123"/>
                  <a:pt x="656" y="88"/>
                </a:cubicBezTo>
                <a:cubicBezTo>
                  <a:pt x="656" y="59"/>
                  <a:pt x="648" y="147"/>
                  <a:pt x="648" y="176"/>
                </a:cubicBezTo>
                <a:cubicBezTo>
                  <a:pt x="648" y="197"/>
                  <a:pt x="653" y="219"/>
                  <a:pt x="656" y="240"/>
                </a:cubicBezTo>
                <a:cubicBezTo>
                  <a:pt x="689" y="190"/>
                  <a:pt x="640" y="136"/>
                  <a:pt x="696" y="80"/>
                </a:cubicBezTo>
                <a:cubicBezTo>
                  <a:pt x="792" y="83"/>
                  <a:pt x="888" y="81"/>
                  <a:pt x="984" y="88"/>
                </a:cubicBezTo>
                <a:cubicBezTo>
                  <a:pt x="1030" y="91"/>
                  <a:pt x="1074" y="108"/>
                  <a:pt x="1120" y="112"/>
                </a:cubicBezTo>
                <a:cubicBezTo>
                  <a:pt x="1184" y="133"/>
                  <a:pt x="1264" y="147"/>
                  <a:pt x="1320" y="184"/>
                </a:cubicBezTo>
                <a:cubicBezTo>
                  <a:pt x="1349" y="227"/>
                  <a:pt x="1357" y="207"/>
                  <a:pt x="1368" y="264"/>
                </a:cubicBezTo>
                <a:cubicBezTo>
                  <a:pt x="1327" y="386"/>
                  <a:pt x="1331" y="401"/>
                  <a:pt x="1024" y="280"/>
                </a:cubicBezTo>
                <a:cubicBezTo>
                  <a:pt x="984" y="264"/>
                  <a:pt x="1019" y="195"/>
                  <a:pt x="1016" y="152"/>
                </a:cubicBezTo>
                <a:cubicBezTo>
                  <a:pt x="1019" y="141"/>
                  <a:pt x="1016" y="127"/>
                  <a:pt x="1024" y="120"/>
                </a:cubicBezTo>
                <a:cubicBezTo>
                  <a:pt x="1037" y="109"/>
                  <a:pt x="1072" y="104"/>
                  <a:pt x="1072" y="104"/>
                </a:cubicBezTo>
                <a:cubicBezTo>
                  <a:pt x="1147" y="109"/>
                  <a:pt x="1214" y="119"/>
                  <a:pt x="1288" y="128"/>
                </a:cubicBezTo>
                <a:cubicBezTo>
                  <a:pt x="1296" y="131"/>
                  <a:pt x="1305" y="131"/>
                  <a:pt x="1312" y="136"/>
                </a:cubicBezTo>
                <a:cubicBezTo>
                  <a:pt x="1320" y="142"/>
                  <a:pt x="1337" y="158"/>
                  <a:pt x="1328" y="160"/>
                </a:cubicBezTo>
                <a:cubicBezTo>
                  <a:pt x="1299" y="167"/>
                  <a:pt x="1231" y="115"/>
                  <a:pt x="1208" y="112"/>
                </a:cubicBezTo>
                <a:cubicBezTo>
                  <a:pt x="1147" y="105"/>
                  <a:pt x="1085" y="107"/>
                  <a:pt x="1024" y="104"/>
                </a:cubicBezTo>
                <a:cubicBezTo>
                  <a:pt x="1077" y="69"/>
                  <a:pt x="1165" y="76"/>
                  <a:pt x="1224" y="72"/>
                </a:cubicBezTo>
                <a:cubicBezTo>
                  <a:pt x="1290" y="81"/>
                  <a:pt x="1284" y="70"/>
                  <a:pt x="1312" y="120"/>
                </a:cubicBezTo>
                <a:cubicBezTo>
                  <a:pt x="1321" y="137"/>
                  <a:pt x="1338" y="150"/>
                  <a:pt x="1344" y="168"/>
                </a:cubicBezTo>
                <a:cubicBezTo>
                  <a:pt x="1349" y="184"/>
                  <a:pt x="1351" y="202"/>
                  <a:pt x="1360" y="216"/>
                </a:cubicBezTo>
                <a:cubicBezTo>
                  <a:pt x="1371" y="232"/>
                  <a:pt x="1392" y="264"/>
                  <a:pt x="1392" y="264"/>
                </a:cubicBezTo>
                <a:cubicBezTo>
                  <a:pt x="1363" y="307"/>
                  <a:pt x="1304" y="320"/>
                  <a:pt x="1256" y="336"/>
                </a:cubicBezTo>
                <a:cubicBezTo>
                  <a:pt x="1240" y="341"/>
                  <a:pt x="1224" y="347"/>
                  <a:pt x="1208" y="352"/>
                </a:cubicBezTo>
                <a:cubicBezTo>
                  <a:pt x="1200" y="355"/>
                  <a:pt x="1184" y="360"/>
                  <a:pt x="1184" y="360"/>
                </a:cubicBezTo>
                <a:cubicBezTo>
                  <a:pt x="1010" y="354"/>
                  <a:pt x="869" y="345"/>
                  <a:pt x="696" y="352"/>
                </a:cubicBezTo>
                <a:cubicBezTo>
                  <a:pt x="639" y="371"/>
                  <a:pt x="662" y="359"/>
                  <a:pt x="624" y="384"/>
                </a:cubicBezTo>
                <a:cubicBezTo>
                  <a:pt x="619" y="398"/>
                  <a:pt x="613" y="466"/>
                  <a:pt x="632" y="408"/>
                </a:cubicBezTo>
                <a:cubicBezTo>
                  <a:pt x="619" y="343"/>
                  <a:pt x="638" y="371"/>
                  <a:pt x="552" y="360"/>
                </a:cubicBezTo>
                <a:cubicBezTo>
                  <a:pt x="406" y="341"/>
                  <a:pt x="257" y="328"/>
                  <a:pt x="112" y="304"/>
                </a:cubicBezTo>
                <a:cubicBezTo>
                  <a:pt x="91" y="307"/>
                  <a:pt x="66" y="300"/>
                  <a:pt x="48" y="312"/>
                </a:cubicBezTo>
                <a:cubicBezTo>
                  <a:pt x="27" y="327"/>
                  <a:pt x="32" y="360"/>
                  <a:pt x="24" y="384"/>
                </a:cubicBezTo>
                <a:cubicBezTo>
                  <a:pt x="19" y="400"/>
                  <a:pt x="8" y="432"/>
                  <a:pt x="8" y="432"/>
                </a:cubicBezTo>
                <a:cubicBezTo>
                  <a:pt x="5" y="451"/>
                  <a:pt x="0" y="469"/>
                  <a:pt x="0" y="488"/>
                </a:cubicBezTo>
                <a:cubicBezTo>
                  <a:pt x="0" y="496"/>
                  <a:pt x="0" y="512"/>
                  <a:pt x="8" y="512"/>
                </a:cubicBezTo>
                <a:cubicBezTo>
                  <a:pt x="16" y="512"/>
                  <a:pt x="14" y="496"/>
                  <a:pt x="16" y="488"/>
                </a:cubicBezTo>
                <a:cubicBezTo>
                  <a:pt x="19" y="475"/>
                  <a:pt x="20" y="461"/>
                  <a:pt x="24" y="448"/>
                </a:cubicBezTo>
                <a:cubicBezTo>
                  <a:pt x="36" y="403"/>
                  <a:pt x="37" y="383"/>
                  <a:pt x="72" y="360"/>
                </a:cubicBezTo>
                <a:cubicBezTo>
                  <a:pt x="67" y="376"/>
                  <a:pt x="65" y="394"/>
                  <a:pt x="56" y="408"/>
                </a:cubicBezTo>
                <a:cubicBezTo>
                  <a:pt x="51" y="416"/>
                  <a:pt x="44" y="423"/>
                  <a:pt x="40" y="432"/>
                </a:cubicBezTo>
                <a:cubicBezTo>
                  <a:pt x="2" y="518"/>
                  <a:pt x="44" y="450"/>
                  <a:pt x="8" y="504"/>
                </a:cubicBezTo>
                <a:cubicBezTo>
                  <a:pt x="11" y="515"/>
                  <a:pt x="6" y="531"/>
                  <a:pt x="16" y="536"/>
                </a:cubicBezTo>
                <a:cubicBezTo>
                  <a:pt x="24" y="540"/>
                  <a:pt x="22" y="520"/>
                  <a:pt x="24" y="512"/>
                </a:cubicBezTo>
                <a:cubicBezTo>
                  <a:pt x="29" y="489"/>
                  <a:pt x="37" y="412"/>
                  <a:pt x="40" y="392"/>
                </a:cubicBezTo>
                <a:cubicBezTo>
                  <a:pt x="42" y="376"/>
                  <a:pt x="42" y="359"/>
                  <a:pt x="48" y="344"/>
                </a:cubicBezTo>
                <a:cubicBezTo>
                  <a:pt x="65" y="302"/>
                  <a:pt x="128" y="211"/>
                  <a:pt x="168" y="184"/>
                </a:cubicBezTo>
                <a:cubicBezTo>
                  <a:pt x="193" y="146"/>
                  <a:pt x="217" y="130"/>
                  <a:pt x="256" y="104"/>
                </a:cubicBezTo>
                <a:cubicBezTo>
                  <a:pt x="346" y="44"/>
                  <a:pt x="384" y="35"/>
                  <a:pt x="496" y="24"/>
                </a:cubicBezTo>
                <a:cubicBezTo>
                  <a:pt x="515" y="27"/>
                  <a:pt x="537" y="21"/>
                  <a:pt x="552" y="32"/>
                </a:cubicBezTo>
                <a:cubicBezTo>
                  <a:pt x="560" y="38"/>
                  <a:pt x="537" y="44"/>
                  <a:pt x="528" y="48"/>
                </a:cubicBezTo>
                <a:cubicBezTo>
                  <a:pt x="503" y="60"/>
                  <a:pt x="456" y="88"/>
                  <a:pt x="456" y="88"/>
                </a:cubicBezTo>
                <a:cubicBezTo>
                  <a:pt x="516" y="128"/>
                  <a:pt x="597" y="108"/>
                  <a:pt x="664" y="104"/>
                </a:cubicBezTo>
                <a:cubicBezTo>
                  <a:pt x="1003" y="112"/>
                  <a:pt x="877" y="112"/>
                  <a:pt x="1040" y="112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146560" y="530064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551335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551335"/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6300720" y="5021280"/>
            <a:ext cx="73080" cy="392040"/>
          </a:xfrm>
          <a:custGeom>
            <a:avLst/>
            <a:gdLst/>
            <a:ahLst/>
            <a:rect l="l" t="t" r="r" b="b"/>
            <a:pathLst>
              <a:path w="199" h="1093">
                <a:moveTo>
                  <a:pt x="17239" y="13097"/>
                </a:moveTo>
                <a:cubicBezTo>
                  <a:pt x="17176" y="13097"/>
                  <a:pt x="17120" y="13088"/>
                  <a:pt x="17090" y="13122"/>
                </a:cubicBezTo>
                <a:cubicBezTo>
                  <a:pt x="17043" y="13176"/>
                  <a:pt x="17041" y="13129"/>
                  <a:pt x="17041" y="13221"/>
                </a:cubicBezTo>
                <a:cubicBezTo>
                  <a:pt x="17041" y="13262"/>
                  <a:pt x="17041" y="13304"/>
                  <a:pt x="17041" y="13345"/>
                </a:cubicBezTo>
                <a:cubicBezTo>
                  <a:pt x="17065" y="13345"/>
                  <a:pt x="17179" y="13336"/>
                  <a:pt x="17190" y="13320"/>
                </a:cubicBezTo>
                <a:cubicBezTo>
                  <a:pt x="17190" y="13279"/>
                  <a:pt x="17190" y="13271"/>
                  <a:pt x="17190" y="13246"/>
                </a:cubicBezTo>
                <a:cubicBezTo>
                  <a:pt x="17190" y="13370"/>
                  <a:pt x="17190" y="13494"/>
                  <a:pt x="17190" y="13618"/>
                </a:cubicBezTo>
              </a:path>
              <a:path w="199" h="1093">
                <a:moveTo>
                  <a:pt x="17090" y="13072"/>
                </a:moveTo>
                <a:cubicBezTo>
                  <a:pt x="17090" y="13017"/>
                  <a:pt x="17068" y="12865"/>
                  <a:pt x="17115" y="12849"/>
                </a:cubicBezTo>
              </a:path>
              <a:path w="199" h="1093">
                <a:moveTo>
                  <a:pt x="17165" y="12626"/>
                </a:moveTo>
                <a:cubicBezTo>
                  <a:pt x="17106" y="12586"/>
                  <a:pt x="17127" y="12601"/>
                  <a:pt x="17090" y="12551"/>
                </a:cubicBezTo>
              </a:path>
              <a:path w="199" h="1093">
                <a:moveTo>
                  <a:pt x="17090" y="12526"/>
                </a:moveTo>
                <a:cubicBezTo>
                  <a:pt x="17090" y="12534"/>
                  <a:pt x="17090" y="12543"/>
                  <a:pt x="17090" y="12551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3071880" y="5608800"/>
            <a:ext cx="2125440" cy="71280"/>
          </a:xfrm>
          <a:custGeom>
            <a:avLst/>
            <a:gdLst/>
            <a:ahLst/>
            <a:rect l="l" t="t" r="r" b="b"/>
            <a:pathLst>
              <a:path w="5904" h="199">
                <a:moveTo>
                  <a:pt x="10914" y="14908"/>
                </a:moveTo>
                <a:cubicBezTo>
                  <a:pt x="10950" y="14899"/>
                  <a:pt x="10980" y="14887"/>
                  <a:pt x="11013" y="14883"/>
                </a:cubicBezTo>
                <a:cubicBezTo>
                  <a:pt x="11079" y="14874"/>
                  <a:pt x="11150" y="14866"/>
                  <a:pt x="11212" y="14858"/>
                </a:cubicBezTo>
                <a:cubicBezTo>
                  <a:pt x="11249" y="14853"/>
                  <a:pt x="11284" y="14837"/>
                  <a:pt x="11311" y="14833"/>
                </a:cubicBezTo>
                <a:cubicBezTo>
                  <a:pt x="12295" y="14674"/>
                  <a:pt x="13435" y="14833"/>
                  <a:pt x="14436" y="14833"/>
                </a:cubicBezTo>
              </a:path>
              <a:path w="5904" h="199">
                <a:moveTo>
                  <a:pt x="8533" y="14883"/>
                </a:moveTo>
                <a:cubicBezTo>
                  <a:pt x="8605" y="14883"/>
                  <a:pt x="8641" y="14891"/>
                  <a:pt x="8706" y="14908"/>
                </a:cubicBezTo>
                <a:cubicBezTo>
                  <a:pt x="8860" y="14947"/>
                  <a:pt x="9068" y="14908"/>
                  <a:pt x="9227" y="14908"/>
                </a:cubicBezTo>
              </a:path>
              <a:path w="5904" h="199">
                <a:moveTo>
                  <a:pt x="8657" y="14957"/>
                </a:moveTo>
                <a:cubicBezTo>
                  <a:pt x="8680" y="14957"/>
                  <a:pt x="8836" y="14957"/>
                  <a:pt x="8781" y="14957"/>
                </a:cubicBezTo>
              </a:path>
              <a:path w="5904" h="199">
                <a:moveTo>
                  <a:pt x="11112" y="14759"/>
                </a:moveTo>
                <a:cubicBezTo>
                  <a:pt x="11175" y="14759"/>
                  <a:pt x="11260" y="14744"/>
                  <a:pt x="11286" y="14784"/>
                </a:cubicBezTo>
              </a:path>
              <a:path w="5904" h="199">
                <a:moveTo>
                  <a:pt x="11187" y="14784"/>
                </a:moveTo>
                <a:cubicBezTo>
                  <a:pt x="11303" y="14784"/>
                  <a:pt x="11418" y="14784"/>
                  <a:pt x="11534" y="14784"/>
                </a:cubicBezTo>
              </a:path>
            </a:pathLst>
          </a:custGeom>
          <a:noFill/>
          <a:ln cap="rnd" w="34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4037040" y="5627520"/>
            <a:ext cx="776160" cy="19080"/>
          </a:xfrm>
          <a:custGeom>
            <a:avLst/>
            <a:gdLst/>
            <a:ahLst/>
            <a:rect l="l" t="t" r="r" b="b"/>
            <a:pathLst>
              <a:path w="2159" h="50">
                <a:moveTo>
                  <a:pt x="11212" y="14461"/>
                </a:moveTo>
                <a:cubicBezTo>
                  <a:pt x="11217" y="14459"/>
                  <a:pt x="11306" y="14446"/>
                  <a:pt x="11336" y="14436"/>
                </a:cubicBezTo>
                <a:cubicBezTo>
                  <a:pt x="11376" y="14422"/>
                  <a:pt x="11392" y="14412"/>
                  <a:pt x="11460" y="14412"/>
                </a:cubicBezTo>
                <a:cubicBezTo>
                  <a:pt x="12097" y="14412"/>
                  <a:pt x="12733" y="14412"/>
                  <a:pt x="13370" y="14412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5219640" y="5373720"/>
            <a:ext cx="504720" cy="5112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5276880" y="5373720"/>
            <a:ext cx="447480" cy="398520"/>
          </a:xfrm>
          <a:custGeom>
            <a:avLst/>
            <a:gdLst/>
            <a:ahLst/>
            <a:rect l="l" t="t" r="r" b="b"/>
            <a:pathLst>
              <a:path w="282" h="251">
                <a:moveTo>
                  <a:pt x="56" y="89"/>
                </a:moveTo>
                <a:cubicBezTo>
                  <a:pt x="15" y="116"/>
                  <a:pt x="13" y="148"/>
                  <a:pt x="32" y="201"/>
                </a:cubicBezTo>
                <a:cubicBezTo>
                  <a:pt x="41" y="226"/>
                  <a:pt x="79" y="225"/>
                  <a:pt x="104" y="233"/>
                </a:cubicBezTo>
                <a:cubicBezTo>
                  <a:pt x="147" y="229"/>
                  <a:pt x="185" y="240"/>
                  <a:pt x="216" y="209"/>
                </a:cubicBezTo>
                <a:cubicBezTo>
                  <a:pt x="235" y="190"/>
                  <a:pt x="248" y="137"/>
                  <a:pt x="248" y="137"/>
                </a:cubicBezTo>
                <a:cubicBezTo>
                  <a:pt x="245" y="110"/>
                  <a:pt x="244" y="83"/>
                  <a:pt x="240" y="57"/>
                </a:cubicBezTo>
                <a:cubicBezTo>
                  <a:pt x="239" y="49"/>
                  <a:pt x="239" y="37"/>
                  <a:pt x="232" y="33"/>
                </a:cubicBezTo>
                <a:cubicBezTo>
                  <a:pt x="205" y="18"/>
                  <a:pt x="173" y="19"/>
                  <a:pt x="144" y="9"/>
                </a:cubicBezTo>
                <a:cubicBezTo>
                  <a:pt x="50" y="21"/>
                  <a:pt x="96" y="5"/>
                  <a:pt x="56" y="65"/>
                </a:cubicBezTo>
                <a:cubicBezTo>
                  <a:pt x="65" y="251"/>
                  <a:pt x="22" y="248"/>
                  <a:pt x="168" y="233"/>
                </a:cubicBezTo>
                <a:cubicBezTo>
                  <a:pt x="196" y="214"/>
                  <a:pt x="213" y="214"/>
                  <a:pt x="232" y="185"/>
                </a:cubicBezTo>
                <a:cubicBezTo>
                  <a:pt x="225" y="87"/>
                  <a:pt x="240" y="41"/>
                  <a:pt x="144" y="17"/>
                </a:cubicBezTo>
                <a:cubicBezTo>
                  <a:pt x="117" y="20"/>
                  <a:pt x="89" y="17"/>
                  <a:pt x="64" y="25"/>
                </a:cubicBezTo>
                <a:cubicBezTo>
                  <a:pt x="7" y="44"/>
                  <a:pt x="71" y="57"/>
                  <a:pt x="72" y="57"/>
                </a:cubicBezTo>
                <a:cubicBezTo>
                  <a:pt x="80" y="54"/>
                  <a:pt x="89" y="54"/>
                  <a:pt x="96" y="49"/>
                </a:cubicBezTo>
                <a:cubicBezTo>
                  <a:pt x="124" y="27"/>
                  <a:pt x="100" y="7"/>
                  <a:pt x="128" y="49"/>
                </a:cubicBezTo>
                <a:cubicBezTo>
                  <a:pt x="125" y="89"/>
                  <a:pt x="120" y="129"/>
                  <a:pt x="120" y="169"/>
                </a:cubicBezTo>
                <a:cubicBezTo>
                  <a:pt x="120" y="188"/>
                  <a:pt x="128" y="206"/>
                  <a:pt x="128" y="225"/>
                </a:cubicBezTo>
                <a:cubicBezTo>
                  <a:pt x="128" y="239"/>
                  <a:pt x="132" y="192"/>
                  <a:pt x="120" y="185"/>
                </a:cubicBezTo>
                <a:cubicBezTo>
                  <a:pt x="85" y="164"/>
                  <a:pt x="40" y="176"/>
                  <a:pt x="0" y="169"/>
                </a:cubicBezTo>
                <a:cubicBezTo>
                  <a:pt x="260" y="160"/>
                  <a:pt x="282" y="172"/>
                  <a:pt x="128" y="121"/>
                </a:cubicBezTo>
                <a:cubicBezTo>
                  <a:pt x="204" y="110"/>
                  <a:pt x="212" y="128"/>
                  <a:pt x="176" y="9"/>
                </a:cubicBezTo>
                <a:cubicBezTo>
                  <a:pt x="173" y="0"/>
                  <a:pt x="166" y="26"/>
                  <a:pt x="160" y="33"/>
                </a:cubicBezTo>
                <a:cubicBezTo>
                  <a:pt x="153" y="42"/>
                  <a:pt x="144" y="49"/>
                  <a:pt x="136" y="57"/>
                </a:cubicBezTo>
                <a:cubicBezTo>
                  <a:pt x="122" y="113"/>
                  <a:pt x="117" y="167"/>
                  <a:pt x="112" y="225"/>
                </a:cubicBezTo>
                <a:cubicBezTo>
                  <a:pt x="107" y="217"/>
                  <a:pt x="103" y="208"/>
                  <a:pt x="96" y="201"/>
                </a:cubicBezTo>
                <a:cubicBezTo>
                  <a:pt x="89" y="194"/>
                  <a:pt x="78" y="192"/>
                  <a:pt x="72" y="185"/>
                </a:cubicBezTo>
                <a:cubicBezTo>
                  <a:pt x="59" y="171"/>
                  <a:pt x="40" y="137"/>
                  <a:pt x="40" y="137"/>
                </a:cubicBezTo>
                <a:cubicBezTo>
                  <a:pt x="43" y="108"/>
                  <a:pt x="40" y="77"/>
                  <a:pt x="48" y="49"/>
                </a:cubicBezTo>
                <a:cubicBezTo>
                  <a:pt x="51" y="38"/>
                  <a:pt x="61" y="25"/>
                  <a:pt x="72" y="25"/>
                </a:cubicBezTo>
                <a:cubicBezTo>
                  <a:pt x="80" y="25"/>
                  <a:pt x="77" y="41"/>
                  <a:pt x="80" y="49"/>
                </a:cubicBezTo>
                <a:cubicBezTo>
                  <a:pt x="80" y="49"/>
                  <a:pt x="69" y="70"/>
                  <a:pt x="64" y="81"/>
                </a:cubicBezTo>
                <a:cubicBezTo>
                  <a:pt x="61" y="89"/>
                  <a:pt x="59" y="97"/>
                  <a:pt x="56" y="105"/>
                </a:cubicBezTo>
                <a:cubicBezTo>
                  <a:pt x="64" y="170"/>
                  <a:pt x="66" y="196"/>
                  <a:pt x="128" y="217"/>
                </a:cubicBezTo>
                <a:cubicBezTo>
                  <a:pt x="206" y="208"/>
                  <a:pt x="203" y="217"/>
                  <a:pt x="224" y="153"/>
                </a:cubicBezTo>
                <a:cubicBezTo>
                  <a:pt x="207" y="70"/>
                  <a:pt x="200" y="88"/>
                  <a:pt x="112" y="97"/>
                </a:cubicBezTo>
                <a:cubicBezTo>
                  <a:pt x="98" y="151"/>
                  <a:pt x="107" y="175"/>
                  <a:pt x="160" y="193"/>
                </a:cubicBezTo>
                <a:cubicBezTo>
                  <a:pt x="176" y="190"/>
                  <a:pt x="194" y="193"/>
                  <a:pt x="208" y="185"/>
                </a:cubicBezTo>
                <a:cubicBezTo>
                  <a:pt x="242" y="166"/>
                  <a:pt x="238" y="117"/>
                  <a:pt x="224" y="89"/>
                </a:cubicBezTo>
                <a:cubicBezTo>
                  <a:pt x="219" y="78"/>
                  <a:pt x="203" y="78"/>
                  <a:pt x="192" y="73"/>
                </a:cubicBezTo>
                <a:cubicBezTo>
                  <a:pt x="136" y="79"/>
                  <a:pt x="99" y="73"/>
                  <a:pt x="80" y="129"/>
                </a:cubicBezTo>
                <a:cubicBezTo>
                  <a:pt x="83" y="153"/>
                  <a:pt x="70" y="185"/>
                  <a:pt x="88" y="201"/>
                </a:cubicBezTo>
                <a:cubicBezTo>
                  <a:pt x="131" y="239"/>
                  <a:pt x="184" y="162"/>
                  <a:pt x="200" y="137"/>
                </a:cubicBezTo>
                <a:cubicBezTo>
                  <a:pt x="192" y="72"/>
                  <a:pt x="188" y="26"/>
                  <a:pt x="120" y="9"/>
                </a:cubicBezTo>
                <a:cubicBezTo>
                  <a:pt x="65" y="18"/>
                  <a:pt x="83" y="6"/>
                  <a:pt x="56" y="33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3348000" y="5300640"/>
            <a:ext cx="576360" cy="56664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3394080" y="5349960"/>
            <a:ext cx="581040" cy="455400"/>
          </a:xfrm>
          <a:custGeom>
            <a:avLst/>
            <a:gdLst/>
            <a:ahLst/>
            <a:rect l="l" t="t" r="r" b="b"/>
            <a:pathLst>
              <a:path w="1614" h="1266">
                <a:moveTo>
                  <a:pt x="10120" y="14362"/>
                </a:moveTo>
                <a:cubicBezTo>
                  <a:pt x="10081" y="14376"/>
                  <a:pt x="10096" y="14412"/>
                  <a:pt x="10096" y="14461"/>
                </a:cubicBezTo>
                <a:cubicBezTo>
                  <a:pt x="10096" y="14583"/>
                  <a:pt x="10037" y="15375"/>
                  <a:pt x="10120" y="15404"/>
                </a:cubicBezTo>
              </a:path>
              <a:path w="1614" h="1266">
                <a:moveTo>
                  <a:pt x="9624" y="14908"/>
                </a:moveTo>
                <a:cubicBezTo>
                  <a:pt x="9971" y="14908"/>
                  <a:pt x="10914" y="14908"/>
                  <a:pt x="10567" y="14908"/>
                </a:cubicBezTo>
              </a:path>
              <a:path w="1614" h="1266">
                <a:moveTo>
                  <a:pt x="9649" y="15056"/>
                </a:moveTo>
                <a:cubicBezTo>
                  <a:pt x="9641" y="15056"/>
                  <a:pt x="9632" y="15056"/>
                  <a:pt x="9624" y="15056"/>
                </a:cubicBezTo>
                <a:cubicBezTo>
                  <a:pt x="9674" y="15056"/>
                  <a:pt x="9708" y="15064"/>
                  <a:pt x="9748" y="15032"/>
                </a:cubicBezTo>
                <a:cubicBezTo>
                  <a:pt x="9791" y="14998"/>
                  <a:pt x="9823" y="15015"/>
                  <a:pt x="9872" y="14982"/>
                </a:cubicBezTo>
                <a:cubicBezTo>
                  <a:pt x="9907" y="14958"/>
                  <a:pt x="9954" y="14937"/>
                  <a:pt x="9996" y="14932"/>
                </a:cubicBezTo>
                <a:cubicBezTo>
                  <a:pt x="10036" y="14928"/>
                  <a:pt x="10051" y="14908"/>
                  <a:pt x="10096" y="14908"/>
                </a:cubicBezTo>
                <a:cubicBezTo>
                  <a:pt x="10138" y="14908"/>
                  <a:pt x="10169" y="14883"/>
                  <a:pt x="10220" y="14883"/>
                </a:cubicBezTo>
                <a:cubicBezTo>
                  <a:pt x="10237" y="14829"/>
                  <a:pt x="10251" y="14882"/>
                  <a:pt x="10294" y="14858"/>
                </a:cubicBezTo>
                <a:cubicBezTo>
                  <a:pt x="10330" y="14838"/>
                  <a:pt x="10351" y="14813"/>
                  <a:pt x="10393" y="14808"/>
                </a:cubicBezTo>
                <a:cubicBezTo>
                  <a:pt x="10413" y="14806"/>
                  <a:pt x="10474" y="14794"/>
                  <a:pt x="10492" y="14784"/>
                </a:cubicBezTo>
                <a:cubicBezTo>
                  <a:pt x="10532" y="14762"/>
                  <a:pt x="10574" y="14728"/>
                  <a:pt x="10616" y="14709"/>
                </a:cubicBezTo>
                <a:cubicBezTo>
                  <a:pt x="10655" y="14691"/>
                  <a:pt x="10725" y="14697"/>
                  <a:pt x="10765" y="14684"/>
                </a:cubicBezTo>
                <a:cubicBezTo>
                  <a:pt x="10832" y="14662"/>
                  <a:pt x="10715" y="14660"/>
                  <a:pt x="10691" y="14660"/>
                </a:cubicBezTo>
              </a:path>
              <a:path w="1614" h="1266">
                <a:moveTo>
                  <a:pt x="9971" y="14362"/>
                </a:moveTo>
                <a:cubicBezTo>
                  <a:pt x="9963" y="14362"/>
                  <a:pt x="9955" y="14362"/>
                  <a:pt x="9947" y="14362"/>
                </a:cubicBezTo>
                <a:cubicBezTo>
                  <a:pt x="9981" y="14414"/>
                  <a:pt x="9982" y="14418"/>
                  <a:pt x="10021" y="14461"/>
                </a:cubicBezTo>
                <a:cubicBezTo>
                  <a:pt x="10063" y="14508"/>
                  <a:pt x="10062" y="14496"/>
                  <a:pt x="10071" y="14560"/>
                </a:cubicBezTo>
                <a:cubicBezTo>
                  <a:pt x="10109" y="14573"/>
                  <a:pt x="10096" y="14590"/>
                  <a:pt x="10096" y="14635"/>
                </a:cubicBezTo>
                <a:cubicBezTo>
                  <a:pt x="10096" y="14643"/>
                  <a:pt x="10096" y="14652"/>
                  <a:pt x="10096" y="14660"/>
                </a:cubicBezTo>
                <a:cubicBezTo>
                  <a:pt x="10132" y="14672"/>
                  <a:pt x="10120" y="14690"/>
                  <a:pt x="10120" y="14734"/>
                </a:cubicBezTo>
                <a:cubicBezTo>
                  <a:pt x="10120" y="14831"/>
                  <a:pt x="10117" y="14923"/>
                  <a:pt x="10145" y="15007"/>
                </a:cubicBezTo>
                <a:cubicBezTo>
                  <a:pt x="10163" y="15061"/>
                  <a:pt x="10153" y="15129"/>
                  <a:pt x="10170" y="15180"/>
                </a:cubicBezTo>
                <a:cubicBezTo>
                  <a:pt x="10188" y="15234"/>
                  <a:pt x="10178" y="15303"/>
                  <a:pt x="10195" y="15354"/>
                </a:cubicBezTo>
                <a:cubicBezTo>
                  <a:pt x="10209" y="15396"/>
                  <a:pt x="10226" y="15413"/>
                  <a:pt x="10244" y="15453"/>
                </a:cubicBezTo>
                <a:cubicBezTo>
                  <a:pt x="10260" y="15491"/>
                  <a:pt x="10244" y="15521"/>
                  <a:pt x="10244" y="15453"/>
                </a:cubicBezTo>
              </a:path>
              <a:path w="1614" h="1266">
                <a:moveTo>
                  <a:pt x="10120" y="15081"/>
                </a:moveTo>
                <a:cubicBezTo>
                  <a:pt x="10112" y="15081"/>
                  <a:pt x="10104" y="15081"/>
                  <a:pt x="10096" y="15081"/>
                </a:cubicBezTo>
                <a:cubicBezTo>
                  <a:pt x="10086" y="15120"/>
                  <a:pt x="10071" y="15136"/>
                  <a:pt x="10071" y="15180"/>
                </a:cubicBezTo>
                <a:cubicBezTo>
                  <a:pt x="10032" y="15193"/>
                  <a:pt x="10055" y="15217"/>
                  <a:pt x="10021" y="15255"/>
                </a:cubicBezTo>
                <a:cubicBezTo>
                  <a:pt x="9984" y="15296"/>
                  <a:pt x="10018" y="15315"/>
                  <a:pt x="9996" y="15354"/>
                </a:cubicBezTo>
                <a:cubicBezTo>
                  <a:pt x="9974" y="15393"/>
                  <a:pt x="9971" y="15383"/>
                  <a:pt x="9971" y="15429"/>
                </a:cubicBezTo>
                <a:cubicBezTo>
                  <a:pt x="9950" y="15385"/>
                  <a:pt x="9947" y="15373"/>
                  <a:pt x="9922" y="15354"/>
                </a:cubicBezTo>
              </a:path>
              <a:path w="1614" h="1266">
                <a:moveTo>
                  <a:pt x="9475" y="14709"/>
                </a:moveTo>
                <a:cubicBezTo>
                  <a:pt x="9537" y="14758"/>
                  <a:pt x="9558" y="14740"/>
                  <a:pt x="9624" y="14759"/>
                </a:cubicBezTo>
                <a:cubicBezTo>
                  <a:pt x="9679" y="14775"/>
                  <a:pt x="9745" y="14790"/>
                  <a:pt x="9798" y="14808"/>
                </a:cubicBezTo>
                <a:cubicBezTo>
                  <a:pt x="9835" y="14820"/>
                  <a:pt x="9908" y="14852"/>
                  <a:pt x="9922" y="14858"/>
                </a:cubicBezTo>
                <a:cubicBezTo>
                  <a:pt x="9961" y="14875"/>
                  <a:pt x="10072" y="14897"/>
                  <a:pt x="10120" y="14908"/>
                </a:cubicBezTo>
                <a:cubicBezTo>
                  <a:pt x="10196" y="14925"/>
                  <a:pt x="10170" y="14883"/>
                  <a:pt x="10170" y="14833"/>
                </a:cubicBezTo>
              </a:path>
              <a:path w="1614" h="1266">
                <a:moveTo>
                  <a:pt x="10269" y="14387"/>
                </a:moveTo>
                <a:cubicBezTo>
                  <a:pt x="10259" y="14428"/>
                  <a:pt x="10225" y="14443"/>
                  <a:pt x="10220" y="14486"/>
                </a:cubicBezTo>
                <a:cubicBezTo>
                  <a:pt x="10220" y="14494"/>
                  <a:pt x="10220" y="14503"/>
                  <a:pt x="10220" y="14511"/>
                </a:cubicBezTo>
                <a:cubicBezTo>
                  <a:pt x="10165" y="14529"/>
                  <a:pt x="10218" y="14556"/>
                  <a:pt x="10195" y="14610"/>
                </a:cubicBezTo>
                <a:cubicBezTo>
                  <a:pt x="10178" y="14650"/>
                  <a:pt x="10150" y="14689"/>
                  <a:pt x="10145" y="14734"/>
                </a:cubicBezTo>
                <a:cubicBezTo>
                  <a:pt x="10145" y="14759"/>
                  <a:pt x="10145" y="14767"/>
                  <a:pt x="10120" y="14759"/>
                </a:cubicBezTo>
              </a:path>
              <a:path w="1614" h="1266">
                <a:moveTo>
                  <a:pt x="9823" y="14436"/>
                </a:moveTo>
                <a:cubicBezTo>
                  <a:pt x="9782" y="14469"/>
                  <a:pt x="9773" y="14469"/>
                  <a:pt x="9748" y="14511"/>
                </a:cubicBezTo>
                <a:cubicBezTo>
                  <a:pt x="9744" y="14518"/>
                  <a:pt x="9680" y="14563"/>
                  <a:pt x="9674" y="14585"/>
                </a:cubicBezTo>
                <a:cubicBezTo>
                  <a:pt x="9664" y="14622"/>
                  <a:pt x="9664" y="14650"/>
                  <a:pt x="9649" y="14684"/>
                </a:cubicBezTo>
                <a:cubicBezTo>
                  <a:pt x="9634" y="14719"/>
                  <a:pt x="9626" y="14743"/>
                  <a:pt x="9624" y="14784"/>
                </a:cubicBezTo>
                <a:cubicBezTo>
                  <a:pt x="9616" y="14912"/>
                  <a:pt x="9593" y="15113"/>
                  <a:pt x="9674" y="15205"/>
                </a:cubicBezTo>
                <a:cubicBezTo>
                  <a:pt x="9690" y="15223"/>
                  <a:pt x="9740" y="15311"/>
                  <a:pt x="9773" y="15329"/>
                </a:cubicBezTo>
                <a:cubicBezTo>
                  <a:pt x="9831" y="15360"/>
                  <a:pt x="9912" y="15373"/>
                  <a:pt x="9971" y="15404"/>
                </a:cubicBezTo>
                <a:cubicBezTo>
                  <a:pt x="10042" y="15442"/>
                  <a:pt x="10117" y="15429"/>
                  <a:pt x="10195" y="15429"/>
                </a:cubicBezTo>
                <a:cubicBezTo>
                  <a:pt x="10253" y="15429"/>
                  <a:pt x="10278" y="15429"/>
                  <a:pt x="10319" y="15429"/>
                </a:cubicBezTo>
                <a:cubicBezTo>
                  <a:pt x="10277" y="15429"/>
                  <a:pt x="10286" y="15429"/>
                  <a:pt x="10244" y="15429"/>
                </a:cubicBezTo>
                <a:cubicBezTo>
                  <a:pt x="10174" y="15429"/>
                  <a:pt x="10113" y="15410"/>
                  <a:pt x="10046" y="15404"/>
                </a:cubicBezTo>
                <a:cubicBezTo>
                  <a:pt x="9956" y="15395"/>
                  <a:pt x="9921" y="15404"/>
                  <a:pt x="9872" y="15379"/>
                </a:cubicBezTo>
                <a:cubicBezTo>
                  <a:pt x="9848" y="15367"/>
                  <a:pt x="9820" y="15326"/>
                  <a:pt x="9798" y="15304"/>
                </a:cubicBezTo>
                <a:cubicBezTo>
                  <a:pt x="9757" y="15264"/>
                  <a:pt x="9771" y="15240"/>
                  <a:pt x="9748" y="15205"/>
                </a:cubicBezTo>
                <a:cubicBezTo>
                  <a:pt x="9725" y="15169"/>
                  <a:pt x="9682" y="15173"/>
                  <a:pt x="9674" y="15131"/>
                </a:cubicBezTo>
                <a:cubicBezTo>
                  <a:pt x="9666" y="15090"/>
                  <a:pt x="9657" y="15073"/>
                  <a:pt x="9649" y="15032"/>
                </a:cubicBezTo>
                <a:cubicBezTo>
                  <a:pt x="9620" y="14891"/>
                  <a:pt x="9653" y="14663"/>
                  <a:pt x="9674" y="14560"/>
                </a:cubicBezTo>
                <a:cubicBezTo>
                  <a:pt x="9686" y="14503"/>
                  <a:pt x="9662" y="14490"/>
                  <a:pt x="9699" y="14461"/>
                </a:cubicBezTo>
                <a:cubicBezTo>
                  <a:pt x="9731" y="14436"/>
                  <a:pt x="9779" y="14438"/>
                  <a:pt x="9823" y="14436"/>
                </a:cubicBezTo>
                <a:cubicBezTo>
                  <a:pt x="9897" y="14432"/>
                  <a:pt x="9972" y="14436"/>
                  <a:pt x="10046" y="14436"/>
                </a:cubicBezTo>
                <a:cubicBezTo>
                  <a:pt x="9973" y="14445"/>
                  <a:pt x="9953" y="14495"/>
                  <a:pt x="9897" y="14511"/>
                </a:cubicBezTo>
                <a:cubicBezTo>
                  <a:pt x="9854" y="14523"/>
                  <a:pt x="9851" y="14514"/>
                  <a:pt x="9823" y="14536"/>
                </a:cubicBezTo>
                <a:cubicBezTo>
                  <a:pt x="9805" y="14550"/>
                  <a:pt x="9772" y="14567"/>
                  <a:pt x="9748" y="14585"/>
                </a:cubicBezTo>
                <a:cubicBezTo>
                  <a:pt x="9713" y="14611"/>
                  <a:pt x="9717" y="14637"/>
                  <a:pt x="9699" y="14660"/>
                </a:cubicBezTo>
                <a:cubicBezTo>
                  <a:pt x="9622" y="14696"/>
                  <a:pt x="9709" y="14646"/>
                  <a:pt x="9723" y="14635"/>
                </a:cubicBezTo>
                <a:cubicBezTo>
                  <a:pt x="9760" y="14605"/>
                  <a:pt x="9791" y="14589"/>
                  <a:pt x="9823" y="14560"/>
                </a:cubicBezTo>
                <a:cubicBezTo>
                  <a:pt x="9852" y="14534"/>
                  <a:pt x="9887" y="14496"/>
                  <a:pt x="9922" y="14486"/>
                </a:cubicBezTo>
                <a:cubicBezTo>
                  <a:pt x="9957" y="14476"/>
                  <a:pt x="10017" y="14467"/>
                  <a:pt x="10046" y="14461"/>
                </a:cubicBezTo>
                <a:cubicBezTo>
                  <a:pt x="10078" y="14455"/>
                  <a:pt x="10266" y="14461"/>
                  <a:pt x="10145" y="14461"/>
                </a:cubicBezTo>
                <a:cubicBezTo>
                  <a:pt x="10124" y="14461"/>
                  <a:pt x="9957" y="14461"/>
                  <a:pt x="10021" y="14461"/>
                </a:cubicBezTo>
                <a:cubicBezTo>
                  <a:pt x="10097" y="14461"/>
                  <a:pt x="10146" y="14445"/>
                  <a:pt x="10220" y="14436"/>
                </a:cubicBezTo>
                <a:cubicBezTo>
                  <a:pt x="10248" y="14433"/>
                  <a:pt x="10415" y="14436"/>
                  <a:pt x="10294" y="14436"/>
                </a:cubicBezTo>
                <a:cubicBezTo>
                  <a:pt x="10275" y="14436"/>
                  <a:pt x="10091" y="14436"/>
                  <a:pt x="10220" y="14436"/>
                </a:cubicBezTo>
                <a:cubicBezTo>
                  <a:pt x="10253" y="14436"/>
                  <a:pt x="10286" y="14436"/>
                  <a:pt x="10319" y="14436"/>
                </a:cubicBezTo>
                <a:cubicBezTo>
                  <a:pt x="10252" y="14436"/>
                  <a:pt x="10021" y="14436"/>
                  <a:pt x="10046" y="14436"/>
                </a:cubicBezTo>
                <a:cubicBezTo>
                  <a:pt x="10096" y="14436"/>
                  <a:pt x="9955" y="14464"/>
                  <a:pt x="9996" y="14436"/>
                </a:cubicBezTo>
                <a:cubicBezTo>
                  <a:pt x="10040" y="14406"/>
                  <a:pt x="10119" y="14414"/>
                  <a:pt x="10170" y="14412"/>
                </a:cubicBezTo>
                <a:cubicBezTo>
                  <a:pt x="10212" y="14412"/>
                  <a:pt x="10237" y="14412"/>
                  <a:pt x="10195" y="14412"/>
                </a:cubicBezTo>
                <a:cubicBezTo>
                  <a:pt x="10126" y="14412"/>
                  <a:pt x="10055" y="14404"/>
                  <a:pt x="10021" y="14387"/>
                </a:cubicBezTo>
                <a:cubicBezTo>
                  <a:pt x="10079" y="14387"/>
                  <a:pt x="10087" y="14387"/>
                  <a:pt x="10145" y="14387"/>
                </a:cubicBezTo>
                <a:cubicBezTo>
                  <a:pt x="10242" y="14387"/>
                  <a:pt x="10209" y="14400"/>
                  <a:pt x="10269" y="14436"/>
                </a:cubicBezTo>
                <a:cubicBezTo>
                  <a:pt x="10312" y="14462"/>
                  <a:pt x="10313" y="14458"/>
                  <a:pt x="10319" y="14461"/>
                </a:cubicBezTo>
                <a:cubicBezTo>
                  <a:pt x="10364" y="14486"/>
                  <a:pt x="10399" y="14511"/>
                  <a:pt x="10443" y="14536"/>
                </a:cubicBezTo>
                <a:cubicBezTo>
                  <a:pt x="10399" y="14501"/>
                  <a:pt x="10300" y="14497"/>
                  <a:pt x="10344" y="14461"/>
                </a:cubicBezTo>
                <a:cubicBezTo>
                  <a:pt x="10388" y="14425"/>
                  <a:pt x="10419" y="14514"/>
                  <a:pt x="10443" y="14511"/>
                </a:cubicBezTo>
                <a:cubicBezTo>
                  <a:pt x="10494" y="14505"/>
                  <a:pt x="10452" y="14458"/>
                  <a:pt x="10443" y="14511"/>
                </a:cubicBezTo>
                <a:cubicBezTo>
                  <a:pt x="10433" y="14569"/>
                  <a:pt x="10478" y="14586"/>
                  <a:pt x="10492" y="14635"/>
                </a:cubicBezTo>
                <a:cubicBezTo>
                  <a:pt x="10522" y="14741"/>
                  <a:pt x="10464" y="14857"/>
                  <a:pt x="10517" y="14883"/>
                </a:cubicBezTo>
                <a:cubicBezTo>
                  <a:pt x="10563" y="14906"/>
                  <a:pt x="10525" y="14908"/>
                  <a:pt x="10542" y="14957"/>
                </a:cubicBezTo>
                <a:cubicBezTo>
                  <a:pt x="10578" y="15060"/>
                  <a:pt x="10553" y="15067"/>
                  <a:pt x="10616" y="14982"/>
                </a:cubicBezTo>
                <a:cubicBezTo>
                  <a:pt x="10661" y="14921"/>
                  <a:pt x="10703" y="14934"/>
                  <a:pt x="10716" y="14858"/>
                </a:cubicBezTo>
                <a:cubicBezTo>
                  <a:pt x="10716" y="14850"/>
                  <a:pt x="10716" y="14841"/>
                  <a:pt x="10716" y="14833"/>
                </a:cubicBezTo>
                <a:cubicBezTo>
                  <a:pt x="10716" y="14866"/>
                  <a:pt x="10716" y="14899"/>
                  <a:pt x="10716" y="14932"/>
                </a:cubicBezTo>
                <a:cubicBezTo>
                  <a:pt x="10716" y="15034"/>
                  <a:pt x="10716" y="14922"/>
                  <a:pt x="10716" y="14883"/>
                </a:cubicBezTo>
                <a:cubicBezTo>
                  <a:pt x="10716" y="14787"/>
                  <a:pt x="10700" y="14794"/>
                  <a:pt x="10691" y="14784"/>
                </a:cubicBezTo>
                <a:cubicBezTo>
                  <a:pt x="10652" y="14740"/>
                  <a:pt x="10632" y="14680"/>
                  <a:pt x="10592" y="14635"/>
                </a:cubicBezTo>
                <a:cubicBezTo>
                  <a:pt x="10567" y="14635"/>
                  <a:pt x="10559" y="14635"/>
                  <a:pt x="10567" y="14610"/>
                </a:cubicBezTo>
                <a:cubicBezTo>
                  <a:pt x="10567" y="14793"/>
                  <a:pt x="10576" y="14989"/>
                  <a:pt x="10542" y="15156"/>
                </a:cubicBezTo>
                <a:cubicBezTo>
                  <a:pt x="10526" y="15234"/>
                  <a:pt x="10558" y="15194"/>
                  <a:pt x="10492" y="15255"/>
                </a:cubicBezTo>
                <a:cubicBezTo>
                  <a:pt x="10464" y="15281"/>
                  <a:pt x="10458" y="15312"/>
                  <a:pt x="10443" y="15329"/>
                </a:cubicBezTo>
                <a:cubicBezTo>
                  <a:pt x="10396" y="15381"/>
                  <a:pt x="10387" y="15375"/>
                  <a:pt x="10319" y="15379"/>
                </a:cubicBezTo>
                <a:cubicBezTo>
                  <a:pt x="10261" y="15382"/>
                  <a:pt x="10203" y="15379"/>
                  <a:pt x="10145" y="15379"/>
                </a:cubicBezTo>
                <a:cubicBezTo>
                  <a:pt x="10188" y="15345"/>
                  <a:pt x="10230" y="15319"/>
                  <a:pt x="10269" y="15280"/>
                </a:cubicBezTo>
                <a:cubicBezTo>
                  <a:pt x="10294" y="15255"/>
                  <a:pt x="10308" y="15242"/>
                  <a:pt x="10344" y="15205"/>
                </a:cubicBezTo>
                <a:cubicBezTo>
                  <a:pt x="10374" y="15174"/>
                  <a:pt x="10394" y="15160"/>
                  <a:pt x="10418" y="15131"/>
                </a:cubicBezTo>
                <a:cubicBezTo>
                  <a:pt x="10443" y="15106"/>
                  <a:pt x="10451" y="15098"/>
                  <a:pt x="10468" y="15081"/>
                </a:cubicBezTo>
                <a:cubicBezTo>
                  <a:pt x="10439" y="15122"/>
                  <a:pt x="10420" y="15146"/>
                  <a:pt x="10393" y="15180"/>
                </a:cubicBezTo>
                <a:cubicBezTo>
                  <a:pt x="10375" y="15203"/>
                  <a:pt x="10296" y="15225"/>
                  <a:pt x="10269" y="15230"/>
                </a:cubicBezTo>
                <a:cubicBezTo>
                  <a:pt x="10126" y="15254"/>
                  <a:pt x="9870" y="15241"/>
                  <a:pt x="9773" y="15205"/>
                </a:cubicBezTo>
                <a:cubicBezTo>
                  <a:pt x="9704" y="15180"/>
                  <a:pt x="9689" y="15165"/>
                  <a:pt x="9624" y="15156"/>
                </a:cubicBezTo>
                <a:cubicBezTo>
                  <a:pt x="9648" y="15198"/>
                  <a:pt x="9651" y="15210"/>
                  <a:pt x="9699" y="15230"/>
                </a:cubicBezTo>
                <a:cubicBezTo>
                  <a:pt x="9763" y="15256"/>
                  <a:pt x="9809" y="15294"/>
                  <a:pt x="9872" y="15329"/>
                </a:cubicBezTo>
                <a:cubicBezTo>
                  <a:pt x="9927" y="15360"/>
                  <a:pt x="9960" y="15354"/>
                  <a:pt x="10021" y="15354"/>
                </a:cubicBezTo>
                <a:cubicBezTo>
                  <a:pt x="10135" y="15354"/>
                  <a:pt x="10245" y="15349"/>
                  <a:pt x="10344" y="15329"/>
                </a:cubicBezTo>
                <a:cubicBezTo>
                  <a:pt x="10408" y="15316"/>
                  <a:pt x="10405" y="15331"/>
                  <a:pt x="10443" y="15304"/>
                </a:cubicBezTo>
                <a:cubicBezTo>
                  <a:pt x="10474" y="15282"/>
                  <a:pt x="10514" y="15274"/>
                  <a:pt x="10542" y="15255"/>
                </a:cubicBezTo>
                <a:cubicBezTo>
                  <a:pt x="10543" y="15255"/>
                  <a:pt x="10611" y="15197"/>
                  <a:pt x="10616" y="15180"/>
                </a:cubicBezTo>
                <a:cubicBezTo>
                  <a:pt x="10632" y="15123"/>
                  <a:pt x="10579" y="15111"/>
                  <a:pt x="10542" y="15081"/>
                </a:cubicBezTo>
              </a:path>
              <a:path w="1614" h="1266">
                <a:moveTo>
                  <a:pt x="10740" y="14288"/>
                </a:moveTo>
                <a:cubicBezTo>
                  <a:pt x="10780" y="14311"/>
                  <a:pt x="10840" y="14325"/>
                  <a:pt x="10889" y="14337"/>
                </a:cubicBezTo>
                <a:cubicBezTo>
                  <a:pt x="10914" y="14337"/>
                  <a:pt x="10922" y="14337"/>
                  <a:pt x="10939" y="14337"/>
                </a:cubicBezTo>
                <a:cubicBezTo>
                  <a:pt x="10939" y="14399"/>
                  <a:pt x="10960" y="14380"/>
                  <a:pt x="10988" y="14412"/>
                </a:cubicBezTo>
                <a:cubicBezTo>
                  <a:pt x="11017" y="14444"/>
                  <a:pt x="11062" y="14452"/>
                  <a:pt x="11088" y="14461"/>
                </a:cubicBezTo>
                <a:cubicBezTo>
                  <a:pt x="11057" y="14430"/>
                  <a:pt x="10983" y="14386"/>
                  <a:pt x="10964" y="14362"/>
                </a:cubicBezTo>
                <a:cubicBezTo>
                  <a:pt x="10929" y="14319"/>
                  <a:pt x="10925" y="14270"/>
                  <a:pt x="10864" y="14263"/>
                </a:cubicBezTo>
                <a:cubicBezTo>
                  <a:pt x="10813" y="14257"/>
                  <a:pt x="10793" y="14242"/>
                  <a:pt x="10740" y="14238"/>
                </a:cubicBezTo>
                <a:cubicBezTo>
                  <a:pt x="10716" y="14236"/>
                  <a:pt x="10690" y="14238"/>
                  <a:pt x="10666" y="14238"/>
                </a:cubicBezTo>
                <a:cubicBezTo>
                  <a:pt x="10666" y="14272"/>
                  <a:pt x="10653" y="14318"/>
                  <a:pt x="10691" y="14337"/>
                </a:cubicBezTo>
                <a:cubicBezTo>
                  <a:pt x="10699" y="14341"/>
                  <a:pt x="10759" y="14378"/>
                  <a:pt x="10765" y="14387"/>
                </a:cubicBezTo>
                <a:cubicBezTo>
                  <a:pt x="10792" y="14428"/>
                  <a:pt x="10751" y="14432"/>
                  <a:pt x="10790" y="14461"/>
                </a:cubicBezTo>
                <a:cubicBezTo>
                  <a:pt x="10819" y="14483"/>
                  <a:pt x="10842" y="14482"/>
                  <a:pt x="10864" y="14511"/>
                </a:cubicBezTo>
                <a:cubicBezTo>
                  <a:pt x="10886" y="14539"/>
                  <a:pt x="10922" y="14562"/>
                  <a:pt x="10939" y="14585"/>
                </a:cubicBezTo>
                <a:cubicBezTo>
                  <a:pt x="10949" y="14598"/>
                  <a:pt x="10988" y="14684"/>
                  <a:pt x="10988" y="14684"/>
                </a:cubicBezTo>
                <a:cubicBezTo>
                  <a:pt x="11017" y="14707"/>
                  <a:pt x="11013" y="14706"/>
                  <a:pt x="11013" y="14759"/>
                </a:cubicBezTo>
                <a:cubicBezTo>
                  <a:pt x="11013" y="14823"/>
                  <a:pt x="11011" y="14808"/>
                  <a:pt x="11063" y="14808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5292720" y="256536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340240" y="2624040"/>
            <a:ext cx="554040" cy="330120"/>
          </a:xfrm>
          <a:custGeom>
            <a:avLst/>
            <a:gdLst/>
            <a:ahLst/>
            <a:rect l="l" t="t" r="r" b="b"/>
            <a:pathLst>
              <a:path w="1539" h="919">
                <a:moveTo>
                  <a:pt x="15304" y="7764"/>
                </a:moveTo>
                <a:cubicBezTo>
                  <a:pt x="15240" y="7764"/>
                  <a:pt x="15180" y="7751"/>
                  <a:pt x="15131" y="7789"/>
                </a:cubicBezTo>
                <a:cubicBezTo>
                  <a:pt x="15077" y="7831"/>
                  <a:pt x="15104" y="7807"/>
                  <a:pt x="15081" y="7863"/>
                </a:cubicBezTo>
                <a:cubicBezTo>
                  <a:pt x="15075" y="7877"/>
                  <a:pt x="15037" y="7911"/>
                  <a:pt x="15032" y="7938"/>
                </a:cubicBezTo>
                <a:cubicBezTo>
                  <a:pt x="15019" y="8006"/>
                  <a:pt x="14987" y="7981"/>
                  <a:pt x="14982" y="8062"/>
                </a:cubicBezTo>
                <a:cubicBezTo>
                  <a:pt x="14975" y="8174"/>
                  <a:pt x="14987" y="8286"/>
                  <a:pt x="15007" y="8384"/>
                </a:cubicBezTo>
                <a:cubicBezTo>
                  <a:pt x="15013" y="8415"/>
                  <a:pt x="15011" y="8462"/>
                  <a:pt x="15032" y="8483"/>
                </a:cubicBezTo>
                <a:cubicBezTo>
                  <a:pt x="15048" y="8499"/>
                  <a:pt x="15136" y="8529"/>
                  <a:pt x="15156" y="8533"/>
                </a:cubicBezTo>
                <a:cubicBezTo>
                  <a:pt x="15258" y="8554"/>
                  <a:pt x="15513" y="8563"/>
                  <a:pt x="15602" y="8508"/>
                </a:cubicBezTo>
                <a:cubicBezTo>
                  <a:pt x="15636" y="8487"/>
                  <a:pt x="15624" y="8485"/>
                  <a:pt x="15627" y="8434"/>
                </a:cubicBezTo>
                <a:cubicBezTo>
                  <a:pt x="15634" y="8318"/>
                  <a:pt x="15653" y="8133"/>
                  <a:pt x="15602" y="8037"/>
                </a:cubicBezTo>
                <a:cubicBezTo>
                  <a:pt x="15580" y="7997"/>
                  <a:pt x="15574" y="7973"/>
                  <a:pt x="15553" y="7938"/>
                </a:cubicBezTo>
                <a:cubicBezTo>
                  <a:pt x="15526" y="7892"/>
                  <a:pt x="15468" y="7859"/>
                  <a:pt x="15429" y="7838"/>
                </a:cubicBezTo>
                <a:cubicBezTo>
                  <a:pt x="15351" y="7796"/>
                  <a:pt x="15397" y="7794"/>
                  <a:pt x="15304" y="7789"/>
                </a:cubicBezTo>
                <a:cubicBezTo>
                  <a:pt x="15202" y="7783"/>
                  <a:pt x="14963" y="7750"/>
                  <a:pt x="14883" y="7813"/>
                </a:cubicBezTo>
                <a:cubicBezTo>
                  <a:pt x="14848" y="7841"/>
                  <a:pt x="14835" y="7919"/>
                  <a:pt x="14833" y="7962"/>
                </a:cubicBezTo>
                <a:cubicBezTo>
                  <a:pt x="14829" y="8045"/>
                  <a:pt x="14848" y="8110"/>
                  <a:pt x="14858" y="8186"/>
                </a:cubicBezTo>
                <a:cubicBezTo>
                  <a:pt x="14870" y="8282"/>
                  <a:pt x="14839" y="8376"/>
                  <a:pt x="14883" y="8458"/>
                </a:cubicBezTo>
                <a:cubicBezTo>
                  <a:pt x="14903" y="8495"/>
                  <a:pt x="14922" y="8523"/>
                  <a:pt x="14957" y="8558"/>
                </a:cubicBezTo>
                <a:cubicBezTo>
                  <a:pt x="14976" y="8577"/>
                  <a:pt x="15014" y="8599"/>
                  <a:pt x="15056" y="8607"/>
                </a:cubicBezTo>
                <a:cubicBezTo>
                  <a:pt x="15169" y="8630"/>
                  <a:pt x="15400" y="8627"/>
                  <a:pt x="15503" y="8582"/>
                </a:cubicBezTo>
                <a:cubicBezTo>
                  <a:pt x="15537" y="8567"/>
                  <a:pt x="15561" y="8543"/>
                  <a:pt x="15577" y="8533"/>
                </a:cubicBezTo>
                <a:cubicBezTo>
                  <a:pt x="15594" y="8522"/>
                  <a:pt x="15649" y="8493"/>
                  <a:pt x="15652" y="8483"/>
                </a:cubicBezTo>
                <a:cubicBezTo>
                  <a:pt x="15695" y="8335"/>
                  <a:pt x="15654" y="8073"/>
                  <a:pt x="15627" y="7938"/>
                </a:cubicBezTo>
                <a:cubicBezTo>
                  <a:pt x="15615" y="7877"/>
                  <a:pt x="15599" y="7840"/>
                  <a:pt x="15553" y="7789"/>
                </a:cubicBezTo>
                <a:cubicBezTo>
                  <a:pt x="15539" y="7774"/>
                  <a:pt x="15501" y="7756"/>
                  <a:pt x="15478" y="7739"/>
                </a:cubicBezTo>
                <a:cubicBezTo>
                  <a:pt x="15442" y="7712"/>
                  <a:pt x="15408" y="7695"/>
                  <a:pt x="15379" y="7689"/>
                </a:cubicBezTo>
                <a:cubicBezTo>
                  <a:pt x="15279" y="7669"/>
                  <a:pt x="15141" y="7702"/>
                  <a:pt x="15081" y="7714"/>
                </a:cubicBezTo>
                <a:cubicBezTo>
                  <a:pt x="15022" y="7726"/>
                  <a:pt x="15020" y="7725"/>
                  <a:pt x="15032" y="7689"/>
                </a:cubicBezTo>
              </a:path>
              <a:path w="1539" h="919">
                <a:moveTo>
                  <a:pt x="15429" y="7714"/>
                </a:moveTo>
                <a:cubicBezTo>
                  <a:pt x="15477" y="7744"/>
                  <a:pt x="15508" y="7744"/>
                  <a:pt x="15553" y="7789"/>
                </a:cubicBezTo>
                <a:cubicBezTo>
                  <a:pt x="15592" y="7828"/>
                  <a:pt x="15613" y="7866"/>
                  <a:pt x="15627" y="7913"/>
                </a:cubicBezTo>
                <a:cubicBezTo>
                  <a:pt x="15639" y="7952"/>
                  <a:pt x="15667" y="7972"/>
                  <a:pt x="15677" y="8012"/>
                </a:cubicBezTo>
                <a:cubicBezTo>
                  <a:pt x="15737" y="8012"/>
                  <a:pt x="15724" y="8001"/>
                  <a:pt x="15751" y="7962"/>
                </a:cubicBezTo>
                <a:cubicBezTo>
                  <a:pt x="15773" y="7929"/>
                  <a:pt x="15824" y="7890"/>
                  <a:pt x="15850" y="7863"/>
                </a:cubicBezTo>
              </a:path>
              <a:path w="1539" h="919">
                <a:moveTo>
                  <a:pt x="16024" y="7813"/>
                </a:moveTo>
                <a:cubicBezTo>
                  <a:pt x="16035" y="7858"/>
                  <a:pt x="16053" y="7877"/>
                  <a:pt x="16098" y="7888"/>
                </a:cubicBezTo>
                <a:cubicBezTo>
                  <a:pt x="16108" y="7928"/>
                  <a:pt x="16136" y="7950"/>
                  <a:pt x="16148" y="7987"/>
                </a:cubicBezTo>
                <a:cubicBezTo>
                  <a:pt x="16181" y="8086"/>
                  <a:pt x="16148" y="8254"/>
                  <a:pt x="16148" y="8359"/>
                </a:cubicBezTo>
                <a:cubicBezTo>
                  <a:pt x="16183" y="8332"/>
                  <a:pt x="16186" y="8342"/>
                  <a:pt x="16197" y="8310"/>
                </a:cubicBezTo>
                <a:cubicBezTo>
                  <a:pt x="16260" y="8310"/>
                  <a:pt x="16344" y="8325"/>
                  <a:pt x="16371" y="828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367240" y="2641680"/>
            <a:ext cx="312840" cy="349200"/>
          </a:xfrm>
          <a:custGeom>
            <a:avLst/>
            <a:gdLst/>
            <a:ahLst/>
            <a:rect l="l" t="t" r="r" b="b"/>
            <a:pathLst>
              <a:path w="869" h="968">
                <a:moveTo>
                  <a:pt x="15354" y="7739"/>
                </a:moveTo>
                <a:cubicBezTo>
                  <a:pt x="15354" y="8069"/>
                  <a:pt x="15354" y="9012"/>
                  <a:pt x="15354" y="8682"/>
                </a:cubicBezTo>
              </a:path>
              <a:path w="869" h="968">
                <a:moveTo>
                  <a:pt x="14908" y="8186"/>
                </a:moveTo>
                <a:cubicBezTo>
                  <a:pt x="15197" y="8186"/>
                  <a:pt x="15487" y="8186"/>
                  <a:pt x="15776" y="8186"/>
                </a:cubicBezTo>
              </a:path>
              <a:path w="869" h="968">
                <a:moveTo>
                  <a:pt x="15230" y="8582"/>
                </a:moveTo>
                <a:cubicBezTo>
                  <a:pt x="15230" y="8557"/>
                  <a:pt x="15230" y="8533"/>
                  <a:pt x="15230" y="8508"/>
                </a:cubicBezTo>
                <a:cubicBezTo>
                  <a:pt x="15268" y="8495"/>
                  <a:pt x="15255" y="8479"/>
                  <a:pt x="15255" y="8434"/>
                </a:cubicBezTo>
                <a:cubicBezTo>
                  <a:pt x="15255" y="8366"/>
                  <a:pt x="15263" y="8318"/>
                  <a:pt x="15280" y="8260"/>
                </a:cubicBezTo>
                <a:cubicBezTo>
                  <a:pt x="15292" y="8221"/>
                  <a:pt x="15280" y="8151"/>
                  <a:pt x="15280" y="8111"/>
                </a:cubicBezTo>
              </a:path>
              <a:path w="869" h="968">
                <a:moveTo>
                  <a:pt x="15453" y="8186"/>
                </a:moveTo>
                <a:cubicBezTo>
                  <a:pt x="15510" y="8154"/>
                  <a:pt x="15516" y="8145"/>
                  <a:pt x="15577" y="8136"/>
                </a:cubicBezTo>
                <a:cubicBezTo>
                  <a:pt x="15594" y="8068"/>
                  <a:pt x="15627" y="8116"/>
                  <a:pt x="15652" y="8086"/>
                </a:cubicBezTo>
                <a:cubicBezTo>
                  <a:pt x="15652" y="8078"/>
                  <a:pt x="15652" y="8070"/>
                  <a:pt x="15652" y="8062"/>
                </a:cubicBezTo>
              </a:path>
              <a:path w="869" h="968">
                <a:moveTo>
                  <a:pt x="15205" y="7838"/>
                </a:moveTo>
                <a:cubicBezTo>
                  <a:pt x="15253" y="7886"/>
                  <a:pt x="15255" y="7893"/>
                  <a:pt x="15255" y="7962"/>
                </a:cubicBezTo>
                <a:cubicBezTo>
                  <a:pt x="15255" y="7987"/>
                  <a:pt x="15255" y="7995"/>
                  <a:pt x="15255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3089160" y="2732040"/>
            <a:ext cx="285840" cy="115920"/>
          </a:xfrm>
          <a:custGeom>
            <a:avLst/>
            <a:gdLst/>
            <a:ahLst/>
            <a:rect l="l" t="t" r="r" b="b"/>
            <a:pathLst>
              <a:path w="795" h="323">
                <a:moveTo>
                  <a:pt x="8607" y="5011"/>
                </a:moveTo>
                <a:cubicBezTo>
                  <a:pt x="8607" y="5110"/>
                  <a:pt x="8607" y="5209"/>
                  <a:pt x="8607" y="5308"/>
                </a:cubicBezTo>
                <a:cubicBezTo>
                  <a:pt x="8632" y="5308"/>
                  <a:pt x="8640" y="5308"/>
                  <a:pt x="8657" y="5308"/>
                </a:cubicBezTo>
              </a:path>
              <a:path w="795" h="323">
                <a:moveTo>
                  <a:pt x="8607" y="5011"/>
                </a:moveTo>
                <a:lnTo>
                  <a:pt x="8607" y="5011"/>
                </a:lnTo>
              </a:path>
              <a:path w="795" h="323">
                <a:moveTo>
                  <a:pt x="8607" y="5011"/>
                </a:moveTo>
                <a:cubicBezTo>
                  <a:pt x="8607" y="5019"/>
                  <a:pt x="8607" y="5027"/>
                  <a:pt x="8607" y="5035"/>
                </a:cubicBezTo>
                <a:cubicBezTo>
                  <a:pt x="8569" y="5048"/>
                  <a:pt x="8582" y="5065"/>
                  <a:pt x="8582" y="5110"/>
                </a:cubicBezTo>
                <a:cubicBezTo>
                  <a:pt x="8582" y="5156"/>
                  <a:pt x="8559" y="5284"/>
                  <a:pt x="8607" y="5308"/>
                </a:cubicBezTo>
                <a:cubicBezTo>
                  <a:pt x="8615" y="5308"/>
                  <a:pt x="8624" y="5308"/>
                  <a:pt x="8632" y="5308"/>
                </a:cubicBezTo>
              </a:path>
              <a:path w="795" h="323">
                <a:moveTo>
                  <a:pt x="8632" y="4986"/>
                </a:moveTo>
                <a:cubicBezTo>
                  <a:pt x="8640" y="4986"/>
                  <a:pt x="8649" y="4986"/>
                  <a:pt x="8657" y="4986"/>
                </a:cubicBezTo>
                <a:cubicBezTo>
                  <a:pt x="8657" y="5052"/>
                  <a:pt x="8657" y="5118"/>
                  <a:pt x="8657" y="5184"/>
                </a:cubicBezTo>
                <a:cubicBezTo>
                  <a:pt x="8695" y="5197"/>
                  <a:pt x="8682" y="5214"/>
                  <a:pt x="8682" y="5259"/>
                </a:cubicBezTo>
                <a:cubicBezTo>
                  <a:pt x="8682" y="5283"/>
                  <a:pt x="8682" y="5292"/>
                  <a:pt x="8682" y="5308"/>
                </a:cubicBezTo>
              </a:path>
              <a:path w="795" h="323">
                <a:moveTo>
                  <a:pt x="8706" y="5060"/>
                </a:moveTo>
                <a:lnTo>
                  <a:pt x="8706" y="5060"/>
                </a:lnTo>
              </a:path>
              <a:path w="795" h="323">
                <a:moveTo>
                  <a:pt x="8582" y="5011"/>
                </a:moveTo>
                <a:cubicBezTo>
                  <a:pt x="8607" y="5011"/>
                  <a:pt x="8615" y="5011"/>
                  <a:pt x="8632" y="5011"/>
                </a:cubicBezTo>
                <a:cubicBezTo>
                  <a:pt x="8645" y="5047"/>
                  <a:pt x="8662" y="5035"/>
                  <a:pt x="8706" y="5035"/>
                </a:cubicBezTo>
                <a:cubicBezTo>
                  <a:pt x="8714" y="5035"/>
                  <a:pt x="8723" y="5035"/>
                  <a:pt x="8731" y="5035"/>
                </a:cubicBezTo>
                <a:cubicBezTo>
                  <a:pt x="8744" y="5073"/>
                  <a:pt x="8761" y="5060"/>
                  <a:pt x="8806" y="5060"/>
                </a:cubicBezTo>
                <a:cubicBezTo>
                  <a:pt x="8818" y="5098"/>
                  <a:pt x="8835" y="5085"/>
                  <a:pt x="8880" y="5085"/>
                </a:cubicBezTo>
                <a:cubicBezTo>
                  <a:pt x="8888" y="5085"/>
                  <a:pt x="8897" y="5085"/>
                  <a:pt x="8905" y="5085"/>
                </a:cubicBezTo>
                <a:cubicBezTo>
                  <a:pt x="8918" y="5123"/>
                  <a:pt x="8934" y="5110"/>
                  <a:pt x="8979" y="5110"/>
                </a:cubicBezTo>
                <a:cubicBezTo>
                  <a:pt x="8987" y="5110"/>
                  <a:pt x="8996" y="5110"/>
                  <a:pt x="9004" y="5110"/>
                </a:cubicBezTo>
              </a:path>
              <a:path w="795" h="323">
                <a:moveTo>
                  <a:pt x="8657" y="5011"/>
                </a:moveTo>
                <a:cubicBezTo>
                  <a:pt x="8690" y="5011"/>
                  <a:pt x="8723" y="5011"/>
                  <a:pt x="8756" y="5011"/>
                </a:cubicBezTo>
                <a:cubicBezTo>
                  <a:pt x="8769" y="5047"/>
                  <a:pt x="8786" y="5035"/>
                  <a:pt x="8830" y="5035"/>
                </a:cubicBezTo>
                <a:cubicBezTo>
                  <a:pt x="8887" y="5035"/>
                  <a:pt x="8908" y="5045"/>
                  <a:pt x="8954" y="5060"/>
                </a:cubicBezTo>
                <a:cubicBezTo>
                  <a:pt x="9000" y="5075"/>
                  <a:pt x="9013" y="5036"/>
                  <a:pt x="9029" y="5085"/>
                </a:cubicBezTo>
              </a:path>
              <a:path w="795" h="323">
                <a:moveTo>
                  <a:pt x="8657" y="4986"/>
                </a:moveTo>
                <a:cubicBezTo>
                  <a:pt x="8690" y="4986"/>
                  <a:pt x="8723" y="4986"/>
                  <a:pt x="8756" y="4986"/>
                </a:cubicBezTo>
                <a:cubicBezTo>
                  <a:pt x="8769" y="5024"/>
                  <a:pt x="8785" y="5011"/>
                  <a:pt x="8830" y="5011"/>
                </a:cubicBezTo>
                <a:cubicBezTo>
                  <a:pt x="8838" y="5011"/>
                  <a:pt x="8847" y="5011"/>
                  <a:pt x="8855" y="5011"/>
                </a:cubicBezTo>
                <a:cubicBezTo>
                  <a:pt x="8868" y="5047"/>
                  <a:pt x="8886" y="5035"/>
                  <a:pt x="8930" y="5035"/>
                </a:cubicBezTo>
                <a:cubicBezTo>
                  <a:pt x="8977" y="5035"/>
                  <a:pt x="9016" y="5020"/>
                  <a:pt x="9029" y="5060"/>
                </a:cubicBezTo>
              </a:path>
              <a:path w="795" h="323">
                <a:moveTo>
                  <a:pt x="8682" y="5011"/>
                </a:moveTo>
                <a:cubicBezTo>
                  <a:pt x="8706" y="5011"/>
                  <a:pt x="8715" y="5011"/>
                  <a:pt x="8731" y="5011"/>
                </a:cubicBezTo>
                <a:cubicBezTo>
                  <a:pt x="8744" y="5047"/>
                  <a:pt x="8762" y="5035"/>
                  <a:pt x="8806" y="5035"/>
                </a:cubicBezTo>
                <a:cubicBezTo>
                  <a:pt x="8851" y="5035"/>
                  <a:pt x="8865" y="5056"/>
                  <a:pt x="8905" y="5060"/>
                </a:cubicBezTo>
                <a:cubicBezTo>
                  <a:pt x="8952" y="5065"/>
                  <a:pt x="8964" y="5072"/>
                  <a:pt x="9004" y="5085"/>
                </a:cubicBezTo>
                <a:cubicBezTo>
                  <a:pt x="9041" y="5097"/>
                  <a:pt x="9060" y="5110"/>
                  <a:pt x="9103" y="5110"/>
                </a:cubicBezTo>
                <a:cubicBezTo>
                  <a:pt x="9144" y="5110"/>
                  <a:pt x="9186" y="5110"/>
                  <a:pt x="9227" y="5110"/>
                </a:cubicBezTo>
              </a:path>
              <a:path w="795" h="323">
                <a:moveTo>
                  <a:pt x="8756" y="5060"/>
                </a:moveTo>
                <a:cubicBezTo>
                  <a:pt x="8789" y="5060"/>
                  <a:pt x="8822" y="5060"/>
                  <a:pt x="8855" y="5060"/>
                </a:cubicBezTo>
                <a:cubicBezTo>
                  <a:pt x="8868" y="5022"/>
                  <a:pt x="8885" y="5035"/>
                  <a:pt x="8930" y="5035"/>
                </a:cubicBezTo>
                <a:cubicBezTo>
                  <a:pt x="8954" y="5035"/>
                  <a:pt x="8963" y="5035"/>
                  <a:pt x="8979" y="5035"/>
                </a:cubicBezTo>
              </a:path>
              <a:path w="795" h="323">
                <a:moveTo>
                  <a:pt x="8682" y="5011"/>
                </a:moveTo>
                <a:cubicBezTo>
                  <a:pt x="8814" y="5011"/>
                  <a:pt x="8947" y="5011"/>
                  <a:pt x="9079" y="5011"/>
                </a:cubicBezTo>
              </a:path>
              <a:path w="795" h="323">
                <a:moveTo>
                  <a:pt x="9153" y="4986"/>
                </a:moveTo>
                <a:cubicBezTo>
                  <a:pt x="9153" y="5085"/>
                  <a:pt x="9153" y="5184"/>
                  <a:pt x="9153" y="5283"/>
                </a:cubicBezTo>
              </a:path>
              <a:path w="795" h="323">
                <a:moveTo>
                  <a:pt x="9252" y="5035"/>
                </a:moveTo>
                <a:cubicBezTo>
                  <a:pt x="9260" y="5035"/>
                  <a:pt x="9269" y="5035"/>
                  <a:pt x="9277" y="5035"/>
                </a:cubicBezTo>
                <a:cubicBezTo>
                  <a:pt x="9277" y="5087"/>
                  <a:pt x="9277" y="5264"/>
                  <a:pt x="9277" y="5234"/>
                </a:cubicBezTo>
              </a:path>
              <a:path w="795" h="323">
                <a:moveTo>
                  <a:pt x="9302" y="5011"/>
                </a:moveTo>
                <a:lnTo>
                  <a:pt x="9302" y="5011"/>
                </a:lnTo>
              </a:path>
              <a:path w="795" h="323">
                <a:moveTo>
                  <a:pt x="9302" y="5234"/>
                </a:moveTo>
                <a:cubicBezTo>
                  <a:pt x="9329" y="5234"/>
                  <a:pt x="9346" y="5261"/>
                  <a:pt x="9376" y="52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3132000" y="2421000"/>
            <a:ext cx="723960" cy="401400"/>
          </a:xfrm>
          <a:custGeom>
            <a:avLst/>
            <a:gdLst/>
            <a:ahLst/>
            <a:rect l="l" t="t" r="r" b="b"/>
            <a:pathLst>
              <a:path w="2010" h="1117">
                <a:moveTo>
                  <a:pt x="8954" y="5234"/>
                </a:moveTo>
                <a:cubicBezTo>
                  <a:pt x="9037" y="5234"/>
                  <a:pt x="9120" y="5234"/>
                  <a:pt x="9203" y="5234"/>
                </a:cubicBezTo>
                <a:cubicBezTo>
                  <a:pt x="9160" y="5234"/>
                  <a:pt x="9137" y="5256"/>
                  <a:pt x="9128" y="5259"/>
                </a:cubicBezTo>
                <a:cubicBezTo>
                  <a:pt x="9088" y="5270"/>
                  <a:pt x="9013" y="5259"/>
                  <a:pt x="9054" y="5259"/>
                </a:cubicBezTo>
                <a:cubicBezTo>
                  <a:pt x="9062" y="5259"/>
                  <a:pt x="9071" y="5259"/>
                  <a:pt x="9079" y="5259"/>
                </a:cubicBezTo>
              </a:path>
              <a:path w="2010" h="1117">
                <a:moveTo>
                  <a:pt x="8731" y="5234"/>
                </a:moveTo>
                <a:cubicBezTo>
                  <a:pt x="8731" y="5226"/>
                  <a:pt x="8731" y="5217"/>
                  <a:pt x="8731" y="5209"/>
                </a:cubicBezTo>
              </a:path>
              <a:path w="2010" h="1117">
                <a:moveTo>
                  <a:pt x="9624" y="4291"/>
                </a:moveTo>
                <a:lnTo>
                  <a:pt x="9624" y="4291"/>
                </a:lnTo>
              </a:path>
              <a:path w="2010" h="1117">
                <a:moveTo>
                  <a:pt x="8657" y="5283"/>
                </a:moveTo>
                <a:cubicBezTo>
                  <a:pt x="8682" y="5283"/>
                  <a:pt x="8690" y="5283"/>
                  <a:pt x="8706" y="5283"/>
                </a:cubicBezTo>
                <a:cubicBezTo>
                  <a:pt x="8719" y="5247"/>
                  <a:pt x="8737" y="5259"/>
                  <a:pt x="8781" y="5259"/>
                </a:cubicBezTo>
                <a:cubicBezTo>
                  <a:pt x="8806" y="5259"/>
                  <a:pt x="8814" y="5259"/>
                  <a:pt x="8830" y="5259"/>
                </a:cubicBezTo>
                <a:cubicBezTo>
                  <a:pt x="8843" y="5221"/>
                  <a:pt x="8860" y="5234"/>
                  <a:pt x="8905" y="5234"/>
                </a:cubicBezTo>
                <a:cubicBezTo>
                  <a:pt x="8930" y="5234"/>
                  <a:pt x="8954" y="5234"/>
                  <a:pt x="8979" y="5234"/>
                </a:cubicBezTo>
                <a:cubicBezTo>
                  <a:pt x="8992" y="5196"/>
                  <a:pt x="9009" y="5209"/>
                  <a:pt x="9054" y="5209"/>
                </a:cubicBezTo>
                <a:cubicBezTo>
                  <a:pt x="9062" y="5209"/>
                  <a:pt x="9071" y="5209"/>
                  <a:pt x="9079" y="5209"/>
                </a:cubicBezTo>
              </a:path>
              <a:path w="2010" h="1117">
                <a:moveTo>
                  <a:pt x="8806" y="5234"/>
                </a:moveTo>
                <a:cubicBezTo>
                  <a:pt x="8963" y="5234"/>
                  <a:pt x="9120" y="5234"/>
                  <a:pt x="9277" y="5234"/>
                </a:cubicBezTo>
              </a:path>
              <a:path w="2010" h="1117">
                <a:moveTo>
                  <a:pt x="8855" y="5283"/>
                </a:moveTo>
                <a:cubicBezTo>
                  <a:pt x="8905" y="5283"/>
                  <a:pt x="8954" y="5283"/>
                  <a:pt x="9004" y="5283"/>
                </a:cubicBezTo>
                <a:cubicBezTo>
                  <a:pt x="9017" y="5247"/>
                  <a:pt x="9035" y="5259"/>
                  <a:pt x="9079" y="5259"/>
                </a:cubicBezTo>
                <a:cubicBezTo>
                  <a:pt x="9120" y="5259"/>
                  <a:pt x="9162" y="5259"/>
                  <a:pt x="9203" y="5259"/>
                </a:cubicBezTo>
              </a:path>
              <a:path w="2010" h="1117">
                <a:moveTo>
                  <a:pt x="9004" y="5234"/>
                </a:moveTo>
                <a:cubicBezTo>
                  <a:pt x="9061" y="5234"/>
                  <a:pt x="9188" y="5254"/>
                  <a:pt x="9203" y="5209"/>
                </a:cubicBezTo>
              </a:path>
              <a:path w="2010" h="1117">
                <a:moveTo>
                  <a:pt x="9302" y="5184"/>
                </a:moveTo>
                <a:cubicBezTo>
                  <a:pt x="9310" y="5184"/>
                  <a:pt x="9319" y="5184"/>
                  <a:pt x="9327" y="5184"/>
                </a:cubicBezTo>
                <a:cubicBezTo>
                  <a:pt x="9335" y="5134"/>
                  <a:pt x="9332" y="5161"/>
                  <a:pt x="9351" y="5135"/>
                </a:cubicBezTo>
                <a:cubicBezTo>
                  <a:pt x="9351" y="5110"/>
                  <a:pt x="9351" y="5085"/>
                  <a:pt x="9351" y="5060"/>
                </a:cubicBezTo>
                <a:cubicBezTo>
                  <a:pt x="9371" y="5034"/>
                  <a:pt x="9368" y="5061"/>
                  <a:pt x="9376" y="5011"/>
                </a:cubicBezTo>
                <a:cubicBezTo>
                  <a:pt x="9396" y="4985"/>
                  <a:pt x="9393" y="5012"/>
                  <a:pt x="9401" y="4961"/>
                </a:cubicBezTo>
                <a:cubicBezTo>
                  <a:pt x="9422" y="4946"/>
                  <a:pt x="9430" y="4951"/>
                  <a:pt x="9451" y="4936"/>
                </a:cubicBezTo>
                <a:cubicBezTo>
                  <a:pt x="9466" y="4915"/>
                  <a:pt x="9460" y="4908"/>
                  <a:pt x="9475" y="4887"/>
                </a:cubicBezTo>
                <a:cubicBezTo>
                  <a:pt x="9496" y="4872"/>
                  <a:pt x="9504" y="4877"/>
                  <a:pt x="9525" y="4862"/>
                </a:cubicBezTo>
                <a:cubicBezTo>
                  <a:pt x="9540" y="4841"/>
                  <a:pt x="9535" y="4833"/>
                  <a:pt x="9550" y="4812"/>
                </a:cubicBezTo>
                <a:cubicBezTo>
                  <a:pt x="9578" y="4796"/>
                  <a:pt x="9621" y="4778"/>
                  <a:pt x="9649" y="4762"/>
                </a:cubicBezTo>
                <a:cubicBezTo>
                  <a:pt x="9668" y="4743"/>
                  <a:pt x="9689" y="4732"/>
                  <a:pt x="9723" y="4713"/>
                </a:cubicBezTo>
                <a:cubicBezTo>
                  <a:pt x="9738" y="4704"/>
                  <a:pt x="9769" y="4702"/>
                  <a:pt x="9798" y="4688"/>
                </a:cubicBezTo>
                <a:cubicBezTo>
                  <a:pt x="9841" y="4666"/>
                  <a:pt x="9845" y="4666"/>
                  <a:pt x="9897" y="4663"/>
                </a:cubicBezTo>
                <a:cubicBezTo>
                  <a:pt x="9942" y="4661"/>
                  <a:pt x="9956" y="4645"/>
                  <a:pt x="9996" y="4638"/>
                </a:cubicBezTo>
                <a:cubicBezTo>
                  <a:pt x="10089" y="4622"/>
                  <a:pt x="10199" y="4638"/>
                  <a:pt x="10294" y="4638"/>
                </a:cubicBezTo>
                <a:cubicBezTo>
                  <a:pt x="10310" y="4659"/>
                  <a:pt x="10303" y="4667"/>
                  <a:pt x="10319" y="4688"/>
                </a:cubicBezTo>
                <a:cubicBezTo>
                  <a:pt x="10371" y="4697"/>
                  <a:pt x="10341" y="4692"/>
                  <a:pt x="10368" y="4713"/>
                </a:cubicBezTo>
                <a:cubicBezTo>
                  <a:pt x="10385" y="4730"/>
                  <a:pt x="10413" y="4746"/>
                  <a:pt x="10443" y="4762"/>
                </a:cubicBezTo>
                <a:cubicBezTo>
                  <a:pt x="10458" y="4783"/>
                  <a:pt x="10453" y="4791"/>
                  <a:pt x="10468" y="4812"/>
                </a:cubicBezTo>
                <a:cubicBezTo>
                  <a:pt x="10518" y="4820"/>
                  <a:pt x="10491" y="4817"/>
                  <a:pt x="10517" y="4837"/>
                </a:cubicBezTo>
                <a:cubicBezTo>
                  <a:pt x="10538" y="4852"/>
                  <a:pt x="10546" y="4847"/>
                  <a:pt x="10567" y="4862"/>
                </a:cubicBezTo>
                <a:cubicBezTo>
                  <a:pt x="10582" y="4882"/>
                  <a:pt x="10577" y="4891"/>
                  <a:pt x="10592" y="4911"/>
                </a:cubicBezTo>
                <a:cubicBezTo>
                  <a:pt x="10605" y="4934"/>
                  <a:pt x="10609" y="4937"/>
                  <a:pt x="10616" y="4986"/>
                </a:cubicBezTo>
                <a:cubicBezTo>
                  <a:pt x="10631" y="5010"/>
                  <a:pt x="10638" y="5008"/>
                  <a:pt x="10641" y="5060"/>
                </a:cubicBezTo>
                <a:cubicBezTo>
                  <a:pt x="10646" y="5142"/>
                  <a:pt x="10641" y="5226"/>
                  <a:pt x="10641" y="5308"/>
                </a:cubicBezTo>
                <a:cubicBezTo>
                  <a:pt x="10656" y="5332"/>
                  <a:pt x="10662" y="5331"/>
                  <a:pt x="10666" y="5383"/>
                </a:cubicBezTo>
                <a:cubicBezTo>
                  <a:pt x="10666" y="5391"/>
                  <a:pt x="10666" y="5399"/>
                  <a:pt x="10666" y="5407"/>
                </a:cubicBezTo>
              </a:path>
              <a:path w="2010" h="1117">
                <a:moveTo>
                  <a:pt x="8880" y="4862"/>
                </a:moveTo>
                <a:cubicBezTo>
                  <a:pt x="8930" y="4850"/>
                  <a:pt x="8926" y="4826"/>
                  <a:pt x="8954" y="4787"/>
                </a:cubicBezTo>
              </a:path>
              <a:path w="2010" h="1117">
                <a:moveTo>
                  <a:pt x="9054" y="4862"/>
                </a:moveTo>
                <a:cubicBezTo>
                  <a:pt x="9062" y="4862"/>
                  <a:pt x="9071" y="4862"/>
                  <a:pt x="9079" y="4862"/>
                </a:cubicBezTo>
              </a:path>
              <a:path w="2010" h="1117">
                <a:moveTo>
                  <a:pt x="9674" y="4638"/>
                </a:moveTo>
                <a:cubicBezTo>
                  <a:pt x="9699" y="4638"/>
                  <a:pt x="9707" y="4638"/>
                  <a:pt x="9723" y="46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3419640" y="256536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3463920" y="2498760"/>
            <a:ext cx="627120" cy="473040"/>
          </a:xfrm>
          <a:custGeom>
            <a:avLst/>
            <a:gdLst/>
            <a:ahLst/>
            <a:rect l="l" t="t" r="r" b="b"/>
            <a:pathLst>
              <a:path w="1738" h="1316">
                <a:moveTo>
                  <a:pt x="9624" y="7938"/>
                </a:moveTo>
                <a:cubicBezTo>
                  <a:pt x="9707" y="7956"/>
                  <a:pt x="9766" y="8005"/>
                  <a:pt x="9847" y="8037"/>
                </a:cubicBezTo>
                <a:cubicBezTo>
                  <a:pt x="9904" y="8059"/>
                  <a:pt x="9997" y="8073"/>
                  <a:pt x="10046" y="8111"/>
                </a:cubicBezTo>
                <a:cubicBezTo>
                  <a:pt x="10094" y="8148"/>
                  <a:pt x="10102" y="8189"/>
                  <a:pt x="10145" y="8210"/>
                </a:cubicBezTo>
              </a:path>
              <a:path w="1738" h="1316">
                <a:moveTo>
                  <a:pt x="10145" y="8210"/>
                </a:moveTo>
                <a:cubicBezTo>
                  <a:pt x="10145" y="8276"/>
                  <a:pt x="10137" y="8283"/>
                  <a:pt x="10120" y="8334"/>
                </a:cubicBezTo>
                <a:cubicBezTo>
                  <a:pt x="10107" y="8373"/>
                  <a:pt x="10108" y="8422"/>
                  <a:pt x="10096" y="8458"/>
                </a:cubicBezTo>
                <a:cubicBezTo>
                  <a:pt x="10083" y="8499"/>
                  <a:pt x="10084" y="8545"/>
                  <a:pt x="10071" y="8582"/>
                </a:cubicBezTo>
                <a:cubicBezTo>
                  <a:pt x="10068" y="8591"/>
                  <a:pt x="10071" y="8701"/>
                  <a:pt x="10071" y="8632"/>
                </a:cubicBezTo>
              </a:path>
              <a:path w="1738" h="1316">
                <a:moveTo>
                  <a:pt x="10120" y="8086"/>
                </a:moveTo>
                <a:cubicBezTo>
                  <a:pt x="10264" y="8086"/>
                  <a:pt x="10464" y="8104"/>
                  <a:pt x="10567" y="8062"/>
                </a:cubicBezTo>
                <a:cubicBezTo>
                  <a:pt x="10610" y="8044"/>
                  <a:pt x="10601" y="8085"/>
                  <a:pt x="10616" y="8037"/>
                </a:cubicBezTo>
              </a:path>
              <a:path w="1738" h="1316">
                <a:moveTo>
                  <a:pt x="10120" y="8210"/>
                </a:moveTo>
                <a:cubicBezTo>
                  <a:pt x="10120" y="8266"/>
                  <a:pt x="10111" y="8289"/>
                  <a:pt x="10096" y="8334"/>
                </a:cubicBezTo>
                <a:cubicBezTo>
                  <a:pt x="10083" y="8375"/>
                  <a:pt x="10084" y="8421"/>
                  <a:pt x="10071" y="8458"/>
                </a:cubicBezTo>
                <a:cubicBezTo>
                  <a:pt x="10071" y="8466"/>
                  <a:pt x="10071" y="8475"/>
                  <a:pt x="10071" y="8483"/>
                </a:cubicBezTo>
              </a:path>
              <a:path w="1738" h="1316">
                <a:moveTo>
                  <a:pt x="11286" y="8111"/>
                </a:moveTo>
                <a:cubicBezTo>
                  <a:pt x="11278" y="8111"/>
                  <a:pt x="11269" y="8111"/>
                  <a:pt x="11261" y="8111"/>
                </a:cubicBezTo>
              </a:path>
              <a:path w="1738" h="1316">
                <a:moveTo>
                  <a:pt x="10914" y="8111"/>
                </a:moveTo>
                <a:cubicBezTo>
                  <a:pt x="10914" y="8103"/>
                  <a:pt x="10914" y="8094"/>
                  <a:pt x="10914" y="8086"/>
                </a:cubicBezTo>
              </a:path>
              <a:path w="1738" h="1316">
                <a:moveTo>
                  <a:pt x="10815" y="7665"/>
                </a:moveTo>
                <a:lnTo>
                  <a:pt x="10815" y="7665"/>
                </a:lnTo>
              </a:path>
              <a:path w="1738" h="1316">
                <a:moveTo>
                  <a:pt x="10864" y="7367"/>
                </a:moveTo>
                <a:cubicBezTo>
                  <a:pt x="10892" y="7339"/>
                  <a:pt x="10906" y="7330"/>
                  <a:pt x="10939" y="7342"/>
                </a:cubicBezTo>
              </a:path>
              <a:path w="1738" h="1316">
                <a:moveTo>
                  <a:pt x="11361" y="7392"/>
                </a:moveTo>
                <a:lnTo>
                  <a:pt x="11361" y="7392"/>
                </a:lnTo>
              </a:path>
              <a:path w="1738" h="1316">
                <a:moveTo>
                  <a:pt x="11336" y="7590"/>
                </a:moveTo>
                <a:cubicBezTo>
                  <a:pt x="11336" y="7598"/>
                  <a:pt x="11336" y="7607"/>
                  <a:pt x="11336" y="7615"/>
                </a:cubicBezTo>
              </a:path>
              <a:path w="1738" h="1316">
                <a:moveTo>
                  <a:pt x="11311" y="7739"/>
                </a:moveTo>
                <a:cubicBezTo>
                  <a:pt x="11311" y="7764"/>
                  <a:pt x="11311" y="7772"/>
                  <a:pt x="11311" y="7789"/>
                </a:cubicBezTo>
              </a:path>
              <a:path w="1738" h="1316">
                <a:moveTo>
                  <a:pt x="11261" y="7913"/>
                </a:moveTo>
                <a:cubicBezTo>
                  <a:pt x="11269" y="7905"/>
                  <a:pt x="11278" y="7896"/>
                  <a:pt x="11286" y="7888"/>
                </a:cubicBezTo>
              </a:path>
              <a:path w="1738" h="1316">
                <a:moveTo>
                  <a:pt x="11187" y="7491"/>
                </a:moveTo>
                <a:cubicBezTo>
                  <a:pt x="11195" y="7499"/>
                  <a:pt x="11204" y="7508"/>
                  <a:pt x="11212" y="7516"/>
                </a:cubicBezTo>
              </a:path>
              <a:path w="1738" h="1316">
                <a:moveTo>
                  <a:pt x="11286" y="7739"/>
                </a:moveTo>
                <a:cubicBezTo>
                  <a:pt x="11294" y="7747"/>
                  <a:pt x="11303" y="7756"/>
                  <a:pt x="11311" y="77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3463920" y="2624040"/>
            <a:ext cx="314280" cy="339840"/>
          </a:xfrm>
          <a:custGeom>
            <a:avLst/>
            <a:gdLst/>
            <a:ahLst/>
            <a:rect l="l" t="t" r="r" b="b"/>
            <a:pathLst>
              <a:path w="869" h="944">
                <a:moveTo>
                  <a:pt x="10145" y="7689"/>
                </a:moveTo>
                <a:cubicBezTo>
                  <a:pt x="10185" y="7719"/>
                  <a:pt x="10223" y="7720"/>
                  <a:pt x="10244" y="7764"/>
                </a:cubicBezTo>
                <a:cubicBezTo>
                  <a:pt x="10282" y="7777"/>
                  <a:pt x="10265" y="7789"/>
                  <a:pt x="10319" y="7789"/>
                </a:cubicBezTo>
                <a:cubicBezTo>
                  <a:pt x="10319" y="7861"/>
                  <a:pt x="10352" y="7808"/>
                  <a:pt x="10368" y="7863"/>
                </a:cubicBezTo>
                <a:cubicBezTo>
                  <a:pt x="10383" y="7914"/>
                  <a:pt x="10378" y="7966"/>
                  <a:pt x="10393" y="8012"/>
                </a:cubicBezTo>
                <a:cubicBezTo>
                  <a:pt x="10399" y="8031"/>
                  <a:pt x="10393" y="8066"/>
                  <a:pt x="10393" y="8086"/>
                </a:cubicBezTo>
                <a:cubicBezTo>
                  <a:pt x="10433" y="8099"/>
                  <a:pt x="10403" y="8098"/>
                  <a:pt x="10443" y="8111"/>
                </a:cubicBezTo>
                <a:cubicBezTo>
                  <a:pt x="10443" y="8059"/>
                  <a:pt x="10448" y="8059"/>
                  <a:pt x="10418" y="8037"/>
                </a:cubicBezTo>
                <a:cubicBezTo>
                  <a:pt x="10389" y="8015"/>
                  <a:pt x="10375" y="7984"/>
                  <a:pt x="10368" y="7962"/>
                </a:cubicBezTo>
              </a:path>
              <a:path w="869" h="944">
                <a:moveTo>
                  <a:pt x="10294" y="7813"/>
                </a:moveTo>
                <a:cubicBezTo>
                  <a:pt x="10343" y="7820"/>
                  <a:pt x="10335" y="7820"/>
                  <a:pt x="10368" y="7838"/>
                </a:cubicBezTo>
                <a:cubicBezTo>
                  <a:pt x="10386" y="7848"/>
                  <a:pt x="10440" y="7879"/>
                  <a:pt x="10443" y="7888"/>
                </a:cubicBezTo>
                <a:cubicBezTo>
                  <a:pt x="10456" y="7934"/>
                  <a:pt x="10473" y="7944"/>
                  <a:pt x="10492" y="7987"/>
                </a:cubicBezTo>
                <a:cubicBezTo>
                  <a:pt x="10492" y="7995"/>
                  <a:pt x="10492" y="8004"/>
                  <a:pt x="10492" y="8012"/>
                </a:cubicBezTo>
                <a:cubicBezTo>
                  <a:pt x="10464" y="7983"/>
                  <a:pt x="10472" y="7990"/>
                  <a:pt x="10443" y="7962"/>
                </a:cubicBezTo>
                <a:cubicBezTo>
                  <a:pt x="10423" y="7942"/>
                  <a:pt x="10381" y="7916"/>
                  <a:pt x="10344" y="7888"/>
                </a:cubicBezTo>
                <a:cubicBezTo>
                  <a:pt x="10291" y="7848"/>
                  <a:pt x="10270" y="7861"/>
                  <a:pt x="10220" y="7838"/>
                </a:cubicBezTo>
                <a:cubicBezTo>
                  <a:pt x="10200" y="7829"/>
                  <a:pt x="10194" y="7816"/>
                  <a:pt x="10145" y="7813"/>
                </a:cubicBezTo>
                <a:cubicBezTo>
                  <a:pt x="10054" y="7808"/>
                  <a:pt x="9973" y="7823"/>
                  <a:pt x="9897" y="7838"/>
                </a:cubicBezTo>
                <a:cubicBezTo>
                  <a:pt x="9844" y="7849"/>
                  <a:pt x="9851" y="7840"/>
                  <a:pt x="9823" y="7863"/>
                </a:cubicBezTo>
                <a:cubicBezTo>
                  <a:pt x="9769" y="7906"/>
                  <a:pt x="9802" y="7890"/>
                  <a:pt x="9773" y="7938"/>
                </a:cubicBezTo>
                <a:cubicBezTo>
                  <a:pt x="9744" y="7986"/>
                  <a:pt x="9727" y="7978"/>
                  <a:pt x="9723" y="8037"/>
                </a:cubicBezTo>
                <a:cubicBezTo>
                  <a:pt x="9720" y="8091"/>
                  <a:pt x="9707" y="8071"/>
                  <a:pt x="9699" y="8111"/>
                </a:cubicBezTo>
                <a:cubicBezTo>
                  <a:pt x="9683" y="8196"/>
                  <a:pt x="9709" y="8287"/>
                  <a:pt x="9723" y="8359"/>
                </a:cubicBezTo>
                <a:cubicBezTo>
                  <a:pt x="9734" y="8415"/>
                  <a:pt x="9742" y="8410"/>
                  <a:pt x="9773" y="8458"/>
                </a:cubicBezTo>
                <a:cubicBezTo>
                  <a:pt x="9819" y="8529"/>
                  <a:pt x="9855" y="8529"/>
                  <a:pt x="9947" y="8533"/>
                </a:cubicBezTo>
                <a:cubicBezTo>
                  <a:pt x="10054" y="8538"/>
                  <a:pt x="10228" y="8564"/>
                  <a:pt x="10319" y="8508"/>
                </a:cubicBezTo>
                <a:cubicBezTo>
                  <a:pt x="10336" y="8498"/>
                  <a:pt x="10343" y="8459"/>
                  <a:pt x="10368" y="8434"/>
                </a:cubicBezTo>
                <a:cubicBezTo>
                  <a:pt x="10405" y="8397"/>
                  <a:pt x="10406" y="8396"/>
                  <a:pt x="10443" y="8359"/>
                </a:cubicBezTo>
                <a:cubicBezTo>
                  <a:pt x="10463" y="8339"/>
                  <a:pt x="10466" y="8325"/>
                  <a:pt x="10468" y="8285"/>
                </a:cubicBezTo>
                <a:cubicBezTo>
                  <a:pt x="10472" y="8225"/>
                  <a:pt x="10492" y="8075"/>
                  <a:pt x="10443" y="8037"/>
                </a:cubicBezTo>
                <a:cubicBezTo>
                  <a:pt x="10382" y="7990"/>
                  <a:pt x="10395" y="7977"/>
                  <a:pt x="10344" y="7938"/>
                </a:cubicBezTo>
                <a:cubicBezTo>
                  <a:pt x="10277" y="7886"/>
                  <a:pt x="10222" y="7865"/>
                  <a:pt x="10145" y="7838"/>
                </a:cubicBezTo>
                <a:cubicBezTo>
                  <a:pt x="10082" y="7816"/>
                  <a:pt x="10035" y="7792"/>
                  <a:pt x="9971" y="7789"/>
                </a:cubicBezTo>
                <a:cubicBezTo>
                  <a:pt x="9905" y="7785"/>
                  <a:pt x="9692" y="7758"/>
                  <a:pt x="9649" y="7813"/>
                </a:cubicBezTo>
                <a:cubicBezTo>
                  <a:pt x="9630" y="7838"/>
                  <a:pt x="9626" y="7878"/>
                  <a:pt x="9624" y="7913"/>
                </a:cubicBezTo>
                <a:cubicBezTo>
                  <a:pt x="9617" y="8026"/>
                  <a:pt x="9592" y="8235"/>
                  <a:pt x="9649" y="8334"/>
                </a:cubicBezTo>
                <a:cubicBezTo>
                  <a:pt x="9656" y="8347"/>
                  <a:pt x="9698" y="8374"/>
                  <a:pt x="9723" y="8384"/>
                </a:cubicBezTo>
                <a:cubicBezTo>
                  <a:pt x="9770" y="8403"/>
                  <a:pt x="9800" y="8413"/>
                  <a:pt x="9823" y="8434"/>
                </a:cubicBezTo>
                <a:cubicBezTo>
                  <a:pt x="9851" y="8459"/>
                  <a:pt x="9888" y="8486"/>
                  <a:pt x="9922" y="8508"/>
                </a:cubicBezTo>
                <a:cubicBezTo>
                  <a:pt x="9940" y="8520"/>
                  <a:pt x="9992" y="8551"/>
                  <a:pt x="10021" y="8582"/>
                </a:cubicBezTo>
                <a:cubicBezTo>
                  <a:pt x="10054" y="8582"/>
                  <a:pt x="10063" y="8590"/>
                  <a:pt x="10046" y="863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3132000" y="1916280"/>
            <a:ext cx="3251160" cy="1134720"/>
          </a:xfrm>
          <a:custGeom>
            <a:avLst/>
            <a:gdLst/>
            <a:ahLst/>
            <a:rect l="l" t="t" r="r" b="b"/>
            <a:pathLst>
              <a:path w="9030" h="3151">
                <a:moveTo>
                  <a:pt x="8930" y="7665"/>
                </a:moveTo>
                <a:cubicBezTo>
                  <a:pt x="8964" y="7630"/>
                  <a:pt x="8985" y="7601"/>
                  <a:pt x="9029" y="7590"/>
                </a:cubicBezTo>
                <a:cubicBezTo>
                  <a:pt x="9041" y="7555"/>
                  <a:pt x="9036" y="7565"/>
                  <a:pt x="9079" y="7565"/>
                </a:cubicBezTo>
                <a:cubicBezTo>
                  <a:pt x="9092" y="7526"/>
                  <a:pt x="9090" y="7556"/>
                  <a:pt x="9103" y="7516"/>
                </a:cubicBezTo>
                <a:cubicBezTo>
                  <a:pt x="9143" y="7503"/>
                  <a:pt x="9113" y="7504"/>
                  <a:pt x="9153" y="7491"/>
                </a:cubicBezTo>
                <a:cubicBezTo>
                  <a:pt x="9165" y="7456"/>
                  <a:pt x="9160" y="7466"/>
                  <a:pt x="9203" y="7466"/>
                </a:cubicBezTo>
                <a:cubicBezTo>
                  <a:pt x="9216" y="7426"/>
                  <a:pt x="9242" y="7440"/>
                  <a:pt x="9277" y="7417"/>
                </a:cubicBezTo>
                <a:cubicBezTo>
                  <a:pt x="9312" y="7394"/>
                  <a:pt x="9335" y="7377"/>
                  <a:pt x="9376" y="7367"/>
                </a:cubicBezTo>
                <a:cubicBezTo>
                  <a:pt x="9388" y="7332"/>
                  <a:pt x="9383" y="7342"/>
                  <a:pt x="9426" y="7342"/>
                </a:cubicBezTo>
                <a:cubicBezTo>
                  <a:pt x="9426" y="7317"/>
                  <a:pt x="9426" y="7309"/>
                  <a:pt x="9451" y="7317"/>
                </a:cubicBezTo>
              </a:path>
              <a:path w="9030" h="3151">
                <a:moveTo>
                  <a:pt x="8905" y="7590"/>
                </a:moveTo>
                <a:cubicBezTo>
                  <a:pt x="8927" y="7568"/>
                  <a:pt x="8932" y="7559"/>
                  <a:pt x="8954" y="7565"/>
                </a:cubicBezTo>
                <a:cubicBezTo>
                  <a:pt x="8969" y="7545"/>
                  <a:pt x="8964" y="7536"/>
                  <a:pt x="8979" y="7516"/>
                </a:cubicBezTo>
                <a:cubicBezTo>
                  <a:pt x="9021" y="7495"/>
                  <a:pt x="9061" y="7464"/>
                  <a:pt x="9103" y="7441"/>
                </a:cubicBezTo>
                <a:cubicBezTo>
                  <a:pt x="9123" y="7430"/>
                  <a:pt x="9157" y="7427"/>
                  <a:pt x="9178" y="7417"/>
                </a:cubicBezTo>
                <a:cubicBezTo>
                  <a:pt x="9192" y="7405"/>
                  <a:pt x="9218" y="7379"/>
                  <a:pt x="9252" y="7367"/>
                </a:cubicBezTo>
                <a:cubicBezTo>
                  <a:pt x="9260" y="7367"/>
                  <a:pt x="9269" y="7367"/>
                  <a:pt x="9277" y="7367"/>
                </a:cubicBezTo>
                <a:cubicBezTo>
                  <a:pt x="9289" y="7357"/>
                  <a:pt x="9319" y="7325"/>
                  <a:pt x="9351" y="7317"/>
                </a:cubicBezTo>
                <a:cubicBezTo>
                  <a:pt x="9376" y="7317"/>
                  <a:pt x="9384" y="7317"/>
                  <a:pt x="9401" y="7317"/>
                </a:cubicBezTo>
                <a:cubicBezTo>
                  <a:pt x="9410" y="7311"/>
                  <a:pt x="9443" y="7274"/>
                  <a:pt x="9451" y="7268"/>
                </a:cubicBezTo>
                <a:cubicBezTo>
                  <a:pt x="9476" y="7268"/>
                  <a:pt x="9500" y="7268"/>
                  <a:pt x="9525" y="7268"/>
                </a:cubicBezTo>
                <a:cubicBezTo>
                  <a:pt x="9549" y="7254"/>
                  <a:pt x="9547" y="7246"/>
                  <a:pt x="9599" y="7243"/>
                </a:cubicBezTo>
                <a:cubicBezTo>
                  <a:pt x="9624" y="7243"/>
                  <a:pt x="9632" y="7243"/>
                  <a:pt x="9649" y="7243"/>
                </a:cubicBezTo>
                <a:cubicBezTo>
                  <a:pt x="9673" y="7229"/>
                  <a:pt x="9671" y="7221"/>
                  <a:pt x="9723" y="7218"/>
                </a:cubicBezTo>
                <a:cubicBezTo>
                  <a:pt x="9772" y="7215"/>
                  <a:pt x="9823" y="7218"/>
                  <a:pt x="9872" y="7218"/>
                </a:cubicBezTo>
                <a:cubicBezTo>
                  <a:pt x="9896" y="7204"/>
                  <a:pt x="9894" y="7196"/>
                  <a:pt x="9947" y="7193"/>
                </a:cubicBezTo>
                <a:cubicBezTo>
                  <a:pt x="9988" y="7191"/>
                  <a:pt x="10015" y="7174"/>
                  <a:pt x="10046" y="7169"/>
                </a:cubicBezTo>
                <a:cubicBezTo>
                  <a:pt x="10119" y="7157"/>
                  <a:pt x="10206" y="7155"/>
                  <a:pt x="10269" y="7144"/>
                </a:cubicBezTo>
                <a:cubicBezTo>
                  <a:pt x="10334" y="7133"/>
                  <a:pt x="10413" y="7128"/>
                  <a:pt x="10468" y="7119"/>
                </a:cubicBezTo>
                <a:cubicBezTo>
                  <a:pt x="10509" y="7112"/>
                  <a:pt x="10560" y="7099"/>
                  <a:pt x="10592" y="7094"/>
                </a:cubicBezTo>
                <a:cubicBezTo>
                  <a:pt x="10616" y="7094"/>
                  <a:pt x="10625" y="7094"/>
                  <a:pt x="10641" y="7094"/>
                </a:cubicBezTo>
                <a:cubicBezTo>
                  <a:pt x="10662" y="7082"/>
                  <a:pt x="10676" y="7083"/>
                  <a:pt x="10716" y="7069"/>
                </a:cubicBezTo>
                <a:cubicBezTo>
                  <a:pt x="10756" y="7055"/>
                  <a:pt x="10766" y="7048"/>
                  <a:pt x="10815" y="7045"/>
                </a:cubicBezTo>
                <a:cubicBezTo>
                  <a:pt x="10840" y="7045"/>
                  <a:pt x="10848" y="7045"/>
                  <a:pt x="10864" y="7045"/>
                </a:cubicBezTo>
                <a:cubicBezTo>
                  <a:pt x="10890" y="7025"/>
                  <a:pt x="10863" y="7028"/>
                  <a:pt x="10914" y="7020"/>
                </a:cubicBezTo>
              </a:path>
              <a:path w="9030" h="3151">
                <a:moveTo>
                  <a:pt x="15230" y="6201"/>
                </a:moveTo>
                <a:cubicBezTo>
                  <a:pt x="15263" y="6201"/>
                  <a:pt x="15296" y="6201"/>
                  <a:pt x="15329" y="6201"/>
                </a:cubicBezTo>
                <a:cubicBezTo>
                  <a:pt x="15337" y="6205"/>
                  <a:pt x="15376" y="6243"/>
                  <a:pt x="15404" y="6251"/>
                </a:cubicBezTo>
                <a:cubicBezTo>
                  <a:pt x="15412" y="6251"/>
                  <a:pt x="15421" y="6251"/>
                  <a:pt x="15429" y="6251"/>
                </a:cubicBezTo>
                <a:cubicBezTo>
                  <a:pt x="15444" y="6264"/>
                  <a:pt x="15469" y="6306"/>
                  <a:pt x="15503" y="6325"/>
                </a:cubicBezTo>
                <a:cubicBezTo>
                  <a:pt x="15511" y="6325"/>
                  <a:pt x="15520" y="6325"/>
                  <a:pt x="15528" y="6325"/>
                </a:cubicBezTo>
                <a:cubicBezTo>
                  <a:pt x="15548" y="6343"/>
                  <a:pt x="15563" y="6358"/>
                  <a:pt x="15602" y="6375"/>
                </a:cubicBezTo>
                <a:cubicBezTo>
                  <a:pt x="15618" y="6406"/>
                  <a:pt x="15611" y="6394"/>
                  <a:pt x="15627" y="6424"/>
                </a:cubicBezTo>
                <a:cubicBezTo>
                  <a:pt x="15659" y="6440"/>
                  <a:pt x="15645" y="6433"/>
                  <a:pt x="15677" y="6449"/>
                </a:cubicBezTo>
                <a:cubicBezTo>
                  <a:pt x="15685" y="6465"/>
                  <a:pt x="15700" y="6498"/>
                  <a:pt x="15701" y="6499"/>
                </a:cubicBezTo>
                <a:cubicBezTo>
                  <a:pt x="15717" y="6530"/>
                  <a:pt x="15710" y="6518"/>
                  <a:pt x="15726" y="6548"/>
                </a:cubicBezTo>
                <a:cubicBezTo>
                  <a:pt x="15758" y="6564"/>
                  <a:pt x="15744" y="6557"/>
                  <a:pt x="15776" y="6573"/>
                </a:cubicBezTo>
                <a:cubicBezTo>
                  <a:pt x="15792" y="6605"/>
                  <a:pt x="15785" y="6591"/>
                  <a:pt x="15801" y="6623"/>
                </a:cubicBezTo>
                <a:cubicBezTo>
                  <a:pt x="15831" y="6639"/>
                  <a:pt x="15819" y="6632"/>
                  <a:pt x="15850" y="6648"/>
                </a:cubicBezTo>
                <a:cubicBezTo>
                  <a:pt x="15851" y="6649"/>
                  <a:pt x="15884" y="6664"/>
                  <a:pt x="15900" y="6672"/>
                </a:cubicBezTo>
                <a:cubicBezTo>
                  <a:pt x="15916" y="6704"/>
                  <a:pt x="15909" y="6690"/>
                  <a:pt x="15925" y="6722"/>
                </a:cubicBezTo>
                <a:cubicBezTo>
                  <a:pt x="15955" y="6738"/>
                  <a:pt x="15943" y="6731"/>
                  <a:pt x="15974" y="6747"/>
                </a:cubicBezTo>
                <a:cubicBezTo>
                  <a:pt x="15990" y="6778"/>
                  <a:pt x="15983" y="6766"/>
                  <a:pt x="15999" y="6796"/>
                </a:cubicBezTo>
                <a:cubicBezTo>
                  <a:pt x="16031" y="6807"/>
                  <a:pt x="16032" y="6806"/>
                  <a:pt x="16073" y="6821"/>
                </a:cubicBezTo>
                <a:cubicBezTo>
                  <a:pt x="16106" y="6833"/>
                  <a:pt x="16141" y="6836"/>
                  <a:pt x="16173" y="6846"/>
                </a:cubicBezTo>
                <a:cubicBezTo>
                  <a:pt x="16218" y="6859"/>
                  <a:pt x="16252" y="6860"/>
                  <a:pt x="16297" y="6871"/>
                </a:cubicBezTo>
                <a:cubicBezTo>
                  <a:pt x="16310" y="6875"/>
                  <a:pt x="16326" y="6894"/>
                  <a:pt x="16371" y="6896"/>
                </a:cubicBezTo>
                <a:cubicBezTo>
                  <a:pt x="16618" y="6905"/>
                  <a:pt x="16868" y="6896"/>
                  <a:pt x="17115" y="6896"/>
                </a:cubicBezTo>
                <a:cubicBezTo>
                  <a:pt x="17127" y="6931"/>
                  <a:pt x="17127" y="6962"/>
                  <a:pt x="17140" y="6995"/>
                </a:cubicBezTo>
                <a:cubicBezTo>
                  <a:pt x="17163" y="7018"/>
                  <a:pt x="17171" y="7022"/>
                  <a:pt x="17165" y="7045"/>
                </a:cubicBezTo>
                <a:cubicBezTo>
                  <a:pt x="17166" y="7047"/>
                  <a:pt x="17182" y="7078"/>
                  <a:pt x="17190" y="7094"/>
                </a:cubicBezTo>
                <a:cubicBezTo>
                  <a:pt x="17197" y="7110"/>
                  <a:pt x="17209" y="7125"/>
                  <a:pt x="17214" y="7169"/>
                </a:cubicBezTo>
                <a:cubicBezTo>
                  <a:pt x="17218" y="7182"/>
                  <a:pt x="17237" y="7199"/>
                  <a:pt x="17239" y="7243"/>
                </a:cubicBezTo>
                <a:cubicBezTo>
                  <a:pt x="17239" y="7268"/>
                  <a:pt x="17239" y="7276"/>
                  <a:pt x="17239" y="7293"/>
                </a:cubicBezTo>
                <a:cubicBezTo>
                  <a:pt x="17245" y="7308"/>
                  <a:pt x="17261" y="7322"/>
                  <a:pt x="17264" y="7367"/>
                </a:cubicBezTo>
                <a:cubicBezTo>
                  <a:pt x="17264" y="7375"/>
                  <a:pt x="17264" y="7384"/>
                  <a:pt x="17264" y="7392"/>
                </a:cubicBezTo>
                <a:cubicBezTo>
                  <a:pt x="17270" y="7407"/>
                  <a:pt x="17286" y="7421"/>
                  <a:pt x="17289" y="7466"/>
                </a:cubicBezTo>
                <a:cubicBezTo>
                  <a:pt x="17289" y="7474"/>
                  <a:pt x="17289" y="7483"/>
                  <a:pt x="17289" y="7491"/>
                </a:cubicBezTo>
                <a:cubicBezTo>
                  <a:pt x="17296" y="7508"/>
                  <a:pt x="17309" y="7520"/>
                  <a:pt x="17314" y="7565"/>
                </a:cubicBezTo>
                <a:cubicBezTo>
                  <a:pt x="17321" y="7581"/>
                  <a:pt x="17333" y="7596"/>
                  <a:pt x="17338" y="7640"/>
                </a:cubicBezTo>
                <a:cubicBezTo>
                  <a:pt x="17346" y="7658"/>
                  <a:pt x="17358" y="7668"/>
                  <a:pt x="17363" y="7714"/>
                </a:cubicBezTo>
                <a:cubicBezTo>
                  <a:pt x="17370" y="7731"/>
                  <a:pt x="17383" y="7743"/>
                  <a:pt x="17388" y="7789"/>
                </a:cubicBezTo>
                <a:cubicBezTo>
                  <a:pt x="17420" y="7805"/>
                  <a:pt x="17406" y="7797"/>
                  <a:pt x="17438" y="7813"/>
                </a:cubicBezTo>
                <a:cubicBezTo>
                  <a:pt x="17452" y="7829"/>
                  <a:pt x="17469" y="7867"/>
                  <a:pt x="17487" y="7888"/>
                </a:cubicBezTo>
                <a:cubicBezTo>
                  <a:pt x="17492" y="7903"/>
                  <a:pt x="17509" y="7918"/>
                  <a:pt x="17512" y="7962"/>
                </a:cubicBezTo>
                <a:cubicBezTo>
                  <a:pt x="17512" y="7970"/>
                  <a:pt x="17512" y="7979"/>
                  <a:pt x="17512" y="7987"/>
                </a:cubicBezTo>
                <a:cubicBezTo>
                  <a:pt x="17516" y="8000"/>
                  <a:pt x="17535" y="8018"/>
                  <a:pt x="17537" y="8062"/>
                </a:cubicBezTo>
                <a:cubicBezTo>
                  <a:pt x="17538" y="8087"/>
                  <a:pt x="17537" y="8111"/>
                  <a:pt x="17537" y="8136"/>
                </a:cubicBezTo>
                <a:cubicBezTo>
                  <a:pt x="17530" y="8153"/>
                  <a:pt x="17517" y="8165"/>
                  <a:pt x="17512" y="8210"/>
                </a:cubicBezTo>
                <a:cubicBezTo>
                  <a:pt x="17506" y="8219"/>
                  <a:pt x="17468" y="8251"/>
                  <a:pt x="17462" y="8260"/>
                </a:cubicBezTo>
              </a:path>
              <a:path w="9030" h="3151">
                <a:moveTo>
                  <a:pt x="12402" y="6648"/>
                </a:moveTo>
                <a:cubicBezTo>
                  <a:pt x="12427" y="6648"/>
                  <a:pt x="12435" y="6648"/>
                  <a:pt x="12452" y="6648"/>
                </a:cubicBezTo>
                <a:cubicBezTo>
                  <a:pt x="12467" y="6627"/>
                  <a:pt x="12462" y="6619"/>
                  <a:pt x="12477" y="6598"/>
                </a:cubicBezTo>
                <a:cubicBezTo>
                  <a:pt x="12497" y="6583"/>
                  <a:pt x="12506" y="6588"/>
                  <a:pt x="12526" y="6573"/>
                </a:cubicBezTo>
                <a:cubicBezTo>
                  <a:pt x="12552" y="6553"/>
                  <a:pt x="12525" y="6556"/>
                  <a:pt x="12576" y="6548"/>
                </a:cubicBezTo>
                <a:cubicBezTo>
                  <a:pt x="12601" y="6530"/>
                  <a:pt x="12577" y="6532"/>
                  <a:pt x="12626" y="6524"/>
                </a:cubicBezTo>
                <a:cubicBezTo>
                  <a:pt x="12651" y="6509"/>
                  <a:pt x="12649" y="6506"/>
                  <a:pt x="12700" y="6499"/>
                </a:cubicBezTo>
                <a:cubicBezTo>
                  <a:pt x="12726" y="6479"/>
                  <a:pt x="12699" y="6482"/>
                  <a:pt x="12750" y="6474"/>
                </a:cubicBezTo>
                <a:cubicBezTo>
                  <a:pt x="12769" y="6459"/>
                  <a:pt x="12789" y="6442"/>
                  <a:pt x="12824" y="6424"/>
                </a:cubicBezTo>
                <a:cubicBezTo>
                  <a:pt x="12847" y="6402"/>
                  <a:pt x="12852" y="6394"/>
                  <a:pt x="12874" y="6400"/>
                </a:cubicBezTo>
                <a:cubicBezTo>
                  <a:pt x="12890" y="6378"/>
                  <a:pt x="12882" y="6372"/>
                  <a:pt x="12898" y="6350"/>
                </a:cubicBezTo>
                <a:cubicBezTo>
                  <a:pt x="12923" y="6350"/>
                  <a:pt x="12948" y="6350"/>
                  <a:pt x="12973" y="6350"/>
                </a:cubicBezTo>
                <a:cubicBezTo>
                  <a:pt x="12994" y="6337"/>
                  <a:pt x="13007" y="6339"/>
                  <a:pt x="13047" y="6325"/>
                </a:cubicBezTo>
                <a:cubicBezTo>
                  <a:pt x="13086" y="6311"/>
                  <a:pt x="13133" y="6293"/>
                  <a:pt x="13171" y="6276"/>
                </a:cubicBezTo>
                <a:cubicBezTo>
                  <a:pt x="13204" y="6261"/>
                  <a:pt x="13236" y="6263"/>
                  <a:pt x="13271" y="6251"/>
                </a:cubicBezTo>
                <a:cubicBezTo>
                  <a:pt x="13308" y="6238"/>
                  <a:pt x="13327" y="6228"/>
                  <a:pt x="13370" y="6226"/>
                </a:cubicBezTo>
                <a:cubicBezTo>
                  <a:pt x="13394" y="6225"/>
                  <a:pt x="13420" y="6226"/>
                  <a:pt x="13444" y="6226"/>
                </a:cubicBezTo>
                <a:cubicBezTo>
                  <a:pt x="13468" y="6212"/>
                  <a:pt x="13466" y="6204"/>
                  <a:pt x="13519" y="6201"/>
                </a:cubicBezTo>
                <a:cubicBezTo>
                  <a:pt x="13863" y="6181"/>
                  <a:pt x="14215" y="6201"/>
                  <a:pt x="14560" y="6201"/>
                </a:cubicBezTo>
                <a:cubicBezTo>
                  <a:pt x="14584" y="6215"/>
                  <a:pt x="14582" y="6223"/>
                  <a:pt x="14635" y="6226"/>
                </a:cubicBezTo>
                <a:cubicBezTo>
                  <a:pt x="14691" y="6229"/>
                  <a:pt x="14739" y="6243"/>
                  <a:pt x="14784" y="6251"/>
                </a:cubicBezTo>
                <a:cubicBezTo>
                  <a:pt x="14846" y="6261"/>
                  <a:pt x="14919" y="6251"/>
                  <a:pt x="14982" y="6251"/>
                </a:cubicBezTo>
              </a:path>
              <a:path w="9030" h="3151">
                <a:moveTo>
                  <a:pt x="8632" y="8458"/>
                </a:moveTo>
                <a:cubicBezTo>
                  <a:pt x="8864" y="8458"/>
                  <a:pt x="9095" y="8458"/>
                  <a:pt x="9327" y="8458"/>
                </a:cubicBezTo>
                <a:cubicBezTo>
                  <a:pt x="9327" y="8360"/>
                  <a:pt x="9296" y="8188"/>
                  <a:pt x="9351" y="8111"/>
                </a:cubicBezTo>
              </a:path>
              <a:path w="9030" h="3151">
                <a:moveTo>
                  <a:pt x="8905" y="7590"/>
                </a:moveTo>
                <a:cubicBezTo>
                  <a:pt x="8938" y="7578"/>
                  <a:pt x="8972" y="7579"/>
                  <a:pt x="9004" y="7565"/>
                </a:cubicBezTo>
                <a:cubicBezTo>
                  <a:pt x="9035" y="7552"/>
                  <a:pt x="9075" y="7531"/>
                  <a:pt x="9103" y="7516"/>
                </a:cubicBezTo>
                <a:cubicBezTo>
                  <a:pt x="9139" y="7496"/>
                  <a:pt x="9165" y="7481"/>
                  <a:pt x="9203" y="7466"/>
                </a:cubicBezTo>
                <a:cubicBezTo>
                  <a:pt x="9236" y="7453"/>
                  <a:pt x="9235" y="7456"/>
                  <a:pt x="9277" y="7441"/>
                </a:cubicBezTo>
                <a:cubicBezTo>
                  <a:pt x="9319" y="7426"/>
                  <a:pt x="9357" y="7403"/>
                  <a:pt x="9401" y="7392"/>
                </a:cubicBezTo>
                <a:cubicBezTo>
                  <a:pt x="9438" y="7382"/>
                  <a:pt x="9465" y="7376"/>
                  <a:pt x="9500" y="7367"/>
                </a:cubicBezTo>
                <a:cubicBezTo>
                  <a:pt x="9532" y="7359"/>
                  <a:pt x="9543" y="7350"/>
                  <a:pt x="9575" y="7342"/>
                </a:cubicBezTo>
                <a:cubicBezTo>
                  <a:pt x="9607" y="7334"/>
                  <a:pt x="9617" y="7324"/>
                  <a:pt x="9649" y="7317"/>
                </a:cubicBezTo>
                <a:cubicBezTo>
                  <a:pt x="9679" y="7310"/>
                  <a:pt x="9746" y="7293"/>
                  <a:pt x="9748" y="7293"/>
                </a:cubicBezTo>
                <a:cubicBezTo>
                  <a:pt x="9780" y="7285"/>
                  <a:pt x="9791" y="7276"/>
                  <a:pt x="9823" y="7268"/>
                </a:cubicBezTo>
                <a:cubicBezTo>
                  <a:pt x="9857" y="7259"/>
                  <a:pt x="9943" y="7244"/>
                  <a:pt x="9947" y="7243"/>
                </a:cubicBezTo>
                <a:cubicBezTo>
                  <a:pt x="9986" y="7235"/>
                  <a:pt x="10010" y="7229"/>
                  <a:pt x="10046" y="7218"/>
                </a:cubicBezTo>
                <a:cubicBezTo>
                  <a:pt x="10077" y="7208"/>
                  <a:pt x="10088" y="7200"/>
                  <a:pt x="10120" y="7193"/>
                </a:cubicBezTo>
                <a:cubicBezTo>
                  <a:pt x="10159" y="7185"/>
                  <a:pt x="10183" y="7177"/>
                  <a:pt x="10220" y="7169"/>
                </a:cubicBezTo>
                <a:cubicBezTo>
                  <a:pt x="10290" y="7154"/>
                  <a:pt x="10378" y="7149"/>
                  <a:pt x="10443" y="7144"/>
                </a:cubicBezTo>
                <a:cubicBezTo>
                  <a:pt x="10572" y="7134"/>
                  <a:pt x="10748" y="7131"/>
                  <a:pt x="10840" y="7119"/>
                </a:cubicBezTo>
                <a:cubicBezTo>
                  <a:pt x="10913" y="7109"/>
                  <a:pt x="10971" y="7105"/>
                  <a:pt x="11038" y="7094"/>
                </a:cubicBezTo>
                <a:cubicBezTo>
                  <a:pt x="11075" y="7088"/>
                  <a:pt x="11158" y="7070"/>
                  <a:pt x="11162" y="7069"/>
                </a:cubicBezTo>
                <a:cubicBezTo>
                  <a:pt x="11197" y="7063"/>
                  <a:pt x="11256" y="7046"/>
                  <a:pt x="11261" y="7045"/>
                </a:cubicBezTo>
                <a:cubicBezTo>
                  <a:pt x="11310" y="7034"/>
                  <a:pt x="11299" y="7031"/>
                  <a:pt x="11336" y="7020"/>
                </a:cubicBezTo>
                <a:cubicBezTo>
                  <a:pt x="11376" y="7008"/>
                  <a:pt x="11422" y="7003"/>
                  <a:pt x="11460" y="6995"/>
                </a:cubicBezTo>
                <a:cubicBezTo>
                  <a:pt x="11496" y="6987"/>
                  <a:pt x="11520" y="6979"/>
                  <a:pt x="11559" y="6970"/>
                </a:cubicBezTo>
                <a:cubicBezTo>
                  <a:pt x="11606" y="6960"/>
                  <a:pt x="11598" y="6952"/>
                  <a:pt x="11633" y="6945"/>
                </a:cubicBezTo>
                <a:cubicBezTo>
                  <a:pt x="11736" y="6925"/>
                  <a:pt x="11812" y="6928"/>
                  <a:pt x="11906" y="6896"/>
                </a:cubicBezTo>
                <a:cubicBezTo>
                  <a:pt x="11939" y="6884"/>
                  <a:pt x="11938" y="6886"/>
                  <a:pt x="11981" y="6871"/>
                </a:cubicBezTo>
                <a:cubicBezTo>
                  <a:pt x="12011" y="6861"/>
                  <a:pt x="12016" y="6861"/>
                  <a:pt x="12055" y="6846"/>
                </a:cubicBezTo>
                <a:cubicBezTo>
                  <a:pt x="12088" y="6833"/>
                  <a:pt x="12087" y="6836"/>
                  <a:pt x="12129" y="6821"/>
                </a:cubicBezTo>
                <a:cubicBezTo>
                  <a:pt x="12145" y="6815"/>
                  <a:pt x="12178" y="6780"/>
                  <a:pt x="12204" y="6772"/>
                </a:cubicBezTo>
                <a:cubicBezTo>
                  <a:pt x="12248" y="6759"/>
                  <a:pt x="12245" y="6756"/>
                  <a:pt x="12278" y="6747"/>
                </a:cubicBezTo>
                <a:cubicBezTo>
                  <a:pt x="12303" y="6747"/>
                  <a:pt x="12311" y="6747"/>
                  <a:pt x="12328" y="6747"/>
                </a:cubicBezTo>
                <a:cubicBezTo>
                  <a:pt x="12352" y="6734"/>
                  <a:pt x="12328" y="6716"/>
                  <a:pt x="12378" y="6697"/>
                </a:cubicBezTo>
                <a:cubicBezTo>
                  <a:pt x="12408" y="6686"/>
                  <a:pt x="12414" y="6688"/>
                  <a:pt x="12452" y="6672"/>
                </a:cubicBezTo>
                <a:cubicBezTo>
                  <a:pt x="12486" y="6658"/>
                  <a:pt x="12499" y="6655"/>
                  <a:pt x="12526" y="6648"/>
                </a:cubicBezTo>
                <a:cubicBezTo>
                  <a:pt x="12571" y="6636"/>
                  <a:pt x="12566" y="6631"/>
                  <a:pt x="12601" y="6623"/>
                </a:cubicBezTo>
                <a:cubicBezTo>
                  <a:pt x="12635" y="6615"/>
                  <a:pt x="12666" y="6601"/>
                  <a:pt x="12675" y="6598"/>
                </a:cubicBezTo>
                <a:cubicBezTo>
                  <a:pt x="12697" y="6590"/>
                  <a:pt x="12750" y="6573"/>
                  <a:pt x="12750" y="6573"/>
                </a:cubicBezTo>
                <a:cubicBezTo>
                  <a:pt x="12793" y="6558"/>
                  <a:pt x="12791" y="6563"/>
                  <a:pt x="12824" y="6548"/>
                </a:cubicBezTo>
                <a:cubicBezTo>
                  <a:pt x="12856" y="6533"/>
                  <a:pt x="12891" y="6513"/>
                  <a:pt x="12923" y="6499"/>
                </a:cubicBezTo>
                <a:cubicBezTo>
                  <a:pt x="12952" y="6487"/>
                  <a:pt x="12995" y="6488"/>
                  <a:pt x="13022" y="6474"/>
                </a:cubicBezTo>
                <a:cubicBezTo>
                  <a:pt x="13042" y="6464"/>
                  <a:pt x="13069" y="6434"/>
                  <a:pt x="13097" y="6424"/>
                </a:cubicBezTo>
                <a:cubicBezTo>
                  <a:pt x="13123" y="6414"/>
                  <a:pt x="13172" y="6413"/>
                  <a:pt x="13196" y="6400"/>
                </a:cubicBezTo>
                <a:cubicBezTo>
                  <a:pt x="13216" y="6389"/>
                  <a:pt x="13243" y="6362"/>
                  <a:pt x="13271" y="6350"/>
                </a:cubicBezTo>
                <a:cubicBezTo>
                  <a:pt x="13304" y="6336"/>
                  <a:pt x="13302" y="6340"/>
                  <a:pt x="13345" y="6325"/>
                </a:cubicBezTo>
                <a:cubicBezTo>
                  <a:pt x="13382" y="6312"/>
                  <a:pt x="13371" y="6311"/>
                  <a:pt x="13419" y="6300"/>
                </a:cubicBezTo>
                <a:cubicBezTo>
                  <a:pt x="13472" y="6287"/>
                  <a:pt x="13532" y="6286"/>
                  <a:pt x="13593" y="6276"/>
                </a:cubicBezTo>
                <a:cubicBezTo>
                  <a:pt x="13645" y="6268"/>
                  <a:pt x="13703" y="6255"/>
                  <a:pt x="13767" y="6251"/>
                </a:cubicBezTo>
                <a:cubicBezTo>
                  <a:pt x="13913" y="6242"/>
                  <a:pt x="14051" y="6233"/>
                  <a:pt x="14188" y="6226"/>
                </a:cubicBezTo>
                <a:cubicBezTo>
                  <a:pt x="14272" y="6222"/>
                  <a:pt x="14416" y="6203"/>
                  <a:pt x="14461" y="6201"/>
                </a:cubicBezTo>
                <a:cubicBezTo>
                  <a:pt x="14702" y="6189"/>
                  <a:pt x="15005" y="6197"/>
                  <a:pt x="15205" y="6226"/>
                </a:cubicBezTo>
                <a:cubicBezTo>
                  <a:pt x="15255" y="6233"/>
                  <a:pt x="15287" y="6232"/>
                  <a:pt x="15329" y="6251"/>
                </a:cubicBezTo>
                <a:cubicBezTo>
                  <a:pt x="15358" y="6264"/>
                  <a:pt x="15368" y="6259"/>
                  <a:pt x="15404" y="6276"/>
                </a:cubicBezTo>
                <a:cubicBezTo>
                  <a:pt x="15409" y="6279"/>
                  <a:pt x="15457" y="6314"/>
                  <a:pt x="15478" y="6325"/>
                </a:cubicBezTo>
                <a:cubicBezTo>
                  <a:pt x="15517" y="6346"/>
                  <a:pt x="15527" y="6358"/>
                  <a:pt x="15553" y="6375"/>
                </a:cubicBezTo>
                <a:cubicBezTo>
                  <a:pt x="15571" y="6387"/>
                  <a:pt x="15606" y="6409"/>
                  <a:pt x="15627" y="6424"/>
                </a:cubicBezTo>
                <a:cubicBezTo>
                  <a:pt x="15641" y="6434"/>
                  <a:pt x="15669" y="6470"/>
                  <a:pt x="15677" y="6474"/>
                </a:cubicBezTo>
                <a:cubicBezTo>
                  <a:pt x="15711" y="6492"/>
                  <a:pt x="15723" y="6485"/>
                  <a:pt x="15751" y="6499"/>
                </a:cubicBezTo>
                <a:cubicBezTo>
                  <a:pt x="15782" y="6515"/>
                  <a:pt x="15786" y="6507"/>
                  <a:pt x="15825" y="6524"/>
                </a:cubicBezTo>
                <a:cubicBezTo>
                  <a:pt x="15852" y="6536"/>
                  <a:pt x="15867" y="6531"/>
                  <a:pt x="15900" y="6548"/>
                </a:cubicBezTo>
                <a:cubicBezTo>
                  <a:pt x="15909" y="6553"/>
                  <a:pt x="15947" y="6585"/>
                  <a:pt x="15974" y="6598"/>
                </a:cubicBezTo>
                <a:cubicBezTo>
                  <a:pt x="16012" y="6616"/>
                  <a:pt x="16019" y="6605"/>
                  <a:pt x="16049" y="6623"/>
                </a:cubicBezTo>
                <a:cubicBezTo>
                  <a:pt x="16089" y="6646"/>
                  <a:pt x="16094" y="6655"/>
                  <a:pt x="16123" y="6672"/>
                </a:cubicBezTo>
                <a:cubicBezTo>
                  <a:pt x="16149" y="6687"/>
                  <a:pt x="16161" y="6704"/>
                  <a:pt x="16197" y="6722"/>
                </a:cubicBezTo>
                <a:cubicBezTo>
                  <a:pt x="16228" y="6737"/>
                  <a:pt x="16233" y="6730"/>
                  <a:pt x="16272" y="6747"/>
                </a:cubicBezTo>
                <a:cubicBezTo>
                  <a:pt x="16279" y="6750"/>
                  <a:pt x="16318" y="6762"/>
                  <a:pt x="16346" y="6772"/>
                </a:cubicBezTo>
                <a:cubicBezTo>
                  <a:pt x="16393" y="6790"/>
                  <a:pt x="16439" y="6813"/>
                  <a:pt x="16470" y="6821"/>
                </a:cubicBezTo>
                <a:cubicBezTo>
                  <a:pt x="16502" y="6829"/>
                  <a:pt x="16513" y="6838"/>
                  <a:pt x="16545" y="6846"/>
                </a:cubicBezTo>
                <a:cubicBezTo>
                  <a:pt x="16593" y="6858"/>
                  <a:pt x="16620" y="6865"/>
                  <a:pt x="16669" y="6871"/>
                </a:cubicBezTo>
                <a:cubicBezTo>
                  <a:pt x="16794" y="6887"/>
                  <a:pt x="16860" y="6863"/>
                  <a:pt x="16966" y="6921"/>
                </a:cubicBezTo>
                <a:cubicBezTo>
                  <a:pt x="16999" y="6939"/>
                  <a:pt x="17039" y="6971"/>
                  <a:pt x="17066" y="6995"/>
                </a:cubicBezTo>
                <a:cubicBezTo>
                  <a:pt x="17081" y="7008"/>
                  <a:pt x="17100" y="7030"/>
                  <a:pt x="17115" y="7045"/>
                </a:cubicBezTo>
                <a:cubicBezTo>
                  <a:pt x="17136" y="7065"/>
                  <a:pt x="17121" y="7094"/>
                  <a:pt x="17140" y="7119"/>
                </a:cubicBezTo>
                <a:cubicBezTo>
                  <a:pt x="17153" y="7136"/>
                  <a:pt x="17174" y="7149"/>
                  <a:pt x="17190" y="7169"/>
                </a:cubicBezTo>
                <a:cubicBezTo>
                  <a:pt x="17208" y="7192"/>
                  <a:pt x="17223" y="7214"/>
                  <a:pt x="17239" y="7243"/>
                </a:cubicBezTo>
                <a:cubicBezTo>
                  <a:pt x="17256" y="7274"/>
                  <a:pt x="17247" y="7278"/>
                  <a:pt x="17264" y="7317"/>
                </a:cubicBezTo>
                <a:cubicBezTo>
                  <a:pt x="17272" y="7336"/>
                  <a:pt x="17306" y="7364"/>
                  <a:pt x="17314" y="7392"/>
                </a:cubicBezTo>
                <a:cubicBezTo>
                  <a:pt x="17326" y="7436"/>
                  <a:pt x="17329" y="7432"/>
                  <a:pt x="17338" y="7466"/>
                </a:cubicBezTo>
                <a:cubicBezTo>
                  <a:pt x="17350" y="7512"/>
                  <a:pt x="17350" y="7548"/>
                  <a:pt x="17363" y="7590"/>
                </a:cubicBezTo>
                <a:cubicBezTo>
                  <a:pt x="17377" y="7635"/>
                  <a:pt x="17370" y="7631"/>
                  <a:pt x="17388" y="7665"/>
                </a:cubicBezTo>
                <a:cubicBezTo>
                  <a:pt x="17407" y="7700"/>
                  <a:pt x="17393" y="7712"/>
                  <a:pt x="17413" y="7739"/>
                </a:cubicBezTo>
                <a:cubicBezTo>
                  <a:pt x="17427" y="7757"/>
                  <a:pt x="17446" y="7766"/>
                  <a:pt x="17462" y="7789"/>
                </a:cubicBezTo>
                <a:cubicBezTo>
                  <a:pt x="17478" y="7813"/>
                  <a:pt x="17498" y="7801"/>
                  <a:pt x="17512" y="7838"/>
                </a:cubicBezTo>
                <a:cubicBezTo>
                  <a:pt x="17516" y="7849"/>
                  <a:pt x="17530" y="7875"/>
                  <a:pt x="17537" y="7913"/>
                </a:cubicBezTo>
                <a:cubicBezTo>
                  <a:pt x="17551" y="7985"/>
                  <a:pt x="17532" y="8075"/>
                  <a:pt x="17512" y="8111"/>
                </a:cubicBezTo>
                <a:cubicBezTo>
                  <a:pt x="17495" y="8141"/>
                  <a:pt x="17513" y="8169"/>
                  <a:pt x="17487" y="8186"/>
                </a:cubicBezTo>
                <a:cubicBezTo>
                  <a:pt x="17452" y="8209"/>
                  <a:pt x="17306" y="8206"/>
                  <a:pt x="17264" y="8210"/>
                </a:cubicBezTo>
                <a:cubicBezTo>
                  <a:pt x="17029" y="8233"/>
                  <a:pt x="16371" y="8293"/>
                  <a:pt x="16222" y="8161"/>
                </a:cubicBezTo>
                <a:cubicBezTo>
                  <a:pt x="16197" y="8139"/>
                  <a:pt x="16215" y="8118"/>
                  <a:pt x="16197" y="8086"/>
                </a:cubicBezTo>
                <a:cubicBezTo>
                  <a:pt x="16190" y="8073"/>
                  <a:pt x="16186" y="8039"/>
                  <a:pt x="16173" y="8012"/>
                </a:cubicBezTo>
                <a:cubicBezTo>
                  <a:pt x="16166" y="7998"/>
                  <a:pt x="16159" y="7972"/>
                  <a:pt x="16148" y="7938"/>
                </a:cubicBezTo>
                <a:cubicBezTo>
                  <a:pt x="16142" y="7919"/>
                  <a:pt x="16138" y="7885"/>
                  <a:pt x="16123" y="7863"/>
                </a:cubicBezTo>
                <a:cubicBezTo>
                  <a:pt x="16115" y="7850"/>
                  <a:pt x="16086" y="7801"/>
                  <a:pt x="16073" y="7789"/>
                </a:cubicBezTo>
                <a:cubicBezTo>
                  <a:pt x="16057" y="7775"/>
                  <a:pt x="16016" y="7774"/>
                  <a:pt x="15999" y="7764"/>
                </a:cubicBezTo>
                <a:cubicBezTo>
                  <a:pt x="15969" y="7746"/>
                  <a:pt x="15963" y="7757"/>
                  <a:pt x="15925" y="7739"/>
                </a:cubicBezTo>
                <a:cubicBezTo>
                  <a:pt x="15914" y="7734"/>
                  <a:pt x="15882" y="7725"/>
                  <a:pt x="15850" y="7714"/>
                </a:cubicBezTo>
                <a:cubicBezTo>
                  <a:pt x="15814" y="7701"/>
                  <a:pt x="15822" y="7702"/>
                  <a:pt x="15776" y="7689"/>
                </a:cubicBezTo>
                <a:cubicBezTo>
                  <a:pt x="15741" y="7679"/>
                  <a:pt x="15710" y="7672"/>
                  <a:pt x="15677" y="7665"/>
                </a:cubicBezTo>
                <a:cubicBezTo>
                  <a:pt x="15639" y="7657"/>
                  <a:pt x="15612" y="7644"/>
                  <a:pt x="15577" y="7640"/>
                </a:cubicBezTo>
                <a:cubicBezTo>
                  <a:pt x="15513" y="7632"/>
                  <a:pt x="15381" y="7617"/>
                  <a:pt x="15354" y="7615"/>
                </a:cubicBezTo>
                <a:cubicBezTo>
                  <a:pt x="15304" y="7612"/>
                  <a:pt x="15187" y="7640"/>
                  <a:pt x="15180" y="7640"/>
                </a:cubicBezTo>
                <a:cubicBezTo>
                  <a:pt x="15148" y="7638"/>
                  <a:pt x="15099" y="7616"/>
                  <a:pt x="15081" y="7615"/>
                </a:cubicBezTo>
              </a:path>
              <a:path w="9030" h="3151">
                <a:moveTo>
                  <a:pt x="14412" y="8161"/>
                </a:moveTo>
                <a:cubicBezTo>
                  <a:pt x="14443" y="8138"/>
                  <a:pt x="14468" y="8130"/>
                  <a:pt x="14486" y="8086"/>
                </a:cubicBezTo>
                <a:cubicBezTo>
                  <a:pt x="14486" y="8078"/>
                  <a:pt x="14486" y="8070"/>
                  <a:pt x="14486" y="8062"/>
                </a:cubicBezTo>
                <a:cubicBezTo>
                  <a:pt x="14506" y="8036"/>
                  <a:pt x="14503" y="8063"/>
                  <a:pt x="14511" y="8012"/>
                </a:cubicBezTo>
                <a:cubicBezTo>
                  <a:pt x="14531" y="7986"/>
                  <a:pt x="14528" y="8013"/>
                  <a:pt x="14536" y="7962"/>
                </a:cubicBezTo>
                <a:cubicBezTo>
                  <a:pt x="14555" y="7936"/>
                  <a:pt x="14552" y="7963"/>
                  <a:pt x="14560" y="7913"/>
                </a:cubicBezTo>
                <a:cubicBezTo>
                  <a:pt x="14581" y="7898"/>
                  <a:pt x="14589" y="7904"/>
                  <a:pt x="14610" y="7888"/>
                </a:cubicBezTo>
                <a:cubicBezTo>
                  <a:pt x="14626" y="7860"/>
                  <a:pt x="14644" y="7817"/>
                  <a:pt x="14660" y="7789"/>
                </a:cubicBezTo>
                <a:cubicBezTo>
                  <a:pt x="14680" y="7774"/>
                  <a:pt x="14689" y="7779"/>
                  <a:pt x="14709" y="7764"/>
                </a:cubicBezTo>
                <a:cubicBezTo>
                  <a:pt x="14724" y="7743"/>
                  <a:pt x="14719" y="7735"/>
                  <a:pt x="14734" y="7714"/>
                </a:cubicBezTo>
                <a:cubicBezTo>
                  <a:pt x="14785" y="7706"/>
                  <a:pt x="14758" y="7709"/>
                  <a:pt x="14784" y="7689"/>
                </a:cubicBezTo>
                <a:cubicBezTo>
                  <a:pt x="14814" y="7671"/>
                  <a:pt x="14811" y="7669"/>
                  <a:pt x="14858" y="7665"/>
                </a:cubicBezTo>
                <a:cubicBezTo>
                  <a:pt x="14866" y="7665"/>
                  <a:pt x="14875" y="7665"/>
                  <a:pt x="14883" y="7665"/>
                </a:cubicBezTo>
                <a:cubicBezTo>
                  <a:pt x="14907" y="7650"/>
                  <a:pt x="14905" y="7644"/>
                  <a:pt x="14957" y="7640"/>
                </a:cubicBezTo>
                <a:cubicBezTo>
                  <a:pt x="14965" y="7640"/>
                  <a:pt x="14974" y="7640"/>
                  <a:pt x="14982" y="7640"/>
                </a:cubicBezTo>
                <a:cubicBezTo>
                  <a:pt x="15006" y="7626"/>
                  <a:pt x="15004" y="7618"/>
                  <a:pt x="15056" y="7615"/>
                </a:cubicBezTo>
                <a:cubicBezTo>
                  <a:pt x="15081" y="7615"/>
                  <a:pt x="15089" y="7615"/>
                  <a:pt x="15106" y="7615"/>
                </a:cubicBezTo>
                <a:cubicBezTo>
                  <a:pt x="15130" y="7601"/>
                  <a:pt x="15128" y="7593"/>
                  <a:pt x="15180" y="7590"/>
                </a:cubicBezTo>
                <a:cubicBezTo>
                  <a:pt x="15213" y="7588"/>
                  <a:pt x="15247" y="7590"/>
                  <a:pt x="15280" y="7590"/>
                </a:cubicBezTo>
                <a:cubicBezTo>
                  <a:pt x="15305" y="7575"/>
                  <a:pt x="15301" y="7568"/>
                  <a:pt x="15354" y="7565"/>
                </a:cubicBezTo>
                <a:cubicBezTo>
                  <a:pt x="15395" y="7563"/>
                  <a:pt x="15437" y="7565"/>
                  <a:pt x="15478" y="7565"/>
                </a:cubicBezTo>
                <a:cubicBezTo>
                  <a:pt x="15501" y="7552"/>
                  <a:pt x="15502" y="7544"/>
                  <a:pt x="15553" y="7541"/>
                </a:cubicBezTo>
                <a:cubicBezTo>
                  <a:pt x="15635" y="7536"/>
                  <a:pt x="15719" y="7541"/>
                  <a:pt x="15801" y="7541"/>
                </a:cubicBezTo>
              </a:path>
              <a:path w="9030" h="3151">
                <a:moveTo>
                  <a:pt x="10815" y="8434"/>
                </a:moveTo>
                <a:cubicBezTo>
                  <a:pt x="11228" y="8434"/>
                  <a:pt x="11642" y="8434"/>
                  <a:pt x="12055" y="8434"/>
                </a:cubicBezTo>
                <a:cubicBezTo>
                  <a:pt x="12079" y="8420"/>
                  <a:pt x="12077" y="8412"/>
                  <a:pt x="12129" y="8409"/>
                </a:cubicBezTo>
                <a:cubicBezTo>
                  <a:pt x="12178" y="8406"/>
                  <a:pt x="12229" y="8409"/>
                  <a:pt x="12278" y="8409"/>
                </a:cubicBezTo>
                <a:cubicBezTo>
                  <a:pt x="12302" y="8395"/>
                  <a:pt x="12300" y="8387"/>
                  <a:pt x="12353" y="8384"/>
                </a:cubicBezTo>
                <a:cubicBezTo>
                  <a:pt x="12410" y="8381"/>
                  <a:pt x="12469" y="8384"/>
                  <a:pt x="12526" y="8384"/>
                </a:cubicBezTo>
                <a:cubicBezTo>
                  <a:pt x="12550" y="8370"/>
                  <a:pt x="12548" y="8362"/>
                  <a:pt x="12601" y="8359"/>
                </a:cubicBezTo>
                <a:cubicBezTo>
                  <a:pt x="12806" y="8347"/>
                  <a:pt x="13016" y="8359"/>
                  <a:pt x="13221" y="8359"/>
                </a:cubicBezTo>
              </a:path>
              <a:path w="9030" h="3151">
                <a:moveTo>
                  <a:pt x="12254" y="8434"/>
                </a:moveTo>
                <a:cubicBezTo>
                  <a:pt x="12353" y="8434"/>
                  <a:pt x="12452" y="8434"/>
                  <a:pt x="12551" y="8434"/>
                </a:cubicBezTo>
                <a:cubicBezTo>
                  <a:pt x="12564" y="8396"/>
                  <a:pt x="12581" y="8409"/>
                  <a:pt x="12626" y="8409"/>
                </a:cubicBezTo>
                <a:cubicBezTo>
                  <a:pt x="12676" y="8409"/>
                  <a:pt x="12684" y="8398"/>
                  <a:pt x="12725" y="8384"/>
                </a:cubicBezTo>
                <a:cubicBezTo>
                  <a:pt x="12765" y="8371"/>
                  <a:pt x="12832" y="8384"/>
                  <a:pt x="12874" y="8384"/>
                </a:cubicBezTo>
                <a:cubicBezTo>
                  <a:pt x="12886" y="8346"/>
                  <a:pt x="12903" y="8359"/>
                  <a:pt x="12948" y="8359"/>
                </a:cubicBezTo>
                <a:cubicBezTo>
                  <a:pt x="13122" y="8359"/>
                  <a:pt x="13295" y="8359"/>
                  <a:pt x="13469" y="8359"/>
                </a:cubicBezTo>
              </a:path>
              <a:path w="9030" h="3151">
                <a:moveTo>
                  <a:pt x="12502" y="8384"/>
                </a:moveTo>
                <a:cubicBezTo>
                  <a:pt x="12562" y="8384"/>
                  <a:pt x="12603" y="8399"/>
                  <a:pt x="12650" y="8409"/>
                </a:cubicBezTo>
                <a:cubicBezTo>
                  <a:pt x="13165" y="8513"/>
                  <a:pt x="13811" y="8409"/>
                  <a:pt x="14337" y="8409"/>
                </a:cubicBezTo>
                <a:cubicBezTo>
                  <a:pt x="14356" y="8377"/>
                  <a:pt x="14355" y="8382"/>
                  <a:pt x="14362" y="8334"/>
                </a:cubicBezTo>
                <a:cubicBezTo>
                  <a:pt x="14377" y="8309"/>
                  <a:pt x="14380" y="8311"/>
                  <a:pt x="14387" y="8260"/>
                </a:cubicBezTo>
                <a:cubicBezTo>
                  <a:pt x="14403" y="8244"/>
                  <a:pt x="14420" y="8226"/>
                  <a:pt x="14436" y="8210"/>
                </a:cubicBezTo>
              </a:path>
              <a:path w="9030" h="3151">
                <a:moveTo>
                  <a:pt x="12626" y="6648"/>
                </a:moveTo>
                <a:cubicBezTo>
                  <a:pt x="12634" y="6648"/>
                  <a:pt x="12642" y="6648"/>
                  <a:pt x="12650" y="6648"/>
                </a:cubicBezTo>
                <a:cubicBezTo>
                  <a:pt x="12663" y="6608"/>
                  <a:pt x="12662" y="6638"/>
                  <a:pt x="12675" y="6598"/>
                </a:cubicBezTo>
                <a:cubicBezTo>
                  <a:pt x="12699" y="6590"/>
                  <a:pt x="12722" y="6566"/>
                  <a:pt x="12750" y="6548"/>
                </a:cubicBezTo>
                <a:cubicBezTo>
                  <a:pt x="12772" y="6526"/>
                  <a:pt x="12777" y="6518"/>
                  <a:pt x="12799" y="6524"/>
                </a:cubicBezTo>
                <a:cubicBezTo>
                  <a:pt x="12808" y="6487"/>
                  <a:pt x="12836" y="6462"/>
                  <a:pt x="12874" y="6449"/>
                </a:cubicBezTo>
                <a:cubicBezTo>
                  <a:pt x="12911" y="6436"/>
                  <a:pt x="12930" y="6424"/>
                  <a:pt x="12973" y="6424"/>
                </a:cubicBezTo>
                <a:cubicBezTo>
                  <a:pt x="12991" y="6372"/>
                  <a:pt x="13005" y="6424"/>
                  <a:pt x="13047" y="6400"/>
                </a:cubicBezTo>
                <a:cubicBezTo>
                  <a:pt x="13088" y="6377"/>
                  <a:pt x="13095" y="6375"/>
                  <a:pt x="13146" y="6375"/>
                </a:cubicBezTo>
                <a:cubicBezTo>
                  <a:pt x="13186" y="6375"/>
                  <a:pt x="13201" y="6350"/>
                  <a:pt x="13246" y="6350"/>
                </a:cubicBezTo>
              </a:path>
              <a:path w="9030" h="3151">
                <a:moveTo>
                  <a:pt x="12353" y="6796"/>
                </a:moveTo>
                <a:cubicBezTo>
                  <a:pt x="12361" y="6796"/>
                  <a:pt x="12370" y="6796"/>
                  <a:pt x="12378" y="6796"/>
                </a:cubicBezTo>
                <a:cubicBezTo>
                  <a:pt x="12391" y="6757"/>
                  <a:pt x="12389" y="6787"/>
                  <a:pt x="12402" y="6747"/>
                </a:cubicBezTo>
                <a:cubicBezTo>
                  <a:pt x="12445" y="6747"/>
                  <a:pt x="12440" y="6757"/>
                  <a:pt x="12452" y="6722"/>
                </a:cubicBezTo>
                <a:cubicBezTo>
                  <a:pt x="12495" y="6722"/>
                  <a:pt x="12490" y="6732"/>
                  <a:pt x="12502" y="6697"/>
                </a:cubicBezTo>
                <a:cubicBezTo>
                  <a:pt x="12544" y="6697"/>
                  <a:pt x="12539" y="6707"/>
                  <a:pt x="12551" y="6672"/>
                </a:cubicBezTo>
                <a:cubicBezTo>
                  <a:pt x="12591" y="6659"/>
                  <a:pt x="12561" y="6661"/>
                  <a:pt x="12601" y="6648"/>
                </a:cubicBezTo>
                <a:cubicBezTo>
                  <a:pt x="12613" y="6613"/>
                  <a:pt x="12608" y="6623"/>
                  <a:pt x="12650" y="6623"/>
                </a:cubicBezTo>
                <a:cubicBezTo>
                  <a:pt x="12663" y="6583"/>
                  <a:pt x="12662" y="6613"/>
                  <a:pt x="12675" y="6573"/>
                </a:cubicBezTo>
                <a:cubicBezTo>
                  <a:pt x="12729" y="6573"/>
                  <a:pt x="12712" y="6561"/>
                  <a:pt x="12750" y="6548"/>
                </a:cubicBezTo>
              </a:path>
              <a:path w="9030" h="3151">
                <a:moveTo>
                  <a:pt x="14412" y="6350"/>
                </a:moveTo>
                <a:cubicBezTo>
                  <a:pt x="14412" y="6482"/>
                  <a:pt x="14412" y="6615"/>
                  <a:pt x="14412" y="6747"/>
                </a:cubicBezTo>
                <a:cubicBezTo>
                  <a:pt x="14374" y="6760"/>
                  <a:pt x="14387" y="6776"/>
                  <a:pt x="14387" y="6821"/>
                </a:cubicBezTo>
                <a:cubicBezTo>
                  <a:pt x="14387" y="6864"/>
                  <a:pt x="14397" y="6859"/>
                  <a:pt x="14362" y="6871"/>
                </a:cubicBezTo>
              </a:path>
              <a:path w="9030" h="3151">
                <a:moveTo>
                  <a:pt x="14560" y="6350"/>
                </a:moveTo>
                <a:cubicBezTo>
                  <a:pt x="14568" y="6350"/>
                  <a:pt x="14577" y="6350"/>
                  <a:pt x="14585" y="6350"/>
                </a:cubicBezTo>
                <a:cubicBezTo>
                  <a:pt x="14585" y="6462"/>
                  <a:pt x="14593" y="6576"/>
                  <a:pt x="14560" y="6672"/>
                </a:cubicBezTo>
                <a:cubicBezTo>
                  <a:pt x="14547" y="6711"/>
                  <a:pt x="14560" y="6779"/>
                  <a:pt x="14560" y="6821"/>
                </a:cubicBezTo>
              </a:path>
              <a:path w="9030" h="3151">
                <a:moveTo>
                  <a:pt x="14734" y="6325"/>
                </a:moveTo>
                <a:cubicBezTo>
                  <a:pt x="14734" y="6507"/>
                  <a:pt x="14734" y="6689"/>
                  <a:pt x="14734" y="6871"/>
                </a:cubicBezTo>
                <a:cubicBezTo>
                  <a:pt x="14824" y="6871"/>
                  <a:pt x="14905" y="6870"/>
                  <a:pt x="14982" y="6896"/>
                </a:cubicBezTo>
                <a:cubicBezTo>
                  <a:pt x="15068" y="6925"/>
                  <a:pt x="15213" y="6896"/>
                  <a:pt x="15304" y="6896"/>
                </a:cubicBezTo>
              </a:path>
              <a:path w="9030" h="3151">
                <a:moveTo>
                  <a:pt x="14759" y="6400"/>
                </a:moveTo>
                <a:cubicBezTo>
                  <a:pt x="14850" y="6400"/>
                  <a:pt x="14941" y="6400"/>
                  <a:pt x="15032" y="6400"/>
                </a:cubicBezTo>
                <a:cubicBezTo>
                  <a:pt x="15045" y="6439"/>
                  <a:pt x="15043" y="6409"/>
                  <a:pt x="15056" y="6449"/>
                </a:cubicBezTo>
                <a:cubicBezTo>
                  <a:pt x="15096" y="6462"/>
                  <a:pt x="15066" y="6461"/>
                  <a:pt x="15106" y="6474"/>
                </a:cubicBezTo>
                <a:cubicBezTo>
                  <a:pt x="15106" y="6519"/>
                  <a:pt x="15121" y="6534"/>
                  <a:pt x="15131" y="6573"/>
                </a:cubicBezTo>
                <a:cubicBezTo>
                  <a:pt x="15166" y="6585"/>
                  <a:pt x="15156" y="6580"/>
                  <a:pt x="15156" y="6623"/>
                </a:cubicBezTo>
                <a:cubicBezTo>
                  <a:pt x="15187" y="6634"/>
                  <a:pt x="15195" y="6658"/>
                  <a:pt x="15205" y="6697"/>
                </a:cubicBezTo>
                <a:cubicBezTo>
                  <a:pt x="15240" y="6709"/>
                  <a:pt x="15230" y="6704"/>
                  <a:pt x="15230" y="6747"/>
                </a:cubicBezTo>
                <a:cubicBezTo>
                  <a:pt x="15268" y="6760"/>
                  <a:pt x="15251" y="6772"/>
                  <a:pt x="15304" y="6772"/>
                </a:cubicBezTo>
              </a:path>
              <a:path w="9030" h="3151">
                <a:moveTo>
                  <a:pt x="14511" y="6400"/>
                </a:moveTo>
                <a:cubicBezTo>
                  <a:pt x="14424" y="6400"/>
                  <a:pt x="14314" y="6414"/>
                  <a:pt x="14263" y="6424"/>
                </a:cubicBezTo>
                <a:cubicBezTo>
                  <a:pt x="14200" y="6436"/>
                  <a:pt x="14118" y="6440"/>
                  <a:pt x="14064" y="6449"/>
                </a:cubicBezTo>
                <a:cubicBezTo>
                  <a:pt x="14009" y="6458"/>
                  <a:pt x="13913" y="6470"/>
                  <a:pt x="13891" y="6474"/>
                </a:cubicBezTo>
                <a:cubicBezTo>
                  <a:pt x="13823" y="6488"/>
                  <a:pt x="13703" y="6492"/>
                  <a:pt x="13667" y="6499"/>
                </a:cubicBezTo>
                <a:cubicBezTo>
                  <a:pt x="13615" y="6510"/>
                  <a:pt x="13515" y="6520"/>
                  <a:pt x="13494" y="6524"/>
                </a:cubicBezTo>
                <a:cubicBezTo>
                  <a:pt x="13454" y="6532"/>
                  <a:pt x="13435" y="6540"/>
                  <a:pt x="13395" y="6548"/>
                </a:cubicBezTo>
                <a:cubicBezTo>
                  <a:pt x="13346" y="6558"/>
                  <a:pt x="13357" y="6566"/>
                  <a:pt x="13320" y="6573"/>
                </a:cubicBezTo>
                <a:cubicBezTo>
                  <a:pt x="13281" y="6581"/>
                  <a:pt x="13256" y="6583"/>
                  <a:pt x="13221" y="6598"/>
                </a:cubicBezTo>
                <a:cubicBezTo>
                  <a:pt x="13187" y="6613"/>
                  <a:pt x="13163" y="6621"/>
                  <a:pt x="13122" y="6623"/>
                </a:cubicBezTo>
                <a:cubicBezTo>
                  <a:pt x="13072" y="6626"/>
                  <a:pt x="13080" y="6631"/>
                  <a:pt x="13047" y="6648"/>
                </a:cubicBezTo>
                <a:cubicBezTo>
                  <a:pt x="13013" y="6666"/>
                  <a:pt x="12982" y="6673"/>
                  <a:pt x="12948" y="6697"/>
                </a:cubicBezTo>
                <a:cubicBezTo>
                  <a:pt x="12920" y="6717"/>
                  <a:pt x="12910" y="6704"/>
                  <a:pt x="12874" y="6722"/>
                </a:cubicBezTo>
                <a:cubicBezTo>
                  <a:pt x="12859" y="6730"/>
                  <a:pt x="12827" y="6771"/>
                  <a:pt x="12824" y="6772"/>
                </a:cubicBezTo>
                <a:cubicBezTo>
                  <a:pt x="12782" y="6784"/>
                  <a:pt x="12777" y="6774"/>
                  <a:pt x="12750" y="6796"/>
                </a:cubicBezTo>
                <a:cubicBezTo>
                  <a:pt x="12729" y="6812"/>
                  <a:pt x="12698" y="6828"/>
                  <a:pt x="12675" y="6846"/>
                </a:cubicBezTo>
                <a:cubicBezTo>
                  <a:pt x="12663" y="6855"/>
                  <a:pt x="12638" y="6884"/>
                  <a:pt x="12626" y="6896"/>
                </a:cubicBezTo>
                <a:cubicBezTo>
                  <a:pt x="12610" y="6912"/>
                  <a:pt x="12581" y="6941"/>
                  <a:pt x="12551" y="6970"/>
                </a:cubicBezTo>
                <a:cubicBezTo>
                  <a:pt x="12543" y="6978"/>
                  <a:pt x="12508" y="7016"/>
                  <a:pt x="12502" y="7020"/>
                </a:cubicBezTo>
                <a:cubicBezTo>
                  <a:pt x="12473" y="7039"/>
                  <a:pt x="12432" y="7031"/>
                  <a:pt x="12402" y="7045"/>
                </a:cubicBezTo>
                <a:cubicBezTo>
                  <a:pt x="12391" y="7050"/>
                  <a:pt x="12341" y="7083"/>
                  <a:pt x="12328" y="7094"/>
                </a:cubicBezTo>
                <a:cubicBezTo>
                  <a:pt x="12311" y="7108"/>
                  <a:pt x="12258" y="7116"/>
                  <a:pt x="12303" y="7119"/>
                </a:cubicBezTo>
                <a:cubicBezTo>
                  <a:pt x="12502" y="7133"/>
                  <a:pt x="12713" y="7113"/>
                  <a:pt x="12898" y="7144"/>
                </a:cubicBezTo>
                <a:cubicBezTo>
                  <a:pt x="12969" y="7156"/>
                  <a:pt x="13084" y="7161"/>
                  <a:pt x="13122" y="7169"/>
                </a:cubicBezTo>
                <a:cubicBezTo>
                  <a:pt x="13173" y="7179"/>
                  <a:pt x="13274" y="7189"/>
                  <a:pt x="13295" y="7193"/>
                </a:cubicBezTo>
                <a:cubicBezTo>
                  <a:pt x="13356" y="7205"/>
                  <a:pt x="13465" y="7212"/>
                  <a:pt x="13494" y="7218"/>
                </a:cubicBezTo>
                <a:cubicBezTo>
                  <a:pt x="13570" y="7233"/>
                  <a:pt x="13796" y="7218"/>
                  <a:pt x="13791" y="7218"/>
                </a:cubicBezTo>
                <a:cubicBezTo>
                  <a:pt x="13766" y="7218"/>
                  <a:pt x="13742" y="7218"/>
                  <a:pt x="13717" y="7218"/>
                </a:cubicBezTo>
              </a:path>
              <a:path w="9030" h="3151">
                <a:moveTo>
                  <a:pt x="12849" y="7169"/>
                </a:moveTo>
                <a:cubicBezTo>
                  <a:pt x="13262" y="7169"/>
                  <a:pt x="13676" y="7169"/>
                  <a:pt x="14089" y="7169"/>
                </a:cubicBezTo>
                <a:cubicBezTo>
                  <a:pt x="14064" y="7169"/>
                  <a:pt x="14056" y="7169"/>
                  <a:pt x="14039" y="7169"/>
                </a:cubicBezTo>
              </a:path>
              <a:path w="9030" h="3151">
                <a:moveTo>
                  <a:pt x="12898" y="7169"/>
                </a:moveTo>
                <a:cubicBezTo>
                  <a:pt x="13287" y="7169"/>
                  <a:pt x="13675" y="7169"/>
                  <a:pt x="14064" y="7169"/>
                </a:cubicBezTo>
                <a:cubicBezTo>
                  <a:pt x="14023" y="7169"/>
                  <a:pt x="13981" y="7169"/>
                  <a:pt x="13940" y="7169"/>
                </a:cubicBezTo>
              </a:path>
              <a:path w="9030" h="3151">
                <a:moveTo>
                  <a:pt x="12849" y="7144"/>
                </a:moveTo>
                <a:cubicBezTo>
                  <a:pt x="12946" y="7144"/>
                  <a:pt x="13031" y="7154"/>
                  <a:pt x="13122" y="7169"/>
                </a:cubicBezTo>
                <a:cubicBezTo>
                  <a:pt x="13325" y="7203"/>
                  <a:pt x="13602" y="7176"/>
                  <a:pt x="13791" y="7144"/>
                </a:cubicBezTo>
                <a:cubicBezTo>
                  <a:pt x="14000" y="7109"/>
                  <a:pt x="14238" y="7152"/>
                  <a:pt x="14436" y="7119"/>
                </a:cubicBezTo>
                <a:cubicBezTo>
                  <a:pt x="14483" y="7111"/>
                  <a:pt x="14538" y="7119"/>
                  <a:pt x="14585" y="7119"/>
                </a:cubicBezTo>
                <a:cubicBezTo>
                  <a:pt x="14609" y="7105"/>
                  <a:pt x="14607" y="7097"/>
                  <a:pt x="14660" y="7094"/>
                </a:cubicBezTo>
                <a:cubicBezTo>
                  <a:pt x="14775" y="7087"/>
                  <a:pt x="14892" y="7094"/>
                  <a:pt x="15007" y="7094"/>
                </a:cubicBezTo>
                <a:cubicBezTo>
                  <a:pt x="15031" y="7079"/>
                  <a:pt x="15029" y="7072"/>
                  <a:pt x="15081" y="7069"/>
                </a:cubicBezTo>
                <a:cubicBezTo>
                  <a:pt x="15106" y="7068"/>
                  <a:pt x="15131" y="7069"/>
                  <a:pt x="15156" y="7069"/>
                </a:cubicBezTo>
              </a:path>
              <a:path w="9030" h="3151">
                <a:moveTo>
                  <a:pt x="13990" y="7119"/>
                </a:moveTo>
                <a:cubicBezTo>
                  <a:pt x="14043" y="7119"/>
                  <a:pt x="14063" y="7135"/>
                  <a:pt x="14114" y="7144"/>
                </a:cubicBezTo>
                <a:cubicBezTo>
                  <a:pt x="14304" y="7178"/>
                  <a:pt x="14540" y="7144"/>
                  <a:pt x="14734" y="7144"/>
                </a:cubicBezTo>
                <a:cubicBezTo>
                  <a:pt x="14747" y="7106"/>
                  <a:pt x="14763" y="7119"/>
                  <a:pt x="14808" y="7119"/>
                </a:cubicBezTo>
                <a:cubicBezTo>
                  <a:pt x="15015" y="7119"/>
                  <a:pt x="15222" y="7119"/>
                  <a:pt x="15429" y="7119"/>
                </a:cubicBezTo>
              </a:path>
              <a:path w="9030" h="3151">
                <a:moveTo>
                  <a:pt x="15354" y="6871"/>
                </a:moveTo>
                <a:cubicBezTo>
                  <a:pt x="15354" y="6896"/>
                  <a:pt x="15354" y="6904"/>
                  <a:pt x="15354" y="6921"/>
                </a:cubicBezTo>
                <a:cubicBezTo>
                  <a:pt x="15394" y="6934"/>
                  <a:pt x="15364" y="6932"/>
                  <a:pt x="15404" y="6945"/>
                </a:cubicBezTo>
                <a:cubicBezTo>
                  <a:pt x="15404" y="6999"/>
                  <a:pt x="15416" y="6982"/>
                  <a:pt x="15429" y="7020"/>
                </a:cubicBezTo>
              </a:path>
              <a:path w="9030" h="3151">
                <a:moveTo>
                  <a:pt x="12328" y="7193"/>
                </a:moveTo>
                <a:cubicBezTo>
                  <a:pt x="12413" y="7193"/>
                  <a:pt x="13022" y="7241"/>
                  <a:pt x="13047" y="7169"/>
                </a:cubicBezTo>
              </a:path>
              <a:path w="9030" h="3151">
                <a:moveTo>
                  <a:pt x="15056" y="6474"/>
                </a:moveTo>
                <a:cubicBezTo>
                  <a:pt x="15056" y="6482"/>
                  <a:pt x="15056" y="6491"/>
                  <a:pt x="15056" y="6499"/>
                </a:cubicBezTo>
                <a:cubicBezTo>
                  <a:pt x="15095" y="6509"/>
                  <a:pt x="15119" y="6536"/>
                  <a:pt x="15156" y="6548"/>
                </a:cubicBezTo>
                <a:cubicBezTo>
                  <a:pt x="15204" y="6564"/>
                  <a:pt x="15215" y="6537"/>
                  <a:pt x="15230" y="6598"/>
                </a:cubicBezTo>
                <a:cubicBezTo>
                  <a:pt x="15270" y="6611"/>
                  <a:pt x="15240" y="6610"/>
                  <a:pt x="15280" y="6623"/>
                </a:cubicBezTo>
                <a:cubicBezTo>
                  <a:pt x="15289" y="6650"/>
                  <a:pt x="15297" y="6668"/>
                  <a:pt x="15329" y="6672"/>
                </a:cubicBezTo>
                <a:cubicBezTo>
                  <a:pt x="15354" y="6672"/>
                  <a:pt x="15362" y="6672"/>
                  <a:pt x="15379" y="6672"/>
                </a:cubicBezTo>
                <a:cubicBezTo>
                  <a:pt x="15392" y="6712"/>
                  <a:pt x="15391" y="6682"/>
                  <a:pt x="15404" y="6722"/>
                </a:cubicBezTo>
                <a:cubicBezTo>
                  <a:pt x="15436" y="6733"/>
                  <a:pt x="15443" y="6740"/>
                  <a:pt x="15453" y="6772"/>
                </a:cubicBezTo>
                <a:cubicBezTo>
                  <a:pt x="15500" y="6787"/>
                  <a:pt x="15456" y="6805"/>
                  <a:pt x="15503" y="6821"/>
                </a:cubicBezTo>
                <a:cubicBezTo>
                  <a:pt x="15516" y="6861"/>
                  <a:pt x="15515" y="6831"/>
                  <a:pt x="15528" y="6871"/>
                </a:cubicBezTo>
                <a:cubicBezTo>
                  <a:pt x="15560" y="6882"/>
                  <a:pt x="15567" y="6889"/>
                  <a:pt x="15577" y="6921"/>
                </a:cubicBezTo>
                <a:cubicBezTo>
                  <a:pt x="15609" y="6931"/>
                  <a:pt x="15616" y="6938"/>
                  <a:pt x="15627" y="6970"/>
                </a:cubicBezTo>
                <a:cubicBezTo>
                  <a:pt x="15665" y="6983"/>
                  <a:pt x="15652" y="7000"/>
                  <a:pt x="15652" y="7045"/>
                </a:cubicBezTo>
                <a:cubicBezTo>
                  <a:pt x="15652" y="7053"/>
                  <a:pt x="15652" y="7061"/>
                  <a:pt x="15652" y="7069"/>
                </a:cubicBezTo>
                <a:cubicBezTo>
                  <a:pt x="15609" y="7069"/>
                  <a:pt x="15614" y="7059"/>
                  <a:pt x="15602" y="7094"/>
                </a:cubicBezTo>
                <a:cubicBezTo>
                  <a:pt x="15527" y="7094"/>
                  <a:pt x="15467" y="7106"/>
                  <a:pt x="15404" y="7119"/>
                </a:cubicBezTo>
                <a:cubicBezTo>
                  <a:pt x="15355" y="7130"/>
                  <a:pt x="15307" y="7144"/>
                  <a:pt x="15255" y="7144"/>
                </a:cubicBezTo>
                <a:cubicBezTo>
                  <a:pt x="15247" y="7144"/>
                  <a:pt x="15238" y="7144"/>
                  <a:pt x="15230" y="7144"/>
                </a:cubicBezTo>
              </a:path>
              <a:path w="9030" h="3151">
                <a:moveTo>
                  <a:pt x="14808" y="7045"/>
                </a:moveTo>
                <a:cubicBezTo>
                  <a:pt x="14808" y="7037"/>
                  <a:pt x="14808" y="7028"/>
                  <a:pt x="14808" y="7020"/>
                </a:cubicBezTo>
                <a:cubicBezTo>
                  <a:pt x="14866" y="7001"/>
                  <a:pt x="14798" y="6973"/>
                  <a:pt x="14833" y="6945"/>
                </a:cubicBezTo>
                <a:cubicBezTo>
                  <a:pt x="14841" y="6945"/>
                  <a:pt x="14850" y="6945"/>
                  <a:pt x="14858" y="6945"/>
                </a:cubicBezTo>
              </a:path>
              <a:path w="9030" h="3151">
                <a:moveTo>
                  <a:pt x="14684" y="7020"/>
                </a:moveTo>
                <a:cubicBezTo>
                  <a:pt x="14684" y="7028"/>
                  <a:pt x="14684" y="7037"/>
                  <a:pt x="14684" y="7045"/>
                </a:cubicBezTo>
              </a:path>
              <a:path w="9030" h="3151">
                <a:moveTo>
                  <a:pt x="14759" y="7094"/>
                </a:moveTo>
                <a:cubicBezTo>
                  <a:pt x="14767" y="7094"/>
                  <a:pt x="14776" y="7094"/>
                  <a:pt x="14784" y="7094"/>
                </a:cubicBezTo>
                <a:cubicBezTo>
                  <a:pt x="14784" y="7053"/>
                  <a:pt x="14784" y="7011"/>
                  <a:pt x="14784" y="6970"/>
                </a:cubicBezTo>
              </a:path>
              <a:path w="9030" h="3151">
                <a:moveTo>
                  <a:pt x="14288" y="6995"/>
                </a:moveTo>
                <a:cubicBezTo>
                  <a:pt x="14295" y="6966"/>
                  <a:pt x="14305" y="6950"/>
                  <a:pt x="14312" y="6921"/>
                </a:cubicBezTo>
                <a:cubicBezTo>
                  <a:pt x="14344" y="6910"/>
                  <a:pt x="14352" y="6887"/>
                  <a:pt x="14362" y="6846"/>
                </a:cubicBezTo>
                <a:cubicBezTo>
                  <a:pt x="14402" y="6833"/>
                  <a:pt x="14372" y="6834"/>
                  <a:pt x="14412" y="6821"/>
                </a:cubicBezTo>
                <a:cubicBezTo>
                  <a:pt x="14425" y="6781"/>
                  <a:pt x="14423" y="6811"/>
                  <a:pt x="14436" y="6772"/>
                </a:cubicBezTo>
                <a:cubicBezTo>
                  <a:pt x="14482" y="6772"/>
                  <a:pt x="14495" y="6752"/>
                  <a:pt x="14536" y="6747"/>
                </a:cubicBezTo>
                <a:cubicBezTo>
                  <a:pt x="14568" y="6743"/>
                  <a:pt x="14603" y="6747"/>
                  <a:pt x="14635" y="6747"/>
                </a:cubicBezTo>
                <a:cubicBezTo>
                  <a:pt x="14635" y="6722"/>
                  <a:pt x="14635" y="6714"/>
                  <a:pt x="14660" y="6722"/>
                </a:cubicBezTo>
              </a:path>
              <a:path w="9030" h="3151">
                <a:moveTo>
                  <a:pt x="15751" y="8756"/>
                </a:moveTo>
                <a:cubicBezTo>
                  <a:pt x="15883" y="8756"/>
                  <a:pt x="16016" y="8756"/>
                  <a:pt x="16148" y="8756"/>
                </a:cubicBezTo>
                <a:cubicBezTo>
                  <a:pt x="16097" y="8756"/>
                  <a:pt x="16039" y="8778"/>
                  <a:pt x="16024" y="8781"/>
                </a:cubicBezTo>
                <a:cubicBezTo>
                  <a:pt x="15918" y="8802"/>
                  <a:pt x="15785" y="8781"/>
                  <a:pt x="15677" y="8781"/>
                </a:cubicBezTo>
                <a:cubicBezTo>
                  <a:pt x="15765" y="8781"/>
                  <a:pt x="15843" y="8769"/>
                  <a:pt x="15925" y="8756"/>
                </a:cubicBezTo>
                <a:cubicBezTo>
                  <a:pt x="16001" y="8744"/>
                  <a:pt x="16070" y="8731"/>
                  <a:pt x="16148" y="8731"/>
                </a:cubicBezTo>
                <a:cubicBezTo>
                  <a:pt x="16463" y="8731"/>
                  <a:pt x="16819" y="8697"/>
                  <a:pt x="17115" y="8756"/>
                </a:cubicBezTo>
                <a:cubicBezTo>
                  <a:pt x="17236" y="8780"/>
                  <a:pt x="17388" y="8756"/>
                  <a:pt x="17512" y="8756"/>
                </a:cubicBezTo>
                <a:cubicBezTo>
                  <a:pt x="17488" y="8780"/>
                  <a:pt x="17502" y="8794"/>
                  <a:pt x="17462" y="8806"/>
                </a:cubicBezTo>
                <a:cubicBezTo>
                  <a:pt x="17395" y="8825"/>
                  <a:pt x="17309" y="8851"/>
                  <a:pt x="17239" y="8855"/>
                </a:cubicBezTo>
                <a:cubicBezTo>
                  <a:pt x="17206" y="8857"/>
                  <a:pt x="17146" y="8874"/>
                  <a:pt x="17190" y="8880"/>
                </a:cubicBezTo>
                <a:cubicBezTo>
                  <a:pt x="17278" y="8891"/>
                  <a:pt x="17600" y="8913"/>
                  <a:pt x="17636" y="8855"/>
                </a:cubicBezTo>
                <a:cubicBezTo>
                  <a:pt x="17636" y="8847"/>
                  <a:pt x="17636" y="8838"/>
                  <a:pt x="17636" y="8830"/>
                </a:cubicBezTo>
              </a:path>
              <a:path w="9030" h="3151">
                <a:moveTo>
                  <a:pt x="15825" y="5755"/>
                </a:moveTo>
                <a:cubicBezTo>
                  <a:pt x="15775" y="5762"/>
                  <a:pt x="15789" y="5772"/>
                  <a:pt x="15751" y="5779"/>
                </a:cubicBezTo>
                <a:cubicBezTo>
                  <a:pt x="15702" y="5788"/>
                  <a:pt x="15713" y="5797"/>
                  <a:pt x="15677" y="5804"/>
                </a:cubicBezTo>
                <a:cubicBezTo>
                  <a:pt x="15631" y="5813"/>
                  <a:pt x="15650" y="5815"/>
                  <a:pt x="15627" y="5829"/>
                </a:cubicBezTo>
                <a:cubicBezTo>
                  <a:pt x="15660" y="5829"/>
                  <a:pt x="15644" y="5829"/>
                  <a:pt x="15677" y="5829"/>
                </a:cubicBezTo>
                <a:cubicBezTo>
                  <a:pt x="15801" y="5829"/>
                  <a:pt x="15925" y="5829"/>
                  <a:pt x="16049" y="5829"/>
                </a:cubicBezTo>
                <a:cubicBezTo>
                  <a:pt x="16026" y="5806"/>
                  <a:pt x="16005" y="5796"/>
                  <a:pt x="15974" y="5779"/>
                </a:cubicBezTo>
                <a:cubicBezTo>
                  <a:pt x="15945" y="5764"/>
                  <a:pt x="15903" y="5769"/>
                  <a:pt x="15875" y="5755"/>
                </a:cubicBezTo>
                <a:cubicBezTo>
                  <a:pt x="15883" y="5755"/>
                  <a:pt x="15892" y="5755"/>
                  <a:pt x="15900" y="5755"/>
                </a:cubicBezTo>
                <a:cubicBezTo>
                  <a:pt x="16036" y="5755"/>
                  <a:pt x="16165" y="5761"/>
                  <a:pt x="16297" y="5779"/>
                </a:cubicBezTo>
                <a:cubicBezTo>
                  <a:pt x="16366" y="5788"/>
                  <a:pt x="16437" y="5792"/>
                  <a:pt x="16495" y="5804"/>
                </a:cubicBezTo>
                <a:cubicBezTo>
                  <a:pt x="16678" y="5841"/>
                  <a:pt x="16891" y="5794"/>
                  <a:pt x="17066" y="5829"/>
                </a:cubicBezTo>
                <a:cubicBezTo>
                  <a:pt x="17200" y="5856"/>
                  <a:pt x="17507" y="5829"/>
                  <a:pt x="17562" y="5829"/>
                </a:cubicBezTo>
                <a:cubicBezTo>
                  <a:pt x="17270" y="5829"/>
                  <a:pt x="16896" y="5854"/>
                  <a:pt x="16644" y="5804"/>
                </a:cubicBezTo>
                <a:cubicBezTo>
                  <a:pt x="16578" y="5791"/>
                  <a:pt x="16533" y="5802"/>
                  <a:pt x="16495" y="5779"/>
                </a:cubicBezTo>
                <a:cubicBezTo>
                  <a:pt x="16508" y="5772"/>
                  <a:pt x="16544" y="5768"/>
                  <a:pt x="16570" y="5755"/>
                </a:cubicBezTo>
                <a:cubicBezTo>
                  <a:pt x="16617" y="5731"/>
                  <a:pt x="16634" y="5733"/>
                  <a:pt x="16694" y="5730"/>
                </a:cubicBezTo>
                <a:cubicBezTo>
                  <a:pt x="16804" y="5725"/>
                  <a:pt x="16944" y="5741"/>
                  <a:pt x="17016" y="5755"/>
                </a:cubicBezTo>
                <a:cubicBezTo>
                  <a:pt x="17075" y="5767"/>
                  <a:pt x="17185" y="5773"/>
                  <a:pt x="17214" y="5779"/>
                </a:cubicBezTo>
                <a:cubicBezTo>
                  <a:pt x="17368" y="5809"/>
                  <a:pt x="17796" y="5724"/>
                  <a:pt x="17661" y="5804"/>
                </a:cubicBezTo>
                <a:cubicBezTo>
                  <a:pt x="17636" y="5804"/>
                  <a:pt x="17628" y="5804"/>
                  <a:pt x="17611" y="5804"/>
                </a:cubicBezTo>
              </a:path>
              <a:path w="9030" h="3151">
                <a:moveTo>
                  <a:pt x="10368" y="5755"/>
                </a:moveTo>
                <a:cubicBezTo>
                  <a:pt x="10413" y="5755"/>
                  <a:pt x="10428" y="5775"/>
                  <a:pt x="10468" y="5779"/>
                </a:cubicBezTo>
                <a:cubicBezTo>
                  <a:pt x="10492" y="5779"/>
                  <a:pt x="10501" y="5779"/>
                  <a:pt x="10517" y="5779"/>
                </a:cubicBezTo>
                <a:cubicBezTo>
                  <a:pt x="10457" y="5779"/>
                  <a:pt x="10424" y="5794"/>
                  <a:pt x="10368" y="5804"/>
                </a:cubicBezTo>
                <a:cubicBezTo>
                  <a:pt x="10278" y="5820"/>
                  <a:pt x="10177" y="5800"/>
                  <a:pt x="10120" y="5829"/>
                </a:cubicBezTo>
                <a:cubicBezTo>
                  <a:pt x="10073" y="5853"/>
                  <a:pt x="9973" y="5837"/>
                  <a:pt x="9922" y="5854"/>
                </a:cubicBezTo>
                <a:cubicBezTo>
                  <a:pt x="9914" y="5854"/>
                  <a:pt x="9905" y="5854"/>
                  <a:pt x="9897" y="5854"/>
                </a:cubicBezTo>
                <a:cubicBezTo>
                  <a:pt x="10038" y="5854"/>
                  <a:pt x="10178" y="5854"/>
                  <a:pt x="10319" y="5854"/>
                </a:cubicBezTo>
                <a:cubicBezTo>
                  <a:pt x="10386" y="5854"/>
                  <a:pt x="10280" y="5854"/>
                  <a:pt x="10269" y="5854"/>
                </a:cubicBezTo>
                <a:cubicBezTo>
                  <a:pt x="10207" y="5854"/>
                  <a:pt x="10170" y="5862"/>
                  <a:pt x="10120" y="5879"/>
                </a:cubicBezTo>
                <a:cubicBezTo>
                  <a:pt x="10112" y="5879"/>
                  <a:pt x="10104" y="5879"/>
                  <a:pt x="10096" y="5879"/>
                </a:cubicBezTo>
                <a:cubicBezTo>
                  <a:pt x="10039" y="5879"/>
                  <a:pt x="10135" y="5902"/>
                  <a:pt x="10145" y="5904"/>
                </a:cubicBezTo>
                <a:cubicBezTo>
                  <a:pt x="10220" y="5920"/>
                  <a:pt x="10317" y="5924"/>
                  <a:pt x="10393" y="5928"/>
                </a:cubicBezTo>
                <a:cubicBezTo>
                  <a:pt x="10549" y="5936"/>
                  <a:pt x="10708" y="5928"/>
                  <a:pt x="10864" y="5928"/>
                </a:cubicBezTo>
              </a:path>
              <a:path w="9030" h="3151">
                <a:moveTo>
                  <a:pt x="10641" y="5829"/>
                </a:moveTo>
                <a:cubicBezTo>
                  <a:pt x="10691" y="5829"/>
                  <a:pt x="10740" y="5829"/>
                  <a:pt x="10790" y="5829"/>
                </a:cubicBezTo>
                <a:cubicBezTo>
                  <a:pt x="10666" y="5829"/>
                  <a:pt x="10542" y="5829"/>
                  <a:pt x="10418" y="5829"/>
                </a:cubicBezTo>
              </a:path>
              <a:path w="9030" h="3151">
                <a:moveTo>
                  <a:pt x="9971" y="5829"/>
                </a:moveTo>
                <a:cubicBezTo>
                  <a:pt x="9859" y="5829"/>
                  <a:pt x="9746" y="5822"/>
                  <a:pt x="9649" y="5854"/>
                </a:cubicBezTo>
                <a:cubicBezTo>
                  <a:pt x="9596" y="5872"/>
                  <a:pt x="9677" y="5854"/>
                  <a:pt x="9699" y="5854"/>
                </a:cubicBezTo>
                <a:cubicBezTo>
                  <a:pt x="9757" y="5854"/>
                  <a:pt x="9814" y="5854"/>
                  <a:pt x="9872" y="5854"/>
                </a:cubicBezTo>
                <a:cubicBezTo>
                  <a:pt x="9855" y="5804"/>
                  <a:pt x="9851" y="5824"/>
                  <a:pt x="9798" y="5804"/>
                </a:cubicBezTo>
                <a:cubicBezTo>
                  <a:pt x="9736" y="5781"/>
                  <a:pt x="9656" y="5766"/>
                  <a:pt x="9599" y="5755"/>
                </a:cubicBezTo>
                <a:cubicBezTo>
                  <a:pt x="9558" y="5755"/>
                  <a:pt x="9542" y="5747"/>
                  <a:pt x="9550" y="5779"/>
                </a:cubicBezTo>
              </a:path>
              <a:path w="9030" h="3151">
                <a:moveTo>
                  <a:pt x="16123" y="8359"/>
                </a:moveTo>
                <a:cubicBezTo>
                  <a:pt x="16228" y="8359"/>
                  <a:pt x="16330" y="8366"/>
                  <a:pt x="16421" y="8384"/>
                </a:cubicBezTo>
                <a:cubicBezTo>
                  <a:pt x="16731" y="8447"/>
                  <a:pt x="17121" y="8384"/>
                  <a:pt x="17438" y="8384"/>
                </a:cubicBezTo>
              </a:path>
              <a:path w="9030" h="3151">
                <a:moveTo>
                  <a:pt x="16297" y="8458"/>
                </a:moveTo>
                <a:cubicBezTo>
                  <a:pt x="16595" y="8458"/>
                  <a:pt x="16892" y="8458"/>
                  <a:pt x="17190" y="8458"/>
                </a:cubicBezTo>
                <a:cubicBezTo>
                  <a:pt x="17202" y="8422"/>
                  <a:pt x="17220" y="8434"/>
                  <a:pt x="17264" y="8434"/>
                </a:cubicBezTo>
                <a:cubicBezTo>
                  <a:pt x="17272" y="8434"/>
                  <a:pt x="17281" y="8434"/>
                  <a:pt x="17289" y="8434"/>
                </a:cubicBezTo>
                <a:cubicBezTo>
                  <a:pt x="17302" y="8396"/>
                  <a:pt x="17318" y="8409"/>
                  <a:pt x="17363" y="8409"/>
                </a:cubicBezTo>
                <a:cubicBezTo>
                  <a:pt x="17388" y="8409"/>
                  <a:pt x="17413" y="8409"/>
                  <a:pt x="17438" y="8409"/>
                </a:cubicBezTo>
                <a:cubicBezTo>
                  <a:pt x="17438" y="8359"/>
                  <a:pt x="17438" y="8310"/>
                  <a:pt x="17438" y="8260"/>
                </a:cubicBezTo>
              </a:path>
              <a:path w="9030" h="3151">
                <a:moveTo>
                  <a:pt x="16297" y="8434"/>
                </a:moveTo>
                <a:cubicBezTo>
                  <a:pt x="16297" y="8359"/>
                  <a:pt x="16297" y="8285"/>
                  <a:pt x="16297" y="8210"/>
                </a:cubicBezTo>
              </a:path>
              <a:path w="9030" h="3151">
                <a:moveTo>
                  <a:pt x="9401" y="7491"/>
                </a:moveTo>
                <a:cubicBezTo>
                  <a:pt x="9393" y="7491"/>
                  <a:pt x="9384" y="7491"/>
                  <a:pt x="9376" y="7491"/>
                </a:cubicBezTo>
                <a:cubicBezTo>
                  <a:pt x="9365" y="7525"/>
                  <a:pt x="9341" y="7521"/>
                  <a:pt x="9327" y="7565"/>
                </a:cubicBezTo>
                <a:cubicBezTo>
                  <a:pt x="9315" y="7602"/>
                  <a:pt x="9302" y="7621"/>
                  <a:pt x="9302" y="7665"/>
                </a:cubicBezTo>
                <a:cubicBezTo>
                  <a:pt x="9262" y="7678"/>
                  <a:pt x="9292" y="7676"/>
                  <a:pt x="9252" y="7689"/>
                </a:cubicBezTo>
                <a:cubicBezTo>
                  <a:pt x="9252" y="7732"/>
                  <a:pt x="9262" y="7727"/>
                  <a:pt x="9227" y="7739"/>
                </a:cubicBezTo>
                <a:cubicBezTo>
                  <a:pt x="9216" y="7774"/>
                  <a:pt x="9220" y="7764"/>
                  <a:pt x="9178" y="7764"/>
                </a:cubicBezTo>
                <a:cubicBezTo>
                  <a:pt x="9166" y="7799"/>
                  <a:pt x="9171" y="7789"/>
                  <a:pt x="9128" y="7789"/>
                </a:cubicBezTo>
                <a:cubicBezTo>
                  <a:pt x="9116" y="7823"/>
                  <a:pt x="9120" y="7813"/>
                  <a:pt x="9079" y="7813"/>
                </a:cubicBezTo>
                <a:cubicBezTo>
                  <a:pt x="9061" y="7867"/>
                  <a:pt x="9047" y="7814"/>
                  <a:pt x="9004" y="7838"/>
                </a:cubicBezTo>
                <a:cubicBezTo>
                  <a:pt x="8963" y="7861"/>
                  <a:pt x="8956" y="7863"/>
                  <a:pt x="8905" y="7863"/>
                </a:cubicBezTo>
                <a:cubicBezTo>
                  <a:pt x="8880" y="7863"/>
                  <a:pt x="8872" y="7863"/>
                  <a:pt x="8855" y="7863"/>
                </a:cubicBezTo>
                <a:cubicBezTo>
                  <a:pt x="8842" y="7901"/>
                  <a:pt x="8826" y="7888"/>
                  <a:pt x="8781" y="7888"/>
                </a:cubicBezTo>
                <a:cubicBezTo>
                  <a:pt x="8773" y="7888"/>
                  <a:pt x="8764" y="7888"/>
                  <a:pt x="8756" y="7888"/>
                </a:cubicBezTo>
              </a:path>
              <a:path w="9030" h="3151">
                <a:moveTo>
                  <a:pt x="9203" y="7541"/>
                </a:moveTo>
                <a:cubicBezTo>
                  <a:pt x="9203" y="7615"/>
                  <a:pt x="9203" y="7690"/>
                  <a:pt x="9203" y="7764"/>
                </a:cubicBezTo>
              </a:path>
              <a:path w="9030" h="3151">
                <a:moveTo>
                  <a:pt x="17016" y="7020"/>
                </a:moveTo>
                <a:cubicBezTo>
                  <a:pt x="17016" y="7094"/>
                  <a:pt x="17016" y="7169"/>
                  <a:pt x="17016" y="7243"/>
                </a:cubicBezTo>
                <a:cubicBezTo>
                  <a:pt x="16978" y="7256"/>
                  <a:pt x="16991" y="7272"/>
                  <a:pt x="16991" y="7317"/>
                </a:cubicBezTo>
                <a:cubicBezTo>
                  <a:pt x="16991" y="7367"/>
                  <a:pt x="16991" y="7416"/>
                  <a:pt x="16991" y="7466"/>
                </a:cubicBezTo>
                <a:cubicBezTo>
                  <a:pt x="17090" y="7466"/>
                  <a:pt x="17190" y="7466"/>
                  <a:pt x="17289" y="7466"/>
                </a:cubicBezTo>
              </a:path>
              <a:path w="9030" h="3151">
                <a:moveTo>
                  <a:pt x="16966" y="6970"/>
                </a:moveTo>
                <a:cubicBezTo>
                  <a:pt x="16966" y="7111"/>
                  <a:pt x="16966" y="7251"/>
                  <a:pt x="16966" y="7392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3510000" y="2676600"/>
            <a:ext cx="303120" cy="295200"/>
          </a:xfrm>
          <a:custGeom>
            <a:avLst/>
            <a:gdLst/>
            <a:ahLst/>
            <a:rect l="l" t="t" r="r" b="b"/>
            <a:pathLst>
              <a:path w="845" h="820">
                <a:moveTo>
                  <a:pt x="10120" y="7838"/>
                </a:moveTo>
                <a:cubicBezTo>
                  <a:pt x="10120" y="7915"/>
                  <a:pt x="10128" y="7965"/>
                  <a:pt x="10145" y="8037"/>
                </a:cubicBezTo>
                <a:cubicBezTo>
                  <a:pt x="10188" y="8221"/>
                  <a:pt x="10145" y="8465"/>
                  <a:pt x="10145" y="8657"/>
                </a:cubicBezTo>
              </a:path>
              <a:path w="845" h="820">
                <a:moveTo>
                  <a:pt x="9748" y="8186"/>
                </a:moveTo>
                <a:cubicBezTo>
                  <a:pt x="10029" y="8186"/>
                  <a:pt x="10311" y="8186"/>
                  <a:pt x="10592" y="81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3419640" y="3789360"/>
            <a:ext cx="431640" cy="43164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3095640" y="3084480"/>
            <a:ext cx="3392640" cy="1141560"/>
          </a:xfrm>
          <a:custGeom>
            <a:avLst/>
            <a:gdLst/>
            <a:ahLst/>
            <a:rect l="l" t="t" r="r" b="b"/>
            <a:pathLst>
              <a:path w="2137" h="719">
                <a:moveTo>
                  <a:pt x="1570" y="310"/>
                </a:moveTo>
                <a:cubicBezTo>
                  <a:pt x="1563" y="337"/>
                  <a:pt x="1528" y="401"/>
                  <a:pt x="1578" y="334"/>
                </a:cubicBezTo>
                <a:cubicBezTo>
                  <a:pt x="1598" y="274"/>
                  <a:pt x="1573" y="339"/>
                  <a:pt x="1594" y="382"/>
                </a:cubicBezTo>
                <a:cubicBezTo>
                  <a:pt x="1600" y="394"/>
                  <a:pt x="1597" y="355"/>
                  <a:pt x="1602" y="342"/>
                </a:cubicBezTo>
                <a:cubicBezTo>
                  <a:pt x="1613" y="311"/>
                  <a:pt x="1627" y="280"/>
                  <a:pt x="1658" y="270"/>
                </a:cubicBezTo>
                <a:cubicBezTo>
                  <a:pt x="1647" y="281"/>
                  <a:pt x="1625" y="311"/>
                  <a:pt x="1602" y="302"/>
                </a:cubicBezTo>
                <a:cubicBezTo>
                  <a:pt x="1594" y="299"/>
                  <a:pt x="1598" y="286"/>
                  <a:pt x="1594" y="278"/>
                </a:cubicBezTo>
                <a:cubicBezTo>
                  <a:pt x="1590" y="269"/>
                  <a:pt x="1583" y="262"/>
                  <a:pt x="1578" y="254"/>
                </a:cubicBezTo>
                <a:cubicBezTo>
                  <a:pt x="1581" y="203"/>
                  <a:pt x="1571" y="151"/>
                  <a:pt x="1586" y="102"/>
                </a:cubicBezTo>
                <a:cubicBezTo>
                  <a:pt x="1592" y="84"/>
                  <a:pt x="1634" y="70"/>
                  <a:pt x="1634" y="70"/>
                </a:cubicBezTo>
                <a:cubicBezTo>
                  <a:pt x="1637" y="81"/>
                  <a:pt x="1642" y="91"/>
                  <a:pt x="1642" y="102"/>
                </a:cubicBezTo>
                <a:cubicBezTo>
                  <a:pt x="1642" y="113"/>
                  <a:pt x="1624" y="130"/>
                  <a:pt x="1634" y="134"/>
                </a:cubicBezTo>
                <a:cubicBezTo>
                  <a:pt x="1650" y="140"/>
                  <a:pt x="1666" y="123"/>
                  <a:pt x="1682" y="118"/>
                </a:cubicBezTo>
                <a:cubicBezTo>
                  <a:pt x="1690" y="115"/>
                  <a:pt x="1706" y="110"/>
                  <a:pt x="1706" y="110"/>
                </a:cubicBezTo>
                <a:cubicBezTo>
                  <a:pt x="1714" y="102"/>
                  <a:pt x="1719" y="86"/>
                  <a:pt x="1730" y="86"/>
                </a:cubicBezTo>
                <a:cubicBezTo>
                  <a:pt x="1740" y="86"/>
                  <a:pt x="1720" y="102"/>
                  <a:pt x="1714" y="110"/>
                </a:cubicBezTo>
                <a:cubicBezTo>
                  <a:pt x="1693" y="140"/>
                  <a:pt x="1671" y="168"/>
                  <a:pt x="1650" y="198"/>
                </a:cubicBezTo>
                <a:cubicBezTo>
                  <a:pt x="1639" y="214"/>
                  <a:pt x="1611" y="264"/>
                  <a:pt x="1618" y="246"/>
                </a:cubicBezTo>
                <a:cubicBezTo>
                  <a:pt x="1638" y="195"/>
                  <a:pt x="1624" y="216"/>
                  <a:pt x="1658" y="182"/>
                </a:cubicBezTo>
                <a:cubicBezTo>
                  <a:pt x="1669" y="149"/>
                  <a:pt x="1695" y="139"/>
                  <a:pt x="1714" y="110"/>
                </a:cubicBezTo>
                <a:cubicBezTo>
                  <a:pt x="1635" y="84"/>
                  <a:pt x="1552" y="109"/>
                  <a:pt x="1474" y="78"/>
                </a:cubicBezTo>
                <a:cubicBezTo>
                  <a:pt x="1384" y="108"/>
                  <a:pt x="1354" y="110"/>
                  <a:pt x="1282" y="182"/>
                </a:cubicBezTo>
                <a:cubicBezTo>
                  <a:pt x="1275" y="189"/>
                  <a:pt x="1298" y="171"/>
                  <a:pt x="1306" y="166"/>
                </a:cubicBezTo>
                <a:cubicBezTo>
                  <a:pt x="1316" y="160"/>
                  <a:pt x="1328" y="156"/>
                  <a:pt x="1338" y="150"/>
                </a:cubicBezTo>
                <a:cubicBezTo>
                  <a:pt x="1346" y="145"/>
                  <a:pt x="1362" y="124"/>
                  <a:pt x="1362" y="134"/>
                </a:cubicBezTo>
                <a:cubicBezTo>
                  <a:pt x="1362" y="145"/>
                  <a:pt x="1345" y="149"/>
                  <a:pt x="1338" y="158"/>
                </a:cubicBezTo>
                <a:cubicBezTo>
                  <a:pt x="1331" y="168"/>
                  <a:pt x="1322" y="178"/>
                  <a:pt x="1322" y="190"/>
                </a:cubicBezTo>
                <a:cubicBezTo>
                  <a:pt x="1322" y="200"/>
                  <a:pt x="1331" y="173"/>
                  <a:pt x="1338" y="166"/>
                </a:cubicBezTo>
                <a:cubicBezTo>
                  <a:pt x="1345" y="159"/>
                  <a:pt x="1354" y="155"/>
                  <a:pt x="1362" y="150"/>
                </a:cubicBezTo>
                <a:cubicBezTo>
                  <a:pt x="1373" y="118"/>
                  <a:pt x="1386" y="102"/>
                  <a:pt x="1410" y="78"/>
                </a:cubicBezTo>
                <a:cubicBezTo>
                  <a:pt x="1383" y="60"/>
                  <a:pt x="1357" y="56"/>
                  <a:pt x="1330" y="38"/>
                </a:cubicBezTo>
                <a:cubicBezTo>
                  <a:pt x="1484" y="0"/>
                  <a:pt x="1723" y="27"/>
                  <a:pt x="1850" y="30"/>
                </a:cubicBezTo>
                <a:cubicBezTo>
                  <a:pt x="1842" y="33"/>
                  <a:pt x="1826" y="30"/>
                  <a:pt x="1826" y="38"/>
                </a:cubicBezTo>
                <a:cubicBezTo>
                  <a:pt x="1826" y="46"/>
                  <a:pt x="1847" y="38"/>
                  <a:pt x="1850" y="46"/>
                </a:cubicBezTo>
                <a:cubicBezTo>
                  <a:pt x="1859" y="66"/>
                  <a:pt x="1852" y="89"/>
                  <a:pt x="1858" y="110"/>
                </a:cubicBezTo>
                <a:cubicBezTo>
                  <a:pt x="1864" y="131"/>
                  <a:pt x="1923" y="193"/>
                  <a:pt x="1938" y="214"/>
                </a:cubicBezTo>
                <a:cubicBezTo>
                  <a:pt x="1952" y="256"/>
                  <a:pt x="1988" y="351"/>
                  <a:pt x="1914" y="326"/>
                </a:cubicBezTo>
                <a:cubicBezTo>
                  <a:pt x="1906" y="331"/>
                  <a:pt x="1897" y="349"/>
                  <a:pt x="1890" y="342"/>
                </a:cubicBezTo>
                <a:cubicBezTo>
                  <a:pt x="1883" y="335"/>
                  <a:pt x="1908" y="327"/>
                  <a:pt x="1906" y="318"/>
                </a:cubicBezTo>
                <a:cubicBezTo>
                  <a:pt x="1902" y="299"/>
                  <a:pt x="1851" y="298"/>
                  <a:pt x="1826" y="294"/>
                </a:cubicBezTo>
                <a:cubicBezTo>
                  <a:pt x="1892" y="277"/>
                  <a:pt x="2137" y="241"/>
                  <a:pt x="2034" y="310"/>
                </a:cubicBezTo>
                <a:cubicBezTo>
                  <a:pt x="2012" y="376"/>
                  <a:pt x="2016" y="341"/>
                  <a:pt x="2026" y="414"/>
                </a:cubicBezTo>
                <a:cubicBezTo>
                  <a:pt x="2021" y="441"/>
                  <a:pt x="2025" y="471"/>
                  <a:pt x="2010" y="494"/>
                </a:cubicBezTo>
                <a:cubicBezTo>
                  <a:pt x="2004" y="503"/>
                  <a:pt x="1989" y="487"/>
                  <a:pt x="1978" y="486"/>
                </a:cubicBezTo>
                <a:cubicBezTo>
                  <a:pt x="1946" y="482"/>
                  <a:pt x="1914" y="481"/>
                  <a:pt x="1882" y="478"/>
                </a:cubicBezTo>
                <a:cubicBezTo>
                  <a:pt x="1800" y="505"/>
                  <a:pt x="1900" y="467"/>
                  <a:pt x="1882" y="494"/>
                </a:cubicBezTo>
                <a:cubicBezTo>
                  <a:pt x="1870" y="512"/>
                  <a:pt x="1769" y="524"/>
                  <a:pt x="1754" y="526"/>
                </a:cubicBezTo>
                <a:cubicBezTo>
                  <a:pt x="1918" y="542"/>
                  <a:pt x="1811" y="526"/>
                  <a:pt x="1770" y="542"/>
                </a:cubicBezTo>
                <a:cubicBezTo>
                  <a:pt x="1762" y="545"/>
                  <a:pt x="1786" y="549"/>
                  <a:pt x="1794" y="550"/>
                </a:cubicBezTo>
                <a:cubicBezTo>
                  <a:pt x="1834" y="554"/>
                  <a:pt x="1874" y="555"/>
                  <a:pt x="1914" y="558"/>
                </a:cubicBezTo>
                <a:cubicBezTo>
                  <a:pt x="1925" y="561"/>
                  <a:pt x="1957" y="566"/>
                  <a:pt x="1946" y="566"/>
                </a:cubicBezTo>
                <a:cubicBezTo>
                  <a:pt x="1869" y="566"/>
                  <a:pt x="1791" y="568"/>
                  <a:pt x="1714" y="558"/>
                </a:cubicBezTo>
                <a:cubicBezTo>
                  <a:pt x="1684" y="554"/>
                  <a:pt x="1664" y="479"/>
                  <a:pt x="1658" y="462"/>
                </a:cubicBezTo>
                <a:cubicBezTo>
                  <a:pt x="1655" y="454"/>
                  <a:pt x="1642" y="456"/>
                  <a:pt x="1634" y="454"/>
                </a:cubicBezTo>
                <a:cubicBezTo>
                  <a:pt x="1599" y="444"/>
                  <a:pt x="1565" y="432"/>
                  <a:pt x="1530" y="422"/>
                </a:cubicBezTo>
                <a:cubicBezTo>
                  <a:pt x="1514" y="417"/>
                  <a:pt x="1482" y="406"/>
                  <a:pt x="1482" y="406"/>
                </a:cubicBezTo>
                <a:cubicBezTo>
                  <a:pt x="1408" y="412"/>
                  <a:pt x="1376" y="396"/>
                  <a:pt x="1354" y="462"/>
                </a:cubicBezTo>
                <a:cubicBezTo>
                  <a:pt x="1357" y="486"/>
                  <a:pt x="1351" y="512"/>
                  <a:pt x="1362" y="534"/>
                </a:cubicBezTo>
                <a:cubicBezTo>
                  <a:pt x="1366" y="543"/>
                  <a:pt x="1369" y="514"/>
                  <a:pt x="1378" y="510"/>
                </a:cubicBezTo>
                <a:cubicBezTo>
                  <a:pt x="1393" y="503"/>
                  <a:pt x="1410" y="505"/>
                  <a:pt x="1426" y="502"/>
                </a:cubicBezTo>
                <a:cubicBezTo>
                  <a:pt x="1415" y="558"/>
                  <a:pt x="1394" y="657"/>
                  <a:pt x="1458" y="678"/>
                </a:cubicBezTo>
                <a:cubicBezTo>
                  <a:pt x="1578" y="667"/>
                  <a:pt x="1528" y="689"/>
                  <a:pt x="1578" y="614"/>
                </a:cubicBezTo>
                <a:cubicBezTo>
                  <a:pt x="1572" y="553"/>
                  <a:pt x="1574" y="485"/>
                  <a:pt x="1506" y="462"/>
                </a:cubicBezTo>
                <a:cubicBezTo>
                  <a:pt x="1487" y="465"/>
                  <a:pt x="1466" y="460"/>
                  <a:pt x="1450" y="470"/>
                </a:cubicBezTo>
                <a:cubicBezTo>
                  <a:pt x="1441" y="476"/>
                  <a:pt x="1442" y="491"/>
                  <a:pt x="1442" y="502"/>
                </a:cubicBezTo>
                <a:cubicBezTo>
                  <a:pt x="1442" y="573"/>
                  <a:pt x="1433" y="624"/>
                  <a:pt x="1490" y="662"/>
                </a:cubicBezTo>
                <a:cubicBezTo>
                  <a:pt x="1522" y="659"/>
                  <a:pt x="1554" y="658"/>
                  <a:pt x="1586" y="654"/>
                </a:cubicBezTo>
                <a:cubicBezTo>
                  <a:pt x="1594" y="653"/>
                  <a:pt x="1605" y="653"/>
                  <a:pt x="1610" y="646"/>
                </a:cubicBezTo>
                <a:cubicBezTo>
                  <a:pt x="1620" y="632"/>
                  <a:pt x="1626" y="598"/>
                  <a:pt x="1626" y="598"/>
                </a:cubicBezTo>
                <a:cubicBezTo>
                  <a:pt x="1615" y="500"/>
                  <a:pt x="1635" y="534"/>
                  <a:pt x="1562" y="510"/>
                </a:cubicBezTo>
                <a:cubicBezTo>
                  <a:pt x="1535" y="515"/>
                  <a:pt x="1507" y="515"/>
                  <a:pt x="1482" y="526"/>
                </a:cubicBezTo>
                <a:cubicBezTo>
                  <a:pt x="1474" y="529"/>
                  <a:pt x="1474" y="542"/>
                  <a:pt x="1474" y="550"/>
                </a:cubicBezTo>
                <a:cubicBezTo>
                  <a:pt x="1474" y="632"/>
                  <a:pt x="1467" y="615"/>
                  <a:pt x="1506" y="654"/>
                </a:cubicBezTo>
                <a:cubicBezTo>
                  <a:pt x="1560" y="647"/>
                  <a:pt x="1588" y="651"/>
                  <a:pt x="1618" y="606"/>
                </a:cubicBezTo>
                <a:cubicBezTo>
                  <a:pt x="1612" y="524"/>
                  <a:pt x="1628" y="501"/>
                  <a:pt x="1570" y="462"/>
                </a:cubicBezTo>
                <a:cubicBezTo>
                  <a:pt x="1530" y="465"/>
                  <a:pt x="1488" y="459"/>
                  <a:pt x="1450" y="470"/>
                </a:cubicBezTo>
                <a:cubicBezTo>
                  <a:pt x="1432" y="475"/>
                  <a:pt x="1420" y="554"/>
                  <a:pt x="1418" y="566"/>
                </a:cubicBezTo>
                <a:cubicBezTo>
                  <a:pt x="1063" y="507"/>
                  <a:pt x="1532" y="552"/>
                  <a:pt x="506" y="542"/>
                </a:cubicBezTo>
                <a:cubicBezTo>
                  <a:pt x="484" y="526"/>
                  <a:pt x="468" y="511"/>
                  <a:pt x="442" y="502"/>
                </a:cubicBezTo>
                <a:cubicBezTo>
                  <a:pt x="421" y="495"/>
                  <a:pt x="378" y="486"/>
                  <a:pt x="378" y="486"/>
                </a:cubicBezTo>
                <a:cubicBezTo>
                  <a:pt x="331" y="454"/>
                  <a:pt x="300" y="464"/>
                  <a:pt x="242" y="470"/>
                </a:cubicBezTo>
                <a:cubicBezTo>
                  <a:pt x="205" y="498"/>
                  <a:pt x="140" y="561"/>
                  <a:pt x="226" y="590"/>
                </a:cubicBezTo>
                <a:cubicBezTo>
                  <a:pt x="277" y="667"/>
                  <a:pt x="410" y="654"/>
                  <a:pt x="450" y="574"/>
                </a:cubicBezTo>
                <a:cubicBezTo>
                  <a:pt x="443" y="516"/>
                  <a:pt x="448" y="496"/>
                  <a:pt x="394" y="478"/>
                </a:cubicBezTo>
                <a:cubicBezTo>
                  <a:pt x="310" y="486"/>
                  <a:pt x="247" y="495"/>
                  <a:pt x="218" y="582"/>
                </a:cubicBezTo>
                <a:cubicBezTo>
                  <a:pt x="229" y="719"/>
                  <a:pt x="210" y="705"/>
                  <a:pt x="346" y="694"/>
                </a:cubicBezTo>
                <a:cubicBezTo>
                  <a:pt x="390" y="650"/>
                  <a:pt x="392" y="578"/>
                  <a:pt x="338" y="542"/>
                </a:cubicBezTo>
                <a:cubicBezTo>
                  <a:pt x="269" y="557"/>
                  <a:pt x="261" y="548"/>
                  <a:pt x="242" y="606"/>
                </a:cubicBezTo>
                <a:cubicBezTo>
                  <a:pt x="259" y="658"/>
                  <a:pt x="266" y="670"/>
                  <a:pt x="314" y="694"/>
                </a:cubicBezTo>
                <a:cubicBezTo>
                  <a:pt x="402" y="684"/>
                  <a:pt x="413" y="691"/>
                  <a:pt x="434" y="606"/>
                </a:cubicBezTo>
                <a:cubicBezTo>
                  <a:pt x="425" y="552"/>
                  <a:pt x="419" y="505"/>
                  <a:pt x="362" y="486"/>
                </a:cubicBezTo>
                <a:cubicBezTo>
                  <a:pt x="279" y="498"/>
                  <a:pt x="319" y="486"/>
                  <a:pt x="282" y="542"/>
                </a:cubicBezTo>
                <a:cubicBezTo>
                  <a:pt x="291" y="620"/>
                  <a:pt x="282" y="617"/>
                  <a:pt x="346" y="638"/>
                </a:cubicBezTo>
                <a:cubicBezTo>
                  <a:pt x="406" y="626"/>
                  <a:pt x="419" y="625"/>
                  <a:pt x="442" y="566"/>
                </a:cubicBezTo>
                <a:cubicBezTo>
                  <a:pt x="428" y="511"/>
                  <a:pt x="431" y="488"/>
                  <a:pt x="378" y="470"/>
                </a:cubicBezTo>
                <a:cubicBezTo>
                  <a:pt x="343" y="475"/>
                  <a:pt x="307" y="475"/>
                  <a:pt x="274" y="486"/>
                </a:cubicBezTo>
                <a:cubicBezTo>
                  <a:pt x="249" y="494"/>
                  <a:pt x="242" y="558"/>
                  <a:pt x="242" y="558"/>
                </a:cubicBezTo>
                <a:cubicBezTo>
                  <a:pt x="267" y="669"/>
                  <a:pt x="266" y="640"/>
                  <a:pt x="386" y="630"/>
                </a:cubicBezTo>
                <a:cubicBezTo>
                  <a:pt x="430" y="586"/>
                  <a:pt x="416" y="552"/>
                  <a:pt x="402" y="494"/>
                </a:cubicBezTo>
                <a:cubicBezTo>
                  <a:pt x="383" y="497"/>
                  <a:pt x="363" y="494"/>
                  <a:pt x="346" y="502"/>
                </a:cubicBezTo>
                <a:cubicBezTo>
                  <a:pt x="319" y="515"/>
                  <a:pt x="312" y="565"/>
                  <a:pt x="306" y="590"/>
                </a:cubicBezTo>
                <a:cubicBezTo>
                  <a:pt x="309" y="601"/>
                  <a:pt x="304" y="617"/>
                  <a:pt x="314" y="622"/>
                </a:cubicBezTo>
                <a:cubicBezTo>
                  <a:pt x="323" y="626"/>
                  <a:pt x="331" y="613"/>
                  <a:pt x="338" y="606"/>
                </a:cubicBezTo>
                <a:cubicBezTo>
                  <a:pt x="347" y="597"/>
                  <a:pt x="354" y="585"/>
                  <a:pt x="362" y="574"/>
                </a:cubicBezTo>
                <a:cubicBezTo>
                  <a:pt x="357" y="542"/>
                  <a:pt x="360" y="524"/>
                  <a:pt x="338" y="502"/>
                </a:cubicBezTo>
                <a:cubicBezTo>
                  <a:pt x="319" y="483"/>
                  <a:pt x="266" y="470"/>
                  <a:pt x="266" y="470"/>
                </a:cubicBezTo>
                <a:cubicBezTo>
                  <a:pt x="210" y="473"/>
                  <a:pt x="151" y="459"/>
                  <a:pt x="98" y="478"/>
                </a:cubicBezTo>
                <a:cubicBezTo>
                  <a:pt x="83" y="483"/>
                  <a:pt x="95" y="515"/>
                  <a:pt x="106" y="526"/>
                </a:cubicBezTo>
                <a:cubicBezTo>
                  <a:pt x="113" y="533"/>
                  <a:pt x="122" y="515"/>
                  <a:pt x="130" y="510"/>
                </a:cubicBezTo>
                <a:cubicBezTo>
                  <a:pt x="205" y="467"/>
                  <a:pt x="122" y="523"/>
                  <a:pt x="186" y="470"/>
                </a:cubicBezTo>
                <a:cubicBezTo>
                  <a:pt x="212" y="448"/>
                  <a:pt x="243" y="448"/>
                  <a:pt x="274" y="438"/>
                </a:cubicBezTo>
                <a:cubicBezTo>
                  <a:pt x="506" y="463"/>
                  <a:pt x="427" y="438"/>
                  <a:pt x="522" y="470"/>
                </a:cubicBezTo>
                <a:cubicBezTo>
                  <a:pt x="538" y="423"/>
                  <a:pt x="534" y="374"/>
                  <a:pt x="546" y="326"/>
                </a:cubicBezTo>
                <a:cubicBezTo>
                  <a:pt x="549" y="350"/>
                  <a:pt x="554" y="398"/>
                  <a:pt x="554" y="398"/>
                </a:cubicBezTo>
                <a:cubicBezTo>
                  <a:pt x="545" y="444"/>
                  <a:pt x="521" y="456"/>
                  <a:pt x="562" y="470"/>
                </a:cubicBezTo>
                <a:cubicBezTo>
                  <a:pt x="559" y="505"/>
                  <a:pt x="561" y="540"/>
                  <a:pt x="554" y="574"/>
                </a:cubicBezTo>
                <a:cubicBezTo>
                  <a:pt x="552" y="582"/>
                  <a:pt x="550" y="558"/>
                  <a:pt x="546" y="550"/>
                </a:cubicBezTo>
                <a:cubicBezTo>
                  <a:pt x="532" y="523"/>
                  <a:pt x="516" y="500"/>
                  <a:pt x="506" y="470"/>
                </a:cubicBezTo>
                <a:cubicBezTo>
                  <a:pt x="509" y="435"/>
                  <a:pt x="510" y="401"/>
                  <a:pt x="514" y="366"/>
                </a:cubicBezTo>
                <a:cubicBezTo>
                  <a:pt x="519" y="324"/>
                  <a:pt x="602" y="308"/>
                  <a:pt x="634" y="286"/>
                </a:cubicBezTo>
                <a:cubicBezTo>
                  <a:pt x="639" y="294"/>
                  <a:pt x="646" y="301"/>
                  <a:pt x="650" y="310"/>
                </a:cubicBezTo>
                <a:cubicBezTo>
                  <a:pt x="654" y="320"/>
                  <a:pt x="648" y="337"/>
                  <a:pt x="658" y="342"/>
                </a:cubicBezTo>
                <a:cubicBezTo>
                  <a:pt x="667" y="346"/>
                  <a:pt x="674" y="331"/>
                  <a:pt x="682" y="326"/>
                </a:cubicBezTo>
                <a:cubicBezTo>
                  <a:pt x="717" y="274"/>
                  <a:pt x="674" y="326"/>
                  <a:pt x="730" y="294"/>
                </a:cubicBezTo>
                <a:cubicBezTo>
                  <a:pt x="753" y="281"/>
                  <a:pt x="759" y="260"/>
                  <a:pt x="770" y="238"/>
                </a:cubicBezTo>
                <a:cubicBezTo>
                  <a:pt x="773" y="249"/>
                  <a:pt x="767" y="267"/>
                  <a:pt x="778" y="270"/>
                </a:cubicBezTo>
                <a:cubicBezTo>
                  <a:pt x="860" y="295"/>
                  <a:pt x="1066" y="298"/>
                  <a:pt x="1146" y="302"/>
                </a:cubicBezTo>
                <a:cubicBezTo>
                  <a:pt x="1151" y="310"/>
                  <a:pt x="1171" y="328"/>
                  <a:pt x="1162" y="326"/>
                </a:cubicBezTo>
                <a:cubicBezTo>
                  <a:pt x="1143" y="321"/>
                  <a:pt x="1114" y="294"/>
                  <a:pt x="1114" y="294"/>
                </a:cubicBezTo>
                <a:cubicBezTo>
                  <a:pt x="1114" y="297"/>
                  <a:pt x="1133" y="444"/>
                  <a:pt x="1114" y="486"/>
                </a:cubicBezTo>
                <a:cubicBezTo>
                  <a:pt x="1096" y="527"/>
                  <a:pt x="1042" y="553"/>
                  <a:pt x="1002" y="566"/>
                </a:cubicBezTo>
                <a:cubicBezTo>
                  <a:pt x="864" y="559"/>
                  <a:pt x="724" y="574"/>
                  <a:pt x="586" y="566"/>
                </a:cubicBezTo>
                <a:cubicBezTo>
                  <a:pt x="578" y="566"/>
                  <a:pt x="584" y="548"/>
                  <a:pt x="578" y="542"/>
                </a:cubicBezTo>
                <a:cubicBezTo>
                  <a:pt x="567" y="531"/>
                  <a:pt x="553" y="524"/>
                  <a:pt x="538" y="518"/>
                </a:cubicBezTo>
                <a:cubicBezTo>
                  <a:pt x="487" y="498"/>
                  <a:pt x="424" y="493"/>
                  <a:pt x="370" y="486"/>
                </a:cubicBezTo>
                <a:cubicBezTo>
                  <a:pt x="338" y="475"/>
                  <a:pt x="306" y="473"/>
                  <a:pt x="274" y="462"/>
                </a:cubicBezTo>
                <a:cubicBezTo>
                  <a:pt x="224" y="474"/>
                  <a:pt x="241" y="496"/>
                  <a:pt x="194" y="510"/>
                </a:cubicBezTo>
                <a:cubicBezTo>
                  <a:pt x="166" y="518"/>
                  <a:pt x="73" y="525"/>
                  <a:pt x="58" y="526"/>
                </a:cubicBezTo>
                <a:cubicBezTo>
                  <a:pt x="0" y="507"/>
                  <a:pt x="68" y="513"/>
                  <a:pt x="82" y="518"/>
                </a:cubicBezTo>
                <a:cubicBezTo>
                  <a:pt x="74" y="523"/>
                  <a:pt x="51" y="527"/>
                  <a:pt x="58" y="534"/>
                </a:cubicBezTo>
                <a:cubicBezTo>
                  <a:pt x="66" y="542"/>
                  <a:pt x="101" y="526"/>
                  <a:pt x="90" y="526"/>
                </a:cubicBezTo>
                <a:cubicBezTo>
                  <a:pt x="80" y="526"/>
                  <a:pt x="30" y="539"/>
                  <a:pt x="18" y="542"/>
                </a:cubicBezTo>
                <a:cubicBezTo>
                  <a:pt x="64" y="557"/>
                  <a:pt x="89" y="557"/>
                  <a:pt x="138" y="550"/>
                </a:cubicBezTo>
                <a:cubicBezTo>
                  <a:pt x="366" y="474"/>
                  <a:pt x="618" y="539"/>
                  <a:pt x="858" y="542"/>
                </a:cubicBezTo>
                <a:cubicBezTo>
                  <a:pt x="967" y="547"/>
                  <a:pt x="1186" y="558"/>
                  <a:pt x="1186" y="558"/>
                </a:cubicBezTo>
                <a:cubicBezTo>
                  <a:pt x="1186" y="550"/>
                  <a:pt x="1161" y="289"/>
                  <a:pt x="1226" y="246"/>
                </a:cubicBezTo>
                <a:cubicBezTo>
                  <a:pt x="1216" y="298"/>
                  <a:pt x="1216" y="356"/>
                  <a:pt x="1202" y="246"/>
                </a:cubicBezTo>
                <a:cubicBezTo>
                  <a:pt x="1206" y="167"/>
                  <a:pt x="1168" y="66"/>
                  <a:pt x="1250" y="46"/>
                </a:cubicBezTo>
                <a:cubicBezTo>
                  <a:pt x="1228" y="68"/>
                  <a:pt x="1216" y="90"/>
                  <a:pt x="1202" y="118"/>
                </a:cubicBezTo>
                <a:cubicBezTo>
                  <a:pt x="1198" y="126"/>
                  <a:pt x="1186" y="142"/>
                  <a:pt x="1194" y="142"/>
                </a:cubicBezTo>
                <a:cubicBezTo>
                  <a:pt x="1204" y="142"/>
                  <a:pt x="1202" y="123"/>
                  <a:pt x="1210" y="118"/>
                </a:cubicBezTo>
                <a:cubicBezTo>
                  <a:pt x="1219" y="112"/>
                  <a:pt x="1252" y="107"/>
                  <a:pt x="1242" y="110"/>
                </a:cubicBezTo>
                <a:cubicBezTo>
                  <a:pt x="1234" y="113"/>
                  <a:pt x="1218" y="118"/>
                  <a:pt x="1218" y="118"/>
                </a:cubicBezTo>
                <a:cubicBezTo>
                  <a:pt x="1252" y="17"/>
                  <a:pt x="1319" y="73"/>
                  <a:pt x="1050" y="62"/>
                </a:cubicBezTo>
                <a:cubicBezTo>
                  <a:pt x="935" y="67"/>
                  <a:pt x="880" y="42"/>
                  <a:pt x="802" y="94"/>
                </a:cubicBezTo>
                <a:cubicBezTo>
                  <a:pt x="791" y="110"/>
                  <a:pt x="776" y="124"/>
                  <a:pt x="770" y="142"/>
                </a:cubicBezTo>
                <a:cubicBezTo>
                  <a:pt x="750" y="202"/>
                  <a:pt x="749" y="221"/>
                  <a:pt x="682" y="238"/>
                </a:cubicBezTo>
                <a:cubicBezTo>
                  <a:pt x="677" y="246"/>
                  <a:pt x="669" y="271"/>
                  <a:pt x="666" y="262"/>
                </a:cubicBezTo>
                <a:cubicBezTo>
                  <a:pt x="661" y="247"/>
                  <a:pt x="671" y="230"/>
                  <a:pt x="674" y="214"/>
                </a:cubicBezTo>
                <a:cubicBezTo>
                  <a:pt x="683" y="163"/>
                  <a:pt x="689" y="166"/>
                  <a:pt x="738" y="166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3456000" y="3749760"/>
            <a:ext cx="588960" cy="446040"/>
          </a:xfrm>
          <a:custGeom>
            <a:avLst/>
            <a:gdLst/>
            <a:ahLst/>
            <a:rect l="l" t="t" r="r" b="b"/>
            <a:pathLst>
              <a:path w="1639" h="1241">
                <a:moveTo>
                  <a:pt x="9674" y="11509"/>
                </a:moveTo>
                <a:cubicBezTo>
                  <a:pt x="9674" y="11549"/>
                  <a:pt x="9664" y="11602"/>
                  <a:pt x="9699" y="11633"/>
                </a:cubicBezTo>
                <a:cubicBezTo>
                  <a:pt x="9707" y="11633"/>
                  <a:pt x="9715" y="11633"/>
                  <a:pt x="9723" y="11633"/>
                </a:cubicBezTo>
                <a:cubicBezTo>
                  <a:pt x="9735" y="11694"/>
                  <a:pt x="9737" y="11708"/>
                  <a:pt x="9798" y="11708"/>
                </a:cubicBezTo>
              </a:path>
              <a:path w="1639" h="1241">
                <a:moveTo>
                  <a:pt x="9624" y="11336"/>
                </a:moveTo>
                <a:cubicBezTo>
                  <a:pt x="9624" y="11485"/>
                  <a:pt x="9624" y="11633"/>
                  <a:pt x="9624" y="11782"/>
                </a:cubicBezTo>
                <a:cubicBezTo>
                  <a:pt x="9687" y="11798"/>
                  <a:pt x="9664" y="11827"/>
                  <a:pt x="9699" y="11881"/>
                </a:cubicBezTo>
                <a:cubicBezTo>
                  <a:pt x="9728" y="11925"/>
                  <a:pt x="9734" y="11930"/>
                  <a:pt x="9773" y="11956"/>
                </a:cubicBezTo>
                <a:cubicBezTo>
                  <a:pt x="9854" y="12010"/>
                  <a:pt x="9908" y="11987"/>
                  <a:pt x="9996" y="12005"/>
                </a:cubicBezTo>
                <a:cubicBezTo>
                  <a:pt x="10066" y="12020"/>
                  <a:pt x="10122" y="12055"/>
                  <a:pt x="10195" y="12055"/>
                </a:cubicBezTo>
                <a:cubicBezTo>
                  <a:pt x="10203" y="12055"/>
                  <a:pt x="10212" y="12055"/>
                  <a:pt x="10220" y="12055"/>
                </a:cubicBezTo>
              </a:path>
              <a:path w="1639" h="1241">
                <a:moveTo>
                  <a:pt x="9773" y="11807"/>
                </a:moveTo>
                <a:cubicBezTo>
                  <a:pt x="9825" y="11837"/>
                  <a:pt x="9863" y="11869"/>
                  <a:pt x="9922" y="11881"/>
                </a:cubicBezTo>
                <a:cubicBezTo>
                  <a:pt x="9964" y="11889"/>
                  <a:pt x="10004" y="11900"/>
                  <a:pt x="10046" y="11906"/>
                </a:cubicBezTo>
                <a:cubicBezTo>
                  <a:pt x="10142" y="11920"/>
                  <a:pt x="10344" y="11933"/>
                  <a:pt x="10418" y="11881"/>
                </a:cubicBezTo>
                <a:cubicBezTo>
                  <a:pt x="10431" y="11872"/>
                  <a:pt x="10483" y="11839"/>
                  <a:pt x="10492" y="11807"/>
                </a:cubicBezTo>
                <a:cubicBezTo>
                  <a:pt x="10513" y="11730"/>
                  <a:pt x="10525" y="11110"/>
                  <a:pt x="10468" y="11088"/>
                </a:cubicBezTo>
                <a:cubicBezTo>
                  <a:pt x="10411" y="11066"/>
                  <a:pt x="10354" y="11080"/>
                  <a:pt x="10294" y="11063"/>
                </a:cubicBezTo>
                <a:cubicBezTo>
                  <a:pt x="10280" y="11059"/>
                  <a:pt x="10221" y="11038"/>
                  <a:pt x="10170" y="11038"/>
                </a:cubicBezTo>
                <a:cubicBezTo>
                  <a:pt x="10078" y="11038"/>
                  <a:pt x="9999" y="11048"/>
                  <a:pt x="9922" y="11063"/>
                </a:cubicBezTo>
                <a:cubicBezTo>
                  <a:pt x="9864" y="11075"/>
                  <a:pt x="9893" y="11099"/>
                  <a:pt x="9847" y="11112"/>
                </a:cubicBezTo>
                <a:cubicBezTo>
                  <a:pt x="9786" y="11129"/>
                  <a:pt x="9820" y="11115"/>
                  <a:pt x="9773" y="11162"/>
                </a:cubicBezTo>
                <a:cubicBezTo>
                  <a:pt x="9743" y="11192"/>
                  <a:pt x="9740" y="11226"/>
                  <a:pt x="9723" y="11261"/>
                </a:cubicBezTo>
                <a:cubicBezTo>
                  <a:pt x="9707" y="11294"/>
                  <a:pt x="9701" y="11321"/>
                  <a:pt x="9699" y="11361"/>
                </a:cubicBezTo>
                <a:cubicBezTo>
                  <a:pt x="9695" y="11427"/>
                  <a:pt x="9685" y="11480"/>
                  <a:pt x="9674" y="11534"/>
                </a:cubicBezTo>
                <a:cubicBezTo>
                  <a:pt x="9674" y="11576"/>
                  <a:pt x="9674" y="11584"/>
                  <a:pt x="9674" y="11609"/>
                </a:cubicBezTo>
                <a:cubicBezTo>
                  <a:pt x="9679" y="11551"/>
                  <a:pt x="9667" y="11530"/>
                  <a:pt x="9699" y="11485"/>
                </a:cubicBezTo>
                <a:cubicBezTo>
                  <a:pt x="9724" y="11450"/>
                  <a:pt x="9734" y="11404"/>
                  <a:pt x="9748" y="11385"/>
                </a:cubicBezTo>
                <a:cubicBezTo>
                  <a:pt x="9774" y="11348"/>
                  <a:pt x="9804" y="11312"/>
                  <a:pt x="9823" y="11286"/>
                </a:cubicBezTo>
                <a:cubicBezTo>
                  <a:pt x="9841" y="11262"/>
                  <a:pt x="9856" y="11228"/>
                  <a:pt x="9872" y="11212"/>
                </a:cubicBezTo>
                <a:cubicBezTo>
                  <a:pt x="9918" y="11166"/>
                  <a:pt x="9997" y="11192"/>
                  <a:pt x="10046" y="11162"/>
                </a:cubicBezTo>
                <a:cubicBezTo>
                  <a:pt x="10074" y="11145"/>
                  <a:pt x="10130" y="11108"/>
                  <a:pt x="10170" y="11088"/>
                </a:cubicBezTo>
                <a:cubicBezTo>
                  <a:pt x="10203" y="11088"/>
                  <a:pt x="10203" y="11088"/>
                  <a:pt x="10145" y="11088"/>
                </a:cubicBezTo>
                <a:cubicBezTo>
                  <a:pt x="10073" y="11088"/>
                  <a:pt x="9894" y="11051"/>
                  <a:pt x="9847" y="11112"/>
                </a:cubicBezTo>
                <a:cubicBezTo>
                  <a:pt x="9822" y="11145"/>
                  <a:pt x="9816" y="11202"/>
                  <a:pt x="9798" y="11237"/>
                </a:cubicBezTo>
                <a:cubicBezTo>
                  <a:pt x="9778" y="11277"/>
                  <a:pt x="9765" y="11324"/>
                  <a:pt x="9748" y="11361"/>
                </a:cubicBezTo>
                <a:cubicBezTo>
                  <a:pt x="9737" y="11385"/>
                  <a:pt x="9699" y="11459"/>
                  <a:pt x="9699" y="11460"/>
                </a:cubicBezTo>
                <a:cubicBezTo>
                  <a:pt x="9676" y="11563"/>
                  <a:pt x="9706" y="11693"/>
                  <a:pt x="9723" y="11782"/>
                </a:cubicBezTo>
                <a:cubicBezTo>
                  <a:pt x="9732" y="11828"/>
                  <a:pt x="9766" y="11839"/>
                  <a:pt x="9773" y="11857"/>
                </a:cubicBezTo>
                <a:cubicBezTo>
                  <a:pt x="9796" y="11913"/>
                  <a:pt x="9778" y="11894"/>
                  <a:pt x="9823" y="11956"/>
                </a:cubicBezTo>
                <a:cubicBezTo>
                  <a:pt x="9843" y="11984"/>
                  <a:pt x="9892" y="12022"/>
                  <a:pt x="9922" y="12030"/>
                </a:cubicBezTo>
                <a:cubicBezTo>
                  <a:pt x="10018" y="12056"/>
                  <a:pt x="10276" y="12054"/>
                  <a:pt x="10344" y="12005"/>
                </a:cubicBezTo>
                <a:cubicBezTo>
                  <a:pt x="10392" y="11971"/>
                  <a:pt x="10409" y="11968"/>
                  <a:pt x="10443" y="11931"/>
                </a:cubicBezTo>
                <a:cubicBezTo>
                  <a:pt x="10459" y="11914"/>
                  <a:pt x="10511" y="11828"/>
                  <a:pt x="10517" y="11807"/>
                </a:cubicBezTo>
                <a:cubicBezTo>
                  <a:pt x="10549" y="11693"/>
                  <a:pt x="10507" y="11486"/>
                  <a:pt x="10492" y="11410"/>
                </a:cubicBezTo>
                <a:cubicBezTo>
                  <a:pt x="10482" y="11362"/>
                  <a:pt x="10475" y="11335"/>
                  <a:pt x="10468" y="11286"/>
                </a:cubicBezTo>
                <a:cubicBezTo>
                  <a:pt x="10460" y="11236"/>
                  <a:pt x="10469" y="11231"/>
                  <a:pt x="10443" y="11187"/>
                </a:cubicBezTo>
                <a:cubicBezTo>
                  <a:pt x="10443" y="11162"/>
                  <a:pt x="10443" y="11154"/>
                  <a:pt x="10443" y="11187"/>
                </a:cubicBezTo>
                <a:cubicBezTo>
                  <a:pt x="10491" y="11215"/>
                  <a:pt x="10555" y="11248"/>
                  <a:pt x="10567" y="11311"/>
                </a:cubicBezTo>
                <a:cubicBezTo>
                  <a:pt x="10585" y="11410"/>
                  <a:pt x="10567" y="11532"/>
                  <a:pt x="10567" y="11633"/>
                </a:cubicBezTo>
                <a:cubicBezTo>
                  <a:pt x="10567" y="11715"/>
                  <a:pt x="10567" y="11659"/>
                  <a:pt x="10567" y="11609"/>
                </a:cubicBezTo>
                <a:cubicBezTo>
                  <a:pt x="10567" y="11554"/>
                  <a:pt x="10567" y="11554"/>
                  <a:pt x="10567" y="11609"/>
                </a:cubicBezTo>
                <a:cubicBezTo>
                  <a:pt x="10567" y="11646"/>
                  <a:pt x="10543" y="11680"/>
                  <a:pt x="10542" y="11683"/>
                </a:cubicBezTo>
                <a:cubicBezTo>
                  <a:pt x="10532" y="11733"/>
                  <a:pt x="10540" y="11737"/>
                  <a:pt x="10517" y="11782"/>
                </a:cubicBezTo>
                <a:cubicBezTo>
                  <a:pt x="10501" y="11815"/>
                  <a:pt x="10490" y="11828"/>
                  <a:pt x="10468" y="11857"/>
                </a:cubicBezTo>
                <a:cubicBezTo>
                  <a:pt x="10453" y="11877"/>
                  <a:pt x="10452" y="11909"/>
                  <a:pt x="10418" y="11931"/>
                </a:cubicBezTo>
                <a:cubicBezTo>
                  <a:pt x="10380" y="11956"/>
                  <a:pt x="10344" y="11978"/>
                  <a:pt x="10294" y="11981"/>
                </a:cubicBezTo>
                <a:cubicBezTo>
                  <a:pt x="10165" y="11989"/>
                  <a:pt x="10046" y="11970"/>
                  <a:pt x="9922" y="11956"/>
                </a:cubicBezTo>
                <a:cubicBezTo>
                  <a:pt x="9871" y="11950"/>
                  <a:pt x="9796" y="11950"/>
                  <a:pt x="9748" y="11931"/>
                </a:cubicBezTo>
                <a:cubicBezTo>
                  <a:pt x="9728" y="11923"/>
                  <a:pt x="9715" y="11858"/>
                  <a:pt x="9699" y="11832"/>
                </a:cubicBezTo>
                <a:cubicBezTo>
                  <a:pt x="9690" y="11817"/>
                  <a:pt x="9663" y="11774"/>
                  <a:pt x="9649" y="11757"/>
                </a:cubicBezTo>
                <a:cubicBezTo>
                  <a:pt x="9623" y="11725"/>
                  <a:pt x="9606" y="11672"/>
                  <a:pt x="9599" y="11633"/>
                </a:cubicBezTo>
                <a:cubicBezTo>
                  <a:pt x="9590" y="11579"/>
                  <a:pt x="9599" y="11515"/>
                  <a:pt x="9599" y="11460"/>
                </a:cubicBezTo>
              </a:path>
              <a:path w="1639" h="1241">
                <a:moveTo>
                  <a:pt x="10244" y="11137"/>
                </a:moveTo>
                <a:cubicBezTo>
                  <a:pt x="10333" y="11194"/>
                  <a:pt x="10444" y="11256"/>
                  <a:pt x="10542" y="11286"/>
                </a:cubicBezTo>
                <a:cubicBezTo>
                  <a:pt x="10611" y="11307"/>
                  <a:pt x="10612" y="11310"/>
                  <a:pt x="10616" y="11385"/>
                </a:cubicBezTo>
                <a:cubicBezTo>
                  <a:pt x="10618" y="11418"/>
                  <a:pt x="10616" y="11452"/>
                  <a:pt x="10616" y="11485"/>
                </a:cubicBezTo>
                <a:cubicBezTo>
                  <a:pt x="10570" y="11438"/>
                  <a:pt x="10523" y="11394"/>
                  <a:pt x="10468" y="11361"/>
                </a:cubicBezTo>
                <a:cubicBezTo>
                  <a:pt x="10431" y="11339"/>
                  <a:pt x="10370" y="11270"/>
                  <a:pt x="10344" y="11261"/>
                </a:cubicBezTo>
                <a:cubicBezTo>
                  <a:pt x="10289" y="11243"/>
                  <a:pt x="10278" y="11243"/>
                  <a:pt x="10220" y="11212"/>
                </a:cubicBezTo>
                <a:cubicBezTo>
                  <a:pt x="10188" y="11195"/>
                  <a:pt x="10159" y="11189"/>
                  <a:pt x="10120" y="11187"/>
                </a:cubicBezTo>
                <a:cubicBezTo>
                  <a:pt x="10071" y="11184"/>
                  <a:pt x="10020" y="11187"/>
                  <a:pt x="9971" y="11187"/>
                </a:cubicBezTo>
                <a:cubicBezTo>
                  <a:pt x="10020" y="11187"/>
                  <a:pt x="10022" y="11187"/>
                  <a:pt x="10071" y="11187"/>
                </a:cubicBezTo>
                <a:cubicBezTo>
                  <a:pt x="10184" y="11187"/>
                  <a:pt x="10204" y="11196"/>
                  <a:pt x="10294" y="11237"/>
                </a:cubicBezTo>
                <a:cubicBezTo>
                  <a:pt x="10360" y="11267"/>
                  <a:pt x="10401" y="11265"/>
                  <a:pt x="10418" y="11336"/>
                </a:cubicBezTo>
                <a:cubicBezTo>
                  <a:pt x="10447" y="11460"/>
                  <a:pt x="10437" y="11775"/>
                  <a:pt x="10393" y="11857"/>
                </a:cubicBezTo>
                <a:cubicBezTo>
                  <a:pt x="10374" y="11892"/>
                  <a:pt x="10381" y="11920"/>
                  <a:pt x="10344" y="11931"/>
                </a:cubicBezTo>
                <a:cubicBezTo>
                  <a:pt x="10295" y="11945"/>
                  <a:pt x="10273" y="11932"/>
                  <a:pt x="10220" y="11956"/>
                </a:cubicBezTo>
                <a:cubicBezTo>
                  <a:pt x="10167" y="11980"/>
                  <a:pt x="10151" y="11979"/>
                  <a:pt x="10096" y="11981"/>
                </a:cubicBezTo>
                <a:cubicBezTo>
                  <a:pt x="10038" y="11983"/>
                  <a:pt x="9980" y="11981"/>
                  <a:pt x="9922" y="11981"/>
                </a:cubicBezTo>
                <a:cubicBezTo>
                  <a:pt x="9939" y="11920"/>
                  <a:pt x="9924" y="11953"/>
                  <a:pt x="9971" y="11906"/>
                </a:cubicBezTo>
                <a:cubicBezTo>
                  <a:pt x="10015" y="11862"/>
                  <a:pt x="10014" y="11895"/>
                  <a:pt x="10021" y="11832"/>
                </a:cubicBezTo>
                <a:cubicBezTo>
                  <a:pt x="10046" y="11619"/>
                  <a:pt x="10021" y="11249"/>
                  <a:pt x="10021" y="11112"/>
                </a:cubicBezTo>
                <a:cubicBezTo>
                  <a:pt x="10047" y="11164"/>
                  <a:pt x="10046" y="11194"/>
                  <a:pt x="10046" y="11261"/>
                </a:cubicBezTo>
                <a:cubicBezTo>
                  <a:pt x="10046" y="11534"/>
                  <a:pt x="10193" y="12260"/>
                  <a:pt x="10046" y="12030"/>
                </a:cubicBezTo>
                <a:cubicBezTo>
                  <a:pt x="10025" y="11997"/>
                  <a:pt x="10004" y="11965"/>
                  <a:pt x="9971" y="11931"/>
                </a:cubicBezTo>
                <a:cubicBezTo>
                  <a:pt x="9952" y="11912"/>
                  <a:pt x="9958" y="11880"/>
                  <a:pt x="9922" y="11857"/>
                </a:cubicBezTo>
                <a:cubicBezTo>
                  <a:pt x="9885" y="11833"/>
                  <a:pt x="9883" y="11808"/>
                  <a:pt x="9847" y="11782"/>
                </a:cubicBezTo>
                <a:cubicBezTo>
                  <a:pt x="9819" y="11782"/>
                  <a:pt x="9809" y="11779"/>
                  <a:pt x="9798" y="11757"/>
                </a:cubicBezTo>
              </a:path>
              <a:path w="1639" h="1241">
                <a:moveTo>
                  <a:pt x="9699" y="11559"/>
                </a:moveTo>
                <a:cubicBezTo>
                  <a:pt x="9866" y="11559"/>
                  <a:pt x="10044" y="11557"/>
                  <a:pt x="10195" y="11534"/>
                </a:cubicBezTo>
                <a:cubicBezTo>
                  <a:pt x="10260" y="11524"/>
                  <a:pt x="10563" y="11559"/>
                  <a:pt x="10468" y="11534"/>
                </a:cubicBezTo>
                <a:cubicBezTo>
                  <a:pt x="10382" y="11511"/>
                  <a:pt x="10336" y="11487"/>
                  <a:pt x="10269" y="11435"/>
                </a:cubicBezTo>
              </a:path>
              <a:path w="1639" h="1241">
                <a:moveTo>
                  <a:pt x="10170" y="11137"/>
                </a:moveTo>
                <a:cubicBezTo>
                  <a:pt x="10170" y="11443"/>
                  <a:pt x="10170" y="11749"/>
                  <a:pt x="10170" y="12055"/>
                </a:cubicBezTo>
              </a:path>
              <a:path w="1639" h="1241">
                <a:moveTo>
                  <a:pt x="11237" y="11187"/>
                </a:moveTo>
                <a:lnTo>
                  <a:pt x="11237" y="11187"/>
                </a:lnTo>
              </a:path>
              <a:path w="1639" h="1241">
                <a:moveTo>
                  <a:pt x="11237" y="11112"/>
                </a:moveTo>
                <a:lnTo>
                  <a:pt x="11237" y="11112"/>
                </a:lnTo>
                <a:lnTo>
                  <a:pt x="11237" y="11112"/>
                </a:lnTo>
              </a:path>
              <a:path w="1639" h="1241">
                <a:moveTo>
                  <a:pt x="11212" y="11063"/>
                </a:moveTo>
                <a:cubicBezTo>
                  <a:pt x="11212" y="11055"/>
                  <a:pt x="11212" y="11046"/>
                  <a:pt x="11212" y="11038"/>
                </a:cubicBezTo>
              </a:path>
              <a:path w="1639" h="1241">
                <a:moveTo>
                  <a:pt x="11212" y="10815"/>
                </a:moveTo>
                <a:lnTo>
                  <a:pt x="11212" y="10815"/>
                </a:lnTo>
              </a:path>
              <a:path w="1639" h="1241">
                <a:moveTo>
                  <a:pt x="11137" y="10840"/>
                </a:moveTo>
                <a:cubicBezTo>
                  <a:pt x="11137" y="10864"/>
                  <a:pt x="11137" y="10873"/>
                  <a:pt x="11137" y="10889"/>
                </a:cubicBezTo>
              </a:path>
              <a:path w="1639" h="1241">
                <a:moveTo>
                  <a:pt x="11088" y="11137"/>
                </a:moveTo>
                <a:cubicBezTo>
                  <a:pt x="11088" y="11145"/>
                  <a:pt x="11088" y="11154"/>
                  <a:pt x="11088" y="11162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5313240" y="3819600"/>
            <a:ext cx="384120" cy="385560"/>
          </a:xfrm>
          <a:custGeom>
            <a:avLst/>
            <a:gdLst/>
            <a:ahLst/>
            <a:rect l="l" t="t" r="r" b="b"/>
            <a:pathLst>
              <a:path w="1067" h="1068">
                <a:moveTo>
                  <a:pt x="15255" y="11088"/>
                </a:moveTo>
                <a:cubicBezTo>
                  <a:pt x="15194" y="11088"/>
                  <a:pt x="15128" y="11075"/>
                  <a:pt x="15081" y="11112"/>
                </a:cubicBezTo>
                <a:cubicBezTo>
                  <a:pt x="15066" y="11124"/>
                  <a:pt x="15048" y="11165"/>
                  <a:pt x="15032" y="11187"/>
                </a:cubicBezTo>
                <a:cubicBezTo>
                  <a:pt x="15025" y="11196"/>
                  <a:pt x="14986" y="11232"/>
                  <a:pt x="14982" y="11261"/>
                </a:cubicBezTo>
                <a:cubicBezTo>
                  <a:pt x="14975" y="11309"/>
                  <a:pt x="14964" y="11343"/>
                  <a:pt x="14957" y="11385"/>
                </a:cubicBezTo>
                <a:cubicBezTo>
                  <a:pt x="14937" y="11505"/>
                  <a:pt x="14929" y="11758"/>
                  <a:pt x="14982" y="11857"/>
                </a:cubicBezTo>
                <a:cubicBezTo>
                  <a:pt x="15015" y="11919"/>
                  <a:pt x="15029" y="11902"/>
                  <a:pt x="15081" y="11931"/>
                </a:cubicBezTo>
                <a:cubicBezTo>
                  <a:pt x="15112" y="11948"/>
                  <a:pt x="15141" y="11954"/>
                  <a:pt x="15180" y="11956"/>
                </a:cubicBezTo>
                <a:cubicBezTo>
                  <a:pt x="15298" y="11963"/>
                  <a:pt x="15569" y="11998"/>
                  <a:pt x="15652" y="11931"/>
                </a:cubicBezTo>
                <a:cubicBezTo>
                  <a:pt x="15663" y="11922"/>
                  <a:pt x="15717" y="11887"/>
                  <a:pt x="15726" y="11857"/>
                </a:cubicBezTo>
                <a:cubicBezTo>
                  <a:pt x="15784" y="11655"/>
                  <a:pt x="15726" y="11350"/>
                  <a:pt x="15726" y="11137"/>
                </a:cubicBezTo>
                <a:cubicBezTo>
                  <a:pt x="15654" y="11137"/>
                  <a:pt x="15608" y="11122"/>
                  <a:pt x="15553" y="11112"/>
                </a:cubicBezTo>
                <a:cubicBezTo>
                  <a:pt x="15413" y="11086"/>
                  <a:pt x="14948" y="11065"/>
                  <a:pt x="14858" y="11137"/>
                </a:cubicBezTo>
                <a:cubicBezTo>
                  <a:pt x="14818" y="11169"/>
                  <a:pt x="14805" y="11157"/>
                  <a:pt x="14784" y="11187"/>
                </a:cubicBezTo>
                <a:cubicBezTo>
                  <a:pt x="14765" y="11213"/>
                  <a:pt x="14761" y="11250"/>
                  <a:pt x="14759" y="11286"/>
                </a:cubicBezTo>
                <a:cubicBezTo>
                  <a:pt x="14756" y="11335"/>
                  <a:pt x="14759" y="11386"/>
                  <a:pt x="14759" y="11435"/>
                </a:cubicBezTo>
                <a:cubicBezTo>
                  <a:pt x="14787" y="11412"/>
                  <a:pt x="14804" y="11325"/>
                  <a:pt x="14808" y="11361"/>
                </a:cubicBezTo>
                <a:cubicBezTo>
                  <a:pt x="14818" y="11441"/>
                  <a:pt x="14808" y="11529"/>
                  <a:pt x="14808" y="11609"/>
                </a:cubicBezTo>
                <a:cubicBezTo>
                  <a:pt x="14808" y="11658"/>
                  <a:pt x="14826" y="11633"/>
                  <a:pt x="14833" y="11584"/>
                </a:cubicBezTo>
                <a:cubicBezTo>
                  <a:pt x="14843" y="11515"/>
                  <a:pt x="14833" y="11485"/>
                  <a:pt x="14833" y="11584"/>
                </a:cubicBezTo>
                <a:cubicBezTo>
                  <a:pt x="14833" y="11604"/>
                  <a:pt x="14833" y="11743"/>
                  <a:pt x="14833" y="11683"/>
                </a:cubicBezTo>
                <a:cubicBezTo>
                  <a:pt x="14833" y="11560"/>
                  <a:pt x="14881" y="11722"/>
                  <a:pt x="14883" y="11757"/>
                </a:cubicBezTo>
                <a:cubicBezTo>
                  <a:pt x="14884" y="11779"/>
                  <a:pt x="14883" y="11869"/>
                  <a:pt x="14883" y="11757"/>
                </a:cubicBezTo>
                <a:cubicBezTo>
                  <a:pt x="14883" y="11678"/>
                  <a:pt x="14865" y="11576"/>
                  <a:pt x="14858" y="11534"/>
                </a:cubicBezTo>
                <a:cubicBezTo>
                  <a:pt x="14845" y="11459"/>
                  <a:pt x="14838" y="11292"/>
                  <a:pt x="14883" y="11237"/>
                </a:cubicBezTo>
                <a:cubicBezTo>
                  <a:pt x="14912" y="11201"/>
                  <a:pt x="14921" y="11173"/>
                  <a:pt x="14957" y="11137"/>
                </a:cubicBezTo>
                <a:cubicBezTo>
                  <a:pt x="14985" y="11109"/>
                  <a:pt x="14996" y="11080"/>
                  <a:pt x="15032" y="11063"/>
                </a:cubicBezTo>
                <a:cubicBezTo>
                  <a:pt x="15084" y="11039"/>
                  <a:pt x="15099" y="11061"/>
                  <a:pt x="15131" y="11038"/>
                </a:cubicBezTo>
                <a:cubicBezTo>
                  <a:pt x="15171" y="11009"/>
                  <a:pt x="15180" y="11016"/>
                  <a:pt x="15230" y="11013"/>
                </a:cubicBezTo>
                <a:cubicBezTo>
                  <a:pt x="15362" y="11006"/>
                  <a:pt x="15445" y="11013"/>
                  <a:pt x="15577" y="11013"/>
                </a:cubicBezTo>
                <a:cubicBezTo>
                  <a:pt x="15514" y="11013"/>
                  <a:pt x="15394" y="11002"/>
                  <a:pt x="15404" y="11013"/>
                </a:cubicBezTo>
                <a:cubicBezTo>
                  <a:pt x="15510" y="11123"/>
                  <a:pt x="15444" y="10964"/>
                  <a:pt x="15404" y="11038"/>
                </a:cubicBezTo>
                <a:cubicBezTo>
                  <a:pt x="15383" y="11077"/>
                  <a:pt x="15444" y="11147"/>
                  <a:pt x="15478" y="11162"/>
                </a:cubicBezTo>
                <a:cubicBezTo>
                  <a:pt x="15486" y="11162"/>
                  <a:pt x="15495" y="11162"/>
                  <a:pt x="15503" y="11162"/>
                </a:cubicBezTo>
                <a:cubicBezTo>
                  <a:pt x="15467" y="11138"/>
                  <a:pt x="15421" y="11115"/>
                  <a:pt x="15354" y="11112"/>
                </a:cubicBezTo>
                <a:cubicBezTo>
                  <a:pt x="15275" y="11109"/>
                  <a:pt x="15195" y="11103"/>
                  <a:pt x="15131" y="11137"/>
                </a:cubicBezTo>
                <a:cubicBezTo>
                  <a:pt x="15097" y="11155"/>
                  <a:pt x="15080" y="11171"/>
                  <a:pt x="15056" y="11187"/>
                </a:cubicBezTo>
                <a:cubicBezTo>
                  <a:pt x="15034" y="11201"/>
                  <a:pt x="14991" y="11223"/>
                  <a:pt x="14982" y="11237"/>
                </a:cubicBezTo>
                <a:cubicBezTo>
                  <a:pt x="14969" y="11257"/>
                  <a:pt x="14970" y="11321"/>
                  <a:pt x="14957" y="11336"/>
                </a:cubicBezTo>
                <a:cubicBezTo>
                  <a:pt x="14949" y="11336"/>
                  <a:pt x="14940" y="11336"/>
                  <a:pt x="14932" y="11336"/>
                </a:cubicBezTo>
                <a:cubicBezTo>
                  <a:pt x="14941" y="11274"/>
                  <a:pt x="14944" y="11295"/>
                  <a:pt x="14982" y="11261"/>
                </a:cubicBezTo>
                <a:cubicBezTo>
                  <a:pt x="15018" y="11229"/>
                  <a:pt x="15048" y="11216"/>
                  <a:pt x="15081" y="11187"/>
                </a:cubicBezTo>
                <a:cubicBezTo>
                  <a:pt x="15103" y="11167"/>
                  <a:pt x="15114" y="11164"/>
                  <a:pt x="15156" y="11162"/>
                </a:cubicBezTo>
                <a:cubicBezTo>
                  <a:pt x="15222" y="11158"/>
                  <a:pt x="15288" y="11162"/>
                  <a:pt x="15354" y="11162"/>
                </a:cubicBezTo>
                <a:cubicBezTo>
                  <a:pt x="15354" y="11468"/>
                  <a:pt x="15354" y="11774"/>
                  <a:pt x="15354" y="12080"/>
                </a:cubicBezTo>
                <a:cubicBezTo>
                  <a:pt x="15346" y="12027"/>
                  <a:pt x="15358" y="12006"/>
                  <a:pt x="15329" y="11981"/>
                </a:cubicBezTo>
                <a:cubicBezTo>
                  <a:pt x="15289" y="11947"/>
                  <a:pt x="15280" y="11951"/>
                  <a:pt x="15255" y="11931"/>
                </a:cubicBezTo>
              </a:path>
              <a:path w="1067" h="1068">
                <a:moveTo>
                  <a:pt x="14858" y="11509"/>
                </a:moveTo>
                <a:cubicBezTo>
                  <a:pt x="15180" y="11509"/>
                  <a:pt x="15503" y="11509"/>
                  <a:pt x="15825" y="11509"/>
                </a:cubicBezTo>
                <a:cubicBezTo>
                  <a:pt x="15750" y="11467"/>
                  <a:pt x="15765" y="11449"/>
                  <a:pt x="15726" y="11385"/>
                </a:cubicBezTo>
                <a:cubicBezTo>
                  <a:pt x="15706" y="11352"/>
                  <a:pt x="15676" y="11313"/>
                  <a:pt x="15652" y="11286"/>
                </a:cubicBezTo>
                <a:cubicBezTo>
                  <a:pt x="15616" y="11246"/>
                  <a:pt x="15614" y="11250"/>
                  <a:pt x="15577" y="11212"/>
                </a:cubicBezTo>
                <a:cubicBezTo>
                  <a:pt x="15569" y="11204"/>
                  <a:pt x="15561" y="11195"/>
                  <a:pt x="15553" y="11187"/>
                </a:cubicBezTo>
                <a:cubicBezTo>
                  <a:pt x="15599" y="11234"/>
                  <a:pt x="15625" y="11225"/>
                  <a:pt x="15677" y="11261"/>
                </a:cubicBezTo>
                <a:cubicBezTo>
                  <a:pt x="15705" y="11280"/>
                  <a:pt x="15719" y="11332"/>
                  <a:pt x="15726" y="11361"/>
                </a:cubicBezTo>
                <a:cubicBezTo>
                  <a:pt x="15748" y="11458"/>
                  <a:pt x="15759" y="11757"/>
                  <a:pt x="15701" y="11832"/>
                </a:cubicBezTo>
                <a:cubicBezTo>
                  <a:pt x="15674" y="11866"/>
                  <a:pt x="15671" y="11885"/>
                  <a:pt x="15652" y="11906"/>
                </a:cubicBezTo>
                <a:cubicBezTo>
                  <a:pt x="15623" y="11939"/>
                  <a:pt x="15598" y="11977"/>
                  <a:pt x="15577" y="12005"/>
                </a:cubicBezTo>
                <a:cubicBezTo>
                  <a:pt x="15556" y="12034"/>
                  <a:pt x="15510" y="12048"/>
                  <a:pt x="15478" y="12055"/>
                </a:cubicBezTo>
                <a:cubicBezTo>
                  <a:pt x="15431" y="12065"/>
                  <a:pt x="15392" y="12036"/>
                  <a:pt x="15379" y="12030"/>
                </a:cubicBezTo>
                <a:cubicBezTo>
                  <a:pt x="15330" y="12008"/>
                  <a:pt x="15297" y="12005"/>
                  <a:pt x="15255" y="11981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4203720" y="919080"/>
            <a:ext cx="1311120" cy="333360"/>
          </a:xfrm>
          <a:custGeom>
            <a:avLst/>
            <a:gdLst/>
            <a:ahLst/>
            <a:rect l="l" t="t" r="r" b="b"/>
            <a:pathLst>
              <a:path w="826" h="210">
                <a:moveTo>
                  <a:pt x="0" y="210"/>
                </a:moveTo>
                <a:cubicBezTo>
                  <a:pt x="24" y="175"/>
                  <a:pt x="61" y="154"/>
                  <a:pt x="96" y="130"/>
                </a:cubicBezTo>
                <a:cubicBezTo>
                  <a:pt x="107" y="114"/>
                  <a:pt x="117" y="98"/>
                  <a:pt x="128" y="82"/>
                </a:cubicBezTo>
                <a:cubicBezTo>
                  <a:pt x="139" y="66"/>
                  <a:pt x="191" y="53"/>
                  <a:pt x="200" y="50"/>
                </a:cubicBezTo>
                <a:cubicBezTo>
                  <a:pt x="265" y="28"/>
                  <a:pt x="271" y="34"/>
                  <a:pt x="360" y="26"/>
                </a:cubicBezTo>
                <a:cubicBezTo>
                  <a:pt x="379" y="24"/>
                  <a:pt x="397" y="21"/>
                  <a:pt x="416" y="18"/>
                </a:cubicBezTo>
                <a:cubicBezTo>
                  <a:pt x="826" y="30"/>
                  <a:pt x="594" y="0"/>
                  <a:pt x="744" y="50"/>
                </a:cubicBezTo>
                <a:cubicBezTo>
                  <a:pt x="763" y="107"/>
                  <a:pt x="751" y="84"/>
                  <a:pt x="776" y="122"/>
                </a:cubicBezTo>
                <a:cubicBezTo>
                  <a:pt x="782" y="151"/>
                  <a:pt x="792" y="181"/>
                  <a:pt x="792" y="210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5207040" y="1417680"/>
            <a:ext cx="1054080" cy="342720"/>
          </a:xfrm>
          <a:custGeom>
            <a:avLst/>
            <a:gdLst/>
            <a:ahLst/>
            <a:rect l="l" t="t" r="r" b="b"/>
            <a:pathLst>
              <a:path w="664" h="216">
                <a:moveTo>
                  <a:pt x="0" y="192"/>
                </a:moveTo>
                <a:cubicBezTo>
                  <a:pt x="5" y="176"/>
                  <a:pt x="11" y="160"/>
                  <a:pt x="16" y="144"/>
                </a:cubicBezTo>
                <a:cubicBezTo>
                  <a:pt x="19" y="136"/>
                  <a:pt x="16" y="124"/>
                  <a:pt x="24" y="120"/>
                </a:cubicBezTo>
                <a:cubicBezTo>
                  <a:pt x="96" y="84"/>
                  <a:pt x="111" y="80"/>
                  <a:pt x="64" y="96"/>
                </a:cubicBezTo>
                <a:cubicBezTo>
                  <a:pt x="55" y="99"/>
                  <a:pt x="48" y="107"/>
                  <a:pt x="40" y="112"/>
                </a:cubicBezTo>
                <a:cubicBezTo>
                  <a:pt x="35" y="120"/>
                  <a:pt x="34" y="136"/>
                  <a:pt x="24" y="136"/>
                </a:cubicBezTo>
                <a:cubicBezTo>
                  <a:pt x="16" y="136"/>
                  <a:pt x="27" y="119"/>
                  <a:pt x="32" y="112"/>
                </a:cubicBezTo>
                <a:cubicBezTo>
                  <a:pt x="38" y="103"/>
                  <a:pt x="49" y="97"/>
                  <a:pt x="56" y="88"/>
                </a:cubicBezTo>
                <a:cubicBezTo>
                  <a:pt x="78" y="62"/>
                  <a:pt x="86" y="43"/>
                  <a:pt x="120" y="32"/>
                </a:cubicBezTo>
                <a:cubicBezTo>
                  <a:pt x="112" y="29"/>
                  <a:pt x="104" y="21"/>
                  <a:pt x="96" y="24"/>
                </a:cubicBezTo>
                <a:cubicBezTo>
                  <a:pt x="85" y="28"/>
                  <a:pt x="83" y="48"/>
                  <a:pt x="72" y="48"/>
                </a:cubicBezTo>
                <a:cubicBezTo>
                  <a:pt x="62" y="48"/>
                  <a:pt x="81" y="30"/>
                  <a:pt x="88" y="24"/>
                </a:cubicBezTo>
                <a:cubicBezTo>
                  <a:pt x="106" y="9"/>
                  <a:pt x="130" y="5"/>
                  <a:pt x="152" y="0"/>
                </a:cubicBezTo>
                <a:cubicBezTo>
                  <a:pt x="203" y="5"/>
                  <a:pt x="256" y="0"/>
                  <a:pt x="304" y="16"/>
                </a:cubicBezTo>
                <a:cubicBezTo>
                  <a:pt x="312" y="19"/>
                  <a:pt x="288" y="21"/>
                  <a:pt x="280" y="24"/>
                </a:cubicBezTo>
                <a:cubicBezTo>
                  <a:pt x="354" y="73"/>
                  <a:pt x="264" y="6"/>
                  <a:pt x="312" y="64"/>
                </a:cubicBezTo>
                <a:cubicBezTo>
                  <a:pt x="321" y="74"/>
                  <a:pt x="333" y="80"/>
                  <a:pt x="344" y="88"/>
                </a:cubicBezTo>
                <a:cubicBezTo>
                  <a:pt x="365" y="131"/>
                  <a:pt x="374" y="176"/>
                  <a:pt x="400" y="216"/>
                </a:cubicBezTo>
                <a:cubicBezTo>
                  <a:pt x="472" y="213"/>
                  <a:pt x="544" y="214"/>
                  <a:pt x="616" y="208"/>
                </a:cubicBezTo>
                <a:cubicBezTo>
                  <a:pt x="627" y="207"/>
                  <a:pt x="594" y="204"/>
                  <a:pt x="584" y="200"/>
                </a:cubicBezTo>
                <a:cubicBezTo>
                  <a:pt x="500" y="169"/>
                  <a:pt x="602" y="197"/>
                  <a:pt x="520" y="176"/>
                </a:cubicBezTo>
                <a:cubicBezTo>
                  <a:pt x="563" y="173"/>
                  <a:pt x="606" y="163"/>
                  <a:pt x="648" y="168"/>
                </a:cubicBezTo>
                <a:cubicBezTo>
                  <a:pt x="656" y="169"/>
                  <a:pt x="664" y="192"/>
                  <a:pt x="656" y="192"/>
                </a:cubicBezTo>
                <a:cubicBezTo>
                  <a:pt x="646" y="192"/>
                  <a:pt x="650" y="168"/>
                  <a:pt x="640" y="168"/>
                </a:cubicBezTo>
                <a:cubicBezTo>
                  <a:pt x="632" y="168"/>
                  <a:pt x="648" y="192"/>
                  <a:pt x="648" y="192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5292720" y="148428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5214960" y="1509840"/>
            <a:ext cx="642960" cy="490320"/>
          </a:xfrm>
          <a:custGeom>
            <a:avLst/>
            <a:gdLst/>
            <a:ahLst/>
            <a:rect l="l" t="t" r="r" b="b"/>
            <a:pathLst>
              <a:path w="1787" h="1365">
                <a:moveTo>
                  <a:pt x="15751" y="5383"/>
                </a:moveTo>
                <a:cubicBezTo>
                  <a:pt x="15713" y="5410"/>
                  <a:pt x="15699" y="5407"/>
                  <a:pt x="15652" y="5407"/>
                </a:cubicBezTo>
                <a:cubicBezTo>
                  <a:pt x="15543" y="5407"/>
                  <a:pt x="15455" y="5407"/>
                  <a:pt x="15354" y="5432"/>
                </a:cubicBezTo>
                <a:cubicBezTo>
                  <a:pt x="15346" y="5432"/>
                  <a:pt x="15337" y="5432"/>
                  <a:pt x="15329" y="5432"/>
                </a:cubicBezTo>
                <a:cubicBezTo>
                  <a:pt x="15393" y="5394"/>
                  <a:pt x="15455" y="5404"/>
                  <a:pt x="15528" y="5383"/>
                </a:cubicBezTo>
                <a:cubicBezTo>
                  <a:pt x="15569" y="5371"/>
                  <a:pt x="15596" y="5356"/>
                  <a:pt x="15627" y="5333"/>
                </a:cubicBezTo>
                <a:cubicBezTo>
                  <a:pt x="15462" y="5333"/>
                  <a:pt x="14999" y="5361"/>
                  <a:pt x="15156" y="5308"/>
                </a:cubicBezTo>
                <a:cubicBezTo>
                  <a:pt x="15199" y="5293"/>
                  <a:pt x="15261" y="5289"/>
                  <a:pt x="15304" y="5283"/>
                </a:cubicBezTo>
                <a:cubicBezTo>
                  <a:pt x="15220" y="5283"/>
                  <a:pt x="15203" y="5295"/>
                  <a:pt x="15131" y="5333"/>
                </a:cubicBezTo>
                <a:cubicBezTo>
                  <a:pt x="15079" y="5361"/>
                  <a:pt x="15072" y="5389"/>
                  <a:pt x="15056" y="5358"/>
                </a:cubicBezTo>
                <a:cubicBezTo>
                  <a:pt x="15255" y="5358"/>
                  <a:pt x="15453" y="5358"/>
                  <a:pt x="15652" y="5358"/>
                </a:cubicBezTo>
                <a:cubicBezTo>
                  <a:pt x="15571" y="5368"/>
                  <a:pt x="15532" y="5408"/>
                  <a:pt x="15453" y="5432"/>
                </a:cubicBezTo>
                <a:cubicBezTo>
                  <a:pt x="15344" y="5465"/>
                  <a:pt x="15229" y="5480"/>
                  <a:pt x="15131" y="5531"/>
                </a:cubicBezTo>
                <a:cubicBezTo>
                  <a:pt x="15114" y="5539"/>
                  <a:pt x="15098" y="5548"/>
                  <a:pt x="15081" y="5556"/>
                </a:cubicBezTo>
                <a:cubicBezTo>
                  <a:pt x="15147" y="5523"/>
                  <a:pt x="15228" y="5526"/>
                  <a:pt x="15304" y="5507"/>
                </a:cubicBezTo>
                <a:cubicBezTo>
                  <a:pt x="15362" y="5488"/>
                  <a:pt x="15369" y="5479"/>
                  <a:pt x="15404" y="5482"/>
                </a:cubicBezTo>
                <a:cubicBezTo>
                  <a:pt x="15239" y="5482"/>
                  <a:pt x="15073" y="5482"/>
                  <a:pt x="14908" y="5482"/>
                </a:cubicBezTo>
                <a:cubicBezTo>
                  <a:pt x="14980" y="5467"/>
                  <a:pt x="15057" y="5454"/>
                  <a:pt x="15131" y="5432"/>
                </a:cubicBezTo>
                <a:cubicBezTo>
                  <a:pt x="15237" y="5401"/>
                  <a:pt x="15353" y="5376"/>
                  <a:pt x="15453" y="5333"/>
                </a:cubicBezTo>
                <a:cubicBezTo>
                  <a:pt x="15197" y="5333"/>
                  <a:pt x="14940" y="5333"/>
                  <a:pt x="14684" y="5333"/>
                </a:cubicBezTo>
                <a:cubicBezTo>
                  <a:pt x="14622" y="5333"/>
                  <a:pt x="14781" y="5333"/>
                  <a:pt x="14808" y="5333"/>
                </a:cubicBezTo>
                <a:cubicBezTo>
                  <a:pt x="14813" y="5333"/>
                  <a:pt x="15070" y="5321"/>
                  <a:pt x="14982" y="5308"/>
                </a:cubicBezTo>
                <a:cubicBezTo>
                  <a:pt x="14974" y="5308"/>
                  <a:pt x="14965" y="5308"/>
                  <a:pt x="14957" y="5308"/>
                </a:cubicBezTo>
              </a:path>
              <a:path w="1787" h="1365">
                <a:moveTo>
                  <a:pt x="16148" y="5011"/>
                </a:moveTo>
                <a:cubicBezTo>
                  <a:pt x="16148" y="4960"/>
                  <a:pt x="16159" y="4952"/>
                  <a:pt x="16173" y="4911"/>
                </a:cubicBezTo>
                <a:cubicBezTo>
                  <a:pt x="16186" y="4872"/>
                  <a:pt x="16173" y="4802"/>
                  <a:pt x="16173" y="4762"/>
                </a:cubicBezTo>
              </a:path>
              <a:path w="1787" h="1365">
                <a:moveTo>
                  <a:pt x="14486" y="4862"/>
                </a:moveTo>
                <a:cubicBezTo>
                  <a:pt x="14486" y="4738"/>
                  <a:pt x="14486" y="4614"/>
                  <a:pt x="14486" y="4490"/>
                </a:cubicBezTo>
              </a:path>
              <a:path w="1787" h="1365">
                <a:moveTo>
                  <a:pt x="15354" y="4192"/>
                </a:moveTo>
                <a:cubicBezTo>
                  <a:pt x="15354" y="4572"/>
                  <a:pt x="15354" y="4953"/>
                  <a:pt x="15354" y="5333"/>
                </a:cubicBezTo>
              </a:path>
              <a:path w="1787" h="1365">
                <a:moveTo>
                  <a:pt x="14759" y="4713"/>
                </a:moveTo>
                <a:cubicBezTo>
                  <a:pt x="14827" y="4758"/>
                  <a:pt x="14876" y="4762"/>
                  <a:pt x="14957" y="4762"/>
                </a:cubicBezTo>
                <a:cubicBezTo>
                  <a:pt x="15263" y="4762"/>
                  <a:pt x="15569" y="4762"/>
                  <a:pt x="15875" y="4762"/>
                </a:cubicBezTo>
              </a:path>
              <a:path w="1787" h="1365">
                <a:moveTo>
                  <a:pt x="15131" y="4266"/>
                </a:moveTo>
                <a:cubicBezTo>
                  <a:pt x="15131" y="4385"/>
                  <a:pt x="15121" y="4510"/>
                  <a:pt x="15156" y="4614"/>
                </a:cubicBezTo>
                <a:cubicBezTo>
                  <a:pt x="15171" y="4659"/>
                  <a:pt x="15144" y="4672"/>
                  <a:pt x="15180" y="4713"/>
                </a:cubicBezTo>
                <a:cubicBezTo>
                  <a:pt x="15202" y="4735"/>
                  <a:pt x="15211" y="4740"/>
                  <a:pt x="15205" y="4762"/>
                </a:cubicBezTo>
                <a:cubicBezTo>
                  <a:pt x="15246" y="4772"/>
                  <a:pt x="15275" y="4791"/>
                  <a:pt x="15280" y="4837"/>
                </a:cubicBezTo>
                <a:cubicBezTo>
                  <a:pt x="15290" y="4924"/>
                  <a:pt x="15277" y="5012"/>
                  <a:pt x="15255" y="5085"/>
                </a:cubicBezTo>
                <a:cubicBezTo>
                  <a:pt x="15245" y="5117"/>
                  <a:pt x="15233" y="5153"/>
                  <a:pt x="15230" y="5184"/>
                </a:cubicBezTo>
                <a:cubicBezTo>
                  <a:pt x="15227" y="5208"/>
                  <a:pt x="15230" y="5352"/>
                  <a:pt x="15230" y="5234"/>
                </a:cubicBezTo>
              </a:path>
              <a:path w="1787" h="1365">
                <a:moveTo>
                  <a:pt x="14759" y="4539"/>
                </a:moveTo>
                <a:cubicBezTo>
                  <a:pt x="14772" y="4591"/>
                  <a:pt x="14795" y="4581"/>
                  <a:pt x="14833" y="4614"/>
                </a:cubicBezTo>
                <a:cubicBezTo>
                  <a:pt x="14871" y="4647"/>
                  <a:pt x="14922" y="4622"/>
                  <a:pt x="14957" y="4663"/>
                </a:cubicBezTo>
                <a:cubicBezTo>
                  <a:pt x="14957" y="4671"/>
                  <a:pt x="14957" y="4680"/>
                  <a:pt x="14957" y="4688"/>
                </a:cubicBezTo>
                <a:cubicBezTo>
                  <a:pt x="15035" y="4688"/>
                  <a:pt x="15084" y="4700"/>
                  <a:pt x="15156" y="4713"/>
                </a:cubicBezTo>
                <a:cubicBezTo>
                  <a:pt x="15234" y="4727"/>
                  <a:pt x="15315" y="4709"/>
                  <a:pt x="15379" y="4688"/>
                </a:cubicBezTo>
                <a:cubicBezTo>
                  <a:pt x="15413" y="4677"/>
                  <a:pt x="15449" y="4683"/>
                  <a:pt x="15478" y="4663"/>
                </a:cubicBezTo>
                <a:cubicBezTo>
                  <a:pt x="15512" y="4640"/>
                  <a:pt x="15561" y="4618"/>
                  <a:pt x="15602" y="4614"/>
                </a:cubicBezTo>
                <a:cubicBezTo>
                  <a:pt x="15656" y="4608"/>
                  <a:pt x="15680" y="4604"/>
                  <a:pt x="15726" y="4589"/>
                </a:cubicBezTo>
                <a:cubicBezTo>
                  <a:pt x="15734" y="4589"/>
                  <a:pt x="15743" y="4589"/>
                  <a:pt x="15751" y="4589"/>
                </a:cubicBezTo>
              </a:path>
              <a:path w="1787" h="1365">
                <a:moveTo>
                  <a:pt x="15304" y="4217"/>
                </a:moveTo>
                <a:cubicBezTo>
                  <a:pt x="15267" y="4239"/>
                  <a:pt x="15217" y="4247"/>
                  <a:pt x="15180" y="4266"/>
                </a:cubicBezTo>
                <a:cubicBezTo>
                  <a:pt x="15150" y="4281"/>
                  <a:pt x="15105" y="4319"/>
                  <a:pt x="15081" y="4341"/>
                </a:cubicBezTo>
                <a:cubicBezTo>
                  <a:pt x="15061" y="4359"/>
                  <a:pt x="15041" y="4363"/>
                  <a:pt x="15007" y="4390"/>
                </a:cubicBezTo>
                <a:cubicBezTo>
                  <a:pt x="14994" y="4401"/>
                  <a:pt x="14957" y="4439"/>
                  <a:pt x="14932" y="4465"/>
                </a:cubicBezTo>
                <a:cubicBezTo>
                  <a:pt x="14909" y="4489"/>
                  <a:pt x="14925" y="4504"/>
                  <a:pt x="14908" y="4539"/>
                </a:cubicBezTo>
                <a:cubicBezTo>
                  <a:pt x="14891" y="4573"/>
                  <a:pt x="14898" y="4606"/>
                  <a:pt x="14883" y="4638"/>
                </a:cubicBezTo>
                <a:cubicBezTo>
                  <a:pt x="14863" y="4681"/>
                  <a:pt x="14861" y="4687"/>
                  <a:pt x="14858" y="4738"/>
                </a:cubicBezTo>
                <a:cubicBezTo>
                  <a:pt x="14853" y="4825"/>
                  <a:pt x="14831" y="4995"/>
                  <a:pt x="14883" y="5060"/>
                </a:cubicBezTo>
                <a:cubicBezTo>
                  <a:pt x="14910" y="5094"/>
                  <a:pt x="14913" y="5114"/>
                  <a:pt x="14932" y="5135"/>
                </a:cubicBezTo>
                <a:cubicBezTo>
                  <a:pt x="14963" y="5170"/>
                  <a:pt x="15011" y="5181"/>
                  <a:pt x="15056" y="5184"/>
                </a:cubicBezTo>
                <a:cubicBezTo>
                  <a:pt x="15190" y="5192"/>
                  <a:pt x="15412" y="5206"/>
                  <a:pt x="15503" y="5159"/>
                </a:cubicBezTo>
                <a:cubicBezTo>
                  <a:pt x="15536" y="5142"/>
                  <a:pt x="15568" y="5130"/>
                  <a:pt x="15602" y="5110"/>
                </a:cubicBezTo>
                <a:cubicBezTo>
                  <a:pt x="15632" y="5092"/>
                  <a:pt x="15669" y="5080"/>
                  <a:pt x="15701" y="5060"/>
                </a:cubicBezTo>
                <a:cubicBezTo>
                  <a:pt x="15745" y="5034"/>
                  <a:pt x="15748" y="5045"/>
                  <a:pt x="15751" y="4986"/>
                </a:cubicBezTo>
                <a:cubicBezTo>
                  <a:pt x="15759" y="4854"/>
                  <a:pt x="15745" y="4682"/>
                  <a:pt x="15726" y="4589"/>
                </a:cubicBezTo>
                <a:cubicBezTo>
                  <a:pt x="15719" y="4556"/>
                  <a:pt x="15708" y="4547"/>
                  <a:pt x="15701" y="4514"/>
                </a:cubicBezTo>
                <a:cubicBezTo>
                  <a:pt x="15692" y="4470"/>
                  <a:pt x="15688" y="4460"/>
                  <a:pt x="15677" y="4440"/>
                </a:cubicBezTo>
                <a:cubicBezTo>
                  <a:pt x="15653" y="4395"/>
                  <a:pt x="15639" y="4393"/>
                  <a:pt x="15602" y="4366"/>
                </a:cubicBezTo>
                <a:cubicBezTo>
                  <a:pt x="15592" y="4359"/>
                  <a:pt x="15563" y="4326"/>
                  <a:pt x="15553" y="4316"/>
                </a:cubicBezTo>
                <a:cubicBezTo>
                  <a:pt x="15521" y="4283"/>
                  <a:pt x="15482" y="4264"/>
                  <a:pt x="15453" y="4242"/>
                </a:cubicBezTo>
                <a:cubicBezTo>
                  <a:pt x="15414" y="4212"/>
                  <a:pt x="15403" y="4220"/>
                  <a:pt x="15354" y="4217"/>
                </a:cubicBezTo>
                <a:cubicBezTo>
                  <a:pt x="15229" y="4210"/>
                  <a:pt x="15068" y="4225"/>
                  <a:pt x="14982" y="4242"/>
                </a:cubicBezTo>
                <a:cubicBezTo>
                  <a:pt x="14906" y="4257"/>
                  <a:pt x="14971" y="4255"/>
                  <a:pt x="14932" y="4291"/>
                </a:cubicBezTo>
                <a:cubicBezTo>
                  <a:pt x="14920" y="4302"/>
                  <a:pt x="14860" y="4333"/>
                  <a:pt x="14858" y="4341"/>
                </a:cubicBezTo>
                <a:cubicBezTo>
                  <a:pt x="14850" y="4367"/>
                  <a:pt x="14837" y="4420"/>
                  <a:pt x="14833" y="4440"/>
                </a:cubicBezTo>
                <a:cubicBezTo>
                  <a:pt x="14808" y="4564"/>
                  <a:pt x="14786" y="4970"/>
                  <a:pt x="14858" y="5060"/>
                </a:cubicBezTo>
                <a:cubicBezTo>
                  <a:pt x="14901" y="5113"/>
                  <a:pt x="14884" y="5082"/>
                  <a:pt x="14932" y="5110"/>
                </a:cubicBezTo>
                <a:cubicBezTo>
                  <a:pt x="14962" y="5128"/>
                  <a:pt x="15010" y="5163"/>
                  <a:pt x="15032" y="5159"/>
                </a:cubicBezTo>
                <a:cubicBezTo>
                  <a:pt x="15056" y="5159"/>
                  <a:pt x="15064" y="5159"/>
                  <a:pt x="15056" y="5135"/>
                </a:cubicBezTo>
                <a:cubicBezTo>
                  <a:pt x="15038" y="5072"/>
                  <a:pt x="15036" y="5087"/>
                  <a:pt x="14982" y="5035"/>
                </a:cubicBezTo>
                <a:cubicBezTo>
                  <a:pt x="14966" y="5020"/>
                  <a:pt x="14950" y="4985"/>
                  <a:pt x="14932" y="4961"/>
                </a:cubicBezTo>
                <a:cubicBezTo>
                  <a:pt x="14924" y="4950"/>
                  <a:pt x="14870" y="4925"/>
                  <a:pt x="14858" y="4911"/>
                </a:cubicBezTo>
                <a:cubicBezTo>
                  <a:pt x="14844" y="4895"/>
                  <a:pt x="14830" y="4859"/>
                  <a:pt x="14808" y="4837"/>
                </a:cubicBezTo>
                <a:cubicBezTo>
                  <a:pt x="14826" y="4899"/>
                  <a:pt x="14810" y="4863"/>
                  <a:pt x="14858" y="4911"/>
                </a:cubicBezTo>
                <a:cubicBezTo>
                  <a:pt x="14869" y="4921"/>
                  <a:pt x="14911" y="4998"/>
                  <a:pt x="14932" y="5011"/>
                </a:cubicBezTo>
                <a:cubicBezTo>
                  <a:pt x="14969" y="5034"/>
                  <a:pt x="15020" y="5030"/>
                  <a:pt x="15056" y="5060"/>
                </a:cubicBezTo>
                <a:cubicBezTo>
                  <a:pt x="15072" y="5074"/>
                  <a:pt x="15153" y="5134"/>
                  <a:pt x="15156" y="5135"/>
                </a:cubicBezTo>
                <a:cubicBezTo>
                  <a:pt x="15275" y="5183"/>
                  <a:pt x="15542" y="5132"/>
                  <a:pt x="15652" y="5110"/>
                </a:cubicBezTo>
                <a:cubicBezTo>
                  <a:pt x="15705" y="5099"/>
                  <a:pt x="15698" y="5108"/>
                  <a:pt x="15726" y="5085"/>
                </a:cubicBezTo>
                <a:cubicBezTo>
                  <a:pt x="15779" y="5042"/>
                  <a:pt x="15748" y="5059"/>
                  <a:pt x="15776" y="5011"/>
                </a:cubicBezTo>
                <a:cubicBezTo>
                  <a:pt x="15809" y="4955"/>
                  <a:pt x="15817" y="5006"/>
                  <a:pt x="15825" y="4936"/>
                </a:cubicBezTo>
                <a:cubicBezTo>
                  <a:pt x="15835" y="4854"/>
                  <a:pt x="15849" y="4675"/>
                  <a:pt x="15801" y="4614"/>
                </a:cubicBezTo>
                <a:cubicBezTo>
                  <a:pt x="15778" y="4585"/>
                  <a:pt x="15761" y="4575"/>
                  <a:pt x="15751" y="4539"/>
                </a:cubicBezTo>
                <a:cubicBezTo>
                  <a:pt x="15735" y="4481"/>
                  <a:pt x="15739" y="4500"/>
                  <a:pt x="15701" y="4465"/>
                </a:cubicBezTo>
                <a:cubicBezTo>
                  <a:pt x="15665" y="4431"/>
                  <a:pt x="15663" y="4425"/>
                  <a:pt x="15627" y="4390"/>
                </a:cubicBezTo>
                <a:cubicBezTo>
                  <a:pt x="15595" y="4359"/>
                  <a:pt x="15579" y="4357"/>
                  <a:pt x="15553" y="4341"/>
                </a:cubicBezTo>
                <a:cubicBezTo>
                  <a:pt x="15520" y="4321"/>
                  <a:pt x="15485" y="4320"/>
                  <a:pt x="15453" y="4291"/>
                </a:cubicBezTo>
                <a:cubicBezTo>
                  <a:pt x="15401" y="4243"/>
                  <a:pt x="15356" y="4243"/>
                  <a:pt x="15304" y="4217"/>
                </a:cubicBezTo>
                <a:cubicBezTo>
                  <a:pt x="15282" y="4206"/>
                  <a:pt x="15281" y="4195"/>
                  <a:pt x="15230" y="4192"/>
                </a:cubicBezTo>
                <a:cubicBezTo>
                  <a:pt x="15158" y="4188"/>
                  <a:pt x="15090" y="4186"/>
                  <a:pt x="15032" y="4217"/>
                </a:cubicBezTo>
                <a:cubicBezTo>
                  <a:pt x="14995" y="4237"/>
                  <a:pt x="14967" y="4256"/>
                  <a:pt x="14932" y="4291"/>
                </a:cubicBezTo>
                <a:cubicBezTo>
                  <a:pt x="14904" y="4319"/>
                  <a:pt x="14919" y="4407"/>
                  <a:pt x="14883" y="4390"/>
                </a:cubicBezTo>
                <a:cubicBezTo>
                  <a:pt x="14879" y="4388"/>
                  <a:pt x="14883" y="4322"/>
                  <a:pt x="14883" y="4316"/>
                </a:cubicBezTo>
              </a:path>
              <a:path w="1787" h="1365">
                <a:moveTo>
                  <a:pt x="16272" y="4589"/>
                </a:moveTo>
                <a:cubicBezTo>
                  <a:pt x="16272" y="4647"/>
                  <a:pt x="16272" y="4704"/>
                  <a:pt x="16272" y="476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3419640" y="148428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3402000" y="1500120"/>
            <a:ext cx="438120" cy="420840"/>
          </a:xfrm>
          <a:custGeom>
            <a:avLst/>
            <a:gdLst/>
            <a:ahLst/>
            <a:rect l="l" t="t" r="r" b="b"/>
            <a:pathLst>
              <a:path w="1216" h="1167">
                <a:moveTo>
                  <a:pt x="10071" y="4316"/>
                </a:moveTo>
                <a:cubicBezTo>
                  <a:pt x="10066" y="4354"/>
                  <a:pt x="10065" y="4385"/>
                  <a:pt x="10046" y="4415"/>
                </a:cubicBezTo>
                <a:cubicBezTo>
                  <a:pt x="10027" y="4445"/>
                  <a:pt x="10024" y="4442"/>
                  <a:pt x="10021" y="4490"/>
                </a:cubicBezTo>
                <a:cubicBezTo>
                  <a:pt x="10006" y="4744"/>
                  <a:pt x="10021" y="5004"/>
                  <a:pt x="10021" y="5259"/>
                </a:cubicBezTo>
                <a:cubicBezTo>
                  <a:pt x="10021" y="5271"/>
                  <a:pt x="10021" y="5375"/>
                  <a:pt x="10021" y="5308"/>
                </a:cubicBezTo>
                <a:cubicBezTo>
                  <a:pt x="10021" y="5110"/>
                  <a:pt x="10021" y="4564"/>
                  <a:pt x="10021" y="4762"/>
                </a:cubicBezTo>
                <a:cubicBezTo>
                  <a:pt x="10021" y="4787"/>
                  <a:pt x="10021" y="4795"/>
                  <a:pt x="10021" y="4812"/>
                </a:cubicBezTo>
                <a:cubicBezTo>
                  <a:pt x="10021" y="4962"/>
                  <a:pt x="10021" y="5245"/>
                  <a:pt x="10021" y="5308"/>
                </a:cubicBezTo>
                <a:cubicBezTo>
                  <a:pt x="10039" y="5277"/>
                  <a:pt x="10064" y="5260"/>
                  <a:pt x="10071" y="5234"/>
                </a:cubicBezTo>
                <a:cubicBezTo>
                  <a:pt x="10109" y="5092"/>
                  <a:pt x="10032" y="4894"/>
                  <a:pt x="10096" y="4787"/>
                </a:cubicBezTo>
                <a:cubicBezTo>
                  <a:pt x="10115" y="4841"/>
                  <a:pt x="10118" y="4857"/>
                  <a:pt x="10120" y="4911"/>
                </a:cubicBezTo>
                <a:cubicBezTo>
                  <a:pt x="10122" y="4972"/>
                  <a:pt x="10098" y="5333"/>
                  <a:pt x="10145" y="5333"/>
                </a:cubicBezTo>
                <a:cubicBezTo>
                  <a:pt x="10183" y="5333"/>
                  <a:pt x="10201" y="5310"/>
                  <a:pt x="10244" y="5308"/>
                </a:cubicBezTo>
                <a:cubicBezTo>
                  <a:pt x="10302" y="5305"/>
                  <a:pt x="10360" y="5308"/>
                  <a:pt x="10418" y="5308"/>
                </a:cubicBezTo>
                <a:cubicBezTo>
                  <a:pt x="10411" y="5260"/>
                  <a:pt x="10405" y="5256"/>
                  <a:pt x="10393" y="5234"/>
                </a:cubicBezTo>
                <a:cubicBezTo>
                  <a:pt x="10374" y="5199"/>
                  <a:pt x="10362" y="5178"/>
                  <a:pt x="10344" y="5159"/>
                </a:cubicBezTo>
                <a:cubicBezTo>
                  <a:pt x="10327" y="5140"/>
                  <a:pt x="10311" y="5116"/>
                  <a:pt x="10294" y="5085"/>
                </a:cubicBezTo>
                <a:cubicBezTo>
                  <a:pt x="10273" y="5045"/>
                  <a:pt x="10260" y="5039"/>
                  <a:pt x="10244" y="5011"/>
                </a:cubicBezTo>
                <a:cubicBezTo>
                  <a:pt x="10227" y="4982"/>
                  <a:pt x="10212" y="4955"/>
                  <a:pt x="10195" y="4936"/>
                </a:cubicBezTo>
                <a:cubicBezTo>
                  <a:pt x="10172" y="4910"/>
                  <a:pt x="10188" y="4898"/>
                  <a:pt x="10170" y="4862"/>
                </a:cubicBezTo>
                <a:cubicBezTo>
                  <a:pt x="10147" y="4817"/>
                  <a:pt x="10155" y="4860"/>
                  <a:pt x="10145" y="4787"/>
                </a:cubicBezTo>
                <a:cubicBezTo>
                  <a:pt x="10169" y="4773"/>
                  <a:pt x="10167" y="4765"/>
                  <a:pt x="10220" y="4762"/>
                </a:cubicBezTo>
                <a:cubicBezTo>
                  <a:pt x="10367" y="4753"/>
                  <a:pt x="10518" y="4762"/>
                  <a:pt x="10666" y="4762"/>
                </a:cubicBezTo>
                <a:cubicBezTo>
                  <a:pt x="10530" y="4762"/>
                  <a:pt x="10169" y="4810"/>
                  <a:pt x="10120" y="4713"/>
                </a:cubicBezTo>
                <a:cubicBezTo>
                  <a:pt x="10172" y="4681"/>
                  <a:pt x="10161" y="4669"/>
                  <a:pt x="10220" y="4638"/>
                </a:cubicBezTo>
                <a:cubicBezTo>
                  <a:pt x="10250" y="4622"/>
                  <a:pt x="10314" y="4595"/>
                  <a:pt x="10344" y="4589"/>
                </a:cubicBezTo>
                <a:cubicBezTo>
                  <a:pt x="10391" y="4580"/>
                  <a:pt x="10401" y="4583"/>
                  <a:pt x="10443" y="4564"/>
                </a:cubicBezTo>
                <a:cubicBezTo>
                  <a:pt x="10477" y="4549"/>
                  <a:pt x="10501" y="4541"/>
                  <a:pt x="10542" y="4539"/>
                </a:cubicBezTo>
                <a:cubicBezTo>
                  <a:pt x="10567" y="4539"/>
                  <a:pt x="10575" y="4539"/>
                  <a:pt x="10592" y="4539"/>
                </a:cubicBezTo>
                <a:cubicBezTo>
                  <a:pt x="10574" y="4530"/>
                  <a:pt x="10517" y="4497"/>
                  <a:pt x="10468" y="4490"/>
                </a:cubicBezTo>
                <a:cubicBezTo>
                  <a:pt x="10390" y="4479"/>
                  <a:pt x="10313" y="4503"/>
                  <a:pt x="10269" y="4465"/>
                </a:cubicBezTo>
                <a:cubicBezTo>
                  <a:pt x="10229" y="4430"/>
                  <a:pt x="10174" y="4377"/>
                  <a:pt x="10145" y="4341"/>
                </a:cubicBezTo>
                <a:cubicBezTo>
                  <a:pt x="10117" y="4306"/>
                  <a:pt x="10093" y="4248"/>
                  <a:pt x="10071" y="4217"/>
                </a:cubicBezTo>
                <a:cubicBezTo>
                  <a:pt x="10046" y="4217"/>
                  <a:pt x="10038" y="4217"/>
                  <a:pt x="10046" y="4192"/>
                </a:cubicBezTo>
                <a:cubicBezTo>
                  <a:pt x="10039" y="4257"/>
                  <a:pt x="10021" y="4294"/>
                  <a:pt x="10021" y="4366"/>
                </a:cubicBezTo>
                <a:cubicBezTo>
                  <a:pt x="10021" y="4506"/>
                  <a:pt x="10021" y="4647"/>
                  <a:pt x="10021" y="4787"/>
                </a:cubicBezTo>
                <a:cubicBezTo>
                  <a:pt x="9971" y="4800"/>
                  <a:pt x="9934" y="4812"/>
                  <a:pt x="9872" y="4812"/>
                </a:cubicBezTo>
                <a:cubicBezTo>
                  <a:pt x="9744" y="4812"/>
                  <a:pt x="9535" y="4839"/>
                  <a:pt x="9451" y="4787"/>
                </a:cubicBezTo>
                <a:cubicBezTo>
                  <a:pt x="9507" y="4755"/>
                  <a:pt x="9505" y="4762"/>
                  <a:pt x="9550" y="4738"/>
                </a:cubicBezTo>
                <a:cubicBezTo>
                  <a:pt x="9571" y="4727"/>
                  <a:pt x="9599" y="4707"/>
                  <a:pt x="9624" y="4688"/>
                </a:cubicBezTo>
                <a:cubicBezTo>
                  <a:pt x="9657" y="4663"/>
                  <a:pt x="9641" y="4667"/>
                  <a:pt x="9649" y="4614"/>
                </a:cubicBezTo>
                <a:cubicBezTo>
                  <a:pt x="9653" y="4586"/>
                  <a:pt x="9655" y="4616"/>
                  <a:pt x="9699" y="4638"/>
                </a:cubicBezTo>
                <a:cubicBezTo>
                  <a:pt x="9733" y="4655"/>
                  <a:pt x="9786" y="4701"/>
                  <a:pt x="9823" y="4713"/>
                </a:cubicBezTo>
                <a:cubicBezTo>
                  <a:pt x="9855" y="4724"/>
                  <a:pt x="9916" y="4733"/>
                  <a:pt x="9947" y="4738"/>
                </a:cubicBezTo>
                <a:cubicBezTo>
                  <a:pt x="9971" y="4738"/>
                  <a:pt x="9980" y="4738"/>
                  <a:pt x="9996" y="4738"/>
                </a:cubicBezTo>
                <a:cubicBezTo>
                  <a:pt x="9961" y="4681"/>
                  <a:pt x="9909" y="4671"/>
                  <a:pt x="9872" y="4638"/>
                </a:cubicBezTo>
                <a:cubicBezTo>
                  <a:pt x="9853" y="4621"/>
                  <a:pt x="9807" y="4576"/>
                  <a:pt x="9798" y="4564"/>
                </a:cubicBezTo>
                <a:cubicBezTo>
                  <a:pt x="9775" y="4535"/>
                  <a:pt x="9751" y="4514"/>
                  <a:pt x="9723" y="4490"/>
                </a:cubicBezTo>
                <a:cubicBezTo>
                  <a:pt x="9710" y="4479"/>
                  <a:pt x="9687" y="4453"/>
                  <a:pt x="9674" y="4440"/>
                </a:cubicBezTo>
                <a:cubicBezTo>
                  <a:pt x="9658" y="4424"/>
                  <a:pt x="9599" y="4366"/>
                  <a:pt x="9599" y="4366"/>
                </a:cubicBezTo>
                <a:cubicBezTo>
                  <a:pt x="9576" y="4296"/>
                  <a:pt x="9610" y="4263"/>
                  <a:pt x="9649" y="4217"/>
                </a:cubicBezTo>
                <a:cubicBezTo>
                  <a:pt x="9653" y="4212"/>
                  <a:pt x="9705" y="4171"/>
                  <a:pt x="9723" y="4167"/>
                </a:cubicBezTo>
                <a:cubicBezTo>
                  <a:pt x="9812" y="4146"/>
                  <a:pt x="9931" y="4167"/>
                  <a:pt x="10021" y="4167"/>
                </a:cubicBezTo>
                <a:cubicBezTo>
                  <a:pt x="9989" y="4183"/>
                  <a:pt x="9955" y="4200"/>
                  <a:pt x="9922" y="4217"/>
                </a:cubicBezTo>
                <a:cubicBezTo>
                  <a:pt x="9887" y="4235"/>
                  <a:pt x="9836" y="4250"/>
                  <a:pt x="9798" y="4266"/>
                </a:cubicBezTo>
                <a:cubicBezTo>
                  <a:pt x="9767" y="4279"/>
                  <a:pt x="9735" y="4308"/>
                  <a:pt x="9723" y="4316"/>
                </a:cubicBezTo>
                <a:cubicBezTo>
                  <a:pt x="9681" y="4342"/>
                  <a:pt x="9672" y="4351"/>
                  <a:pt x="9649" y="4390"/>
                </a:cubicBezTo>
                <a:cubicBezTo>
                  <a:pt x="9628" y="4426"/>
                  <a:pt x="9607" y="4424"/>
                  <a:pt x="9599" y="4465"/>
                </a:cubicBezTo>
                <a:cubicBezTo>
                  <a:pt x="9589" y="4513"/>
                  <a:pt x="9582" y="4540"/>
                  <a:pt x="9575" y="4589"/>
                </a:cubicBezTo>
                <a:cubicBezTo>
                  <a:pt x="9555" y="4728"/>
                  <a:pt x="9583" y="4887"/>
                  <a:pt x="9599" y="5011"/>
                </a:cubicBezTo>
                <a:cubicBezTo>
                  <a:pt x="9608" y="5086"/>
                  <a:pt x="9611" y="5105"/>
                  <a:pt x="9674" y="5159"/>
                </a:cubicBezTo>
                <a:cubicBezTo>
                  <a:pt x="9718" y="5196"/>
                  <a:pt x="9730" y="5216"/>
                  <a:pt x="9773" y="5259"/>
                </a:cubicBezTo>
                <a:cubicBezTo>
                  <a:pt x="9821" y="5306"/>
                  <a:pt x="9832" y="5302"/>
                  <a:pt x="9897" y="5308"/>
                </a:cubicBezTo>
                <a:cubicBezTo>
                  <a:pt x="9952" y="5313"/>
                  <a:pt x="9992" y="5330"/>
                  <a:pt x="10046" y="5333"/>
                </a:cubicBezTo>
                <a:cubicBezTo>
                  <a:pt x="10159" y="5339"/>
                  <a:pt x="10297" y="5351"/>
                  <a:pt x="10393" y="5308"/>
                </a:cubicBezTo>
                <a:cubicBezTo>
                  <a:pt x="10427" y="5293"/>
                  <a:pt x="10457" y="5276"/>
                  <a:pt x="10492" y="5259"/>
                </a:cubicBezTo>
                <a:cubicBezTo>
                  <a:pt x="10515" y="5247"/>
                  <a:pt x="10560" y="5218"/>
                  <a:pt x="10567" y="5209"/>
                </a:cubicBezTo>
                <a:cubicBezTo>
                  <a:pt x="10590" y="5176"/>
                  <a:pt x="10655" y="5152"/>
                  <a:pt x="10666" y="5135"/>
                </a:cubicBezTo>
                <a:cubicBezTo>
                  <a:pt x="10735" y="5031"/>
                  <a:pt x="10657" y="4592"/>
                  <a:pt x="10641" y="4514"/>
                </a:cubicBezTo>
                <a:cubicBezTo>
                  <a:pt x="10628" y="4449"/>
                  <a:pt x="10617" y="4469"/>
                  <a:pt x="10567" y="4415"/>
                </a:cubicBezTo>
                <a:cubicBezTo>
                  <a:pt x="10540" y="4385"/>
                  <a:pt x="10546" y="4398"/>
                  <a:pt x="10492" y="4390"/>
                </a:cubicBezTo>
                <a:cubicBezTo>
                  <a:pt x="10492" y="4586"/>
                  <a:pt x="10544" y="4888"/>
                  <a:pt x="10468" y="5060"/>
                </a:cubicBezTo>
                <a:cubicBezTo>
                  <a:pt x="10461" y="5076"/>
                  <a:pt x="10427" y="5151"/>
                  <a:pt x="10418" y="5159"/>
                </a:cubicBezTo>
                <a:cubicBezTo>
                  <a:pt x="10389" y="5185"/>
                  <a:pt x="10331" y="5203"/>
                  <a:pt x="10294" y="5209"/>
                </a:cubicBezTo>
                <a:cubicBezTo>
                  <a:pt x="10196" y="5225"/>
                  <a:pt x="9916" y="5244"/>
                  <a:pt x="9847" y="5184"/>
                </a:cubicBezTo>
                <a:cubicBezTo>
                  <a:pt x="9819" y="5160"/>
                  <a:pt x="9795" y="5080"/>
                  <a:pt x="9773" y="5060"/>
                </a:cubicBezTo>
                <a:cubicBezTo>
                  <a:pt x="9745" y="5034"/>
                  <a:pt x="9722" y="5025"/>
                  <a:pt x="9699" y="4986"/>
                </a:cubicBezTo>
                <a:cubicBezTo>
                  <a:pt x="9680" y="4953"/>
                  <a:pt x="9665" y="4929"/>
                  <a:pt x="9649" y="4911"/>
                </a:cubicBezTo>
                <a:cubicBezTo>
                  <a:pt x="9632" y="4892"/>
                  <a:pt x="9615" y="4868"/>
                  <a:pt x="9599" y="4837"/>
                </a:cubicBezTo>
                <a:cubicBezTo>
                  <a:pt x="9583" y="4805"/>
                  <a:pt x="9586" y="4772"/>
                  <a:pt x="9575" y="4738"/>
                </a:cubicBezTo>
                <a:cubicBezTo>
                  <a:pt x="9561" y="4697"/>
                  <a:pt x="9553" y="4687"/>
                  <a:pt x="9550" y="4638"/>
                </a:cubicBezTo>
                <a:cubicBezTo>
                  <a:pt x="9545" y="4551"/>
                  <a:pt x="9533" y="4436"/>
                  <a:pt x="9575" y="4366"/>
                </a:cubicBezTo>
                <a:cubicBezTo>
                  <a:pt x="9586" y="4349"/>
                  <a:pt x="9637" y="4320"/>
                  <a:pt x="9649" y="4291"/>
                </a:cubicBezTo>
                <a:cubicBezTo>
                  <a:pt x="9683" y="4208"/>
                  <a:pt x="9584" y="4294"/>
                  <a:pt x="9723" y="4217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3274920" y="141300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551335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551335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3203640" y="907920"/>
            <a:ext cx="3111480" cy="927360"/>
          </a:xfrm>
          <a:custGeom>
            <a:avLst/>
            <a:gdLst/>
            <a:ahLst/>
            <a:rect l="l" t="t" r="r" b="b"/>
            <a:pathLst>
              <a:path w="1960" h="584">
                <a:moveTo>
                  <a:pt x="96" y="283"/>
                </a:moveTo>
                <a:cubicBezTo>
                  <a:pt x="81" y="341"/>
                  <a:pt x="86" y="353"/>
                  <a:pt x="40" y="387"/>
                </a:cubicBezTo>
                <a:cubicBezTo>
                  <a:pt x="32" y="384"/>
                  <a:pt x="18" y="387"/>
                  <a:pt x="16" y="379"/>
                </a:cubicBezTo>
                <a:cubicBezTo>
                  <a:pt x="9" y="351"/>
                  <a:pt x="80" y="323"/>
                  <a:pt x="80" y="323"/>
                </a:cubicBezTo>
                <a:cubicBezTo>
                  <a:pt x="72" y="318"/>
                  <a:pt x="64" y="302"/>
                  <a:pt x="56" y="307"/>
                </a:cubicBezTo>
                <a:cubicBezTo>
                  <a:pt x="39" y="317"/>
                  <a:pt x="35" y="339"/>
                  <a:pt x="24" y="355"/>
                </a:cubicBezTo>
                <a:cubicBezTo>
                  <a:pt x="18" y="364"/>
                  <a:pt x="8" y="371"/>
                  <a:pt x="0" y="379"/>
                </a:cubicBezTo>
                <a:cubicBezTo>
                  <a:pt x="7" y="358"/>
                  <a:pt x="2" y="332"/>
                  <a:pt x="16" y="315"/>
                </a:cubicBezTo>
                <a:cubicBezTo>
                  <a:pt x="22" y="307"/>
                  <a:pt x="104" y="299"/>
                  <a:pt x="104" y="283"/>
                </a:cubicBezTo>
                <a:cubicBezTo>
                  <a:pt x="104" y="272"/>
                  <a:pt x="83" y="288"/>
                  <a:pt x="72" y="291"/>
                </a:cubicBezTo>
                <a:cubicBezTo>
                  <a:pt x="50" y="313"/>
                  <a:pt x="38" y="335"/>
                  <a:pt x="24" y="363"/>
                </a:cubicBezTo>
                <a:cubicBezTo>
                  <a:pt x="20" y="371"/>
                  <a:pt x="9" y="382"/>
                  <a:pt x="16" y="387"/>
                </a:cubicBezTo>
                <a:cubicBezTo>
                  <a:pt x="19" y="389"/>
                  <a:pt x="66" y="373"/>
                  <a:pt x="72" y="371"/>
                </a:cubicBezTo>
                <a:cubicBezTo>
                  <a:pt x="98" y="293"/>
                  <a:pt x="56" y="403"/>
                  <a:pt x="104" y="331"/>
                </a:cubicBezTo>
                <a:cubicBezTo>
                  <a:pt x="110" y="322"/>
                  <a:pt x="105" y="308"/>
                  <a:pt x="112" y="299"/>
                </a:cubicBezTo>
                <a:cubicBezTo>
                  <a:pt x="117" y="292"/>
                  <a:pt x="128" y="295"/>
                  <a:pt x="136" y="291"/>
                </a:cubicBezTo>
                <a:cubicBezTo>
                  <a:pt x="145" y="287"/>
                  <a:pt x="151" y="279"/>
                  <a:pt x="160" y="275"/>
                </a:cubicBezTo>
                <a:cubicBezTo>
                  <a:pt x="168" y="271"/>
                  <a:pt x="184" y="259"/>
                  <a:pt x="184" y="267"/>
                </a:cubicBezTo>
                <a:cubicBezTo>
                  <a:pt x="184" y="277"/>
                  <a:pt x="168" y="278"/>
                  <a:pt x="160" y="283"/>
                </a:cubicBezTo>
                <a:cubicBezTo>
                  <a:pt x="206" y="313"/>
                  <a:pt x="214" y="280"/>
                  <a:pt x="264" y="267"/>
                </a:cubicBezTo>
                <a:cubicBezTo>
                  <a:pt x="308" y="223"/>
                  <a:pt x="389" y="224"/>
                  <a:pt x="448" y="219"/>
                </a:cubicBezTo>
                <a:cubicBezTo>
                  <a:pt x="475" y="210"/>
                  <a:pt x="501" y="204"/>
                  <a:pt x="528" y="195"/>
                </a:cubicBezTo>
                <a:cubicBezTo>
                  <a:pt x="566" y="208"/>
                  <a:pt x="569" y="240"/>
                  <a:pt x="584" y="195"/>
                </a:cubicBezTo>
                <a:cubicBezTo>
                  <a:pt x="586" y="201"/>
                  <a:pt x="598" y="243"/>
                  <a:pt x="608" y="243"/>
                </a:cubicBezTo>
                <a:cubicBezTo>
                  <a:pt x="618" y="243"/>
                  <a:pt x="619" y="227"/>
                  <a:pt x="624" y="219"/>
                </a:cubicBezTo>
                <a:cubicBezTo>
                  <a:pt x="621" y="211"/>
                  <a:pt x="624" y="199"/>
                  <a:pt x="616" y="195"/>
                </a:cubicBezTo>
                <a:cubicBezTo>
                  <a:pt x="608" y="191"/>
                  <a:pt x="594" y="195"/>
                  <a:pt x="592" y="203"/>
                </a:cubicBezTo>
                <a:cubicBezTo>
                  <a:pt x="587" y="224"/>
                  <a:pt x="597" y="246"/>
                  <a:pt x="600" y="267"/>
                </a:cubicBezTo>
                <a:cubicBezTo>
                  <a:pt x="779" y="148"/>
                  <a:pt x="783" y="186"/>
                  <a:pt x="1080" y="179"/>
                </a:cubicBezTo>
                <a:cubicBezTo>
                  <a:pt x="1099" y="256"/>
                  <a:pt x="1089" y="259"/>
                  <a:pt x="1256" y="203"/>
                </a:cubicBezTo>
                <a:cubicBezTo>
                  <a:pt x="1294" y="190"/>
                  <a:pt x="1096" y="195"/>
                  <a:pt x="1136" y="195"/>
                </a:cubicBezTo>
                <a:cubicBezTo>
                  <a:pt x="1237" y="195"/>
                  <a:pt x="1339" y="200"/>
                  <a:pt x="1440" y="203"/>
                </a:cubicBezTo>
                <a:cubicBezTo>
                  <a:pt x="1347" y="206"/>
                  <a:pt x="1253" y="206"/>
                  <a:pt x="1160" y="211"/>
                </a:cubicBezTo>
                <a:cubicBezTo>
                  <a:pt x="1144" y="212"/>
                  <a:pt x="1123" y="208"/>
                  <a:pt x="1112" y="219"/>
                </a:cubicBezTo>
                <a:cubicBezTo>
                  <a:pt x="1098" y="233"/>
                  <a:pt x="1101" y="256"/>
                  <a:pt x="1096" y="275"/>
                </a:cubicBezTo>
                <a:cubicBezTo>
                  <a:pt x="1020" y="199"/>
                  <a:pt x="1089" y="358"/>
                  <a:pt x="1048" y="523"/>
                </a:cubicBezTo>
                <a:cubicBezTo>
                  <a:pt x="1053" y="430"/>
                  <a:pt x="1030" y="330"/>
                  <a:pt x="1064" y="243"/>
                </a:cubicBezTo>
                <a:cubicBezTo>
                  <a:pt x="1076" y="213"/>
                  <a:pt x="1128" y="239"/>
                  <a:pt x="1160" y="235"/>
                </a:cubicBezTo>
                <a:cubicBezTo>
                  <a:pt x="1199" y="230"/>
                  <a:pt x="1242" y="216"/>
                  <a:pt x="1280" y="203"/>
                </a:cubicBezTo>
                <a:cubicBezTo>
                  <a:pt x="1344" y="206"/>
                  <a:pt x="1409" y="200"/>
                  <a:pt x="1472" y="211"/>
                </a:cubicBezTo>
                <a:cubicBezTo>
                  <a:pt x="1481" y="213"/>
                  <a:pt x="1460" y="226"/>
                  <a:pt x="1456" y="235"/>
                </a:cubicBezTo>
                <a:cubicBezTo>
                  <a:pt x="1446" y="258"/>
                  <a:pt x="1440" y="283"/>
                  <a:pt x="1432" y="307"/>
                </a:cubicBezTo>
                <a:cubicBezTo>
                  <a:pt x="1425" y="327"/>
                  <a:pt x="1389" y="312"/>
                  <a:pt x="1368" y="315"/>
                </a:cubicBezTo>
                <a:cubicBezTo>
                  <a:pt x="1305" y="357"/>
                  <a:pt x="1273" y="455"/>
                  <a:pt x="1248" y="523"/>
                </a:cubicBezTo>
                <a:cubicBezTo>
                  <a:pt x="1060" y="506"/>
                  <a:pt x="268" y="504"/>
                  <a:pt x="544" y="515"/>
                </a:cubicBezTo>
                <a:cubicBezTo>
                  <a:pt x="664" y="520"/>
                  <a:pt x="784" y="520"/>
                  <a:pt x="904" y="523"/>
                </a:cubicBezTo>
                <a:cubicBezTo>
                  <a:pt x="1228" y="559"/>
                  <a:pt x="344" y="556"/>
                  <a:pt x="632" y="515"/>
                </a:cubicBezTo>
                <a:cubicBezTo>
                  <a:pt x="688" y="518"/>
                  <a:pt x="744" y="523"/>
                  <a:pt x="800" y="523"/>
                </a:cubicBezTo>
                <a:cubicBezTo>
                  <a:pt x="811" y="523"/>
                  <a:pt x="821" y="518"/>
                  <a:pt x="832" y="515"/>
                </a:cubicBezTo>
                <a:cubicBezTo>
                  <a:pt x="894" y="499"/>
                  <a:pt x="704" y="520"/>
                  <a:pt x="640" y="523"/>
                </a:cubicBezTo>
                <a:cubicBezTo>
                  <a:pt x="808" y="579"/>
                  <a:pt x="1082" y="541"/>
                  <a:pt x="1280" y="531"/>
                </a:cubicBezTo>
                <a:cubicBezTo>
                  <a:pt x="1264" y="526"/>
                  <a:pt x="1227" y="531"/>
                  <a:pt x="1232" y="515"/>
                </a:cubicBezTo>
                <a:cubicBezTo>
                  <a:pt x="1237" y="499"/>
                  <a:pt x="1248" y="467"/>
                  <a:pt x="1248" y="467"/>
                </a:cubicBezTo>
                <a:cubicBezTo>
                  <a:pt x="1252" y="440"/>
                  <a:pt x="1245" y="406"/>
                  <a:pt x="1264" y="387"/>
                </a:cubicBezTo>
                <a:cubicBezTo>
                  <a:pt x="1295" y="356"/>
                  <a:pt x="1328" y="349"/>
                  <a:pt x="1368" y="339"/>
                </a:cubicBezTo>
                <a:cubicBezTo>
                  <a:pt x="1429" y="342"/>
                  <a:pt x="1491" y="340"/>
                  <a:pt x="1552" y="347"/>
                </a:cubicBezTo>
                <a:cubicBezTo>
                  <a:pt x="1580" y="350"/>
                  <a:pt x="1608" y="411"/>
                  <a:pt x="1608" y="411"/>
                </a:cubicBezTo>
                <a:cubicBezTo>
                  <a:pt x="1611" y="422"/>
                  <a:pt x="1611" y="433"/>
                  <a:pt x="1616" y="443"/>
                </a:cubicBezTo>
                <a:cubicBezTo>
                  <a:pt x="1625" y="460"/>
                  <a:pt x="1642" y="473"/>
                  <a:pt x="1648" y="491"/>
                </a:cubicBezTo>
                <a:cubicBezTo>
                  <a:pt x="1653" y="507"/>
                  <a:pt x="1664" y="539"/>
                  <a:pt x="1664" y="539"/>
                </a:cubicBezTo>
                <a:cubicBezTo>
                  <a:pt x="1742" y="500"/>
                  <a:pt x="1926" y="584"/>
                  <a:pt x="1864" y="491"/>
                </a:cubicBezTo>
                <a:cubicBezTo>
                  <a:pt x="1872" y="488"/>
                  <a:pt x="1880" y="480"/>
                  <a:pt x="1888" y="483"/>
                </a:cubicBezTo>
                <a:cubicBezTo>
                  <a:pt x="1940" y="504"/>
                  <a:pt x="1886" y="513"/>
                  <a:pt x="1880" y="515"/>
                </a:cubicBezTo>
                <a:cubicBezTo>
                  <a:pt x="1871" y="512"/>
                  <a:pt x="1836" y="507"/>
                  <a:pt x="1848" y="483"/>
                </a:cubicBezTo>
                <a:cubicBezTo>
                  <a:pt x="1852" y="475"/>
                  <a:pt x="1864" y="478"/>
                  <a:pt x="1872" y="475"/>
                </a:cubicBezTo>
                <a:cubicBezTo>
                  <a:pt x="1891" y="481"/>
                  <a:pt x="1927" y="484"/>
                  <a:pt x="1888" y="523"/>
                </a:cubicBezTo>
                <a:cubicBezTo>
                  <a:pt x="1882" y="529"/>
                  <a:pt x="1872" y="518"/>
                  <a:pt x="1864" y="515"/>
                </a:cubicBezTo>
                <a:cubicBezTo>
                  <a:pt x="1861" y="507"/>
                  <a:pt x="1850" y="497"/>
                  <a:pt x="1856" y="491"/>
                </a:cubicBezTo>
                <a:cubicBezTo>
                  <a:pt x="1868" y="479"/>
                  <a:pt x="1904" y="475"/>
                  <a:pt x="1904" y="475"/>
                </a:cubicBezTo>
                <a:cubicBezTo>
                  <a:pt x="1917" y="478"/>
                  <a:pt x="1936" y="472"/>
                  <a:pt x="1944" y="483"/>
                </a:cubicBezTo>
                <a:cubicBezTo>
                  <a:pt x="1958" y="502"/>
                  <a:pt x="1906" y="514"/>
                  <a:pt x="1904" y="515"/>
                </a:cubicBezTo>
                <a:cubicBezTo>
                  <a:pt x="1874" y="505"/>
                  <a:pt x="1832" y="500"/>
                  <a:pt x="1888" y="435"/>
                </a:cubicBezTo>
                <a:cubicBezTo>
                  <a:pt x="1899" y="423"/>
                  <a:pt x="1920" y="440"/>
                  <a:pt x="1936" y="443"/>
                </a:cubicBezTo>
                <a:cubicBezTo>
                  <a:pt x="1949" y="483"/>
                  <a:pt x="1960" y="515"/>
                  <a:pt x="1912" y="531"/>
                </a:cubicBezTo>
                <a:cubicBezTo>
                  <a:pt x="1850" y="516"/>
                  <a:pt x="1873" y="492"/>
                  <a:pt x="1880" y="427"/>
                </a:cubicBezTo>
                <a:cubicBezTo>
                  <a:pt x="1845" y="375"/>
                  <a:pt x="1869" y="316"/>
                  <a:pt x="1848" y="259"/>
                </a:cubicBezTo>
                <a:cubicBezTo>
                  <a:pt x="1836" y="226"/>
                  <a:pt x="1705" y="205"/>
                  <a:pt x="1792" y="227"/>
                </a:cubicBezTo>
                <a:cubicBezTo>
                  <a:pt x="1762" y="137"/>
                  <a:pt x="1589" y="147"/>
                  <a:pt x="1560" y="235"/>
                </a:cubicBezTo>
                <a:cubicBezTo>
                  <a:pt x="1557" y="227"/>
                  <a:pt x="1560" y="214"/>
                  <a:pt x="1552" y="211"/>
                </a:cubicBezTo>
                <a:cubicBezTo>
                  <a:pt x="1494" y="192"/>
                  <a:pt x="1514" y="224"/>
                  <a:pt x="1520" y="243"/>
                </a:cubicBezTo>
                <a:cubicBezTo>
                  <a:pt x="1520" y="243"/>
                  <a:pt x="1525" y="264"/>
                  <a:pt x="1528" y="275"/>
                </a:cubicBezTo>
                <a:cubicBezTo>
                  <a:pt x="1536" y="272"/>
                  <a:pt x="1552" y="275"/>
                  <a:pt x="1552" y="267"/>
                </a:cubicBezTo>
                <a:cubicBezTo>
                  <a:pt x="1552" y="257"/>
                  <a:pt x="1534" y="258"/>
                  <a:pt x="1528" y="251"/>
                </a:cubicBezTo>
                <a:cubicBezTo>
                  <a:pt x="1501" y="220"/>
                  <a:pt x="1498" y="184"/>
                  <a:pt x="1472" y="155"/>
                </a:cubicBezTo>
                <a:cubicBezTo>
                  <a:pt x="1457" y="138"/>
                  <a:pt x="1424" y="107"/>
                  <a:pt x="1424" y="107"/>
                </a:cubicBezTo>
                <a:cubicBezTo>
                  <a:pt x="1398" y="30"/>
                  <a:pt x="1254" y="24"/>
                  <a:pt x="1192" y="19"/>
                </a:cubicBezTo>
                <a:cubicBezTo>
                  <a:pt x="1157" y="22"/>
                  <a:pt x="1110" y="0"/>
                  <a:pt x="1088" y="27"/>
                </a:cubicBezTo>
                <a:cubicBezTo>
                  <a:pt x="1054" y="68"/>
                  <a:pt x="1085" y="135"/>
                  <a:pt x="1072" y="187"/>
                </a:cubicBezTo>
                <a:cubicBezTo>
                  <a:pt x="1077" y="142"/>
                  <a:pt x="1074" y="95"/>
                  <a:pt x="1088" y="51"/>
                </a:cubicBezTo>
                <a:cubicBezTo>
                  <a:pt x="1092" y="40"/>
                  <a:pt x="1114" y="45"/>
                  <a:pt x="1120" y="35"/>
                </a:cubicBezTo>
                <a:cubicBezTo>
                  <a:pt x="1136" y="8"/>
                  <a:pt x="1084" y="4"/>
                  <a:pt x="1080" y="3"/>
                </a:cubicBezTo>
                <a:cubicBezTo>
                  <a:pt x="987" y="6"/>
                  <a:pt x="893" y="0"/>
                  <a:pt x="800" y="11"/>
                </a:cubicBezTo>
                <a:cubicBezTo>
                  <a:pt x="781" y="13"/>
                  <a:pt x="752" y="43"/>
                  <a:pt x="752" y="43"/>
                </a:cubicBezTo>
                <a:cubicBezTo>
                  <a:pt x="733" y="71"/>
                  <a:pt x="708" y="81"/>
                  <a:pt x="688" y="107"/>
                </a:cubicBezTo>
                <a:cubicBezTo>
                  <a:pt x="654" y="150"/>
                  <a:pt x="638" y="177"/>
                  <a:pt x="584" y="195"/>
                </a:cubicBezTo>
                <a:cubicBezTo>
                  <a:pt x="567" y="220"/>
                  <a:pt x="560" y="219"/>
                  <a:pt x="576" y="251"/>
                </a:cubicBezTo>
                <a:cubicBezTo>
                  <a:pt x="606" y="310"/>
                  <a:pt x="628" y="308"/>
                  <a:pt x="584" y="283"/>
                </a:cubicBezTo>
                <a:cubicBezTo>
                  <a:pt x="574" y="277"/>
                  <a:pt x="563" y="271"/>
                  <a:pt x="552" y="267"/>
                </a:cubicBezTo>
                <a:cubicBezTo>
                  <a:pt x="539" y="263"/>
                  <a:pt x="525" y="262"/>
                  <a:pt x="512" y="259"/>
                </a:cubicBezTo>
                <a:cubicBezTo>
                  <a:pt x="509" y="251"/>
                  <a:pt x="512" y="239"/>
                  <a:pt x="504" y="235"/>
                </a:cubicBezTo>
                <a:cubicBezTo>
                  <a:pt x="496" y="231"/>
                  <a:pt x="472" y="239"/>
                  <a:pt x="480" y="243"/>
                </a:cubicBezTo>
                <a:cubicBezTo>
                  <a:pt x="492" y="249"/>
                  <a:pt x="507" y="243"/>
                  <a:pt x="520" y="243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4321080" y="882720"/>
            <a:ext cx="1938600" cy="901800"/>
          </a:xfrm>
          <a:custGeom>
            <a:avLst/>
            <a:gdLst/>
            <a:ahLst/>
            <a:rect l="l" t="t" r="r" b="b"/>
            <a:pathLst>
              <a:path w="5384" h="2506">
                <a:moveTo>
                  <a:pt x="16272" y="5358"/>
                </a:moveTo>
                <a:cubicBezTo>
                  <a:pt x="16420" y="5358"/>
                  <a:pt x="16586" y="5373"/>
                  <a:pt x="16718" y="5333"/>
                </a:cubicBezTo>
                <a:cubicBezTo>
                  <a:pt x="16856" y="5291"/>
                  <a:pt x="17069" y="5333"/>
                  <a:pt x="17214" y="5333"/>
                </a:cubicBezTo>
              </a:path>
              <a:path w="5384" h="2506">
                <a:moveTo>
                  <a:pt x="17388" y="5308"/>
                </a:moveTo>
                <a:cubicBezTo>
                  <a:pt x="17363" y="5283"/>
                  <a:pt x="17338" y="5259"/>
                  <a:pt x="17314" y="5234"/>
                </a:cubicBezTo>
              </a:path>
              <a:path w="5384" h="2506">
                <a:moveTo>
                  <a:pt x="12725" y="2977"/>
                </a:moveTo>
                <a:cubicBezTo>
                  <a:pt x="12740" y="2968"/>
                  <a:pt x="12770" y="2966"/>
                  <a:pt x="12799" y="2952"/>
                </a:cubicBezTo>
                <a:cubicBezTo>
                  <a:pt x="12842" y="2930"/>
                  <a:pt x="12847" y="2930"/>
                  <a:pt x="12898" y="2927"/>
                </a:cubicBezTo>
                <a:cubicBezTo>
                  <a:pt x="13071" y="2917"/>
                  <a:pt x="13283" y="2925"/>
                  <a:pt x="13419" y="2902"/>
                </a:cubicBezTo>
                <a:cubicBezTo>
                  <a:pt x="13802" y="2838"/>
                  <a:pt x="14247" y="2902"/>
                  <a:pt x="14635" y="2902"/>
                </a:cubicBezTo>
              </a:path>
              <a:path w="5384" h="2506">
                <a:moveTo>
                  <a:pt x="12650" y="2902"/>
                </a:moveTo>
                <a:cubicBezTo>
                  <a:pt x="12675" y="2902"/>
                  <a:pt x="12683" y="2902"/>
                  <a:pt x="12700" y="2902"/>
                </a:cubicBezTo>
                <a:cubicBezTo>
                  <a:pt x="12726" y="2887"/>
                  <a:pt x="12739" y="2880"/>
                  <a:pt x="12799" y="2877"/>
                </a:cubicBezTo>
                <a:cubicBezTo>
                  <a:pt x="12923" y="2871"/>
                  <a:pt x="13083" y="2870"/>
                  <a:pt x="13171" y="2853"/>
                </a:cubicBezTo>
                <a:cubicBezTo>
                  <a:pt x="13591" y="2772"/>
                  <a:pt x="14107" y="2853"/>
                  <a:pt x="14536" y="2853"/>
                </a:cubicBezTo>
              </a:path>
              <a:path w="5384" h="2506">
                <a:moveTo>
                  <a:pt x="12005" y="3870"/>
                </a:moveTo>
                <a:cubicBezTo>
                  <a:pt x="12460" y="3870"/>
                  <a:pt x="12915" y="3870"/>
                  <a:pt x="13370" y="3870"/>
                </a:cubicBezTo>
              </a:path>
              <a:path w="5384" h="2506">
                <a:moveTo>
                  <a:pt x="13816" y="3845"/>
                </a:moveTo>
                <a:cubicBezTo>
                  <a:pt x="14155" y="3845"/>
                  <a:pt x="14494" y="3845"/>
                  <a:pt x="14833" y="3845"/>
                </a:cubicBezTo>
              </a:path>
              <a:path w="5384" h="2506">
                <a:moveTo>
                  <a:pt x="13519" y="3175"/>
                </a:moveTo>
                <a:cubicBezTo>
                  <a:pt x="13519" y="3332"/>
                  <a:pt x="13519" y="3489"/>
                  <a:pt x="13519" y="3646"/>
                </a:cubicBezTo>
              </a:path>
              <a:path w="5384" h="2506">
                <a:moveTo>
                  <a:pt x="14833" y="3125"/>
                </a:moveTo>
                <a:cubicBezTo>
                  <a:pt x="14873" y="3125"/>
                  <a:pt x="14927" y="3115"/>
                  <a:pt x="14957" y="3150"/>
                </a:cubicBezTo>
                <a:cubicBezTo>
                  <a:pt x="14957" y="3158"/>
                  <a:pt x="14957" y="3167"/>
                  <a:pt x="14957" y="3175"/>
                </a:cubicBezTo>
                <a:cubicBezTo>
                  <a:pt x="15019" y="3175"/>
                  <a:pt x="15032" y="3161"/>
                  <a:pt x="15032" y="3225"/>
                </a:cubicBezTo>
                <a:cubicBezTo>
                  <a:pt x="15066" y="3236"/>
                  <a:pt x="15059" y="3262"/>
                  <a:pt x="15106" y="3274"/>
                </a:cubicBezTo>
                <a:cubicBezTo>
                  <a:pt x="15118" y="3322"/>
                  <a:pt x="15144" y="3314"/>
                  <a:pt x="15156" y="3349"/>
                </a:cubicBezTo>
              </a:path>
              <a:path w="5384" h="2506">
                <a:moveTo>
                  <a:pt x="12154" y="3150"/>
                </a:moveTo>
                <a:cubicBezTo>
                  <a:pt x="12205" y="3150"/>
                  <a:pt x="12213" y="3139"/>
                  <a:pt x="12254" y="3125"/>
                </a:cubicBezTo>
                <a:cubicBezTo>
                  <a:pt x="12285" y="3115"/>
                  <a:pt x="12325" y="3110"/>
                  <a:pt x="12353" y="3101"/>
                </a:cubicBezTo>
                <a:cubicBezTo>
                  <a:pt x="12361" y="3101"/>
                  <a:pt x="12370" y="3101"/>
                  <a:pt x="12378" y="3101"/>
                </a:cubicBezTo>
                <a:cubicBezTo>
                  <a:pt x="12389" y="3066"/>
                  <a:pt x="12385" y="3076"/>
                  <a:pt x="12427" y="3076"/>
                </a:cubicBezTo>
                <a:cubicBezTo>
                  <a:pt x="12437" y="3035"/>
                  <a:pt x="12436" y="3036"/>
                  <a:pt x="12477" y="3026"/>
                </a:cubicBezTo>
              </a:path>
              <a:path w="5384" h="2506">
                <a:moveTo>
                  <a:pt x="15056" y="3026"/>
                </a:moveTo>
                <a:cubicBezTo>
                  <a:pt x="15090" y="3033"/>
                  <a:pt x="15122" y="3044"/>
                  <a:pt x="15156" y="3051"/>
                </a:cubicBezTo>
              </a:path>
              <a:path w="5384" h="2506">
                <a:moveTo>
                  <a:pt x="15875" y="3746"/>
                </a:moveTo>
                <a:cubicBezTo>
                  <a:pt x="16156" y="3746"/>
                  <a:pt x="16437" y="3746"/>
                  <a:pt x="16718" y="3746"/>
                </a:cubicBezTo>
              </a:path>
              <a:path w="5384" h="2506">
                <a:moveTo>
                  <a:pt x="16867" y="3820"/>
                </a:moveTo>
                <a:cubicBezTo>
                  <a:pt x="16908" y="3830"/>
                  <a:pt x="16924" y="3865"/>
                  <a:pt x="16966" y="3870"/>
                </a:cubicBezTo>
                <a:cubicBezTo>
                  <a:pt x="16974" y="3870"/>
                  <a:pt x="16983" y="3870"/>
                  <a:pt x="16991" y="3870"/>
                </a:cubicBezTo>
              </a:path>
              <a:path w="5384" h="2506">
                <a:moveTo>
                  <a:pt x="15701" y="3646"/>
                </a:moveTo>
                <a:cubicBezTo>
                  <a:pt x="15782" y="3682"/>
                  <a:pt x="15838" y="3696"/>
                  <a:pt x="15925" y="3696"/>
                </a:cubicBezTo>
                <a:cubicBezTo>
                  <a:pt x="15933" y="3696"/>
                  <a:pt x="15941" y="3696"/>
                  <a:pt x="15949" y="3696"/>
                </a:cubicBezTo>
              </a:path>
              <a:path w="5384" h="2506">
                <a:moveTo>
                  <a:pt x="15801" y="4390"/>
                </a:moveTo>
                <a:cubicBezTo>
                  <a:pt x="15801" y="4415"/>
                  <a:pt x="15801" y="4423"/>
                  <a:pt x="15801" y="4440"/>
                </a:cubicBezTo>
                <a:cubicBezTo>
                  <a:pt x="15852" y="4453"/>
                  <a:pt x="15842" y="4477"/>
                  <a:pt x="15875" y="4514"/>
                </a:cubicBezTo>
                <a:cubicBezTo>
                  <a:pt x="15913" y="4556"/>
                  <a:pt x="15903" y="4575"/>
                  <a:pt x="15925" y="4614"/>
                </a:cubicBezTo>
                <a:cubicBezTo>
                  <a:pt x="15947" y="4636"/>
                  <a:pt x="15952" y="4644"/>
                  <a:pt x="15974" y="4638"/>
                </a:cubicBezTo>
                <a:cubicBezTo>
                  <a:pt x="15974" y="4690"/>
                  <a:pt x="15972" y="4688"/>
                  <a:pt x="16024" y="4688"/>
                </a:cubicBezTo>
                <a:cubicBezTo>
                  <a:pt x="16042" y="4725"/>
                  <a:pt x="16083" y="4743"/>
                  <a:pt x="16098" y="4787"/>
                </a:cubicBezTo>
                <a:cubicBezTo>
                  <a:pt x="16117" y="4844"/>
                  <a:pt x="16066" y="4942"/>
                  <a:pt x="16123" y="4961"/>
                </a:cubicBezTo>
              </a:path>
              <a:path w="5384" h="2506">
                <a:moveTo>
                  <a:pt x="16396" y="5184"/>
                </a:moveTo>
                <a:cubicBezTo>
                  <a:pt x="16470" y="5184"/>
                  <a:pt x="16545" y="5184"/>
                  <a:pt x="16619" y="5184"/>
                </a:cubicBezTo>
              </a:path>
              <a:path w="5384" h="2506">
                <a:moveTo>
                  <a:pt x="16842" y="5060"/>
                </a:moveTo>
                <a:cubicBezTo>
                  <a:pt x="16908" y="5060"/>
                  <a:pt x="16975" y="5060"/>
                  <a:pt x="17041" y="5060"/>
                </a:cubicBezTo>
                <a:cubicBezTo>
                  <a:pt x="17041" y="5035"/>
                  <a:pt x="17041" y="5027"/>
                  <a:pt x="17066" y="5035"/>
                </a:cubicBezTo>
              </a:path>
              <a:path w="5384" h="2506">
                <a:moveTo>
                  <a:pt x="17115" y="4961"/>
                </a:moveTo>
                <a:cubicBezTo>
                  <a:pt x="17115" y="4936"/>
                  <a:pt x="17115" y="4912"/>
                  <a:pt x="17115" y="4887"/>
                </a:cubicBezTo>
              </a:path>
              <a:path w="5384" h="2506">
                <a:moveTo>
                  <a:pt x="16669" y="3944"/>
                </a:moveTo>
                <a:cubicBezTo>
                  <a:pt x="16619" y="3944"/>
                  <a:pt x="16570" y="3944"/>
                  <a:pt x="16520" y="3944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ถยนต์นั่งหรือรถยนต์โดยสารไม่เกิน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0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468360" y="1314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d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2987640" y="1916280"/>
            <a:ext cx="3384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3132000" y="17715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3851280" y="177156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5651640" y="1771560"/>
            <a:ext cx="504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3089160" y="1650960"/>
            <a:ext cx="285840" cy="115920"/>
          </a:xfrm>
          <a:custGeom>
            <a:avLst/>
            <a:gdLst/>
            <a:ahLst/>
            <a:rect l="l" t="t" r="r" b="b"/>
            <a:pathLst>
              <a:path w="795" h="323">
                <a:moveTo>
                  <a:pt x="8607" y="5011"/>
                </a:moveTo>
                <a:cubicBezTo>
                  <a:pt x="8607" y="5110"/>
                  <a:pt x="8607" y="5209"/>
                  <a:pt x="8607" y="5308"/>
                </a:cubicBezTo>
                <a:cubicBezTo>
                  <a:pt x="8632" y="5308"/>
                  <a:pt x="8640" y="5308"/>
                  <a:pt x="8657" y="5308"/>
                </a:cubicBezTo>
              </a:path>
              <a:path w="795" h="323">
                <a:moveTo>
                  <a:pt x="8607" y="5011"/>
                </a:moveTo>
                <a:lnTo>
                  <a:pt x="8607" y="5011"/>
                </a:lnTo>
              </a:path>
              <a:path w="795" h="323">
                <a:moveTo>
                  <a:pt x="8607" y="5011"/>
                </a:moveTo>
                <a:cubicBezTo>
                  <a:pt x="8607" y="5019"/>
                  <a:pt x="8607" y="5027"/>
                  <a:pt x="8607" y="5035"/>
                </a:cubicBezTo>
                <a:cubicBezTo>
                  <a:pt x="8569" y="5048"/>
                  <a:pt x="8582" y="5065"/>
                  <a:pt x="8582" y="5110"/>
                </a:cubicBezTo>
                <a:cubicBezTo>
                  <a:pt x="8582" y="5156"/>
                  <a:pt x="8559" y="5284"/>
                  <a:pt x="8607" y="5308"/>
                </a:cubicBezTo>
                <a:cubicBezTo>
                  <a:pt x="8615" y="5308"/>
                  <a:pt x="8624" y="5308"/>
                  <a:pt x="8632" y="5308"/>
                </a:cubicBezTo>
              </a:path>
              <a:path w="795" h="323">
                <a:moveTo>
                  <a:pt x="8632" y="4986"/>
                </a:moveTo>
                <a:cubicBezTo>
                  <a:pt x="8640" y="4986"/>
                  <a:pt x="8649" y="4986"/>
                  <a:pt x="8657" y="4986"/>
                </a:cubicBezTo>
                <a:cubicBezTo>
                  <a:pt x="8657" y="5052"/>
                  <a:pt x="8657" y="5118"/>
                  <a:pt x="8657" y="5184"/>
                </a:cubicBezTo>
                <a:cubicBezTo>
                  <a:pt x="8695" y="5197"/>
                  <a:pt x="8682" y="5214"/>
                  <a:pt x="8682" y="5259"/>
                </a:cubicBezTo>
                <a:cubicBezTo>
                  <a:pt x="8682" y="5283"/>
                  <a:pt x="8682" y="5292"/>
                  <a:pt x="8682" y="5308"/>
                </a:cubicBezTo>
              </a:path>
              <a:path w="795" h="323">
                <a:moveTo>
                  <a:pt x="8706" y="5060"/>
                </a:moveTo>
                <a:lnTo>
                  <a:pt x="8706" y="5060"/>
                </a:lnTo>
              </a:path>
              <a:path w="795" h="323">
                <a:moveTo>
                  <a:pt x="8582" y="5011"/>
                </a:moveTo>
                <a:cubicBezTo>
                  <a:pt x="8607" y="5011"/>
                  <a:pt x="8615" y="5011"/>
                  <a:pt x="8632" y="5011"/>
                </a:cubicBezTo>
                <a:cubicBezTo>
                  <a:pt x="8645" y="5047"/>
                  <a:pt x="8662" y="5035"/>
                  <a:pt x="8706" y="5035"/>
                </a:cubicBezTo>
                <a:cubicBezTo>
                  <a:pt x="8714" y="5035"/>
                  <a:pt x="8723" y="5035"/>
                  <a:pt x="8731" y="5035"/>
                </a:cubicBezTo>
                <a:cubicBezTo>
                  <a:pt x="8744" y="5073"/>
                  <a:pt x="8761" y="5060"/>
                  <a:pt x="8806" y="5060"/>
                </a:cubicBezTo>
                <a:cubicBezTo>
                  <a:pt x="8818" y="5098"/>
                  <a:pt x="8835" y="5085"/>
                  <a:pt x="8880" y="5085"/>
                </a:cubicBezTo>
                <a:cubicBezTo>
                  <a:pt x="8888" y="5085"/>
                  <a:pt x="8897" y="5085"/>
                  <a:pt x="8905" y="5085"/>
                </a:cubicBezTo>
                <a:cubicBezTo>
                  <a:pt x="8918" y="5123"/>
                  <a:pt x="8934" y="5110"/>
                  <a:pt x="8979" y="5110"/>
                </a:cubicBezTo>
                <a:cubicBezTo>
                  <a:pt x="8987" y="5110"/>
                  <a:pt x="8996" y="5110"/>
                  <a:pt x="9004" y="5110"/>
                </a:cubicBezTo>
              </a:path>
              <a:path w="795" h="323">
                <a:moveTo>
                  <a:pt x="8657" y="5011"/>
                </a:moveTo>
                <a:cubicBezTo>
                  <a:pt x="8690" y="5011"/>
                  <a:pt x="8723" y="5011"/>
                  <a:pt x="8756" y="5011"/>
                </a:cubicBezTo>
                <a:cubicBezTo>
                  <a:pt x="8769" y="5047"/>
                  <a:pt x="8786" y="5035"/>
                  <a:pt x="8830" y="5035"/>
                </a:cubicBezTo>
                <a:cubicBezTo>
                  <a:pt x="8887" y="5035"/>
                  <a:pt x="8908" y="5045"/>
                  <a:pt x="8954" y="5060"/>
                </a:cubicBezTo>
                <a:cubicBezTo>
                  <a:pt x="9000" y="5075"/>
                  <a:pt x="9013" y="5036"/>
                  <a:pt x="9029" y="5085"/>
                </a:cubicBezTo>
              </a:path>
              <a:path w="795" h="323">
                <a:moveTo>
                  <a:pt x="8657" y="4986"/>
                </a:moveTo>
                <a:cubicBezTo>
                  <a:pt x="8690" y="4986"/>
                  <a:pt x="8723" y="4986"/>
                  <a:pt x="8756" y="4986"/>
                </a:cubicBezTo>
                <a:cubicBezTo>
                  <a:pt x="8769" y="5024"/>
                  <a:pt x="8785" y="5011"/>
                  <a:pt x="8830" y="5011"/>
                </a:cubicBezTo>
                <a:cubicBezTo>
                  <a:pt x="8838" y="5011"/>
                  <a:pt x="8847" y="5011"/>
                  <a:pt x="8855" y="5011"/>
                </a:cubicBezTo>
                <a:cubicBezTo>
                  <a:pt x="8868" y="5047"/>
                  <a:pt x="8886" y="5035"/>
                  <a:pt x="8930" y="5035"/>
                </a:cubicBezTo>
                <a:cubicBezTo>
                  <a:pt x="8977" y="5035"/>
                  <a:pt x="9016" y="5020"/>
                  <a:pt x="9029" y="5060"/>
                </a:cubicBezTo>
              </a:path>
              <a:path w="795" h="323">
                <a:moveTo>
                  <a:pt x="8682" y="5011"/>
                </a:moveTo>
                <a:cubicBezTo>
                  <a:pt x="8706" y="5011"/>
                  <a:pt x="8715" y="5011"/>
                  <a:pt x="8731" y="5011"/>
                </a:cubicBezTo>
                <a:cubicBezTo>
                  <a:pt x="8744" y="5047"/>
                  <a:pt x="8762" y="5035"/>
                  <a:pt x="8806" y="5035"/>
                </a:cubicBezTo>
                <a:cubicBezTo>
                  <a:pt x="8851" y="5035"/>
                  <a:pt x="8865" y="5056"/>
                  <a:pt x="8905" y="5060"/>
                </a:cubicBezTo>
                <a:cubicBezTo>
                  <a:pt x="8952" y="5065"/>
                  <a:pt x="8964" y="5072"/>
                  <a:pt x="9004" y="5085"/>
                </a:cubicBezTo>
                <a:cubicBezTo>
                  <a:pt x="9041" y="5097"/>
                  <a:pt x="9060" y="5110"/>
                  <a:pt x="9103" y="5110"/>
                </a:cubicBezTo>
                <a:cubicBezTo>
                  <a:pt x="9144" y="5110"/>
                  <a:pt x="9186" y="5110"/>
                  <a:pt x="9227" y="5110"/>
                </a:cubicBezTo>
              </a:path>
              <a:path w="795" h="323">
                <a:moveTo>
                  <a:pt x="8756" y="5060"/>
                </a:moveTo>
                <a:cubicBezTo>
                  <a:pt x="8789" y="5060"/>
                  <a:pt x="8822" y="5060"/>
                  <a:pt x="8855" y="5060"/>
                </a:cubicBezTo>
                <a:cubicBezTo>
                  <a:pt x="8868" y="5022"/>
                  <a:pt x="8885" y="5035"/>
                  <a:pt x="8930" y="5035"/>
                </a:cubicBezTo>
                <a:cubicBezTo>
                  <a:pt x="8954" y="5035"/>
                  <a:pt x="8963" y="5035"/>
                  <a:pt x="8979" y="5035"/>
                </a:cubicBezTo>
              </a:path>
              <a:path w="795" h="323">
                <a:moveTo>
                  <a:pt x="8682" y="5011"/>
                </a:moveTo>
                <a:cubicBezTo>
                  <a:pt x="8814" y="5011"/>
                  <a:pt x="8947" y="5011"/>
                  <a:pt x="9079" y="5011"/>
                </a:cubicBezTo>
              </a:path>
              <a:path w="795" h="323">
                <a:moveTo>
                  <a:pt x="9153" y="4986"/>
                </a:moveTo>
                <a:cubicBezTo>
                  <a:pt x="9153" y="5085"/>
                  <a:pt x="9153" y="5184"/>
                  <a:pt x="9153" y="5283"/>
                </a:cubicBezTo>
              </a:path>
              <a:path w="795" h="323">
                <a:moveTo>
                  <a:pt x="9252" y="5035"/>
                </a:moveTo>
                <a:cubicBezTo>
                  <a:pt x="9260" y="5035"/>
                  <a:pt x="9269" y="5035"/>
                  <a:pt x="9277" y="5035"/>
                </a:cubicBezTo>
                <a:cubicBezTo>
                  <a:pt x="9277" y="5087"/>
                  <a:pt x="9277" y="5264"/>
                  <a:pt x="9277" y="5234"/>
                </a:cubicBezTo>
              </a:path>
              <a:path w="795" h="323">
                <a:moveTo>
                  <a:pt x="9302" y="5011"/>
                </a:moveTo>
                <a:lnTo>
                  <a:pt x="9302" y="5011"/>
                </a:lnTo>
              </a:path>
              <a:path w="795" h="323">
                <a:moveTo>
                  <a:pt x="9302" y="5234"/>
                </a:moveTo>
                <a:cubicBezTo>
                  <a:pt x="9329" y="5234"/>
                  <a:pt x="9346" y="5261"/>
                  <a:pt x="9376" y="5283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3143160" y="1498680"/>
            <a:ext cx="71640" cy="162000"/>
          </a:xfrm>
          <a:custGeom>
            <a:avLst/>
            <a:gdLst/>
            <a:ahLst/>
            <a:rect l="l" t="t" r="r" b="b"/>
            <a:pathLst>
              <a:path w="200" h="448">
                <a:moveTo>
                  <a:pt x="8756" y="4986"/>
                </a:moveTo>
                <a:lnTo>
                  <a:pt x="8756" y="4986"/>
                </a:lnTo>
              </a:path>
              <a:path w="200" h="448">
                <a:moveTo>
                  <a:pt x="8756" y="4986"/>
                </a:moveTo>
                <a:cubicBezTo>
                  <a:pt x="8756" y="4961"/>
                  <a:pt x="8756" y="4953"/>
                  <a:pt x="8756" y="4936"/>
                </a:cubicBezTo>
              </a:path>
              <a:path w="200" h="448">
                <a:moveTo>
                  <a:pt x="8731" y="4986"/>
                </a:moveTo>
                <a:cubicBezTo>
                  <a:pt x="8754" y="4955"/>
                  <a:pt x="8777" y="4925"/>
                  <a:pt x="8781" y="4887"/>
                </a:cubicBezTo>
                <a:cubicBezTo>
                  <a:pt x="8781" y="4879"/>
                  <a:pt x="8781" y="4870"/>
                  <a:pt x="8781" y="4862"/>
                </a:cubicBezTo>
              </a:path>
              <a:path w="200" h="448">
                <a:moveTo>
                  <a:pt x="8781" y="4961"/>
                </a:moveTo>
                <a:cubicBezTo>
                  <a:pt x="8781" y="4928"/>
                  <a:pt x="8781" y="4895"/>
                  <a:pt x="8781" y="4862"/>
                </a:cubicBezTo>
              </a:path>
              <a:path w="200" h="448">
                <a:moveTo>
                  <a:pt x="8731" y="4986"/>
                </a:moveTo>
                <a:cubicBezTo>
                  <a:pt x="8731" y="4978"/>
                  <a:pt x="8731" y="4969"/>
                  <a:pt x="8731" y="4961"/>
                </a:cubicBezTo>
                <a:cubicBezTo>
                  <a:pt x="8766" y="4949"/>
                  <a:pt x="8756" y="4954"/>
                  <a:pt x="8756" y="4911"/>
                </a:cubicBezTo>
                <a:cubicBezTo>
                  <a:pt x="8794" y="4899"/>
                  <a:pt x="8781" y="4882"/>
                  <a:pt x="8781" y="4837"/>
                </a:cubicBezTo>
                <a:cubicBezTo>
                  <a:pt x="8816" y="4825"/>
                  <a:pt x="8806" y="4830"/>
                  <a:pt x="8806" y="4787"/>
                </a:cubicBezTo>
              </a:path>
              <a:path w="200" h="448">
                <a:moveTo>
                  <a:pt x="8731" y="5011"/>
                </a:moveTo>
                <a:cubicBezTo>
                  <a:pt x="8731" y="4945"/>
                  <a:pt x="8731" y="4878"/>
                  <a:pt x="8731" y="4812"/>
                </a:cubicBezTo>
              </a:path>
              <a:path w="200" h="448">
                <a:moveTo>
                  <a:pt x="8756" y="4862"/>
                </a:moveTo>
                <a:cubicBezTo>
                  <a:pt x="8756" y="4835"/>
                  <a:pt x="8784" y="4817"/>
                  <a:pt x="8806" y="4787"/>
                </a:cubicBezTo>
              </a:path>
              <a:path w="200" h="448">
                <a:moveTo>
                  <a:pt x="8830" y="4713"/>
                </a:moveTo>
                <a:cubicBezTo>
                  <a:pt x="8830" y="4670"/>
                  <a:pt x="8820" y="4675"/>
                  <a:pt x="8855" y="4663"/>
                </a:cubicBezTo>
                <a:cubicBezTo>
                  <a:pt x="8854" y="4667"/>
                  <a:pt x="8834" y="4734"/>
                  <a:pt x="8830" y="4738"/>
                </a:cubicBezTo>
                <a:cubicBezTo>
                  <a:pt x="8820" y="4747"/>
                  <a:pt x="8785" y="4779"/>
                  <a:pt x="8781" y="4787"/>
                </a:cubicBezTo>
                <a:cubicBezTo>
                  <a:pt x="8764" y="4821"/>
                  <a:pt x="8781" y="4858"/>
                  <a:pt x="8781" y="4787"/>
                </a:cubicBezTo>
                <a:cubicBezTo>
                  <a:pt x="8781" y="4736"/>
                  <a:pt x="8796" y="4734"/>
                  <a:pt x="8806" y="4713"/>
                </a:cubicBezTo>
                <a:cubicBezTo>
                  <a:pt x="8817" y="4691"/>
                  <a:pt x="8827" y="4645"/>
                  <a:pt x="8830" y="4638"/>
                </a:cubicBezTo>
                <a:cubicBezTo>
                  <a:pt x="8843" y="4612"/>
                  <a:pt x="8846" y="4593"/>
                  <a:pt x="8880" y="4589"/>
                </a:cubicBezTo>
                <a:cubicBezTo>
                  <a:pt x="8923" y="4584"/>
                  <a:pt x="8890" y="4577"/>
                  <a:pt x="8930" y="4564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3132000" y="1413000"/>
            <a:ext cx="723960" cy="401400"/>
          </a:xfrm>
          <a:custGeom>
            <a:avLst/>
            <a:gdLst/>
            <a:ahLst/>
            <a:rect l="l" t="t" r="r" b="b"/>
            <a:pathLst>
              <a:path w="2010" h="1117">
                <a:moveTo>
                  <a:pt x="8954" y="5234"/>
                </a:moveTo>
                <a:cubicBezTo>
                  <a:pt x="9037" y="5234"/>
                  <a:pt x="9120" y="5234"/>
                  <a:pt x="9203" y="5234"/>
                </a:cubicBezTo>
                <a:cubicBezTo>
                  <a:pt x="9160" y="5234"/>
                  <a:pt x="9137" y="5256"/>
                  <a:pt x="9128" y="5259"/>
                </a:cubicBezTo>
                <a:cubicBezTo>
                  <a:pt x="9088" y="5270"/>
                  <a:pt x="9013" y="5259"/>
                  <a:pt x="9054" y="5259"/>
                </a:cubicBezTo>
                <a:cubicBezTo>
                  <a:pt x="9062" y="5259"/>
                  <a:pt x="9071" y="5259"/>
                  <a:pt x="9079" y="5259"/>
                </a:cubicBezTo>
              </a:path>
              <a:path w="2010" h="1117">
                <a:moveTo>
                  <a:pt x="8731" y="5234"/>
                </a:moveTo>
                <a:cubicBezTo>
                  <a:pt x="8731" y="5226"/>
                  <a:pt x="8731" y="5217"/>
                  <a:pt x="8731" y="5209"/>
                </a:cubicBezTo>
              </a:path>
              <a:path w="2010" h="1117">
                <a:moveTo>
                  <a:pt x="9624" y="4291"/>
                </a:moveTo>
                <a:lnTo>
                  <a:pt x="9624" y="4291"/>
                </a:lnTo>
              </a:path>
              <a:path w="2010" h="1117">
                <a:moveTo>
                  <a:pt x="8657" y="5283"/>
                </a:moveTo>
                <a:cubicBezTo>
                  <a:pt x="8682" y="5283"/>
                  <a:pt x="8690" y="5283"/>
                  <a:pt x="8706" y="5283"/>
                </a:cubicBezTo>
                <a:cubicBezTo>
                  <a:pt x="8719" y="5247"/>
                  <a:pt x="8737" y="5259"/>
                  <a:pt x="8781" y="5259"/>
                </a:cubicBezTo>
                <a:cubicBezTo>
                  <a:pt x="8806" y="5259"/>
                  <a:pt x="8814" y="5259"/>
                  <a:pt x="8830" y="5259"/>
                </a:cubicBezTo>
                <a:cubicBezTo>
                  <a:pt x="8843" y="5221"/>
                  <a:pt x="8860" y="5234"/>
                  <a:pt x="8905" y="5234"/>
                </a:cubicBezTo>
                <a:cubicBezTo>
                  <a:pt x="8930" y="5234"/>
                  <a:pt x="8954" y="5234"/>
                  <a:pt x="8979" y="5234"/>
                </a:cubicBezTo>
                <a:cubicBezTo>
                  <a:pt x="8992" y="5196"/>
                  <a:pt x="9009" y="5209"/>
                  <a:pt x="9054" y="5209"/>
                </a:cubicBezTo>
                <a:cubicBezTo>
                  <a:pt x="9062" y="5209"/>
                  <a:pt x="9071" y="5209"/>
                  <a:pt x="9079" y="5209"/>
                </a:cubicBezTo>
              </a:path>
              <a:path w="2010" h="1117">
                <a:moveTo>
                  <a:pt x="8806" y="5234"/>
                </a:moveTo>
                <a:cubicBezTo>
                  <a:pt x="8963" y="5234"/>
                  <a:pt x="9120" y="5234"/>
                  <a:pt x="9277" y="5234"/>
                </a:cubicBezTo>
              </a:path>
              <a:path w="2010" h="1117">
                <a:moveTo>
                  <a:pt x="8855" y="5283"/>
                </a:moveTo>
                <a:cubicBezTo>
                  <a:pt x="8905" y="5283"/>
                  <a:pt x="8954" y="5283"/>
                  <a:pt x="9004" y="5283"/>
                </a:cubicBezTo>
                <a:cubicBezTo>
                  <a:pt x="9017" y="5247"/>
                  <a:pt x="9035" y="5259"/>
                  <a:pt x="9079" y="5259"/>
                </a:cubicBezTo>
                <a:cubicBezTo>
                  <a:pt x="9120" y="5259"/>
                  <a:pt x="9162" y="5259"/>
                  <a:pt x="9203" y="5259"/>
                </a:cubicBezTo>
              </a:path>
              <a:path w="2010" h="1117">
                <a:moveTo>
                  <a:pt x="9004" y="5234"/>
                </a:moveTo>
                <a:cubicBezTo>
                  <a:pt x="9061" y="5234"/>
                  <a:pt x="9188" y="5254"/>
                  <a:pt x="9203" y="5209"/>
                </a:cubicBezTo>
              </a:path>
              <a:path w="2010" h="1117">
                <a:moveTo>
                  <a:pt x="9302" y="5184"/>
                </a:moveTo>
                <a:cubicBezTo>
                  <a:pt x="9310" y="5184"/>
                  <a:pt x="9319" y="5184"/>
                  <a:pt x="9327" y="5184"/>
                </a:cubicBezTo>
                <a:cubicBezTo>
                  <a:pt x="9335" y="5134"/>
                  <a:pt x="9332" y="5161"/>
                  <a:pt x="9351" y="5135"/>
                </a:cubicBezTo>
                <a:cubicBezTo>
                  <a:pt x="9351" y="5110"/>
                  <a:pt x="9351" y="5085"/>
                  <a:pt x="9351" y="5060"/>
                </a:cubicBezTo>
                <a:cubicBezTo>
                  <a:pt x="9371" y="5034"/>
                  <a:pt x="9368" y="5061"/>
                  <a:pt x="9376" y="5011"/>
                </a:cubicBezTo>
                <a:cubicBezTo>
                  <a:pt x="9396" y="4985"/>
                  <a:pt x="9393" y="5012"/>
                  <a:pt x="9401" y="4961"/>
                </a:cubicBezTo>
                <a:cubicBezTo>
                  <a:pt x="9422" y="4946"/>
                  <a:pt x="9430" y="4951"/>
                  <a:pt x="9451" y="4936"/>
                </a:cubicBezTo>
                <a:cubicBezTo>
                  <a:pt x="9466" y="4915"/>
                  <a:pt x="9460" y="4908"/>
                  <a:pt x="9475" y="4887"/>
                </a:cubicBezTo>
                <a:cubicBezTo>
                  <a:pt x="9496" y="4872"/>
                  <a:pt x="9504" y="4877"/>
                  <a:pt x="9525" y="4862"/>
                </a:cubicBezTo>
                <a:cubicBezTo>
                  <a:pt x="9540" y="4841"/>
                  <a:pt x="9535" y="4833"/>
                  <a:pt x="9550" y="4812"/>
                </a:cubicBezTo>
                <a:cubicBezTo>
                  <a:pt x="9578" y="4796"/>
                  <a:pt x="9621" y="4778"/>
                  <a:pt x="9649" y="4762"/>
                </a:cubicBezTo>
                <a:cubicBezTo>
                  <a:pt x="9668" y="4743"/>
                  <a:pt x="9689" y="4732"/>
                  <a:pt x="9723" y="4713"/>
                </a:cubicBezTo>
                <a:cubicBezTo>
                  <a:pt x="9738" y="4704"/>
                  <a:pt x="9769" y="4702"/>
                  <a:pt x="9798" y="4688"/>
                </a:cubicBezTo>
                <a:cubicBezTo>
                  <a:pt x="9841" y="4666"/>
                  <a:pt x="9845" y="4666"/>
                  <a:pt x="9897" y="4663"/>
                </a:cubicBezTo>
                <a:cubicBezTo>
                  <a:pt x="9942" y="4661"/>
                  <a:pt x="9956" y="4645"/>
                  <a:pt x="9996" y="4638"/>
                </a:cubicBezTo>
                <a:cubicBezTo>
                  <a:pt x="10089" y="4622"/>
                  <a:pt x="10199" y="4638"/>
                  <a:pt x="10294" y="4638"/>
                </a:cubicBezTo>
                <a:cubicBezTo>
                  <a:pt x="10310" y="4659"/>
                  <a:pt x="10303" y="4667"/>
                  <a:pt x="10319" y="4688"/>
                </a:cubicBezTo>
                <a:cubicBezTo>
                  <a:pt x="10371" y="4697"/>
                  <a:pt x="10341" y="4692"/>
                  <a:pt x="10368" y="4713"/>
                </a:cubicBezTo>
                <a:cubicBezTo>
                  <a:pt x="10385" y="4730"/>
                  <a:pt x="10413" y="4746"/>
                  <a:pt x="10443" y="4762"/>
                </a:cubicBezTo>
                <a:cubicBezTo>
                  <a:pt x="10458" y="4783"/>
                  <a:pt x="10453" y="4791"/>
                  <a:pt x="10468" y="4812"/>
                </a:cubicBezTo>
                <a:cubicBezTo>
                  <a:pt x="10518" y="4820"/>
                  <a:pt x="10491" y="4817"/>
                  <a:pt x="10517" y="4837"/>
                </a:cubicBezTo>
                <a:cubicBezTo>
                  <a:pt x="10538" y="4852"/>
                  <a:pt x="10546" y="4847"/>
                  <a:pt x="10567" y="4862"/>
                </a:cubicBezTo>
                <a:cubicBezTo>
                  <a:pt x="10582" y="4882"/>
                  <a:pt x="10577" y="4891"/>
                  <a:pt x="10592" y="4911"/>
                </a:cubicBezTo>
                <a:cubicBezTo>
                  <a:pt x="10605" y="4934"/>
                  <a:pt x="10609" y="4937"/>
                  <a:pt x="10616" y="4986"/>
                </a:cubicBezTo>
                <a:cubicBezTo>
                  <a:pt x="10631" y="5010"/>
                  <a:pt x="10638" y="5008"/>
                  <a:pt x="10641" y="5060"/>
                </a:cubicBezTo>
                <a:cubicBezTo>
                  <a:pt x="10646" y="5142"/>
                  <a:pt x="10641" y="5226"/>
                  <a:pt x="10641" y="5308"/>
                </a:cubicBezTo>
                <a:cubicBezTo>
                  <a:pt x="10656" y="5332"/>
                  <a:pt x="10662" y="5331"/>
                  <a:pt x="10666" y="5383"/>
                </a:cubicBezTo>
                <a:cubicBezTo>
                  <a:pt x="10666" y="5391"/>
                  <a:pt x="10666" y="5399"/>
                  <a:pt x="10666" y="5407"/>
                </a:cubicBezTo>
              </a:path>
              <a:path w="2010" h="1117">
                <a:moveTo>
                  <a:pt x="8880" y="4862"/>
                </a:moveTo>
                <a:cubicBezTo>
                  <a:pt x="8930" y="4850"/>
                  <a:pt x="8926" y="4826"/>
                  <a:pt x="8954" y="4787"/>
                </a:cubicBezTo>
              </a:path>
              <a:path w="2010" h="1117">
                <a:moveTo>
                  <a:pt x="9054" y="4862"/>
                </a:moveTo>
                <a:cubicBezTo>
                  <a:pt x="9062" y="4862"/>
                  <a:pt x="9071" y="4862"/>
                  <a:pt x="9079" y="4862"/>
                </a:cubicBezTo>
              </a:path>
              <a:path w="2010" h="1117">
                <a:moveTo>
                  <a:pt x="9674" y="4638"/>
                </a:moveTo>
                <a:cubicBezTo>
                  <a:pt x="9699" y="4638"/>
                  <a:pt x="9707" y="4638"/>
                  <a:pt x="9723" y="463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4037040" y="1373040"/>
            <a:ext cx="61920" cy="339840"/>
          </a:xfrm>
          <a:custGeom>
            <a:avLst/>
            <a:gdLst/>
            <a:ahLst/>
            <a:rect l="l" t="t" r="r" b="b"/>
            <a:pathLst>
              <a:path w="174" h="943">
                <a:moveTo>
                  <a:pt x="11286" y="4217"/>
                </a:moveTo>
                <a:cubicBezTo>
                  <a:pt x="11286" y="4242"/>
                  <a:pt x="11286" y="4250"/>
                  <a:pt x="11286" y="4266"/>
                </a:cubicBezTo>
              </a:path>
              <a:path w="174" h="943">
                <a:moveTo>
                  <a:pt x="11261" y="4266"/>
                </a:moveTo>
                <a:cubicBezTo>
                  <a:pt x="11269" y="4266"/>
                  <a:pt x="11278" y="4266"/>
                  <a:pt x="11286" y="4266"/>
                </a:cubicBezTo>
                <a:cubicBezTo>
                  <a:pt x="11299" y="4306"/>
                  <a:pt x="11298" y="4276"/>
                  <a:pt x="11311" y="4316"/>
                </a:cubicBezTo>
                <a:cubicBezTo>
                  <a:pt x="11351" y="4329"/>
                  <a:pt x="11321" y="4328"/>
                  <a:pt x="11361" y="4341"/>
                </a:cubicBezTo>
                <a:cubicBezTo>
                  <a:pt x="11361" y="4394"/>
                  <a:pt x="11373" y="4377"/>
                  <a:pt x="11385" y="4415"/>
                </a:cubicBezTo>
              </a:path>
              <a:path w="174" h="943">
                <a:moveTo>
                  <a:pt x="11311" y="4316"/>
                </a:moveTo>
                <a:cubicBezTo>
                  <a:pt x="11311" y="4324"/>
                  <a:pt x="11311" y="4333"/>
                  <a:pt x="11311" y="4341"/>
                </a:cubicBezTo>
                <a:cubicBezTo>
                  <a:pt x="11346" y="4353"/>
                  <a:pt x="11336" y="4348"/>
                  <a:pt x="11336" y="4390"/>
                </a:cubicBezTo>
                <a:cubicBezTo>
                  <a:pt x="11371" y="4402"/>
                  <a:pt x="11361" y="4397"/>
                  <a:pt x="11361" y="4440"/>
                </a:cubicBezTo>
                <a:cubicBezTo>
                  <a:pt x="11395" y="4452"/>
                  <a:pt x="11385" y="4448"/>
                  <a:pt x="11385" y="4490"/>
                </a:cubicBezTo>
              </a:path>
              <a:path w="174" h="943">
                <a:moveTo>
                  <a:pt x="11261" y="4366"/>
                </a:moveTo>
                <a:cubicBezTo>
                  <a:pt x="11261" y="4399"/>
                  <a:pt x="11261" y="4432"/>
                  <a:pt x="11261" y="4465"/>
                </a:cubicBezTo>
              </a:path>
              <a:path w="174" h="943">
                <a:moveTo>
                  <a:pt x="11286" y="4490"/>
                </a:moveTo>
                <a:cubicBezTo>
                  <a:pt x="11286" y="4498"/>
                  <a:pt x="11286" y="4506"/>
                  <a:pt x="11286" y="4514"/>
                </a:cubicBezTo>
              </a:path>
              <a:path w="174" h="943">
                <a:moveTo>
                  <a:pt x="11212" y="4514"/>
                </a:moveTo>
                <a:cubicBezTo>
                  <a:pt x="11212" y="4559"/>
                  <a:pt x="11199" y="4576"/>
                  <a:pt x="11237" y="4589"/>
                </a:cubicBezTo>
              </a:path>
              <a:path w="174" h="943">
                <a:moveTo>
                  <a:pt x="11261" y="4688"/>
                </a:moveTo>
                <a:cubicBezTo>
                  <a:pt x="11261" y="4713"/>
                  <a:pt x="11261" y="4721"/>
                  <a:pt x="11261" y="4738"/>
                </a:cubicBezTo>
              </a:path>
              <a:path w="174" h="943">
                <a:moveTo>
                  <a:pt x="11311" y="4837"/>
                </a:moveTo>
                <a:cubicBezTo>
                  <a:pt x="11311" y="4845"/>
                  <a:pt x="11311" y="4854"/>
                  <a:pt x="11311" y="4862"/>
                </a:cubicBezTo>
              </a:path>
              <a:path w="174" h="943">
                <a:moveTo>
                  <a:pt x="11286" y="4911"/>
                </a:moveTo>
                <a:cubicBezTo>
                  <a:pt x="11286" y="4936"/>
                  <a:pt x="11286" y="4944"/>
                  <a:pt x="11286" y="4961"/>
                </a:cubicBezTo>
              </a:path>
              <a:path w="174" h="943">
                <a:moveTo>
                  <a:pt x="11286" y="5011"/>
                </a:moveTo>
                <a:cubicBezTo>
                  <a:pt x="11286" y="5019"/>
                  <a:pt x="11286" y="5027"/>
                  <a:pt x="11286" y="5035"/>
                </a:cubicBezTo>
              </a:path>
              <a:path w="174" h="943">
                <a:moveTo>
                  <a:pt x="11286" y="5085"/>
                </a:moveTo>
                <a:cubicBezTo>
                  <a:pt x="11286" y="5110"/>
                  <a:pt x="11286" y="5118"/>
                  <a:pt x="11286" y="5135"/>
                </a:cubicBezTo>
              </a:path>
              <a:path w="174" h="943">
                <a:moveTo>
                  <a:pt x="11286" y="5135"/>
                </a:moveTo>
                <a:cubicBezTo>
                  <a:pt x="11286" y="5143"/>
                  <a:pt x="11286" y="5151"/>
                  <a:pt x="11286" y="5159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4932360" y="907920"/>
            <a:ext cx="0" cy="792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3851280" y="1700280"/>
            <a:ext cx="1368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6156360" y="1268280"/>
            <a:ext cx="71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5364000" y="909720"/>
            <a:ext cx="28764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4211640" y="1268280"/>
            <a:ext cx="1297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 flipV="1">
            <a:off x="3348000" y="1196640"/>
            <a:ext cx="719280" cy="142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5651640" y="1197000"/>
            <a:ext cx="433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68360" y="23954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pe/ 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2987640" y="2997360"/>
            <a:ext cx="345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3132000" y="285264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3851280" y="285264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796000" y="2852640"/>
            <a:ext cx="504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3143160" y="2579760"/>
            <a:ext cx="71640" cy="162000"/>
          </a:xfrm>
          <a:custGeom>
            <a:avLst/>
            <a:gdLst/>
            <a:ahLst/>
            <a:rect l="l" t="t" r="r" b="b"/>
            <a:pathLst>
              <a:path w="200" h="448">
                <a:moveTo>
                  <a:pt x="8756" y="4986"/>
                </a:moveTo>
                <a:lnTo>
                  <a:pt x="8756" y="4986"/>
                </a:lnTo>
              </a:path>
              <a:path w="200" h="448">
                <a:moveTo>
                  <a:pt x="8756" y="4986"/>
                </a:moveTo>
                <a:cubicBezTo>
                  <a:pt x="8756" y="4961"/>
                  <a:pt x="8756" y="4953"/>
                  <a:pt x="8756" y="4936"/>
                </a:cubicBezTo>
              </a:path>
              <a:path w="200" h="448">
                <a:moveTo>
                  <a:pt x="8731" y="4986"/>
                </a:moveTo>
                <a:cubicBezTo>
                  <a:pt x="8754" y="4955"/>
                  <a:pt x="8777" y="4925"/>
                  <a:pt x="8781" y="4887"/>
                </a:cubicBezTo>
                <a:cubicBezTo>
                  <a:pt x="8781" y="4879"/>
                  <a:pt x="8781" y="4870"/>
                  <a:pt x="8781" y="4862"/>
                </a:cubicBezTo>
              </a:path>
              <a:path w="200" h="448">
                <a:moveTo>
                  <a:pt x="8781" y="4961"/>
                </a:moveTo>
                <a:cubicBezTo>
                  <a:pt x="8781" y="4928"/>
                  <a:pt x="8781" y="4895"/>
                  <a:pt x="8781" y="4862"/>
                </a:cubicBezTo>
              </a:path>
              <a:path w="200" h="448">
                <a:moveTo>
                  <a:pt x="8731" y="4986"/>
                </a:moveTo>
                <a:cubicBezTo>
                  <a:pt x="8731" y="4978"/>
                  <a:pt x="8731" y="4969"/>
                  <a:pt x="8731" y="4961"/>
                </a:cubicBezTo>
                <a:cubicBezTo>
                  <a:pt x="8766" y="4949"/>
                  <a:pt x="8756" y="4954"/>
                  <a:pt x="8756" y="4911"/>
                </a:cubicBezTo>
                <a:cubicBezTo>
                  <a:pt x="8794" y="4899"/>
                  <a:pt x="8781" y="4882"/>
                  <a:pt x="8781" y="4837"/>
                </a:cubicBezTo>
                <a:cubicBezTo>
                  <a:pt x="8816" y="4825"/>
                  <a:pt x="8806" y="4830"/>
                  <a:pt x="8806" y="4787"/>
                </a:cubicBezTo>
              </a:path>
              <a:path w="200" h="448">
                <a:moveTo>
                  <a:pt x="8731" y="5011"/>
                </a:moveTo>
                <a:cubicBezTo>
                  <a:pt x="8731" y="4945"/>
                  <a:pt x="8731" y="4878"/>
                  <a:pt x="8731" y="4812"/>
                </a:cubicBezTo>
              </a:path>
              <a:path w="200" h="448">
                <a:moveTo>
                  <a:pt x="8756" y="4862"/>
                </a:moveTo>
                <a:cubicBezTo>
                  <a:pt x="8756" y="4835"/>
                  <a:pt x="8784" y="4817"/>
                  <a:pt x="8806" y="4787"/>
                </a:cubicBezTo>
              </a:path>
              <a:path w="200" h="448">
                <a:moveTo>
                  <a:pt x="8830" y="4713"/>
                </a:moveTo>
                <a:cubicBezTo>
                  <a:pt x="8830" y="4670"/>
                  <a:pt x="8820" y="4675"/>
                  <a:pt x="8855" y="4663"/>
                </a:cubicBezTo>
                <a:cubicBezTo>
                  <a:pt x="8854" y="4667"/>
                  <a:pt x="8834" y="4734"/>
                  <a:pt x="8830" y="4738"/>
                </a:cubicBezTo>
                <a:cubicBezTo>
                  <a:pt x="8820" y="4747"/>
                  <a:pt x="8785" y="4779"/>
                  <a:pt x="8781" y="4787"/>
                </a:cubicBezTo>
                <a:cubicBezTo>
                  <a:pt x="8764" y="4821"/>
                  <a:pt x="8781" y="4858"/>
                  <a:pt x="8781" y="4787"/>
                </a:cubicBezTo>
                <a:cubicBezTo>
                  <a:pt x="8781" y="4736"/>
                  <a:pt x="8796" y="4734"/>
                  <a:pt x="8806" y="4713"/>
                </a:cubicBezTo>
                <a:cubicBezTo>
                  <a:pt x="8817" y="4691"/>
                  <a:pt x="8827" y="4645"/>
                  <a:pt x="8830" y="4638"/>
                </a:cubicBezTo>
                <a:cubicBezTo>
                  <a:pt x="8843" y="4612"/>
                  <a:pt x="8846" y="4593"/>
                  <a:pt x="8880" y="4589"/>
                </a:cubicBezTo>
                <a:cubicBezTo>
                  <a:pt x="8923" y="4584"/>
                  <a:pt x="8890" y="4577"/>
                  <a:pt x="8930" y="456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4365720" y="2454120"/>
            <a:ext cx="61920" cy="339840"/>
          </a:xfrm>
          <a:custGeom>
            <a:avLst/>
            <a:gdLst/>
            <a:ahLst/>
            <a:rect l="l" t="t" r="r" b="b"/>
            <a:pathLst>
              <a:path w="174" h="943">
                <a:moveTo>
                  <a:pt x="11286" y="4217"/>
                </a:moveTo>
                <a:cubicBezTo>
                  <a:pt x="11286" y="4242"/>
                  <a:pt x="11286" y="4250"/>
                  <a:pt x="11286" y="4266"/>
                </a:cubicBezTo>
              </a:path>
              <a:path w="174" h="943">
                <a:moveTo>
                  <a:pt x="11261" y="4266"/>
                </a:moveTo>
                <a:cubicBezTo>
                  <a:pt x="11269" y="4266"/>
                  <a:pt x="11278" y="4266"/>
                  <a:pt x="11286" y="4266"/>
                </a:cubicBezTo>
                <a:cubicBezTo>
                  <a:pt x="11299" y="4306"/>
                  <a:pt x="11298" y="4276"/>
                  <a:pt x="11311" y="4316"/>
                </a:cubicBezTo>
                <a:cubicBezTo>
                  <a:pt x="11351" y="4329"/>
                  <a:pt x="11321" y="4328"/>
                  <a:pt x="11361" y="4341"/>
                </a:cubicBezTo>
                <a:cubicBezTo>
                  <a:pt x="11361" y="4394"/>
                  <a:pt x="11373" y="4377"/>
                  <a:pt x="11385" y="4415"/>
                </a:cubicBezTo>
              </a:path>
              <a:path w="174" h="943">
                <a:moveTo>
                  <a:pt x="11311" y="4316"/>
                </a:moveTo>
                <a:cubicBezTo>
                  <a:pt x="11311" y="4324"/>
                  <a:pt x="11311" y="4333"/>
                  <a:pt x="11311" y="4341"/>
                </a:cubicBezTo>
                <a:cubicBezTo>
                  <a:pt x="11346" y="4353"/>
                  <a:pt x="11336" y="4348"/>
                  <a:pt x="11336" y="4390"/>
                </a:cubicBezTo>
                <a:cubicBezTo>
                  <a:pt x="11371" y="4402"/>
                  <a:pt x="11361" y="4397"/>
                  <a:pt x="11361" y="4440"/>
                </a:cubicBezTo>
                <a:cubicBezTo>
                  <a:pt x="11395" y="4452"/>
                  <a:pt x="11385" y="4448"/>
                  <a:pt x="11385" y="4490"/>
                </a:cubicBezTo>
              </a:path>
              <a:path w="174" h="943">
                <a:moveTo>
                  <a:pt x="11261" y="4366"/>
                </a:moveTo>
                <a:cubicBezTo>
                  <a:pt x="11261" y="4399"/>
                  <a:pt x="11261" y="4432"/>
                  <a:pt x="11261" y="4465"/>
                </a:cubicBezTo>
              </a:path>
              <a:path w="174" h="943">
                <a:moveTo>
                  <a:pt x="11286" y="4490"/>
                </a:moveTo>
                <a:cubicBezTo>
                  <a:pt x="11286" y="4498"/>
                  <a:pt x="11286" y="4506"/>
                  <a:pt x="11286" y="4514"/>
                </a:cubicBezTo>
              </a:path>
              <a:path w="174" h="943">
                <a:moveTo>
                  <a:pt x="11212" y="4514"/>
                </a:moveTo>
                <a:cubicBezTo>
                  <a:pt x="11212" y="4559"/>
                  <a:pt x="11199" y="4576"/>
                  <a:pt x="11237" y="4589"/>
                </a:cubicBezTo>
              </a:path>
              <a:path w="174" h="943">
                <a:moveTo>
                  <a:pt x="11261" y="4688"/>
                </a:moveTo>
                <a:cubicBezTo>
                  <a:pt x="11261" y="4713"/>
                  <a:pt x="11261" y="4721"/>
                  <a:pt x="11261" y="4738"/>
                </a:cubicBezTo>
              </a:path>
              <a:path w="174" h="943">
                <a:moveTo>
                  <a:pt x="11311" y="4837"/>
                </a:moveTo>
                <a:cubicBezTo>
                  <a:pt x="11311" y="4845"/>
                  <a:pt x="11311" y="4854"/>
                  <a:pt x="11311" y="4862"/>
                </a:cubicBezTo>
              </a:path>
              <a:path w="174" h="943">
                <a:moveTo>
                  <a:pt x="11286" y="4911"/>
                </a:moveTo>
                <a:cubicBezTo>
                  <a:pt x="11286" y="4936"/>
                  <a:pt x="11286" y="4944"/>
                  <a:pt x="11286" y="4961"/>
                </a:cubicBezTo>
              </a:path>
              <a:path w="174" h="943">
                <a:moveTo>
                  <a:pt x="11286" y="5011"/>
                </a:moveTo>
                <a:cubicBezTo>
                  <a:pt x="11286" y="5019"/>
                  <a:pt x="11286" y="5027"/>
                  <a:pt x="11286" y="5035"/>
                </a:cubicBezTo>
              </a:path>
              <a:path w="174" h="943">
                <a:moveTo>
                  <a:pt x="11286" y="5085"/>
                </a:moveTo>
                <a:cubicBezTo>
                  <a:pt x="11286" y="5110"/>
                  <a:pt x="11286" y="5118"/>
                  <a:pt x="11286" y="5135"/>
                </a:cubicBezTo>
              </a:path>
              <a:path w="174" h="943">
                <a:moveTo>
                  <a:pt x="11286" y="5135"/>
                </a:moveTo>
                <a:cubicBezTo>
                  <a:pt x="11286" y="5143"/>
                  <a:pt x="11286" y="5151"/>
                  <a:pt x="11286" y="515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3851280" y="2781360"/>
            <a:ext cx="136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6229440" y="2349360"/>
            <a:ext cx="712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3402000" y="2998800"/>
            <a:ext cx="590400" cy="63360"/>
          </a:xfrm>
          <a:custGeom>
            <a:avLst/>
            <a:gdLst/>
            <a:ahLst/>
            <a:rect l="l" t="t" r="r" b="b"/>
            <a:pathLst>
              <a:path w="1638" h="175">
                <a:moveTo>
                  <a:pt x="10368" y="8756"/>
                </a:moveTo>
                <a:cubicBezTo>
                  <a:pt x="10331" y="8743"/>
                  <a:pt x="10347" y="8731"/>
                  <a:pt x="10294" y="8731"/>
                </a:cubicBezTo>
                <a:cubicBezTo>
                  <a:pt x="10267" y="8731"/>
                  <a:pt x="10088" y="8731"/>
                  <a:pt x="10145" y="8731"/>
                </a:cubicBezTo>
                <a:cubicBezTo>
                  <a:pt x="10162" y="8731"/>
                  <a:pt x="10326" y="8732"/>
                  <a:pt x="10294" y="8756"/>
                </a:cubicBezTo>
                <a:cubicBezTo>
                  <a:pt x="10285" y="8763"/>
                  <a:pt x="10155" y="8779"/>
                  <a:pt x="10145" y="8781"/>
                </a:cubicBezTo>
                <a:cubicBezTo>
                  <a:pt x="10103" y="8790"/>
                  <a:pt x="10058" y="8802"/>
                  <a:pt x="10021" y="8806"/>
                </a:cubicBezTo>
                <a:cubicBezTo>
                  <a:pt x="10013" y="8806"/>
                  <a:pt x="10004" y="8806"/>
                  <a:pt x="9996" y="8806"/>
                </a:cubicBezTo>
                <a:cubicBezTo>
                  <a:pt x="10065" y="8806"/>
                  <a:pt x="10125" y="8827"/>
                  <a:pt x="10195" y="8830"/>
                </a:cubicBezTo>
                <a:cubicBezTo>
                  <a:pt x="10272" y="8833"/>
                  <a:pt x="10339" y="8855"/>
                  <a:pt x="10418" y="8855"/>
                </a:cubicBezTo>
                <a:cubicBezTo>
                  <a:pt x="10443" y="8855"/>
                  <a:pt x="10451" y="8855"/>
                  <a:pt x="10443" y="8880"/>
                </a:cubicBezTo>
                <a:cubicBezTo>
                  <a:pt x="10294" y="8880"/>
                  <a:pt x="10145" y="8880"/>
                  <a:pt x="9996" y="8880"/>
                </a:cubicBezTo>
                <a:cubicBezTo>
                  <a:pt x="10178" y="8880"/>
                  <a:pt x="10674" y="8880"/>
                  <a:pt x="10492" y="8880"/>
                </a:cubicBezTo>
                <a:cubicBezTo>
                  <a:pt x="10484" y="8880"/>
                  <a:pt x="10476" y="8880"/>
                  <a:pt x="10468" y="8880"/>
                </a:cubicBezTo>
                <a:cubicBezTo>
                  <a:pt x="10344" y="8880"/>
                  <a:pt x="10220" y="8880"/>
                  <a:pt x="10096" y="8880"/>
                </a:cubicBezTo>
                <a:cubicBezTo>
                  <a:pt x="10112" y="8831"/>
                  <a:pt x="10142" y="8867"/>
                  <a:pt x="10195" y="8855"/>
                </a:cubicBezTo>
                <a:cubicBezTo>
                  <a:pt x="10276" y="8836"/>
                  <a:pt x="10365" y="8850"/>
                  <a:pt x="10443" y="8830"/>
                </a:cubicBezTo>
                <a:cubicBezTo>
                  <a:pt x="10459" y="8822"/>
                  <a:pt x="10476" y="8814"/>
                  <a:pt x="10492" y="8806"/>
                </a:cubicBezTo>
                <a:cubicBezTo>
                  <a:pt x="10559" y="8806"/>
                  <a:pt x="10454" y="8806"/>
                  <a:pt x="10443" y="8806"/>
                </a:cubicBezTo>
                <a:cubicBezTo>
                  <a:pt x="10238" y="8806"/>
                  <a:pt x="9863" y="8751"/>
                  <a:pt x="9699" y="8830"/>
                </a:cubicBezTo>
                <a:cubicBezTo>
                  <a:pt x="9692" y="8834"/>
                  <a:pt x="9579" y="8830"/>
                  <a:pt x="9649" y="8830"/>
                </a:cubicBezTo>
                <a:cubicBezTo>
                  <a:pt x="9657" y="8830"/>
                  <a:pt x="9666" y="8830"/>
                  <a:pt x="9674" y="8830"/>
                </a:cubicBezTo>
                <a:cubicBezTo>
                  <a:pt x="9814" y="8830"/>
                  <a:pt x="9972" y="8813"/>
                  <a:pt x="10096" y="8855"/>
                </a:cubicBezTo>
                <a:cubicBezTo>
                  <a:pt x="10140" y="8870"/>
                  <a:pt x="10213" y="8825"/>
                  <a:pt x="10220" y="8880"/>
                </a:cubicBezTo>
                <a:cubicBezTo>
                  <a:pt x="10220" y="8905"/>
                  <a:pt x="10220" y="8913"/>
                  <a:pt x="10244" y="8905"/>
                </a:cubicBezTo>
              </a:path>
              <a:path w="1638" h="175">
                <a:moveTo>
                  <a:pt x="10492" y="8830"/>
                </a:moveTo>
                <a:cubicBezTo>
                  <a:pt x="10636" y="8830"/>
                  <a:pt x="10777" y="8838"/>
                  <a:pt x="10914" y="8855"/>
                </a:cubicBezTo>
                <a:cubicBezTo>
                  <a:pt x="10997" y="8866"/>
                  <a:pt x="10983" y="8839"/>
                  <a:pt x="11038" y="8880"/>
                </a:cubicBezTo>
              </a:path>
              <a:path w="1638" h="175">
                <a:moveTo>
                  <a:pt x="10641" y="8806"/>
                </a:moveTo>
                <a:cubicBezTo>
                  <a:pt x="10761" y="8806"/>
                  <a:pt x="10882" y="8809"/>
                  <a:pt x="10988" y="8830"/>
                </a:cubicBezTo>
                <a:cubicBezTo>
                  <a:pt x="11016" y="8836"/>
                  <a:pt x="11058" y="8830"/>
                  <a:pt x="11088" y="8830"/>
                </a:cubicBezTo>
                <a:cubicBezTo>
                  <a:pt x="10951" y="8830"/>
                  <a:pt x="10739" y="8853"/>
                  <a:pt x="10641" y="8806"/>
                </a:cubicBezTo>
                <a:cubicBezTo>
                  <a:pt x="10616" y="8794"/>
                  <a:pt x="10569" y="8788"/>
                  <a:pt x="10542" y="8781"/>
                </a:cubicBezTo>
              </a:path>
              <a:path w="1638" h="175">
                <a:moveTo>
                  <a:pt x="9451" y="8880"/>
                </a:moveTo>
                <a:lnTo>
                  <a:pt x="9451" y="888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5276880" y="3016080"/>
            <a:ext cx="384120" cy="71640"/>
          </a:xfrm>
          <a:custGeom>
            <a:avLst/>
            <a:gdLst/>
            <a:ahLst/>
            <a:rect l="l" t="t" r="r" b="b"/>
            <a:pathLst>
              <a:path w="1067" h="199">
                <a:moveTo>
                  <a:pt x="14932" y="8781"/>
                </a:moveTo>
                <a:cubicBezTo>
                  <a:pt x="14878" y="8781"/>
                  <a:pt x="14878" y="8781"/>
                  <a:pt x="14932" y="8781"/>
                </a:cubicBezTo>
                <a:cubicBezTo>
                  <a:pt x="14990" y="8781"/>
                  <a:pt x="15048" y="8781"/>
                  <a:pt x="15106" y="8781"/>
                </a:cubicBezTo>
                <a:cubicBezTo>
                  <a:pt x="15075" y="8804"/>
                  <a:pt x="15046" y="8826"/>
                  <a:pt x="15007" y="8830"/>
                </a:cubicBezTo>
                <a:cubicBezTo>
                  <a:pt x="14947" y="8836"/>
                  <a:pt x="14892" y="8870"/>
                  <a:pt x="14833" y="8880"/>
                </a:cubicBezTo>
                <a:cubicBezTo>
                  <a:pt x="14784" y="8888"/>
                  <a:pt x="14731" y="8900"/>
                  <a:pt x="14684" y="8905"/>
                </a:cubicBezTo>
                <a:cubicBezTo>
                  <a:pt x="14676" y="8905"/>
                  <a:pt x="14668" y="8905"/>
                  <a:pt x="14660" y="8905"/>
                </a:cubicBezTo>
                <a:cubicBezTo>
                  <a:pt x="14672" y="8943"/>
                  <a:pt x="14689" y="8930"/>
                  <a:pt x="14734" y="8930"/>
                </a:cubicBezTo>
                <a:cubicBezTo>
                  <a:pt x="14874" y="8930"/>
                  <a:pt x="15033" y="8947"/>
                  <a:pt x="15156" y="8905"/>
                </a:cubicBezTo>
                <a:cubicBezTo>
                  <a:pt x="15188" y="8894"/>
                  <a:pt x="15226" y="8890"/>
                  <a:pt x="15255" y="8880"/>
                </a:cubicBezTo>
                <a:cubicBezTo>
                  <a:pt x="15290" y="8868"/>
                  <a:pt x="15380" y="8881"/>
                  <a:pt x="15354" y="8855"/>
                </a:cubicBezTo>
                <a:cubicBezTo>
                  <a:pt x="15346" y="8855"/>
                  <a:pt x="15337" y="8855"/>
                  <a:pt x="15329" y="8855"/>
                </a:cubicBezTo>
                <a:cubicBezTo>
                  <a:pt x="15261" y="8855"/>
                  <a:pt x="15219" y="8864"/>
                  <a:pt x="15156" y="8880"/>
                </a:cubicBezTo>
                <a:cubicBezTo>
                  <a:pt x="15143" y="8883"/>
                  <a:pt x="15004" y="8880"/>
                  <a:pt x="15081" y="8880"/>
                </a:cubicBezTo>
                <a:cubicBezTo>
                  <a:pt x="15089" y="8880"/>
                  <a:pt x="15098" y="8880"/>
                  <a:pt x="15106" y="8880"/>
                </a:cubicBezTo>
                <a:cubicBezTo>
                  <a:pt x="15238" y="8880"/>
                  <a:pt x="15371" y="8880"/>
                  <a:pt x="15503" y="8880"/>
                </a:cubicBezTo>
                <a:cubicBezTo>
                  <a:pt x="15432" y="8880"/>
                  <a:pt x="15247" y="8853"/>
                  <a:pt x="15230" y="8905"/>
                </a:cubicBezTo>
                <a:cubicBezTo>
                  <a:pt x="15387" y="8905"/>
                  <a:pt x="15544" y="8905"/>
                  <a:pt x="15701" y="8905"/>
                </a:cubicBezTo>
                <a:cubicBezTo>
                  <a:pt x="15768" y="8905"/>
                  <a:pt x="15663" y="8905"/>
                  <a:pt x="15652" y="8905"/>
                </a:cubicBezTo>
                <a:cubicBezTo>
                  <a:pt x="15513" y="8905"/>
                  <a:pt x="15301" y="8928"/>
                  <a:pt x="15205" y="8880"/>
                </a:cubicBezTo>
                <a:cubicBezTo>
                  <a:pt x="15197" y="8880"/>
                  <a:pt x="15188" y="8880"/>
                  <a:pt x="15180" y="8880"/>
                </a:cubicBezTo>
                <a:cubicBezTo>
                  <a:pt x="15288" y="8880"/>
                  <a:pt x="15405" y="8899"/>
                  <a:pt x="15503" y="8855"/>
                </a:cubicBezTo>
                <a:cubicBezTo>
                  <a:pt x="15547" y="8835"/>
                  <a:pt x="15591" y="8838"/>
                  <a:pt x="15602" y="8806"/>
                </a:cubicBezTo>
                <a:cubicBezTo>
                  <a:pt x="15478" y="8806"/>
                  <a:pt x="15354" y="8806"/>
                  <a:pt x="15230" y="8806"/>
                </a:cubicBezTo>
                <a:cubicBezTo>
                  <a:pt x="15163" y="8806"/>
                  <a:pt x="15269" y="8806"/>
                  <a:pt x="15280" y="8806"/>
                </a:cubicBezTo>
                <a:cubicBezTo>
                  <a:pt x="15387" y="8806"/>
                  <a:pt x="15495" y="8806"/>
                  <a:pt x="15602" y="8806"/>
                </a:cubicBezTo>
                <a:cubicBezTo>
                  <a:pt x="15562" y="8806"/>
                  <a:pt x="15535" y="8813"/>
                  <a:pt x="15503" y="8830"/>
                </a:cubicBezTo>
                <a:cubicBezTo>
                  <a:pt x="15479" y="8843"/>
                  <a:pt x="15392" y="8861"/>
                  <a:pt x="15379" y="8880"/>
                </a:cubicBezTo>
                <a:cubicBezTo>
                  <a:pt x="15379" y="8888"/>
                  <a:pt x="15379" y="8897"/>
                  <a:pt x="15379" y="8905"/>
                </a:cubicBezTo>
                <a:cubicBezTo>
                  <a:pt x="15435" y="8905"/>
                  <a:pt x="15710" y="8923"/>
                  <a:pt x="15701" y="8930"/>
                </a:cubicBezTo>
                <a:cubicBezTo>
                  <a:pt x="15690" y="8939"/>
                  <a:pt x="15635" y="8953"/>
                  <a:pt x="15627" y="8954"/>
                </a:cubicBezTo>
                <a:cubicBezTo>
                  <a:pt x="15584" y="8959"/>
                  <a:pt x="15617" y="8966"/>
                  <a:pt x="15577" y="897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468360" y="36194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2987640" y="4221000"/>
            <a:ext cx="345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5292720" y="3789360"/>
            <a:ext cx="431640" cy="43164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3851280" y="4005360"/>
            <a:ext cx="136836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3084480" y="3181320"/>
            <a:ext cx="3287880" cy="679320"/>
          </a:xfrm>
          <a:custGeom>
            <a:avLst/>
            <a:gdLst/>
            <a:ahLst/>
            <a:rect l="l" t="t" r="r" b="b"/>
            <a:pathLst>
              <a:path w="9129" h="1886">
                <a:moveTo>
                  <a:pt x="8632" y="10790"/>
                </a:moveTo>
                <a:cubicBezTo>
                  <a:pt x="8682" y="10820"/>
                  <a:pt x="8719" y="10815"/>
                  <a:pt x="8781" y="10815"/>
                </a:cubicBezTo>
                <a:cubicBezTo>
                  <a:pt x="8822" y="10815"/>
                  <a:pt x="8830" y="10815"/>
                  <a:pt x="8855" y="10815"/>
                </a:cubicBezTo>
              </a:path>
              <a:path w="9129" h="1886">
                <a:moveTo>
                  <a:pt x="8855" y="10815"/>
                </a:moveTo>
                <a:cubicBezTo>
                  <a:pt x="8855" y="10769"/>
                  <a:pt x="8875" y="10756"/>
                  <a:pt x="8880" y="10716"/>
                </a:cubicBezTo>
                <a:cubicBezTo>
                  <a:pt x="8883" y="10692"/>
                  <a:pt x="8880" y="10665"/>
                  <a:pt x="8880" y="10641"/>
                </a:cubicBezTo>
              </a:path>
              <a:path w="9129" h="1886">
                <a:moveTo>
                  <a:pt x="8731" y="10765"/>
                </a:moveTo>
                <a:cubicBezTo>
                  <a:pt x="8731" y="10724"/>
                  <a:pt x="8731" y="10682"/>
                  <a:pt x="8731" y="10641"/>
                </a:cubicBezTo>
              </a:path>
              <a:path w="9129" h="1886">
                <a:moveTo>
                  <a:pt x="8731" y="10740"/>
                </a:moveTo>
                <a:cubicBezTo>
                  <a:pt x="8731" y="10690"/>
                  <a:pt x="8742" y="10682"/>
                  <a:pt x="8756" y="10641"/>
                </a:cubicBezTo>
                <a:cubicBezTo>
                  <a:pt x="8756" y="10616"/>
                  <a:pt x="8756" y="10608"/>
                  <a:pt x="8756" y="10592"/>
                </a:cubicBezTo>
                <a:cubicBezTo>
                  <a:pt x="8794" y="10579"/>
                  <a:pt x="8781" y="10562"/>
                  <a:pt x="8781" y="10517"/>
                </a:cubicBezTo>
                <a:cubicBezTo>
                  <a:pt x="8781" y="10472"/>
                  <a:pt x="8801" y="10459"/>
                  <a:pt x="8806" y="10418"/>
                </a:cubicBezTo>
                <a:cubicBezTo>
                  <a:pt x="8806" y="10393"/>
                  <a:pt x="8806" y="10385"/>
                  <a:pt x="8806" y="10368"/>
                </a:cubicBezTo>
                <a:cubicBezTo>
                  <a:pt x="8846" y="10358"/>
                  <a:pt x="8845" y="10359"/>
                  <a:pt x="8855" y="10319"/>
                </a:cubicBezTo>
                <a:cubicBezTo>
                  <a:pt x="8906" y="10306"/>
                  <a:pt x="8920" y="10269"/>
                  <a:pt x="8979" y="10269"/>
                </a:cubicBezTo>
                <a:cubicBezTo>
                  <a:pt x="9004" y="10269"/>
                  <a:pt x="9012" y="10269"/>
                  <a:pt x="9029" y="10269"/>
                </a:cubicBezTo>
                <a:cubicBezTo>
                  <a:pt x="9042" y="10231"/>
                  <a:pt x="9058" y="10244"/>
                  <a:pt x="9103" y="10244"/>
                </a:cubicBezTo>
                <a:cubicBezTo>
                  <a:pt x="9252" y="10244"/>
                  <a:pt x="9401" y="10244"/>
                  <a:pt x="9550" y="10244"/>
                </a:cubicBezTo>
              </a:path>
              <a:path w="9129" h="1886">
                <a:moveTo>
                  <a:pt x="9029" y="10244"/>
                </a:moveTo>
                <a:cubicBezTo>
                  <a:pt x="9070" y="10224"/>
                  <a:pt x="9087" y="10227"/>
                  <a:pt x="9079" y="10195"/>
                </a:cubicBezTo>
                <a:cubicBezTo>
                  <a:pt x="9108" y="10187"/>
                  <a:pt x="9124" y="10177"/>
                  <a:pt x="9153" y="10170"/>
                </a:cubicBezTo>
                <a:cubicBezTo>
                  <a:pt x="9166" y="10130"/>
                  <a:pt x="9171" y="10145"/>
                  <a:pt x="9227" y="10145"/>
                </a:cubicBezTo>
                <a:cubicBezTo>
                  <a:pt x="9237" y="10116"/>
                  <a:pt x="9261" y="10100"/>
                  <a:pt x="9302" y="10096"/>
                </a:cubicBezTo>
                <a:cubicBezTo>
                  <a:pt x="9327" y="10096"/>
                  <a:pt x="9335" y="10096"/>
                  <a:pt x="9351" y="10096"/>
                </a:cubicBezTo>
                <a:cubicBezTo>
                  <a:pt x="9364" y="10058"/>
                  <a:pt x="9381" y="10071"/>
                  <a:pt x="9426" y="10071"/>
                </a:cubicBezTo>
              </a:path>
              <a:path w="9129" h="1886">
                <a:moveTo>
                  <a:pt x="8905" y="10294"/>
                </a:moveTo>
                <a:cubicBezTo>
                  <a:pt x="8946" y="10284"/>
                  <a:pt x="8961" y="10249"/>
                  <a:pt x="9004" y="10244"/>
                </a:cubicBezTo>
                <a:cubicBezTo>
                  <a:pt x="9012" y="10244"/>
                  <a:pt x="9021" y="10244"/>
                  <a:pt x="9029" y="10244"/>
                </a:cubicBezTo>
                <a:cubicBezTo>
                  <a:pt x="9041" y="10210"/>
                  <a:pt x="9037" y="10220"/>
                  <a:pt x="9079" y="10220"/>
                </a:cubicBezTo>
                <a:cubicBezTo>
                  <a:pt x="9081" y="10217"/>
                  <a:pt x="9182" y="10183"/>
                  <a:pt x="9178" y="10170"/>
                </a:cubicBezTo>
                <a:cubicBezTo>
                  <a:pt x="9170" y="10170"/>
                  <a:pt x="9161" y="10170"/>
                  <a:pt x="9153" y="10170"/>
                </a:cubicBezTo>
              </a:path>
              <a:path w="9129" h="1886">
                <a:moveTo>
                  <a:pt x="8954" y="10244"/>
                </a:moveTo>
                <a:cubicBezTo>
                  <a:pt x="8965" y="10201"/>
                  <a:pt x="8995" y="10179"/>
                  <a:pt x="9029" y="10145"/>
                </a:cubicBezTo>
                <a:cubicBezTo>
                  <a:pt x="9048" y="10126"/>
                  <a:pt x="9102" y="10082"/>
                  <a:pt x="9128" y="10071"/>
                </a:cubicBezTo>
                <a:cubicBezTo>
                  <a:pt x="9155" y="10059"/>
                  <a:pt x="9199" y="10053"/>
                  <a:pt x="9227" y="10046"/>
                </a:cubicBezTo>
                <a:cubicBezTo>
                  <a:pt x="9245" y="9992"/>
                  <a:pt x="9259" y="10045"/>
                  <a:pt x="9302" y="10021"/>
                </a:cubicBezTo>
                <a:cubicBezTo>
                  <a:pt x="9352" y="9993"/>
                  <a:pt x="9362" y="9996"/>
                  <a:pt x="9426" y="9996"/>
                </a:cubicBezTo>
                <a:cubicBezTo>
                  <a:pt x="9707" y="9996"/>
                  <a:pt x="9988" y="9996"/>
                  <a:pt x="10269" y="9996"/>
                </a:cubicBezTo>
              </a:path>
              <a:path w="9129" h="1886">
                <a:moveTo>
                  <a:pt x="9401" y="9996"/>
                </a:moveTo>
                <a:cubicBezTo>
                  <a:pt x="9442" y="9986"/>
                  <a:pt x="9452" y="9978"/>
                  <a:pt x="9500" y="9971"/>
                </a:cubicBezTo>
                <a:cubicBezTo>
                  <a:pt x="9513" y="9922"/>
                  <a:pt x="9525" y="9922"/>
                  <a:pt x="9575" y="9922"/>
                </a:cubicBezTo>
                <a:cubicBezTo>
                  <a:pt x="9583" y="9922"/>
                  <a:pt x="9591" y="9922"/>
                  <a:pt x="9599" y="9922"/>
                </a:cubicBezTo>
                <a:cubicBezTo>
                  <a:pt x="9612" y="9884"/>
                  <a:pt x="9629" y="9897"/>
                  <a:pt x="9674" y="9897"/>
                </a:cubicBezTo>
                <a:cubicBezTo>
                  <a:pt x="9905" y="9897"/>
                  <a:pt x="10137" y="9897"/>
                  <a:pt x="10368" y="9897"/>
                </a:cubicBezTo>
              </a:path>
              <a:path w="9129" h="1886">
                <a:moveTo>
                  <a:pt x="9252" y="9996"/>
                </a:moveTo>
                <a:cubicBezTo>
                  <a:pt x="9283" y="9980"/>
                  <a:pt x="9343" y="9931"/>
                  <a:pt x="9376" y="9922"/>
                </a:cubicBezTo>
                <a:cubicBezTo>
                  <a:pt x="9401" y="9922"/>
                  <a:pt x="9409" y="9922"/>
                  <a:pt x="9426" y="9922"/>
                </a:cubicBezTo>
                <a:cubicBezTo>
                  <a:pt x="9447" y="9900"/>
                  <a:pt x="9456" y="9887"/>
                  <a:pt x="9500" y="9872"/>
                </a:cubicBezTo>
                <a:cubicBezTo>
                  <a:pt x="9508" y="9872"/>
                  <a:pt x="9517" y="9872"/>
                  <a:pt x="9525" y="9872"/>
                </a:cubicBezTo>
                <a:cubicBezTo>
                  <a:pt x="9536" y="9863"/>
                  <a:pt x="9567" y="9829"/>
                  <a:pt x="9599" y="9823"/>
                </a:cubicBezTo>
                <a:cubicBezTo>
                  <a:pt x="9959" y="9753"/>
                  <a:pt x="10426" y="9823"/>
                  <a:pt x="10790" y="9823"/>
                </a:cubicBezTo>
              </a:path>
              <a:path w="9129" h="1886">
                <a:moveTo>
                  <a:pt x="9996" y="9823"/>
                </a:moveTo>
                <a:cubicBezTo>
                  <a:pt x="10030" y="9810"/>
                  <a:pt x="10061" y="9810"/>
                  <a:pt x="10096" y="9798"/>
                </a:cubicBezTo>
                <a:cubicBezTo>
                  <a:pt x="10133" y="9785"/>
                  <a:pt x="10152" y="9775"/>
                  <a:pt x="10195" y="9773"/>
                </a:cubicBezTo>
                <a:cubicBezTo>
                  <a:pt x="10240" y="9770"/>
                  <a:pt x="10286" y="9753"/>
                  <a:pt x="10319" y="9748"/>
                </a:cubicBezTo>
                <a:cubicBezTo>
                  <a:pt x="10370" y="9741"/>
                  <a:pt x="10427" y="9730"/>
                  <a:pt x="10468" y="9723"/>
                </a:cubicBezTo>
                <a:cubicBezTo>
                  <a:pt x="10749" y="9676"/>
                  <a:pt x="11064" y="9743"/>
                  <a:pt x="11336" y="9699"/>
                </a:cubicBezTo>
                <a:cubicBezTo>
                  <a:pt x="11399" y="9689"/>
                  <a:pt x="11481" y="9682"/>
                  <a:pt x="11534" y="9674"/>
                </a:cubicBezTo>
                <a:cubicBezTo>
                  <a:pt x="11573" y="9668"/>
                  <a:pt x="11618" y="9674"/>
                  <a:pt x="11658" y="9674"/>
                </a:cubicBezTo>
                <a:cubicBezTo>
                  <a:pt x="11684" y="9654"/>
                  <a:pt x="11657" y="9657"/>
                  <a:pt x="11708" y="9649"/>
                </a:cubicBezTo>
                <a:cubicBezTo>
                  <a:pt x="11720" y="9639"/>
                  <a:pt x="11750" y="9607"/>
                  <a:pt x="11782" y="9599"/>
                </a:cubicBezTo>
                <a:cubicBezTo>
                  <a:pt x="11807" y="9599"/>
                  <a:pt x="11815" y="9599"/>
                  <a:pt x="11832" y="9599"/>
                </a:cubicBezTo>
                <a:cubicBezTo>
                  <a:pt x="11856" y="9581"/>
                  <a:pt x="11833" y="9583"/>
                  <a:pt x="11881" y="9575"/>
                </a:cubicBezTo>
                <a:cubicBezTo>
                  <a:pt x="11896" y="9522"/>
                  <a:pt x="11877" y="9534"/>
                  <a:pt x="11931" y="9500"/>
                </a:cubicBezTo>
                <a:cubicBezTo>
                  <a:pt x="11954" y="9477"/>
                  <a:pt x="11958" y="9469"/>
                  <a:pt x="11981" y="9475"/>
                </a:cubicBezTo>
                <a:cubicBezTo>
                  <a:pt x="12001" y="9444"/>
                  <a:pt x="12000" y="9446"/>
                  <a:pt x="12030" y="9426"/>
                </a:cubicBezTo>
                <a:cubicBezTo>
                  <a:pt x="12046" y="9405"/>
                  <a:pt x="12040" y="9397"/>
                  <a:pt x="12055" y="9376"/>
                </a:cubicBezTo>
                <a:cubicBezTo>
                  <a:pt x="12080" y="9376"/>
                  <a:pt x="12088" y="9376"/>
                  <a:pt x="12080" y="9351"/>
                </a:cubicBezTo>
              </a:path>
              <a:path w="9129" h="1886">
                <a:moveTo>
                  <a:pt x="10889" y="9823"/>
                </a:moveTo>
                <a:cubicBezTo>
                  <a:pt x="10889" y="9815"/>
                  <a:pt x="10889" y="9806"/>
                  <a:pt x="10889" y="9798"/>
                </a:cubicBezTo>
                <a:cubicBezTo>
                  <a:pt x="10921" y="9782"/>
                  <a:pt x="10955" y="9765"/>
                  <a:pt x="10988" y="9748"/>
                </a:cubicBezTo>
                <a:cubicBezTo>
                  <a:pt x="11031" y="9726"/>
                  <a:pt x="11065" y="9713"/>
                  <a:pt x="11112" y="9699"/>
                </a:cubicBezTo>
                <a:cubicBezTo>
                  <a:pt x="11152" y="9687"/>
                  <a:pt x="11222" y="9667"/>
                  <a:pt x="11261" y="9649"/>
                </a:cubicBezTo>
                <a:cubicBezTo>
                  <a:pt x="11294" y="9634"/>
                  <a:pt x="11324" y="9611"/>
                  <a:pt x="11361" y="9599"/>
                </a:cubicBezTo>
                <a:cubicBezTo>
                  <a:pt x="11379" y="9585"/>
                  <a:pt x="11402" y="9567"/>
                  <a:pt x="11435" y="9550"/>
                </a:cubicBezTo>
                <a:cubicBezTo>
                  <a:pt x="11458" y="9527"/>
                  <a:pt x="11462" y="9519"/>
                  <a:pt x="11485" y="9525"/>
                </a:cubicBezTo>
                <a:cubicBezTo>
                  <a:pt x="11498" y="9512"/>
                  <a:pt x="11524" y="9465"/>
                  <a:pt x="11559" y="9451"/>
                </a:cubicBezTo>
                <a:cubicBezTo>
                  <a:pt x="11584" y="9451"/>
                  <a:pt x="11592" y="9451"/>
                  <a:pt x="11609" y="9451"/>
                </a:cubicBezTo>
                <a:cubicBezTo>
                  <a:pt x="11634" y="9415"/>
                  <a:pt x="11638" y="9402"/>
                  <a:pt x="11683" y="9376"/>
                </a:cubicBezTo>
                <a:cubicBezTo>
                  <a:pt x="11716" y="9357"/>
                  <a:pt x="11746" y="9326"/>
                  <a:pt x="11782" y="9302"/>
                </a:cubicBezTo>
                <a:cubicBezTo>
                  <a:pt x="11799" y="9290"/>
                  <a:pt x="11838" y="9287"/>
                  <a:pt x="11857" y="9277"/>
                </a:cubicBezTo>
                <a:cubicBezTo>
                  <a:pt x="11870" y="9267"/>
                  <a:pt x="11911" y="9252"/>
                  <a:pt x="11931" y="9227"/>
                </a:cubicBezTo>
                <a:cubicBezTo>
                  <a:pt x="11931" y="9219"/>
                  <a:pt x="11931" y="9211"/>
                  <a:pt x="11931" y="9203"/>
                </a:cubicBezTo>
                <a:cubicBezTo>
                  <a:pt x="11982" y="9195"/>
                  <a:pt x="11955" y="9198"/>
                  <a:pt x="11981" y="9178"/>
                </a:cubicBezTo>
                <a:cubicBezTo>
                  <a:pt x="12004" y="9168"/>
                  <a:pt x="12032" y="9163"/>
                  <a:pt x="12055" y="9153"/>
                </a:cubicBezTo>
                <a:cubicBezTo>
                  <a:pt x="12078" y="9121"/>
                  <a:pt x="12084" y="9097"/>
                  <a:pt x="12129" y="9079"/>
                </a:cubicBezTo>
                <a:cubicBezTo>
                  <a:pt x="12137" y="9079"/>
                  <a:pt x="12146" y="9079"/>
                  <a:pt x="12154" y="9079"/>
                </a:cubicBezTo>
                <a:cubicBezTo>
                  <a:pt x="12171" y="9065"/>
                  <a:pt x="12198" y="9047"/>
                  <a:pt x="12229" y="9029"/>
                </a:cubicBezTo>
                <a:cubicBezTo>
                  <a:pt x="12250" y="9022"/>
                  <a:pt x="12298" y="9004"/>
                  <a:pt x="12353" y="9004"/>
                </a:cubicBezTo>
                <a:cubicBezTo>
                  <a:pt x="12568" y="9004"/>
                  <a:pt x="12783" y="9004"/>
                  <a:pt x="12998" y="9004"/>
                </a:cubicBezTo>
              </a:path>
              <a:path w="9129" h="1886">
                <a:moveTo>
                  <a:pt x="12278" y="9004"/>
                </a:moveTo>
                <a:cubicBezTo>
                  <a:pt x="12303" y="9004"/>
                  <a:pt x="12311" y="9004"/>
                  <a:pt x="12328" y="9004"/>
                </a:cubicBezTo>
                <a:cubicBezTo>
                  <a:pt x="12341" y="8996"/>
                  <a:pt x="12371" y="8968"/>
                  <a:pt x="12402" y="8954"/>
                </a:cubicBezTo>
                <a:cubicBezTo>
                  <a:pt x="12431" y="8941"/>
                  <a:pt x="12455" y="8933"/>
                  <a:pt x="12477" y="8930"/>
                </a:cubicBezTo>
                <a:cubicBezTo>
                  <a:pt x="13824" y="8723"/>
                  <a:pt x="16007" y="8688"/>
                  <a:pt x="17314" y="8954"/>
                </a:cubicBezTo>
                <a:cubicBezTo>
                  <a:pt x="17353" y="8962"/>
                  <a:pt x="17377" y="8965"/>
                  <a:pt x="17413" y="8979"/>
                </a:cubicBezTo>
                <a:cubicBezTo>
                  <a:pt x="17461" y="8997"/>
                  <a:pt x="17483" y="9035"/>
                  <a:pt x="17512" y="9054"/>
                </a:cubicBezTo>
                <a:cubicBezTo>
                  <a:pt x="17541" y="9073"/>
                  <a:pt x="17565" y="9089"/>
                  <a:pt x="17587" y="9103"/>
                </a:cubicBezTo>
                <a:cubicBezTo>
                  <a:pt x="17598" y="9136"/>
                  <a:pt x="17597" y="9135"/>
                  <a:pt x="17611" y="9178"/>
                </a:cubicBezTo>
                <a:cubicBezTo>
                  <a:pt x="17636" y="9205"/>
                  <a:pt x="17667" y="9206"/>
                  <a:pt x="17686" y="9252"/>
                </a:cubicBezTo>
                <a:cubicBezTo>
                  <a:pt x="17695" y="9273"/>
                  <a:pt x="17706" y="9332"/>
                  <a:pt x="17711" y="9351"/>
                </a:cubicBezTo>
                <a:cubicBezTo>
                  <a:pt x="17721" y="9387"/>
                  <a:pt x="17726" y="9417"/>
                  <a:pt x="17735" y="9451"/>
                </a:cubicBezTo>
                <a:cubicBezTo>
                  <a:pt x="17744" y="9486"/>
                  <a:pt x="17756" y="9517"/>
                  <a:pt x="17760" y="9550"/>
                </a:cubicBezTo>
                <a:cubicBezTo>
                  <a:pt x="17764" y="9583"/>
                  <a:pt x="17758" y="9616"/>
                  <a:pt x="17760" y="9649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3070080" y="3860640"/>
            <a:ext cx="277920" cy="125640"/>
          </a:xfrm>
          <a:custGeom>
            <a:avLst/>
            <a:gdLst/>
            <a:ahLst/>
            <a:rect l="l" t="t" r="r" b="b"/>
            <a:pathLst>
              <a:path w="770" h="348">
                <a:moveTo>
                  <a:pt x="9227" y="11137"/>
                </a:moveTo>
                <a:cubicBezTo>
                  <a:pt x="9260" y="11137"/>
                  <a:pt x="9277" y="11137"/>
                  <a:pt x="9302" y="11137"/>
                </a:cubicBezTo>
              </a:path>
              <a:path w="770" h="348">
                <a:moveTo>
                  <a:pt x="8806" y="11137"/>
                </a:moveTo>
                <a:cubicBezTo>
                  <a:pt x="8971" y="11137"/>
                  <a:pt x="9137" y="11137"/>
                  <a:pt x="9302" y="11137"/>
                </a:cubicBezTo>
              </a:path>
              <a:path w="770" h="348">
                <a:moveTo>
                  <a:pt x="8731" y="11137"/>
                </a:moveTo>
                <a:cubicBezTo>
                  <a:pt x="8764" y="11137"/>
                  <a:pt x="8797" y="11137"/>
                  <a:pt x="8830" y="11137"/>
                </a:cubicBezTo>
              </a:path>
              <a:path w="770" h="348">
                <a:moveTo>
                  <a:pt x="8533" y="11137"/>
                </a:moveTo>
                <a:cubicBezTo>
                  <a:pt x="8591" y="11137"/>
                  <a:pt x="8648" y="11137"/>
                  <a:pt x="8706" y="11137"/>
                </a:cubicBezTo>
              </a:path>
              <a:path w="770" h="348">
                <a:moveTo>
                  <a:pt x="8582" y="11137"/>
                </a:moveTo>
                <a:cubicBezTo>
                  <a:pt x="8582" y="11038"/>
                  <a:pt x="8582" y="10939"/>
                  <a:pt x="8582" y="10840"/>
                </a:cubicBezTo>
              </a:path>
              <a:path w="770" h="348">
                <a:moveTo>
                  <a:pt x="8607" y="10840"/>
                </a:moveTo>
                <a:cubicBezTo>
                  <a:pt x="8632" y="10840"/>
                  <a:pt x="8657" y="10840"/>
                  <a:pt x="8682" y="10840"/>
                </a:cubicBezTo>
                <a:cubicBezTo>
                  <a:pt x="8694" y="10802"/>
                  <a:pt x="8711" y="10815"/>
                  <a:pt x="8756" y="10815"/>
                </a:cubicBezTo>
                <a:cubicBezTo>
                  <a:pt x="8797" y="10815"/>
                  <a:pt x="8839" y="10815"/>
                  <a:pt x="8880" y="10815"/>
                </a:cubicBezTo>
                <a:cubicBezTo>
                  <a:pt x="8880" y="10790"/>
                  <a:pt x="8880" y="10782"/>
                  <a:pt x="8855" y="10790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1670040" y="4060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638" y="11683"/>
                </a:moveTo>
                <a:lnTo>
                  <a:pt x="4638" y="11683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4660920" y="2311560"/>
            <a:ext cx="142920" cy="187200"/>
          </a:xfrm>
          <a:custGeom>
            <a:avLst/>
            <a:gdLst/>
            <a:ahLst/>
            <a:rect l="l" t="t" r="r" b="b"/>
            <a:pathLst>
              <a:path w="398" h="522">
                <a:moveTo>
                  <a:pt x="12948" y="6921"/>
                </a:moveTo>
                <a:cubicBezTo>
                  <a:pt x="12973" y="6921"/>
                  <a:pt x="12997" y="6921"/>
                  <a:pt x="13022" y="6921"/>
                </a:cubicBezTo>
                <a:cubicBezTo>
                  <a:pt x="13022" y="6971"/>
                  <a:pt x="13023" y="6983"/>
                  <a:pt x="13072" y="6995"/>
                </a:cubicBezTo>
                <a:cubicBezTo>
                  <a:pt x="13089" y="7062"/>
                  <a:pt x="13132" y="7061"/>
                  <a:pt x="13196" y="7069"/>
                </a:cubicBezTo>
                <a:cubicBezTo>
                  <a:pt x="13208" y="7104"/>
                  <a:pt x="13203" y="7094"/>
                  <a:pt x="13246" y="7094"/>
                </a:cubicBezTo>
              </a:path>
              <a:path w="398" h="522">
                <a:moveTo>
                  <a:pt x="13146" y="6846"/>
                </a:moveTo>
                <a:cubicBezTo>
                  <a:pt x="13146" y="6912"/>
                  <a:pt x="13146" y="6979"/>
                  <a:pt x="13146" y="7045"/>
                </a:cubicBezTo>
                <a:cubicBezTo>
                  <a:pt x="13184" y="7057"/>
                  <a:pt x="13171" y="7074"/>
                  <a:pt x="13171" y="7119"/>
                </a:cubicBezTo>
                <a:cubicBezTo>
                  <a:pt x="13171" y="7167"/>
                  <a:pt x="13188" y="7177"/>
                  <a:pt x="13221" y="7193"/>
                </a:cubicBezTo>
                <a:cubicBezTo>
                  <a:pt x="13221" y="7239"/>
                  <a:pt x="13214" y="7258"/>
                  <a:pt x="13246" y="7293"/>
                </a:cubicBezTo>
                <a:cubicBezTo>
                  <a:pt x="13269" y="7315"/>
                  <a:pt x="13277" y="7320"/>
                  <a:pt x="13271" y="7342"/>
                </a:cubicBezTo>
                <a:cubicBezTo>
                  <a:pt x="13353" y="7328"/>
                  <a:pt x="13290" y="7335"/>
                  <a:pt x="13345" y="7317"/>
                </a:cubicBezTo>
              </a:path>
              <a:path w="398" h="522">
                <a:moveTo>
                  <a:pt x="13146" y="6821"/>
                </a:moveTo>
                <a:cubicBezTo>
                  <a:pt x="13159" y="6872"/>
                  <a:pt x="13196" y="6886"/>
                  <a:pt x="13196" y="6945"/>
                </a:cubicBezTo>
                <a:cubicBezTo>
                  <a:pt x="13196" y="6985"/>
                  <a:pt x="13221" y="7000"/>
                  <a:pt x="13221" y="7045"/>
                </a:cubicBezTo>
                <a:cubicBezTo>
                  <a:pt x="13221" y="7092"/>
                  <a:pt x="13206" y="7131"/>
                  <a:pt x="13246" y="71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4321080" y="2392200"/>
            <a:ext cx="127080" cy="27000"/>
          </a:xfrm>
          <a:custGeom>
            <a:avLst/>
            <a:gdLst/>
            <a:ahLst/>
            <a:rect l="l" t="t" r="r" b="b"/>
            <a:pathLst>
              <a:path w="349" h="75">
                <a:moveTo>
                  <a:pt x="12105" y="7119"/>
                </a:moveTo>
                <a:cubicBezTo>
                  <a:pt x="12160" y="7119"/>
                  <a:pt x="12199" y="7098"/>
                  <a:pt x="12254" y="7094"/>
                </a:cubicBezTo>
                <a:cubicBezTo>
                  <a:pt x="12287" y="7091"/>
                  <a:pt x="12320" y="7094"/>
                  <a:pt x="12353" y="7094"/>
                </a:cubicBezTo>
              </a:path>
              <a:path w="349" h="75">
                <a:moveTo>
                  <a:pt x="12005" y="7045"/>
                </a:moveTo>
                <a:cubicBezTo>
                  <a:pt x="12013" y="7045"/>
                  <a:pt x="12022" y="7045"/>
                  <a:pt x="12030" y="70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4348080" y="1087560"/>
            <a:ext cx="125640" cy="134640"/>
          </a:xfrm>
          <a:custGeom>
            <a:avLst/>
            <a:gdLst/>
            <a:ahLst/>
            <a:rect l="l" t="t" r="r" b="b"/>
            <a:pathLst>
              <a:path w="348" h="373">
                <a:moveTo>
                  <a:pt x="12204" y="3522"/>
                </a:moveTo>
                <a:cubicBezTo>
                  <a:pt x="12211" y="3570"/>
                  <a:pt x="12238" y="3658"/>
                  <a:pt x="12278" y="3696"/>
                </a:cubicBezTo>
                <a:cubicBezTo>
                  <a:pt x="12299" y="3716"/>
                  <a:pt x="12347" y="3781"/>
                  <a:pt x="12378" y="3795"/>
                </a:cubicBezTo>
                <a:cubicBezTo>
                  <a:pt x="12402" y="3795"/>
                  <a:pt x="12411" y="3795"/>
                  <a:pt x="12427" y="3795"/>
                </a:cubicBezTo>
              </a:path>
              <a:path w="348" h="373">
                <a:moveTo>
                  <a:pt x="12080" y="3423"/>
                </a:moveTo>
                <a:cubicBezTo>
                  <a:pt x="12094" y="3518"/>
                  <a:pt x="12122" y="3457"/>
                  <a:pt x="12154" y="3522"/>
                </a:cubicBezTo>
                <a:cubicBezTo>
                  <a:pt x="12172" y="3558"/>
                  <a:pt x="12200" y="3602"/>
                  <a:pt x="12204" y="3646"/>
                </a:cubicBezTo>
                <a:cubicBezTo>
                  <a:pt x="12208" y="3687"/>
                  <a:pt x="12229" y="3700"/>
                  <a:pt x="12229" y="3746"/>
                </a:cubicBezTo>
                <a:cubicBezTo>
                  <a:pt x="12281" y="3763"/>
                  <a:pt x="12225" y="3807"/>
                  <a:pt x="12278" y="3770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4964040" y="3900600"/>
            <a:ext cx="1420920" cy="376200"/>
          </a:xfrm>
          <a:custGeom>
            <a:avLst/>
            <a:gdLst/>
            <a:ahLst/>
            <a:rect l="l" t="t" r="r" b="b"/>
            <a:pathLst>
              <a:path w="3945" h="1042">
                <a:moveTo>
                  <a:pt x="17686" y="11410"/>
                </a:moveTo>
                <a:cubicBezTo>
                  <a:pt x="17695" y="11374"/>
                  <a:pt x="17707" y="11365"/>
                  <a:pt x="17735" y="11336"/>
                </a:cubicBezTo>
              </a:path>
              <a:path w="3945" h="1042">
                <a:moveTo>
                  <a:pt x="15156" y="12154"/>
                </a:moveTo>
                <a:cubicBezTo>
                  <a:pt x="15254" y="12184"/>
                  <a:pt x="15348" y="12179"/>
                  <a:pt x="15453" y="12179"/>
                </a:cubicBezTo>
                <a:cubicBezTo>
                  <a:pt x="15495" y="12179"/>
                  <a:pt x="15486" y="12179"/>
                  <a:pt x="15528" y="12179"/>
                </a:cubicBezTo>
                <a:cubicBezTo>
                  <a:pt x="15445" y="12210"/>
                  <a:pt x="15371" y="12204"/>
                  <a:pt x="15280" y="12204"/>
                </a:cubicBezTo>
                <a:cubicBezTo>
                  <a:pt x="15098" y="12204"/>
                  <a:pt x="14916" y="12204"/>
                  <a:pt x="14734" y="12204"/>
                </a:cubicBezTo>
                <a:cubicBezTo>
                  <a:pt x="14610" y="12204"/>
                  <a:pt x="14883" y="12194"/>
                  <a:pt x="15007" y="12204"/>
                </a:cubicBezTo>
                <a:cubicBezTo>
                  <a:pt x="15207" y="12221"/>
                  <a:pt x="15401" y="12229"/>
                  <a:pt x="15602" y="12229"/>
                </a:cubicBezTo>
                <a:cubicBezTo>
                  <a:pt x="15809" y="12229"/>
                  <a:pt x="16015" y="12229"/>
                  <a:pt x="16222" y="12229"/>
                </a:cubicBezTo>
                <a:cubicBezTo>
                  <a:pt x="16107" y="12229"/>
                  <a:pt x="15661" y="12229"/>
                  <a:pt x="15726" y="12229"/>
                </a:cubicBezTo>
                <a:cubicBezTo>
                  <a:pt x="15879" y="12229"/>
                  <a:pt x="16022" y="12265"/>
                  <a:pt x="16173" y="12278"/>
                </a:cubicBezTo>
                <a:cubicBezTo>
                  <a:pt x="16289" y="12278"/>
                  <a:pt x="16322" y="12278"/>
                  <a:pt x="16396" y="12278"/>
                </a:cubicBezTo>
                <a:cubicBezTo>
                  <a:pt x="16534" y="12278"/>
                  <a:pt x="16276" y="12278"/>
                  <a:pt x="16247" y="12278"/>
                </a:cubicBezTo>
                <a:cubicBezTo>
                  <a:pt x="16203" y="12278"/>
                  <a:pt x="15881" y="12278"/>
                  <a:pt x="15999" y="12278"/>
                </a:cubicBezTo>
                <a:cubicBezTo>
                  <a:pt x="16247" y="12278"/>
                  <a:pt x="16495" y="12278"/>
                  <a:pt x="16743" y="12278"/>
                </a:cubicBezTo>
              </a:path>
              <a:path w="3945" h="1042">
                <a:moveTo>
                  <a:pt x="15652" y="12179"/>
                </a:moveTo>
                <a:cubicBezTo>
                  <a:pt x="15867" y="12179"/>
                  <a:pt x="16082" y="12179"/>
                  <a:pt x="16297" y="12179"/>
                </a:cubicBezTo>
              </a:path>
              <a:path w="3945" h="1042">
                <a:moveTo>
                  <a:pt x="17735" y="11261"/>
                </a:moveTo>
                <a:lnTo>
                  <a:pt x="17735" y="11261"/>
                </a:lnTo>
              </a:path>
              <a:path w="3945" h="1042">
                <a:moveTo>
                  <a:pt x="17711" y="11237"/>
                </a:moveTo>
                <a:lnTo>
                  <a:pt x="17711" y="11237"/>
                </a:lnTo>
              </a:path>
              <a:path w="3945" h="1042">
                <a:moveTo>
                  <a:pt x="17041" y="11311"/>
                </a:moveTo>
                <a:cubicBezTo>
                  <a:pt x="17190" y="11311"/>
                  <a:pt x="17338" y="11311"/>
                  <a:pt x="17487" y="11311"/>
                </a:cubicBezTo>
              </a:path>
              <a:path w="3945" h="1042">
                <a:moveTo>
                  <a:pt x="16495" y="11286"/>
                </a:moveTo>
                <a:cubicBezTo>
                  <a:pt x="16570" y="11286"/>
                  <a:pt x="16622" y="11301"/>
                  <a:pt x="16694" y="11311"/>
                </a:cubicBezTo>
                <a:cubicBezTo>
                  <a:pt x="16735" y="11311"/>
                  <a:pt x="16743" y="11311"/>
                  <a:pt x="16768" y="11311"/>
                </a:cubicBezTo>
              </a:path>
              <a:path w="3945" h="1042">
                <a:moveTo>
                  <a:pt x="13791" y="11361"/>
                </a:moveTo>
                <a:cubicBezTo>
                  <a:pt x="13919" y="11361"/>
                  <a:pt x="14038" y="11346"/>
                  <a:pt x="14163" y="11336"/>
                </a:cubicBezTo>
                <a:cubicBezTo>
                  <a:pt x="14219" y="11331"/>
                  <a:pt x="14280" y="11336"/>
                  <a:pt x="14337" y="11336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4533840" y="878040"/>
            <a:ext cx="507960" cy="44280"/>
          </a:xfrm>
          <a:custGeom>
            <a:avLst/>
            <a:gdLst/>
            <a:ahLst/>
            <a:rect l="l" t="t" r="r" b="b"/>
            <a:pathLst>
              <a:path w="320" h="28">
                <a:moveTo>
                  <a:pt x="0" y="28"/>
                </a:moveTo>
                <a:cubicBezTo>
                  <a:pt x="170" y="0"/>
                  <a:pt x="64" y="12"/>
                  <a:pt x="320" y="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3160800" y="1784520"/>
            <a:ext cx="196920" cy="1440"/>
          </a:xfrm>
          <a:custGeom>
            <a:avLst/>
            <a:gdLst/>
            <a:ahLst/>
            <a:rect l="l" t="t" r="r" b="b"/>
            <a:pathLst>
              <a:path w="547" h="1">
                <a:moveTo>
                  <a:pt x="8781" y="5358"/>
                </a:moveTo>
                <a:cubicBezTo>
                  <a:pt x="8963" y="5358"/>
                  <a:pt x="9145" y="5358"/>
                  <a:pt x="9327" y="5358"/>
                </a:cubicBezTo>
              </a:path>
            </a:pathLst>
          </a:custGeom>
          <a:noFill/>
          <a:ln cap="rnd"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4062240" y="1195560"/>
            <a:ext cx="19080" cy="17280"/>
          </a:xfrm>
          <a:custGeom>
            <a:avLst/>
            <a:gdLst/>
            <a:ahLst/>
            <a:rect l="l" t="t" r="r" b="b"/>
            <a:pathLst>
              <a:path w="51" h="50">
                <a:moveTo>
                  <a:pt x="11286" y="3770"/>
                </a:moveTo>
                <a:cubicBezTo>
                  <a:pt x="11286" y="3724"/>
                  <a:pt x="11322" y="3764"/>
                  <a:pt x="11336" y="372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5322960" y="1463760"/>
            <a:ext cx="7920" cy="7920"/>
          </a:xfrm>
          <a:custGeom>
            <a:avLst/>
            <a:gdLst/>
            <a:ahLst/>
            <a:rect l="l" t="t" r="r" b="b"/>
            <a:pathLst>
              <a:path w="25" h="26">
                <a:moveTo>
                  <a:pt x="14784" y="4490"/>
                </a:moveTo>
                <a:cubicBezTo>
                  <a:pt x="14792" y="4482"/>
                  <a:pt x="14800" y="4473"/>
                  <a:pt x="14808" y="44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4848120" y="3811680"/>
            <a:ext cx="46080" cy="135000"/>
          </a:xfrm>
          <a:custGeom>
            <a:avLst/>
            <a:gdLst/>
            <a:ahLst/>
            <a:rect l="l" t="t" r="r" b="b"/>
            <a:pathLst>
              <a:path w="125" h="374">
                <a:moveTo>
                  <a:pt x="13469" y="11261"/>
                </a:moveTo>
                <a:lnTo>
                  <a:pt x="13469" y="11261"/>
                </a:lnTo>
              </a:path>
              <a:path w="125" h="374">
                <a:moveTo>
                  <a:pt x="13543" y="11361"/>
                </a:moveTo>
                <a:cubicBezTo>
                  <a:pt x="13551" y="11353"/>
                  <a:pt x="13560" y="11344"/>
                  <a:pt x="13568" y="11336"/>
                </a:cubicBezTo>
              </a:path>
              <a:path w="125" h="374">
                <a:moveTo>
                  <a:pt x="13593" y="11311"/>
                </a:moveTo>
                <a:lnTo>
                  <a:pt x="13593" y="11311"/>
                </a:lnTo>
              </a:path>
              <a:path w="125" h="374">
                <a:moveTo>
                  <a:pt x="13593" y="11286"/>
                </a:moveTo>
                <a:cubicBezTo>
                  <a:pt x="13593" y="11278"/>
                  <a:pt x="13593" y="11269"/>
                  <a:pt x="13593" y="11261"/>
                </a:cubicBezTo>
              </a:path>
              <a:path w="125" h="374">
                <a:moveTo>
                  <a:pt x="13593" y="11212"/>
                </a:moveTo>
                <a:cubicBezTo>
                  <a:pt x="13593" y="11187"/>
                  <a:pt x="13593" y="11179"/>
                  <a:pt x="13593" y="11162"/>
                </a:cubicBezTo>
              </a:path>
              <a:path w="125" h="374">
                <a:moveTo>
                  <a:pt x="13593" y="11112"/>
                </a:moveTo>
                <a:cubicBezTo>
                  <a:pt x="13593" y="11096"/>
                  <a:pt x="13593" y="11079"/>
                  <a:pt x="13593" y="11063"/>
                </a:cubicBezTo>
              </a:path>
              <a:path w="125" h="374">
                <a:moveTo>
                  <a:pt x="13593" y="10988"/>
                </a:moveTo>
                <a:lnTo>
                  <a:pt x="13593" y="10988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4027320" y="1658880"/>
            <a:ext cx="44640" cy="4608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11187" y="5135"/>
                </a:moveTo>
                <a:cubicBezTo>
                  <a:pt x="11187" y="5110"/>
                  <a:pt x="11187" y="5102"/>
                  <a:pt x="11187" y="5085"/>
                </a:cubicBezTo>
              </a:path>
              <a:path w="125" h="125">
                <a:moveTo>
                  <a:pt x="11286" y="5011"/>
                </a:moveTo>
                <a:cubicBezTo>
                  <a:pt x="11294" y="5011"/>
                  <a:pt x="11303" y="5011"/>
                  <a:pt x="11311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4160880" y="1668600"/>
            <a:ext cx="5400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1559" y="5035"/>
                </a:moveTo>
                <a:cubicBezTo>
                  <a:pt x="11633" y="5035"/>
                  <a:pt x="11658" y="5035"/>
                  <a:pt x="11708" y="5035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4394160" y="1668600"/>
            <a:ext cx="5400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2204" y="5035"/>
                </a:moveTo>
                <a:cubicBezTo>
                  <a:pt x="12254" y="5035"/>
                  <a:pt x="12303" y="5035"/>
                  <a:pt x="12353" y="5035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4759200" y="1676520"/>
            <a:ext cx="19080" cy="9360"/>
          </a:xfrm>
          <a:custGeom>
            <a:avLst/>
            <a:gdLst/>
            <a:ahLst/>
            <a:rect l="l" t="t" r="r" b="b"/>
            <a:pathLst>
              <a:path w="51" h="26">
                <a:moveTo>
                  <a:pt x="13221" y="5060"/>
                </a:moveTo>
                <a:cubicBezTo>
                  <a:pt x="13221" y="5093"/>
                  <a:pt x="13229" y="5102"/>
                  <a:pt x="13271" y="5085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4902120" y="1695600"/>
            <a:ext cx="142920" cy="61920"/>
          </a:xfrm>
          <a:custGeom>
            <a:avLst/>
            <a:gdLst/>
            <a:ahLst/>
            <a:rect l="l" t="t" r="r" b="b"/>
            <a:pathLst>
              <a:path w="398" h="174">
                <a:moveTo>
                  <a:pt x="13618" y="5283"/>
                </a:moveTo>
                <a:cubicBezTo>
                  <a:pt x="13634" y="5283"/>
                  <a:pt x="13651" y="5283"/>
                  <a:pt x="13667" y="5283"/>
                </a:cubicBezTo>
              </a:path>
              <a:path w="398" h="174">
                <a:moveTo>
                  <a:pt x="13816" y="5283"/>
                </a:moveTo>
                <a:cubicBezTo>
                  <a:pt x="13841" y="5283"/>
                  <a:pt x="13849" y="5283"/>
                  <a:pt x="13841" y="5259"/>
                </a:cubicBezTo>
              </a:path>
              <a:path w="398" h="174">
                <a:moveTo>
                  <a:pt x="14015" y="5110"/>
                </a:moveTo>
                <a:lnTo>
                  <a:pt x="14015" y="511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5133960" y="1685880"/>
            <a:ext cx="27000" cy="19080"/>
          </a:xfrm>
          <a:custGeom>
            <a:avLst/>
            <a:gdLst/>
            <a:ahLst/>
            <a:rect l="l" t="t" r="r" b="b"/>
            <a:pathLst>
              <a:path w="75" h="51">
                <a:moveTo>
                  <a:pt x="14263" y="5135"/>
                </a:moveTo>
                <a:lnTo>
                  <a:pt x="14263" y="5135"/>
                </a:lnTo>
              </a:path>
              <a:path w="75" h="51">
                <a:moveTo>
                  <a:pt x="14288" y="5135"/>
                </a:moveTo>
                <a:cubicBezTo>
                  <a:pt x="14318" y="5135"/>
                  <a:pt x="14316" y="5113"/>
                  <a:pt x="14337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5072040" y="1606680"/>
            <a:ext cx="81000" cy="61920"/>
          </a:xfrm>
          <a:custGeom>
            <a:avLst/>
            <a:gdLst/>
            <a:ahLst/>
            <a:rect l="l" t="t" r="r" b="b"/>
            <a:pathLst>
              <a:path w="224" h="174">
                <a:moveTo>
                  <a:pt x="14288" y="4961"/>
                </a:moveTo>
                <a:lnTo>
                  <a:pt x="14288" y="4961"/>
                </a:lnTo>
              </a:path>
              <a:path w="224" h="174">
                <a:moveTo>
                  <a:pt x="14163" y="4936"/>
                </a:moveTo>
                <a:cubicBezTo>
                  <a:pt x="14163" y="4961"/>
                  <a:pt x="14163" y="4969"/>
                  <a:pt x="14163" y="4986"/>
                </a:cubicBezTo>
              </a:path>
              <a:path w="224" h="174">
                <a:moveTo>
                  <a:pt x="14089" y="5035"/>
                </a:moveTo>
                <a:cubicBezTo>
                  <a:pt x="14097" y="5035"/>
                  <a:pt x="14106" y="5035"/>
                  <a:pt x="14114" y="5035"/>
                </a:cubicBezTo>
              </a:path>
              <a:path w="224" h="174">
                <a:moveTo>
                  <a:pt x="14163" y="5035"/>
                </a:moveTo>
                <a:cubicBezTo>
                  <a:pt x="14163" y="4977"/>
                  <a:pt x="14150" y="4997"/>
                  <a:pt x="14213" y="4986"/>
                </a:cubicBezTo>
              </a:path>
              <a:path w="224" h="174">
                <a:moveTo>
                  <a:pt x="14288" y="4887"/>
                </a:moveTo>
                <a:cubicBezTo>
                  <a:pt x="14288" y="4862"/>
                  <a:pt x="14288" y="4854"/>
                  <a:pt x="14312" y="4862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5268960" y="1498680"/>
            <a:ext cx="81000" cy="19080"/>
          </a:xfrm>
          <a:custGeom>
            <a:avLst/>
            <a:gdLst/>
            <a:ahLst/>
            <a:rect l="l" t="t" r="r" b="b"/>
            <a:pathLst>
              <a:path w="224" h="51">
                <a:moveTo>
                  <a:pt x="14635" y="4614"/>
                </a:moveTo>
                <a:cubicBezTo>
                  <a:pt x="14651" y="4614"/>
                  <a:pt x="14668" y="4614"/>
                  <a:pt x="14684" y="4614"/>
                </a:cubicBezTo>
              </a:path>
              <a:path w="224" h="51">
                <a:moveTo>
                  <a:pt x="14833" y="4564"/>
                </a:moveTo>
                <a:cubicBezTo>
                  <a:pt x="14841" y="4564"/>
                  <a:pt x="14850" y="4564"/>
                  <a:pt x="14858" y="45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5500800" y="1015920"/>
            <a:ext cx="108000" cy="339840"/>
          </a:xfrm>
          <a:custGeom>
            <a:avLst/>
            <a:gdLst/>
            <a:ahLst/>
            <a:rect l="l" t="t" r="r" b="b"/>
            <a:pathLst>
              <a:path w="298" h="943">
                <a:moveTo>
                  <a:pt x="15329" y="4167"/>
                </a:moveTo>
                <a:cubicBezTo>
                  <a:pt x="15337" y="4159"/>
                  <a:pt x="15346" y="4150"/>
                  <a:pt x="15354" y="4142"/>
                </a:cubicBezTo>
              </a:path>
              <a:path w="298" h="943">
                <a:moveTo>
                  <a:pt x="15478" y="4068"/>
                </a:moveTo>
                <a:cubicBezTo>
                  <a:pt x="15486" y="4051"/>
                  <a:pt x="15495" y="4035"/>
                  <a:pt x="15503" y="4018"/>
                </a:cubicBezTo>
              </a:path>
              <a:path w="298" h="943">
                <a:moveTo>
                  <a:pt x="15528" y="3894"/>
                </a:moveTo>
                <a:cubicBezTo>
                  <a:pt x="15528" y="3866"/>
                  <a:pt x="15531" y="3856"/>
                  <a:pt x="15553" y="3845"/>
                </a:cubicBezTo>
              </a:path>
              <a:path w="298" h="943">
                <a:moveTo>
                  <a:pt x="15577" y="3746"/>
                </a:moveTo>
                <a:lnTo>
                  <a:pt x="15577" y="3746"/>
                </a:lnTo>
              </a:path>
              <a:path w="298" h="943">
                <a:moveTo>
                  <a:pt x="15503" y="3522"/>
                </a:moveTo>
                <a:cubicBezTo>
                  <a:pt x="15503" y="3506"/>
                  <a:pt x="15503" y="3489"/>
                  <a:pt x="15503" y="3473"/>
                </a:cubicBezTo>
              </a:path>
              <a:path w="298" h="943">
                <a:moveTo>
                  <a:pt x="15280" y="3225"/>
                </a:moveTo>
                <a:cubicBezTo>
                  <a:pt x="15280" y="3253"/>
                  <a:pt x="15282" y="3263"/>
                  <a:pt x="15304" y="3274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5911920" y="1311120"/>
            <a:ext cx="347760" cy="285840"/>
          </a:xfrm>
          <a:custGeom>
            <a:avLst/>
            <a:gdLst/>
            <a:ahLst/>
            <a:rect l="l" t="t" r="r" b="b"/>
            <a:pathLst>
              <a:path w="968" h="795">
                <a:moveTo>
                  <a:pt x="16421" y="4167"/>
                </a:moveTo>
                <a:cubicBezTo>
                  <a:pt x="16421" y="4159"/>
                  <a:pt x="16421" y="4150"/>
                  <a:pt x="16421" y="4142"/>
                </a:cubicBezTo>
              </a:path>
              <a:path w="968" h="795">
                <a:moveTo>
                  <a:pt x="16644" y="4068"/>
                </a:moveTo>
                <a:cubicBezTo>
                  <a:pt x="16694" y="4068"/>
                  <a:pt x="16743" y="4068"/>
                  <a:pt x="16793" y="4068"/>
                </a:cubicBezTo>
              </a:path>
              <a:path w="968" h="795">
                <a:moveTo>
                  <a:pt x="16991" y="4043"/>
                </a:moveTo>
                <a:lnTo>
                  <a:pt x="16991" y="4043"/>
                </a:lnTo>
              </a:path>
              <a:path w="968" h="795">
                <a:moveTo>
                  <a:pt x="17066" y="4142"/>
                </a:moveTo>
                <a:cubicBezTo>
                  <a:pt x="17090" y="4167"/>
                  <a:pt x="17098" y="4176"/>
                  <a:pt x="17115" y="4192"/>
                </a:cubicBezTo>
              </a:path>
              <a:path w="968" h="795">
                <a:moveTo>
                  <a:pt x="17140" y="4266"/>
                </a:moveTo>
                <a:cubicBezTo>
                  <a:pt x="17140" y="4349"/>
                  <a:pt x="17153" y="4321"/>
                  <a:pt x="17165" y="4390"/>
                </a:cubicBezTo>
              </a:path>
              <a:path w="968" h="795">
                <a:moveTo>
                  <a:pt x="17190" y="4539"/>
                </a:moveTo>
                <a:cubicBezTo>
                  <a:pt x="17190" y="4637"/>
                  <a:pt x="17215" y="4612"/>
                  <a:pt x="17289" y="4663"/>
                </a:cubicBezTo>
                <a:cubicBezTo>
                  <a:pt x="17297" y="4671"/>
                  <a:pt x="17306" y="4680"/>
                  <a:pt x="17314" y="4688"/>
                </a:cubicBezTo>
              </a:path>
              <a:path w="968" h="795">
                <a:moveTo>
                  <a:pt x="17314" y="4812"/>
                </a:moveTo>
                <a:cubicBezTo>
                  <a:pt x="17342" y="4841"/>
                  <a:pt x="17355" y="4849"/>
                  <a:pt x="17388" y="4837"/>
                </a:cubicBezTo>
              </a:path>
              <a:path w="968" h="795">
                <a:moveTo>
                  <a:pt x="17388" y="4837"/>
                </a:moveTo>
                <a:lnTo>
                  <a:pt x="17388" y="4837"/>
                </a:ln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6161040" y="3301920"/>
            <a:ext cx="9720" cy="9720"/>
          </a:xfrm>
          <a:custGeom>
            <a:avLst/>
            <a:gdLst/>
            <a:ahLst/>
            <a:rect l="l" t="t" r="r" b="b"/>
            <a:pathLst>
              <a:path w="26" h="25">
                <a:moveTo>
                  <a:pt x="17115" y="9575"/>
                </a:moveTo>
                <a:cubicBezTo>
                  <a:pt x="17115" y="9609"/>
                  <a:pt x="17107" y="9586"/>
                  <a:pt x="17140" y="957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6232680" y="2685960"/>
            <a:ext cx="18720" cy="98640"/>
          </a:xfrm>
          <a:custGeom>
            <a:avLst/>
            <a:gdLst/>
            <a:ahLst/>
            <a:rect l="l" t="t" r="r" b="b"/>
            <a:pathLst>
              <a:path w="50" h="274">
                <a:moveTo>
                  <a:pt x="17338" y="8136"/>
                </a:moveTo>
                <a:lnTo>
                  <a:pt x="17338" y="8136"/>
                </a:lnTo>
              </a:path>
              <a:path w="50" h="274">
                <a:moveTo>
                  <a:pt x="17314" y="8062"/>
                </a:moveTo>
                <a:cubicBezTo>
                  <a:pt x="17314" y="8034"/>
                  <a:pt x="17316" y="8023"/>
                  <a:pt x="17338" y="8012"/>
                </a:cubicBezTo>
              </a:path>
              <a:path w="50" h="274">
                <a:moveTo>
                  <a:pt x="17363" y="7888"/>
                </a:moveTo>
                <a:cubicBezTo>
                  <a:pt x="17363" y="7880"/>
                  <a:pt x="17363" y="7871"/>
                  <a:pt x="17363" y="78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4768920" y="2819520"/>
            <a:ext cx="936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13271" y="8235"/>
                </a:moveTo>
                <a:cubicBezTo>
                  <a:pt x="13263" y="8235"/>
                  <a:pt x="13254" y="8235"/>
                  <a:pt x="13246" y="8235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4991040" y="2819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866" y="8235"/>
                </a:moveTo>
                <a:lnTo>
                  <a:pt x="13866" y="8235"/>
                </a:ln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5081760" y="2793960"/>
            <a:ext cx="9360" cy="34920"/>
          </a:xfrm>
          <a:custGeom>
            <a:avLst/>
            <a:gdLst/>
            <a:ahLst/>
            <a:rect l="l" t="t" r="r" b="b"/>
            <a:pathLst>
              <a:path w="26" h="100">
                <a:moveTo>
                  <a:pt x="14139" y="8186"/>
                </a:moveTo>
                <a:cubicBezTo>
                  <a:pt x="14139" y="8178"/>
                  <a:pt x="14139" y="8169"/>
                  <a:pt x="14139" y="8161"/>
                </a:cubicBezTo>
              </a:path>
              <a:path w="26" h="100">
                <a:moveTo>
                  <a:pt x="14114" y="8260"/>
                </a:moveTo>
                <a:lnTo>
                  <a:pt x="14114" y="8260"/>
                </a:ln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4384800" y="2901960"/>
            <a:ext cx="366480" cy="9360"/>
          </a:xfrm>
          <a:custGeom>
            <a:avLst/>
            <a:gdLst/>
            <a:ahLst/>
            <a:rect l="l" t="t" r="r" b="b"/>
            <a:pathLst>
              <a:path w="1018" h="25">
                <a:moveTo>
                  <a:pt x="12179" y="8062"/>
                </a:moveTo>
                <a:cubicBezTo>
                  <a:pt x="12194" y="8105"/>
                  <a:pt x="12251" y="8086"/>
                  <a:pt x="12303" y="8086"/>
                </a:cubicBezTo>
                <a:cubicBezTo>
                  <a:pt x="12601" y="8086"/>
                  <a:pt x="12898" y="8086"/>
                  <a:pt x="13196" y="80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3321000" y="2990880"/>
            <a:ext cx="243000" cy="46080"/>
          </a:xfrm>
          <a:custGeom>
            <a:avLst/>
            <a:gdLst/>
            <a:ahLst/>
            <a:rect l="l" t="t" r="r" b="b"/>
            <a:pathLst>
              <a:path w="671" h="125">
                <a:moveTo>
                  <a:pt x="9748" y="8434"/>
                </a:moveTo>
                <a:cubicBezTo>
                  <a:pt x="9770" y="8398"/>
                  <a:pt x="9825" y="8350"/>
                  <a:pt x="9872" y="8334"/>
                </a:cubicBezTo>
                <a:cubicBezTo>
                  <a:pt x="9880" y="8334"/>
                  <a:pt x="9889" y="8334"/>
                  <a:pt x="9897" y="8334"/>
                </a:cubicBezTo>
                <a:cubicBezTo>
                  <a:pt x="9815" y="8334"/>
                  <a:pt x="9754" y="8355"/>
                  <a:pt x="9674" y="8359"/>
                </a:cubicBezTo>
                <a:cubicBezTo>
                  <a:pt x="9568" y="8364"/>
                  <a:pt x="9647" y="8334"/>
                  <a:pt x="9699" y="8334"/>
                </a:cubicBezTo>
                <a:cubicBezTo>
                  <a:pt x="9763" y="8334"/>
                  <a:pt x="9593" y="8334"/>
                  <a:pt x="9575" y="8334"/>
                </a:cubicBezTo>
                <a:cubicBezTo>
                  <a:pt x="9528" y="8334"/>
                  <a:pt x="9245" y="8363"/>
                  <a:pt x="9227" y="83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5840280" y="2884320"/>
            <a:ext cx="81000" cy="17640"/>
          </a:xfrm>
          <a:custGeom>
            <a:avLst/>
            <a:gdLst/>
            <a:ahLst/>
            <a:rect l="l" t="t" r="r" b="b"/>
            <a:pathLst>
              <a:path w="225" h="51">
                <a:moveTo>
                  <a:pt x="16222" y="8062"/>
                </a:moveTo>
                <a:cubicBezTo>
                  <a:pt x="16287" y="8062"/>
                  <a:pt x="16333" y="8041"/>
                  <a:pt x="16396" y="8037"/>
                </a:cubicBezTo>
                <a:cubicBezTo>
                  <a:pt x="16438" y="8037"/>
                  <a:pt x="16454" y="8045"/>
                  <a:pt x="16446" y="801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3786120" y="4205160"/>
            <a:ext cx="231840" cy="19080"/>
          </a:xfrm>
          <a:custGeom>
            <a:avLst/>
            <a:gdLst/>
            <a:ahLst/>
            <a:rect l="l" t="t" r="r" b="b"/>
            <a:pathLst>
              <a:path w="646" h="51">
                <a:moveTo>
                  <a:pt x="10517" y="11683"/>
                </a:moveTo>
                <a:cubicBezTo>
                  <a:pt x="10612" y="11692"/>
                  <a:pt x="10691" y="11708"/>
                  <a:pt x="10790" y="11708"/>
                </a:cubicBezTo>
                <a:cubicBezTo>
                  <a:pt x="10914" y="11708"/>
                  <a:pt x="11038" y="11708"/>
                  <a:pt x="11162" y="11708"/>
                </a:cubicBezTo>
                <a:cubicBezTo>
                  <a:pt x="11118" y="11734"/>
                  <a:pt x="11091" y="11733"/>
                  <a:pt x="11038" y="11733"/>
                </a:cubicBezTo>
                <a:cubicBezTo>
                  <a:pt x="11013" y="11733"/>
                  <a:pt x="11005" y="11733"/>
                  <a:pt x="11013" y="1170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3813120" y="4214880"/>
            <a:ext cx="98640" cy="27000"/>
          </a:xfrm>
          <a:custGeom>
            <a:avLst/>
            <a:gdLst/>
            <a:ahLst/>
            <a:rect l="l" t="t" r="r" b="b"/>
            <a:pathLst>
              <a:path w="273" h="75">
                <a:moveTo>
                  <a:pt x="10592" y="11708"/>
                </a:moveTo>
                <a:cubicBezTo>
                  <a:pt x="10683" y="11708"/>
                  <a:pt x="10773" y="11708"/>
                  <a:pt x="10864" y="11708"/>
                </a:cubicBezTo>
                <a:cubicBezTo>
                  <a:pt x="10814" y="11749"/>
                  <a:pt x="10779" y="11778"/>
                  <a:pt x="10716" y="11782"/>
                </a:cubicBezTo>
                <a:cubicBezTo>
                  <a:pt x="10706" y="11783"/>
                  <a:pt x="10552" y="11782"/>
                  <a:pt x="10616" y="11782"/>
                </a:cubicBezTo>
                <a:cubicBezTo>
                  <a:pt x="10680" y="11755"/>
                  <a:pt x="10719" y="11757"/>
                  <a:pt x="10790" y="11757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4813200" y="6303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370" y="17512"/>
                </a:moveTo>
                <a:lnTo>
                  <a:pt x="13370" y="17512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4000680" y="1152360"/>
            <a:ext cx="90360" cy="44640"/>
          </a:xfrm>
          <a:custGeom>
            <a:avLst/>
            <a:gdLst/>
            <a:ahLst/>
            <a:rect l="l" t="t" r="r" b="b"/>
            <a:pathLst>
              <a:path w="250" h="125">
                <a:moveTo>
                  <a:pt x="11112" y="3324"/>
                </a:moveTo>
                <a:cubicBezTo>
                  <a:pt x="11169" y="3324"/>
                  <a:pt x="11191" y="3315"/>
                  <a:pt x="11237" y="3299"/>
                </a:cubicBezTo>
                <a:cubicBezTo>
                  <a:pt x="11290" y="3281"/>
                  <a:pt x="11267" y="3246"/>
                  <a:pt x="11311" y="3225"/>
                </a:cubicBezTo>
                <a:cubicBezTo>
                  <a:pt x="11345" y="3209"/>
                  <a:pt x="11325" y="3212"/>
                  <a:pt x="11361" y="3200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4438800" y="866880"/>
            <a:ext cx="1285560" cy="365040"/>
          </a:xfrm>
          <a:custGeom>
            <a:avLst/>
            <a:gdLst/>
            <a:ahLst/>
            <a:rect l="l" t="t" r="r" b="b"/>
            <a:pathLst>
              <a:path w="3573" h="1018">
                <a:moveTo>
                  <a:pt x="12328" y="2679"/>
                </a:moveTo>
                <a:cubicBezTo>
                  <a:pt x="12328" y="2628"/>
                  <a:pt x="12328" y="2616"/>
                  <a:pt x="12378" y="2604"/>
                </a:cubicBezTo>
                <a:cubicBezTo>
                  <a:pt x="12402" y="2569"/>
                  <a:pt x="12446" y="2580"/>
                  <a:pt x="12502" y="2580"/>
                </a:cubicBezTo>
                <a:cubicBezTo>
                  <a:pt x="12527" y="2580"/>
                  <a:pt x="12551" y="2580"/>
                  <a:pt x="12576" y="2580"/>
                </a:cubicBezTo>
              </a:path>
              <a:path w="3573" h="1018">
                <a:moveTo>
                  <a:pt x="14759" y="2555"/>
                </a:moveTo>
                <a:cubicBezTo>
                  <a:pt x="14883" y="2555"/>
                  <a:pt x="15007" y="2555"/>
                  <a:pt x="15131" y="2555"/>
                </a:cubicBezTo>
                <a:cubicBezTo>
                  <a:pt x="15159" y="2572"/>
                  <a:pt x="15181" y="2558"/>
                  <a:pt x="15205" y="2580"/>
                </a:cubicBezTo>
                <a:cubicBezTo>
                  <a:pt x="15251" y="2622"/>
                  <a:pt x="15258" y="2617"/>
                  <a:pt x="15304" y="2654"/>
                </a:cubicBezTo>
                <a:cubicBezTo>
                  <a:pt x="15350" y="2691"/>
                  <a:pt x="15309" y="2711"/>
                  <a:pt x="15329" y="2753"/>
                </a:cubicBezTo>
                <a:cubicBezTo>
                  <a:pt x="15349" y="2797"/>
                  <a:pt x="15392" y="2851"/>
                  <a:pt x="15404" y="2902"/>
                </a:cubicBezTo>
                <a:cubicBezTo>
                  <a:pt x="15422" y="2978"/>
                  <a:pt x="15450" y="2990"/>
                  <a:pt x="15528" y="3001"/>
                </a:cubicBezTo>
                <a:cubicBezTo>
                  <a:pt x="15548" y="3031"/>
                  <a:pt x="15547" y="3031"/>
                  <a:pt x="15577" y="3051"/>
                </a:cubicBezTo>
                <a:cubicBezTo>
                  <a:pt x="15605" y="3090"/>
                  <a:pt x="15635" y="3111"/>
                  <a:pt x="15677" y="3150"/>
                </a:cubicBezTo>
                <a:cubicBezTo>
                  <a:pt x="15740" y="3208"/>
                  <a:pt x="15803" y="3280"/>
                  <a:pt x="15850" y="3349"/>
                </a:cubicBezTo>
                <a:cubicBezTo>
                  <a:pt x="15870" y="3389"/>
                  <a:pt x="15869" y="3405"/>
                  <a:pt x="15900" y="3398"/>
                </a:cubicBezTo>
              </a:path>
              <a:path w="3573" h="1018">
                <a:moveTo>
                  <a:pt x="15007" y="2877"/>
                </a:moveTo>
                <a:cubicBezTo>
                  <a:pt x="14967" y="2890"/>
                  <a:pt x="14982" y="2926"/>
                  <a:pt x="14982" y="2977"/>
                </a:cubicBezTo>
                <a:cubicBezTo>
                  <a:pt x="14982" y="3109"/>
                  <a:pt x="14982" y="3241"/>
                  <a:pt x="14982" y="3373"/>
                </a:cubicBezTo>
                <a:cubicBezTo>
                  <a:pt x="15067" y="3382"/>
                  <a:pt x="15173" y="3379"/>
                  <a:pt x="15255" y="3398"/>
                </a:cubicBezTo>
                <a:cubicBezTo>
                  <a:pt x="15305" y="3409"/>
                  <a:pt x="15306" y="3423"/>
                  <a:pt x="15354" y="3423"/>
                </a:cubicBezTo>
                <a:cubicBezTo>
                  <a:pt x="15354" y="3351"/>
                  <a:pt x="15369" y="3235"/>
                  <a:pt x="15329" y="3200"/>
                </a:cubicBezTo>
                <a:cubicBezTo>
                  <a:pt x="15295" y="3170"/>
                  <a:pt x="15299" y="3149"/>
                  <a:pt x="15280" y="3125"/>
                </a:cubicBezTo>
                <a:cubicBezTo>
                  <a:pt x="15249" y="3085"/>
                  <a:pt x="15221" y="3085"/>
                  <a:pt x="15180" y="3051"/>
                </a:cubicBezTo>
                <a:cubicBezTo>
                  <a:pt x="15142" y="3020"/>
                  <a:pt x="15144" y="3010"/>
                  <a:pt x="15106" y="2977"/>
                </a:cubicBezTo>
                <a:cubicBezTo>
                  <a:pt x="15087" y="2961"/>
                  <a:pt x="15042" y="2922"/>
                  <a:pt x="15032" y="2902"/>
                </a:cubicBezTo>
                <a:cubicBezTo>
                  <a:pt x="15008" y="2853"/>
                  <a:pt x="14983" y="2857"/>
                  <a:pt x="14957" y="2828"/>
                </a:cubicBezTo>
                <a:cubicBezTo>
                  <a:pt x="14932" y="2799"/>
                  <a:pt x="14911" y="2780"/>
                  <a:pt x="14908" y="2753"/>
                </a:cubicBezTo>
                <a:cubicBezTo>
                  <a:pt x="14908" y="2745"/>
                  <a:pt x="14908" y="2737"/>
                  <a:pt x="14908" y="2729"/>
                </a:cubicBezTo>
              </a:path>
              <a:path w="3573" h="1018">
                <a:moveTo>
                  <a:pt x="15081" y="2679"/>
                </a:moveTo>
                <a:cubicBezTo>
                  <a:pt x="15115" y="2713"/>
                  <a:pt x="15183" y="2739"/>
                  <a:pt x="15205" y="2778"/>
                </a:cubicBezTo>
                <a:cubicBezTo>
                  <a:pt x="15229" y="2821"/>
                  <a:pt x="15221" y="2828"/>
                  <a:pt x="15280" y="2828"/>
                </a:cubicBezTo>
                <a:cubicBezTo>
                  <a:pt x="15280" y="2913"/>
                  <a:pt x="15327" y="2839"/>
                  <a:pt x="15354" y="2927"/>
                </a:cubicBezTo>
                <a:cubicBezTo>
                  <a:pt x="15378" y="3006"/>
                  <a:pt x="15400" y="2968"/>
                  <a:pt x="15429" y="3026"/>
                </a:cubicBezTo>
                <a:cubicBezTo>
                  <a:pt x="15447" y="3061"/>
                  <a:pt x="15474" y="3107"/>
                  <a:pt x="15478" y="3150"/>
                </a:cubicBezTo>
                <a:cubicBezTo>
                  <a:pt x="15482" y="3190"/>
                  <a:pt x="15503" y="3204"/>
                  <a:pt x="15503" y="3249"/>
                </a:cubicBezTo>
                <a:cubicBezTo>
                  <a:pt x="15503" y="3300"/>
                  <a:pt x="15512" y="3335"/>
                  <a:pt x="15478" y="3373"/>
                </a:cubicBezTo>
                <a:cubicBezTo>
                  <a:pt x="15447" y="3407"/>
                  <a:pt x="15422" y="3398"/>
                  <a:pt x="15379" y="3398"/>
                </a:cubicBezTo>
                <a:cubicBezTo>
                  <a:pt x="15371" y="3398"/>
                  <a:pt x="15362" y="3398"/>
                  <a:pt x="15354" y="3398"/>
                </a:cubicBezTo>
              </a:path>
              <a:path w="3573" h="1018">
                <a:moveTo>
                  <a:pt x="15280" y="2679"/>
                </a:moveTo>
                <a:cubicBezTo>
                  <a:pt x="15300" y="2720"/>
                  <a:pt x="15297" y="2737"/>
                  <a:pt x="15329" y="2729"/>
                </a:cubicBezTo>
                <a:cubicBezTo>
                  <a:pt x="15339" y="2768"/>
                  <a:pt x="15354" y="2783"/>
                  <a:pt x="15354" y="2828"/>
                </a:cubicBezTo>
                <a:cubicBezTo>
                  <a:pt x="15389" y="2840"/>
                  <a:pt x="15378" y="2871"/>
                  <a:pt x="15429" y="2877"/>
                </a:cubicBezTo>
                <a:cubicBezTo>
                  <a:pt x="15437" y="2877"/>
                  <a:pt x="15445" y="2877"/>
                  <a:pt x="15453" y="2877"/>
                </a:cubicBezTo>
                <a:cubicBezTo>
                  <a:pt x="15461" y="2901"/>
                  <a:pt x="15485" y="2925"/>
                  <a:pt x="15503" y="2952"/>
                </a:cubicBezTo>
                <a:cubicBezTo>
                  <a:pt x="15525" y="2985"/>
                  <a:pt x="15543" y="2977"/>
                  <a:pt x="15577" y="2977"/>
                </a:cubicBezTo>
                <a:cubicBezTo>
                  <a:pt x="15589" y="3011"/>
                  <a:pt x="15615" y="3004"/>
                  <a:pt x="15627" y="3051"/>
                </a:cubicBezTo>
                <a:cubicBezTo>
                  <a:pt x="15668" y="3061"/>
                  <a:pt x="15667" y="3060"/>
                  <a:pt x="15677" y="3101"/>
                </a:cubicBezTo>
                <a:cubicBezTo>
                  <a:pt x="15717" y="3111"/>
                  <a:pt x="15716" y="3110"/>
                  <a:pt x="15726" y="3150"/>
                </a:cubicBezTo>
                <a:cubicBezTo>
                  <a:pt x="15772" y="3150"/>
                  <a:pt x="15795" y="3148"/>
                  <a:pt x="15801" y="3200"/>
                </a:cubicBezTo>
                <a:cubicBezTo>
                  <a:pt x="15804" y="3225"/>
                  <a:pt x="15851" y="3312"/>
                  <a:pt x="15875" y="3324"/>
                </a:cubicBezTo>
                <a:cubicBezTo>
                  <a:pt x="15883" y="3324"/>
                  <a:pt x="15892" y="3324"/>
                  <a:pt x="15900" y="3324"/>
                </a:cubicBezTo>
              </a:path>
              <a:path w="3573" h="1018">
                <a:moveTo>
                  <a:pt x="14288" y="2431"/>
                </a:moveTo>
                <a:cubicBezTo>
                  <a:pt x="14427" y="2431"/>
                  <a:pt x="14830" y="2366"/>
                  <a:pt x="14932" y="2456"/>
                </a:cubicBezTo>
                <a:cubicBezTo>
                  <a:pt x="14964" y="2484"/>
                  <a:pt x="14967" y="2480"/>
                  <a:pt x="15007" y="2480"/>
                </a:cubicBezTo>
                <a:cubicBezTo>
                  <a:pt x="15018" y="2513"/>
                  <a:pt x="15020" y="2502"/>
                  <a:pt x="15056" y="2530"/>
                </a:cubicBezTo>
              </a:path>
              <a:path w="3573" h="1018">
                <a:moveTo>
                  <a:pt x="12526" y="2555"/>
                </a:moveTo>
                <a:cubicBezTo>
                  <a:pt x="12558" y="2531"/>
                  <a:pt x="12597" y="2525"/>
                  <a:pt x="12626" y="2505"/>
                </a:cubicBezTo>
                <a:cubicBezTo>
                  <a:pt x="12665" y="2478"/>
                  <a:pt x="12675" y="2480"/>
                  <a:pt x="12725" y="2480"/>
                </a:cubicBezTo>
                <a:cubicBezTo>
                  <a:pt x="12841" y="2480"/>
                  <a:pt x="12956" y="2480"/>
                  <a:pt x="13072" y="2480"/>
                </a:cubicBezTo>
                <a:cubicBezTo>
                  <a:pt x="13085" y="2444"/>
                  <a:pt x="13102" y="2456"/>
                  <a:pt x="13146" y="2456"/>
                </a:cubicBezTo>
                <a:cubicBezTo>
                  <a:pt x="13229" y="2456"/>
                  <a:pt x="13312" y="2456"/>
                  <a:pt x="13395" y="2456"/>
                </a:cubicBezTo>
              </a:path>
              <a:path w="3573" h="1018">
                <a:moveTo>
                  <a:pt x="12799" y="2456"/>
                </a:moveTo>
                <a:cubicBezTo>
                  <a:pt x="12824" y="2456"/>
                  <a:pt x="12849" y="2456"/>
                  <a:pt x="12874" y="2456"/>
                </a:cubicBezTo>
                <a:cubicBezTo>
                  <a:pt x="12886" y="2418"/>
                  <a:pt x="12903" y="2431"/>
                  <a:pt x="12948" y="2431"/>
                </a:cubicBezTo>
                <a:cubicBezTo>
                  <a:pt x="12988" y="2431"/>
                  <a:pt x="13002" y="2406"/>
                  <a:pt x="13047" y="2406"/>
                </a:cubicBezTo>
                <a:cubicBezTo>
                  <a:pt x="13336" y="2406"/>
                  <a:pt x="13626" y="2406"/>
                  <a:pt x="13915" y="2406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795920" y="1704960"/>
            <a:ext cx="133200" cy="36360"/>
          </a:xfrm>
          <a:custGeom>
            <a:avLst/>
            <a:gdLst/>
            <a:ahLst/>
            <a:rect l="l" t="t" r="r" b="b"/>
            <a:pathLst>
              <a:path w="373" h="100">
                <a:moveTo>
                  <a:pt x="13419" y="4762"/>
                </a:moveTo>
                <a:cubicBezTo>
                  <a:pt x="13514" y="4762"/>
                  <a:pt x="13420" y="4766"/>
                  <a:pt x="13395" y="4812"/>
                </a:cubicBezTo>
                <a:cubicBezTo>
                  <a:pt x="13377" y="4846"/>
                  <a:pt x="13369" y="4837"/>
                  <a:pt x="13320" y="4837"/>
                </a:cubicBezTo>
                <a:cubicBezTo>
                  <a:pt x="13444" y="4837"/>
                  <a:pt x="13568" y="4837"/>
                  <a:pt x="13692" y="4837"/>
                </a:cubicBezTo>
                <a:cubicBezTo>
                  <a:pt x="13675" y="4802"/>
                  <a:pt x="13618" y="4769"/>
                  <a:pt x="13568" y="4762"/>
                </a:cubicBezTo>
                <a:cubicBezTo>
                  <a:pt x="13501" y="4753"/>
                  <a:pt x="13497" y="4751"/>
                  <a:pt x="13444" y="4738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5892840" y="1704960"/>
            <a:ext cx="28440" cy="1440"/>
          </a:xfrm>
          <a:custGeom>
            <a:avLst/>
            <a:gdLst/>
            <a:ahLst/>
            <a:rect l="l" t="t" r="r" b="b"/>
            <a:pathLst>
              <a:path w="76" h="1">
                <a:moveTo>
                  <a:pt x="16371" y="4738"/>
                </a:moveTo>
                <a:cubicBezTo>
                  <a:pt x="16396" y="4738"/>
                  <a:pt x="16421" y="4738"/>
                  <a:pt x="16446" y="4738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4071960" y="1312920"/>
            <a:ext cx="1440" cy="9360"/>
          </a:xfrm>
          <a:custGeom>
            <a:avLst/>
            <a:gdLst/>
            <a:ahLst/>
            <a:rect l="l" t="t" r="r" b="b"/>
            <a:pathLst>
              <a:path w="1" h="26">
                <a:moveTo>
                  <a:pt x="11311" y="3646"/>
                </a:moveTo>
                <a:cubicBezTo>
                  <a:pt x="11311" y="3654"/>
                  <a:pt x="11311" y="3663"/>
                  <a:pt x="11311" y="36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3303720" y="1330200"/>
            <a:ext cx="54000" cy="3672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9327" y="3696"/>
                </a:moveTo>
                <a:cubicBezTo>
                  <a:pt x="9294" y="3696"/>
                  <a:pt x="9260" y="3696"/>
                  <a:pt x="9227" y="3696"/>
                </a:cubicBezTo>
                <a:cubicBezTo>
                  <a:pt x="9217" y="3736"/>
                  <a:pt x="9203" y="3762"/>
                  <a:pt x="9178" y="3795"/>
                </a:cubicBezTo>
              </a:path>
            </a:pathLst>
          </a:custGeom>
          <a:noFill/>
          <a:ln cap="rnd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3224160" y="1490760"/>
            <a:ext cx="180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8954" y="4142"/>
                </a:moveTo>
                <a:cubicBezTo>
                  <a:pt x="8954" y="4167"/>
                  <a:pt x="8954" y="4175"/>
                  <a:pt x="8954" y="41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3919680" y="3938760"/>
            <a:ext cx="1440" cy="106200"/>
          </a:xfrm>
          <a:custGeom>
            <a:avLst/>
            <a:gdLst/>
            <a:ahLst/>
            <a:rect l="l" t="t" r="r" b="b"/>
            <a:pathLst>
              <a:path w="1" h="299">
                <a:moveTo>
                  <a:pt x="10889" y="11237"/>
                </a:moveTo>
                <a:cubicBezTo>
                  <a:pt x="10889" y="11138"/>
                  <a:pt x="10889" y="11038"/>
                  <a:pt x="10889" y="10939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3768840" y="2652840"/>
            <a:ext cx="160200" cy="222120"/>
          </a:xfrm>
          <a:custGeom>
            <a:avLst/>
            <a:gdLst/>
            <a:ahLst/>
            <a:rect l="l" t="t" r="r" b="b"/>
            <a:pathLst>
              <a:path w="447" h="621">
                <a:moveTo>
                  <a:pt x="10914" y="7987"/>
                </a:moveTo>
                <a:cubicBezTo>
                  <a:pt x="10904" y="7948"/>
                  <a:pt x="10889" y="7933"/>
                  <a:pt x="10889" y="7888"/>
                </a:cubicBezTo>
                <a:cubicBezTo>
                  <a:pt x="10854" y="7876"/>
                  <a:pt x="10864" y="7881"/>
                  <a:pt x="10864" y="7838"/>
                </a:cubicBezTo>
                <a:cubicBezTo>
                  <a:pt x="10828" y="7825"/>
                  <a:pt x="10840" y="7808"/>
                  <a:pt x="10840" y="7764"/>
                </a:cubicBezTo>
                <a:cubicBezTo>
                  <a:pt x="10802" y="7751"/>
                  <a:pt x="10815" y="7734"/>
                  <a:pt x="10815" y="7689"/>
                </a:cubicBezTo>
                <a:cubicBezTo>
                  <a:pt x="10780" y="7678"/>
                  <a:pt x="10790" y="7682"/>
                  <a:pt x="10790" y="7640"/>
                </a:cubicBezTo>
                <a:cubicBezTo>
                  <a:pt x="10774" y="7635"/>
                  <a:pt x="10729" y="7617"/>
                  <a:pt x="10716" y="7590"/>
                </a:cubicBezTo>
                <a:cubicBezTo>
                  <a:pt x="10700" y="7557"/>
                  <a:pt x="10657" y="7526"/>
                  <a:pt x="10641" y="7491"/>
                </a:cubicBezTo>
                <a:cubicBezTo>
                  <a:pt x="10612" y="7426"/>
                  <a:pt x="10537" y="7407"/>
                  <a:pt x="10468" y="736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4140360" y="1028880"/>
            <a:ext cx="331560" cy="242640"/>
          </a:xfrm>
          <a:custGeom>
            <a:avLst/>
            <a:gdLst/>
            <a:ahLst/>
            <a:rect l="l" t="t" r="r" b="b"/>
            <a:pathLst>
              <a:path w="209" h="153">
                <a:moveTo>
                  <a:pt x="184" y="8"/>
                </a:moveTo>
                <a:cubicBezTo>
                  <a:pt x="149" y="43"/>
                  <a:pt x="146" y="80"/>
                  <a:pt x="136" y="128"/>
                </a:cubicBezTo>
                <a:cubicBezTo>
                  <a:pt x="93" y="125"/>
                  <a:pt x="49" y="131"/>
                  <a:pt x="8" y="120"/>
                </a:cubicBezTo>
                <a:cubicBezTo>
                  <a:pt x="0" y="118"/>
                  <a:pt x="11" y="103"/>
                  <a:pt x="16" y="96"/>
                </a:cubicBezTo>
                <a:cubicBezTo>
                  <a:pt x="22" y="88"/>
                  <a:pt x="31" y="84"/>
                  <a:pt x="40" y="80"/>
                </a:cubicBezTo>
                <a:cubicBezTo>
                  <a:pt x="40" y="80"/>
                  <a:pt x="100" y="60"/>
                  <a:pt x="112" y="56"/>
                </a:cubicBezTo>
                <a:cubicBezTo>
                  <a:pt x="130" y="50"/>
                  <a:pt x="160" y="24"/>
                  <a:pt x="160" y="24"/>
                </a:cubicBezTo>
                <a:cubicBezTo>
                  <a:pt x="165" y="16"/>
                  <a:pt x="166" y="0"/>
                  <a:pt x="176" y="0"/>
                </a:cubicBezTo>
                <a:cubicBezTo>
                  <a:pt x="184" y="0"/>
                  <a:pt x="185" y="16"/>
                  <a:pt x="184" y="24"/>
                </a:cubicBezTo>
                <a:cubicBezTo>
                  <a:pt x="182" y="59"/>
                  <a:pt x="173" y="93"/>
                  <a:pt x="168" y="128"/>
                </a:cubicBezTo>
                <a:cubicBezTo>
                  <a:pt x="128" y="125"/>
                  <a:pt x="85" y="134"/>
                  <a:pt x="48" y="120"/>
                </a:cubicBezTo>
                <a:cubicBezTo>
                  <a:pt x="37" y="116"/>
                  <a:pt x="56" y="96"/>
                  <a:pt x="64" y="88"/>
                </a:cubicBezTo>
                <a:cubicBezTo>
                  <a:pt x="100" y="52"/>
                  <a:pt x="146" y="31"/>
                  <a:pt x="192" y="16"/>
                </a:cubicBezTo>
                <a:cubicBezTo>
                  <a:pt x="184" y="53"/>
                  <a:pt x="200" y="107"/>
                  <a:pt x="168" y="128"/>
                </a:cubicBezTo>
                <a:cubicBezTo>
                  <a:pt x="130" y="153"/>
                  <a:pt x="76" y="130"/>
                  <a:pt x="32" y="120"/>
                </a:cubicBezTo>
                <a:cubicBezTo>
                  <a:pt x="23" y="118"/>
                  <a:pt x="48" y="109"/>
                  <a:pt x="56" y="104"/>
                </a:cubicBezTo>
                <a:cubicBezTo>
                  <a:pt x="81" y="66"/>
                  <a:pt x="63" y="83"/>
                  <a:pt x="120" y="64"/>
                </a:cubicBezTo>
                <a:cubicBezTo>
                  <a:pt x="136" y="59"/>
                  <a:pt x="168" y="48"/>
                  <a:pt x="168" y="48"/>
                </a:cubicBezTo>
                <a:cubicBezTo>
                  <a:pt x="209" y="7"/>
                  <a:pt x="192" y="13"/>
                  <a:pt x="192" y="96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5511960" y="965160"/>
            <a:ext cx="266400" cy="257040"/>
          </a:xfrm>
          <a:custGeom>
            <a:avLst/>
            <a:gdLst/>
            <a:ahLst/>
            <a:rect l="l" t="t" r="r" b="b"/>
            <a:pathLst>
              <a:path w="168" h="162">
                <a:moveTo>
                  <a:pt x="0" y="0"/>
                </a:moveTo>
                <a:cubicBezTo>
                  <a:pt x="16" y="49"/>
                  <a:pt x="28" y="45"/>
                  <a:pt x="64" y="72"/>
                </a:cubicBezTo>
                <a:cubicBezTo>
                  <a:pt x="76" y="81"/>
                  <a:pt x="84" y="95"/>
                  <a:pt x="96" y="104"/>
                </a:cubicBezTo>
                <a:cubicBezTo>
                  <a:pt x="111" y="116"/>
                  <a:pt x="144" y="136"/>
                  <a:pt x="144" y="136"/>
                </a:cubicBezTo>
                <a:cubicBezTo>
                  <a:pt x="161" y="162"/>
                  <a:pt x="150" y="160"/>
                  <a:pt x="168" y="16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508720" y="907920"/>
            <a:ext cx="28728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435640" y="863640"/>
            <a:ext cx="101520" cy="76320"/>
          </a:xfrm>
          <a:custGeom>
            <a:avLst/>
            <a:gdLst/>
            <a:ahLst/>
            <a:rect l="l" t="t" r="r" b="b"/>
            <a:pathLst>
              <a:path w="64" h="48">
                <a:moveTo>
                  <a:pt x="64" y="32"/>
                </a:moveTo>
                <a:cubicBezTo>
                  <a:pt x="51" y="27"/>
                  <a:pt x="37" y="21"/>
                  <a:pt x="24" y="16"/>
                </a:cubicBezTo>
                <a:cubicBezTo>
                  <a:pt x="16" y="13"/>
                  <a:pt x="0" y="0"/>
                  <a:pt x="0" y="8"/>
                </a:cubicBezTo>
                <a:cubicBezTo>
                  <a:pt x="0" y="13"/>
                  <a:pt x="41" y="48"/>
                  <a:pt x="48" y="48"/>
                </a:cubicBezTo>
                <a:cubicBezTo>
                  <a:pt x="56" y="48"/>
                  <a:pt x="59" y="37"/>
                  <a:pt x="64" y="32"/>
                </a:cubicBezTo>
                <a:close/>
              </a:path>
            </a:pathLst>
          </a:custGeom>
          <a:solidFill>
            <a:srgbClr val="3399ff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5146560" y="141300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551335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551335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146560" y="250020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551335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55133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281400" y="2500200"/>
            <a:ext cx="720360" cy="68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38"/>
                </a:moveTo>
                <a:arcTo wR="10800" hR="10800" stAng="10660585" swAng="11399637"/>
                <a:lnTo>
                  <a:pt x="10800" y="10800"/>
                </a:lnTo>
                <a:close/>
              </a:path>
              <a:path fill="none" w="21600" h="21600">
                <a:moveTo>
                  <a:pt x="9" y="11238"/>
                </a:moveTo>
                <a:arcTo wR="10800" hR="10800" stAng="10660585" swAng="11399637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3274920" y="365292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551335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551335"/>
              </a:path>
            </a:pathLst>
          </a:cu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5146560" y="364500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551335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551335"/>
              </a:path>
            </a:pathLst>
          </a:cu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6742080" y="4116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8728" y="11435"/>
                </a:moveTo>
                <a:lnTo>
                  <a:pt x="18728" y="11435"/>
                </a:lnTo>
              </a:path>
            </a:pathLst>
          </a:custGeom>
          <a:noFill/>
          <a:ln cap="sq" w="228600">
            <a:solidFill>
              <a:srgbClr val="ff99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6742080" y="4116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8728" y="11435"/>
                </a:moveTo>
                <a:lnTo>
                  <a:pt x="18728" y="11435"/>
                </a:lnTo>
              </a:path>
            </a:pathLst>
          </a:custGeom>
          <a:noFill/>
          <a:ln cap="sq" w="228600">
            <a:solidFill>
              <a:srgbClr val="ff99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450720" y="5265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 flipV="1">
            <a:off x="2987640" y="5877000"/>
            <a:ext cx="3529080" cy="7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3851280" y="5651640"/>
            <a:ext cx="13683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3111480" y="5502240"/>
            <a:ext cx="317520" cy="158760"/>
          </a:xfrm>
          <a:custGeom>
            <a:avLst/>
            <a:gdLst/>
            <a:ahLst/>
            <a:rect l="l" t="t" r="r" b="b"/>
            <a:pathLst>
              <a:path w="200" h="100">
                <a:moveTo>
                  <a:pt x="0" y="96"/>
                </a:moveTo>
                <a:cubicBezTo>
                  <a:pt x="51" y="93"/>
                  <a:pt x="103" y="100"/>
                  <a:pt x="152" y="88"/>
                </a:cubicBezTo>
                <a:cubicBezTo>
                  <a:pt x="163" y="85"/>
                  <a:pt x="157" y="67"/>
                  <a:pt x="160" y="56"/>
                </a:cubicBezTo>
                <a:cubicBezTo>
                  <a:pt x="168" y="30"/>
                  <a:pt x="181" y="19"/>
                  <a:pt x="20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3403440" y="5369040"/>
            <a:ext cx="444600" cy="120600"/>
          </a:xfrm>
          <a:custGeom>
            <a:avLst/>
            <a:gdLst/>
            <a:ahLst/>
            <a:rect l="l" t="t" r="r" b="b"/>
            <a:pathLst>
              <a:path w="280" h="76">
                <a:moveTo>
                  <a:pt x="0" y="76"/>
                </a:moveTo>
                <a:cubicBezTo>
                  <a:pt x="19" y="63"/>
                  <a:pt x="51" y="43"/>
                  <a:pt x="72" y="36"/>
                </a:cubicBezTo>
                <a:cubicBezTo>
                  <a:pt x="98" y="28"/>
                  <a:pt x="152" y="20"/>
                  <a:pt x="152" y="20"/>
                </a:cubicBezTo>
                <a:cubicBezTo>
                  <a:pt x="276" y="28"/>
                  <a:pt x="244" y="0"/>
                  <a:pt x="280" y="3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3746520" y="5388120"/>
            <a:ext cx="177840" cy="253800"/>
          </a:xfrm>
          <a:custGeom>
            <a:avLst/>
            <a:gdLst/>
            <a:ahLst/>
            <a:rect l="l" t="t" r="r" b="b"/>
            <a:pathLst>
              <a:path w="112" h="160">
                <a:moveTo>
                  <a:pt x="112" y="160"/>
                </a:moveTo>
                <a:cubicBezTo>
                  <a:pt x="106" y="108"/>
                  <a:pt x="112" y="51"/>
                  <a:pt x="56" y="32"/>
                </a:cubicBezTo>
                <a:cubicBezTo>
                  <a:pt x="48" y="24"/>
                  <a:pt x="42" y="14"/>
                  <a:pt x="32" y="8"/>
                </a:cubicBezTo>
                <a:cubicBezTo>
                  <a:pt x="22" y="3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3995640" y="4948200"/>
            <a:ext cx="208908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4932360" y="4518000"/>
            <a:ext cx="0" cy="10796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5580000" y="4516560"/>
            <a:ext cx="0" cy="8636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207040" y="5346720"/>
            <a:ext cx="716040" cy="312840"/>
          </a:xfrm>
          <a:custGeom>
            <a:avLst/>
            <a:gdLst/>
            <a:ahLst/>
            <a:rect l="l" t="t" r="r" b="b"/>
            <a:pathLst>
              <a:path w="451" h="197">
                <a:moveTo>
                  <a:pt x="0" y="186"/>
                </a:moveTo>
                <a:cubicBezTo>
                  <a:pt x="3" y="178"/>
                  <a:pt x="3" y="169"/>
                  <a:pt x="8" y="162"/>
                </a:cubicBezTo>
                <a:cubicBezTo>
                  <a:pt x="21" y="145"/>
                  <a:pt x="109" y="83"/>
                  <a:pt x="40" y="106"/>
                </a:cubicBezTo>
                <a:cubicBezTo>
                  <a:pt x="80" y="46"/>
                  <a:pt x="117" y="19"/>
                  <a:pt x="184" y="2"/>
                </a:cubicBezTo>
                <a:cubicBezTo>
                  <a:pt x="357" y="19"/>
                  <a:pt x="211" y="0"/>
                  <a:pt x="136" y="18"/>
                </a:cubicBezTo>
                <a:cubicBezTo>
                  <a:pt x="128" y="20"/>
                  <a:pt x="133" y="35"/>
                  <a:pt x="128" y="42"/>
                </a:cubicBezTo>
                <a:cubicBezTo>
                  <a:pt x="109" y="65"/>
                  <a:pt x="53" y="65"/>
                  <a:pt x="160" y="50"/>
                </a:cubicBezTo>
                <a:cubicBezTo>
                  <a:pt x="176" y="45"/>
                  <a:pt x="192" y="39"/>
                  <a:pt x="208" y="34"/>
                </a:cubicBezTo>
                <a:cubicBezTo>
                  <a:pt x="216" y="31"/>
                  <a:pt x="232" y="26"/>
                  <a:pt x="232" y="26"/>
                </a:cubicBezTo>
                <a:cubicBezTo>
                  <a:pt x="269" y="31"/>
                  <a:pt x="381" y="49"/>
                  <a:pt x="344" y="42"/>
                </a:cubicBezTo>
                <a:cubicBezTo>
                  <a:pt x="288" y="31"/>
                  <a:pt x="317" y="36"/>
                  <a:pt x="256" y="26"/>
                </a:cubicBezTo>
                <a:cubicBezTo>
                  <a:pt x="248" y="21"/>
                  <a:pt x="222" y="10"/>
                  <a:pt x="232" y="10"/>
                </a:cubicBezTo>
                <a:cubicBezTo>
                  <a:pt x="244" y="10"/>
                  <a:pt x="254" y="20"/>
                  <a:pt x="264" y="26"/>
                </a:cubicBezTo>
                <a:cubicBezTo>
                  <a:pt x="295" y="45"/>
                  <a:pt x="334" y="72"/>
                  <a:pt x="360" y="98"/>
                </a:cubicBezTo>
                <a:cubicBezTo>
                  <a:pt x="369" y="107"/>
                  <a:pt x="374" y="121"/>
                  <a:pt x="384" y="130"/>
                </a:cubicBezTo>
                <a:cubicBezTo>
                  <a:pt x="393" y="138"/>
                  <a:pt x="406" y="139"/>
                  <a:pt x="416" y="146"/>
                </a:cubicBezTo>
                <a:cubicBezTo>
                  <a:pt x="425" y="153"/>
                  <a:pt x="451" y="170"/>
                  <a:pt x="440" y="170"/>
                </a:cubicBezTo>
                <a:cubicBezTo>
                  <a:pt x="430" y="170"/>
                  <a:pt x="391" y="129"/>
                  <a:pt x="384" y="122"/>
                </a:cubicBezTo>
                <a:cubicBezTo>
                  <a:pt x="379" y="130"/>
                  <a:pt x="378" y="146"/>
                  <a:pt x="368" y="146"/>
                </a:cubicBezTo>
                <a:cubicBezTo>
                  <a:pt x="360" y="146"/>
                  <a:pt x="360" y="114"/>
                  <a:pt x="360" y="122"/>
                </a:cubicBezTo>
                <a:cubicBezTo>
                  <a:pt x="360" y="141"/>
                  <a:pt x="368" y="197"/>
                  <a:pt x="368" y="178"/>
                </a:cubicBezTo>
                <a:cubicBezTo>
                  <a:pt x="368" y="84"/>
                  <a:pt x="334" y="64"/>
                  <a:pt x="392" y="122"/>
                </a:cubicBezTo>
                <a:cubicBezTo>
                  <a:pt x="392" y="122"/>
                  <a:pt x="419" y="181"/>
                  <a:pt x="376" y="138"/>
                </a:cubicBezTo>
                <a:cubicBezTo>
                  <a:pt x="337" y="99"/>
                  <a:pt x="359" y="82"/>
                  <a:pt x="304" y="66"/>
                </a:cubicBezTo>
                <a:cubicBezTo>
                  <a:pt x="273" y="57"/>
                  <a:pt x="208" y="50"/>
                  <a:pt x="208" y="50"/>
                </a:cubicBezTo>
                <a:cubicBezTo>
                  <a:pt x="181" y="53"/>
                  <a:pt x="155" y="54"/>
                  <a:pt x="128" y="58"/>
                </a:cubicBezTo>
                <a:cubicBezTo>
                  <a:pt x="117" y="60"/>
                  <a:pt x="104" y="59"/>
                  <a:pt x="96" y="66"/>
                </a:cubicBezTo>
                <a:cubicBezTo>
                  <a:pt x="55" y="102"/>
                  <a:pt x="45" y="152"/>
                  <a:pt x="0" y="186"/>
                </a:cubicBezTo>
                <a:close/>
              </a:path>
            </a:pathLst>
          </a:custGeom>
          <a:solidFill>
            <a:srgbClr val="3399ff"/>
          </a:solid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3995640" y="5595840"/>
            <a:ext cx="129708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5867280" y="5524560"/>
            <a:ext cx="28908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3132000" y="5524560"/>
            <a:ext cx="14472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235560" y="4954680"/>
            <a:ext cx="131760" cy="102960"/>
          </a:xfrm>
          <a:custGeom>
            <a:avLst/>
            <a:gdLst/>
            <a:ahLst/>
            <a:rect l="l" t="t" r="r" b="b"/>
            <a:pathLst>
              <a:path w="83" h="65">
                <a:moveTo>
                  <a:pt x="0" y="1"/>
                </a:moveTo>
                <a:cubicBezTo>
                  <a:pt x="24" y="6"/>
                  <a:pt x="55" y="0"/>
                  <a:pt x="72" y="17"/>
                </a:cubicBezTo>
                <a:cubicBezTo>
                  <a:pt x="83" y="28"/>
                  <a:pt x="64" y="65"/>
                  <a:pt x="64" y="6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6261120" y="4994280"/>
            <a:ext cx="1440" cy="431640"/>
          </a:xfrm>
          <a:custGeom>
            <a:avLst/>
            <a:gdLst/>
            <a:ahLst/>
            <a:rect l="l" t="t" r="r" b="b"/>
            <a:pathLst>
              <a:path w="1" h="272">
                <a:moveTo>
                  <a:pt x="0" y="0"/>
                </a:moveTo>
                <a:cubicBezTo>
                  <a:pt x="0" y="91"/>
                  <a:pt x="0" y="181"/>
                  <a:pt x="0" y="272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6300720" y="5092560"/>
            <a:ext cx="54000" cy="432000"/>
          </a:xfrm>
          <a:custGeom>
            <a:avLst/>
            <a:gdLst/>
            <a:ahLst/>
            <a:rect l="l" t="t" r="r" b="b"/>
            <a:pathLst>
              <a:path w="34" h="272">
                <a:moveTo>
                  <a:pt x="34" y="0"/>
                </a:moveTo>
                <a:cubicBezTo>
                  <a:pt x="0" y="102"/>
                  <a:pt x="26" y="16"/>
                  <a:pt x="26" y="272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4313160" y="4741920"/>
            <a:ext cx="204840" cy="135000"/>
          </a:xfrm>
          <a:custGeom>
            <a:avLst/>
            <a:gdLst/>
            <a:ahLst/>
            <a:rect l="l" t="t" r="r" b="b"/>
            <a:pathLst>
              <a:path w="571" h="373">
                <a:moveTo>
                  <a:pt x="12154" y="12526"/>
                </a:moveTo>
                <a:cubicBezTo>
                  <a:pt x="12191" y="12517"/>
                  <a:pt x="12243" y="12501"/>
                  <a:pt x="12278" y="12477"/>
                </a:cubicBezTo>
                <a:cubicBezTo>
                  <a:pt x="12306" y="12449"/>
                  <a:pt x="12320" y="12440"/>
                  <a:pt x="12353" y="12452"/>
                </a:cubicBezTo>
                <a:cubicBezTo>
                  <a:pt x="12360" y="12430"/>
                  <a:pt x="12395" y="12413"/>
                  <a:pt x="12427" y="12402"/>
                </a:cubicBezTo>
                <a:cubicBezTo>
                  <a:pt x="12462" y="12390"/>
                  <a:pt x="12493" y="12364"/>
                  <a:pt x="12526" y="12353"/>
                </a:cubicBezTo>
                <a:cubicBezTo>
                  <a:pt x="12534" y="12353"/>
                  <a:pt x="12543" y="12353"/>
                  <a:pt x="12551" y="12353"/>
                </a:cubicBezTo>
              </a:path>
              <a:path w="571" h="373">
                <a:moveTo>
                  <a:pt x="12080" y="12700"/>
                </a:moveTo>
                <a:cubicBezTo>
                  <a:pt x="12045" y="12709"/>
                  <a:pt x="11945" y="12725"/>
                  <a:pt x="11981" y="12725"/>
                </a:cubicBezTo>
                <a:cubicBezTo>
                  <a:pt x="11989" y="12725"/>
                  <a:pt x="11997" y="12725"/>
                  <a:pt x="12005" y="12725"/>
                </a:cubicBezTo>
              </a:path>
            </a:pathLst>
          </a:custGeom>
          <a:noFill/>
          <a:ln cap="rnd" w="34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4081320" y="5500800"/>
            <a:ext cx="142920" cy="81000"/>
          </a:xfrm>
          <a:custGeom>
            <a:avLst/>
            <a:gdLst/>
            <a:ahLst/>
            <a:rect l="l" t="t" r="r" b="b"/>
            <a:pathLst>
              <a:path w="398" h="224">
                <a:moveTo>
                  <a:pt x="11485" y="14486"/>
                </a:moveTo>
                <a:cubicBezTo>
                  <a:pt x="11485" y="14478"/>
                  <a:pt x="11485" y="14469"/>
                  <a:pt x="11485" y="14461"/>
                </a:cubicBezTo>
              </a:path>
              <a:path w="398" h="224">
                <a:moveTo>
                  <a:pt x="11336" y="14486"/>
                </a:moveTo>
                <a:cubicBezTo>
                  <a:pt x="11336" y="14519"/>
                  <a:pt x="11344" y="14527"/>
                  <a:pt x="11385" y="14511"/>
                </a:cubicBezTo>
              </a:path>
              <a:path w="398" h="224">
                <a:moveTo>
                  <a:pt x="11435" y="14536"/>
                </a:moveTo>
                <a:cubicBezTo>
                  <a:pt x="11485" y="14536"/>
                  <a:pt x="11501" y="14536"/>
                  <a:pt x="11534" y="14536"/>
                </a:cubicBezTo>
              </a:path>
              <a:path w="398" h="224">
                <a:moveTo>
                  <a:pt x="11733" y="14536"/>
                </a:moveTo>
                <a:cubicBezTo>
                  <a:pt x="11733" y="14544"/>
                  <a:pt x="11733" y="14552"/>
                  <a:pt x="11733" y="14560"/>
                </a:cubicBezTo>
              </a:path>
              <a:path w="398" h="224">
                <a:moveTo>
                  <a:pt x="11633" y="14560"/>
                </a:moveTo>
                <a:lnTo>
                  <a:pt x="11633" y="14560"/>
                </a:lnTo>
              </a:path>
              <a:path w="398" h="224">
                <a:moveTo>
                  <a:pt x="11485" y="14560"/>
                </a:moveTo>
                <a:lnTo>
                  <a:pt x="11485" y="14560"/>
                </a:lnTo>
              </a:path>
              <a:path w="398" h="224">
                <a:moveTo>
                  <a:pt x="11485" y="14684"/>
                </a:moveTo>
                <a:lnTo>
                  <a:pt x="11485" y="14684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4902120" y="5572080"/>
            <a:ext cx="206280" cy="19080"/>
          </a:xfrm>
          <a:custGeom>
            <a:avLst/>
            <a:gdLst/>
            <a:ahLst/>
            <a:rect l="l" t="t" r="r" b="b"/>
            <a:pathLst>
              <a:path w="571" h="50">
                <a:moveTo>
                  <a:pt x="14188" y="14660"/>
                </a:moveTo>
                <a:cubicBezTo>
                  <a:pt x="14180" y="14668"/>
                  <a:pt x="14171" y="14676"/>
                  <a:pt x="14163" y="14684"/>
                </a:cubicBezTo>
              </a:path>
              <a:path w="571" h="50">
                <a:moveTo>
                  <a:pt x="14163" y="14684"/>
                </a:moveTo>
                <a:cubicBezTo>
                  <a:pt x="14155" y="14684"/>
                  <a:pt x="14147" y="14684"/>
                  <a:pt x="14139" y="14684"/>
                </a:cubicBezTo>
              </a:path>
              <a:path w="571" h="50">
                <a:moveTo>
                  <a:pt x="13940" y="14684"/>
                </a:moveTo>
                <a:cubicBezTo>
                  <a:pt x="13917" y="14707"/>
                  <a:pt x="13909" y="14718"/>
                  <a:pt x="13915" y="14684"/>
                </a:cubicBezTo>
              </a:path>
              <a:path w="571" h="50">
                <a:moveTo>
                  <a:pt x="13816" y="14684"/>
                </a:moveTo>
                <a:lnTo>
                  <a:pt x="13816" y="14684"/>
                </a:lnTo>
              </a:path>
              <a:path w="571" h="50">
                <a:moveTo>
                  <a:pt x="13643" y="14684"/>
                </a:moveTo>
                <a:cubicBezTo>
                  <a:pt x="13635" y="14684"/>
                  <a:pt x="13626" y="14684"/>
                  <a:pt x="13618" y="14684"/>
                </a:cubicBezTo>
              </a:path>
              <a:path w="571" h="50">
                <a:moveTo>
                  <a:pt x="13990" y="14660"/>
                </a:moveTo>
                <a:cubicBezTo>
                  <a:pt x="13967" y="14682"/>
                  <a:pt x="13956" y="14690"/>
                  <a:pt x="13990" y="1468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5197320" y="5581800"/>
            <a:ext cx="1800" cy="27000"/>
          </a:xfrm>
          <a:custGeom>
            <a:avLst/>
            <a:gdLst/>
            <a:ahLst/>
            <a:rect l="l" t="t" r="r" b="b"/>
            <a:pathLst>
              <a:path w="1" h="76">
                <a:moveTo>
                  <a:pt x="14436" y="14734"/>
                </a:moveTo>
                <a:cubicBezTo>
                  <a:pt x="14436" y="14759"/>
                  <a:pt x="14436" y="14767"/>
                  <a:pt x="14436" y="14734"/>
                </a:cubicBezTo>
              </a:path>
              <a:path w="1" h="76">
                <a:moveTo>
                  <a:pt x="14436" y="14684"/>
                </a:moveTo>
                <a:lnTo>
                  <a:pt x="14436" y="14684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4000680" y="5135400"/>
            <a:ext cx="80640" cy="250920"/>
          </a:xfrm>
          <a:custGeom>
            <a:avLst/>
            <a:gdLst/>
            <a:ahLst/>
            <a:rect l="l" t="t" r="r" b="b"/>
            <a:pathLst>
              <a:path w="225" h="696">
                <a:moveTo>
                  <a:pt x="11112" y="14139"/>
                </a:moveTo>
                <a:lnTo>
                  <a:pt x="11112" y="14139"/>
                </a:lnTo>
              </a:path>
              <a:path w="225" h="696">
                <a:moveTo>
                  <a:pt x="11112" y="13940"/>
                </a:moveTo>
                <a:cubicBezTo>
                  <a:pt x="11112" y="13932"/>
                  <a:pt x="11112" y="13923"/>
                  <a:pt x="11112" y="13915"/>
                </a:cubicBezTo>
              </a:path>
              <a:path w="225" h="696">
                <a:moveTo>
                  <a:pt x="11112" y="13841"/>
                </a:moveTo>
                <a:cubicBezTo>
                  <a:pt x="11112" y="13806"/>
                  <a:pt x="11117" y="13789"/>
                  <a:pt x="11137" y="13767"/>
                </a:cubicBezTo>
              </a:path>
              <a:path w="225" h="696">
                <a:moveTo>
                  <a:pt x="11212" y="13618"/>
                </a:moveTo>
                <a:lnTo>
                  <a:pt x="11212" y="13618"/>
                </a:lnTo>
              </a:path>
              <a:path w="225" h="696">
                <a:moveTo>
                  <a:pt x="11286" y="13643"/>
                </a:moveTo>
                <a:cubicBezTo>
                  <a:pt x="11311" y="13643"/>
                  <a:pt x="11319" y="13643"/>
                  <a:pt x="11336" y="13643"/>
                </a:cubicBezTo>
                <a:cubicBezTo>
                  <a:pt x="11336" y="13610"/>
                  <a:pt x="11336" y="13576"/>
                  <a:pt x="11336" y="13543"/>
                </a:cubicBezTo>
              </a:path>
              <a:path w="225" h="696">
                <a:moveTo>
                  <a:pt x="11311" y="13494"/>
                </a:moveTo>
                <a:cubicBezTo>
                  <a:pt x="11311" y="13469"/>
                  <a:pt x="11311" y="13461"/>
                  <a:pt x="11311" y="1344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4081320" y="5019840"/>
            <a:ext cx="9720" cy="7920"/>
          </a:xfrm>
          <a:custGeom>
            <a:avLst/>
            <a:gdLst/>
            <a:ahLst/>
            <a:rect l="l" t="t" r="r" b="b"/>
            <a:pathLst>
              <a:path w="26" h="25">
                <a:moveTo>
                  <a:pt x="11336" y="13146"/>
                </a:moveTo>
                <a:cubicBezTo>
                  <a:pt x="11344" y="13138"/>
                  <a:pt x="11353" y="13130"/>
                  <a:pt x="11361" y="1312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3995640" y="4602240"/>
            <a:ext cx="519120" cy="339480"/>
          </a:xfrm>
          <a:custGeom>
            <a:avLst/>
            <a:gdLst/>
            <a:ahLst/>
            <a:rect l="l" t="t" r="r" b="b"/>
            <a:pathLst>
              <a:path w="1439" h="944">
                <a:moveTo>
                  <a:pt x="11385" y="12774"/>
                </a:moveTo>
                <a:cubicBezTo>
                  <a:pt x="11448" y="12759"/>
                  <a:pt x="11435" y="12740"/>
                  <a:pt x="11435" y="12824"/>
                </a:cubicBezTo>
                <a:cubicBezTo>
                  <a:pt x="11473" y="12771"/>
                  <a:pt x="11512" y="12747"/>
                  <a:pt x="11559" y="12700"/>
                </a:cubicBezTo>
                <a:cubicBezTo>
                  <a:pt x="11588" y="12671"/>
                  <a:pt x="11597" y="12659"/>
                  <a:pt x="11633" y="12650"/>
                </a:cubicBezTo>
                <a:cubicBezTo>
                  <a:pt x="11633" y="12612"/>
                  <a:pt x="11617" y="12546"/>
                  <a:pt x="11658" y="12526"/>
                </a:cubicBezTo>
                <a:cubicBezTo>
                  <a:pt x="11683" y="12526"/>
                  <a:pt x="11691" y="12526"/>
                  <a:pt x="11683" y="12502"/>
                </a:cubicBezTo>
              </a:path>
              <a:path w="1439" h="944">
                <a:moveTo>
                  <a:pt x="11708" y="12229"/>
                </a:moveTo>
                <a:cubicBezTo>
                  <a:pt x="11708" y="12170"/>
                  <a:pt x="11735" y="12173"/>
                  <a:pt x="11757" y="12129"/>
                </a:cubicBezTo>
                <a:cubicBezTo>
                  <a:pt x="11821" y="12117"/>
                  <a:pt x="11823" y="12100"/>
                  <a:pt x="11857" y="12055"/>
                </a:cubicBezTo>
              </a:path>
              <a:path w="1439" h="944">
                <a:moveTo>
                  <a:pt x="12055" y="12576"/>
                </a:moveTo>
                <a:cubicBezTo>
                  <a:pt x="12098" y="12619"/>
                  <a:pt x="12143" y="12672"/>
                  <a:pt x="12179" y="12700"/>
                </a:cubicBezTo>
                <a:cubicBezTo>
                  <a:pt x="12219" y="12731"/>
                  <a:pt x="12262" y="12776"/>
                  <a:pt x="12278" y="12824"/>
                </a:cubicBezTo>
                <a:cubicBezTo>
                  <a:pt x="12278" y="12849"/>
                  <a:pt x="12278" y="12857"/>
                  <a:pt x="12278" y="12874"/>
                </a:cubicBezTo>
                <a:cubicBezTo>
                  <a:pt x="12237" y="12832"/>
                  <a:pt x="12192" y="12803"/>
                  <a:pt x="12154" y="12774"/>
                </a:cubicBezTo>
                <a:cubicBezTo>
                  <a:pt x="12099" y="12731"/>
                  <a:pt x="12037" y="12699"/>
                  <a:pt x="12030" y="12626"/>
                </a:cubicBezTo>
                <a:cubicBezTo>
                  <a:pt x="12026" y="12586"/>
                  <a:pt x="12030" y="12543"/>
                  <a:pt x="12030" y="12502"/>
                </a:cubicBezTo>
                <a:cubicBezTo>
                  <a:pt x="12030" y="12426"/>
                  <a:pt x="12030" y="12562"/>
                  <a:pt x="12030" y="12576"/>
                </a:cubicBezTo>
                <a:cubicBezTo>
                  <a:pt x="12030" y="12667"/>
                  <a:pt x="12030" y="12758"/>
                  <a:pt x="12030" y="12849"/>
                </a:cubicBezTo>
                <a:cubicBezTo>
                  <a:pt x="12105" y="12849"/>
                  <a:pt x="12176" y="12852"/>
                  <a:pt x="12229" y="12799"/>
                </a:cubicBezTo>
                <a:cubicBezTo>
                  <a:pt x="12240" y="12788"/>
                  <a:pt x="12271" y="12739"/>
                  <a:pt x="12278" y="12799"/>
                </a:cubicBezTo>
                <a:cubicBezTo>
                  <a:pt x="12278" y="12824"/>
                  <a:pt x="12278" y="12832"/>
                  <a:pt x="12278" y="12849"/>
                </a:cubicBezTo>
                <a:cubicBezTo>
                  <a:pt x="12278" y="12895"/>
                  <a:pt x="12230" y="12801"/>
                  <a:pt x="12229" y="12799"/>
                </a:cubicBezTo>
                <a:cubicBezTo>
                  <a:pt x="12208" y="12743"/>
                  <a:pt x="12242" y="12741"/>
                  <a:pt x="12179" y="12725"/>
                </a:cubicBezTo>
              </a:path>
              <a:path w="1439" h="944">
                <a:moveTo>
                  <a:pt x="10840" y="12998"/>
                </a:moveTo>
                <a:cubicBezTo>
                  <a:pt x="10840" y="12990"/>
                  <a:pt x="10840" y="12981"/>
                  <a:pt x="10840" y="12973"/>
                </a:cubicBezTo>
                <a:cubicBezTo>
                  <a:pt x="10872" y="12957"/>
                  <a:pt x="10922" y="12892"/>
                  <a:pt x="10939" y="12849"/>
                </a:cubicBezTo>
                <a:cubicBezTo>
                  <a:pt x="10952" y="12816"/>
                  <a:pt x="10959" y="12804"/>
                  <a:pt x="10988" y="12774"/>
                </a:cubicBezTo>
              </a:path>
              <a:path w="1439" h="944">
                <a:moveTo>
                  <a:pt x="11311" y="12551"/>
                </a:moveTo>
                <a:cubicBezTo>
                  <a:pt x="11321" y="12511"/>
                  <a:pt x="11320" y="12512"/>
                  <a:pt x="11361" y="12502"/>
                </a:cubicBezTo>
                <a:cubicBezTo>
                  <a:pt x="11376" y="12439"/>
                  <a:pt x="11413" y="12455"/>
                  <a:pt x="11460" y="12427"/>
                </a:cubicBezTo>
                <a:cubicBezTo>
                  <a:pt x="11503" y="12401"/>
                  <a:pt x="11505" y="12361"/>
                  <a:pt x="11534" y="12328"/>
                </a:cubicBezTo>
                <a:cubicBezTo>
                  <a:pt x="11568" y="12290"/>
                  <a:pt x="11599" y="12284"/>
                  <a:pt x="11633" y="12254"/>
                </a:cubicBezTo>
                <a:cubicBezTo>
                  <a:pt x="11656" y="12231"/>
                  <a:pt x="11664" y="12227"/>
                  <a:pt x="11658" y="1220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4572000" y="4770360"/>
            <a:ext cx="295200" cy="250920"/>
          </a:xfrm>
          <a:custGeom>
            <a:avLst/>
            <a:gdLst/>
            <a:ahLst/>
            <a:rect l="l" t="t" r="r" b="b"/>
            <a:pathLst>
              <a:path w="820" h="696">
                <a:moveTo>
                  <a:pt x="13370" y="12874"/>
                </a:moveTo>
                <a:cubicBezTo>
                  <a:pt x="13407" y="12827"/>
                  <a:pt x="13441" y="12778"/>
                  <a:pt x="13469" y="12725"/>
                </a:cubicBezTo>
                <a:cubicBezTo>
                  <a:pt x="13504" y="12659"/>
                  <a:pt x="13521" y="12668"/>
                  <a:pt x="13568" y="12626"/>
                </a:cubicBezTo>
                <a:cubicBezTo>
                  <a:pt x="13598" y="12599"/>
                  <a:pt x="13609" y="12586"/>
                  <a:pt x="13618" y="12551"/>
                </a:cubicBezTo>
              </a:path>
              <a:path w="820" h="696">
                <a:moveTo>
                  <a:pt x="13395" y="12923"/>
                </a:moveTo>
                <a:cubicBezTo>
                  <a:pt x="13444" y="12923"/>
                  <a:pt x="13494" y="12923"/>
                  <a:pt x="13543" y="12923"/>
                </a:cubicBezTo>
                <a:cubicBezTo>
                  <a:pt x="13415" y="12923"/>
                  <a:pt x="13299" y="12940"/>
                  <a:pt x="13171" y="12948"/>
                </a:cubicBezTo>
                <a:cubicBezTo>
                  <a:pt x="13048" y="12956"/>
                  <a:pt x="12922" y="12948"/>
                  <a:pt x="12799" y="12948"/>
                </a:cubicBezTo>
                <a:cubicBezTo>
                  <a:pt x="12849" y="12948"/>
                  <a:pt x="13164" y="12948"/>
                  <a:pt x="13047" y="12948"/>
                </a:cubicBezTo>
                <a:cubicBezTo>
                  <a:pt x="13006" y="12948"/>
                  <a:pt x="12998" y="12948"/>
                  <a:pt x="12973" y="12948"/>
                </a:cubicBezTo>
              </a:path>
              <a:path w="820" h="696">
                <a:moveTo>
                  <a:pt x="13122" y="13146"/>
                </a:moveTo>
                <a:cubicBezTo>
                  <a:pt x="13193" y="13155"/>
                  <a:pt x="13221" y="13170"/>
                  <a:pt x="13271" y="13221"/>
                </a:cubicBezTo>
                <a:cubicBezTo>
                  <a:pt x="13293" y="13244"/>
                  <a:pt x="13301" y="13255"/>
                  <a:pt x="13295" y="13221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5054760" y="5092560"/>
            <a:ext cx="179280" cy="1800"/>
          </a:xfrm>
          <a:custGeom>
            <a:avLst/>
            <a:gdLst/>
            <a:ahLst/>
            <a:rect l="l" t="t" r="r" b="b"/>
            <a:pathLst>
              <a:path w="498" h="1">
                <a:moveTo>
                  <a:pt x="14039" y="12923"/>
                </a:moveTo>
                <a:cubicBezTo>
                  <a:pt x="14151" y="12923"/>
                  <a:pt x="14554" y="12923"/>
                  <a:pt x="14486" y="12923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5392800" y="5011560"/>
            <a:ext cx="393480" cy="303480"/>
          </a:xfrm>
          <a:custGeom>
            <a:avLst/>
            <a:gdLst/>
            <a:ahLst/>
            <a:rect l="l" t="t" r="r" b="b"/>
            <a:pathLst>
              <a:path w="1092" h="844">
                <a:moveTo>
                  <a:pt x="14982" y="12849"/>
                </a:moveTo>
                <a:cubicBezTo>
                  <a:pt x="15007" y="12849"/>
                  <a:pt x="15015" y="12849"/>
                  <a:pt x="15032" y="12849"/>
                </a:cubicBezTo>
                <a:cubicBezTo>
                  <a:pt x="15032" y="12791"/>
                  <a:pt x="15039" y="12810"/>
                  <a:pt x="15081" y="12774"/>
                </a:cubicBezTo>
                <a:cubicBezTo>
                  <a:pt x="15114" y="12745"/>
                  <a:pt x="15147" y="12728"/>
                  <a:pt x="15156" y="12700"/>
                </a:cubicBezTo>
              </a:path>
              <a:path w="1092" h="844">
                <a:moveTo>
                  <a:pt x="15577" y="13171"/>
                </a:moveTo>
                <a:cubicBezTo>
                  <a:pt x="15545" y="13227"/>
                  <a:pt x="15504" y="13257"/>
                  <a:pt x="15478" y="13320"/>
                </a:cubicBezTo>
                <a:cubicBezTo>
                  <a:pt x="15464" y="13353"/>
                  <a:pt x="15457" y="13432"/>
                  <a:pt x="15453" y="13469"/>
                </a:cubicBezTo>
                <a:cubicBezTo>
                  <a:pt x="15450" y="13500"/>
                  <a:pt x="15448" y="13534"/>
                  <a:pt x="15429" y="13543"/>
                </a:cubicBezTo>
                <a:cubicBezTo>
                  <a:pt x="15421" y="13543"/>
                  <a:pt x="15412" y="13543"/>
                  <a:pt x="15404" y="13543"/>
                </a:cubicBezTo>
                <a:cubicBezTo>
                  <a:pt x="15404" y="13494"/>
                  <a:pt x="15404" y="13444"/>
                  <a:pt x="15404" y="13395"/>
                </a:cubicBezTo>
              </a:path>
              <a:path w="1092" h="844">
                <a:moveTo>
                  <a:pt x="15949" y="12824"/>
                </a:moveTo>
                <a:cubicBezTo>
                  <a:pt x="16015" y="12824"/>
                  <a:pt x="16032" y="12824"/>
                  <a:pt x="16073" y="1282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5919840" y="5038560"/>
            <a:ext cx="19080" cy="27000"/>
          </a:xfrm>
          <a:custGeom>
            <a:avLst/>
            <a:gdLst/>
            <a:ahLst/>
            <a:rect l="l" t="t" r="r" b="b"/>
            <a:pathLst>
              <a:path w="50" h="76">
                <a:moveTo>
                  <a:pt x="16446" y="12849"/>
                </a:moveTo>
                <a:cubicBezTo>
                  <a:pt x="16446" y="12824"/>
                  <a:pt x="16446" y="12816"/>
                  <a:pt x="16446" y="12799"/>
                </a:cubicBezTo>
                <a:cubicBezTo>
                  <a:pt x="16485" y="12786"/>
                  <a:pt x="16456" y="12787"/>
                  <a:pt x="16495" y="1277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5303880" y="5886360"/>
            <a:ext cx="546120" cy="63720"/>
          </a:xfrm>
          <a:custGeom>
            <a:avLst/>
            <a:gdLst/>
            <a:ahLst/>
            <a:rect l="l" t="t" r="r" b="b"/>
            <a:pathLst>
              <a:path w="1514" h="174">
                <a:moveTo>
                  <a:pt x="15379" y="15156"/>
                </a:moveTo>
                <a:cubicBezTo>
                  <a:pt x="15459" y="15156"/>
                  <a:pt x="15725" y="15130"/>
                  <a:pt x="15701" y="15180"/>
                </a:cubicBezTo>
                <a:cubicBezTo>
                  <a:pt x="15682" y="15219"/>
                  <a:pt x="15602" y="15199"/>
                  <a:pt x="15652" y="15205"/>
                </a:cubicBezTo>
                <a:cubicBezTo>
                  <a:pt x="15674" y="15208"/>
                  <a:pt x="15793" y="15205"/>
                  <a:pt x="15677" y="15205"/>
                </a:cubicBezTo>
                <a:cubicBezTo>
                  <a:pt x="15635" y="15205"/>
                  <a:pt x="15627" y="15205"/>
                  <a:pt x="15602" y="15205"/>
                </a:cubicBezTo>
                <a:cubicBezTo>
                  <a:pt x="15519" y="15205"/>
                  <a:pt x="15413" y="15205"/>
                  <a:pt x="15577" y="15205"/>
                </a:cubicBezTo>
                <a:cubicBezTo>
                  <a:pt x="15608" y="15205"/>
                  <a:pt x="15831" y="15205"/>
                  <a:pt x="15701" y="15205"/>
                </a:cubicBezTo>
                <a:cubicBezTo>
                  <a:pt x="15536" y="15205"/>
                  <a:pt x="15090" y="15205"/>
                  <a:pt x="15255" y="15205"/>
                </a:cubicBezTo>
                <a:cubicBezTo>
                  <a:pt x="15280" y="15205"/>
                  <a:pt x="15304" y="15205"/>
                  <a:pt x="15329" y="15205"/>
                </a:cubicBezTo>
                <a:cubicBezTo>
                  <a:pt x="15372" y="15205"/>
                  <a:pt x="15649" y="15205"/>
                  <a:pt x="15528" y="15205"/>
                </a:cubicBezTo>
                <a:cubicBezTo>
                  <a:pt x="15404" y="15205"/>
                  <a:pt x="14984" y="15205"/>
                  <a:pt x="15032" y="15205"/>
                </a:cubicBezTo>
                <a:cubicBezTo>
                  <a:pt x="15098" y="15205"/>
                  <a:pt x="15197" y="15205"/>
                  <a:pt x="15131" y="15205"/>
                </a:cubicBezTo>
                <a:cubicBezTo>
                  <a:pt x="15007" y="15205"/>
                  <a:pt x="14883" y="15205"/>
                  <a:pt x="14759" y="15205"/>
                </a:cubicBezTo>
                <a:cubicBezTo>
                  <a:pt x="14817" y="15205"/>
                  <a:pt x="14825" y="15205"/>
                  <a:pt x="14883" y="15205"/>
                </a:cubicBezTo>
                <a:cubicBezTo>
                  <a:pt x="14885" y="15205"/>
                  <a:pt x="15081" y="15205"/>
                  <a:pt x="15007" y="15205"/>
                </a:cubicBezTo>
                <a:cubicBezTo>
                  <a:pt x="14896" y="15205"/>
                  <a:pt x="15044" y="15205"/>
                  <a:pt x="15081" y="15205"/>
                </a:cubicBezTo>
                <a:cubicBezTo>
                  <a:pt x="15263" y="15205"/>
                  <a:pt x="15425" y="15254"/>
                  <a:pt x="15602" y="15280"/>
                </a:cubicBezTo>
                <a:cubicBezTo>
                  <a:pt x="15726" y="15298"/>
                  <a:pt x="15558" y="15280"/>
                  <a:pt x="15528" y="15280"/>
                </a:cubicBezTo>
                <a:cubicBezTo>
                  <a:pt x="15486" y="15280"/>
                  <a:pt x="15478" y="15280"/>
                  <a:pt x="15453" y="15280"/>
                </a:cubicBezTo>
                <a:cubicBezTo>
                  <a:pt x="15551" y="15312"/>
                  <a:pt x="15646" y="15304"/>
                  <a:pt x="15751" y="15304"/>
                </a:cubicBezTo>
                <a:cubicBezTo>
                  <a:pt x="15859" y="15304"/>
                  <a:pt x="16262" y="15304"/>
                  <a:pt x="16197" y="15304"/>
                </a:cubicBezTo>
                <a:cubicBezTo>
                  <a:pt x="16181" y="15304"/>
                  <a:pt x="16164" y="15304"/>
                  <a:pt x="16148" y="15304"/>
                </a:cubicBezTo>
                <a:cubicBezTo>
                  <a:pt x="16028" y="15304"/>
                  <a:pt x="15918" y="15291"/>
                  <a:pt x="15801" y="15280"/>
                </a:cubicBezTo>
                <a:cubicBezTo>
                  <a:pt x="15769" y="15277"/>
                  <a:pt x="15480" y="15273"/>
                  <a:pt x="15503" y="15255"/>
                </a:cubicBezTo>
                <a:cubicBezTo>
                  <a:pt x="15550" y="15217"/>
                  <a:pt x="15737" y="15230"/>
                  <a:pt x="15677" y="15230"/>
                </a:cubicBezTo>
                <a:cubicBezTo>
                  <a:pt x="15603" y="15230"/>
                  <a:pt x="15552" y="15212"/>
                  <a:pt x="15478" y="15205"/>
                </a:cubicBezTo>
                <a:cubicBezTo>
                  <a:pt x="15576" y="15172"/>
                  <a:pt x="15670" y="15180"/>
                  <a:pt x="15776" y="15180"/>
                </a:cubicBezTo>
                <a:cubicBezTo>
                  <a:pt x="15971" y="15180"/>
                  <a:pt x="15742" y="15180"/>
                  <a:pt x="15726" y="15180"/>
                </a:cubicBezTo>
                <a:cubicBezTo>
                  <a:pt x="15617" y="15180"/>
                  <a:pt x="15602" y="15203"/>
                  <a:pt x="15503" y="15156"/>
                </a:cubicBezTo>
                <a:cubicBezTo>
                  <a:pt x="15399" y="15106"/>
                  <a:pt x="15130" y="15151"/>
                  <a:pt x="15007" y="15131"/>
                </a:cubicBezTo>
                <a:cubicBezTo>
                  <a:pt x="14937" y="15120"/>
                  <a:pt x="14855" y="15131"/>
                  <a:pt x="14784" y="15131"/>
                </a:cubicBezTo>
                <a:cubicBezTo>
                  <a:pt x="14652" y="15164"/>
                  <a:pt x="14899" y="15148"/>
                  <a:pt x="14932" y="15156"/>
                </a:cubicBezTo>
                <a:cubicBezTo>
                  <a:pt x="15093" y="15194"/>
                  <a:pt x="15213" y="15230"/>
                  <a:pt x="15379" y="15230"/>
                </a:cubicBezTo>
                <a:cubicBezTo>
                  <a:pt x="15449" y="15230"/>
                  <a:pt x="15296" y="15230"/>
                  <a:pt x="15280" y="15230"/>
                </a:cubicBezTo>
                <a:cubicBezTo>
                  <a:pt x="15195" y="15230"/>
                  <a:pt x="15195" y="15230"/>
                  <a:pt x="15280" y="15230"/>
                </a:cubicBezTo>
                <a:cubicBezTo>
                  <a:pt x="15286" y="15230"/>
                  <a:pt x="15393" y="15217"/>
                  <a:pt x="15354" y="15205"/>
                </a:cubicBezTo>
                <a:cubicBezTo>
                  <a:pt x="15324" y="15196"/>
                  <a:pt x="15286" y="15208"/>
                  <a:pt x="15255" y="15205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3330720" y="5886360"/>
            <a:ext cx="642960" cy="63720"/>
          </a:xfrm>
          <a:custGeom>
            <a:avLst/>
            <a:gdLst/>
            <a:ahLst/>
            <a:rect l="l" t="t" r="r" b="b"/>
            <a:pathLst>
              <a:path w="1787" h="174">
                <a:moveTo>
                  <a:pt x="10096" y="15255"/>
                </a:moveTo>
                <a:cubicBezTo>
                  <a:pt x="10179" y="15255"/>
                  <a:pt x="10261" y="15255"/>
                  <a:pt x="10344" y="15255"/>
                </a:cubicBezTo>
                <a:cubicBezTo>
                  <a:pt x="10508" y="15255"/>
                  <a:pt x="10402" y="15255"/>
                  <a:pt x="10319" y="15255"/>
                </a:cubicBezTo>
                <a:cubicBezTo>
                  <a:pt x="10269" y="15255"/>
                  <a:pt x="10114" y="15291"/>
                  <a:pt x="10220" y="15230"/>
                </a:cubicBezTo>
                <a:cubicBezTo>
                  <a:pt x="10238" y="15220"/>
                  <a:pt x="10364" y="15188"/>
                  <a:pt x="10368" y="15180"/>
                </a:cubicBezTo>
                <a:cubicBezTo>
                  <a:pt x="10443" y="15033"/>
                  <a:pt x="10037" y="15180"/>
                  <a:pt x="9872" y="15180"/>
                </a:cubicBezTo>
                <a:cubicBezTo>
                  <a:pt x="9925" y="15167"/>
                  <a:pt x="10056" y="15156"/>
                  <a:pt x="10145" y="15156"/>
                </a:cubicBezTo>
                <a:cubicBezTo>
                  <a:pt x="10178" y="15156"/>
                  <a:pt x="10211" y="15156"/>
                  <a:pt x="10244" y="15156"/>
                </a:cubicBezTo>
                <a:cubicBezTo>
                  <a:pt x="10409" y="15156"/>
                  <a:pt x="10303" y="15156"/>
                  <a:pt x="10220" y="15156"/>
                </a:cubicBezTo>
                <a:cubicBezTo>
                  <a:pt x="10166" y="15156"/>
                  <a:pt x="9828" y="15156"/>
                  <a:pt x="9947" y="15156"/>
                </a:cubicBezTo>
                <a:cubicBezTo>
                  <a:pt x="10042" y="15156"/>
                  <a:pt x="10127" y="15140"/>
                  <a:pt x="10220" y="15131"/>
                </a:cubicBezTo>
                <a:cubicBezTo>
                  <a:pt x="9963" y="15131"/>
                  <a:pt x="9293" y="15131"/>
                  <a:pt x="9550" y="15131"/>
                </a:cubicBezTo>
                <a:cubicBezTo>
                  <a:pt x="9575" y="15131"/>
                  <a:pt x="9835" y="15131"/>
                  <a:pt x="9699" y="15131"/>
                </a:cubicBezTo>
                <a:cubicBezTo>
                  <a:pt x="9575" y="15131"/>
                  <a:pt x="9451" y="15131"/>
                  <a:pt x="9327" y="15131"/>
                </a:cubicBezTo>
                <a:cubicBezTo>
                  <a:pt x="9185" y="15131"/>
                  <a:pt x="9317" y="15131"/>
                  <a:pt x="9376" y="15131"/>
                </a:cubicBezTo>
                <a:cubicBezTo>
                  <a:pt x="9492" y="15131"/>
                  <a:pt x="9607" y="15131"/>
                  <a:pt x="9723" y="15131"/>
                </a:cubicBezTo>
                <a:cubicBezTo>
                  <a:pt x="9671" y="15183"/>
                  <a:pt x="9649" y="15174"/>
                  <a:pt x="9599" y="15230"/>
                </a:cubicBezTo>
                <a:cubicBezTo>
                  <a:pt x="9556" y="15278"/>
                  <a:pt x="9532" y="15255"/>
                  <a:pt x="9649" y="15255"/>
                </a:cubicBezTo>
                <a:cubicBezTo>
                  <a:pt x="9792" y="15255"/>
                  <a:pt x="9944" y="15262"/>
                  <a:pt x="10071" y="15230"/>
                </a:cubicBezTo>
                <a:cubicBezTo>
                  <a:pt x="10079" y="15230"/>
                  <a:pt x="10088" y="15230"/>
                  <a:pt x="10096" y="15230"/>
                </a:cubicBezTo>
                <a:cubicBezTo>
                  <a:pt x="10065" y="15230"/>
                  <a:pt x="9871" y="15230"/>
                  <a:pt x="9922" y="15230"/>
                </a:cubicBezTo>
                <a:cubicBezTo>
                  <a:pt x="10085" y="15230"/>
                  <a:pt x="10245" y="15180"/>
                  <a:pt x="10418" y="15180"/>
                </a:cubicBezTo>
                <a:cubicBezTo>
                  <a:pt x="10468" y="15180"/>
                  <a:pt x="10517" y="15180"/>
                  <a:pt x="10567" y="15180"/>
                </a:cubicBezTo>
                <a:cubicBezTo>
                  <a:pt x="10498" y="15186"/>
                  <a:pt x="10436" y="15201"/>
                  <a:pt x="10368" y="15205"/>
                </a:cubicBezTo>
                <a:cubicBezTo>
                  <a:pt x="10275" y="15210"/>
                  <a:pt x="10234" y="15223"/>
                  <a:pt x="10368" y="15230"/>
                </a:cubicBezTo>
                <a:cubicBezTo>
                  <a:pt x="10508" y="15238"/>
                  <a:pt x="10650" y="15230"/>
                  <a:pt x="10790" y="15230"/>
                </a:cubicBezTo>
                <a:cubicBezTo>
                  <a:pt x="10930" y="15230"/>
                  <a:pt x="10641" y="15230"/>
                  <a:pt x="10616" y="15230"/>
                </a:cubicBezTo>
                <a:cubicBezTo>
                  <a:pt x="10533" y="15230"/>
                  <a:pt x="10499" y="15228"/>
                  <a:pt x="10443" y="15205"/>
                </a:cubicBezTo>
                <a:cubicBezTo>
                  <a:pt x="10308" y="15205"/>
                  <a:pt x="10567" y="15205"/>
                  <a:pt x="10592" y="15205"/>
                </a:cubicBezTo>
                <a:cubicBezTo>
                  <a:pt x="10655" y="15205"/>
                  <a:pt x="11032" y="15177"/>
                  <a:pt x="10914" y="15230"/>
                </a:cubicBezTo>
                <a:cubicBezTo>
                  <a:pt x="10825" y="15270"/>
                  <a:pt x="10735" y="15296"/>
                  <a:pt x="10641" y="15304"/>
                </a:cubicBezTo>
                <a:cubicBezTo>
                  <a:pt x="10519" y="15304"/>
                  <a:pt x="10708" y="15285"/>
                  <a:pt x="10740" y="15280"/>
                </a:cubicBezTo>
                <a:cubicBezTo>
                  <a:pt x="10834" y="15266"/>
                  <a:pt x="10943" y="15280"/>
                  <a:pt x="11038" y="15280"/>
                </a:cubicBezTo>
                <a:cubicBezTo>
                  <a:pt x="10641" y="15280"/>
                  <a:pt x="10244" y="15280"/>
                  <a:pt x="9847" y="15280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5688000" y="5913360"/>
            <a:ext cx="169920" cy="1800"/>
          </a:xfrm>
          <a:custGeom>
            <a:avLst/>
            <a:gdLst/>
            <a:ahLst/>
            <a:rect l="l" t="t" r="r" b="b"/>
            <a:pathLst>
              <a:path w="472" h="1">
                <a:moveTo>
                  <a:pt x="15801" y="15205"/>
                </a:moveTo>
                <a:cubicBezTo>
                  <a:pt x="15958" y="15205"/>
                  <a:pt x="16115" y="15205"/>
                  <a:pt x="16272" y="15205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3768840" y="5886360"/>
            <a:ext cx="142920" cy="1800"/>
          </a:xfrm>
          <a:custGeom>
            <a:avLst/>
            <a:gdLst/>
            <a:ahLst/>
            <a:rect l="l" t="t" r="r" b="b"/>
            <a:pathLst>
              <a:path w="397" h="1">
                <a:moveTo>
                  <a:pt x="10468" y="15131"/>
                </a:moveTo>
                <a:cubicBezTo>
                  <a:pt x="10563" y="15131"/>
                  <a:pt x="10939" y="15131"/>
                  <a:pt x="10790" y="1513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3741840" y="5878440"/>
            <a:ext cx="63360" cy="9720"/>
          </a:xfrm>
          <a:custGeom>
            <a:avLst/>
            <a:gdLst/>
            <a:ahLst/>
            <a:rect l="l" t="t" r="r" b="b"/>
            <a:pathLst>
              <a:path w="175" h="26">
                <a:moveTo>
                  <a:pt x="10393" y="15131"/>
                </a:moveTo>
                <a:cubicBezTo>
                  <a:pt x="10456" y="15131"/>
                  <a:pt x="10483" y="15111"/>
                  <a:pt x="10542" y="15106"/>
                </a:cubicBezTo>
                <a:cubicBezTo>
                  <a:pt x="10550" y="15106"/>
                  <a:pt x="10559" y="15106"/>
                  <a:pt x="10567" y="1510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4081320" y="5592600"/>
            <a:ext cx="177840" cy="1800"/>
          </a:xfrm>
          <a:custGeom>
            <a:avLst/>
            <a:gdLst/>
            <a:ahLst/>
            <a:rect l="l" t="t" r="r" b="b"/>
            <a:pathLst>
              <a:path w="497" h="1">
                <a:moveTo>
                  <a:pt x="11336" y="14312"/>
                </a:moveTo>
                <a:cubicBezTo>
                  <a:pt x="11501" y="14312"/>
                  <a:pt x="11667" y="14312"/>
                  <a:pt x="11832" y="14312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4786200" y="5556240"/>
            <a:ext cx="63720" cy="1440"/>
          </a:xfrm>
          <a:custGeom>
            <a:avLst/>
            <a:gdLst/>
            <a:ahLst/>
            <a:rect l="l" t="t" r="r" b="b"/>
            <a:pathLst>
              <a:path w="175" h="1">
                <a:moveTo>
                  <a:pt x="13295" y="14213"/>
                </a:moveTo>
                <a:cubicBezTo>
                  <a:pt x="13353" y="14213"/>
                  <a:pt x="13411" y="14213"/>
                  <a:pt x="13469" y="14213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3840120" y="537840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10666" y="13742"/>
                </a:moveTo>
                <a:cubicBezTo>
                  <a:pt x="10666" y="13734"/>
                  <a:pt x="10666" y="13725"/>
                  <a:pt x="10666" y="137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3803760" y="5359320"/>
            <a:ext cx="27000" cy="1800"/>
          </a:xfrm>
          <a:custGeom>
            <a:avLst/>
            <a:gdLst/>
            <a:ahLst/>
            <a:rect l="l" t="t" r="r" b="b"/>
            <a:pathLst>
              <a:path w="75" h="1">
                <a:moveTo>
                  <a:pt x="10641" y="13667"/>
                </a:moveTo>
                <a:cubicBezTo>
                  <a:pt x="10616" y="13667"/>
                  <a:pt x="10592" y="13667"/>
                  <a:pt x="10567" y="136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3751200" y="5359320"/>
            <a:ext cx="792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10418" y="13667"/>
                </a:moveTo>
                <a:cubicBezTo>
                  <a:pt x="10426" y="13667"/>
                  <a:pt x="10435" y="13667"/>
                  <a:pt x="10443" y="1366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4170240" y="5521320"/>
            <a:ext cx="428760" cy="1440"/>
          </a:xfrm>
          <a:custGeom>
            <a:avLst/>
            <a:gdLst/>
            <a:ahLst/>
            <a:rect l="l" t="t" r="r" b="b"/>
            <a:pathLst>
              <a:path w="1191" h="1">
                <a:moveTo>
                  <a:pt x="11584" y="14114"/>
                </a:moveTo>
                <a:cubicBezTo>
                  <a:pt x="11981" y="14114"/>
                  <a:pt x="12377" y="14114"/>
                  <a:pt x="12774" y="1411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5000760" y="5521320"/>
            <a:ext cx="98280" cy="1440"/>
          </a:xfrm>
          <a:custGeom>
            <a:avLst/>
            <a:gdLst/>
            <a:ahLst/>
            <a:rect l="l" t="t" r="r" b="b"/>
            <a:pathLst>
              <a:path w="273" h="1">
                <a:moveTo>
                  <a:pt x="13891" y="14114"/>
                </a:moveTo>
                <a:cubicBezTo>
                  <a:pt x="13982" y="14114"/>
                  <a:pt x="14072" y="14114"/>
                  <a:pt x="14163" y="1411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5581800" y="5369040"/>
            <a:ext cx="187200" cy="81000"/>
          </a:xfrm>
          <a:custGeom>
            <a:avLst/>
            <a:gdLst/>
            <a:ahLst/>
            <a:rect l="l" t="t" r="r" b="b"/>
            <a:pathLst>
              <a:path w="522" h="224">
                <a:moveTo>
                  <a:pt x="15503" y="13692"/>
                </a:moveTo>
                <a:cubicBezTo>
                  <a:pt x="15538" y="13704"/>
                  <a:pt x="15549" y="13717"/>
                  <a:pt x="15602" y="13742"/>
                </a:cubicBezTo>
                <a:cubicBezTo>
                  <a:pt x="15678" y="13778"/>
                  <a:pt x="15749" y="13792"/>
                  <a:pt x="15825" y="13816"/>
                </a:cubicBezTo>
                <a:cubicBezTo>
                  <a:pt x="15902" y="13841"/>
                  <a:pt x="15936" y="13893"/>
                  <a:pt x="15999" y="13915"/>
                </a:cubicBezTo>
                <a:cubicBezTo>
                  <a:pt x="16007" y="13915"/>
                  <a:pt x="16016" y="13915"/>
                  <a:pt x="16024" y="13915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5769000" y="5440320"/>
            <a:ext cx="9360" cy="90360"/>
          </a:xfrm>
          <a:custGeom>
            <a:avLst/>
            <a:gdLst/>
            <a:ahLst/>
            <a:rect l="l" t="t" r="r" b="b"/>
            <a:pathLst>
              <a:path w="26" h="249">
                <a:moveTo>
                  <a:pt x="16024" y="13891"/>
                </a:moveTo>
                <a:cubicBezTo>
                  <a:pt x="16024" y="13950"/>
                  <a:pt x="16002" y="14123"/>
                  <a:pt x="16049" y="14139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5875200" y="5583240"/>
            <a:ext cx="135000" cy="27000"/>
          </a:xfrm>
          <a:custGeom>
            <a:avLst/>
            <a:gdLst/>
            <a:ahLst/>
            <a:rect l="l" t="t" r="r" b="b"/>
            <a:pathLst>
              <a:path w="374" h="75">
                <a:moveTo>
                  <a:pt x="16321" y="14288"/>
                </a:moveTo>
                <a:cubicBezTo>
                  <a:pt x="16321" y="14312"/>
                  <a:pt x="16321" y="14321"/>
                  <a:pt x="16321" y="14337"/>
                </a:cubicBezTo>
                <a:cubicBezTo>
                  <a:pt x="16388" y="14337"/>
                  <a:pt x="16408" y="14357"/>
                  <a:pt x="16470" y="14362"/>
                </a:cubicBezTo>
                <a:cubicBezTo>
                  <a:pt x="16523" y="14366"/>
                  <a:pt x="16584" y="14337"/>
                  <a:pt x="16644" y="14337"/>
                </a:cubicBezTo>
                <a:cubicBezTo>
                  <a:pt x="16672" y="14337"/>
                  <a:pt x="16683" y="14335"/>
                  <a:pt x="16694" y="1431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197320" y="5904000"/>
            <a:ext cx="88920" cy="9360"/>
          </a:xfrm>
          <a:custGeom>
            <a:avLst/>
            <a:gdLst/>
            <a:ahLst/>
            <a:rect l="l" t="t" r="r" b="b"/>
            <a:pathLst>
              <a:path w="249" h="26">
                <a:moveTo>
                  <a:pt x="14684" y="15205"/>
                </a:moveTo>
                <a:cubicBezTo>
                  <a:pt x="14646" y="15205"/>
                  <a:pt x="14401" y="15191"/>
                  <a:pt x="14461" y="15180"/>
                </a:cubicBezTo>
                <a:cubicBezTo>
                  <a:pt x="14486" y="15180"/>
                  <a:pt x="14511" y="15180"/>
                  <a:pt x="14536" y="15180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6012000" y="5597640"/>
            <a:ext cx="142560" cy="28440"/>
          </a:xfrm>
          <a:custGeom>
            <a:avLst/>
            <a:gdLst/>
            <a:ahLst/>
            <a:rect l="l" t="t" r="r" b="b"/>
            <a:pathLst>
              <a:path w="397" h="76">
                <a:moveTo>
                  <a:pt x="16694" y="14263"/>
                </a:moveTo>
                <a:cubicBezTo>
                  <a:pt x="16758" y="14263"/>
                  <a:pt x="16980" y="14296"/>
                  <a:pt x="17016" y="14238"/>
                </a:cubicBezTo>
                <a:cubicBezTo>
                  <a:pt x="17041" y="14197"/>
                  <a:pt x="17075" y="14234"/>
                  <a:pt x="17090" y="14188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6062760" y="5021280"/>
            <a:ext cx="1440" cy="98280"/>
          </a:xfrm>
          <a:custGeom>
            <a:avLst/>
            <a:gdLst/>
            <a:ahLst/>
            <a:rect l="l" t="t" r="r" b="b"/>
            <a:pathLst>
              <a:path w="1" h="274">
                <a:moveTo>
                  <a:pt x="16842" y="12998"/>
                </a:moveTo>
                <a:cubicBezTo>
                  <a:pt x="16842" y="12907"/>
                  <a:pt x="16842" y="12816"/>
                  <a:pt x="16842" y="12725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3203640" y="5445000"/>
            <a:ext cx="243000" cy="204840"/>
          </a:xfrm>
          <a:custGeom>
            <a:avLst/>
            <a:gdLst/>
            <a:ahLst/>
            <a:rect l="l" t="t" r="r" b="b"/>
            <a:pathLst>
              <a:path w="671" h="571">
                <a:moveTo>
                  <a:pt x="8905" y="14560"/>
                </a:moveTo>
                <a:cubicBezTo>
                  <a:pt x="9004" y="14560"/>
                  <a:pt x="9104" y="14560"/>
                  <a:pt x="9203" y="14560"/>
                </a:cubicBezTo>
              </a:path>
              <a:path w="671" h="571">
                <a:moveTo>
                  <a:pt x="9227" y="14536"/>
                </a:moveTo>
                <a:cubicBezTo>
                  <a:pt x="9219" y="14479"/>
                  <a:pt x="9203" y="14448"/>
                  <a:pt x="9203" y="14387"/>
                </a:cubicBezTo>
                <a:cubicBezTo>
                  <a:pt x="9203" y="14311"/>
                  <a:pt x="9180" y="14122"/>
                  <a:pt x="9227" y="14089"/>
                </a:cubicBezTo>
              </a:path>
              <a:path w="671" h="571">
                <a:moveTo>
                  <a:pt x="9376" y="14163"/>
                </a:moveTo>
                <a:cubicBezTo>
                  <a:pt x="9370" y="14188"/>
                  <a:pt x="9363" y="14240"/>
                  <a:pt x="9351" y="14263"/>
                </a:cubicBezTo>
                <a:cubicBezTo>
                  <a:pt x="9343" y="14271"/>
                  <a:pt x="9335" y="14280"/>
                  <a:pt x="9327" y="14288"/>
                </a:cubicBezTo>
                <a:cubicBezTo>
                  <a:pt x="9336" y="14240"/>
                  <a:pt x="9358" y="14213"/>
                  <a:pt x="9376" y="14188"/>
                </a:cubicBezTo>
                <a:cubicBezTo>
                  <a:pt x="9403" y="14152"/>
                  <a:pt x="9434" y="14137"/>
                  <a:pt x="9451" y="14114"/>
                </a:cubicBezTo>
                <a:cubicBezTo>
                  <a:pt x="9484" y="14069"/>
                  <a:pt x="9485" y="14109"/>
                  <a:pt x="9500" y="14064"/>
                </a:cubicBezTo>
                <a:cubicBezTo>
                  <a:pt x="9482" y="14082"/>
                  <a:pt x="9435" y="14157"/>
                  <a:pt x="9426" y="14163"/>
                </a:cubicBezTo>
                <a:cubicBezTo>
                  <a:pt x="9406" y="14176"/>
                  <a:pt x="9393" y="14227"/>
                  <a:pt x="9376" y="14238"/>
                </a:cubicBezTo>
                <a:cubicBezTo>
                  <a:pt x="9368" y="14238"/>
                  <a:pt x="9359" y="14238"/>
                  <a:pt x="9351" y="14238"/>
                </a:cubicBezTo>
                <a:cubicBezTo>
                  <a:pt x="9351" y="14197"/>
                  <a:pt x="9333" y="14111"/>
                  <a:pt x="9376" y="14089"/>
                </a:cubicBezTo>
                <a:cubicBezTo>
                  <a:pt x="9401" y="14077"/>
                  <a:pt x="9411" y="14047"/>
                  <a:pt x="9426" y="14039"/>
                </a:cubicBezTo>
                <a:cubicBezTo>
                  <a:pt x="9449" y="14027"/>
                  <a:pt x="9483" y="14016"/>
                  <a:pt x="9500" y="14015"/>
                </a:cubicBezTo>
                <a:cubicBezTo>
                  <a:pt x="9557" y="14011"/>
                  <a:pt x="9561" y="14032"/>
                  <a:pt x="9575" y="13990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3251160" y="5351400"/>
            <a:ext cx="874800" cy="249480"/>
          </a:xfrm>
          <a:custGeom>
            <a:avLst/>
            <a:gdLst/>
            <a:ahLst/>
            <a:rect l="l" t="t" r="r" b="b"/>
            <a:pathLst>
              <a:path w="2432" h="695">
                <a:moveTo>
                  <a:pt x="9029" y="14288"/>
                </a:moveTo>
                <a:cubicBezTo>
                  <a:pt x="9029" y="14231"/>
                  <a:pt x="9038" y="14209"/>
                  <a:pt x="9054" y="14163"/>
                </a:cubicBezTo>
                <a:cubicBezTo>
                  <a:pt x="9067" y="14126"/>
                  <a:pt x="9032" y="14088"/>
                  <a:pt x="9079" y="14064"/>
                </a:cubicBezTo>
                <a:cubicBezTo>
                  <a:pt x="9087" y="14064"/>
                  <a:pt x="9095" y="14064"/>
                  <a:pt x="9103" y="14064"/>
                </a:cubicBezTo>
                <a:cubicBezTo>
                  <a:pt x="9108" y="14050"/>
                  <a:pt x="9150" y="13998"/>
                  <a:pt x="9178" y="13990"/>
                </a:cubicBezTo>
                <a:cubicBezTo>
                  <a:pt x="9194" y="13990"/>
                  <a:pt x="9211" y="13990"/>
                  <a:pt x="9227" y="13990"/>
                </a:cubicBezTo>
                <a:cubicBezTo>
                  <a:pt x="9227" y="13938"/>
                  <a:pt x="9225" y="13940"/>
                  <a:pt x="9277" y="13940"/>
                </a:cubicBezTo>
                <a:cubicBezTo>
                  <a:pt x="9277" y="13915"/>
                  <a:pt x="9277" y="13907"/>
                  <a:pt x="9302" y="13915"/>
                </a:cubicBezTo>
              </a:path>
              <a:path w="2432" h="695">
                <a:moveTo>
                  <a:pt x="9500" y="13915"/>
                </a:moveTo>
                <a:cubicBezTo>
                  <a:pt x="9500" y="13881"/>
                  <a:pt x="9487" y="13835"/>
                  <a:pt x="9525" y="13816"/>
                </a:cubicBezTo>
                <a:cubicBezTo>
                  <a:pt x="9533" y="13816"/>
                  <a:pt x="9542" y="13816"/>
                  <a:pt x="9550" y="13816"/>
                </a:cubicBezTo>
                <a:cubicBezTo>
                  <a:pt x="9560" y="13776"/>
                  <a:pt x="9559" y="13777"/>
                  <a:pt x="9599" y="13767"/>
                </a:cubicBezTo>
                <a:cubicBezTo>
                  <a:pt x="9610" y="13735"/>
                  <a:pt x="9633" y="13727"/>
                  <a:pt x="9674" y="13717"/>
                </a:cubicBezTo>
                <a:cubicBezTo>
                  <a:pt x="9684" y="13688"/>
                  <a:pt x="9708" y="13672"/>
                  <a:pt x="9748" y="13667"/>
                </a:cubicBezTo>
                <a:cubicBezTo>
                  <a:pt x="9789" y="13662"/>
                  <a:pt x="9810" y="13647"/>
                  <a:pt x="9847" y="13643"/>
                </a:cubicBezTo>
                <a:cubicBezTo>
                  <a:pt x="9965" y="13630"/>
                  <a:pt x="10092" y="13647"/>
                  <a:pt x="10195" y="13667"/>
                </a:cubicBezTo>
                <a:cubicBezTo>
                  <a:pt x="10232" y="13674"/>
                  <a:pt x="10281" y="13667"/>
                  <a:pt x="10319" y="13667"/>
                </a:cubicBezTo>
              </a:path>
              <a:path w="2432" h="695">
                <a:moveTo>
                  <a:pt x="11088" y="14039"/>
                </a:moveTo>
                <a:cubicBezTo>
                  <a:pt x="11131" y="13996"/>
                  <a:pt x="11174" y="13970"/>
                  <a:pt x="11088" y="13965"/>
                </a:cubicBezTo>
                <a:cubicBezTo>
                  <a:pt x="11029" y="13965"/>
                  <a:pt x="11003" y="13968"/>
                  <a:pt x="10964" y="13990"/>
                </a:cubicBezTo>
                <a:cubicBezTo>
                  <a:pt x="10956" y="13990"/>
                  <a:pt x="10947" y="13990"/>
                  <a:pt x="10939" y="13990"/>
                </a:cubicBezTo>
                <a:cubicBezTo>
                  <a:pt x="10955" y="13957"/>
                  <a:pt x="10969" y="13924"/>
                  <a:pt x="10988" y="13891"/>
                </a:cubicBezTo>
                <a:cubicBezTo>
                  <a:pt x="11016" y="13842"/>
                  <a:pt x="11077" y="13841"/>
                  <a:pt x="11088" y="13791"/>
                </a:cubicBezTo>
                <a:cubicBezTo>
                  <a:pt x="11088" y="13783"/>
                  <a:pt x="11088" y="13775"/>
                  <a:pt x="11088" y="13767"/>
                </a:cubicBezTo>
                <a:cubicBezTo>
                  <a:pt x="11048" y="13796"/>
                  <a:pt x="11034" y="13788"/>
                  <a:pt x="11013" y="13816"/>
                </a:cubicBezTo>
                <a:cubicBezTo>
                  <a:pt x="10991" y="13838"/>
                  <a:pt x="10986" y="13847"/>
                  <a:pt x="10964" y="13841"/>
                </a:cubicBezTo>
                <a:cubicBezTo>
                  <a:pt x="10984" y="13857"/>
                  <a:pt x="11032" y="13888"/>
                  <a:pt x="11038" y="13891"/>
                </a:cubicBezTo>
                <a:cubicBezTo>
                  <a:pt x="11095" y="13919"/>
                  <a:pt x="11195" y="13891"/>
                  <a:pt x="11261" y="13915"/>
                </a:cubicBezTo>
                <a:cubicBezTo>
                  <a:pt x="11336" y="13942"/>
                  <a:pt x="11380" y="13958"/>
                  <a:pt x="11460" y="13965"/>
                </a:cubicBezTo>
                <a:cubicBezTo>
                  <a:pt x="11447" y="14019"/>
                  <a:pt x="11423" y="14005"/>
                  <a:pt x="11385" y="14039"/>
                </a:cubicBezTo>
                <a:cubicBezTo>
                  <a:pt x="11347" y="14073"/>
                  <a:pt x="11333" y="14059"/>
                  <a:pt x="11311" y="14089"/>
                </a:cubicBezTo>
                <a:cubicBezTo>
                  <a:pt x="11298" y="14106"/>
                  <a:pt x="11233" y="14154"/>
                  <a:pt x="11212" y="14163"/>
                </a:cubicBezTo>
                <a:cubicBezTo>
                  <a:pt x="11176" y="14179"/>
                  <a:pt x="11200" y="14175"/>
                  <a:pt x="11162" y="14188"/>
                </a:cubicBezTo>
                <a:cubicBezTo>
                  <a:pt x="11204" y="14188"/>
                  <a:pt x="11256" y="14170"/>
                  <a:pt x="11261" y="14213"/>
                </a:cubicBezTo>
                <a:cubicBezTo>
                  <a:pt x="11265" y="14249"/>
                  <a:pt x="11208" y="14310"/>
                  <a:pt x="11187" y="14337"/>
                </a:cubicBezTo>
                <a:cubicBezTo>
                  <a:pt x="11187" y="14264"/>
                  <a:pt x="11172" y="14175"/>
                  <a:pt x="11162" y="14139"/>
                </a:cubicBezTo>
                <a:cubicBezTo>
                  <a:pt x="11158" y="14124"/>
                  <a:pt x="11182" y="14016"/>
                  <a:pt x="11137" y="14039"/>
                </a:cubicBezTo>
                <a:cubicBezTo>
                  <a:pt x="11103" y="14056"/>
                  <a:pt x="11067" y="14092"/>
                  <a:pt x="11038" y="14114"/>
                </a:cubicBezTo>
                <a:cubicBezTo>
                  <a:pt x="11079" y="14114"/>
                  <a:pt x="11121" y="14114"/>
                  <a:pt x="11162" y="14114"/>
                </a:cubicBezTo>
                <a:cubicBezTo>
                  <a:pt x="11109" y="14127"/>
                  <a:pt x="11113" y="14151"/>
                  <a:pt x="11088" y="14188"/>
                </a:cubicBezTo>
                <a:cubicBezTo>
                  <a:pt x="11064" y="14224"/>
                  <a:pt x="11069" y="14228"/>
                  <a:pt x="11038" y="14238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5759280" y="5645160"/>
            <a:ext cx="349560" cy="1440"/>
          </a:xfrm>
          <a:custGeom>
            <a:avLst/>
            <a:gdLst/>
            <a:ahLst/>
            <a:rect l="l" t="t" r="r" b="b"/>
            <a:pathLst>
              <a:path w="968" h="1">
                <a:moveTo>
                  <a:pt x="15999" y="14461"/>
                </a:moveTo>
                <a:cubicBezTo>
                  <a:pt x="16321" y="14461"/>
                  <a:pt x="16644" y="14461"/>
                  <a:pt x="16966" y="14461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5076720" y="5229360"/>
            <a:ext cx="773280" cy="434880"/>
          </a:xfrm>
          <a:custGeom>
            <a:avLst/>
            <a:gdLst/>
            <a:ahLst/>
            <a:rect l="l" t="t" r="r" b="b"/>
            <a:pathLst>
              <a:path w="1861" h="1117">
                <a:moveTo>
                  <a:pt x="14610" y="14064"/>
                </a:moveTo>
                <a:cubicBezTo>
                  <a:pt x="14610" y="14018"/>
                  <a:pt x="14604" y="14000"/>
                  <a:pt x="14635" y="13965"/>
                </a:cubicBezTo>
                <a:cubicBezTo>
                  <a:pt x="14655" y="13943"/>
                  <a:pt x="14697" y="13894"/>
                  <a:pt x="14709" y="13866"/>
                </a:cubicBezTo>
                <a:cubicBezTo>
                  <a:pt x="14709" y="13858"/>
                  <a:pt x="14709" y="13849"/>
                  <a:pt x="14709" y="13841"/>
                </a:cubicBezTo>
                <a:cubicBezTo>
                  <a:pt x="14761" y="13828"/>
                  <a:pt x="14760" y="13804"/>
                  <a:pt x="14784" y="13767"/>
                </a:cubicBezTo>
                <a:cubicBezTo>
                  <a:pt x="14806" y="13744"/>
                  <a:pt x="14811" y="13736"/>
                  <a:pt x="14833" y="13742"/>
                </a:cubicBezTo>
                <a:cubicBezTo>
                  <a:pt x="14846" y="13702"/>
                  <a:pt x="14852" y="13717"/>
                  <a:pt x="14908" y="13717"/>
                </a:cubicBezTo>
                <a:cubicBezTo>
                  <a:pt x="14936" y="13674"/>
                  <a:pt x="14980" y="13693"/>
                  <a:pt x="15032" y="13667"/>
                </a:cubicBezTo>
                <a:cubicBezTo>
                  <a:pt x="15068" y="13649"/>
                  <a:pt x="15089" y="13623"/>
                  <a:pt x="15131" y="13618"/>
                </a:cubicBezTo>
                <a:cubicBezTo>
                  <a:pt x="15164" y="13618"/>
                  <a:pt x="15180" y="13618"/>
                  <a:pt x="15205" y="13618"/>
                </a:cubicBezTo>
                <a:cubicBezTo>
                  <a:pt x="15231" y="13580"/>
                  <a:pt x="15292" y="13593"/>
                  <a:pt x="15354" y="13593"/>
                </a:cubicBezTo>
                <a:cubicBezTo>
                  <a:pt x="15412" y="13593"/>
                  <a:pt x="15470" y="13593"/>
                  <a:pt x="15528" y="13593"/>
                </a:cubicBezTo>
              </a:path>
              <a:path w="1861" h="1117">
                <a:moveTo>
                  <a:pt x="14387" y="14213"/>
                </a:moveTo>
                <a:cubicBezTo>
                  <a:pt x="14415" y="14184"/>
                  <a:pt x="14427" y="14175"/>
                  <a:pt x="14436" y="14139"/>
                </a:cubicBezTo>
              </a:path>
              <a:path w="1861" h="1117">
                <a:moveTo>
                  <a:pt x="15875" y="13841"/>
                </a:moveTo>
                <a:cubicBezTo>
                  <a:pt x="15883" y="13841"/>
                  <a:pt x="15892" y="13841"/>
                  <a:pt x="15900" y="13841"/>
                </a:cubicBezTo>
                <a:cubicBezTo>
                  <a:pt x="15912" y="13876"/>
                  <a:pt x="15937" y="13868"/>
                  <a:pt x="15949" y="13915"/>
                </a:cubicBezTo>
                <a:cubicBezTo>
                  <a:pt x="16022" y="13930"/>
                  <a:pt x="16002" y="13957"/>
                  <a:pt x="16049" y="13990"/>
                </a:cubicBezTo>
                <a:cubicBezTo>
                  <a:pt x="16116" y="14037"/>
                  <a:pt x="16111" y="14008"/>
                  <a:pt x="16123" y="14089"/>
                </a:cubicBezTo>
                <a:cubicBezTo>
                  <a:pt x="16194" y="14089"/>
                  <a:pt x="16149" y="14095"/>
                  <a:pt x="16173" y="14139"/>
                </a:cubicBezTo>
                <a:cubicBezTo>
                  <a:pt x="16196" y="14181"/>
                  <a:pt x="16242" y="14215"/>
                  <a:pt x="16247" y="14263"/>
                </a:cubicBezTo>
                <a:cubicBezTo>
                  <a:pt x="16263" y="14407"/>
                  <a:pt x="16247" y="14563"/>
                  <a:pt x="16247" y="14709"/>
                </a:cubicBezTo>
                <a:cubicBezTo>
                  <a:pt x="16233" y="14639"/>
                  <a:pt x="16196" y="14656"/>
                  <a:pt x="16173" y="14610"/>
                </a:cubicBezTo>
                <a:cubicBezTo>
                  <a:pt x="16163" y="14589"/>
                  <a:pt x="16173" y="14535"/>
                  <a:pt x="16173" y="14511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3274920" y="523728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551335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551335"/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4556160" y="4444920"/>
            <a:ext cx="1887480" cy="520920"/>
          </a:xfrm>
          <a:custGeom>
            <a:avLst/>
            <a:gdLst/>
            <a:ahLst/>
            <a:rect l="l" t="t" r="r" b="b"/>
            <a:pathLst>
              <a:path w="1144" h="328">
                <a:moveTo>
                  <a:pt x="0" y="136"/>
                </a:moveTo>
                <a:cubicBezTo>
                  <a:pt x="30" y="126"/>
                  <a:pt x="46" y="105"/>
                  <a:pt x="72" y="88"/>
                </a:cubicBezTo>
                <a:cubicBezTo>
                  <a:pt x="85" y="48"/>
                  <a:pt x="72" y="67"/>
                  <a:pt x="128" y="48"/>
                </a:cubicBezTo>
                <a:cubicBezTo>
                  <a:pt x="194" y="26"/>
                  <a:pt x="258" y="9"/>
                  <a:pt x="328" y="0"/>
                </a:cubicBezTo>
                <a:cubicBezTo>
                  <a:pt x="491" y="4"/>
                  <a:pt x="616" y="6"/>
                  <a:pt x="768" y="24"/>
                </a:cubicBezTo>
                <a:cubicBezTo>
                  <a:pt x="817" y="30"/>
                  <a:pt x="895" y="34"/>
                  <a:pt x="952" y="48"/>
                </a:cubicBezTo>
                <a:cubicBezTo>
                  <a:pt x="979" y="55"/>
                  <a:pt x="1024" y="88"/>
                  <a:pt x="1024" y="88"/>
                </a:cubicBezTo>
                <a:cubicBezTo>
                  <a:pt x="1040" y="112"/>
                  <a:pt x="1063" y="133"/>
                  <a:pt x="1072" y="160"/>
                </a:cubicBezTo>
                <a:cubicBezTo>
                  <a:pt x="1080" y="184"/>
                  <a:pt x="1082" y="211"/>
                  <a:pt x="1096" y="232"/>
                </a:cubicBezTo>
                <a:cubicBezTo>
                  <a:pt x="1101" y="240"/>
                  <a:pt x="1108" y="247"/>
                  <a:pt x="1112" y="256"/>
                </a:cubicBezTo>
                <a:cubicBezTo>
                  <a:pt x="1116" y="264"/>
                  <a:pt x="1124" y="328"/>
                  <a:pt x="1144" y="328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6661080" y="4803840"/>
            <a:ext cx="90720" cy="27000"/>
          </a:xfrm>
          <a:custGeom>
            <a:avLst/>
            <a:gdLst/>
            <a:ahLst/>
            <a:rect l="l" t="t" r="r" b="b"/>
            <a:pathLst>
              <a:path w="249" h="75">
                <a:moveTo>
                  <a:pt x="18504" y="13419"/>
                </a:moveTo>
                <a:cubicBezTo>
                  <a:pt x="18529" y="13419"/>
                  <a:pt x="18537" y="13419"/>
                  <a:pt x="18554" y="13419"/>
                </a:cubicBezTo>
                <a:cubicBezTo>
                  <a:pt x="18567" y="13383"/>
                  <a:pt x="18584" y="13395"/>
                  <a:pt x="18628" y="13395"/>
                </a:cubicBezTo>
                <a:cubicBezTo>
                  <a:pt x="18674" y="13395"/>
                  <a:pt x="18687" y="13375"/>
                  <a:pt x="18728" y="13370"/>
                </a:cubicBezTo>
                <a:cubicBezTo>
                  <a:pt x="18752" y="13370"/>
                  <a:pt x="18760" y="13370"/>
                  <a:pt x="18752" y="13345"/>
                </a:cubicBezTo>
              </a:path>
            </a:pathLst>
          </a:custGeom>
          <a:noFill/>
          <a:ln cap="sq" w="228600">
            <a:solidFill>
              <a:srgbClr val="00ff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857920" y="5572080"/>
            <a:ext cx="44280" cy="115920"/>
          </a:xfrm>
          <a:custGeom>
            <a:avLst/>
            <a:gdLst/>
            <a:ahLst/>
            <a:rect l="l" t="t" r="r" b="b"/>
            <a:pathLst>
              <a:path w="125" h="324">
                <a:moveTo>
                  <a:pt x="16272" y="15652"/>
                </a:moveTo>
                <a:cubicBezTo>
                  <a:pt x="16285" y="15690"/>
                  <a:pt x="16301" y="15677"/>
                  <a:pt x="16346" y="15677"/>
                </a:cubicBezTo>
                <a:cubicBezTo>
                  <a:pt x="16371" y="15677"/>
                  <a:pt x="16379" y="15677"/>
                  <a:pt x="16396" y="15677"/>
                </a:cubicBezTo>
                <a:cubicBezTo>
                  <a:pt x="16396" y="15711"/>
                  <a:pt x="16409" y="15757"/>
                  <a:pt x="16371" y="15776"/>
                </a:cubicBezTo>
                <a:cubicBezTo>
                  <a:pt x="16348" y="15787"/>
                  <a:pt x="16335" y="15804"/>
                  <a:pt x="16321" y="15776"/>
                </a:cubicBezTo>
                <a:cubicBezTo>
                  <a:pt x="16301" y="15737"/>
                  <a:pt x="16308" y="15650"/>
                  <a:pt x="16297" y="15627"/>
                </a:cubicBezTo>
                <a:cubicBezTo>
                  <a:pt x="16283" y="15597"/>
                  <a:pt x="16279" y="15541"/>
                  <a:pt x="16272" y="15528"/>
                </a:cubicBezTo>
                <a:cubicBezTo>
                  <a:pt x="16272" y="15503"/>
                  <a:pt x="16272" y="15495"/>
                  <a:pt x="16272" y="15478"/>
                </a:cubicBezTo>
              </a:path>
            </a:pathLst>
          </a:custGeom>
          <a:noFill/>
          <a:ln cap="sq" w="228600">
            <a:solidFill>
              <a:srgbClr val="00ffff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"/>
          <p:cNvSpPr/>
          <p:nvPr/>
        </p:nvSpPr>
        <p:spPr>
          <a:xfrm>
            <a:off x="4040280" y="5199120"/>
            <a:ext cx="125280" cy="507960"/>
          </a:xfrm>
          <a:custGeom>
            <a:avLst/>
            <a:gdLst/>
            <a:ahLst/>
            <a:rect l="l" t="t" r="r" b="b"/>
            <a:pathLst>
              <a:path w="79" h="320">
                <a:moveTo>
                  <a:pt x="39" y="0"/>
                </a:moveTo>
                <a:cubicBezTo>
                  <a:pt x="42" y="13"/>
                  <a:pt x="50" y="27"/>
                  <a:pt x="47" y="40"/>
                </a:cubicBezTo>
                <a:cubicBezTo>
                  <a:pt x="44" y="53"/>
                  <a:pt x="0" y="66"/>
                  <a:pt x="31" y="88"/>
                </a:cubicBezTo>
                <a:cubicBezTo>
                  <a:pt x="45" y="98"/>
                  <a:pt x="79" y="104"/>
                  <a:pt x="79" y="104"/>
                </a:cubicBezTo>
                <a:cubicBezTo>
                  <a:pt x="71" y="115"/>
                  <a:pt x="59" y="123"/>
                  <a:pt x="55" y="136"/>
                </a:cubicBezTo>
                <a:cubicBezTo>
                  <a:pt x="53" y="144"/>
                  <a:pt x="63" y="152"/>
                  <a:pt x="63" y="160"/>
                </a:cubicBezTo>
                <a:cubicBezTo>
                  <a:pt x="63" y="168"/>
                  <a:pt x="58" y="176"/>
                  <a:pt x="55" y="184"/>
                </a:cubicBezTo>
                <a:cubicBezTo>
                  <a:pt x="58" y="195"/>
                  <a:pt x="66" y="206"/>
                  <a:pt x="63" y="216"/>
                </a:cubicBezTo>
                <a:cubicBezTo>
                  <a:pt x="60" y="225"/>
                  <a:pt x="40" y="222"/>
                  <a:pt x="39" y="232"/>
                </a:cubicBezTo>
                <a:cubicBezTo>
                  <a:pt x="35" y="261"/>
                  <a:pt x="44" y="291"/>
                  <a:pt x="47" y="320"/>
                </a:cubicBezTo>
                <a:cubicBezTo>
                  <a:pt x="65" y="266"/>
                  <a:pt x="31" y="215"/>
                  <a:pt x="31" y="160"/>
                </a:cubicBezTo>
                <a:cubicBezTo>
                  <a:pt x="31" y="107"/>
                  <a:pt x="36" y="53"/>
                  <a:pt x="39" y="0"/>
                </a:cubicBezTo>
                <a:close/>
              </a:path>
            </a:pathLst>
          </a:custGeom>
          <a:solidFill>
            <a:srgbClr val="3399ff"/>
          </a:solidFill>
          <a:ln w="93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3059280" y="3573360"/>
            <a:ext cx="3047760" cy="959040"/>
          </a:xfrm>
          <a:custGeom>
            <a:avLst/>
            <a:gdLst/>
            <a:ahLst/>
            <a:rect l="l" t="t" r="r" b="b"/>
            <a:pathLst>
              <a:path w="1920" h="604">
                <a:moveTo>
                  <a:pt x="15" y="604"/>
                </a:moveTo>
                <a:cubicBezTo>
                  <a:pt x="7" y="574"/>
                  <a:pt x="0" y="544"/>
                  <a:pt x="15" y="514"/>
                </a:cubicBezTo>
                <a:cubicBezTo>
                  <a:pt x="30" y="484"/>
                  <a:pt x="76" y="446"/>
                  <a:pt x="106" y="423"/>
                </a:cubicBezTo>
                <a:cubicBezTo>
                  <a:pt x="136" y="400"/>
                  <a:pt x="143" y="408"/>
                  <a:pt x="196" y="378"/>
                </a:cubicBezTo>
                <a:cubicBezTo>
                  <a:pt x="249" y="348"/>
                  <a:pt x="340" y="295"/>
                  <a:pt x="423" y="242"/>
                </a:cubicBezTo>
                <a:cubicBezTo>
                  <a:pt x="506" y="189"/>
                  <a:pt x="574" y="98"/>
                  <a:pt x="695" y="60"/>
                </a:cubicBezTo>
                <a:cubicBezTo>
                  <a:pt x="816" y="22"/>
                  <a:pt x="968" y="22"/>
                  <a:pt x="1149" y="15"/>
                </a:cubicBezTo>
                <a:cubicBezTo>
                  <a:pt x="1330" y="8"/>
                  <a:pt x="1686" y="15"/>
                  <a:pt x="1784" y="15"/>
                </a:cubicBezTo>
                <a:cubicBezTo>
                  <a:pt x="1882" y="15"/>
                  <a:pt x="1723" y="0"/>
                  <a:pt x="1738" y="15"/>
                </a:cubicBezTo>
                <a:cubicBezTo>
                  <a:pt x="1753" y="30"/>
                  <a:pt x="1845" y="52"/>
                  <a:pt x="1875" y="105"/>
                </a:cubicBezTo>
                <a:cubicBezTo>
                  <a:pt x="1905" y="158"/>
                  <a:pt x="1912" y="245"/>
                  <a:pt x="1920" y="332"/>
                </a:cubicBezTo>
              </a:path>
            </a:pathLst>
          </a:custGeom>
          <a:noFill/>
          <a:ln cap="rnd" w="1260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3143160" y="4203720"/>
            <a:ext cx="71640" cy="162000"/>
          </a:xfrm>
          <a:custGeom>
            <a:avLst/>
            <a:gdLst/>
            <a:ahLst/>
            <a:rect l="l" t="t" r="r" b="b"/>
            <a:pathLst>
              <a:path w="200" h="448">
                <a:moveTo>
                  <a:pt x="8756" y="4986"/>
                </a:moveTo>
                <a:lnTo>
                  <a:pt x="8756" y="4986"/>
                </a:lnTo>
              </a:path>
              <a:path w="200" h="448">
                <a:moveTo>
                  <a:pt x="8756" y="4986"/>
                </a:moveTo>
                <a:cubicBezTo>
                  <a:pt x="8756" y="4961"/>
                  <a:pt x="8756" y="4953"/>
                  <a:pt x="8756" y="4936"/>
                </a:cubicBezTo>
              </a:path>
              <a:path w="200" h="448">
                <a:moveTo>
                  <a:pt x="8731" y="4986"/>
                </a:moveTo>
                <a:cubicBezTo>
                  <a:pt x="8754" y="4955"/>
                  <a:pt x="8777" y="4925"/>
                  <a:pt x="8781" y="4887"/>
                </a:cubicBezTo>
                <a:cubicBezTo>
                  <a:pt x="8781" y="4879"/>
                  <a:pt x="8781" y="4870"/>
                  <a:pt x="8781" y="4862"/>
                </a:cubicBezTo>
              </a:path>
              <a:path w="200" h="448">
                <a:moveTo>
                  <a:pt x="8781" y="4961"/>
                </a:moveTo>
                <a:cubicBezTo>
                  <a:pt x="8781" y="4928"/>
                  <a:pt x="8781" y="4895"/>
                  <a:pt x="8781" y="4862"/>
                </a:cubicBezTo>
              </a:path>
              <a:path w="200" h="448">
                <a:moveTo>
                  <a:pt x="8731" y="4986"/>
                </a:moveTo>
                <a:cubicBezTo>
                  <a:pt x="8731" y="4978"/>
                  <a:pt x="8731" y="4969"/>
                  <a:pt x="8731" y="4961"/>
                </a:cubicBezTo>
                <a:cubicBezTo>
                  <a:pt x="8766" y="4949"/>
                  <a:pt x="8756" y="4954"/>
                  <a:pt x="8756" y="4911"/>
                </a:cubicBezTo>
                <a:cubicBezTo>
                  <a:pt x="8794" y="4899"/>
                  <a:pt x="8781" y="4882"/>
                  <a:pt x="8781" y="4837"/>
                </a:cubicBezTo>
                <a:cubicBezTo>
                  <a:pt x="8816" y="4825"/>
                  <a:pt x="8806" y="4830"/>
                  <a:pt x="8806" y="4787"/>
                </a:cubicBezTo>
              </a:path>
              <a:path w="200" h="448">
                <a:moveTo>
                  <a:pt x="8731" y="5011"/>
                </a:moveTo>
                <a:cubicBezTo>
                  <a:pt x="8731" y="4945"/>
                  <a:pt x="8731" y="4878"/>
                  <a:pt x="8731" y="4812"/>
                </a:cubicBezTo>
              </a:path>
              <a:path w="200" h="448">
                <a:moveTo>
                  <a:pt x="8756" y="4862"/>
                </a:moveTo>
                <a:cubicBezTo>
                  <a:pt x="8756" y="4835"/>
                  <a:pt x="8784" y="4817"/>
                  <a:pt x="8806" y="4787"/>
                </a:cubicBezTo>
              </a:path>
              <a:path w="200" h="448">
                <a:moveTo>
                  <a:pt x="8830" y="4713"/>
                </a:moveTo>
                <a:cubicBezTo>
                  <a:pt x="8830" y="4670"/>
                  <a:pt x="8820" y="4675"/>
                  <a:pt x="8855" y="4663"/>
                </a:cubicBezTo>
                <a:cubicBezTo>
                  <a:pt x="8854" y="4667"/>
                  <a:pt x="8834" y="4734"/>
                  <a:pt x="8830" y="4738"/>
                </a:cubicBezTo>
                <a:cubicBezTo>
                  <a:pt x="8820" y="4747"/>
                  <a:pt x="8785" y="4779"/>
                  <a:pt x="8781" y="4787"/>
                </a:cubicBezTo>
                <a:cubicBezTo>
                  <a:pt x="8764" y="4821"/>
                  <a:pt x="8781" y="4858"/>
                  <a:pt x="8781" y="4787"/>
                </a:cubicBezTo>
                <a:cubicBezTo>
                  <a:pt x="8781" y="4736"/>
                  <a:pt x="8796" y="4734"/>
                  <a:pt x="8806" y="4713"/>
                </a:cubicBezTo>
                <a:cubicBezTo>
                  <a:pt x="8817" y="4691"/>
                  <a:pt x="8827" y="4645"/>
                  <a:pt x="8830" y="4638"/>
                </a:cubicBezTo>
                <a:cubicBezTo>
                  <a:pt x="8843" y="4612"/>
                  <a:pt x="8846" y="4593"/>
                  <a:pt x="8880" y="4589"/>
                </a:cubicBezTo>
                <a:cubicBezTo>
                  <a:pt x="8923" y="4584"/>
                  <a:pt x="8890" y="4577"/>
                  <a:pt x="8930" y="4564"/>
                </a:cubicBezTo>
              </a:path>
            </a:pathLst>
          </a:custGeom>
          <a:noFill/>
          <a:ln cap="rnd" w="190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3132000" y="4221000"/>
            <a:ext cx="723960" cy="401760"/>
          </a:xfrm>
          <a:custGeom>
            <a:avLst/>
            <a:gdLst/>
            <a:ahLst/>
            <a:rect l="l" t="t" r="r" b="b"/>
            <a:pathLst>
              <a:path w="2010" h="1117">
                <a:moveTo>
                  <a:pt x="8954" y="5234"/>
                </a:moveTo>
                <a:cubicBezTo>
                  <a:pt x="9037" y="5234"/>
                  <a:pt x="9120" y="5234"/>
                  <a:pt x="9203" y="5234"/>
                </a:cubicBezTo>
                <a:cubicBezTo>
                  <a:pt x="9160" y="5234"/>
                  <a:pt x="9137" y="5256"/>
                  <a:pt x="9128" y="5259"/>
                </a:cubicBezTo>
                <a:cubicBezTo>
                  <a:pt x="9088" y="5270"/>
                  <a:pt x="9013" y="5259"/>
                  <a:pt x="9054" y="5259"/>
                </a:cubicBezTo>
                <a:cubicBezTo>
                  <a:pt x="9062" y="5259"/>
                  <a:pt x="9071" y="5259"/>
                  <a:pt x="9079" y="5259"/>
                </a:cubicBezTo>
              </a:path>
              <a:path w="2010" h="1117">
                <a:moveTo>
                  <a:pt x="8731" y="5234"/>
                </a:moveTo>
                <a:cubicBezTo>
                  <a:pt x="8731" y="5226"/>
                  <a:pt x="8731" y="5217"/>
                  <a:pt x="8731" y="5209"/>
                </a:cubicBezTo>
              </a:path>
              <a:path w="2010" h="1117">
                <a:moveTo>
                  <a:pt x="9624" y="4291"/>
                </a:moveTo>
                <a:lnTo>
                  <a:pt x="9624" y="4291"/>
                </a:lnTo>
              </a:path>
              <a:path w="2010" h="1117">
                <a:moveTo>
                  <a:pt x="8657" y="5283"/>
                </a:moveTo>
                <a:cubicBezTo>
                  <a:pt x="8682" y="5283"/>
                  <a:pt x="8690" y="5283"/>
                  <a:pt x="8706" y="5283"/>
                </a:cubicBezTo>
                <a:cubicBezTo>
                  <a:pt x="8719" y="5247"/>
                  <a:pt x="8737" y="5259"/>
                  <a:pt x="8781" y="5259"/>
                </a:cubicBezTo>
                <a:cubicBezTo>
                  <a:pt x="8806" y="5259"/>
                  <a:pt x="8814" y="5259"/>
                  <a:pt x="8830" y="5259"/>
                </a:cubicBezTo>
                <a:cubicBezTo>
                  <a:pt x="8843" y="5221"/>
                  <a:pt x="8860" y="5234"/>
                  <a:pt x="8905" y="5234"/>
                </a:cubicBezTo>
                <a:cubicBezTo>
                  <a:pt x="8930" y="5234"/>
                  <a:pt x="8954" y="5234"/>
                  <a:pt x="8979" y="5234"/>
                </a:cubicBezTo>
                <a:cubicBezTo>
                  <a:pt x="8992" y="5196"/>
                  <a:pt x="9009" y="5209"/>
                  <a:pt x="9054" y="5209"/>
                </a:cubicBezTo>
                <a:cubicBezTo>
                  <a:pt x="9062" y="5209"/>
                  <a:pt x="9071" y="5209"/>
                  <a:pt x="9079" y="5209"/>
                </a:cubicBezTo>
              </a:path>
              <a:path w="2010" h="1117">
                <a:moveTo>
                  <a:pt x="8806" y="5234"/>
                </a:moveTo>
                <a:cubicBezTo>
                  <a:pt x="8963" y="5234"/>
                  <a:pt x="9120" y="5234"/>
                  <a:pt x="9277" y="5234"/>
                </a:cubicBezTo>
              </a:path>
              <a:path w="2010" h="1117">
                <a:moveTo>
                  <a:pt x="8855" y="5283"/>
                </a:moveTo>
                <a:cubicBezTo>
                  <a:pt x="8905" y="5283"/>
                  <a:pt x="8954" y="5283"/>
                  <a:pt x="9004" y="5283"/>
                </a:cubicBezTo>
                <a:cubicBezTo>
                  <a:pt x="9017" y="5247"/>
                  <a:pt x="9035" y="5259"/>
                  <a:pt x="9079" y="5259"/>
                </a:cubicBezTo>
                <a:cubicBezTo>
                  <a:pt x="9120" y="5259"/>
                  <a:pt x="9162" y="5259"/>
                  <a:pt x="9203" y="5259"/>
                </a:cubicBezTo>
              </a:path>
              <a:path w="2010" h="1117">
                <a:moveTo>
                  <a:pt x="9004" y="5234"/>
                </a:moveTo>
                <a:cubicBezTo>
                  <a:pt x="9061" y="5234"/>
                  <a:pt x="9188" y="5254"/>
                  <a:pt x="9203" y="5209"/>
                </a:cubicBezTo>
              </a:path>
              <a:path w="2010" h="1117">
                <a:moveTo>
                  <a:pt x="9302" y="5184"/>
                </a:moveTo>
                <a:cubicBezTo>
                  <a:pt x="9310" y="5184"/>
                  <a:pt x="9319" y="5184"/>
                  <a:pt x="9327" y="5184"/>
                </a:cubicBezTo>
                <a:cubicBezTo>
                  <a:pt x="9335" y="5134"/>
                  <a:pt x="9332" y="5161"/>
                  <a:pt x="9351" y="5135"/>
                </a:cubicBezTo>
                <a:cubicBezTo>
                  <a:pt x="9351" y="5110"/>
                  <a:pt x="9351" y="5085"/>
                  <a:pt x="9351" y="5060"/>
                </a:cubicBezTo>
                <a:cubicBezTo>
                  <a:pt x="9371" y="5034"/>
                  <a:pt x="9368" y="5061"/>
                  <a:pt x="9376" y="5011"/>
                </a:cubicBezTo>
                <a:cubicBezTo>
                  <a:pt x="9396" y="4985"/>
                  <a:pt x="9393" y="5012"/>
                  <a:pt x="9401" y="4961"/>
                </a:cubicBezTo>
                <a:cubicBezTo>
                  <a:pt x="9422" y="4946"/>
                  <a:pt x="9430" y="4951"/>
                  <a:pt x="9451" y="4936"/>
                </a:cubicBezTo>
                <a:cubicBezTo>
                  <a:pt x="9466" y="4915"/>
                  <a:pt x="9460" y="4908"/>
                  <a:pt x="9475" y="4887"/>
                </a:cubicBezTo>
                <a:cubicBezTo>
                  <a:pt x="9496" y="4872"/>
                  <a:pt x="9504" y="4877"/>
                  <a:pt x="9525" y="4862"/>
                </a:cubicBezTo>
                <a:cubicBezTo>
                  <a:pt x="9540" y="4841"/>
                  <a:pt x="9535" y="4833"/>
                  <a:pt x="9550" y="4812"/>
                </a:cubicBezTo>
                <a:cubicBezTo>
                  <a:pt x="9578" y="4796"/>
                  <a:pt x="9621" y="4778"/>
                  <a:pt x="9649" y="4762"/>
                </a:cubicBezTo>
                <a:cubicBezTo>
                  <a:pt x="9668" y="4743"/>
                  <a:pt x="9689" y="4732"/>
                  <a:pt x="9723" y="4713"/>
                </a:cubicBezTo>
                <a:cubicBezTo>
                  <a:pt x="9738" y="4704"/>
                  <a:pt x="9769" y="4702"/>
                  <a:pt x="9798" y="4688"/>
                </a:cubicBezTo>
                <a:cubicBezTo>
                  <a:pt x="9841" y="4666"/>
                  <a:pt x="9845" y="4666"/>
                  <a:pt x="9897" y="4663"/>
                </a:cubicBezTo>
                <a:cubicBezTo>
                  <a:pt x="9942" y="4661"/>
                  <a:pt x="9956" y="4645"/>
                  <a:pt x="9996" y="4638"/>
                </a:cubicBezTo>
                <a:cubicBezTo>
                  <a:pt x="10089" y="4622"/>
                  <a:pt x="10199" y="4638"/>
                  <a:pt x="10294" y="4638"/>
                </a:cubicBezTo>
                <a:cubicBezTo>
                  <a:pt x="10310" y="4659"/>
                  <a:pt x="10303" y="4667"/>
                  <a:pt x="10319" y="4688"/>
                </a:cubicBezTo>
                <a:cubicBezTo>
                  <a:pt x="10371" y="4697"/>
                  <a:pt x="10341" y="4692"/>
                  <a:pt x="10368" y="4713"/>
                </a:cubicBezTo>
                <a:cubicBezTo>
                  <a:pt x="10385" y="4730"/>
                  <a:pt x="10413" y="4746"/>
                  <a:pt x="10443" y="4762"/>
                </a:cubicBezTo>
                <a:cubicBezTo>
                  <a:pt x="10458" y="4783"/>
                  <a:pt x="10453" y="4791"/>
                  <a:pt x="10468" y="4812"/>
                </a:cubicBezTo>
                <a:cubicBezTo>
                  <a:pt x="10518" y="4820"/>
                  <a:pt x="10491" y="4817"/>
                  <a:pt x="10517" y="4837"/>
                </a:cubicBezTo>
                <a:cubicBezTo>
                  <a:pt x="10538" y="4852"/>
                  <a:pt x="10546" y="4847"/>
                  <a:pt x="10567" y="4862"/>
                </a:cubicBezTo>
                <a:cubicBezTo>
                  <a:pt x="10582" y="4882"/>
                  <a:pt x="10577" y="4891"/>
                  <a:pt x="10592" y="4911"/>
                </a:cubicBezTo>
                <a:cubicBezTo>
                  <a:pt x="10605" y="4934"/>
                  <a:pt x="10609" y="4937"/>
                  <a:pt x="10616" y="4986"/>
                </a:cubicBezTo>
                <a:cubicBezTo>
                  <a:pt x="10631" y="5010"/>
                  <a:pt x="10638" y="5008"/>
                  <a:pt x="10641" y="5060"/>
                </a:cubicBezTo>
                <a:cubicBezTo>
                  <a:pt x="10646" y="5142"/>
                  <a:pt x="10641" y="5226"/>
                  <a:pt x="10641" y="5308"/>
                </a:cubicBezTo>
                <a:cubicBezTo>
                  <a:pt x="10656" y="5332"/>
                  <a:pt x="10662" y="5331"/>
                  <a:pt x="10666" y="5383"/>
                </a:cubicBezTo>
                <a:cubicBezTo>
                  <a:pt x="10666" y="5391"/>
                  <a:pt x="10666" y="5399"/>
                  <a:pt x="10666" y="5407"/>
                </a:cubicBezTo>
              </a:path>
              <a:path w="2010" h="1117">
                <a:moveTo>
                  <a:pt x="8880" y="4862"/>
                </a:moveTo>
                <a:cubicBezTo>
                  <a:pt x="8930" y="4850"/>
                  <a:pt x="8926" y="4826"/>
                  <a:pt x="8954" y="4787"/>
                </a:cubicBezTo>
              </a:path>
              <a:path w="2010" h="1117">
                <a:moveTo>
                  <a:pt x="9054" y="4862"/>
                </a:moveTo>
                <a:cubicBezTo>
                  <a:pt x="9062" y="4862"/>
                  <a:pt x="9071" y="4862"/>
                  <a:pt x="9079" y="4862"/>
                </a:cubicBezTo>
              </a:path>
              <a:path w="2010" h="1117">
                <a:moveTo>
                  <a:pt x="9674" y="4638"/>
                </a:moveTo>
                <a:cubicBezTo>
                  <a:pt x="9699" y="4638"/>
                  <a:pt x="9707" y="4638"/>
                  <a:pt x="9723" y="4638"/>
                </a:cubicBezTo>
              </a:path>
            </a:pathLst>
          </a:custGeom>
          <a:noFill/>
          <a:ln cap="rnd" w="190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3348000" y="5950080"/>
            <a:ext cx="503280" cy="503280"/>
          </a:xfrm>
          <a:prstGeom prst="flowChartSummingJunction">
            <a:avLst/>
          </a:prstGeom>
          <a:solidFill>
            <a:srgbClr val="000000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3456000" y="5950080"/>
            <a:ext cx="588960" cy="446040"/>
          </a:xfrm>
          <a:custGeom>
            <a:avLst/>
            <a:gdLst/>
            <a:ahLst/>
            <a:rect l="l" t="t" r="r" b="b"/>
            <a:pathLst>
              <a:path w="1639" h="1241">
                <a:moveTo>
                  <a:pt x="9674" y="11509"/>
                </a:moveTo>
                <a:cubicBezTo>
                  <a:pt x="9674" y="11549"/>
                  <a:pt x="9664" y="11602"/>
                  <a:pt x="9699" y="11633"/>
                </a:cubicBezTo>
                <a:cubicBezTo>
                  <a:pt x="9707" y="11633"/>
                  <a:pt x="9715" y="11633"/>
                  <a:pt x="9723" y="11633"/>
                </a:cubicBezTo>
                <a:cubicBezTo>
                  <a:pt x="9735" y="11694"/>
                  <a:pt x="9737" y="11708"/>
                  <a:pt x="9798" y="11708"/>
                </a:cubicBezTo>
              </a:path>
              <a:path w="1639" h="1241">
                <a:moveTo>
                  <a:pt x="9624" y="11336"/>
                </a:moveTo>
                <a:cubicBezTo>
                  <a:pt x="9624" y="11485"/>
                  <a:pt x="9624" y="11633"/>
                  <a:pt x="9624" y="11782"/>
                </a:cubicBezTo>
                <a:cubicBezTo>
                  <a:pt x="9687" y="11798"/>
                  <a:pt x="9664" y="11827"/>
                  <a:pt x="9699" y="11881"/>
                </a:cubicBezTo>
                <a:cubicBezTo>
                  <a:pt x="9728" y="11925"/>
                  <a:pt x="9734" y="11930"/>
                  <a:pt x="9773" y="11956"/>
                </a:cubicBezTo>
                <a:cubicBezTo>
                  <a:pt x="9854" y="12010"/>
                  <a:pt x="9908" y="11987"/>
                  <a:pt x="9996" y="12005"/>
                </a:cubicBezTo>
                <a:cubicBezTo>
                  <a:pt x="10066" y="12020"/>
                  <a:pt x="10122" y="12055"/>
                  <a:pt x="10195" y="12055"/>
                </a:cubicBezTo>
                <a:cubicBezTo>
                  <a:pt x="10203" y="12055"/>
                  <a:pt x="10212" y="12055"/>
                  <a:pt x="10220" y="12055"/>
                </a:cubicBezTo>
              </a:path>
              <a:path w="1639" h="1241">
                <a:moveTo>
                  <a:pt x="9773" y="11807"/>
                </a:moveTo>
                <a:cubicBezTo>
                  <a:pt x="9825" y="11837"/>
                  <a:pt x="9863" y="11869"/>
                  <a:pt x="9922" y="11881"/>
                </a:cubicBezTo>
                <a:cubicBezTo>
                  <a:pt x="9964" y="11889"/>
                  <a:pt x="10004" y="11900"/>
                  <a:pt x="10046" y="11906"/>
                </a:cubicBezTo>
                <a:cubicBezTo>
                  <a:pt x="10142" y="11920"/>
                  <a:pt x="10344" y="11933"/>
                  <a:pt x="10418" y="11881"/>
                </a:cubicBezTo>
                <a:cubicBezTo>
                  <a:pt x="10431" y="11872"/>
                  <a:pt x="10483" y="11839"/>
                  <a:pt x="10492" y="11807"/>
                </a:cubicBezTo>
                <a:cubicBezTo>
                  <a:pt x="10513" y="11730"/>
                  <a:pt x="10525" y="11110"/>
                  <a:pt x="10468" y="11088"/>
                </a:cubicBezTo>
                <a:cubicBezTo>
                  <a:pt x="10411" y="11066"/>
                  <a:pt x="10354" y="11080"/>
                  <a:pt x="10294" y="11063"/>
                </a:cubicBezTo>
                <a:cubicBezTo>
                  <a:pt x="10280" y="11059"/>
                  <a:pt x="10221" y="11038"/>
                  <a:pt x="10170" y="11038"/>
                </a:cubicBezTo>
                <a:cubicBezTo>
                  <a:pt x="10078" y="11038"/>
                  <a:pt x="9999" y="11048"/>
                  <a:pt x="9922" y="11063"/>
                </a:cubicBezTo>
                <a:cubicBezTo>
                  <a:pt x="9864" y="11075"/>
                  <a:pt x="9893" y="11099"/>
                  <a:pt x="9847" y="11112"/>
                </a:cubicBezTo>
                <a:cubicBezTo>
                  <a:pt x="9786" y="11129"/>
                  <a:pt x="9820" y="11115"/>
                  <a:pt x="9773" y="11162"/>
                </a:cubicBezTo>
                <a:cubicBezTo>
                  <a:pt x="9743" y="11192"/>
                  <a:pt x="9740" y="11226"/>
                  <a:pt x="9723" y="11261"/>
                </a:cubicBezTo>
                <a:cubicBezTo>
                  <a:pt x="9707" y="11294"/>
                  <a:pt x="9701" y="11321"/>
                  <a:pt x="9699" y="11361"/>
                </a:cubicBezTo>
                <a:cubicBezTo>
                  <a:pt x="9695" y="11427"/>
                  <a:pt x="9685" y="11480"/>
                  <a:pt x="9674" y="11534"/>
                </a:cubicBezTo>
                <a:cubicBezTo>
                  <a:pt x="9674" y="11576"/>
                  <a:pt x="9674" y="11584"/>
                  <a:pt x="9674" y="11609"/>
                </a:cubicBezTo>
                <a:cubicBezTo>
                  <a:pt x="9679" y="11551"/>
                  <a:pt x="9667" y="11530"/>
                  <a:pt x="9699" y="11485"/>
                </a:cubicBezTo>
                <a:cubicBezTo>
                  <a:pt x="9724" y="11450"/>
                  <a:pt x="9734" y="11404"/>
                  <a:pt x="9748" y="11385"/>
                </a:cubicBezTo>
                <a:cubicBezTo>
                  <a:pt x="9774" y="11348"/>
                  <a:pt x="9804" y="11312"/>
                  <a:pt x="9823" y="11286"/>
                </a:cubicBezTo>
                <a:cubicBezTo>
                  <a:pt x="9841" y="11262"/>
                  <a:pt x="9856" y="11228"/>
                  <a:pt x="9872" y="11212"/>
                </a:cubicBezTo>
                <a:cubicBezTo>
                  <a:pt x="9918" y="11166"/>
                  <a:pt x="9997" y="11192"/>
                  <a:pt x="10046" y="11162"/>
                </a:cubicBezTo>
                <a:cubicBezTo>
                  <a:pt x="10074" y="11145"/>
                  <a:pt x="10130" y="11108"/>
                  <a:pt x="10170" y="11088"/>
                </a:cubicBezTo>
                <a:cubicBezTo>
                  <a:pt x="10203" y="11088"/>
                  <a:pt x="10203" y="11088"/>
                  <a:pt x="10145" y="11088"/>
                </a:cubicBezTo>
                <a:cubicBezTo>
                  <a:pt x="10073" y="11088"/>
                  <a:pt x="9894" y="11051"/>
                  <a:pt x="9847" y="11112"/>
                </a:cubicBezTo>
                <a:cubicBezTo>
                  <a:pt x="9822" y="11145"/>
                  <a:pt x="9816" y="11202"/>
                  <a:pt x="9798" y="11237"/>
                </a:cubicBezTo>
                <a:cubicBezTo>
                  <a:pt x="9778" y="11277"/>
                  <a:pt x="9765" y="11324"/>
                  <a:pt x="9748" y="11361"/>
                </a:cubicBezTo>
                <a:cubicBezTo>
                  <a:pt x="9737" y="11385"/>
                  <a:pt x="9699" y="11459"/>
                  <a:pt x="9699" y="11460"/>
                </a:cubicBezTo>
                <a:cubicBezTo>
                  <a:pt x="9676" y="11563"/>
                  <a:pt x="9706" y="11693"/>
                  <a:pt x="9723" y="11782"/>
                </a:cubicBezTo>
                <a:cubicBezTo>
                  <a:pt x="9732" y="11828"/>
                  <a:pt x="9766" y="11839"/>
                  <a:pt x="9773" y="11857"/>
                </a:cubicBezTo>
                <a:cubicBezTo>
                  <a:pt x="9796" y="11913"/>
                  <a:pt x="9778" y="11894"/>
                  <a:pt x="9823" y="11956"/>
                </a:cubicBezTo>
                <a:cubicBezTo>
                  <a:pt x="9843" y="11984"/>
                  <a:pt x="9892" y="12022"/>
                  <a:pt x="9922" y="12030"/>
                </a:cubicBezTo>
                <a:cubicBezTo>
                  <a:pt x="10018" y="12056"/>
                  <a:pt x="10276" y="12054"/>
                  <a:pt x="10344" y="12005"/>
                </a:cubicBezTo>
                <a:cubicBezTo>
                  <a:pt x="10392" y="11971"/>
                  <a:pt x="10409" y="11968"/>
                  <a:pt x="10443" y="11931"/>
                </a:cubicBezTo>
                <a:cubicBezTo>
                  <a:pt x="10459" y="11914"/>
                  <a:pt x="10511" y="11828"/>
                  <a:pt x="10517" y="11807"/>
                </a:cubicBezTo>
                <a:cubicBezTo>
                  <a:pt x="10549" y="11693"/>
                  <a:pt x="10507" y="11486"/>
                  <a:pt x="10492" y="11410"/>
                </a:cubicBezTo>
                <a:cubicBezTo>
                  <a:pt x="10482" y="11362"/>
                  <a:pt x="10475" y="11335"/>
                  <a:pt x="10468" y="11286"/>
                </a:cubicBezTo>
                <a:cubicBezTo>
                  <a:pt x="10460" y="11236"/>
                  <a:pt x="10469" y="11231"/>
                  <a:pt x="10443" y="11187"/>
                </a:cubicBezTo>
                <a:cubicBezTo>
                  <a:pt x="10443" y="11162"/>
                  <a:pt x="10443" y="11154"/>
                  <a:pt x="10443" y="11187"/>
                </a:cubicBezTo>
                <a:cubicBezTo>
                  <a:pt x="10491" y="11215"/>
                  <a:pt x="10555" y="11248"/>
                  <a:pt x="10567" y="11311"/>
                </a:cubicBezTo>
                <a:cubicBezTo>
                  <a:pt x="10585" y="11410"/>
                  <a:pt x="10567" y="11532"/>
                  <a:pt x="10567" y="11633"/>
                </a:cubicBezTo>
                <a:cubicBezTo>
                  <a:pt x="10567" y="11715"/>
                  <a:pt x="10567" y="11659"/>
                  <a:pt x="10567" y="11609"/>
                </a:cubicBezTo>
                <a:cubicBezTo>
                  <a:pt x="10567" y="11554"/>
                  <a:pt x="10567" y="11554"/>
                  <a:pt x="10567" y="11609"/>
                </a:cubicBezTo>
                <a:cubicBezTo>
                  <a:pt x="10567" y="11646"/>
                  <a:pt x="10543" y="11680"/>
                  <a:pt x="10542" y="11683"/>
                </a:cubicBezTo>
                <a:cubicBezTo>
                  <a:pt x="10532" y="11733"/>
                  <a:pt x="10540" y="11737"/>
                  <a:pt x="10517" y="11782"/>
                </a:cubicBezTo>
                <a:cubicBezTo>
                  <a:pt x="10501" y="11815"/>
                  <a:pt x="10490" y="11828"/>
                  <a:pt x="10468" y="11857"/>
                </a:cubicBezTo>
                <a:cubicBezTo>
                  <a:pt x="10453" y="11877"/>
                  <a:pt x="10452" y="11909"/>
                  <a:pt x="10418" y="11931"/>
                </a:cubicBezTo>
                <a:cubicBezTo>
                  <a:pt x="10380" y="11956"/>
                  <a:pt x="10344" y="11978"/>
                  <a:pt x="10294" y="11981"/>
                </a:cubicBezTo>
                <a:cubicBezTo>
                  <a:pt x="10165" y="11989"/>
                  <a:pt x="10046" y="11970"/>
                  <a:pt x="9922" y="11956"/>
                </a:cubicBezTo>
                <a:cubicBezTo>
                  <a:pt x="9871" y="11950"/>
                  <a:pt x="9796" y="11950"/>
                  <a:pt x="9748" y="11931"/>
                </a:cubicBezTo>
                <a:cubicBezTo>
                  <a:pt x="9728" y="11923"/>
                  <a:pt x="9715" y="11858"/>
                  <a:pt x="9699" y="11832"/>
                </a:cubicBezTo>
                <a:cubicBezTo>
                  <a:pt x="9690" y="11817"/>
                  <a:pt x="9663" y="11774"/>
                  <a:pt x="9649" y="11757"/>
                </a:cubicBezTo>
                <a:cubicBezTo>
                  <a:pt x="9623" y="11725"/>
                  <a:pt x="9606" y="11672"/>
                  <a:pt x="9599" y="11633"/>
                </a:cubicBezTo>
                <a:cubicBezTo>
                  <a:pt x="9590" y="11579"/>
                  <a:pt x="9599" y="11515"/>
                  <a:pt x="9599" y="11460"/>
                </a:cubicBezTo>
              </a:path>
              <a:path w="1639" h="1241">
                <a:moveTo>
                  <a:pt x="10244" y="11137"/>
                </a:moveTo>
                <a:cubicBezTo>
                  <a:pt x="10333" y="11194"/>
                  <a:pt x="10444" y="11256"/>
                  <a:pt x="10542" y="11286"/>
                </a:cubicBezTo>
                <a:cubicBezTo>
                  <a:pt x="10611" y="11307"/>
                  <a:pt x="10612" y="11310"/>
                  <a:pt x="10616" y="11385"/>
                </a:cubicBezTo>
                <a:cubicBezTo>
                  <a:pt x="10618" y="11418"/>
                  <a:pt x="10616" y="11452"/>
                  <a:pt x="10616" y="11485"/>
                </a:cubicBezTo>
                <a:cubicBezTo>
                  <a:pt x="10570" y="11438"/>
                  <a:pt x="10523" y="11394"/>
                  <a:pt x="10468" y="11361"/>
                </a:cubicBezTo>
                <a:cubicBezTo>
                  <a:pt x="10431" y="11339"/>
                  <a:pt x="10370" y="11270"/>
                  <a:pt x="10344" y="11261"/>
                </a:cubicBezTo>
                <a:cubicBezTo>
                  <a:pt x="10289" y="11243"/>
                  <a:pt x="10278" y="11243"/>
                  <a:pt x="10220" y="11212"/>
                </a:cubicBezTo>
                <a:cubicBezTo>
                  <a:pt x="10188" y="11195"/>
                  <a:pt x="10159" y="11189"/>
                  <a:pt x="10120" y="11187"/>
                </a:cubicBezTo>
                <a:cubicBezTo>
                  <a:pt x="10071" y="11184"/>
                  <a:pt x="10020" y="11187"/>
                  <a:pt x="9971" y="11187"/>
                </a:cubicBezTo>
                <a:cubicBezTo>
                  <a:pt x="10020" y="11187"/>
                  <a:pt x="10022" y="11187"/>
                  <a:pt x="10071" y="11187"/>
                </a:cubicBezTo>
                <a:cubicBezTo>
                  <a:pt x="10184" y="11187"/>
                  <a:pt x="10204" y="11196"/>
                  <a:pt x="10294" y="11237"/>
                </a:cubicBezTo>
                <a:cubicBezTo>
                  <a:pt x="10360" y="11267"/>
                  <a:pt x="10401" y="11265"/>
                  <a:pt x="10418" y="11336"/>
                </a:cubicBezTo>
                <a:cubicBezTo>
                  <a:pt x="10447" y="11460"/>
                  <a:pt x="10437" y="11775"/>
                  <a:pt x="10393" y="11857"/>
                </a:cubicBezTo>
                <a:cubicBezTo>
                  <a:pt x="10374" y="11892"/>
                  <a:pt x="10381" y="11920"/>
                  <a:pt x="10344" y="11931"/>
                </a:cubicBezTo>
                <a:cubicBezTo>
                  <a:pt x="10295" y="11945"/>
                  <a:pt x="10273" y="11932"/>
                  <a:pt x="10220" y="11956"/>
                </a:cubicBezTo>
                <a:cubicBezTo>
                  <a:pt x="10167" y="11980"/>
                  <a:pt x="10151" y="11979"/>
                  <a:pt x="10096" y="11981"/>
                </a:cubicBezTo>
                <a:cubicBezTo>
                  <a:pt x="10038" y="11983"/>
                  <a:pt x="9980" y="11981"/>
                  <a:pt x="9922" y="11981"/>
                </a:cubicBezTo>
                <a:cubicBezTo>
                  <a:pt x="9939" y="11920"/>
                  <a:pt x="9924" y="11953"/>
                  <a:pt x="9971" y="11906"/>
                </a:cubicBezTo>
                <a:cubicBezTo>
                  <a:pt x="10015" y="11862"/>
                  <a:pt x="10014" y="11895"/>
                  <a:pt x="10021" y="11832"/>
                </a:cubicBezTo>
                <a:cubicBezTo>
                  <a:pt x="10046" y="11619"/>
                  <a:pt x="10021" y="11249"/>
                  <a:pt x="10021" y="11112"/>
                </a:cubicBezTo>
                <a:cubicBezTo>
                  <a:pt x="10047" y="11164"/>
                  <a:pt x="10046" y="11194"/>
                  <a:pt x="10046" y="11261"/>
                </a:cubicBezTo>
                <a:cubicBezTo>
                  <a:pt x="10046" y="11534"/>
                  <a:pt x="10193" y="12260"/>
                  <a:pt x="10046" y="12030"/>
                </a:cubicBezTo>
                <a:cubicBezTo>
                  <a:pt x="10025" y="11997"/>
                  <a:pt x="10004" y="11965"/>
                  <a:pt x="9971" y="11931"/>
                </a:cubicBezTo>
                <a:cubicBezTo>
                  <a:pt x="9952" y="11912"/>
                  <a:pt x="9958" y="11880"/>
                  <a:pt x="9922" y="11857"/>
                </a:cubicBezTo>
                <a:cubicBezTo>
                  <a:pt x="9885" y="11833"/>
                  <a:pt x="9883" y="11808"/>
                  <a:pt x="9847" y="11782"/>
                </a:cubicBezTo>
                <a:cubicBezTo>
                  <a:pt x="9819" y="11782"/>
                  <a:pt x="9809" y="11779"/>
                  <a:pt x="9798" y="11757"/>
                </a:cubicBezTo>
              </a:path>
              <a:path w="1639" h="1241">
                <a:moveTo>
                  <a:pt x="9699" y="11559"/>
                </a:moveTo>
                <a:cubicBezTo>
                  <a:pt x="9866" y="11559"/>
                  <a:pt x="10044" y="11557"/>
                  <a:pt x="10195" y="11534"/>
                </a:cubicBezTo>
                <a:cubicBezTo>
                  <a:pt x="10260" y="11524"/>
                  <a:pt x="10563" y="11559"/>
                  <a:pt x="10468" y="11534"/>
                </a:cubicBezTo>
                <a:cubicBezTo>
                  <a:pt x="10382" y="11511"/>
                  <a:pt x="10336" y="11487"/>
                  <a:pt x="10269" y="11435"/>
                </a:cubicBezTo>
              </a:path>
              <a:path w="1639" h="1241">
                <a:moveTo>
                  <a:pt x="10170" y="11137"/>
                </a:moveTo>
                <a:cubicBezTo>
                  <a:pt x="10170" y="11443"/>
                  <a:pt x="10170" y="11749"/>
                  <a:pt x="10170" y="12055"/>
                </a:cubicBezTo>
              </a:path>
              <a:path w="1639" h="1241">
                <a:moveTo>
                  <a:pt x="11237" y="11187"/>
                </a:moveTo>
                <a:lnTo>
                  <a:pt x="11237" y="11187"/>
                </a:lnTo>
              </a:path>
              <a:path w="1639" h="1241">
                <a:moveTo>
                  <a:pt x="11237" y="11112"/>
                </a:moveTo>
                <a:lnTo>
                  <a:pt x="11237" y="11112"/>
                </a:lnTo>
                <a:lnTo>
                  <a:pt x="11237" y="11112"/>
                </a:lnTo>
              </a:path>
              <a:path w="1639" h="1241">
                <a:moveTo>
                  <a:pt x="11212" y="11063"/>
                </a:moveTo>
                <a:cubicBezTo>
                  <a:pt x="11212" y="11055"/>
                  <a:pt x="11212" y="11046"/>
                  <a:pt x="11212" y="11038"/>
                </a:cubicBezTo>
              </a:path>
              <a:path w="1639" h="1241">
                <a:moveTo>
                  <a:pt x="11212" y="10815"/>
                </a:moveTo>
                <a:lnTo>
                  <a:pt x="11212" y="10815"/>
                </a:lnTo>
              </a:path>
              <a:path w="1639" h="1241">
                <a:moveTo>
                  <a:pt x="11137" y="10840"/>
                </a:moveTo>
                <a:cubicBezTo>
                  <a:pt x="11137" y="10864"/>
                  <a:pt x="11137" y="10873"/>
                  <a:pt x="11137" y="10889"/>
                </a:cubicBezTo>
              </a:path>
              <a:path w="1639" h="1241">
                <a:moveTo>
                  <a:pt x="11088" y="11137"/>
                </a:moveTo>
                <a:cubicBezTo>
                  <a:pt x="11088" y="11145"/>
                  <a:pt x="11088" y="11154"/>
                  <a:pt x="11088" y="11162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3564000" y="3668760"/>
            <a:ext cx="2668680" cy="1055520"/>
          </a:xfrm>
          <a:custGeom>
            <a:avLst/>
            <a:gdLst/>
            <a:ahLst/>
            <a:rect l="l" t="t" r="r" b="b"/>
            <a:pathLst>
              <a:path w="1681" h="665">
                <a:moveTo>
                  <a:pt x="281" y="594"/>
                </a:moveTo>
                <a:cubicBezTo>
                  <a:pt x="335" y="576"/>
                  <a:pt x="271" y="593"/>
                  <a:pt x="337" y="594"/>
                </a:cubicBezTo>
                <a:cubicBezTo>
                  <a:pt x="582" y="599"/>
                  <a:pt x="828" y="599"/>
                  <a:pt x="1073" y="602"/>
                </a:cubicBezTo>
                <a:cubicBezTo>
                  <a:pt x="979" y="665"/>
                  <a:pt x="834" y="621"/>
                  <a:pt x="729" y="586"/>
                </a:cubicBezTo>
                <a:cubicBezTo>
                  <a:pt x="687" y="587"/>
                  <a:pt x="386" y="538"/>
                  <a:pt x="265" y="618"/>
                </a:cubicBezTo>
                <a:cubicBezTo>
                  <a:pt x="198" y="596"/>
                  <a:pt x="222" y="513"/>
                  <a:pt x="209" y="458"/>
                </a:cubicBezTo>
                <a:cubicBezTo>
                  <a:pt x="198" y="409"/>
                  <a:pt x="70" y="393"/>
                  <a:pt x="33" y="386"/>
                </a:cubicBezTo>
                <a:cubicBezTo>
                  <a:pt x="17" y="338"/>
                  <a:pt x="0" y="323"/>
                  <a:pt x="49" y="290"/>
                </a:cubicBezTo>
                <a:cubicBezTo>
                  <a:pt x="57" y="295"/>
                  <a:pt x="69" y="297"/>
                  <a:pt x="73" y="306"/>
                </a:cubicBezTo>
                <a:cubicBezTo>
                  <a:pt x="76" y="314"/>
                  <a:pt x="73" y="330"/>
                  <a:pt x="65" y="330"/>
                </a:cubicBezTo>
                <a:cubicBezTo>
                  <a:pt x="57" y="330"/>
                  <a:pt x="60" y="314"/>
                  <a:pt x="57" y="306"/>
                </a:cubicBezTo>
                <a:cubicBezTo>
                  <a:pt x="63" y="303"/>
                  <a:pt x="101" y="282"/>
                  <a:pt x="113" y="282"/>
                </a:cubicBezTo>
                <a:cubicBezTo>
                  <a:pt x="161" y="282"/>
                  <a:pt x="198" y="308"/>
                  <a:pt x="241" y="322"/>
                </a:cubicBezTo>
                <a:cubicBezTo>
                  <a:pt x="218" y="288"/>
                  <a:pt x="232" y="271"/>
                  <a:pt x="193" y="258"/>
                </a:cubicBezTo>
                <a:cubicBezTo>
                  <a:pt x="190" y="266"/>
                  <a:pt x="179" y="288"/>
                  <a:pt x="185" y="282"/>
                </a:cubicBezTo>
                <a:cubicBezTo>
                  <a:pt x="193" y="274"/>
                  <a:pt x="203" y="262"/>
                  <a:pt x="201" y="250"/>
                </a:cubicBezTo>
                <a:cubicBezTo>
                  <a:pt x="199" y="242"/>
                  <a:pt x="185" y="245"/>
                  <a:pt x="177" y="242"/>
                </a:cubicBezTo>
                <a:cubicBezTo>
                  <a:pt x="164" y="282"/>
                  <a:pt x="172" y="287"/>
                  <a:pt x="209" y="306"/>
                </a:cubicBezTo>
                <a:cubicBezTo>
                  <a:pt x="560" y="293"/>
                  <a:pt x="438" y="296"/>
                  <a:pt x="313" y="282"/>
                </a:cubicBezTo>
                <a:cubicBezTo>
                  <a:pt x="164" y="245"/>
                  <a:pt x="164" y="264"/>
                  <a:pt x="593" y="274"/>
                </a:cubicBezTo>
                <a:cubicBezTo>
                  <a:pt x="596" y="295"/>
                  <a:pt x="590" y="319"/>
                  <a:pt x="601" y="338"/>
                </a:cubicBezTo>
                <a:cubicBezTo>
                  <a:pt x="613" y="359"/>
                  <a:pt x="642" y="306"/>
                  <a:pt x="633" y="306"/>
                </a:cubicBezTo>
                <a:cubicBezTo>
                  <a:pt x="623" y="306"/>
                  <a:pt x="608" y="326"/>
                  <a:pt x="617" y="330"/>
                </a:cubicBezTo>
                <a:cubicBezTo>
                  <a:pt x="630" y="337"/>
                  <a:pt x="672" y="319"/>
                  <a:pt x="689" y="314"/>
                </a:cubicBezTo>
                <a:cubicBezTo>
                  <a:pt x="752" y="296"/>
                  <a:pt x="815" y="295"/>
                  <a:pt x="881" y="290"/>
                </a:cubicBezTo>
                <a:cubicBezTo>
                  <a:pt x="897" y="285"/>
                  <a:pt x="941" y="286"/>
                  <a:pt x="929" y="274"/>
                </a:cubicBezTo>
                <a:cubicBezTo>
                  <a:pt x="921" y="266"/>
                  <a:pt x="914" y="256"/>
                  <a:pt x="905" y="250"/>
                </a:cubicBezTo>
                <a:cubicBezTo>
                  <a:pt x="898" y="245"/>
                  <a:pt x="873" y="242"/>
                  <a:pt x="881" y="242"/>
                </a:cubicBezTo>
                <a:cubicBezTo>
                  <a:pt x="891" y="242"/>
                  <a:pt x="926" y="254"/>
                  <a:pt x="937" y="258"/>
                </a:cubicBezTo>
                <a:cubicBezTo>
                  <a:pt x="945" y="330"/>
                  <a:pt x="930" y="408"/>
                  <a:pt x="961" y="474"/>
                </a:cubicBezTo>
                <a:cubicBezTo>
                  <a:pt x="972" y="498"/>
                  <a:pt x="1016" y="473"/>
                  <a:pt x="1041" y="482"/>
                </a:cubicBezTo>
                <a:cubicBezTo>
                  <a:pt x="1049" y="485"/>
                  <a:pt x="1044" y="499"/>
                  <a:pt x="1049" y="506"/>
                </a:cubicBezTo>
                <a:cubicBezTo>
                  <a:pt x="1066" y="532"/>
                  <a:pt x="1072" y="530"/>
                  <a:pt x="1097" y="538"/>
                </a:cubicBezTo>
                <a:cubicBezTo>
                  <a:pt x="1133" y="484"/>
                  <a:pt x="1093" y="551"/>
                  <a:pt x="1121" y="450"/>
                </a:cubicBezTo>
                <a:cubicBezTo>
                  <a:pt x="1139" y="382"/>
                  <a:pt x="1257" y="396"/>
                  <a:pt x="1305" y="386"/>
                </a:cubicBezTo>
                <a:cubicBezTo>
                  <a:pt x="1353" y="389"/>
                  <a:pt x="1403" y="379"/>
                  <a:pt x="1449" y="394"/>
                </a:cubicBezTo>
                <a:cubicBezTo>
                  <a:pt x="1462" y="398"/>
                  <a:pt x="1437" y="420"/>
                  <a:pt x="1425" y="426"/>
                </a:cubicBezTo>
                <a:cubicBezTo>
                  <a:pt x="1408" y="434"/>
                  <a:pt x="1388" y="431"/>
                  <a:pt x="1369" y="434"/>
                </a:cubicBezTo>
                <a:cubicBezTo>
                  <a:pt x="1393" y="458"/>
                  <a:pt x="1409" y="471"/>
                  <a:pt x="1441" y="482"/>
                </a:cubicBezTo>
                <a:cubicBezTo>
                  <a:pt x="1432" y="510"/>
                  <a:pt x="1406" y="558"/>
                  <a:pt x="1457" y="570"/>
                </a:cubicBezTo>
                <a:cubicBezTo>
                  <a:pt x="1483" y="576"/>
                  <a:pt x="1510" y="575"/>
                  <a:pt x="1537" y="578"/>
                </a:cubicBezTo>
                <a:cubicBezTo>
                  <a:pt x="1564" y="575"/>
                  <a:pt x="1593" y="582"/>
                  <a:pt x="1617" y="570"/>
                </a:cubicBezTo>
                <a:cubicBezTo>
                  <a:pt x="1634" y="561"/>
                  <a:pt x="1649" y="522"/>
                  <a:pt x="1649" y="522"/>
                </a:cubicBezTo>
                <a:cubicBezTo>
                  <a:pt x="1637" y="451"/>
                  <a:pt x="1654" y="375"/>
                  <a:pt x="1633" y="306"/>
                </a:cubicBezTo>
                <a:cubicBezTo>
                  <a:pt x="1628" y="290"/>
                  <a:pt x="1585" y="290"/>
                  <a:pt x="1585" y="290"/>
                </a:cubicBezTo>
                <a:cubicBezTo>
                  <a:pt x="1582" y="247"/>
                  <a:pt x="1591" y="202"/>
                  <a:pt x="1577" y="162"/>
                </a:cubicBezTo>
                <a:cubicBezTo>
                  <a:pt x="1573" y="151"/>
                  <a:pt x="1557" y="178"/>
                  <a:pt x="1545" y="178"/>
                </a:cubicBezTo>
                <a:cubicBezTo>
                  <a:pt x="1436" y="180"/>
                  <a:pt x="1326" y="173"/>
                  <a:pt x="1217" y="170"/>
                </a:cubicBezTo>
                <a:cubicBezTo>
                  <a:pt x="1200" y="120"/>
                  <a:pt x="1189" y="95"/>
                  <a:pt x="1217" y="26"/>
                </a:cubicBezTo>
                <a:cubicBezTo>
                  <a:pt x="1223" y="10"/>
                  <a:pt x="1265" y="10"/>
                  <a:pt x="1265" y="10"/>
                </a:cubicBezTo>
                <a:cubicBezTo>
                  <a:pt x="1292" y="13"/>
                  <a:pt x="1318" y="15"/>
                  <a:pt x="1345" y="18"/>
                </a:cubicBezTo>
                <a:cubicBezTo>
                  <a:pt x="1388" y="23"/>
                  <a:pt x="1473" y="34"/>
                  <a:pt x="1473" y="34"/>
                </a:cubicBezTo>
                <a:cubicBezTo>
                  <a:pt x="1519" y="49"/>
                  <a:pt x="1532" y="39"/>
                  <a:pt x="1545" y="90"/>
                </a:cubicBezTo>
                <a:cubicBezTo>
                  <a:pt x="1551" y="159"/>
                  <a:pt x="1570" y="210"/>
                  <a:pt x="1497" y="234"/>
                </a:cubicBezTo>
                <a:cubicBezTo>
                  <a:pt x="1269" y="219"/>
                  <a:pt x="1259" y="280"/>
                  <a:pt x="1209" y="130"/>
                </a:cubicBezTo>
                <a:cubicBezTo>
                  <a:pt x="1201" y="133"/>
                  <a:pt x="1192" y="133"/>
                  <a:pt x="1185" y="138"/>
                </a:cubicBezTo>
                <a:cubicBezTo>
                  <a:pt x="1177" y="144"/>
                  <a:pt x="1173" y="153"/>
                  <a:pt x="1169" y="162"/>
                </a:cubicBezTo>
                <a:cubicBezTo>
                  <a:pt x="1165" y="170"/>
                  <a:pt x="1157" y="194"/>
                  <a:pt x="1161" y="186"/>
                </a:cubicBezTo>
                <a:cubicBezTo>
                  <a:pt x="1167" y="173"/>
                  <a:pt x="1172" y="159"/>
                  <a:pt x="1177" y="146"/>
                </a:cubicBezTo>
                <a:cubicBezTo>
                  <a:pt x="1215" y="159"/>
                  <a:pt x="1207" y="182"/>
                  <a:pt x="1225" y="218"/>
                </a:cubicBezTo>
                <a:cubicBezTo>
                  <a:pt x="1217" y="221"/>
                  <a:pt x="1206" y="219"/>
                  <a:pt x="1201" y="226"/>
                </a:cubicBezTo>
                <a:cubicBezTo>
                  <a:pt x="1194" y="235"/>
                  <a:pt x="1193" y="247"/>
                  <a:pt x="1193" y="258"/>
                </a:cubicBezTo>
                <a:cubicBezTo>
                  <a:pt x="1193" y="266"/>
                  <a:pt x="1198" y="242"/>
                  <a:pt x="1201" y="234"/>
                </a:cubicBezTo>
                <a:cubicBezTo>
                  <a:pt x="1114" y="217"/>
                  <a:pt x="1024" y="228"/>
                  <a:pt x="937" y="210"/>
                </a:cubicBezTo>
                <a:cubicBezTo>
                  <a:pt x="926" y="208"/>
                  <a:pt x="933" y="188"/>
                  <a:pt x="929" y="178"/>
                </a:cubicBezTo>
                <a:cubicBezTo>
                  <a:pt x="870" y="20"/>
                  <a:pt x="945" y="241"/>
                  <a:pt x="905" y="122"/>
                </a:cubicBezTo>
                <a:cubicBezTo>
                  <a:pt x="890" y="15"/>
                  <a:pt x="902" y="71"/>
                  <a:pt x="889" y="186"/>
                </a:cubicBezTo>
                <a:cubicBezTo>
                  <a:pt x="885" y="224"/>
                  <a:pt x="857" y="234"/>
                  <a:pt x="825" y="242"/>
                </a:cubicBezTo>
                <a:cubicBezTo>
                  <a:pt x="764" y="237"/>
                  <a:pt x="699" y="247"/>
                  <a:pt x="641" y="226"/>
                </a:cubicBezTo>
                <a:cubicBezTo>
                  <a:pt x="633" y="223"/>
                  <a:pt x="637" y="209"/>
                  <a:pt x="633" y="202"/>
                </a:cubicBezTo>
                <a:cubicBezTo>
                  <a:pt x="624" y="185"/>
                  <a:pt x="607" y="172"/>
                  <a:pt x="601" y="154"/>
                </a:cubicBezTo>
                <a:cubicBezTo>
                  <a:pt x="596" y="138"/>
                  <a:pt x="585" y="106"/>
                  <a:pt x="585" y="106"/>
                </a:cubicBezTo>
                <a:cubicBezTo>
                  <a:pt x="588" y="77"/>
                  <a:pt x="584" y="46"/>
                  <a:pt x="593" y="18"/>
                </a:cubicBezTo>
                <a:cubicBezTo>
                  <a:pt x="596" y="9"/>
                  <a:pt x="607" y="2"/>
                  <a:pt x="617" y="2"/>
                </a:cubicBezTo>
                <a:cubicBezTo>
                  <a:pt x="654" y="0"/>
                  <a:pt x="852" y="14"/>
                  <a:pt x="905" y="18"/>
                </a:cubicBezTo>
                <a:cubicBezTo>
                  <a:pt x="910" y="101"/>
                  <a:pt x="854" y="218"/>
                  <a:pt x="921" y="266"/>
                </a:cubicBezTo>
                <a:cubicBezTo>
                  <a:pt x="993" y="318"/>
                  <a:pt x="1218" y="257"/>
                  <a:pt x="1337" y="242"/>
                </a:cubicBezTo>
                <a:cubicBezTo>
                  <a:pt x="1412" y="247"/>
                  <a:pt x="1487" y="249"/>
                  <a:pt x="1561" y="258"/>
                </a:cubicBezTo>
                <a:cubicBezTo>
                  <a:pt x="1572" y="259"/>
                  <a:pt x="1539" y="262"/>
                  <a:pt x="1529" y="266"/>
                </a:cubicBezTo>
                <a:cubicBezTo>
                  <a:pt x="1520" y="270"/>
                  <a:pt x="1513" y="277"/>
                  <a:pt x="1505" y="282"/>
                </a:cubicBezTo>
                <a:cubicBezTo>
                  <a:pt x="1546" y="303"/>
                  <a:pt x="1567" y="288"/>
                  <a:pt x="1553" y="330"/>
                </a:cubicBezTo>
                <a:cubicBezTo>
                  <a:pt x="1561" y="333"/>
                  <a:pt x="1573" y="330"/>
                  <a:pt x="1577" y="338"/>
                </a:cubicBezTo>
                <a:cubicBezTo>
                  <a:pt x="1581" y="346"/>
                  <a:pt x="1565" y="354"/>
                  <a:pt x="1569" y="362"/>
                </a:cubicBezTo>
                <a:cubicBezTo>
                  <a:pt x="1573" y="370"/>
                  <a:pt x="1585" y="367"/>
                  <a:pt x="1593" y="370"/>
                </a:cubicBezTo>
                <a:cubicBezTo>
                  <a:pt x="1581" y="406"/>
                  <a:pt x="1556" y="419"/>
                  <a:pt x="1601" y="434"/>
                </a:cubicBezTo>
                <a:cubicBezTo>
                  <a:pt x="1586" y="479"/>
                  <a:pt x="1584" y="525"/>
                  <a:pt x="1569" y="570"/>
                </a:cubicBezTo>
                <a:cubicBezTo>
                  <a:pt x="1577" y="575"/>
                  <a:pt x="1603" y="586"/>
                  <a:pt x="1593" y="586"/>
                </a:cubicBezTo>
                <a:cubicBezTo>
                  <a:pt x="1576" y="586"/>
                  <a:pt x="1545" y="570"/>
                  <a:pt x="1545" y="570"/>
                </a:cubicBezTo>
                <a:cubicBezTo>
                  <a:pt x="1529" y="573"/>
                  <a:pt x="1508" y="567"/>
                  <a:pt x="1497" y="578"/>
                </a:cubicBezTo>
                <a:cubicBezTo>
                  <a:pt x="1489" y="586"/>
                  <a:pt x="1519" y="582"/>
                  <a:pt x="1529" y="586"/>
                </a:cubicBezTo>
                <a:cubicBezTo>
                  <a:pt x="1540" y="590"/>
                  <a:pt x="1550" y="598"/>
                  <a:pt x="1561" y="602"/>
                </a:cubicBezTo>
                <a:cubicBezTo>
                  <a:pt x="1597" y="615"/>
                  <a:pt x="1621" y="619"/>
                  <a:pt x="1657" y="626"/>
                </a:cubicBezTo>
                <a:cubicBezTo>
                  <a:pt x="1665" y="623"/>
                  <a:pt x="1681" y="618"/>
                  <a:pt x="1681" y="618"/>
                </a:cubicBezTo>
              </a:path>
            </a:pathLst>
          </a:custGeom>
          <a:noFill/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5292720" y="602136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5313240" y="6067440"/>
            <a:ext cx="384120" cy="385920"/>
          </a:xfrm>
          <a:custGeom>
            <a:avLst/>
            <a:gdLst/>
            <a:ahLst/>
            <a:rect l="l" t="t" r="r" b="b"/>
            <a:pathLst>
              <a:path w="1067" h="1068">
                <a:moveTo>
                  <a:pt x="15255" y="11088"/>
                </a:moveTo>
                <a:cubicBezTo>
                  <a:pt x="15194" y="11088"/>
                  <a:pt x="15128" y="11075"/>
                  <a:pt x="15081" y="11112"/>
                </a:cubicBezTo>
                <a:cubicBezTo>
                  <a:pt x="15066" y="11124"/>
                  <a:pt x="15048" y="11165"/>
                  <a:pt x="15032" y="11187"/>
                </a:cubicBezTo>
                <a:cubicBezTo>
                  <a:pt x="15025" y="11196"/>
                  <a:pt x="14986" y="11232"/>
                  <a:pt x="14982" y="11261"/>
                </a:cubicBezTo>
                <a:cubicBezTo>
                  <a:pt x="14975" y="11309"/>
                  <a:pt x="14964" y="11343"/>
                  <a:pt x="14957" y="11385"/>
                </a:cubicBezTo>
                <a:cubicBezTo>
                  <a:pt x="14937" y="11505"/>
                  <a:pt x="14929" y="11758"/>
                  <a:pt x="14982" y="11857"/>
                </a:cubicBezTo>
                <a:cubicBezTo>
                  <a:pt x="15015" y="11919"/>
                  <a:pt x="15029" y="11902"/>
                  <a:pt x="15081" y="11931"/>
                </a:cubicBezTo>
                <a:cubicBezTo>
                  <a:pt x="15112" y="11948"/>
                  <a:pt x="15141" y="11954"/>
                  <a:pt x="15180" y="11956"/>
                </a:cubicBezTo>
                <a:cubicBezTo>
                  <a:pt x="15298" y="11963"/>
                  <a:pt x="15569" y="11998"/>
                  <a:pt x="15652" y="11931"/>
                </a:cubicBezTo>
                <a:cubicBezTo>
                  <a:pt x="15663" y="11922"/>
                  <a:pt x="15717" y="11887"/>
                  <a:pt x="15726" y="11857"/>
                </a:cubicBezTo>
                <a:cubicBezTo>
                  <a:pt x="15784" y="11655"/>
                  <a:pt x="15726" y="11350"/>
                  <a:pt x="15726" y="11137"/>
                </a:cubicBezTo>
                <a:cubicBezTo>
                  <a:pt x="15654" y="11137"/>
                  <a:pt x="15608" y="11122"/>
                  <a:pt x="15553" y="11112"/>
                </a:cubicBezTo>
                <a:cubicBezTo>
                  <a:pt x="15413" y="11086"/>
                  <a:pt x="14948" y="11065"/>
                  <a:pt x="14858" y="11137"/>
                </a:cubicBezTo>
                <a:cubicBezTo>
                  <a:pt x="14818" y="11169"/>
                  <a:pt x="14805" y="11157"/>
                  <a:pt x="14784" y="11187"/>
                </a:cubicBezTo>
                <a:cubicBezTo>
                  <a:pt x="14765" y="11213"/>
                  <a:pt x="14761" y="11250"/>
                  <a:pt x="14759" y="11286"/>
                </a:cubicBezTo>
                <a:cubicBezTo>
                  <a:pt x="14756" y="11335"/>
                  <a:pt x="14759" y="11386"/>
                  <a:pt x="14759" y="11435"/>
                </a:cubicBezTo>
                <a:cubicBezTo>
                  <a:pt x="14787" y="11412"/>
                  <a:pt x="14804" y="11325"/>
                  <a:pt x="14808" y="11361"/>
                </a:cubicBezTo>
                <a:cubicBezTo>
                  <a:pt x="14818" y="11441"/>
                  <a:pt x="14808" y="11529"/>
                  <a:pt x="14808" y="11609"/>
                </a:cubicBezTo>
                <a:cubicBezTo>
                  <a:pt x="14808" y="11658"/>
                  <a:pt x="14826" y="11633"/>
                  <a:pt x="14833" y="11584"/>
                </a:cubicBezTo>
                <a:cubicBezTo>
                  <a:pt x="14843" y="11515"/>
                  <a:pt x="14833" y="11485"/>
                  <a:pt x="14833" y="11584"/>
                </a:cubicBezTo>
                <a:cubicBezTo>
                  <a:pt x="14833" y="11604"/>
                  <a:pt x="14833" y="11743"/>
                  <a:pt x="14833" y="11683"/>
                </a:cubicBezTo>
                <a:cubicBezTo>
                  <a:pt x="14833" y="11560"/>
                  <a:pt x="14881" y="11722"/>
                  <a:pt x="14883" y="11757"/>
                </a:cubicBezTo>
                <a:cubicBezTo>
                  <a:pt x="14884" y="11779"/>
                  <a:pt x="14883" y="11869"/>
                  <a:pt x="14883" y="11757"/>
                </a:cubicBezTo>
                <a:cubicBezTo>
                  <a:pt x="14883" y="11678"/>
                  <a:pt x="14865" y="11576"/>
                  <a:pt x="14858" y="11534"/>
                </a:cubicBezTo>
                <a:cubicBezTo>
                  <a:pt x="14845" y="11459"/>
                  <a:pt x="14838" y="11292"/>
                  <a:pt x="14883" y="11237"/>
                </a:cubicBezTo>
                <a:cubicBezTo>
                  <a:pt x="14912" y="11201"/>
                  <a:pt x="14921" y="11173"/>
                  <a:pt x="14957" y="11137"/>
                </a:cubicBezTo>
                <a:cubicBezTo>
                  <a:pt x="14985" y="11109"/>
                  <a:pt x="14996" y="11080"/>
                  <a:pt x="15032" y="11063"/>
                </a:cubicBezTo>
                <a:cubicBezTo>
                  <a:pt x="15084" y="11039"/>
                  <a:pt x="15099" y="11061"/>
                  <a:pt x="15131" y="11038"/>
                </a:cubicBezTo>
                <a:cubicBezTo>
                  <a:pt x="15171" y="11009"/>
                  <a:pt x="15180" y="11016"/>
                  <a:pt x="15230" y="11013"/>
                </a:cubicBezTo>
                <a:cubicBezTo>
                  <a:pt x="15362" y="11006"/>
                  <a:pt x="15445" y="11013"/>
                  <a:pt x="15577" y="11013"/>
                </a:cubicBezTo>
                <a:cubicBezTo>
                  <a:pt x="15514" y="11013"/>
                  <a:pt x="15394" y="11002"/>
                  <a:pt x="15404" y="11013"/>
                </a:cubicBezTo>
                <a:cubicBezTo>
                  <a:pt x="15510" y="11123"/>
                  <a:pt x="15444" y="10964"/>
                  <a:pt x="15404" y="11038"/>
                </a:cubicBezTo>
                <a:cubicBezTo>
                  <a:pt x="15383" y="11077"/>
                  <a:pt x="15444" y="11147"/>
                  <a:pt x="15478" y="11162"/>
                </a:cubicBezTo>
                <a:cubicBezTo>
                  <a:pt x="15486" y="11162"/>
                  <a:pt x="15495" y="11162"/>
                  <a:pt x="15503" y="11162"/>
                </a:cubicBezTo>
                <a:cubicBezTo>
                  <a:pt x="15467" y="11138"/>
                  <a:pt x="15421" y="11115"/>
                  <a:pt x="15354" y="11112"/>
                </a:cubicBezTo>
                <a:cubicBezTo>
                  <a:pt x="15275" y="11109"/>
                  <a:pt x="15195" y="11103"/>
                  <a:pt x="15131" y="11137"/>
                </a:cubicBezTo>
                <a:cubicBezTo>
                  <a:pt x="15097" y="11155"/>
                  <a:pt x="15080" y="11171"/>
                  <a:pt x="15056" y="11187"/>
                </a:cubicBezTo>
                <a:cubicBezTo>
                  <a:pt x="15034" y="11201"/>
                  <a:pt x="14991" y="11223"/>
                  <a:pt x="14982" y="11237"/>
                </a:cubicBezTo>
                <a:cubicBezTo>
                  <a:pt x="14969" y="11257"/>
                  <a:pt x="14970" y="11321"/>
                  <a:pt x="14957" y="11336"/>
                </a:cubicBezTo>
                <a:cubicBezTo>
                  <a:pt x="14949" y="11336"/>
                  <a:pt x="14940" y="11336"/>
                  <a:pt x="14932" y="11336"/>
                </a:cubicBezTo>
                <a:cubicBezTo>
                  <a:pt x="14941" y="11274"/>
                  <a:pt x="14944" y="11295"/>
                  <a:pt x="14982" y="11261"/>
                </a:cubicBezTo>
                <a:cubicBezTo>
                  <a:pt x="15018" y="11229"/>
                  <a:pt x="15048" y="11216"/>
                  <a:pt x="15081" y="11187"/>
                </a:cubicBezTo>
                <a:cubicBezTo>
                  <a:pt x="15103" y="11167"/>
                  <a:pt x="15114" y="11164"/>
                  <a:pt x="15156" y="11162"/>
                </a:cubicBezTo>
                <a:cubicBezTo>
                  <a:pt x="15222" y="11158"/>
                  <a:pt x="15288" y="11162"/>
                  <a:pt x="15354" y="11162"/>
                </a:cubicBezTo>
                <a:cubicBezTo>
                  <a:pt x="15354" y="11468"/>
                  <a:pt x="15354" y="11774"/>
                  <a:pt x="15354" y="12080"/>
                </a:cubicBezTo>
                <a:cubicBezTo>
                  <a:pt x="15346" y="12027"/>
                  <a:pt x="15358" y="12006"/>
                  <a:pt x="15329" y="11981"/>
                </a:cubicBezTo>
                <a:cubicBezTo>
                  <a:pt x="15289" y="11947"/>
                  <a:pt x="15280" y="11951"/>
                  <a:pt x="15255" y="11931"/>
                </a:cubicBezTo>
              </a:path>
              <a:path w="1067" h="1068">
                <a:moveTo>
                  <a:pt x="14858" y="11509"/>
                </a:moveTo>
                <a:cubicBezTo>
                  <a:pt x="15180" y="11509"/>
                  <a:pt x="15503" y="11509"/>
                  <a:pt x="15825" y="11509"/>
                </a:cubicBezTo>
                <a:cubicBezTo>
                  <a:pt x="15750" y="11467"/>
                  <a:pt x="15765" y="11449"/>
                  <a:pt x="15726" y="11385"/>
                </a:cubicBezTo>
                <a:cubicBezTo>
                  <a:pt x="15706" y="11352"/>
                  <a:pt x="15676" y="11313"/>
                  <a:pt x="15652" y="11286"/>
                </a:cubicBezTo>
                <a:cubicBezTo>
                  <a:pt x="15616" y="11246"/>
                  <a:pt x="15614" y="11250"/>
                  <a:pt x="15577" y="11212"/>
                </a:cubicBezTo>
                <a:cubicBezTo>
                  <a:pt x="15569" y="11204"/>
                  <a:pt x="15561" y="11195"/>
                  <a:pt x="15553" y="11187"/>
                </a:cubicBezTo>
                <a:cubicBezTo>
                  <a:pt x="15599" y="11234"/>
                  <a:pt x="15625" y="11225"/>
                  <a:pt x="15677" y="11261"/>
                </a:cubicBezTo>
                <a:cubicBezTo>
                  <a:pt x="15705" y="11280"/>
                  <a:pt x="15719" y="11332"/>
                  <a:pt x="15726" y="11361"/>
                </a:cubicBezTo>
                <a:cubicBezTo>
                  <a:pt x="15748" y="11458"/>
                  <a:pt x="15759" y="11757"/>
                  <a:pt x="15701" y="11832"/>
                </a:cubicBezTo>
                <a:cubicBezTo>
                  <a:pt x="15674" y="11866"/>
                  <a:pt x="15671" y="11885"/>
                  <a:pt x="15652" y="11906"/>
                </a:cubicBezTo>
                <a:cubicBezTo>
                  <a:pt x="15623" y="11939"/>
                  <a:pt x="15598" y="11977"/>
                  <a:pt x="15577" y="12005"/>
                </a:cubicBezTo>
                <a:cubicBezTo>
                  <a:pt x="15556" y="12034"/>
                  <a:pt x="15510" y="12048"/>
                  <a:pt x="15478" y="12055"/>
                </a:cubicBezTo>
                <a:cubicBezTo>
                  <a:pt x="15431" y="12065"/>
                  <a:pt x="15392" y="12036"/>
                  <a:pt x="15379" y="12030"/>
                </a:cubicBezTo>
                <a:cubicBezTo>
                  <a:pt x="15330" y="12008"/>
                  <a:pt x="15297" y="12005"/>
                  <a:pt x="15255" y="11981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089760" y="5267160"/>
            <a:ext cx="144360" cy="535320"/>
          </a:xfrm>
          <a:custGeom>
            <a:avLst/>
            <a:gdLst/>
            <a:ahLst/>
            <a:rect l="l" t="t" r="r" b="b"/>
            <a:pathLst>
              <a:path w="398" h="1489">
                <a:moveTo>
                  <a:pt x="16917" y="10492"/>
                </a:moveTo>
                <a:cubicBezTo>
                  <a:pt x="16957" y="10469"/>
                  <a:pt x="16993" y="10441"/>
                  <a:pt x="17016" y="10418"/>
                </a:cubicBezTo>
                <a:cubicBezTo>
                  <a:pt x="17056" y="10378"/>
                  <a:pt x="16994" y="10457"/>
                  <a:pt x="16991" y="10468"/>
                </a:cubicBezTo>
                <a:cubicBezTo>
                  <a:pt x="16977" y="10515"/>
                  <a:pt x="16991" y="10591"/>
                  <a:pt x="16991" y="10641"/>
                </a:cubicBezTo>
                <a:cubicBezTo>
                  <a:pt x="17036" y="10641"/>
                  <a:pt x="17084" y="10656"/>
                  <a:pt x="17115" y="10616"/>
                </a:cubicBezTo>
                <a:cubicBezTo>
                  <a:pt x="17134" y="10591"/>
                  <a:pt x="17138" y="10552"/>
                  <a:pt x="17140" y="10517"/>
                </a:cubicBezTo>
                <a:cubicBezTo>
                  <a:pt x="17140" y="10492"/>
                  <a:pt x="17140" y="10484"/>
                  <a:pt x="17140" y="10468"/>
                </a:cubicBezTo>
                <a:cubicBezTo>
                  <a:pt x="17108" y="10493"/>
                  <a:pt x="17056" y="10518"/>
                  <a:pt x="17041" y="10567"/>
                </a:cubicBezTo>
                <a:cubicBezTo>
                  <a:pt x="17021" y="10631"/>
                  <a:pt x="17042" y="10734"/>
                  <a:pt x="17066" y="10790"/>
                </a:cubicBezTo>
                <a:cubicBezTo>
                  <a:pt x="17080" y="10823"/>
                  <a:pt x="17088" y="10857"/>
                  <a:pt x="17140" y="10840"/>
                </a:cubicBezTo>
                <a:cubicBezTo>
                  <a:pt x="17178" y="10827"/>
                  <a:pt x="17161" y="10818"/>
                  <a:pt x="17214" y="10815"/>
                </a:cubicBezTo>
                <a:cubicBezTo>
                  <a:pt x="17239" y="10815"/>
                  <a:pt x="17247" y="10815"/>
                  <a:pt x="17264" y="10815"/>
                </a:cubicBezTo>
                <a:cubicBezTo>
                  <a:pt x="17203" y="10824"/>
                  <a:pt x="17224" y="10827"/>
                  <a:pt x="17190" y="10864"/>
                </a:cubicBezTo>
                <a:cubicBezTo>
                  <a:pt x="17162" y="10895"/>
                  <a:pt x="17165" y="10895"/>
                  <a:pt x="17165" y="10964"/>
                </a:cubicBezTo>
                <a:cubicBezTo>
                  <a:pt x="17165" y="11017"/>
                  <a:pt x="17149" y="11047"/>
                  <a:pt x="17190" y="11063"/>
                </a:cubicBezTo>
                <a:cubicBezTo>
                  <a:pt x="17207" y="11070"/>
                  <a:pt x="17245" y="11063"/>
                  <a:pt x="17264" y="11063"/>
                </a:cubicBezTo>
                <a:cubicBezTo>
                  <a:pt x="17226" y="11094"/>
                  <a:pt x="17218" y="11075"/>
                  <a:pt x="17214" y="11137"/>
                </a:cubicBezTo>
                <a:cubicBezTo>
                  <a:pt x="17211" y="11195"/>
                  <a:pt x="17206" y="11241"/>
                  <a:pt x="17239" y="11286"/>
                </a:cubicBezTo>
                <a:cubicBezTo>
                  <a:pt x="17264" y="11320"/>
                  <a:pt x="17335" y="11305"/>
                  <a:pt x="17289" y="11311"/>
                </a:cubicBezTo>
                <a:cubicBezTo>
                  <a:pt x="17232" y="11318"/>
                  <a:pt x="17184" y="11281"/>
                  <a:pt x="17165" y="11361"/>
                </a:cubicBezTo>
                <a:cubicBezTo>
                  <a:pt x="17150" y="11424"/>
                  <a:pt x="17185" y="11511"/>
                  <a:pt x="17190" y="11534"/>
                </a:cubicBezTo>
                <a:cubicBezTo>
                  <a:pt x="17197" y="11570"/>
                  <a:pt x="17190" y="11622"/>
                  <a:pt x="17190" y="11658"/>
                </a:cubicBezTo>
                <a:cubicBezTo>
                  <a:pt x="17243" y="11676"/>
                  <a:pt x="17257" y="11664"/>
                  <a:pt x="17214" y="11708"/>
                </a:cubicBezTo>
                <a:cubicBezTo>
                  <a:pt x="17189" y="11734"/>
                  <a:pt x="17110" y="11737"/>
                  <a:pt x="17140" y="11757"/>
                </a:cubicBezTo>
                <a:cubicBezTo>
                  <a:pt x="17187" y="11788"/>
                  <a:pt x="17181" y="11733"/>
                  <a:pt x="17190" y="11807"/>
                </a:cubicBezTo>
                <a:cubicBezTo>
                  <a:pt x="17194" y="11839"/>
                  <a:pt x="17190" y="11874"/>
                  <a:pt x="17190" y="11906"/>
                </a:cubicBezTo>
                <a:cubicBezTo>
                  <a:pt x="17108" y="11906"/>
                  <a:pt x="17072" y="11925"/>
                  <a:pt x="17041" y="11857"/>
                </a:cubicBezTo>
                <a:cubicBezTo>
                  <a:pt x="17041" y="11849"/>
                  <a:pt x="17041" y="11840"/>
                  <a:pt x="17041" y="11832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3059280" y="5073480"/>
            <a:ext cx="1176120" cy="1175040"/>
          </a:xfrm>
          <a:custGeom>
            <a:avLst/>
            <a:gdLst/>
            <a:ahLst/>
            <a:rect l="l" t="t" r="r" b="b"/>
            <a:pathLst>
              <a:path w="741" h="740">
                <a:moveTo>
                  <a:pt x="0" y="733"/>
                </a:moveTo>
                <a:cubicBezTo>
                  <a:pt x="87" y="736"/>
                  <a:pt x="174" y="740"/>
                  <a:pt x="182" y="733"/>
                </a:cubicBezTo>
                <a:cubicBezTo>
                  <a:pt x="190" y="726"/>
                  <a:pt x="61" y="711"/>
                  <a:pt x="46" y="688"/>
                </a:cubicBezTo>
                <a:cubicBezTo>
                  <a:pt x="31" y="665"/>
                  <a:pt x="91" y="620"/>
                  <a:pt x="91" y="597"/>
                </a:cubicBezTo>
                <a:cubicBezTo>
                  <a:pt x="91" y="574"/>
                  <a:pt x="46" y="575"/>
                  <a:pt x="46" y="552"/>
                </a:cubicBezTo>
                <a:cubicBezTo>
                  <a:pt x="46" y="529"/>
                  <a:pt x="68" y="484"/>
                  <a:pt x="91" y="461"/>
                </a:cubicBezTo>
                <a:cubicBezTo>
                  <a:pt x="114" y="438"/>
                  <a:pt x="159" y="439"/>
                  <a:pt x="182" y="416"/>
                </a:cubicBezTo>
                <a:cubicBezTo>
                  <a:pt x="205" y="393"/>
                  <a:pt x="167" y="385"/>
                  <a:pt x="227" y="325"/>
                </a:cubicBezTo>
                <a:cubicBezTo>
                  <a:pt x="287" y="265"/>
                  <a:pt x="477" y="98"/>
                  <a:pt x="545" y="53"/>
                </a:cubicBezTo>
                <a:cubicBezTo>
                  <a:pt x="613" y="8"/>
                  <a:pt x="612" y="60"/>
                  <a:pt x="635" y="53"/>
                </a:cubicBezTo>
                <a:cubicBezTo>
                  <a:pt x="658" y="46"/>
                  <a:pt x="688" y="15"/>
                  <a:pt x="681" y="8"/>
                </a:cubicBezTo>
                <a:cubicBezTo>
                  <a:pt x="674" y="1"/>
                  <a:pt x="583" y="1"/>
                  <a:pt x="590" y="8"/>
                </a:cubicBezTo>
                <a:cubicBezTo>
                  <a:pt x="597" y="15"/>
                  <a:pt x="711" y="0"/>
                  <a:pt x="726" y="53"/>
                </a:cubicBezTo>
                <a:cubicBezTo>
                  <a:pt x="741" y="106"/>
                  <a:pt x="711" y="215"/>
                  <a:pt x="681" y="325"/>
                </a:cubicBezTo>
              </a:path>
            </a:pathLst>
          </a:custGeom>
          <a:noFill/>
          <a:ln cap="rnd" w="34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4284720" y="5086440"/>
            <a:ext cx="1681200" cy="425520"/>
          </a:xfrm>
          <a:custGeom>
            <a:avLst/>
            <a:gdLst/>
            <a:ahLst/>
            <a:rect l="l" t="t" r="r" b="b"/>
            <a:pathLst>
              <a:path w="1059" h="268">
                <a:moveTo>
                  <a:pt x="288" y="44"/>
                </a:moveTo>
                <a:cubicBezTo>
                  <a:pt x="274" y="125"/>
                  <a:pt x="297" y="83"/>
                  <a:pt x="248" y="76"/>
                </a:cubicBezTo>
                <a:cubicBezTo>
                  <a:pt x="206" y="70"/>
                  <a:pt x="77" y="68"/>
                  <a:pt x="120" y="68"/>
                </a:cubicBezTo>
                <a:cubicBezTo>
                  <a:pt x="196" y="68"/>
                  <a:pt x="269" y="77"/>
                  <a:pt x="344" y="84"/>
                </a:cubicBezTo>
                <a:cubicBezTo>
                  <a:pt x="335" y="120"/>
                  <a:pt x="326" y="188"/>
                  <a:pt x="304" y="220"/>
                </a:cubicBezTo>
                <a:cubicBezTo>
                  <a:pt x="283" y="251"/>
                  <a:pt x="291" y="235"/>
                  <a:pt x="280" y="268"/>
                </a:cubicBezTo>
                <a:cubicBezTo>
                  <a:pt x="272" y="230"/>
                  <a:pt x="264" y="194"/>
                  <a:pt x="256" y="156"/>
                </a:cubicBezTo>
                <a:cubicBezTo>
                  <a:pt x="252" y="186"/>
                  <a:pt x="261" y="223"/>
                  <a:pt x="240" y="244"/>
                </a:cubicBezTo>
                <a:cubicBezTo>
                  <a:pt x="224" y="260"/>
                  <a:pt x="17" y="267"/>
                  <a:pt x="0" y="268"/>
                </a:cubicBezTo>
                <a:cubicBezTo>
                  <a:pt x="3" y="233"/>
                  <a:pt x="5" y="199"/>
                  <a:pt x="8" y="164"/>
                </a:cubicBezTo>
                <a:cubicBezTo>
                  <a:pt x="24" y="0"/>
                  <a:pt x="179" y="81"/>
                  <a:pt x="352" y="76"/>
                </a:cubicBezTo>
                <a:cubicBezTo>
                  <a:pt x="427" y="79"/>
                  <a:pt x="510" y="50"/>
                  <a:pt x="576" y="84"/>
                </a:cubicBezTo>
                <a:cubicBezTo>
                  <a:pt x="625" y="109"/>
                  <a:pt x="570" y="209"/>
                  <a:pt x="536" y="220"/>
                </a:cubicBezTo>
                <a:cubicBezTo>
                  <a:pt x="467" y="215"/>
                  <a:pt x="381" y="249"/>
                  <a:pt x="328" y="204"/>
                </a:cubicBezTo>
                <a:cubicBezTo>
                  <a:pt x="202" y="99"/>
                  <a:pt x="323" y="67"/>
                  <a:pt x="368" y="52"/>
                </a:cubicBezTo>
                <a:cubicBezTo>
                  <a:pt x="384" y="53"/>
                  <a:pt x="528" y="13"/>
                  <a:pt x="528" y="84"/>
                </a:cubicBezTo>
                <a:cubicBezTo>
                  <a:pt x="528" y="124"/>
                  <a:pt x="527" y="164"/>
                  <a:pt x="520" y="204"/>
                </a:cubicBezTo>
                <a:cubicBezTo>
                  <a:pt x="515" y="234"/>
                  <a:pt x="466" y="244"/>
                  <a:pt x="480" y="244"/>
                </a:cubicBezTo>
                <a:cubicBezTo>
                  <a:pt x="571" y="244"/>
                  <a:pt x="661" y="233"/>
                  <a:pt x="752" y="228"/>
                </a:cubicBezTo>
                <a:cubicBezTo>
                  <a:pt x="763" y="57"/>
                  <a:pt x="743" y="94"/>
                  <a:pt x="920" y="116"/>
                </a:cubicBezTo>
                <a:cubicBezTo>
                  <a:pt x="940" y="155"/>
                  <a:pt x="959" y="189"/>
                  <a:pt x="936" y="236"/>
                </a:cubicBezTo>
                <a:cubicBezTo>
                  <a:pt x="931" y="247"/>
                  <a:pt x="915" y="247"/>
                  <a:pt x="904" y="252"/>
                </a:cubicBezTo>
                <a:cubicBezTo>
                  <a:pt x="856" y="248"/>
                  <a:pt x="808" y="236"/>
                  <a:pt x="760" y="236"/>
                </a:cubicBezTo>
                <a:cubicBezTo>
                  <a:pt x="752" y="236"/>
                  <a:pt x="776" y="243"/>
                  <a:pt x="784" y="244"/>
                </a:cubicBezTo>
                <a:cubicBezTo>
                  <a:pt x="810" y="248"/>
                  <a:pt x="837" y="249"/>
                  <a:pt x="864" y="252"/>
                </a:cubicBezTo>
                <a:cubicBezTo>
                  <a:pt x="1017" y="242"/>
                  <a:pt x="985" y="263"/>
                  <a:pt x="1008" y="124"/>
                </a:cubicBezTo>
                <a:cubicBezTo>
                  <a:pt x="1026" y="130"/>
                  <a:pt x="1049" y="134"/>
                  <a:pt x="1056" y="156"/>
                </a:cubicBezTo>
                <a:cubicBezTo>
                  <a:pt x="1059" y="164"/>
                  <a:pt x="1054" y="174"/>
                  <a:pt x="1048" y="180"/>
                </a:cubicBezTo>
                <a:cubicBezTo>
                  <a:pt x="1042" y="186"/>
                  <a:pt x="1024" y="188"/>
                  <a:pt x="1024" y="188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4330800" y="5205240"/>
            <a:ext cx="1752480" cy="673200"/>
          </a:xfrm>
          <a:custGeom>
            <a:avLst/>
            <a:gdLst/>
            <a:ahLst/>
            <a:rect l="l" t="t" r="r" b="b"/>
            <a:pathLst>
              <a:path w="1104" h="424">
                <a:moveTo>
                  <a:pt x="0" y="274"/>
                </a:moveTo>
                <a:cubicBezTo>
                  <a:pt x="224" y="271"/>
                  <a:pt x="448" y="272"/>
                  <a:pt x="672" y="266"/>
                </a:cubicBezTo>
                <a:cubicBezTo>
                  <a:pt x="686" y="266"/>
                  <a:pt x="646" y="258"/>
                  <a:pt x="632" y="258"/>
                </a:cubicBezTo>
                <a:cubicBezTo>
                  <a:pt x="429" y="253"/>
                  <a:pt x="227" y="253"/>
                  <a:pt x="24" y="250"/>
                </a:cubicBezTo>
                <a:cubicBezTo>
                  <a:pt x="74" y="150"/>
                  <a:pt x="32" y="210"/>
                  <a:pt x="272" y="210"/>
                </a:cubicBezTo>
                <a:cubicBezTo>
                  <a:pt x="416" y="210"/>
                  <a:pt x="560" y="215"/>
                  <a:pt x="704" y="218"/>
                </a:cubicBezTo>
                <a:cubicBezTo>
                  <a:pt x="769" y="369"/>
                  <a:pt x="1043" y="424"/>
                  <a:pt x="1104" y="242"/>
                </a:cubicBezTo>
                <a:cubicBezTo>
                  <a:pt x="945" y="189"/>
                  <a:pt x="571" y="309"/>
                  <a:pt x="768" y="210"/>
                </a:cubicBezTo>
                <a:cubicBezTo>
                  <a:pt x="778" y="205"/>
                  <a:pt x="746" y="214"/>
                  <a:pt x="736" y="218"/>
                </a:cubicBezTo>
                <a:cubicBezTo>
                  <a:pt x="725" y="222"/>
                  <a:pt x="715" y="229"/>
                  <a:pt x="704" y="234"/>
                </a:cubicBezTo>
                <a:cubicBezTo>
                  <a:pt x="707" y="159"/>
                  <a:pt x="703" y="84"/>
                  <a:pt x="712" y="10"/>
                </a:cubicBezTo>
                <a:cubicBezTo>
                  <a:pt x="713" y="0"/>
                  <a:pt x="727" y="24"/>
                  <a:pt x="728" y="34"/>
                </a:cubicBezTo>
                <a:cubicBezTo>
                  <a:pt x="733" y="106"/>
                  <a:pt x="728" y="178"/>
                  <a:pt x="728" y="25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3214800" y="5302080"/>
            <a:ext cx="2004840" cy="636840"/>
          </a:xfrm>
          <a:custGeom>
            <a:avLst/>
            <a:gdLst/>
            <a:ahLst/>
            <a:rect l="l" t="t" r="r" b="b"/>
            <a:pathLst>
              <a:path w="1263" h="401">
                <a:moveTo>
                  <a:pt x="484" y="61"/>
                </a:moveTo>
                <a:cubicBezTo>
                  <a:pt x="424" y="81"/>
                  <a:pt x="491" y="79"/>
                  <a:pt x="460" y="117"/>
                </a:cubicBezTo>
                <a:cubicBezTo>
                  <a:pt x="440" y="141"/>
                  <a:pt x="405" y="148"/>
                  <a:pt x="380" y="165"/>
                </a:cubicBezTo>
                <a:cubicBezTo>
                  <a:pt x="393" y="168"/>
                  <a:pt x="407" y="170"/>
                  <a:pt x="420" y="173"/>
                </a:cubicBezTo>
                <a:cubicBezTo>
                  <a:pt x="428" y="175"/>
                  <a:pt x="442" y="173"/>
                  <a:pt x="444" y="181"/>
                </a:cubicBezTo>
                <a:cubicBezTo>
                  <a:pt x="446" y="190"/>
                  <a:pt x="433" y="197"/>
                  <a:pt x="428" y="205"/>
                </a:cubicBezTo>
                <a:cubicBezTo>
                  <a:pt x="425" y="218"/>
                  <a:pt x="425" y="232"/>
                  <a:pt x="420" y="245"/>
                </a:cubicBezTo>
                <a:cubicBezTo>
                  <a:pt x="417" y="254"/>
                  <a:pt x="404" y="259"/>
                  <a:pt x="404" y="269"/>
                </a:cubicBezTo>
                <a:cubicBezTo>
                  <a:pt x="404" y="293"/>
                  <a:pt x="429" y="296"/>
                  <a:pt x="444" y="301"/>
                </a:cubicBezTo>
                <a:cubicBezTo>
                  <a:pt x="442" y="308"/>
                  <a:pt x="436" y="347"/>
                  <a:pt x="412" y="333"/>
                </a:cubicBezTo>
                <a:cubicBezTo>
                  <a:pt x="402" y="327"/>
                  <a:pt x="404" y="310"/>
                  <a:pt x="396" y="301"/>
                </a:cubicBezTo>
                <a:cubicBezTo>
                  <a:pt x="382" y="284"/>
                  <a:pt x="357" y="275"/>
                  <a:pt x="340" y="261"/>
                </a:cubicBezTo>
                <a:cubicBezTo>
                  <a:pt x="305" y="232"/>
                  <a:pt x="273" y="208"/>
                  <a:pt x="228" y="197"/>
                </a:cubicBezTo>
                <a:cubicBezTo>
                  <a:pt x="175" y="200"/>
                  <a:pt x="120" y="194"/>
                  <a:pt x="68" y="205"/>
                </a:cubicBezTo>
                <a:cubicBezTo>
                  <a:pt x="62" y="206"/>
                  <a:pt x="24" y="264"/>
                  <a:pt x="4" y="277"/>
                </a:cubicBezTo>
                <a:cubicBezTo>
                  <a:pt x="20" y="230"/>
                  <a:pt x="0" y="273"/>
                  <a:pt x="36" y="237"/>
                </a:cubicBezTo>
                <a:cubicBezTo>
                  <a:pt x="73" y="200"/>
                  <a:pt x="26" y="220"/>
                  <a:pt x="84" y="205"/>
                </a:cubicBezTo>
                <a:cubicBezTo>
                  <a:pt x="172" y="146"/>
                  <a:pt x="230" y="184"/>
                  <a:pt x="364" y="189"/>
                </a:cubicBezTo>
                <a:cubicBezTo>
                  <a:pt x="418" y="243"/>
                  <a:pt x="405" y="216"/>
                  <a:pt x="420" y="261"/>
                </a:cubicBezTo>
                <a:cubicBezTo>
                  <a:pt x="417" y="280"/>
                  <a:pt x="428" y="307"/>
                  <a:pt x="412" y="317"/>
                </a:cubicBezTo>
                <a:cubicBezTo>
                  <a:pt x="399" y="325"/>
                  <a:pt x="390" y="296"/>
                  <a:pt x="380" y="285"/>
                </a:cubicBezTo>
                <a:cubicBezTo>
                  <a:pt x="363" y="265"/>
                  <a:pt x="348" y="213"/>
                  <a:pt x="348" y="213"/>
                </a:cubicBezTo>
                <a:cubicBezTo>
                  <a:pt x="335" y="252"/>
                  <a:pt x="350" y="284"/>
                  <a:pt x="372" y="317"/>
                </a:cubicBezTo>
                <a:cubicBezTo>
                  <a:pt x="449" y="298"/>
                  <a:pt x="527" y="292"/>
                  <a:pt x="604" y="277"/>
                </a:cubicBezTo>
                <a:cubicBezTo>
                  <a:pt x="660" y="283"/>
                  <a:pt x="709" y="303"/>
                  <a:pt x="764" y="309"/>
                </a:cubicBezTo>
                <a:cubicBezTo>
                  <a:pt x="820" y="315"/>
                  <a:pt x="932" y="325"/>
                  <a:pt x="932" y="325"/>
                </a:cubicBezTo>
                <a:cubicBezTo>
                  <a:pt x="1263" y="315"/>
                  <a:pt x="1218" y="401"/>
                  <a:pt x="1236" y="125"/>
                </a:cubicBezTo>
                <a:cubicBezTo>
                  <a:pt x="1237" y="104"/>
                  <a:pt x="1241" y="82"/>
                  <a:pt x="1244" y="61"/>
                </a:cubicBezTo>
                <a:cubicBezTo>
                  <a:pt x="1241" y="106"/>
                  <a:pt x="1236" y="242"/>
                  <a:pt x="1236" y="197"/>
                </a:cubicBezTo>
                <a:cubicBezTo>
                  <a:pt x="1236" y="146"/>
                  <a:pt x="1244" y="96"/>
                  <a:pt x="1244" y="45"/>
                </a:cubicBezTo>
                <a:cubicBezTo>
                  <a:pt x="1244" y="0"/>
                  <a:pt x="1240" y="136"/>
                  <a:pt x="1236" y="181"/>
                </a:cubicBezTo>
                <a:cubicBezTo>
                  <a:pt x="1234" y="208"/>
                  <a:pt x="1237" y="240"/>
                  <a:pt x="1220" y="261"/>
                </a:cubicBezTo>
                <a:cubicBezTo>
                  <a:pt x="1201" y="285"/>
                  <a:pt x="1132" y="285"/>
                  <a:pt x="1132" y="285"/>
                </a:cubicBezTo>
                <a:cubicBezTo>
                  <a:pt x="1090" y="349"/>
                  <a:pt x="1052" y="337"/>
                  <a:pt x="1180" y="325"/>
                </a:cubicBezTo>
                <a:cubicBezTo>
                  <a:pt x="1183" y="224"/>
                  <a:pt x="1188" y="122"/>
                  <a:pt x="1188" y="21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3313080" y="5254560"/>
            <a:ext cx="2927520" cy="1054080"/>
          </a:xfrm>
          <a:custGeom>
            <a:avLst/>
            <a:gdLst/>
            <a:ahLst/>
            <a:rect l="l" t="t" r="r" b="b"/>
            <a:pathLst>
              <a:path w="1844" h="664">
                <a:moveTo>
                  <a:pt x="129" y="232"/>
                </a:moveTo>
                <a:cubicBezTo>
                  <a:pt x="121" y="237"/>
                  <a:pt x="111" y="240"/>
                  <a:pt x="105" y="248"/>
                </a:cubicBezTo>
                <a:cubicBezTo>
                  <a:pt x="83" y="276"/>
                  <a:pt x="117" y="281"/>
                  <a:pt x="81" y="312"/>
                </a:cubicBezTo>
                <a:cubicBezTo>
                  <a:pt x="68" y="323"/>
                  <a:pt x="33" y="328"/>
                  <a:pt x="33" y="328"/>
                </a:cubicBezTo>
                <a:cubicBezTo>
                  <a:pt x="22" y="323"/>
                  <a:pt x="5" y="323"/>
                  <a:pt x="1" y="312"/>
                </a:cubicBezTo>
                <a:cubicBezTo>
                  <a:pt x="0" y="309"/>
                  <a:pt x="28" y="259"/>
                  <a:pt x="33" y="256"/>
                </a:cubicBezTo>
                <a:cubicBezTo>
                  <a:pt x="47" y="247"/>
                  <a:pt x="81" y="240"/>
                  <a:pt x="81" y="240"/>
                </a:cubicBezTo>
                <a:cubicBezTo>
                  <a:pt x="197" y="261"/>
                  <a:pt x="151" y="271"/>
                  <a:pt x="193" y="208"/>
                </a:cubicBezTo>
                <a:cubicBezTo>
                  <a:pt x="188" y="232"/>
                  <a:pt x="175" y="256"/>
                  <a:pt x="177" y="280"/>
                </a:cubicBezTo>
                <a:cubicBezTo>
                  <a:pt x="179" y="301"/>
                  <a:pt x="252" y="272"/>
                  <a:pt x="257" y="272"/>
                </a:cubicBezTo>
                <a:cubicBezTo>
                  <a:pt x="300" y="268"/>
                  <a:pt x="342" y="267"/>
                  <a:pt x="385" y="264"/>
                </a:cubicBezTo>
                <a:cubicBezTo>
                  <a:pt x="444" y="244"/>
                  <a:pt x="425" y="241"/>
                  <a:pt x="505" y="232"/>
                </a:cubicBezTo>
                <a:cubicBezTo>
                  <a:pt x="508" y="168"/>
                  <a:pt x="503" y="103"/>
                  <a:pt x="513" y="40"/>
                </a:cubicBezTo>
                <a:cubicBezTo>
                  <a:pt x="517" y="15"/>
                  <a:pt x="560" y="21"/>
                  <a:pt x="585" y="16"/>
                </a:cubicBezTo>
                <a:cubicBezTo>
                  <a:pt x="612" y="11"/>
                  <a:pt x="665" y="0"/>
                  <a:pt x="665" y="0"/>
                </a:cubicBezTo>
                <a:cubicBezTo>
                  <a:pt x="692" y="107"/>
                  <a:pt x="658" y="98"/>
                  <a:pt x="753" y="104"/>
                </a:cubicBezTo>
                <a:cubicBezTo>
                  <a:pt x="817" y="108"/>
                  <a:pt x="881" y="109"/>
                  <a:pt x="945" y="112"/>
                </a:cubicBezTo>
                <a:cubicBezTo>
                  <a:pt x="950" y="120"/>
                  <a:pt x="960" y="126"/>
                  <a:pt x="961" y="136"/>
                </a:cubicBezTo>
                <a:cubicBezTo>
                  <a:pt x="971" y="225"/>
                  <a:pt x="909" y="181"/>
                  <a:pt x="833" y="176"/>
                </a:cubicBezTo>
                <a:cubicBezTo>
                  <a:pt x="798" y="181"/>
                  <a:pt x="763" y="182"/>
                  <a:pt x="729" y="192"/>
                </a:cubicBezTo>
                <a:cubicBezTo>
                  <a:pt x="721" y="194"/>
                  <a:pt x="745" y="198"/>
                  <a:pt x="753" y="200"/>
                </a:cubicBezTo>
                <a:cubicBezTo>
                  <a:pt x="766" y="203"/>
                  <a:pt x="779" y="206"/>
                  <a:pt x="793" y="208"/>
                </a:cubicBezTo>
                <a:cubicBezTo>
                  <a:pt x="825" y="212"/>
                  <a:pt x="857" y="213"/>
                  <a:pt x="889" y="216"/>
                </a:cubicBezTo>
                <a:cubicBezTo>
                  <a:pt x="978" y="209"/>
                  <a:pt x="986" y="228"/>
                  <a:pt x="1009" y="160"/>
                </a:cubicBezTo>
                <a:cubicBezTo>
                  <a:pt x="1114" y="178"/>
                  <a:pt x="1074" y="186"/>
                  <a:pt x="1209" y="176"/>
                </a:cubicBezTo>
                <a:cubicBezTo>
                  <a:pt x="1226" y="126"/>
                  <a:pt x="1258" y="160"/>
                  <a:pt x="1297" y="176"/>
                </a:cubicBezTo>
                <a:cubicBezTo>
                  <a:pt x="1438" y="160"/>
                  <a:pt x="1571" y="166"/>
                  <a:pt x="1713" y="160"/>
                </a:cubicBezTo>
                <a:cubicBezTo>
                  <a:pt x="1744" y="114"/>
                  <a:pt x="1748" y="98"/>
                  <a:pt x="1697" y="64"/>
                </a:cubicBezTo>
                <a:cubicBezTo>
                  <a:pt x="1678" y="8"/>
                  <a:pt x="1665" y="11"/>
                  <a:pt x="1705" y="24"/>
                </a:cubicBezTo>
                <a:cubicBezTo>
                  <a:pt x="1743" y="62"/>
                  <a:pt x="1745" y="71"/>
                  <a:pt x="1753" y="128"/>
                </a:cubicBezTo>
                <a:cubicBezTo>
                  <a:pt x="1756" y="236"/>
                  <a:pt x="1695" y="592"/>
                  <a:pt x="1801" y="432"/>
                </a:cubicBezTo>
                <a:cubicBezTo>
                  <a:pt x="1773" y="404"/>
                  <a:pt x="1765" y="382"/>
                  <a:pt x="1713" y="424"/>
                </a:cubicBezTo>
                <a:cubicBezTo>
                  <a:pt x="1700" y="435"/>
                  <a:pt x="1697" y="472"/>
                  <a:pt x="1697" y="472"/>
                </a:cubicBezTo>
                <a:cubicBezTo>
                  <a:pt x="1705" y="477"/>
                  <a:pt x="1712" y="490"/>
                  <a:pt x="1721" y="488"/>
                </a:cubicBezTo>
                <a:cubicBezTo>
                  <a:pt x="1750" y="482"/>
                  <a:pt x="1732" y="442"/>
                  <a:pt x="1729" y="432"/>
                </a:cubicBezTo>
                <a:cubicBezTo>
                  <a:pt x="1676" y="440"/>
                  <a:pt x="1658" y="438"/>
                  <a:pt x="1641" y="488"/>
                </a:cubicBezTo>
                <a:cubicBezTo>
                  <a:pt x="1652" y="565"/>
                  <a:pt x="1649" y="554"/>
                  <a:pt x="1721" y="568"/>
                </a:cubicBezTo>
                <a:cubicBezTo>
                  <a:pt x="1726" y="560"/>
                  <a:pt x="1741" y="553"/>
                  <a:pt x="1737" y="544"/>
                </a:cubicBezTo>
                <a:cubicBezTo>
                  <a:pt x="1728" y="525"/>
                  <a:pt x="1661" y="547"/>
                  <a:pt x="1737" y="528"/>
                </a:cubicBezTo>
                <a:cubicBezTo>
                  <a:pt x="1750" y="531"/>
                  <a:pt x="1764" y="540"/>
                  <a:pt x="1777" y="536"/>
                </a:cubicBezTo>
                <a:cubicBezTo>
                  <a:pt x="1785" y="533"/>
                  <a:pt x="1791" y="518"/>
                  <a:pt x="1785" y="512"/>
                </a:cubicBezTo>
                <a:cubicBezTo>
                  <a:pt x="1779" y="506"/>
                  <a:pt x="1769" y="517"/>
                  <a:pt x="1761" y="520"/>
                </a:cubicBezTo>
                <a:cubicBezTo>
                  <a:pt x="1774" y="528"/>
                  <a:pt x="1790" y="533"/>
                  <a:pt x="1801" y="544"/>
                </a:cubicBezTo>
                <a:cubicBezTo>
                  <a:pt x="1804" y="547"/>
                  <a:pt x="1819" y="589"/>
                  <a:pt x="1801" y="592"/>
                </a:cubicBezTo>
                <a:cubicBezTo>
                  <a:pt x="1738" y="602"/>
                  <a:pt x="1673" y="597"/>
                  <a:pt x="1609" y="600"/>
                </a:cubicBezTo>
                <a:cubicBezTo>
                  <a:pt x="1601" y="603"/>
                  <a:pt x="1582" y="600"/>
                  <a:pt x="1585" y="608"/>
                </a:cubicBezTo>
                <a:cubicBezTo>
                  <a:pt x="1589" y="619"/>
                  <a:pt x="1627" y="618"/>
                  <a:pt x="1617" y="624"/>
                </a:cubicBezTo>
                <a:cubicBezTo>
                  <a:pt x="1596" y="636"/>
                  <a:pt x="1569" y="629"/>
                  <a:pt x="1545" y="632"/>
                </a:cubicBezTo>
                <a:cubicBezTo>
                  <a:pt x="1625" y="635"/>
                  <a:pt x="1705" y="635"/>
                  <a:pt x="1785" y="640"/>
                </a:cubicBezTo>
                <a:cubicBezTo>
                  <a:pt x="1844" y="643"/>
                  <a:pt x="1829" y="645"/>
                  <a:pt x="1801" y="664"/>
                </a:cubicBezTo>
                <a:cubicBezTo>
                  <a:pt x="1630" y="653"/>
                  <a:pt x="1716" y="656"/>
                  <a:pt x="1545" y="656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3419640" y="163980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3483000" y="2960640"/>
            <a:ext cx="1687320" cy="357120"/>
          </a:xfrm>
          <a:custGeom>
            <a:avLst/>
            <a:gdLst/>
            <a:ahLst/>
            <a:rect l="l" t="t" r="r" b="b"/>
            <a:pathLst>
              <a:path w="4689" h="993">
                <a:moveTo>
                  <a:pt x="10815" y="5358"/>
                </a:moveTo>
                <a:cubicBezTo>
                  <a:pt x="11997" y="5358"/>
                  <a:pt x="13180" y="5358"/>
                  <a:pt x="14362" y="5358"/>
                </a:cubicBezTo>
              </a:path>
              <a:path w="4689" h="993">
                <a:moveTo>
                  <a:pt x="9674" y="4465"/>
                </a:moveTo>
                <a:cubicBezTo>
                  <a:pt x="9699" y="4465"/>
                  <a:pt x="9707" y="4465"/>
                  <a:pt x="9723" y="4465"/>
                </a:cubicBezTo>
                <a:cubicBezTo>
                  <a:pt x="9758" y="4413"/>
                  <a:pt x="9787" y="4465"/>
                  <a:pt x="9847" y="4440"/>
                </a:cubicBezTo>
                <a:cubicBezTo>
                  <a:pt x="9886" y="4423"/>
                  <a:pt x="9875" y="4415"/>
                  <a:pt x="9922" y="4415"/>
                </a:cubicBezTo>
              </a:path>
              <a:path w="4689" h="993">
                <a:moveTo>
                  <a:pt x="10567" y="4490"/>
                </a:moveTo>
                <a:cubicBezTo>
                  <a:pt x="10567" y="4498"/>
                  <a:pt x="10567" y="4506"/>
                  <a:pt x="10567" y="4514"/>
                </a:cubicBezTo>
              </a:path>
              <a:path w="4689" h="993">
                <a:moveTo>
                  <a:pt x="10740" y="4762"/>
                </a:moveTo>
                <a:cubicBezTo>
                  <a:pt x="10740" y="4787"/>
                  <a:pt x="10740" y="4795"/>
                  <a:pt x="10740" y="4812"/>
                </a:cubicBezTo>
                <a:cubicBezTo>
                  <a:pt x="10781" y="4812"/>
                  <a:pt x="10823" y="4812"/>
                  <a:pt x="10864" y="4812"/>
                </a:cubicBezTo>
              </a:path>
              <a:path w="4689" h="993">
                <a:moveTo>
                  <a:pt x="10864" y="4986"/>
                </a:moveTo>
                <a:cubicBezTo>
                  <a:pt x="10864" y="4994"/>
                  <a:pt x="10864" y="5003"/>
                  <a:pt x="10864" y="5011"/>
                </a:cubicBezTo>
              </a:path>
              <a:path w="4689" h="993">
                <a:moveTo>
                  <a:pt x="10889" y="5135"/>
                </a:moveTo>
                <a:lnTo>
                  <a:pt x="10889" y="5135"/>
                </a:lnTo>
              </a:path>
              <a:path w="4689" h="993">
                <a:moveTo>
                  <a:pt x="10914" y="5283"/>
                </a:moveTo>
                <a:cubicBezTo>
                  <a:pt x="10914" y="5291"/>
                  <a:pt x="10914" y="5300"/>
                  <a:pt x="10914" y="5308"/>
                </a:cubicBezTo>
              </a:path>
              <a:path w="4689" h="993">
                <a:moveTo>
                  <a:pt x="10740" y="4812"/>
                </a:moveTo>
                <a:cubicBezTo>
                  <a:pt x="10740" y="4853"/>
                  <a:pt x="10740" y="4895"/>
                  <a:pt x="10740" y="4936"/>
                </a:cubicBezTo>
                <a:cubicBezTo>
                  <a:pt x="10778" y="4949"/>
                  <a:pt x="10765" y="4966"/>
                  <a:pt x="10765" y="5011"/>
                </a:cubicBezTo>
                <a:cubicBezTo>
                  <a:pt x="10765" y="5047"/>
                  <a:pt x="10772" y="5084"/>
                  <a:pt x="10790" y="5110"/>
                </a:cubicBezTo>
                <a:cubicBezTo>
                  <a:pt x="10813" y="5133"/>
                  <a:pt x="10817" y="5141"/>
                  <a:pt x="10840" y="5135"/>
                </a:cubicBezTo>
                <a:cubicBezTo>
                  <a:pt x="10840" y="5184"/>
                  <a:pt x="10851" y="5194"/>
                  <a:pt x="10864" y="5234"/>
                </a:cubicBezTo>
                <a:cubicBezTo>
                  <a:pt x="10881" y="5286"/>
                  <a:pt x="10848" y="5312"/>
                  <a:pt x="10889" y="5358"/>
                </a:cubicBezTo>
                <a:cubicBezTo>
                  <a:pt x="10911" y="5380"/>
                  <a:pt x="10920" y="5385"/>
                  <a:pt x="10914" y="5407"/>
                </a:cubicBezTo>
              </a:path>
            </a:pathLst>
          </a:custGeom>
          <a:noFill/>
          <a:ln cap="rnd" w="3492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3505320" y="2773440"/>
            <a:ext cx="2101680" cy="623880"/>
          </a:xfrm>
          <a:custGeom>
            <a:avLst/>
            <a:gdLst/>
            <a:ahLst/>
            <a:rect l="l" t="t" r="r" b="b"/>
            <a:pathLst>
              <a:path w="1324" h="393">
                <a:moveTo>
                  <a:pt x="888" y="48"/>
                </a:moveTo>
                <a:cubicBezTo>
                  <a:pt x="884" y="96"/>
                  <a:pt x="864" y="175"/>
                  <a:pt x="880" y="224"/>
                </a:cubicBezTo>
                <a:cubicBezTo>
                  <a:pt x="896" y="384"/>
                  <a:pt x="880" y="271"/>
                  <a:pt x="912" y="224"/>
                </a:cubicBezTo>
                <a:cubicBezTo>
                  <a:pt x="907" y="208"/>
                  <a:pt x="900" y="192"/>
                  <a:pt x="896" y="176"/>
                </a:cubicBezTo>
                <a:cubicBezTo>
                  <a:pt x="893" y="165"/>
                  <a:pt x="891" y="155"/>
                  <a:pt x="888" y="144"/>
                </a:cubicBezTo>
                <a:cubicBezTo>
                  <a:pt x="883" y="128"/>
                  <a:pt x="877" y="112"/>
                  <a:pt x="872" y="96"/>
                </a:cubicBezTo>
                <a:cubicBezTo>
                  <a:pt x="869" y="88"/>
                  <a:pt x="864" y="72"/>
                  <a:pt x="864" y="72"/>
                </a:cubicBezTo>
                <a:cubicBezTo>
                  <a:pt x="867" y="51"/>
                  <a:pt x="863" y="28"/>
                  <a:pt x="872" y="8"/>
                </a:cubicBezTo>
                <a:cubicBezTo>
                  <a:pt x="875" y="0"/>
                  <a:pt x="904" y="0"/>
                  <a:pt x="896" y="0"/>
                </a:cubicBezTo>
                <a:cubicBezTo>
                  <a:pt x="880" y="0"/>
                  <a:pt x="864" y="5"/>
                  <a:pt x="848" y="8"/>
                </a:cubicBezTo>
                <a:cubicBezTo>
                  <a:pt x="832" y="56"/>
                  <a:pt x="864" y="67"/>
                  <a:pt x="904" y="80"/>
                </a:cubicBezTo>
                <a:cubicBezTo>
                  <a:pt x="888" y="83"/>
                  <a:pt x="870" y="80"/>
                  <a:pt x="856" y="88"/>
                </a:cubicBezTo>
                <a:cubicBezTo>
                  <a:pt x="849" y="92"/>
                  <a:pt x="842" y="106"/>
                  <a:pt x="848" y="112"/>
                </a:cubicBezTo>
                <a:cubicBezTo>
                  <a:pt x="858" y="122"/>
                  <a:pt x="875" y="117"/>
                  <a:pt x="888" y="120"/>
                </a:cubicBezTo>
                <a:cubicBezTo>
                  <a:pt x="824" y="163"/>
                  <a:pt x="888" y="109"/>
                  <a:pt x="888" y="152"/>
                </a:cubicBezTo>
                <a:cubicBezTo>
                  <a:pt x="888" y="162"/>
                  <a:pt x="846" y="174"/>
                  <a:pt x="840" y="176"/>
                </a:cubicBezTo>
                <a:cubicBezTo>
                  <a:pt x="851" y="181"/>
                  <a:pt x="861" y="187"/>
                  <a:pt x="872" y="192"/>
                </a:cubicBezTo>
                <a:cubicBezTo>
                  <a:pt x="885" y="198"/>
                  <a:pt x="910" y="194"/>
                  <a:pt x="912" y="208"/>
                </a:cubicBezTo>
                <a:cubicBezTo>
                  <a:pt x="914" y="225"/>
                  <a:pt x="870" y="266"/>
                  <a:pt x="856" y="280"/>
                </a:cubicBezTo>
                <a:cubicBezTo>
                  <a:pt x="781" y="255"/>
                  <a:pt x="883" y="284"/>
                  <a:pt x="808" y="280"/>
                </a:cubicBezTo>
                <a:cubicBezTo>
                  <a:pt x="760" y="278"/>
                  <a:pt x="664" y="264"/>
                  <a:pt x="664" y="264"/>
                </a:cubicBezTo>
                <a:cubicBezTo>
                  <a:pt x="641" y="333"/>
                  <a:pt x="647" y="290"/>
                  <a:pt x="800" y="296"/>
                </a:cubicBezTo>
                <a:cubicBezTo>
                  <a:pt x="885" y="299"/>
                  <a:pt x="971" y="301"/>
                  <a:pt x="1056" y="304"/>
                </a:cubicBezTo>
                <a:cubicBezTo>
                  <a:pt x="1324" y="393"/>
                  <a:pt x="513" y="303"/>
                  <a:pt x="344" y="288"/>
                </a:cubicBezTo>
                <a:cubicBezTo>
                  <a:pt x="349" y="280"/>
                  <a:pt x="351" y="268"/>
                  <a:pt x="360" y="264"/>
                </a:cubicBezTo>
                <a:cubicBezTo>
                  <a:pt x="368" y="261"/>
                  <a:pt x="376" y="272"/>
                  <a:pt x="384" y="272"/>
                </a:cubicBezTo>
                <a:cubicBezTo>
                  <a:pt x="403" y="272"/>
                  <a:pt x="421" y="267"/>
                  <a:pt x="440" y="264"/>
                </a:cubicBezTo>
                <a:cubicBezTo>
                  <a:pt x="419" y="253"/>
                  <a:pt x="390" y="251"/>
                  <a:pt x="376" y="232"/>
                </a:cubicBezTo>
                <a:cubicBezTo>
                  <a:pt x="345" y="190"/>
                  <a:pt x="364" y="206"/>
                  <a:pt x="320" y="184"/>
                </a:cubicBezTo>
                <a:cubicBezTo>
                  <a:pt x="302" y="131"/>
                  <a:pt x="352" y="8"/>
                  <a:pt x="280" y="56"/>
                </a:cubicBezTo>
                <a:cubicBezTo>
                  <a:pt x="275" y="45"/>
                  <a:pt x="272" y="32"/>
                  <a:pt x="264" y="24"/>
                </a:cubicBezTo>
                <a:cubicBezTo>
                  <a:pt x="258" y="18"/>
                  <a:pt x="248" y="15"/>
                  <a:pt x="240" y="16"/>
                </a:cubicBezTo>
                <a:cubicBezTo>
                  <a:pt x="223" y="18"/>
                  <a:pt x="209" y="30"/>
                  <a:pt x="192" y="32"/>
                </a:cubicBezTo>
                <a:cubicBezTo>
                  <a:pt x="163" y="35"/>
                  <a:pt x="133" y="37"/>
                  <a:pt x="104" y="40"/>
                </a:cubicBezTo>
                <a:cubicBezTo>
                  <a:pt x="68" y="64"/>
                  <a:pt x="45" y="88"/>
                  <a:pt x="0" y="88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3419640" y="300024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5292720" y="300024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4000680" y="3230640"/>
            <a:ext cx="1169640" cy="1440"/>
          </a:xfrm>
          <a:custGeom>
            <a:avLst/>
            <a:gdLst/>
            <a:ahLst/>
            <a:rect l="l" t="t" r="r" b="b"/>
            <a:pathLst>
              <a:path w="3251" h="1">
                <a:moveTo>
                  <a:pt x="11137" y="4762"/>
                </a:moveTo>
                <a:cubicBezTo>
                  <a:pt x="11179" y="4762"/>
                  <a:pt x="11170" y="4762"/>
                  <a:pt x="11212" y="4762"/>
                </a:cubicBezTo>
                <a:cubicBezTo>
                  <a:pt x="12262" y="4762"/>
                  <a:pt x="13312" y="4762"/>
                  <a:pt x="14362" y="4762"/>
                </a:cubicBezTo>
              </a:path>
            </a:pathLst>
          </a:custGeom>
          <a:noFill/>
          <a:ln cap="rnd" w="1908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5214960" y="3025800"/>
            <a:ext cx="642960" cy="490680"/>
          </a:xfrm>
          <a:custGeom>
            <a:avLst/>
            <a:gdLst/>
            <a:ahLst/>
            <a:rect l="l" t="t" r="r" b="b"/>
            <a:pathLst>
              <a:path w="1787" h="1365">
                <a:moveTo>
                  <a:pt x="15751" y="5383"/>
                </a:moveTo>
                <a:cubicBezTo>
                  <a:pt x="15713" y="5410"/>
                  <a:pt x="15699" y="5407"/>
                  <a:pt x="15652" y="5407"/>
                </a:cubicBezTo>
                <a:cubicBezTo>
                  <a:pt x="15543" y="5407"/>
                  <a:pt x="15455" y="5407"/>
                  <a:pt x="15354" y="5432"/>
                </a:cubicBezTo>
                <a:cubicBezTo>
                  <a:pt x="15346" y="5432"/>
                  <a:pt x="15337" y="5432"/>
                  <a:pt x="15329" y="5432"/>
                </a:cubicBezTo>
                <a:cubicBezTo>
                  <a:pt x="15393" y="5394"/>
                  <a:pt x="15455" y="5404"/>
                  <a:pt x="15528" y="5383"/>
                </a:cubicBezTo>
                <a:cubicBezTo>
                  <a:pt x="15569" y="5371"/>
                  <a:pt x="15596" y="5356"/>
                  <a:pt x="15627" y="5333"/>
                </a:cubicBezTo>
                <a:cubicBezTo>
                  <a:pt x="15462" y="5333"/>
                  <a:pt x="14999" y="5361"/>
                  <a:pt x="15156" y="5308"/>
                </a:cubicBezTo>
                <a:cubicBezTo>
                  <a:pt x="15199" y="5293"/>
                  <a:pt x="15261" y="5289"/>
                  <a:pt x="15304" y="5283"/>
                </a:cubicBezTo>
                <a:cubicBezTo>
                  <a:pt x="15220" y="5283"/>
                  <a:pt x="15203" y="5295"/>
                  <a:pt x="15131" y="5333"/>
                </a:cubicBezTo>
                <a:cubicBezTo>
                  <a:pt x="15079" y="5361"/>
                  <a:pt x="15072" y="5389"/>
                  <a:pt x="15056" y="5358"/>
                </a:cubicBezTo>
                <a:cubicBezTo>
                  <a:pt x="15255" y="5358"/>
                  <a:pt x="15453" y="5358"/>
                  <a:pt x="15652" y="5358"/>
                </a:cubicBezTo>
                <a:cubicBezTo>
                  <a:pt x="15571" y="5368"/>
                  <a:pt x="15532" y="5408"/>
                  <a:pt x="15453" y="5432"/>
                </a:cubicBezTo>
                <a:cubicBezTo>
                  <a:pt x="15344" y="5465"/>
                  <a:pt x="15229" y="5480"/>
                  <a:pt x="15131" y="5531"/>
                </a:cubicBezTo>
                <a:cubicBezTo>
                  <a:pt x="15114" y="5539"/>
                  <a:pt x="15098" y="5548"/>
                  <a:pt x="15081" y="5556"/>
                </a:cubicBezTo>
                <a:cubicBezTo>
                  <a:pt x="15147" y="5523"/>
                  <a:pt x="15228" y="5526"/>
                  <a:pt x="15304" y="5507"/>
                </a:cubicBezTo>
                <a:cubicBezTo>
                  <a:pt x="15362" y="5488"/>
                  <a:pt x="15369" y="5479"/>
                  <a:pt x="15404" y="5482"/>
                </a:cubicBezTo>
                <a:cubicBezTo>
                  <a:pt x="15239" y="5482"/>
                  <a:pt x="15073" y="5482"/>
                  <a:pt x="14908" y="5482"/>
                </a:cubicBezTo>
                <a:cubicBezTo>
                  <a:pt x="14980" y="5467"/>
                  <a:pt x="15057" y="5454"/>
                  <a:pt x="15131" y="5432"/>
                </a:cubicBezTo>
                <a:cubicBezTo>
                  <a:pt x="15237" y="5401"/>
                  <a:pt x="15353" y="5376"/>
                  <a:pt x="15453" y="5333"/>
                </a:cubicBezTo>
                <a:cubicBezTo>
                  <a:pt x="15197" y="5333"/>
                  <a:pt x="14940" y="5333"/>
                  <a:pt x="14684" y="5333"/>
                </a:cubicBezTo>
                <a:cubicBezTo>
                  <a:pt x="14622" y="5333"/>
                  <a:pt x="14781" y="5333"/>
                  <a:pt x="14808" y="5333"/>
                </a:cubicBezTo>
                <a:cubicBezTo>
                  <a:pt x="14813" y="5333"/>
                  <a:pt x="15070" y="5321"/>
                  <a:pt x="14982" y="5308"/>
                </a:cubicBezTo>
                <a:cubicBezTo>
                  <a:pt x="14974" y="5308"/>
                  <a:pt x="14965" y="5308"/>
                  <a:pt x="14957" y="5308"/>
                </a:cubicBezTo>
              </a:path>
              <a:path w="1787" h="1365">
                <a:moveTo>
                  <a:pt x="16148" y="5011"/>
                </a:moveTo>
                <a:cubicBezTo>
                  <a:pt x="16148" y="4960"/>
                  <a:pt x="16159" y="4952"/>
                  <a:pt x="16173" y="4911"/>
                </a:cubicBezTo>
                <a:cubicBezTo>
                  <a:pt x="16186" y="4872"/>
                  <a:pt x="16173" y="4802"/>
                  <a:pt x="16173" y="4762"/>
                </a:cubicBezTo>
              </a:path>
              <a:path w="1787" h="1365">
                <a:moveTo>
                  <a:pt x="14486" y="4862"/>
                </a:moveTo>
                <a:cubicBezTo>
                  <a:pt x="14486" y="4738"/>
                  <a:pt x="14486" y="4614"/>
                  <a:pt x="14486" y="4490"/>
                </a:cubicBezTo>
              </a:path>
              <a:path w="1787" h="1365">
                <a:moveTo>
                  <a:pt x="15354" y="4192"/>
                </a:moveTo>
                <a:cubicBezTo>
                  <a:pt x="15354" y="4572"/>
                  <a:pt x="15354" y="4953"/>
                  <a:pt x="15354" y="5333"/>
                </a:cubicBezTo>
              </a:path>
              <a:path w="1787" h="1365">
                <a:moveTo>
                  <a:pt x="14759" y="4713"/>
                </a:moveTo>
                <a:cubicBezTo>
                  <a:pt x="14827" y="4758"/>
                  <a:pt x="14876" y="4762"/>
                  <a:pt x="14957" y="4762"/>
                </a:cubicBezTo>
                <a:cubicBezTo>
                  <a:pt x="15263" y="4762"/>
                  <a:pt x="15569" y="4762"/>
                  <a:pt x="15875" y="4762"/>
                </a:cubicBezTo>
              </a:path>
              <a:path w="1787" h="1365">
                <a:moveTo>
                  <a:pt x="15131" y="4266"/>
                </a:moveTo>
                <a:cubicBezTo>
                  <a:pt x="15131" y="4385"/>
                  <a:pt x="15121" y="4510"/>
                  <a:pt x="15156" y="4614"/>
                </a:cubicBezTo>
                <a:cubicBezTo>
                  <a:pt x="15171" y="4659"/>
                  <a:pt x="15144" y="4672"/>
                  <a:pt x="15180" y="4713"/>
                </a:cubicBezTo>
                <a:cubicBezTo>
                  <a:pt x="15202" y="4735"/>
                  <a:pt x="15211" y="4740"/>
                  <a:pt x="15205" y="4762"/>
                </a:cubicBezTo>
                <a:cubicBezTo>
                  <a:pt x="15246" y="4772"/>
                  <a:pt x="15275" y="4791"/>
                  <a:pt x="15280" y="4837"/>
                </a:cubicBezTo>
                <a:cubicBezTo>
                  <a:pt x="15290" y="4924"/>
                  <a:pt x="15277" y="5012"/>
                  <a:pt x="15255" y="5085"/>
                </a:cubicBezTo>
                <a:cubicBezTo>
                  <a:pt x="15245" y="5117"/>
                  <a:pt x="15233" y="5153"/>
                  <a:pt x="15230" y="5184"/>
                </a:cubicBezTo>
                <a:cubicBezTo>
                  <a:pt x="15227" y="5208"/>
                  <a:pt x="15230" y="5352"/>
                  <a:pt x="15230" y="5234"/>
                </a:cubicBezTo>
              </a:path>
              <a:path w="1787" h="1365">
                <a:moveTo>
                  <a:pt x="14759" y="4539"/>
                </a:moveTo>
                <a:cubicBezTo>
                  <a:pt x="14772" y="4591"/>
                  <a:pt x="14795" y="4581"/>
                  <a:pt x="14833" y="4614"/>
                </a:cubicBezTo>
                <a:cubicBezTo>
                  <a:pt x="14871" y="4647"/>
                  <a:pt x="14922" y="4622"/>
                  <a:pt x="14957" y="4663"/>
                </a:cubicBezTo>
                <a:cubicBezTo>
                  <a:pt x="14957" y="4671"/>
                  <a:pt x="14957" y="4680"/>
                  <a:pt x="14957" y="4688"/>
                </a:cubicBezTo>
                <a:cubicBezTo>
                  <a:pt x="15035" y="4688"/>
                  <a:pt x="15084" y="4700"/>
                  <a:pt x="15156" y="4713"/>
                </a:cubicBezTo>
                <a:cubicBezTo>
                  <a:pt x="15234" y="4727"/>
                  <a:pt x="15315" y="4709"/>
                  <a:pt x="15379" y="4688"/>
                </a:cubicBezTo>
                <a:cubicBezTo>
                  <a:pt x="15413" y="4677"/>
                  <a:pt x="15449" y="4683"/>
                  <a:pt x="15478" y="4663"/>
                </a:cubicBezTo>
                <a:cubicBezTo>
                  <a:pt x="15512" y="4640"/>
                  <a:pt x="15561" y="4618"/>
                  <a:pt x="15602" y="4614"/>
                </a:cubicBezTo>
                <a:cubicBezTo>
                  <a:pt x="15656" y="4608"/>
                  <a:pt x="15680" y="4604"/>
                  <a:pt x="15726" y="4589"/>
                </a:cubicBezTo>
                <a:cubicBezTo>
                  <a:pt x="15734" y="4589"/>
                  <a:pt x="15743" y="4589"/>
                  <a:pt x="15751" y="4589"/>
                </a:cubicBezTo>
              </a:path>
              <a:path w="1787" h="1365">
                <a:moveTo>
                  <a:pt x="15304" y="4217"/>
                </a:moveTo>
                <a:cubicBezTo>
                  <a:pt x="15267" y="4239"/>
                  <a:pt x="15217" y="4247"/>
                  <a:pt x="15180" y="4266"/>
                </a:cubicBezTo>
                <a:cubicBezTo>
                  <a:pt x="15150" y="4281"/>
                  <a:pt x="15105" y="4319"/>
                  <a:pt x="15081" y="4341"/>
                </a:cubicBezTo>
                <a:cubicBezTo>
                  <a:pt x="15061" y="4359"/>
                  <a:pt x="15041" y="4363"/>
                  <a:pt x="15007" y="4390"/>
                </a:cubicBezTo>
                <a:cubicBezTo>
                  <a:pt x="14994" y="4401"/>
                  <a:pt x="14957" y="4439"/>
                  <a:pt x="14932" y="4465"/>
                </a:cubicBezTo>
                <a:cubicBezTo>
                  <a:pt x="14909" y="4489"/>
                  <a:pt x="14925" y="4504"/>
                  <a:pt x="14908" y="4539"/>
                </a:cubicBezTo>
                <a:cubicBezTo>
                  <a:pt x="14891" y="4573"/>
                  <a:pt x="14898" y="4606"/>
                  <a:pt x="14883" y="4638"/>
                </a:cubicBezTo>
                <a:cubicBezTo>
                  <a:pt x="14863" y="4681"/>
                  <a:pt x="14861" y="4687"/>
                  <a:pt x="14858" y="4738"/>
                </a:cubicBezTo>
                <a:cubicBezTo>
                  <a:pt x="14853" y="4825"/>
                  <a:pt x="14831" y="4995"/>
                  <a:pt x="14883" y="5060"/>
                </a:cubicBezTo>
                <a:cubicBezTo>
                  <a:pt x="14910" y="5094"/>
                  <a:pt x="14913" y="5114"/>
                  <a:pt x="14932" y="5135"/>
                </a:cubicBezTo>
                <a:cubicBezTo>
                  <a:pt x="14963" y="5170"/>
                  <a:pt x="15011" y="5181"/>
                  <a:pt x="15056" y="5184"/>
                </a:cubicBezTo>
                <a:cubicBezTo>
                  <a:pt x="15190" y="5192"/>
                  <a:pt x="15412" y="5206"/>
                  <a:pt x="15503" y="5159"/>
                </a:cubicBezTo>
                <a:cubicBezTo>
                  <a:pt x="15536" y="5142"/>
                  <a:pt x="15568" y="5130"/>
                  <a:pt x="15602" y="5110"/>
                </a:cubicBezTo>
                <a:cubicBezTo>
                  <a:pt x="15632" y="5092"/>
                  <a:pt x="15669" y="5080"/>
                  <a:pt x="15701" y="5060"/>
                </a:cubicBezTo>
                <a:cubicBezTo>
                  <a:pt x="15745" y="5034"/>
                  <a:pt x="15748" y="5045"/>
                  <a:pt x="15751" y="4986"/>
                </a:cubicBezTo>
                <a:cubicBezTo>
                  <a:pt x="15759" y="4854"/>
                  <a:pt x="15745" y="4682"/>
                  <a:pt x="15726" y="4589"/>
                </a:cubicBezTo>
                <a:cubicBezTo>
                  <a:pt x="15719" y="4556"/>
                  <a:pt x="15708" y="4547"/>
                  <a:pt x="15701" y="4514"/>
                </a:cubicBezTo>
                <a:cubicBezTo>
                  <a:pt x="15692" y="4470"/>
                  <a:pt x="15688" y="4460"/>
                  <a:pt x="15677" y="4440"/>
                </a:cubicBezTo>
                <a:cubicBezTo>
                  <a:pt x="15653" y="4395"/>
                  <a:pt x="15639" y="4393"/>
                  <a:pt x="15602" y="4366"/>
                </a:cubicBezTo>
                <a:cubicBezTo>
                  <a:pt x="15592" y="4359"/>
                  <a:pt x="15563" y="4326"/>
                  <a:pt x="15553" y="4316"/>
                </a:cubicBezTo>
                <a:cubicBezTo>
                  <a:pt x="15521" y="4283"/>
                  <a:pt x="15482" y="4264"/>
                  <a:pt x="15453" y="4242"/>
                </a:cubicBezTo>
                <a:cubicBezTo>
                  <a:pt x="15414" y="4212"/>
                  <a:pt x="15403" y="4220"/>
                  <a:pt x="15354" y="4217"/>
                </a:cubicBezTo>
                <a:cubicBezTo>
                  <a:pt x="15229" y="4210"/>
                  <a:pt x="15068" y="4225"/>
                  <a:pt x="14982" y="4242"/>
                </a:cubicBezTo>
                <a:cubicBezTo>
                  <a:pt x="14906" y="4257"/>
                  <a:pt x="14971" y="4255"/>
                  <a:pt x="14932" y="4291"/>
                </a:cubicBezTo>
                <a:cubicBezTo>
                  <a:pt x="14920" y="4302"/>
                  <a:pt x="14860" y="4333"/>
                  <a:pt x="14858" y="4341"/>
                </a:cubicBezTo>
                <a:cubicBezTo>
                  <a:pt x="14850" y="4367"/>
                  <a:pt x="14837" y="4420"/>
                  <a:pt x="14833" y="4440"/>
                </a:cubicBezTo>
                <a:cubicBezTo>
                  <a:pt x="14808" y="4564"/>
                  <a:pt x="14786" y="4970"/>
                  <a:pt x="14858" y="5060"/>
                </a:cubicBezTo>
                <a:cubicBezTo>
                  <a:pt x="14901" y="5113"/>
                  <a:pt x="14884" y="5082"/>
                  <a:pt x="14932" y="5110"/>
                </a:cubicBezTo>
                <a:cubicBezTo>
                  <a:pt x="14962" y="5128"/>
                  <a:pt x="15010" y="5163"/>
                  <a:pt x="15032" y="5159"/>
                </a:cubicBezTo>
                <a:cubicBezTo>
                  <a:pt x="15056" y="5159"/>
                  <a:pt x="15064" y="5159"/>
                  <a:pt x="15056" y="5135"/>
                </a:cubicBezTo>
                <a:cubicBezTo>
                  <a:pt x="15038" y="5072"/>
                  <a:pt x="15036" y="5087"/>
                  <a:pt x="14982" y="5035"/>
                </a:cubicBezTo>
                <a:cubicBezTo>
                  <a:pt x="14966" y="5020"/>
                  <a:pt x="14950" y="4985"/>
                  <a:pt x="14932" y="4961"/>
                </a:cubicBezTo>
                <a:cubicBezTo>
                  <a:pt x="14924" y="4950"/>
                  <a:pt x="14870" y="4925"/>
                  <a:pt x="14858" y="4911"/>
                </a:cubicBezTo>
                <a:cubicBezTo>
                  <a:pt x="14844" y="4895"/>
                  <a:pt x="14830" y="4859"/>
                  <a:pt x="14808" y="4837"/>
                </a:cubicBezTo>
                <a:cubicBezTo>
                  <a:pt x="14826" y="4899"/>
                  <a:pt x="14810" y="4863"/>
                  <a:pt x="14858" y="4911"/>
                </a:cubicBezTo>
                <a:cubicBezTo>
                  <a:pt x="14869" y="4921"/>
                  <a:pt x="14911" y="4998"/>
                  <a:pt x="14932" y="5011"/>
                </a:cubicBezTo>
                <a:cubicBezTo>
                  <a:pt x="14969" y="5034"/>
                  <a:pt x="15020" y="5030"/>
                  <a:pt x="15056" y="5060"/>
                </a:cubicBezTo>
                <a:cubicBezTo>
                  <a:pt x="15072" y="5074"/>
                  <a:pt x="15153" y="5134"/>
                  <a:pt x="15156" y="5135"/>
                </a:cubicBezTo>
                <a:cubicBezTo>
                  <a:pt x="15275" y="5183"/>
                  <a:pt x="15542" y="5132"/>
                  <a:pt x="15652" y="5110"/>
                </a:cubicBezTo>
                <a:cubicBezTo>
                  <a:pt x="15705" y="5099"/>
                  <a:pt x="15698" y="5108"/>
                  <a:pt x="15726" y="5085"/>
                </a:cubicBezTo>
                <a:cubicBezTo>
                  <a:pt x="15779" y="5042"/>
                  <a:pt x="15748" y="5059"/>
                  <a:pt x="15776" y="5011"/>
                </a:cubicBezTo>
                <a:cubicBezTo>
                  <a:pt x="15809" y="4955"/>
                  <a:pt x="15817" y="5006"/>
                  <a:pt x="15825" y="4936"/>
                </a:cubicBezTo>
                <a:cubicBezTo>
                  <a:pt x="15835" y="4854"/>
                  <a:pt x="15849" y="4675"/>
                  <a:pt x="15801" y="4614"/>
                </a:cubicBezTo>
                <a:cubicBezTo>
                  <a:pt x="15778" y="4585"/>
                  <a:pt x="15761" y="4575"/>
                  <a:pt x="15751" y="4539"/>
                </a:cubicBezTo>
                <a:cubicBezTo>
                  <a:pt x="15735" y="4481"/>
                  <a:pt x="15739" y="4500"/>
                  <a:pt x="15701" y="4465"/>
                </a:cubicBezTo>
                <a:cubicBezTo>
                  <a:pt x="15665" y="4431"/>
                  <a:pt x="15663" y="4425"/>
                  <a:pt x="15627" y="4390"/>
                </a:cubicBezTo>
                <a:cubicBezTo>
                  <a:pt x="15595" y="4359"/>
                  <a:pt x="15579" y="4357"/>
                  <a:pt x="15553" y="4341"/>
                </a:cubicBezTo>
                <a:cubicBezTo>
                  <a:pt x="15520" y="4321"/>
                  <a:pt x="15485" y="4320"/>
                  <a:pt x="15453" y="4291"/>
                </a:cubicBezTo>
                <a:cubicBezTo>
                  <a:pt x="15401" y="4243"/>
                  <a:pt x="15356" y="4243"/>
                  <a:pt x="15304" y="4217"/>
                </a:cubicBezTo>
                <a:cubicBezTo>
                  <a:pt x="15282" y="4206"/>
                  <a:pt x="15281" y="4195"/>
                  <a:pt x="15230" y="4192"/>
                </a:cubicBezTo>
                <a:cubicBezTo>
                  <a:pt x="15158" y="4188"/>
                  <a:pt x="15090" y="4186"/>
                  <a:pt x="15032" y="4217"/>
                </a:cubicBezTo>
                <a:cubicBezTo>
                  <a:pt x="14995" y="4237"/>
                  <a:pt x="14967" y="4256"/>
                  <a:pt x="14932" y="4291"/>
                </a:cubicBezTo>
                <a:cubicBezTo>
                  <a:pt x="14904" y="4319"/>
                  <a:pt x="14919" y="4407"/>
                  <a:pt x="14883" y="4390"/>
                </a:cubicBezTo>
                <a:cubicBezTo>
                  <a:pt x="14879" y="4388"/>
                  <a:pt x="14883" y="4322"/>
                  <a:pt x="14883" y="4316"/>
                </a:cubicBezTo>
              </a:path>
              <a:path w="1787" h="1365">
                <a:moveTo>
                  <a:pt x="16272" y="4589"/>
                </a:moveTo>
                <a:cubicBezTo>
                  <a:pt x="16272" y="4647"/>
                  <a:pt x="16272" y="4704"/>
                  <a:pt x="16272" y="4762"/>
                </a:cubicBezTo>
              </a:path>
            </a:pathLst>
          </a:custGeom>
          <a:noFill/>
          <a:ln cap="rnd" w="1908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3402000" y="3016080"/>
            <a:ext cx="438120" cy="420840"/>
          </a:xfrm>
          <a:custGeom>
            <a:avLst/>
            <a:gdLst/>
            <a:ahLst/>
            <a:rect l="l" t="t" r="r" b="b"/>
            <a:pathLst>
              <a:path w="1216" h="1167">
                <a:moveTo>
                  <a:pt x="10071" y="4316"/>
                </a:moveTo>
                <a:cubicBezTo>
                  <a:pt x="10066" y="4354"/>
                  <a:pt x="10065" y="4385"/>
                  <a:pt x="10046" y="4415"/>
                </a:cubicBezTo>
                <a:cubicBezTo>
                  <a:pt x="10027" y="4445"/>
                  <a:pt x="10024" y="4442"/>
                  <a:pt x="10021" y="4490"/>
                </a:cubicBezTo>
                <a:cubicBezTo>
                  <a:pt x="10006" y="4744"/>
                  <a:pt x="10021" y="5004"/>
                  <a:pt x="10021" y="5259"/>
                </a:cubicBezTo>
                <a:cubicBezTo>
                  <a:pt x="10021" y="5271"/>
                  <a:pt x="10021" y="5375"/>
                  <a:pt x="10021" y="5308"/>
                </a:cubicBezTo>
                <a:cubicBezTo>
                  <a:pt x="10021" y="5110"/>
                  <a:pt x="10021" y="4564"/>
                  <a:pt x="10021" y="4762"/>
                </a:cubicBezTo>
                <a:cubicBezTo>
                  <a:pt x="10021" y="4787"/>
                  <a:pt x="10021" y="4795"/>
                  <a:pt x="10021" y="4812"/>
                </a:cubicBezTo>
                <a:cubicBezTo>
                  <a:pt x="10021" y="4962"/>
                  <a:pt x="10021" y="5245"/>
                  <a:pt x="10021" y="5308"/>
                </a:cubicBezTo>
                <a:cubicBezTo>
                  <a:pt x="10039" y="5277"/>
                  <a:pt x="10064" y="5260"/>
                  <a:pt x="10071" y="5234"/>
                </a:cubicBezTo>
                <a:cubicBezTo>
                  <a:pt x="10109" y="5092"/>
                  <a:pt x="10032" y="4894"/>
                  <a:pt x="10096" y="4787"/>
                </a:cubicBezTo>
                <a:cubicBezTo>
                  <a:pt x="10115" y="4841"/>
                  <a:pt x="10118" y="4857"/>
                  <a:pt x="10120" y="4911"/>
                </a:cubicBezTo>
                <a:cubicBezTo>
                  <a:pt x="10122" y="4972"/>
                  <a:pt x="10098" y="5333"/>
                  <a:pt x="10145" y="5333"/>
                </a:cubicBezTo>
                <a:cubicBezTo>
                  <a:pt x="10183" y="5333"/>
                  <a:pt x="10201" y="5310"/>
                  <a:pt x="10244" y="5308"/>
                </a:cubicBezTo>
                <a:cubicBezTo>
                  <a:pt x="10302" y="5305"/>
                  <a:pt x="10360" y="5308"/>
                  <a:pt x="10418" y="5308"/>
                </a:cubicBezTo>
                <a:cubicBezTo>
                  <a:pt x="10411" y="5260"/>
                  <a:pt x="10405" y="5256"/>
                  <a:pt x="10393" y="5234"/>
                </a:cubicBezTo>
                <a:cubicBezTo>
                  <a:pt x="10374" y="5199"/>
                  <a:pt x="10362" y="5178"/>
                  <a:pt x="10344" y="5159"/>
                </a:cubicBezTo>
                <a:cubicBezTo>
                  <a:pt x="10327" y="5140"/>
                  <a:pt x="10311" y="5116"/>
                  <a:pt x="10294" y="5085"/>
                </a:cubicBezTo>
                <a:cubicBezTo>
                  <a:pt x="10273" y="5045"/>
                  <a:pt x="10260" y="5039"/>
                  <a:pt x="10244" y="5011"/>
                </a:cubicBezTo>
                <a:cubicBezTo>
                  <a:pt x="10227" y="4982"/>
                  <a:pt x="10212" y="4955"/>
                  <a:pt x="10195" y="4936"/>
                </a:cubicBezTo>
                <a:cubicBezTo>
                  <a:pt x="10172" y="4910"/>
                  <a:pt x="10188" y="4898"/>
                  <a:pt x="10170" y="4862"/>
                </a:cubicBezTo>
                <a:cubicBezTo>
                  <a:pt x="10147" y="4817"/>
                  <a:pt x="10155" y="4860"/>
                  <a:pt x="10145" y="4787"/>
                </a:cubicBezTo>
                <a:cubicBezTo>
                  <a:pt x="10169" y="4773"/>
                  <a:pt x="10167" y="4765"/>
                  <a:pt x="10220" y="4762"/>
                </a:cubicBezTo>
                <a:cubicBezTo>
                  <a:pt x="10367" y="4753"/>
                  <a:pt x="10518" y="4762"/>
                  <a:pt x="10666" y="4762"/>
                </a:cubicBezTo>
                <a:cubicBezTo>
                  <a:pt x="10530" y="4762"/>
                  <a:pt x="10169" y="4810"/>
                  <a:pt x="10120" y="4713"/>
                </a:cubicBezTo>
                <a:cubicBezTo>
                  <a:pt x="10172" y="4681"/>
                  <a:pt x="10161" y="4669"/>
                  <a:pt x="10220" y="4638"/>
                </a:cubicBezTo>
                <a:cubicBezTo>
                  <a:pt x="10250" y="4622"/>
                  <a:pt x="10314" y="4595"/>
                  <a:pt x="10344" y="4589"/>
                </a:cubicBezTo>
                <a:cubicBezTo>
                  <a:pt x="10391" y="4580"/>
                  <a:pt x="10401" y="4583"/>
                  <a:pt x="10443" y="4564"/>
                </a:cubicBezTo>
                <a:cubicBezTo>
                  <a:pt x="10477" y="4549"/>
                  <a:pt x="10501" y="4541"/>
                  <a:pt x="10542" y="4539"/>
                </a:cubicBezTo>
                <a:cubicBezTo>
                  <a:pt x="10567" y="4539"/>
                  <a:pt x="10575" y="4539"/>
                  <a:pt x="10592" y="4539"/>
                </a:cubicBezTo>
                <a:cubicBezTo>
                  <a:pt x="10574" y="4530"/>
                  <a:pt x="10517" y="4497"/>
                  <a:pt x="10468" y="4490"/>
                </a:cubicBezTo>
                <a:cubicBezTo>
                  <a:pt x="10390" y="4479"/>
                  <a:pt x="10313" y="4503"/>
                  <a:pt x="10269" y="4465"/>
                </a:cubicBezTo>
                <a:cubicBezTo>
                  <a:pt x="10229" y="4430"/>
                  <a:pt x="10174" y="4377"/>
                  <a:pt x="10145" y="4341"/>
                </a:cubicBezTo>
                <a:cubicBezTo>
                  <a:pt x="10117" y="4306"/>
                  <a:pt x="10093" y="4248"/>
                  <a:pt x="10071" y="4217"/>
                </a:cubicBezTo>
                <a:cubicBezTo>
                  <a:pt x="10046" y="4217"/>
                  <a:pt x="10038" y="4217"/>
                  <a:pt x="10046" y="4192"/>
                </a:cubicBezTo>
                <a:cubicBezTo>
                  <a:pt x="10039" y="4257"/>
                  <a:pt x="10021" y="4294"/>
                  <a:pt x="10021" y="4366"/>
                </a:cubicBezTo>
                <a:cubicBezTo>
                  <a:pt x="10021" y="4506"/>
                  <a:pt x="10021" y="4647"/>
                  <a:pt x="10021" y="4787"/>
                </a:cubicBezTo>
                <a:cubicBezTo>
                  <a:pt x="9971" y="4800"/>
                  <a:pt x="9934" y="4812"/>
                  <a:pt x="9872" y="4812"/>
                </a:cubicBezTo>
                <a:cubicBezTo>
                  <a:pt x="9744" y="4812"/>
                  <a:pt x="9535" y="4839"/>
                  <a:pt x="9451" y="4787"/>
                </a:cubicBezTo>
                <a:cubicBezTo>
                  <a:pt x="9507" y="4755"/>
                  <a:pt x="9505" y="4762"/>
                  <a:pt x="9550" y="4738"/>
                </a:cubicBezTo>
                <a:cubicBezTo>
                  <a:pt x="9571" y="4727"/>
                  <a:pt x="9599" y="4707"/>
                  <a:pt x="9624" y="4688"/>
                </a:cubicBezTo>
                <a:cubicBezTo>
                  <a:pt x="9657" y="4663"/>
                  <a:pt x="9641" y="4667"/>
                  <a:pt x="9649" y="4614"/>
                </a:cubicBezTo>
                <a:cubicBezTo>
                  <a:pt x="9653" y="4586"/>
                  <a:pt x="9655" y="4616"/>
                  <a:pt x="9699" y="4638"/>
                </a:cubicBezTo>
                <a:cubicBezTo>
                  <a:pt x="9733" y="4655"/>
                  <a:pt x="9786" y="4701"/>
                  <a:pt x="9823" y="4713"/>
                </a:cubicBezTo>
                <a:cubicBezTo>
                  <a:pt x="9855" y="4724"/>
                  <a:pt x="9916" y="4733"/>
                  <a:pt x="9947" y="4738"/>
                </a:cubicBezTo>
                <a:cubicBezTo>
                  <a:pt x="9971" y="4738"/>
                  <a:pt x="9980" y="4738"/>
                  <a:pt x="9996" y="4738"/>
                </a:cubicBezTo>
                <a:cubicBezTo>
                  <a:pt x="9961" y="4681"/>
                  <a:pt x="9909" y="4671"/>
                  <a:pt x="9872" y="4638"/>
                </a:cubicBezTo>
                <a:cubicBezTo>
                  <a:pt x="9853" y="4621"/>
                  <a:pt x="9807" y="4576"/>
                  <a:pt x="9798" y="4564"/>
                </a:cubicBezTo>
                <a:cubicBezTo>
                  <a:pt x="9775" y="4535"/>
                  <a:pt x="9751" y="4514"/>
                  <a:pt x="9723" y="4490"/>
                </a:cubicBezTo>
                <a:cubicBezTo>
                  <a:pt x="9710" y="4479"/>
                  <a:pt x="9687" y="4453"/>
                  <a:pt x="9674" y="4440"/>
                </a:cubicBezTo>
                <a:cubicBezTo>
                  <a:pt x="9658" y="4424"/>
                  <a:pt x="9599" y="4366"/>
                  <a:pt x="9599" y="4366"/>
                </a:cubicBezTo>
                <a:cubicBezTo>
                  <a:pt x="9576" y="4296"/>
                  <a:pt x="9610" y="4263"/>
                  <a:pt x="9649" y="4217"/>
                </a:cubicBezTo>
                <a:cubicBezTo>
                  <a:pt x="9653" y="4212"/>
                  <a:pt x="9705" y="4171"/>
                  <a:pt x="9723" y="4167"/>
                </a:cubicBezTo>
                <a:cubicBezTo>
                  <a:pt x="9812" y="4146"/>
                  <a:pt x="9931" y="4167"/>
                  <a:pt x="10021" y="4167"/>
                </a:cubicBezTo>
                <a:cubicBezTo>
                  <a:pt x="9989" y="4183"/>
                  <a:pt x="9955" y="4200"/>
                  <a:pt x="9922" y="4217"/>
                </a:cubicBezTo>
                <a:cubicBezTo>
                  <a:pt x="9887" y="4235"/>
                  <a:pt x="9836" y="4250"/>
                  <a:pt x="9798" y="4266"/>
                </a:cubicBezTo>
                <a:cubicBezTo>
                  <a:pt x="9767" y="4279"/>
                  <a:pt x="9735" y="4308"/>
                  <a:pt x="9723" y="4316"/>
                </a:cubicBezTo>
                <a:cubicBezTo>
                  <a:pt x="9681" y="4342"/>
                  <a:pt x="9672" y="4351"/>
                  <a:pt x="9649" y="4390"/>
                </a:cubicBezTo>
                <a:cubicBezTo>
                  <a:pt x="9628" y="4426"/>
                  <a:pt x="9607" y="4424"/>
                  <a:pt x="9599" y="4465"/>
                </a:cubicBezTo>
                <a:cubicBezTo>
                  <a:pt x="9589" y="4513"/>
                  <a:pt x="9582" y="4540"/>
                  <a:pt x="9575" y="4589"/>
                </a:cubicBezTo>
                <a:cubicBezTo>
                  <a:pt x="9555" y="4728"/>
                  <a:pt x="9583" y="4887"/>
                  <a:pt x="9599" y="5011"/>
                </a:cubicBezTo>
                <a:cubicBezTo>
                  <a:pt x="9608" y="5086"/>
                  <a:pt x="9611" y="5105"/>
                  <a:pt x="9674" y="5159"/>
                </a:cubicBezTo>
                <a:cubicBezTo>
                  <a:pt x="9718" y="5196"/>
                  <a:pt x="9730" y="5216"/>
                  <a:pt x="9773" y="5259"/>
                </a:cubicBezTo>
                <a:cubicBezTo>
                  <a:pt x="9821" y="5306"/>
                  <a:pt x="9832" y="5302"/>
                  <a:pt x="9897" y="5308"/>
                </a:cubicBezTo>
                <a:cubicBezTo>
                  <a:pt x="9952" y="5313"/>
                  <a:pt x="9992" y="5330"/>
                  <a:pt x="10046" y="5333"/>
                </a:cubicBezTo>
                <a:cubicBezTo>
                  <a:pt x="10159" y="5339"/>
                  <a:pt x="10297" y="5351"/>
                  <a:pt x="10393" y="5308"/>
                </a:cubicBezTo>
                <a:cubicBezTo>
                  <a:pt x="10427" y="5293"/>
                  <a:pt x="10457" y="5276"/>
                  <a:pt x="10492" y="5259"/>
                </a:cubicBezTo>
                <a:cubicBezTo>
                  <a:pt x="10515" y="5247"/>
                  <a:pt x="10560" y="5218"/>
                  <a:pt x="10567" y="5209"/>
                </a:cubicBezTo>
                <a:cubicBezTo>
                  <a:pt x="10590" y="5176"/>
                  <a:pt x="10655" y="5152"/>
                  <a:pt x="10666" y="5135"/>
                </a:cubicBezTo>
                <a:cubicBezTo>
                  <a:pt x="10735" y="5031"/>
                  <a:pt x="10657" y="4592"/>
                  <a:pt x="10641" y="4514"/>
                </a:cubicBezTo>
                <a:cubicBezTo>
                  <a:pt x="10628" y="4449"/>
                  <a:pt x="10617" y="4469"/>
                  <a:pt x="10567" y="4415"/>
                </a:cubicBezTo>
                <a:cubicBezTo>
                  <a:pt x="10540" y="4385"/>
                  <a:pt x="10546" y="4398"/>
                  <a:pt x="10492" y="4390"/>
                </a:cubicBezTo>
                <a:cubicBezTo>
                  <a:pt x="10492" y="4586"/>
                  <a:pt x="10544" y="4888"/>
                  <a:pt x="10468" y="5060"/>
                </a:cubicBezTo>
                <a:cubicBezTo>
                  <a:pt x="10461" y="5076"/>
                  <a:pt x="10427" y="5151"/>
                  <a:pt x="10418" y="5159"/>
                </a:cubicBezTo>
                <a:cubicBezTo>
                  <a:pt x="10389" y="5185"/>
                  <a:pt x="10331" y="5203"/>
                  <a:pt x="10294" y="5209"/>
                </a:cubicBezTo>
                <a:cubicBezTo>
                  <a:pt x="10196" y="5225"/>
                  <a:pt x="9916" y="5244"/>
                  <a:pt x="9847" y="5184"/>
                </a:cubicBezTo>
                <a:cubicBezTo>
                  <a:pt x="9819" y="5160"/>
                  <a:pt x="9795" y="5080"/>
                  <a:pt x="9773" y="5060"/>
                </a:cubicBezTo>
                <a:cubicBezTo>
                  <a:pt x="9745" y="5034"/>
                  <a:pt x="9722" y="5025"/>
                  <a:pt x="9699" y="4986"/>
                </a:cubicBezTo>
                <a:cubicBezTo>
                  <a:pt x="9680" y="4953"/>
                  <a:pt x="9665" y="4929"/>
                  <a:pt x="9649" y="4911"/>
                </a:cubicBezTo>
                <a:cubicBezTo>
                  <a:pt x="9632" y="4892"/>
                  <a:pt x="9615" y="4868"/>
                  <a:pt x="9599" y="4837"/>
                </a:cubicBezTo>
                <a:cubicBezTo>
                  <a:pt x="9583" y="4805"/>
                  <a:pt x="9586" y="4772"/>
                  <a:pt x="9575" y="4738"/>
                </a:cubicBezTo>
                <a:cubicBezTo>
                  <a:pt x="9561" y="4697"/>
                  <a:pt x="9553" y="4687"/>
                  <a:pt x="9550" y="4638"/>
                </a:cubicBezTo>
                <a:cubicBezTo>
                  <a:pt x="9545" y="4551"/>
                  <a:pt x="9533" y="4436"/>
                  <a:pt x="9575" y="4366"/>
                </a:cubicBezTo>
                <a:cubicBezTo>
                  <a:pt x="9586" y="4349"/>
                  <a:pt x="9637" y="4320"/>
                  <a:pt x="9649" y="4291"/>
                </a:cubicBezTo>
                <a:cubicBezTo>
                  <a:pt x="9683" y="4208"/>
                  <a:pt x="9584" y="4294"/>
                  <a:pt x="9723" y="4217"/>
                </a:cubicBezTo>
              </a:path>
            </a:pathLst>
          </a:custGeom>
          <a:noFill/>
          <a:ln cap="rnd" w="1908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3143160" y="3014640"/>
            <a:ext cx="71640" cy="162000"/>
          </a:xfrm>
          <a:custGeom>
            <a:avLst/>
            <a:gdLst/>
            <a:ahLst/>
            <a:rect l="l" t="t" r="r" b="b"/>
            <a:pathLst>
              <a:path w="200" h="448">
                <a:moveTo>
                  <a:pt x="8756" y="4986"/>
                </a:moveTo>
                <a:lnTo>
                  <a:pt x="8756" y="4986"/>
                </a:lnTo>
              </a:path>
              <a:path w="200" h="448">
                <a:moveTo>
                  <a:pt x="8756" y="4986"/>
                </a:moveTo>
                <a:cubicBezTo>
                  <a:pt x="8756" y="4961"/>
                  <a:pt x="8756" y="4953"/>
                  <a:pt x="8756" y="4936"/>
                </a:cubicBezTo>
              </a:path>
              <a:path w="200" h="448">
                <a:moveTo>
                  <a:pt x="8731" y="4986"/>
                </a:moveTo>
                <a:cubicBezTo>
                  <a:pt x="8754" y="4955"/>
                  <a:pt x="8777" y="4925"/>
                  <a:pt x="8781" y="4887"/>
                </a:cubicBezTo>
                <a:cubicBezTo>
                  <a:pt x="8781" y="4879"/>
                  <a:pt x="8781" y="4870"/>
                  <a:pt x="8781" y="4862"/>
                </a:cubicBezTo>
              </a:path>
              <a:path w="200" h="448">
                <a:moveTo>
                  <a:pt x="8781" y="4961"/>
                </a:moveTo>
                <a:cubicBezTo>
                  <a:pt x="8781" y="4928"/>
                  <a:pt x="8781" y="4895"/>
                  <a:pt x="8781" y="4862"/>
                </a:cubicBezTo>
              </a:path>
              <a:path w="200" h="448">
                <a:moveTo>
                  <a:pt x="8731" y="4986"/>
                </a:moveTo>
                <a:cubicBezTo>
                  <a:pt x="8731" y="4978"/>
                  <a:pt x="8731" y="4969"/>
                  <a:pt x="8731" y="4961"/>
                </a:cubicBezTo>
                <a:cubicBezTo>
                  <a:pt x="8766" y="4949"/>
                  <a:pt x="8756" y="4954"/>
                  <a:pt x="8756" y="4911"/>
                </a:cubicBezTo>
                <a:cubicBezTo>
                  <a:pt x="8794" y="4899"/>
                  <a:pt x="8781" y="4882"/>
                  <a:pt x="8781" y="4837"/>
                </a:cubicBezTo>
                <a:cubicBezTo>
                  <a:pt x="8816" y="4825"/>
                  <a:pt x="8806" y="4830"/>
                  <a:pt x="8806" y="4787"/>
                </a:cubicBezTo>
              </a:path>
              <a:path w="200" h="448">
                <a:moveTo>
                  <a:pt x="8731" y="5011"/>
                </a:moveTo>
                <a:cubicBezTo>
                  <a:pt x="8731" y="4945"/>
                  <a:pt x="8731" y="4878"/>
                  <a:pt x="8731" y="4812"/>
                </a:cubicBezTo>
              </a:path>
              <a:path w="200" h="448">
                <a:moveTo>
                  <a:pt x="8756" y="4862"/>
                </a:moveTo>
                <a:cubicBezTo>
                  <a:pt x="8756" y="4835"/>
                  <a:pt x="8784" y="4817"/>
                  <a:pt x="8806" y="4787"/>
                </a:cubicBezTo>
              </a:path>
              <a:path w="200" h="448">
                <a:moveTo>
                  <a:pt x="8830" y="4713"/>
                </a:moveTo>
                <a:cubicBezTo>
                  <a:pt x="8830" y="4670"/>
                  <a:pt x="8820" y="4675"/>
                  <a:pt x="8855" y="4663"/>
                </a:cubicBezTo>
                <a:cubicBezTo>
                  <a:pt x="8854" y="4667"/>
                  <a:pt x="8834" y="4734"/>
                  <a:pt x="8830" y="4738"/>
                </a:cubicBezTo>
                <a:cubicBezTo>
                  <a:pt x="8820" y="4747"/>
                  <a:pt x="8785" y="4779"/>
                  <a:pt x="8781" y="4787"/>
                </a:cubicBezTo>
                <a:cubicBezTo>
                  <a:pt x="8764" y="4821"/>
                  <a:pt x="8781" y="4858"/>
                  <a:pt x="8781" y="4787"/>
                </a:cubicBezTo>
                <a:cubicBezTo>
                  <a:pt x="8781" y="4736"/>
                  <a:pt x="8796" y="4734"/>
                  <a:pt x="8806" y="4713"/>
                </a:cubicBezTo>
                <a:cubicBezTo>
                  <a:pt x="8817" y="4691"/>
                  <a:pt x="8827" y="4645"/>
                  <a:pt x="8830" y="4638"/>
                </a:cubicBezTo>
                <a:cubicBezTo>
                  <a:pt x="8843" y="4612"/>
                  <a:pt x="8846" y="4593"/>
                  <a:pt x="8880" y="4589"/>
                </a:cubicBezTo>
                <a:cubicBezTo>
                  <a:pt x="8923" y="4584"/>
                  <a:pt x="8890" y="4577"/>
                  <a:pt x="8930" y="4564"/>
                </a:cubicBezTo>
              </a:path>
            </a:pathLst>
          </a:custGeom>
          <a:noFill/>
          <a:ln cap="rnd" w="1908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3257640" y="2222640"/>
            <a:ext cx="3024000" cy="992160"/>
          </a:xfrm>
          <a:custGeom>
            <a:avLst/>
            <a:gdLst/>
            <a:ahLst/>
            <a:rect l="l" t="t" r="r" b="b"/>
            <a:pathLst>
              <a:path w="1905" h="625">
                <a:moveTo>
                  <a:pt x="1188" y="43"/>
                </a:moveTo>
                <a:cubicBezTo>
                  <a:pt x="1350" y="35"/>
                  <a:pt x="1411" y="27"/>
                  <a:pt x="1588" y="43"/>
                </a:cubicBezTo>
                <a:cubicBezTo>
                  <a:pt x="1615" y="45"/>
                  <a:pt x="1648" y="76"/>
                  <a:pt x="1676" y="83"/>
                </a:cubicBezTo>
                <a:cubicBezTo>
                  <a:pt x="1705" y="102"/>
                  <a:pt x="1735" y="99"/>
                  <a:pt x="1764" y="115"/>
                </a:cubicBezTo>
                <a:cubicBezTo>
                  <a:pt x="1781" y="124"/>
                  <a:pt x="1796" y="136"/>
                  <a:pt x="1812" y="147"/>
                </a:cubicBezTo>
                <a:cubicBezTo>
                  <a:pt x="1819" y="152"/>
                  <a:pt x="1796" y="143"/>
                  <a:pt x="1788" y="139"/>
                </a:cubicBezTo>
                <a:cubicBezTo>
                  <a:pt x="1779" y="135"/>
                  <a:pt x="1773" y="127"/>
                  <a:pt x="1764" y="123"/>
                </a:cubicBezTo>
                <a:cubicBezTo>
                  <a:pt x="1734" y="110"/>
                  <a:pt x="1699" y="101"/>
                  <a:pt x="1668" y="91"/>
                </a:cubicBezTo>
                <a:cubicBezTo>
                  <a:pt x="1660" y="88"/>
                  <a:pt x="1652" y="86"/>
                  <a:pt x="1644" y="83"/>
                </a:cubicBezTo>
                <a:cubicBezTo>
                  <a:pt x="1636" y="80"/>
                  <a:pt x="1612" y="73"/>
                  <a:pt x="1620" y="75"/>
                </a:cubicBezTo>
                <a:cubicBezTo>
                  <a:pt x="1660" y="85"/>
                  <a:pt x="1701" y="94"/>
                  <a:pt x="1740" y="107"/>
                </a:cubicBezTo>
                <a:cubicBezTo>
                  <a:pt x="1774" y="141"/>
                  <a:pt x="1805" y="181"/>
                  <a:pt x="1820" y="227"/>
                </a:cubicBezTo>
                <a:cubicBezTo>
                  <a:pt x="1810" y="619"/>
                  <a:pt x="1905" y="558"/>
                  <a:pt x="1588" y="571"/>
                </a:cubicBezTo>
                <a:cubicBezTo>
                  <a:pt x="1596" y="576"/>
                  <a:pt x="1602" y="587"/>
                  <a:pt x="1612" y="587"/>
                </a:cubicBezTo>
                <a:cubicBezTo>
                  <a:pt x="1673" y="589"/>
                  <a:pt x="1735" y="579"/>
                  <a:pt x="1796" y="579"/>
                </a:cubicBezTo>
                <a:cubicBezTo>
                  <a:pt x="1849" y="579"/>
                  <a:pt x="1689" y="584"/>
                  <a:pt x="1636" y="587"/>
                </a:cubicBezTo>
                <a:cubicBezTo>
                  <a:pt x="1633" y="598"/>
                  <a:pt x="1638" y="616"/>
                  <a:pt x="1628" y="619"/>
                </a:cubicBezTo>
                <a:cubicBezTo>
                  <a:pt x="1625" y="620"/>
                  <a:pt x="1593" y="553"/>
                  <a:pt x="1588" y="547"/>
                </a:cubicBezTo>
                <a:cubicBezTo>
                  <a:pt x="1551" y="503"/>
                  <a:pt x="1503" y="500"/>
                  <a:pt x="1452" y="483"/>
                </a:cubicBezTo>
                <a:cubicBezTo>
                  <a:pt x="1412" y="486"/>
                  <a:pt x="1372" y="484"/>
                  <a:pt x="1332" y="491"/>
                </a:cubicBezTo>
                <a:cubicBezTo>
                  <a:pt x="1317" y="494"/>
                  <a:pt x="1250" y="582"/>
                  <a:pt x="1236" y="603"/>
                </a:cubicBezTo>
                <a:cubicBezTo>
                  <a:pt x="1228" y="578"/>
                  <a:pt x="1225" y="541"/>
                  <a:pt x="1252" y="523"/>
                </a:cubicBezTo>
                <a:cubicBezTo>
                  <a:pt x="1261" y="517"/>
                  <a:pt x="1273" y="518"/>
                  <a:pt x="1284" y="515"/>
                </a:cubicBezTo>
                <a:cubicBezTo>
                  <a:pt x="1292" y="513"/>
                  <a:pt x="1316" y="507"/>
                  <a:pt x="1308" y="507"/>
                </a:cubicBezTo>
                <a:cubicBezTo>
                  <a:pt x="1294" y="507"/>
                  <a:pt x="1281" y="512"/>
                  <a:pt x="1268" y="515"/>
                </a:cubicBezTo>
                <a:cubicBezTo>
                  <a:pt x="1233" y="539"/>
                  <a:pt x="1213" y="573"/>
                  <a:pt x="1172" y="587"/>
                </a:cubicBezTo>
                <a:cubicBezTo>
                  <a:pt x="927" y="584"/>
                  <a:pt x="681" y="589"/>
                  <a:pt x="436" y="579"/>
                </a:cubicBezTo>
                <a:cubicBezTo>
                  <a:pt x="413" y="578"/>
                  <a:pt x="408" y="542"/>
                  <a:pt x="388" y="531"/>
                </a:cubicBezTo>
                <a:cubicBezTo>
                  <a:pt x="344" y="506"/>
                  <a:pt x="302" y="498"/>
                  <a:pt x="252" y="491"/>
                </a:cubicBezTo>
                <a:cubicBezTo>
                  <a:pt x="181" y="467"/>
                  <a:pt x="221" y="473"/>
                  <a:pt x="132" y="483"/>
                </a:cubicBezTo>
                <a:cubicBezTo>
                  <a:pt x="100" y="504"/>
                  <a:pt x="77" y="533"/>
                  <a:pt x="68" y="571"/>
                </a:cubicBezTo>
                <a:cubicBezTo>
                  <a:pt x="65" y="584"/>
                  <a:pt x="60" y="625"/>
                  <a:pt x="60" y="611"/>
                </a:cubicBezTo>
                <a:cubicBezTo>
                  <a:pt x="60" y="512"/>
                  <a:pt x="115" y="518"/>
                  <a:pt x="180" y="475"/>
                </a:cubicBezTo>
                <a:cubicBezTo>
                  <a:pt x="247" y="478"/>
                  <a:pt x="314" y="473"/>
                  <a:pt x="380" y="483"/>
                </a:cubicBezTo>
                <a:cubicBezTo>
                  <a:pt x="388" y="484"/>
                  <a:pt x="383" y="500"/>
                  <a:pt x="388" y="507"/>
                </a:cubicBezTo>
                <a:cubicBezTo>
                  <a:pt x="394" y="515"/>
                  <a:pt x="404" y="518"/>
                  <a:pt x="412" y="523"/>
                </a:cubicBezTo>
                <a:cubicBezTo>
                  <a:pt x="385" y="469"/>
                  <a:pt x="413" y="504"/>
                  <a:pt x="356" y="483"/>
                </a:cubicBezTo>
                <a:cubicBezTo>
                  <a:pt x="347" y="480"/>
                  <a:pt x="341" y="471"/>
                  <a:pt x="332" y="467"/>
                </a:cubicBezTo>
                <a:cubicBezTo>
                  <a:pt x="269" y="439"/>
                  <a:pt x="236" y="448"/>
                  <a:pt x="156" y="443"/>
                </a:cubicBezTo>
                <a:cubicBezTo>
                  <a:pt x="128" y="424"/>
                  <a:pt x="119" y="411"/>
                  <a:pt x="108" y="379"/>
                </a:cubicBezTo>
                <a:cubicBezTo>
                  <a:pt x="25" y="391"/>
                  <a:pt x="65" y="379"/>
                  <a:pt x="28" y="435"/>
                </a:cubicBezTo>
                <a:cubicBezTo>
                  <a:pt x="69" y="449"/>
                  <a:pt x="77" y="453"/>
                  <a:pt x="52" y="491"/>
                </a:cubicBezTo>
                <a:cubicBezTo>
                  <a:pt x="41" y="488"/>
                  <a:pt x="29" y="490"/>
                  <a:pt x="20" y="483"/>
                </a:cubicBezTo>
                <a:cubicBezTo>
                  <a:pt x="0" y="467"/>
                  <a:pt x="12" y="395"/>
                  <a:pt x="36" y="387"/>
                </a:cubicBezTo>
                <a:cubicBezTo>
                  <a:pt x="61" y="379"/>
                  <a:pt x="89" y="382"/>
                  <a:pt x="116" y="379"/>
                </a:cubicBezTo>
                <a:cubicBezTo>
                  <a:pt x="186" y="356"/>
                  <a:pt x="188" y="354"/>
                  <a:pt x="284" y="347"/>
                </a:cubicBezTo>
                <a:cubicBezTo>
                  <a:pt x="328" y="332"/>
                  <a:pt x="365" y="301"/>
                  <a:pt x="404" y="275"/>
                </a:cubicBezTo>
                <a:cubicBezTo>
                  <a:pt x="418" y="266"/>
                  <a:pt x="436" y="264"/>
                  <a:pt x="452" y="259"/>
                </a:cubicBezTo>
                <a:cubicBezTo>
                  <a:pt x="460" y="256"/>
                  <a:pt x="476" y="251"/>
                  <a:pt x="476" y="251"/>
                </a:cubicBezTo>
                <a:cubicBezTo>
                  <a:pt x="509" y="226"/>
                  <a:pt x="540" y="200"/>
                  <a:pt x="580" y="187"/>
                </a:cubicBezTo>
                <a:cubicBezTo>
                  <a:pt x="610" y="141"/>
                  <a:pt x="657" y="132"/>
                  <a:pt x="708" y="123"/>
                </a:cubicBezTo>
                <a:cubicBezTo>
                  <a:pt x="807" y="105"/>
                  <a:pt x="718" y="125"/>
                  <a:pt x="780" y="107"/>
                </a:cubicBezTo>
                <a:cubicBezTo>
                  <a:pt x="791" y="104"/>
                  <a:pt x="823" y="99"/>
                  <a:pt x="812" y="99"/>
                </a:cubicBezTo>
                <a:cubicBezTo>
                  <a:pt x="788" y="99"/>
                  <a:pt x="764" y="107"/>
                  <a:pt x="740" y="107"/>
                </a:cubicBezTo>
                <a:cubicBezTo>
                  <a:pt x="724" y="107"/>
                  <a:pt x="772" y="100"/>
                  <a:pt x="788" y="99"/>
                </a:cubicBezTo>
                <a:cubicBezTo>
                  <a:pt x="908" y="94"/>
                  <a:pt x="1028" y="94"/>
                  <a:pt x="1148" y="91"/>
                </a:cubicBezTo>
                <a:cubicBezTo>
                  <a:pt x="1156" y="83"/>
                  <a:pt x="1165" y="76"/>
                  <a:pt x="1172" y="67"/>
                </a:cubicBezTo>
                <a:cubicBezTo>
                  <a:pt x="1224" y="0"/>
                  <a:pt x="1176" y="23"/>
                  <a:pt x="1268" y="11"/>
                </a:cubicBezTo>
                <a:cubicBezTo>
                  <a:pt x="1393" y="14"/>
                  <a:pt x="1519" y="14"/>
                  <a:pt x="1644" y="19"/>
                </a:cubicBezTo>
                <a:cubicBezTo>
                  <a:pt x="1684" y="21"/>
                  <a:pt x="1657" y="28"/>
                  <a:pt x="1676" y="51"/>
                </a:cubicBezTo>
                <a:cubicBezTo>
                  <a:pt x="1695" y="73"/>
                  <a:pt x="1729" y="90"/>
                  <a:pt x="1756" y="99"/>
                </a:cubicBezTo>
                <a:cubicBezTo>
                  <a:pt x="1787" y="130"/>
                  <a:pt x="1820" y="131"/>
                  <a:pt x="1852" y="163"/>
                </a:cubicBezTo>
                <a:cubicBezTo>
                  <a:pt x="1860" y="171"/>
                  <a:pt x="1876" y="176"/>
                  <a:pt x="1876" y="187"/>
                </a:cubicBezTo>
                <a:cubicBezTo>
                  <a:pt x="1876" y="195"/>
                  <a:pt x="1860" y="182"/>
                  <a:pt x="1852" y="179"/>
                </a:cubicBezTo>
                <a:cubicBezTo>
                  <a:pt x="1832" y="239"/>
                  <a:pt x="1836" y="216"/>
                  <a:pt x="1852" y="331"/>
                </a:cubicBezTo>
                <a:cubicBezTo>
                  <a:pt x="1854" y="348"/>
                  <a:pt x="1868" y="379"/>
                  <a:pt x="1868" y="379"/>
                </a:cubicBezTo>
                <a:cubicBezTo>
                  <a:pt x="1860" y="518"/>
                  <a:pt x="1860" y="470"/>
                  <a:pt x="1860" y="523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5830920" y="3141720"/>
            <a:ext cx="376200" cy="160200"/>
          </a:xfrm>
          <a:custGeom>
            <a:avLst/>
            <a:gdLst/>
            <a:ahLst/>
            <a:rect l="l" t="t" r="r" b="b"/>
            <a:pathLst>
              <a:path w="1043" h="448">
                <a:moveTo>
                  <a:pt x="16197" y="4961"/>
                </a:moveTo>
                <a:cubicBezTo>
                  <a:pt x="16267" y="4961"/>
                  <a:pt x="16966" y="5012"/>
                  <a:pt x="16991" y="4936"/>
                </a:cubicBezTo>
              </a:path>
              <a:path w="1043" h="448">
                <a:moveTo>
                  <a:pt x="16346" y="4539"/>
                </a:moveTo>
                <a:cubicBezTo>
                  <a:pt x="16578" y="4539"/>
                  <a:pt x="16809" y="4539"/>
                  <a:pt x="17041" y="4539"/>
                </a:cubicBezTo>
              </a:path>
              <a:path w="1043" h="448">
                <a:moveTo>
                  <a:pt x="17190" y="4589"/>
                </a:moveTo>
                <a:cubicBezTo>
                  <a:pt x="17190" y="4578"/>
                  <a:pt x="17190" y="4472"/>
                  <a:pt x="17190" y="4539"/>
                </a:cubicBezTo>
                <a:cubicBezTo>
                  <a:pt x="17190" y="4572"/>
                  <a:pt x="17190" y="4605"/>
                  <a:pt x="17190" y="4638"/>
                </a:cubicBezTo>
              </a:path>
              <a:path w="1043" h="448">
                <a:moveTo>
                  <a:pt x="17239" y="4812"/>
                </a:moveTo>
                <a:cubicBezTo>
                  <a:pt x="17239" y="4847"/>
                  <a:pt x="17252" y="4892"/>
                  <a:pt x="17214" y="4911"/>
                </a:cubicBezTo>
                <a:cubicBezTo>
                  <a:pt x="17206" y="4911"/>
                  <a:pt x="17198" y="4911"/>
                  <a:pt x="17190" y="4911"/>
                </a:cubicBezTo>
              </a:path>
            </a:pathLst>
          </a:custGeom>
          <a:noFill/>
          <a:ln cap="rnd" w="1908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4987800" y="2320920"/>
            <a:ext cx="1100160" cy="490680"/>
          </a:xfrm>
          <a:custGeom>
            <a:avLst/>
            <a:gdLst/>
            <a:ahLst/>
            <a:rect l="l" t="t" r="r" b="b"/>
            <a:pathLst>
              <a:path w="693" h="309">
                <a:moveTo>
                  <a:pt x="66" y="109"/>
                </a:moveTo>
                <a:cubicBezTo>
                  <a:pt x="58" y="117"/>
                  <a:pt x="48" y="124"/>
                  <a:pt x="42" y="133"/>
                </a:cubicBezTo>
                <a:cubicBezTo>
                  <a:pt x="27" y="155"/>
                  <a:pt x="40" y="182"/>
                  <a:pt x="26" y="125"/>
                </a:cubicBezTo>
                <a:cubicBezTo>
                  <a:pt x="29" y="112"/>
                  <a:pt x="47" y="81"/>
                  <a:pt x="34" y="85"/>
                </a:cubicBezTo>
                <a:cubicBezTo>
                  <a:pt x="16" y="91"/>
                  <a:pt x="2" y="133"/>
                  <a:pt x="2" y="133"/>
                </a:cubicBezTo>
                <a:cubicBezTo>
                  <a:pt x="5" y="172"/>
                  <a:pt x="0" y="244"/>
                  <a:pt x="10" y="285"/>
                </a:cubicBezTo>
                <a:cubicBezTo>
                  <a:pt x="62" y="233"/>
                  <a:pt x="18" y="272"/>
                  <a:pt x="18" y="293"/>
                </a:cubicBezTo>
                <a:cubicBezTo>
                  <a:pt x="18" y="309"/>
                  <a:pt x="30" y="254"/>
                  <a:pt x="58" y="253"/>
                </a:cubicBezTo>
                <a:cubicBezTo>
                  <a:pt x="260" y="243"/>
                  <a:pt x="463" y="242"/>
                  <a:pt x="666" y="237"/>
                </a:cubicBezTo>
                <a:cubicBezTo>
                  <a:pt x="655" y="71"/>
                  <a:pt x="693" y="149"/>
                  <a:pt x="618" y="93"/>
                </a:cubicBezTo>
                <a:cubicBezTo>
                  <a:pt x="609" y="86"/>
                  <a:pt x="603" y="75"/>
                  <a:pt x="594" y="69"/>
                </a:cubicBezTo>
                <a:cubicBezTo>
                  <a:pt x="577" y="58"/>
                  <a:pt x="557" y="51"/>
                  <a:pt x="538" y="45"/>
                </a:cubicBezTo>
                <a:cubicBezTo>
                  <a:pt x="517" y="38"/>
                  <a:pt x="474" y="29"/>
                  <a:pt x="474" y="29"/>
                </a:cubicBezTo>
                <a:cubicBezTo>
                  <a:pt x="349" y="32"/>
                  <a:pt x="223" y="27"/>
                  <a:pt x="98" y="37"/>
                </a:cubicBezTo>
                <a:cubicBezTo>
                  <a:pt x="63" y="40"/>
                  <a:pt x="58" y="133"/>
                  <a:pt x="58" y="133"/>
                </a:cubicBezTo>
                <a:cubicBezTo>
                  <a:pt x="86" y="189"/>
                  <a:pt x="110" y="174"/>
                  <a:pt x="178" y="181"/>
                </a:cubicBezTo>
                <a:cubicBezTo>
                  <a:pt x="223" y="178"/>
                  <a:pt x="270" y="182"/>
                  <a:pt x="314" y="173"/>
                </a:cubicBezTo>
                <a:cubicBezTo>
                  <a:pt x="323" y="171"/>
                  <a:pt x="329" y="159"/>
                  <a:pt x="330" y="149"/>
                </a:cubicBezTo>
                <a:cubicBezTo>
                  <a:pt x="332" y="125"/>
                  <a:pt x="332" y="99"/>
                  <a:pt x="322" y="77"/>
                </a:cubicBezTo>
                <a:cubicBezTo>
                  <a:pt x="314" y="60"/>
                  <a:pt x="182" y="21"/>
                  <a:pt x="322" y="61"/>
                </a:cubicBezTo>
                <a:cubicBezTo>
                  <a:pt x="311" y="117"/>
                  <a:pt x="311" y="176"/>
                  <a:pt x="290" y="229"/>
                </a:cubicBezTo>
                <a:cubicBezTo>
                  <a:pt x="288" y="233"/>
                  <a:pt x="239" y="214"/>
                  <a:pt x="234" y="213"/>
                </a:cubicBezTo>
                <a:cubicBezTo>
                  <a:pt x="202" y="209"/>
                  <a:pt x="170" y="208"/>
                  <a:pt x="138" y="205"/>
                </a:cubicBezTo>
                <a:cubicBezTo>
                  <a:pt x="135" y="160"/>
                  <a:pt x="142" y="113"/>
                  <a:pt x="130" y="69"/>
                </a:cubicBezTo>
                <a:cubicBezTo>
                  <a:pt x="127" y="58"/>
                  <a:pt x="112" y="84"/>
                  <a:pt x="106" y="93"/>
                </a:cubicBezTo>
                <a:cubicBezTo>
                  <a:pt x="90" y="117"/>
                  <a:pt x="83" y="148"/>
                  <a:pt x="66" y="173"/>
                </a:cubicBezTo>
                <a:cubicBezTo>
                  <a:pt x="63" y="184"/>
                  <a:pt x="48" y="200"/>
                  <a:pt x="58" y="205"/>
                </a:cubicBezTo>
                <a:cubicBezTo>
                  <a:pt x="81" y="218"/>
                  <a:pt x="225" y="227"/>
                  <a:pt x="250" y="229"/>
                </a:cubicBezTo>
                <a:cubicBezTo>
                  <a:pt x="477" y="220"/>
                  <a:pt x="477" y="267"/>
                  <a:pt x="410" y="133"/>
                </a:cubicBezTo>
                <a:cubicBezTo>
                  <a:pt x="402" y="71"/>
                  <a:pt x="381" y="36"/>
                  <a:pt x="442" y="5"/>
                </a:cubicBezTo>
                <a:cubicBezTo>
                  <a:pt x="502" y="15"/>
                  <a:pt x="565" y="0"/>
                  <a:pt x="610" y="45"/>
                </a:cubicBezTo>
                <a:cubicBezTo>
                  <a:pt x="607" y="85"/>
                  <a:pt x="630" y="137"/>
                  <a:pt x="602" y="165"/>
                </a:cubicBezTo>
                <a:cubicBezTo>
                  <a:pt x="574" y="193"/>
                  <a:pt x="521" y="163"/>
                  <a:pt x="482" y="173"/>
                </a:cubicBezTo>
                <a:cubicBezTo>
                  <a:pt x="474" y="175"/>
                  <a:pt x="477" y="189"/>
                  <a:pt x="474" y="197"/>
                </a:cubicBezTo>
                <a:cubicBezTo>
                  <a:pt x="482" y="200"/>
                  <a:pt x="490" y="201"/>
                  <a:pt x="498" y="205"/>
                </a:cubicBezTo>
                <a:cubicBezTo>
                  <a:pt x="507" y="209"/>
                  <a:pt x="513" y="218"/>
                  <a:pt x="522" y="221"/>
                </a:cubicBezTo>
                <a:cubicBezTo>
                  <a:pt x="543" y="229"/>
                  <a:pt x="586" y="237"/>
                  <a:pt x="586" y="237"/>
                </a:cubicBezTo>
                <a:cubicBezTo>
                  <a:pt x="602" y="234"/>
                  <a:pt x="634" y="229"/>
                  <a:pt x="634" y="229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3160800" y="3300480"/>
            <a:ext cx="196920" cy="1440"/>
          </a:xfrm>
          <a:custGeom>
            <a:avLst/>
            <a:gdLst/>
            <a:ahLst/>
            <a:rect l="l" t="t" r="r" b="b"/>
            <a:pathLst>
              <a:path w="547" h="1">
                <a:moveTo>
                  <a:pt x="8781" y="5358"/>
                </a:moveTo>
                <a:cubicBezTo>
                  <a:pt x="8963" y="5358"/>
                  <a:pt x="9145" y="5358"/>
                  <a:pt x="9327" y="5358"/>
                </a:cubicBezTo>
              </a:path>
            </a:pathLst>
          </a:custGeom>
          <a:noFill/>
          <a:ln cap="rnd" w="3492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3894120" y="1714680"/>
            <a:ext cx="1035000" cy="152280"/>
          </a:xfrm>
          <a:custGeom>
            <a:avLst/>
            <a:gdLst/>
            <a:ahLst/>
            <a:rect l="l" t="t" r="r" b="b"/>
            <a:pathLst>
              <a:path w="2878" h="423">
                <a:moveTo>
                  <a:pt x="10815" y="17611"/>
                </a:moveTo>
                <a:cubicBezTo>
                  <a:pt x="10815" y="17636"/>
                  <a:pt x="10815" y="17644"/>
                  <a:pt x="10815" y="17661"/>
                </a:cubicBezTo>
                <a:cubicBezTo>
                  <a:pt x="10838" y="17669"/>
                  <a:pt x="10854" y="17703"/>
                  <a:pt x="10864" y="17735"/>
                </a:cubicBezTo>
                <a:cubicBezTo>
                  <a:pt x="10891" y="17817"/>
                  <a:pt x="10837" y="17797"/>
                  <a:pt x="10914" y="17859"/>
                </a:cubicBezTo>
                <a:cubicBezTo>
                  <a:pt x="10960" y="17896"/>
                  <a:pt x="10923" y="17909"/>
                  <a:pt x="10988" y="17909"/>
                </a:cubicBezTo>
              </a:path>
              <a:path w="2878" h="423">
                <a:moveTo>
                  <a:pt x="11212" y="18008"/>
                </a:moveTo>
                <a:cubicBezTo>
                  <a:pt x="11494" y="18008"/>
                  <a:pt x="11782" y="17999"/>
                  <a:pt x="12055" y="18033"/>
                </a:cubicBezTo>
                <a:cubicBezTo>
                  <a:pt x="12582" y="18100"/>
                  <a:pt x="13161" y="18033"/>
                  <a:pt x="13692" y="18033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4340160" y="1776240"/>
            <a:ext cx="152640" cy="9720"/>
          </a:xfrm>
          <a:custGeom>
            <a:avLst/>
            <a:gdLst/>
            <a:ahLst/>
            <a:rect l="l" t="t" r="r" b="b"/>
            <a:pathLst>
              <a:path w="423" h="26">
                <a:moveTo>
                  <a:pt x="12055" y="17785"/>
                </a:moveTo>
                <a:cubicBezTo>
                  <a:pt x="12196" y="17785"/>
                  <a:pt x="12336" y="17785"/>
                  <a:pt x="12477" y="17785"/>
                </a:cubicBezTo>
                <a:cubicBezTo>
                  <a:pt x="12421" y="17806"/>
                  <a:pt x="12387" y="17810"/>
                  <a:pt x="12328" y="17810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5295960" y="1644480"/>
            <a:ext cx="411120" cy="374760"/>
          </a:xfrm>
          <a:custGeom>
            <a:avLst/>
            <a:gdLst/>
            <a:ahLst/>
            <a:rect l="l" t="t" r="r" b="b"/>
            <a:pathLst>
              <a:path w="1142" h="1043">
                <a:moveTo>
                  <a:pt x="14759" y="4614"/>
                </a:moveTo>
                <a:cubicBezTo>
                  <a:pt x="14759" y="4542"/>
                  <a:pt x="14765" y="4477"/>
                  <a:pt x="14784" y="4440"/>
                </a:cubicBezTo>
                <a:cubicBezTo>
                  <a:pt x="14784" y="4415"/>
                  <a:pt x="14784" y="4407"/>
                  <a:pt x="14784" y="4390"/>
                </a:cubicBezTo>
                <a:cubicBezTo>
                  <a:pt x="14823" y="4430"/>
                  <a:pt x="14749" y="4450"/>
                  <a:pt x="14734" y="4514"/>
                </a:cubicBezTo>
                <a:cubicBezTo>
                  <a:pt x="14723" y="4560"/>
                  <a:pt x="14709" y="4590"/>
                  <a:pt x="14709" y="4638"/>
                </a:cubicBezTo>
              </a:path>
              <a:path w="1142" h="1043">
                <a:moveTo>
                  <a:pt x="14709" y="4638"/>
                </a:moveTo>
                <a:cubicBezTo>
                  <a:pt x="14709" y="4714"/>
                  <a:pt x="14669" y="4967"/>
                  <a:pt x="14734" y="5011"/>
                </a:cubicBezTo>
                <a:cubicBezTo>
                  <a:pt x="14783" y="5044"/>
                  <a:pt x="14795" y="5044"/>
                  <a:pt x="14808" y="5085"/>
                </a:cubicBezTo>
                <a:cubicBezTo>
                  <a:pt x="14808" y="5035"/>
                  <a:pt x="14808" y="5019"/>
                  <a:pt x="14808" y="4986"/>
                </a:cubicBezTo>
              </a:path>
              <a:path w="1142" h="1043">
                <a:moveTo>
                  <a:pt x="14759" y="4663"/>
                </a:moveTo>
                <a:cubicBezTo>
                  <a:pt x="14773" y="4699"/>
                  <a:pt x="14782" y="4720"/>
                  <a:pt x="14784" y="4762"/>
                </a:cubicBezTo>
                <a:cubicBezTo>
                  <a:pt x="14787" y="4811"/>
                  <a:pt x="14781" y="4821"/>
                  <a:pt x="14808" y="4862"/>
                </a:cubicBezTo>
                <a:cubicBezTo>
                  <a:pt x="14828" y="4893"/>
                  <a:pt x="14860" y="4956"/>
                  <a:pt x="14883" y="4986"/>
                </a:cubicBezTo>
                <a:cubicBezTo>
                  <a:pt x="14899" y="5007"/>
                  <a:pt x="14946" y="5075"/>
                  <a:pt x="14957" y="5085"/>
                </a:cubicBezTo>
                <a:cubicBezTo>
                  <a:pt x="15001" y="5123"/>
                  <a:pt x="15054" y="5108"/>
                  <a:pt x="15106" y="5110"/>
                </a:cubicBezTo>
                <a:cubicBezTo>
                  <a:pt x="15131" y="5110"/>
                  <a:pt x="15139" y="5110"/>
                  <a:pt x="15156" y="5110"/>
                </a:cubicBezTo>
                <a:cubicBezTo>
                  <a:pt x="15121" y="5075"/>
                  <a:pt x="15076" y="5032"/>
                  <a:pt x="15056" y="5011"/>
                </a:cubicBezTo>
                <a:cubicBezTo>
                  <a:pt x="15024" y="4979"/>
                  <a:pt x="15023" y="4963"/>
                  <a:pt x="15007" y="4936"/>
                </a:cubicBezTo>
                <a:cubicBezTo>
                  <a:pt x="14983" y="4896"/>
                  <a:pt x="14960" y="4863"/>
                  <a:pt x="14957" y="4812"/>
                </a:cubicBezTo>
                <a:cubicBezTo>
                  <a:pt x="14951" y="4708"/>
                  <a:pt x="14934" y="4500"/>
                  <a:pt x="14982" y="4440"/>
                </a:cubicBezTo>
                <a:cubicBezTo>
                  <a:pt x="15020" y="4393"/>
                  <a:pt x="15025" y="4394"/>
                  <a:pt x="15081" y="4366"/>
                </a:cubicBezTo>
                <a:cubicBezTo>
                  <a:pt x="15118" y="4347"/>
                  <a:pt x="15115" y="4324"/>
                  <a:pt x="15156" y="4316"/>
                </a:cubicBezTo>
                <a:cubicBezTo>
                  <a:pt x="15225" y="4302"/>
                  <a:pt x="15198" y="4296"/>
                  <a:pt x="15280" y="4291"/>
                </a:cubicBezTo>
                <a:cubicBezTo>
                  <a:pt x="15324" y="4288"/>
                  <a:pt x="15339" y="4273"/>
                  <a:pt x="15379" y="4266"/>
                </a:cubicBezTo>
                <a:cubicBezTo>
                  <a:pt x="15426" y="4258"/>
                  <a:pt x="15481" y="4266"/>
                  <a:pt x="15528" y="4266"/>
                </a:cubicBezTo>
                <a:cubicBezTo>
                  <a:pt x="15467" y="4236"/>
                  <a:pt x="15422" y="4215"/>
                  <a:pt x="15379" y="4192"/>
                </a:cubicBezTo>
                <a:cubicBezTo>
                  <a:pt x="15356" y="4180"/>
                  <a:pt x="15355" y="4170"/>
                  <a:pt x="15304" y="4167"/>
                </a:cubicBezTo>
                <a:cubicBezTo>
                  <a:pt x="15272" y="4165"/>
                  <a:pt x="15237" y="4167"/>
                  <a:pt x="15205" y="4167"/>
                </a:cubicBezTo>
                <a:cubicBezTo>
                  <a:pt x="15255" y="4167"/>
                  <a:pt x="15254" y="4167"/>
                  <a:pt x="15304" y="4167"/>
                </a:cubicBezTo>
                <a:cubicBezTo>
                  <a:pt x="15395" y="4167"/>
                  <a:pt x="15486" y="4167"/>
                  <a:pt x="15577" y="4167"/>
                </a:cubicBezTo>
                <a:cubicBezTo>
                  <a:pt x="15577" y="4285"/>
                  <a:pt x="15554" y="4431"/>
                  <a:pt x="15602" y="4539"/>
                </a:cubicBezTo>
                <a:cubicBezTo>
                  <a:pt x="15626" y="4593"/>
                  <a:pt x="15624" y="4608"/>
                  <a:pt x="15627" y="4663"/>
                </a:cubicBezTo>
                <a:cubicBezTo>
                  <a:pt x="15631" y="4747"/>
                  <a:pt x="15638" y="4843"/>
                  <a:pt x="15602" y="4911"/>
                </a:cubicBezTo>
                <a:cubicBezTo>
                  <a:pt x="15584" y="4944"/>
                  <a:pt x="15568" y="4962"/>
                  <a:pt x="15553" y="4986"/>
                </a:cubicBezTo>
                <a:cubicBezTo>
                  <a:pt x="15529" y="5023"/>
                  <a:pt x="15500" y="5063"/>
                  <a:pt x="15478" y="5085"/>
                </a:cubicBezTo>
                <a:cubicBezTo>
                  <a:pt x="15461" y="5102"/>
                  <a:pt x="15446" y="5118"/>
                  <a:pt x="15429" y="5135"/>
                </a:cubicBezTo>
                <a:cubicBezTo>
                  <a:pt x="15385" y="5178"/>
                  <a:pt x="15347" y="5164"/>
                  <a:pt x="15304" y="5184"/>
                </a:cubicBezTo>
                <a:cubicBezTo>
                  <a:pt x="15282" y="5207"/>
                  <a:pt x="15277" y="5215"/>
                  <a:pt x="15255" y="5209"/>
                </a:cubicBezTo>
                <a:cubicBezTo>
                  <a:pt x="15248" y="5162"/>
                  <a:pt x="15252" y="5140"/>
                  <a:pt x="15205" y="5110"/>
                </a:cubicBezTo>
                <a:cubicBezTo>
                  <a:pt x="15167" y="5085"/>
                  <a:pt x="15145" y="5069"/>
                  <a:pt x="15106" y="5035"/>
                </a:cubicBezTo>
                <a:cubicBezTo>
                  <a:pt x="15095" y="5025"/>
                  <a:pt x="15034" y="4967"/>
                  <a:pt x="15032" y="4961"/>
                </a:cubicBezTo>
                <a:cubicBezTo>
                  <a:pt x="15008" y="4870"/>
                  <a:pt x="15017" y="4638"/>
                  <a:pt x="15056" y="4589"/>
                </a:cubicBezTo>
                <a:cubicBezTo>
                  <a:pt x="15088" y="4548"/>
                  <a:pt x="15133" y="4566"/>
                  <a:pt x="15180" y="4564"/>
                </a:cubicBezTo>
                <a:cubicBezTo>
                  <a:pt x="15254" y="4561"/>
                  <a:pt x="15320" y="4572"/>
                  <a:pt x="15354" y="4589"/>
                </a:cubicBezTo>
                <a:cubicBezTo>
                  <a:pt x="15250" y="4589"/>
                  <a:pt x="15255" y="4592"/>
                  <a:pt x="15205" y="4638"/>
                </a:cubicBezTo>
                <a:cubicBezTo>
                  <a:pt x="15181" y="4660"/>
                  <a:pt x="15137" y="4655"/>
                  <a:pt x="15156" y="4713"/>
                </a:cubicBezTo>
                <a:cubicBezTo>
                  <a:pt x="15168" y="4749"/>
                  <a:pt x="15214" y="4827"/>
                  <a:pt x="15230" y="4862"/>
                </a:cubicBezTo>
                <a:cubicBezTo>
                  <a:pt x="15247" y="4898"/>
                  <a:pt x="15246" y="4939"/>
                  <a:pt x="15280" y="4961"/>
                </a:cubicBezTo>
                <a:cubicBezTo>
                  <a:pt x="15306" y="4978"/>
                  <a:pt x="15332" y="5005"/>
                  <a:pt x="15354" y="5011"/>
                </a:cubicBezTo>
                <a:cubicBezTo>
                  <a:pt x="15402" y="5024"/>
                  <a:pt x="15388" y="4996"/>
                  <a:pt x="15404" y="4986"/>
                </a:cubicBezTo>
              </a:path>
              <a:path w="1142" h="1043">
                <a:moveTo>
                  <a:pt x="15404" y="4787"/>
                </a:moveTo>
                <a:cubicBezTo>
                  <a:pt x="15544" y="4787"/>
                  <a:pt x="15685" y="4787"/>
                  <a:pt x="15825" y="4787"/>
                </a:cubicBezTo>
                <a:cubicBezTo>
                  <a:pt x="15892" y="4787"/>
                  <a:pt x="15787" y="4787"/>
                  <a:pt x="15776" y="4787"/>
                </a:cubicBezTo>
                <a:cubicBezTo>
                  <a:pt x="15689" y="4787"/>
                  <a:pt x="15726" y="4756"/>
                  <a:pt x="15652" y="4738"/>
                </a:cubicBezTo>
                <a:cubicBezTo>
                  <a:pt x="15591" y="4723"/>
                  <a:pt x="15547" y="4713"/>
                  <a:pt x="15478" y="4713"/>
                </a:cubicBezTo>
                <a:cubicBezTo>
                  <a:pt x="15439" y="4713"/>
                  <a:pt x="15424" y="4688"/>
                  <a:pt x="15379" y="4688"/>
                </a:cubicBezTo>
                <a:cubicBezTo>
                  <a:pt x="15338" y="4688"/>
                  <a:pt x="15296" y="4688"/>
                  <a:pt x="15255" y="4688"/>
                </a:cubicBezTo>
                <a:cubicBezTo>
                  <a:pt x="15187" y="4688"/>
                  <a:pt x="15340" y="4688"/>
                  <a:pt x="15354" y="4688"/>
                </a:cubicBezTo>
                <a:cubicBezTo>
                  <a:pt x="15428" y="4688"/>
                  <a:pt x="15503" y="4688"/>
                  <a:pt x="15577" y="4688"/>
                </a:cubicBezTo>
                <a:cubicBezTo>
                  <a:pt x="15515" y="4664"/>
                  <a:pt x="15458" y="4666"/>
                  <a:pt x="15404" y="4638"/>
                </a:cubicBezTo>
                <a:cubicBezTo>
                  <a:pt x="15341" y="4605"/>
                  <a:pt x="15354" y="4603"/>
                  <a:pt x="15354" y="4539"/>
                </a:cubicBezTo>
                <a:cubicBezTo>
                  <a:pt x="15354" y="4503"/>
                  <a:pt x="15364" y="4248"/>
                  <a:pt x="15329" y="4266"/>
                </a:cubicBezTo>
                <a:cubicBezTo>
                  <a:pt x="15294" y="4284"/>
                  <a:pt x="15294" y="4306"/>
                  <a:pt x="15255" y="4316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5330880" y="1714680"/>
            <a:ext cx="339840" cy="320400"/>
          </a:xfrm>
          <a:custGeom>
            <a:avLst/>
            <a:gdLst/>
            <a:ahLst/>
            <a:rect l="l" t="t" r="r" b="b"/>
            <a:pathLst>
              <a:path w="944" h="894">
                <a:moveTo>
                  <a:pt x="14932" y="17686"/>
                </a:moveTo>
                <a:cubicBezTo>
                  <a:pt x="14926" y="17737"/>
                  <a:pt x="14894" y="17768"/>
                  <a:pt x="14883" y="17810"/>
                </a:cubicBezTo>
                <a:cubicBezTo>
                  <a:pt x="14871" y="17854"/>
                  <a:pt x="14861" y="17888"/>
                  <a:pt x="14858" y="17934"/>
                </a:cubicBezTo>
                <a:cubicBezTo>
                  <a:pt x="14856" y="17967"/>
                  <a:pt x="14858" y="18000"/>
                  <a:pt x="14858" y="18033"/>
                </a:cubicBezTo>
                <a:cubicBezTo>
                  <a:pt x="14852" y="17977"/>
                  <a:pt x="14840" y="17969"/>
                  <a:pt x="14833" y="17934"/>
                </a:cubicBezTo>
                <a:cubicBezTo>
                  <a:pt x="14821" y="17874"/>
                  <a:pt x="14849" y="17831"/>
                  <a:pt x="14858" y="17785"/>
                </a:cubicBezTo>
                <a:cubicBezTo>
                  <a:pt x="14866" y="17744"/>
                  <a:pt x="14881" y="17647"/>
                  <a:pt x="14883" y="17636"/>
                </a:cubicBezTo>
                <a:cubicBezTo>
                  <a:pt x="14895" y="17577"/>
                  <a:pt x="14892" y="17596"/>
                  <a:pt x="14932" y="17562"/>
                </a:cubicBezTo>
                <a:cubicBezTo>
                  <a:pt x="14903" y="17591"/>
                  <a:pt x="14874" y="17620"/>
                  <a:pt x="14858" y="17636"/>
                </a:cubicBezTo>
                <a:cubicBezTo>
                  <a:pt x="14817" y="17677"/>
                  <a:pt x="14853" y="17692"/>
                  <a:pt x="14833" y="17735"/>
                </a:cubicBezTo>
                <a:cubicBezTo>
                  <a:pt x="14813" y="17778"/>
                  <a:pt x="14811" y="17784"/>
                  <a:pt x="14808" y="17835"/>
                </a:cubicBezTo>
                <a:cubicBezTo>
                  <a:pt x="14802" y="17948"/>
                  <a:pt x="14813" y="18059"/>
                  <a:pt x="14833" y="18157"/>
                </a:cubicBezTo>
                <a:cubicBezTo>
                  <a:pt x="14845" y="18217"/>
                  <a:pt x="14821" y="18256"/>
                  <a:pt x="14858" y="18306"/>
                </a:cubicBezTo>
                <a:cubicBezTo>
                  <a:pt x="14893" y="18353"/>
                  <a:pt x="14916" y="18312"/>
                  <a:pt x="14957" y="18331"/>
                </a:cubicBezTo>
                <a:cubicBezTo>
                  <a:pt x="15001" y="18351"/>
                  <a:pt x="15035" y="18342"/>
                  <a:pt x="15081" y="18355"/>
                </a:cubicBezTo>
                <a:cubicBezTo>
                  <a:pt x="15130" y="18369"/>
                  <a:pt x="15180" y="18405"/>
                  <a:pt x="15230" y="18430"/>
                </a:cubicBezTo>
                <a:cubicBezTo>
                  <a:pt x="15291" y="18460"/>
                  <a:pt x="15338" y="18455"/>
                  <a:pt x="15404" y="18455"/>
                </a:cubicBezTo>
                <a:cubicBezTo>
                  <a:pt x="15468" y="18455"/>
                  <a:pt x="15478" y="18457"/>
                  <a:pt x="15528" y="18430"/>
                </a:cubicBezTo>
                <a:cubicBezTo>
                  <a:pt x="15565" y="18410"/>
                  <a:pt x="15592" y="18389"/>
                  <a:pt x="15627" y="18355"/>
                </a:cubicBezTo>
                <a:cubicBezTo>
                  <a:pt x="15643" y="18340"/>
                  <a:pt x="15673" y="18310"/>
                  <a:pt x="15701" y="18281"/>
                </a:cubicBezTo>
                <a:cubicBezTo>
                  <a:pt x="15730" y="18252"/>
                  <a:pt x="15744" y="18264"/>
                  <a:pt x="15751" y="18207"/>
                </a:cubicBezTo>
                <a:cubicBezTo>
                  <a:pt x="15759" y="18141"/>
                  <a:pt x="15745" y="18089"/>
                  <a:pt x="15726" y="18058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5357880" y="1670040"/>
            <a:ext cx="349200" cy="401760"/>
          </a:xfrm>
          <a:custGeom>
            <a:avLst/>
            <a:gdLst/>
            <a:ahLst/>
            <a:rect l="l" t="t" r="r" b="b"/>
            <a:pathLst>
              <a:path w="968" h="1117">
                <a:moveTo>
                  <a:pt x="15255" y="17413"/>
                </a:moveTo>
                <a:cubicBezTo>
                  <a:pt x="15222" y="17418"/>
                  <a:pt x="15213" y="17431"/>
                  <a:pt x="15180" y="17438"/>
                </a:cubicBezTo>
                <a:cubicBezTo>
                  <a:pt x="15113" y="17452"/>
                  <a:pt x="15161" y="17452"/>
                  <a:pt x="15106" y="17487"/>
                </a:cubicBezTo>
                <a:cubicBezTo>
                  <a:pt x="15079" y="17504"/>
                  <a:pt x="15048" y="17521"/>
                  <a:pt x="15032" y="17537"/>
                </a:cubicBezTo>
                <a:cubicBezTo>
                  <a:pt x="14978" y="17591"/>
                  <a:pt x="14981" y="17577"/>
                  <a:pt x="14957" y="17636"/>
                </a:cubicBezTo>
                <a:cubicBezTo>
                  <a:pt x="14934" y="17692"/>
                  <a:pt x="14898" y="17683"/>
                  <a:pt x="14883" y="17735"/>
                </a:cubicBezTo>
                <a:cubicBezTo>
                  <a:pt x="14853" y="17840"/>
                  <a:pt x="14852" y="18191"/>
                  <a:pt x="14932" y="18256"/>
                </a:cubicBezTo>
                <a:cubicBezTo>
                  <a:pt x="15008" y="18318"/>
                  <a:pt x="15099" y="18303"/>
                  <a:pt x="15180" y="18331"/>
                </a:cubicBezTo>
                <a:cubicBezTo>
                  <a:pt x="15246" y="18354"/>
                  <a:pt x="15300" y="18355"/>
                  <a:pt x="15379" y="18355"/>
                </a:cubicBezTo>
                <a:cubicBezTo>
                  <a:pt x="15476" y="18355"/>
                  <a:pt x="15568" y="18346"/>
                  <a:pt x="15652" y="18331"/>
                </a:cubicBezTo>
                <a:cubicBezTo>
                  <a:pt x="15724" y="18318"/>
                  <a:pt x="15670" y="18331"/>
                  <a:pt x="15701" y="18281"/>
                </a:cubicBezTo>
                <a:cubicBezTo>
                  <a:pt x="15727" y="18239"/>
                  <a:pt x="15723" y="18232"/>
                  <a:pt x="15726" y="18182"/>
                </a:cubicBezTo>
                <a:cubicBezTo>
                  <a:pt x="15733" y="18054"/>
                  <a:pt x="15757" y="17842"/>
                  <a:pt x="15701" y="17735"/>
                </a:cubicBezTo>
                <a:cubicBezTo>
                  <a:pt x="15686" y="17707"/>
                  <a:pt x="15660" y="17674"/>
                  <a:pt x="15652" y="17661"/>
                </a:cubicBezTo>
                <a:cubicBezTo>
                  <a:pt x="15612" y="17599"/>
                  <a:pt x="15600" y="17604"/>
                  <a:pt x="15553" y="17562"/>
                </a:cubicBezTo>
                <a:cubicBezTo>
                  <a:pt x="15493" y="17507"/>
                  <a:pt x="15462" y="17500"/>
                  <a:pt x="15354" y="17487"/>
                </a:cubicBezTo>
                <a:cubicBezTo>
                  <a:pt x="15286" y="17479"/>
                  <a:pt x="15225" y="17465"/>
                  <a:pt x="15156" y="17462"/>
                </a:cubicBezTo>
                <a:cubicBezTo>
                  <a:pt x="15082" y="17459"/>
                  <a:pt x="15006" y="17462"/>
                  <a:pt x="14932" y="17462"/>
                </a:cubicBezTo>
                <a:cubicBezTo>
                  <a:pt x="14932" y="17665"/>
                  <a:pt x="14924" y="17920"/>
                  <a:pt x="14957" y="18083"/>
                </a:cubicBezTo>
                <a:cubicBezTo>
                  <a:pt x="14967" y="18134"/>
                  <a:pt x="14996" y="18184"/>
                  <a:pt x="15056" y="18207"/>
                </a:cubicBezTo>
                <a:cubicBezTo>
                  <a:pt x="15103" y="18225"/>
                  <a:pt x="15177" y="18269"/>
                  <a:pt x="15230" y="18281"/>
                </a:cubicBezTo>
                <a:cubicBezTo>
                  <a:pt x="15289" y="18294"/>
                  <a:pt x="15326" y="18284"/>
                  <a:pt x="15379" y="18306"/>
                </a:cubicBezTo>
                <a:cubicBezTo>
                  <a:pt x="15442" y="18331"/>
                  <a:pt x="15488" y="18331"/>
                  <a:pt x="15553" y="18331"/>
                </a:cubicBezTo>
                <a:cubicBezTo>
                  <a:pt x="15590" y="18331"/>
                  <a:pt x="15624" y="18323"/>
                  <a:pt x="15652" y="18306"/>
                </a:cubicBezTo>
                <a:cubicBezTo>
                  <a:pt x="15691" y="18282"/>
                  <a:pt x="15675" y="18245"/>
                  <a:pt x="15677" y="18207"/>
                </a:cubicBezTo>
                <a:cubicBezTo>
                  <a:pt x="15679" y="18174"/>
                  <a:pt x="15677" y="18140"/>
                  <a:pt x="15677" y="18107"/>
                </a:cubicBezTo>
                <a:cubicBezTo>
                  <a:pt x="15644" y="18126"/>
                  <a:pt x="15597" y="18151"/>
                  <a:pt x="15577" y="18182"/>
                </a:cubicBezTo>
                <a:cubicBezTo>
                  <a:pt x="15560" y="18209"/>
                  <a:pt x="15544" y="18240"/>
                  <a:pt x="15528" y="18256"/>
                </a:cubicBezTo>
                <a:cubicBezTo>
                  <a:pt x="15520" y="18264"/>
                  <a:pt x="15511" y="18273"/>
                  <a:pt x="15503" y="18281"/>
                </a:cubicBezTo>
                <a:cubicBezTo>
                  <a:pt x="15529" y="18255"/>
                  <a:pt x="15537" y="18289"/>
                  <a:pt x="15553" y="18256"/>
                </a:cubicBezTo>
                <a:cubicBezTo>
                  <a:pt x="15568" y="18223"/>
                  <a:pt x="15589" y="18216"/>
                  <a:pt x="15602" y="18182"/>
                </a:cubicBezTo>
                <a:cubicBezTo>
                  <a:pt x="15613" y="18154"/>
                  <a:pt x="15645" y="18108"/>
                  <a:pt x="15652" y="18083"/>
                </a:cubicBezTo>
                <a:cubicBezTo>
                  <a:pt x="15674" y="18008"/>
                  <a:pt x="15682" y="17691"/>
                  <a:pt x="15627" y="17636"/>
                </a:cubicBezTo>
                <a:cubicBezTo>
                  <a:pt x="15595" y="17604"/>
                  <a:pt x="15516" y="17605"/>
                  <a:pt x="15478" y="17587"/>
                </a:cubicBezTo>
                <a:cubicBezTo>
                  <a:pt x="15418" y="17560"/>
                  <a:pt x="15401" y="17540"/>
                  <a:pt x="15329" y="17537"/>
                </a:cubicBezTo>
                <a:cubicBezTo>
                  <a:pt x="15241" y="17533"/>
                  <a:pt x="15075" y="17508"/>
                  <a:pt x="15007" y="17562"/>
                </a:cubicBezTo>
                <a:cubicBezTo>
                  <a:pt x="15002" y="17566"/>
                  <a:pt x="14962" y="17617"/>
                  <a:pt x="14957" y="17636"/>
                </a:cubicBezTo>
                <a:cubicBezTo>
                  <a:pt x="14949" y="17662"/>
                  <a:pt x="14936" y="17715"/>
                  <a:pt x="14932" y="17735"/>
                </a:cubicBezTo>
                <a:cubicBezTo>
                  <a:pt x="14919" y="17799"/>
                  <a:pt x="14930" y="17847"/>
                  <a:pt x="14908" y="17884"/>
                </a:cubicBezTo>
                <a:cubicBezTo>
                  <a:pt x="14908" y="17828"/>
                  <a:pt x="14897" y="17778"/>
                  <a:pt x="14932" y="17735"/>
                </a:cubicBezTo>
                <a:cubicBezTo>
                  <a:pt x="14970" y="17688"/>
                  <a:pt x="14998" y="17693"/>
                  <a:pt x="15032" y="17661"/>
                </a:cubicBezTo>
                <a:cubicBezTo>
                  <a:pt x="15055" y="17639"/>
                  <a:pt x="15088" y="17602"/>
                  <a:pt x="15106" y="17587"/>
                </a:cubicBezTo>
                <a:cubicBezTo>
                  <a:pt x="15126" y="17571"/>
                  <a:pt x="15167" y="17526"/>
                  <a:pt x="15205" y="17512"/>
                </a:cubicBezTo>
                <a:cubicBezTo>
                  <a:pt x="15213" y="17512"/>
                  <a:pt x="15222" y="17512"/>
                  <a:pt x="15230" y="17512"/>
                </a:cubicBezTo>
                <a:cubicBezTo>
                  <a:pt x="15189" y="17528"/>
                  <a:pt x="15153" y="17542"/>
                  <a:pt x="15131" y="17562"/>
                </a:cubicBezTo>
                <a:cubicBezTo>
                  <a:pt x="15096" y="17593"/>
                  <a:pt x="15088" y="17627"/>
                  <a:pt x="15056" y="17636"/>
                </a:cubicBezTo>
                <a:cubicBezTo>
                  <a:pt x="14985" y="17656"/>
                  <a:pt x="15046" y="17650"/>
                  <a:pt x="15007" y="17686"/>
                </a:cubicBezTo>
                <a:cubicBezTo>
                  <a:pt x="14995" y="17697"/>
                  <a:pt x="14934" y="17726"/>
                  <a:pt x="14932" y="17735"/>
                </a:cubicBezTo>
                <a:cubicBezTo>
                  <a:pt x="14919" y="17781"/>
                  <a:pt x="14972" y="17788"/>
                  <a:pt x="14957" y="17810"/>
                </a:cubicBezTo>
                <a:cubicBezTo>
                  <a:pt x="14952" y="17818"/>
                  <a:pt x="14886" y="17853"/>
                  <a:pt x="14883" y="17859"/>
                </a:cubicBezTo>
                <a:cubicBezTo>
                  <a:pt x="14883" y="17867"/>
                  <a:pt x="14883" y="17876"/>
                  <a:pt x="14883" y="17884"/>
                </a:cubicBezTo>
                <a:cubicBezTo>
                  <a:pt x="15214" y="17884"/>
                  <a:pt x="16156" y="17884"/>
                  <a:pt x="15825" y="17884"/>
                </a:cubicBezTo>
                <a:cubicBezTo>
                  <a:pt x="15753" y="17884"/>
                  <a:pt x="15690" y="17875"/>
                  <a:pt x="15627" y="17835"/>
                </a:cubicBezTo>
                <a:cubicBezTo>
                  <a:pt x="15602" y="17810"/>
                  <a:pt x="15594" y="17802"/>
                  <a:pt x="15577" y="17785"/>
                </a:cubicBezTo>
              </a:path>
              <a:path w="968" h="1117">
                <a:moveTo>
                  <a:pt x="15255" y="17512"/>
                </a:moveTo>
                <a:cubicBezTo>
                  <a:pt x="15247" y="17512"/>
                  <a:pt x="15238" y="17512"/>
                  <a:pt x="15230" y="17512"/>
                </a:cubicBezTo>
                <a:cubicBezTo>
                  <a:pt x="15230" y="17574"/>
                  <a:pt x="15217" y="17638"/>
                  <a:pt x="15255" y="17686"/>
                </a:cubicBezTo>
                <a:cubicBezTo>
                  <a:pt x="15285" y="17723"/>
                  <a:pt x="15280" y="17737"/>
                  <a:pt x="15280" y="17785"/>
                </a:cubicBezTo>
                <a:cubicBezTo>
                  <a:pt x="15280" y="18033"/>
                  <a:pt x="15280" y="18281"/>
                  <a:pt x="15280" y="18529"/>
                </a:cubicBezTo>
                <a:cubicBezTo>
                  <a:pt x="15280" y="18496"/>
                  <a:pt x="15280" y="18463"/>
                  <a:pt x="15280" y="18430"/>
                </a:cubicBezTo>
              </a:path>
              <a:path w="968" h="1117">
                <a:moveTo>
                  <a:pt x="15280" y="17785"/>
                </a:moveTo>
                <a:cubicBezTo>
                  <a:pt x="15309" y="17733"/>
                  <a:pt x="15302" y="17723"/>
                  <a:pt x="15354" y="17711"/>
                </a:cubicBezTo>
                <a:cubicBezTo>
                  <a:pt x="15364" y="17670"/>
                  <a:pt x="15363" y="17671"/>
                  <a:pt x="15404" y="17661"/>
                </a:cubicBezTo>
                <a:cubicBezTo>
                  <a:pt x="15404" y="17633"/>
                  <a:pt x="15406" y="17622"/>
                  <a:pt x="15429" y="17611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3232080" y="1008000"/>
            <a:ext cx="2081160" cy="644760"/>
          </a:xfrm>
          <a:custGeom>
            <a:avLst/>
            <a:gdLst/>
            <a:ahLst/>
            <a:rect l="l" t="t" r="r" b="b"/>
            <a:pathLst>
              <a:path w="5781" h="1787">
                <a:moveTo>
                  <a:pt x="11906" y="15925"/>
                </a:moveTo>
                <a:cubicBezTo>
                  <a:pt x="11906" y="15908"/>
                  <a:pt x="11906" y="15892"/>
                  <a:pt x="11906" y="15875"/>
                </a:cubicBezTo>
                <a:cubicBezTo>
                  <a:pt x="11977" y="15857"/>
                  <a:pt x="12012" y="15803"/>
                  <a:pt x="12080" y="15776"/>
                </a:cubicBezTo>
                <a:cubicBezTo>
                  <a:pt x="12088" y="15776"/>
                  <a:pt x="12097" y="15776"/>
                  <a:pt x="12105" y="15776"/>
                </a:cubicBezTo>
                <a:cubicBezTo>
                  <a:pt x="12118" y="15720"/>
                  <a:pt x="12119" y="15735"/>
                  <a:pt x="12179" y="15726"/>
                </a:cubicBezTo>
                <a:cubicBezTo>
                  <a:pt x="12202" y="15681"/>
                  <a:pt x="12256" y="15673"/>
                  <a:pt x="12278" y="15627"/>
                </a:cubicBezTo>
                <a:cubicBezTo>
                  <a:pt x="12321" y="15627"/>
                  <a:pt x="12316" y="15637"/>
                  <a:pt x="12328" y="15602"/>
                </a:cubicBezTo>
              </a:path>
              <a:path w="5781" h="1787">
                <a:moveTo>
                  <a:pt x="12080" y="15677"/>
                </a:moveTo>
                <a:cubicBezTo>
                  <a:pt x="12452" y="15677"/>
                  <a:pt x="12824" y="15677"/>
                  <a:pt x="13196" y="15677"/>
                </a:cubicBezTo>
                <a:cubicBezTo>
                  <a:pt x="13105" y="15677"/>
                  <a:pt x="13014" y="15677"/>
                  <a:pt x="12923" y="15677"/>
                </a:cubicBezTo>
              </a:path>
              <a:path w="5781" h="1787">
                <a:moveTo>
                  <a:pt x="12353" y="15627"/>
                </a:moveTo>
                <a:cubicBezTo>
                  <a:pt x="12733" y="15627"/>
                  <a:pt x="13114" y="15627"/>
                  <a:pt x="13494" y="15627"/>
                </a:cubicBezTo>
                <a:cubicBezTo>
                  <a:pt x="13536" y="15627"/>
                  <a:pt x="13461" y="15627"/>
                  <a:pt x="13419" y="15627"/>
                </a:cubicBezTo>
              </a:path>
              <a:path w="5781" h="1787">
                <a:moveTo>
                  <a:pt x="12477" y="15602"/>
                </a:moveTo>
                <a:cubicBezTo>
                  <a:pt x="12816" y="15602"/>
                  <a:pt x="13155" y="15602"/>
                  <a:pt x="13494" y="15602"/>
                </a:cubicBezTo>
                <a:cubicBezTo>
                  <a:pt x="13444" y="15602"/>
                  <a:pt x="13428" y="15602"/>
                  <a:pt x="13395" y="15602"/>
                </a:cubicBezTo>
              </a:path>
              <a:path w="5781" h="1787">
                <a:moveTo>
                  <a:pt x="12526" y="15602"/>
                </a:moveTo>
                <a:cubicBezTo>
                  <a:pt x="12625" y="15602"/>
                  <a:pt x="12714" y="15594"/>
                  <a:pt x="12799" y="15577"/>
                </a:cubicBezTo>
                <a:cubicBezTo>
                  <a:pt x="13271" y="15482"/>
                  <a:pt x="14230" y="15461"/>
                  <a:pt x="14684" y="15602"/>
                </a:cubicBezTo>
                <a:cubicBezTo>
                  <a:pt x="14725" y="15622"/>
                  <a:pt x="14731" y="15631"/>
                  <a:pt x="14759" y="15627"/>
                </a:cubicBezTo>
              </a:path>
              <a:path w="5781" h="1787">
                <a:moveTo>
                  <a:pt x="11584" y="16570"/>
                </a:moveTo>
                <a:cubicBezTo>
                  <a:pt x="11584" y="16562"/>
                  <a:pt x="11584" y="16553"/>
                  <a:pt x="11584" y="16545"/>
                </a:cubicBezTo>
              </a:path>
              <a:path w="5781" h="1787">
                <a:moveTo>
                  <a:pt x="11187" y="16570"/>
                </a:moveTo>
                <a:cubicBezTo>
                  <a:pt x="11242" y="16526"/>
                  <a:pt x="11306" y="16525"/>
                  <a:pt x="11361" y="16495"/>
                </a:cubicBezTo>
                <a:cubicBezTo>
                  <a:pt x="11385" y="16470"/>
                  <a:pt x="11393" y="16462"/>
                  <a:pt x="11410" y="16446"/>
                </a:cubicBezTo>
              </a:path>
              <a:path w="5781" h="1787">
                <a:moveTo>
                  <a:pt x="9649" y="16793"/>
                </a:moveTo>
                <a:cubicBezTo>
                  <a:pt x="9592" y="16821"/>
                  <a:pt x="9573" y="16826"/>
                  <a:pt x="9525" y="16867"/>
                </a:cubicBezTo>
                <a:cubicBezTo>
                  <a:pt x="9508" y="16882"/>
                  <a:pt x="9475" y="16899"/>
                  <a:pt x="9451" y="16917"/>
                </a:cubicBezTo>
                <a:cubicBezTo>
                  <a:pt x="9440" y="16925"/>
                  <a:pt x="9415" y="16980"/>
                  <a:pt x="9401" y="16991"/>
                </a:cubicBezTo>
                <a:cubicBezTo>
                  <a:pt x="9362" y="17024"/>
                  <a:pt x="9358" y="17004"/>
                  <a:pt x="9351" y="17066"/>
                </a:cubicBezTo>
                <a:cubicBezTo>
                  <a:pt x="9346" y="17106"/>
                  <a:pt x="9342" y="17131"/>
                  <a:pt x="9327" y="17165"/>
                </a:cubicBezTo>
                <a:cubicBezTo>
                  <a:pt x="9312" y="17199"/>
                  <a:pt x="9308" y="17235"/>
                  <a:pt x="9277" y="17264"/>
                </a:cubicBezTo>
                <a:cubicBezTo>
                  <a:pt x="9247" y="17292"/>
                  <a:pt x="9230" y="17307"/>
                  <a:pt x="9203" y="17314"/>
                </a:cubicBezTo>
                <a:cubicBezTo>
                  <a:pt x="9141" y="17331"/>
                  <a:pt x="9060" y="17324"/>
                  <a:pt x="9004" y="17338"/>
                </a:cubicBezTo>
                <a:cubicBezTo>
                  <a:pt x="8958" y="17349"/>
                  <a:pt x="8999" y="17314"/>
                  <a:pt x="9029" y="17289"/>
                </a:cubicBezTo>
                <a:cubicBezTo>
                  <a:pt x="9044" y="17277"/>
                  <a:pt x="9099" y="17250"/>
                  <a:pt x="9103" y="17239"/>
                </a:cubicBezTo>
                <a:cubicBezTo>
                  <a:pt x="9120" y="17190"/>
                  <a:pt x="9114" y="17186"/>
                  <a:pt x="9153" y="17140"/>
                </a:cubicBezTo>
                <a:cubicBezTo>
                  <a:pt x="9170" y="17120"/>
                  <a:pt x="9186" y="17098"/>
                  <a:pt x="9203" y="17066"/>
                </a:cubicBezTo>
                <a:cubicBezTo>
                  <a:pt x="9233" y="17009"/>
                  <a:pt x="9236" y="17045"/>
                  <a:pt x="9277" y="17016"/>
                </a:cubicBezTo>
                <a:cubicBezTo>
                  <a:pt x="9334" y="16976"/>
                  <a:pt x="9360" y="16971"/>
                  <a:pt x="9426" y="16942"/>
                </a:cubicBezTo>
                <a:cubicBezTo>
                  <a:pt x="9476" y="16920"/>
                  <a:pt x="9534" y="16918"/>
                  <a:pt x="9575" y="16892"/>
                </a:cubicBezTo>
                <a:cubicBezTo>
                  <a:pt x="9590" y="16882"/>
                  <a:pt x="9639" y="16839"/>
                  <a:pt x="9674" y="16818"/>
                </a:cubicBezTo>
                <a:cubicBezTo>
                  <a:pt x="9718" y="16792"/>
                  <a:pt x="9751" y="16761"/>
                  <a:pt x="9773" y="16743"/>
                </a:cubicBezTo>
                <a:cubicBezTo>
                  <a:pt x="9710" y="16751"/>
                  <a:pt x="9664" y="16765"/>
                  <a:pt x="9599" y="16768"/>
                </a:cubicBezTo>
                <a:cubicBezTo>
                  <a:pt x="9575" y="16768"/>
                  <a:pt x="9566" y="16768"/>
                  <a:pt x="9550" y="16768"/>
                </a:cubicBezTo>
                <a:cubicBezTo>
                  <a:pt x="9563" y="16761"/>
                  <a:pt x="9617" y="16737"/>
                  <a:pt x="9649" y="16718"/>
                </a:cubicBezTo>
                <a:cubicBezTo>
                  <a:pt x="9682" y="16698"/>
                  <a:pt x="9696" y="16705"/>
                  <a:pt x="9748" y="16694"/>
                </a:cubicBezTo>
                <a:cubicBezTo>
                  <a:pt x="9808" y="16682"/>
                  <a:pt x="9874" y="16669"/>
                  <a:pt x="9947" y="16669"/>
                </a:cubicBezTo>
                <a:cubicBezTo>
                  <a:pt x="10068" y="16669"/>
                  <a:pt x="10182" y="16656"/>
                  <a:pt x="10294" y="16644"/>
                </a:cubicBezTo>
                <a:cubicBezTo>
                  <a:pt x="10382" y="16635"/>
                  <a:pt x="10460" y="16633"/>
                  <a:pt x="10542" y="16619"/>
                </a:cubicBezTo>
                <a:cubicBezTo>
                  <a:pt x="10627" y="16605"/>
                  <a:pt x="10616" y="16630"/>
                  <a:pt x="10666" y="16570"/>
                </a:cubicBezTo>
              </a:path>
              <a:path w="5781" h="1787">
                <a:moveTo>
                  <a:pt x="9451" y="16917"/>
                </a:moveTo>
                <a:cubicBezTo>
                  <a:pt x="9475" y="16917"/>
                  <a:pt x="9484" y="16917"/>
                  <a:pt x="9500" y="16917"/>
                </a:cubicBezTo>
                <a:cubicBezTo>
                  <a:pt x="9513" y="16878"/>
                  <a:pt x="9540" y="16891"/>
                  <a:pt x="9575" y="16867"/>
                </a:cubicBezTo>
                <a:cubicBezTo>
                  <a:pt x="9607" y="16845"/>
                  <a:pt x="9641" y="16817"/>
                  <a:pt x="9649" y="16793"/>
                </a:cubicBezTo>
              </a:path>
              <a:path w="5781" h="1787">
                <a:moveTo>
                  <a:pt x="9451" y="16842"/>
                </a:moveTo>
                <a:cubicBezTo>
                  <a:pt x="9408" y="16874"/>
                  <a:pt x="9401" y="16861"/>
                  <a:pt x="9401" y="16917"/>
                </a:cubicBezTo>
                <a:cubicBezTo>
                  <a:pt x="9411" y="16876"/>
                  <a:pt x="9410" y="16877"/>
                  <a:pt x="9451" y="16867"/>
                </a:cubicBezTo>
                <a:cubicBezTo>
                  <a:pt x="9462" y="16832"/>
                  <a:pt x="9488" y="16840"/>
                  <a:pt x="9500" y="16793"/>
                </a:cubicBezTo>
                <a:cubicBezTo>
                  <a:pt x="9530" y="16786"/>
                  <a:pt x="9545" y="16775"/>
                  <a:pt x="9575" y="16768"/>
                </a:cubicBezTo>
                <a:cubicBezTo>
                  <a:pt x="9590" y="16721"/>
                  <a:pt x="9608" y="16765"/>
                  <a:pt x="9624" y="16718"/>
                </a:cubicBezTo>
              </a:path>
              <a:path w="5781" h="1787">
                <a:moveTo>
                  <a:pt x="10567" y="16644"/>
                </a:moveTo>
                <a:cubicBezTo>
                  <a:pt x="10616" y="16632"/>
                  <a:pt x="10661" y="16607"/>
                  <a:pt x="10716" y="16594"/>
                </a:cubicBezTo>
                <a:cubicBezTo>
                  <a:pt x="10742" y="16588"/>
                  <a:pt x="10790" y="16594"/>
                  <a:pt x="10815" y="16594"/>
                </a:cubicBezTo>
                <a:cubicBezTo>
                  <a:pt x="10827" y="16560"/>
                  <a:pt x="10823" y="16570"/>
                  <a:pt x="10864" y="16570"/>
                </a:cubicBezTo>
                <a:cubicBezTo>
                  <a:pt x="10864" y="16537"/>
                  <a:pt x="10872" y="16528"/>
                  <a:pt x="10914" y="16545"/>
                </a:cubicBezTo>
              </a:path>
              <a:path w="5781" h="1787">
                <a:moveTo>
                  <a:pt x="11361" y="16371"/>
                </a:moveTo>
                <a:cubicBezTo>
                  <a:pt x="11399" y="16361"/>
                  <a:pt x="11429" y="16347"/>
                  <a:pt x="11460" y="16321"/>
                </a:cubicBezTo>
                <a:cubicBezTo>
                  <a:pt x="11497" y="16289"/>
                  <a:pt x="11497" y="16309"/>
                  <a:pt x="11509" y="16272"/>
                </a:cubicBezTo>
              </a:path>
              <a:path w="5781" h="1787">
                <a:moveTo>
                  <a:pt x="11609" y="16570"/>
                </a:moveTo>
                <a:cubicBezTo>
                  <a:pt x="11609" y="16545"/>
                  <a:pt x="11609" y="16537"/>
                  <a:pt x="11609" y="16520"/>
                </a:cubicBezTo>
                <a:cubicBezTo>
                  <a:pt x="11664" y="16501"/>
                  <a:pt x="11600" y="16475"/>
                  <a:pt x="11633" y="16446"/>
                </a:cubicBezTo>
                <a:cubicBezTo>
                  <a:pt x="11674" y="16426"/>
                  <a:pt x="11690" y="16428"/>
                  <a:pt x="11683" y="16396"/>
                </a:cubicBezTo>
                <a:cubicBezTo>
                  <a:pt x="11749" y="16379"/>
                  <a:pt x="11709" y="16365"/>
                  <a:pt x="11733" y="16321"/>
                </a:cubicBezTo>
                <a:cubicBezTo>
                  <a:pt x="11755" y="16299"/>
                  <a:pt x="11760" y="16291"/>
                  <a:pt x="11782" y="16297"/>
                </a:cubicBezTo>
                <a:cubicBezTo>
                  <a:pt x="11798" y="16235"/>
                  <a:pt x="11834" y="16251"/>
                  <a:pt x="11881" y="16222"/>
                </a:cubicBezTo>
                <a:cubicBezTo>
                  <a:pt x="11903" y="16209"/>
                  <a:pt x="11972" y="16136"/>
                  <a:pt x="11981" y="16123"/>
                </a:cubicBezTo>
                <a:cubicBezTo>
                  <a:pt x="12014" y="16074"/>
                  <a:pt x="12053" y="16066"/>
                  <a:pt x="12080" y="16024"/>
                </a:cubicBezTo>
                <a:cubicBezTo>
                  <a:pt x="12080" y="16016"/>
                  <a:pt x="12080" y="16007"/>
                  <a:pt x="12080" y="15999"/>
                </a:cubicBezTo>
                <a:cubicBezTo>
                  <a:pt x="12139" y="15990"/>
                  <a:pt x="12140" y="16005"/>
                  <a:pt x="12154" y="15949"/>
                </a:cubicBezTo>
                <a:cubicBezTo>
                  <a:pt x="12224" y="15938"/>
                  <a:pt x="12199" y="15912"/>
                  <a:pt x="12278" y="15900"/>
                </a:cubicBezTo>
                <a:cubicBezTo>
                  <a:pt x="12290" y="15850"/>
                  <a:pt x="12314" y="15854"/>
                  <a:pt x="12353" y="15825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3975120" y="958680"/>
            <a:ext cx="2390760" cy="1000440"/>
          </a:xfrm>
          <a:custGeom>
            <a:avLst/>
            <a:gdLst/>
            <a:ahLst/>
            <a:rect l="l" t="t" r="r" b="b"/>
            <a:pathLst>
              <a:path w="1506" h="630">
                <a:moveTo>
                  <a:pt x="1136" y="541"/>
                </a:moveTo>
                <a:cubicBezTo>
                  <a:pt x="1147" y="544"/>
                  <a:pt x="1157" y="549"/>
                  <a:pt x="1168" y="549"/>
                </a:cubicBezTo>
                <a:cubicBezTo>
                  <a:pt x="1506" y="549"/>
                  <a:pt x="1406" y="607"/>
                  <a:pt x="1416" y="245"/>
                </a:cubicBezTo>
                <a:cubicBezTo>
                  <a:pt x="1444" y="329"/>
                  <a:pt x="1397" y="630"/>
                  <a:pt x="1440" y="501"/>
                </a:cubicBezTo>
                <a:cubicBezTo>
                  <a:pt x="1437" y="410"/>
                  <a:pt x="1464" y="314"/>
                  <a:pt x="1432" y="229"/>
                </a:cubicBezTo>
                <a:cubicBezTo>
                  <a:pt x="1421" y="199"/>
                  <a:pt x="1368" y="223"/>
                  <a:pt x="1336" y="221"/>
                </a:cubicBezTo>
                <a:cubicBezTo>
                  <a:pt x="1267" y="217"/>
                  <a:pt x="1197" y="216"/>
                  <a:pt x="1128" y="213"/>
                </a:cubicBezTo>
                <a:cubicBezTo>
                  <a:pt x="1112" y="210"/>
                  <a:pt x="1096" y="207"/>
                  <a:pt x="1080" y="205"/>
                </a:cubicBezTo>
                <a:cubicBezTo>
                  <a:pt x="1053" y="202"/>
                  <a:pt x="973" y="197"/>
                  <a:pt x="1000" y="197"/>
                </a:cubicBezTo>
                <a:cubicBezTo>
                  <a:pt x="1133" y="197"/>
                  <a:pt x="1267" y="202"/>
                  <a:pt x="1400" y="205"/>
                </a:cubicBezTo>
                <a:cubicBezTo>
                  <a:pt x="1392" y="226"/>
                  <a:pt x="1396" y="259"/>
                  <a:pt x="1376" y="269"/>
                </a:cubicBezTo>
                <a:cubicBezTo>
                  <a:pt x="1350" y="282"/>
                  <a:pt x="1317" y="263"/>
                  <a:pt x="1288" y="261"/>
                </a:cubicBezTo>
                <a:cubicBezTo>
                  <a:pt x="1194" y="254"/>
                  <a:pt x="1094" y="250"/>
                  <a:pt x="1000" y="245"/>
                </a:cubicBezTo>
                <a:cubicBezTo>
                  <a:pt x="997" y="224"/>
                  <a:pt x="994" y="202"/>
                  <a:pt x="992" y="181"/>
                </a:cubicBezTo>
                <a:cubicBezTo>
                  <a:pt x="989" y="149"/>
                  <a:pt x="1007" y="108"/>
                  <a:pt x="984" y="85"/>
                </a:cubicBezTo>
                <a:cubicBezTo>
                  <a:pt x="961" y="62"/>
                  <a:pt x="920" y="80"/>
                  <a:pt x="888" y="77"/>
                </a:cubicBezTo>
                <a:cubicBezTo>
                  <a:pt x="896" y="72"/>
                  <a:pt x="912" y="71"/>
                  <a:pt x="912" y="61"/>
                </a:cubicBezTo>
                <a:cubicBezTo>
                  <a:pt x="912" y="53"/>
                  <a:pt x="896" y="55"/>
                  <a:pt x="888" y="53"/>
                </a:cubicBezTo>
                <a:cubicBezTo>
                  <a:pt x="794" y="27"/>
                  <a:pt x="780" y="34"/>
                  <a:pt x="952" y="45"/>
                </a:cubicBezTo>
                <a:cubicBezTo>
                  <a:pt x="944" y="48"/>
                  <a:pt x="922" y="47"/>
                  <a:pt x="928" y="53"/>
                </a:cubicBezTo>
                <a:cubicBezTo>
                  <a:pt x="940" y="65"/>
                  <a:pt x="976" y="69"/>
                  <a:pt x="976" y="69"/>
                </a:cubicBezTo>
                <a:cubicBezTo>
                  <a:pt x="956" y="128"/>
                  <a:pt x="980" y="74"/>
                  <a:pt x="960" y="69"/>
                </a:cubicBezTo>
                <a:cubicBezTo>
                  <a:pt x="951" y="67"/>
                  <a:pt x="944" y="80"/>
                  <a:pt x="936" y="85"/>
                </a:cubicBezTo>
                <a:cubicBezTo>
                  <a:pt x="905" y="75"/>
                  <a:pt x="872" y="69"/>
                  <a:pt x="840" y="61"/>
                </a:cubicBezTo>
                <a:cubicBezTo>
                  <a:pt x="585" y="71"/>
                  <a:pt x="642" y="0"/>
                  <a:pt x="624" y="181"/>
                </a:cubicBezTo>
                <a:cubicBezTo>
                  <a:pt x="622" y="197"/>
                  <a:pt x="619" y="213"/>
                  <a:pt x="616" y="229"/>
                </a:cubicBezTo>
                <a:cubicBezTo>
                  <a:pt x="613" y="296"/>
                  <a:pt x="612" y="362"/>
                  <a:pt x="608" y="429"/>
                </a:cubicBezTo>
                <a:cubicBezTo>
                  <a:pt x="606" y="459"/>
                  <a:pt x="598" y="488"/>
                  <a:pt x="592" y="517"/>
                </a:cubicBezTo>
                <a:cubicBezTo>
                  <a:pt x="590" y="528"/>
                  <a:pt x="574" y="544"/>
                  <a:pt x="584" y="549"/>
                </a:cubicBezTo>
                <a:cubicBezTo>
                  <a:pt x="594" y="554"/>
                  <a:pt x="599" y="531"/>
                  <a:pt x="608" y="525"/>
                </a:cubicBezTo>
                <a:cubicBezTo>
                  <a:pt x="615" y="520"/>
                  <a:pt x="624" y="520"/>
                  <a:pt x="632" y="517"/>
                </a:cubicBezTo>
                <a:cubicBezTo>
                  <a:pt x="674" y="531"/>
                  <a:pt x="717" y="530"/>
                  <a:pt x="760" y="541"/>
                </a:cubicBezTo>
                <a:cubicBezTo>
                  <a:pt x="794" y="489"/>
                  <a:pt x="814" y="475"/>
                  <a:pt x="872" y="453"/>
                </a:cubicBezTo>
                <a:cubicBezTo>
                  <a:pt x="882" y="449"/>
                  <a:pt x="893" y="448"/>
                  <a:pt x="904" y="445"/>
                </a:cubicBezTo>
                <a:cubicBezTo>
                  <a:pt x="920" y="440"/>
                  <a:pt x="952" y="429"/>
                  <a:pt x="952" y="429"/>
                </a:cubicBezTo>
                <a:cubicBezTo>
                  <a:pt x="965" y="389"/>
                  <a:pt x="976" y="320"/>
                  <a:pt x="976" y="277"/>
                </a:cubicBezTo>
                <a:cubicBezTo>
                  <a:pt x="976" y="269"/>
                  <a:pt x="970" y="293"/>
                  <a:pt x="968" y="301"/>
                </a:cubicBezTo>
                <a:cubicBezTo>
                  <a:pt x="964" y="317"/>
                  <a:pt x="965" y="334"/>
                  <a:pt x="960" y="349"/>
                </a:cubicBezTo>
                <a:cubicBezTo>
                  <a:pt x="957" y="358"/>
                  <a:pt x="948" y="364"/>
                  <a:pt x="944" y="373"/>
                </a:cubicBezTo>
                <a:cubicBezTo>
                  <a:pt x="940" y="381"/>
                  <a:pt x="928" y="399"/>
                  <a:pt x="936" y="397"/>
                </a:cubicBezTo>
                <a:cubicBezTo>
                  <a:pt x="955" y="393"/>
                  <a:pt x="984" y="365"/>
                  <a:pt x="984" y="365"/>
                </a:cubicBezTo>
                <a:cubicBezTo>
                  <a:pt x="989" y="357"/>
                  <a:pt x="993" y="348"/>
                  <a:pt x="1000" y="341"/>
                </a:cubicBezTo>
                <a:cubicBezTo>
                  <a:pt x="1001" y="340"/>
                  <a:pt x="1048" y="317"/>
                  <a:pt x="1032" y="301"/>
                </a:cubicBezTo>
                <a:cubicBezTo>
                  <a:pt x="1026" y="295"/>
                  <a:pt x="1016" y="306"/>
                  <a:pt x="1008" y="309"/>
                </a:cubicBezTo>
                <a:cubicBezTo>
                  <a:pt x="987" y="372"/>
                  <a:pt x="996" y="371"/>
                  <a:pt x="1056" y="381"/>
                </a:cubicBezTo>
                <a:cubicBezTo>
                  <a:pt x="1067" y="386"/>
                  <a:pt x="1078" y="391"/>
                  <a:pt x="1088" y="397"/>
                </a:cubicBezTo>
                <a:cubicBezTo>
                  <a:pt x="1102" y="405"/>
                  <a:pt x="1128" y="405"/>
                  <a:pt x="1128" y="421"/>
                </a:cubicBezTo>
                <a:cubicBezTo>
                  <a:pt x="1128" y="435"/>
                  <a:pt x="1101" y="417"/>
                  <a:pt x="1088" y="413"/>
                </a:cubicBezTo>
                <a:cubicBezTo>
                  <a:pt x="1072" y="409"/>
                  <a:pt x="1056" y="402"/>
                  <a:pt x="1040" y="397"/>
                </a:cubicBezTo>
                <a:cubicBezTo>
                  <a:pt x="1032" y="394"/>
                  <a:pt x="1016" y="389"/>
                  <a:pt x="1016" y="389"/>
                </a:cubicBezTo>
                <a:cubicBezTo>
                  <a:pt x="1016" y="389"/>
                  <a:pt x="1033" y="392"/>
                  <a:pt x="1040" y="397"/>
                </a:cubicBezTo>
                <a:cubicBezTo>
                  <a:pt x="1048" y="402"/>
                  <a:pt x="1056" y="408"/>
                  <a:pt x="1064" y="413"/>
                </a:cubicBezTo>
                <a:cubicBezTo>
                  <a:pt x="1069" y="421"/>
                  <a:pt x="1076" y="428"/>
                  <a:pt x="1080" y="437"/>
                </a:cubicBezTo>
                <a:cubicBezTo>
                  <a:pt x="1084" y="445"/>
                  <a:pt x="1084" y="454"/>
                  <a:pt x="1088" y="461"/>
                </a:cubicBezTo>
                <a:cubicBezTo>
                  <a:pt x="1097" y="478"/>
                  <a:pt x="1120" y="509"/>
                  <a:pt x="1120" y="509"/>
                </a:cubicBezTo>
                <a:cubicBezTo>
                  <a:pt x="1128" y="504"/>
                  <a:pt x="1141" y="502"/>
                  <a:pt x="1144" y="493"/>
                </a:cubicBezTo>
                <a:cubicBezTo>
                  <a:pt x="1165" y="431"/>
                  <a:pt x="1118" y="473"/>
                  <a:pt x="1112" y="477"/>
                </a:cubicBezTo>
                <a:cubicBezTo>
                  <a:pt x="1088" y="548"/>
                  <a:pt x="1109" y="465"/>
                  <a:pt x="1128" y="493"/>
                </a:cubicBezTo>
                <a:cubicBezTo>
                  <a:pt x="1138" y="509"/>
                  <a:pt x="1133" y="530"/>
                  <a:pt x="1136" y="549"/>
                </a:cubicBezTo>
                <a:cubicBezTo>
                  <a:pt x="1147" y="544"/>
                  <a:pt x="1156" y="533"/>
                  <a:pt x="1168" y="533"/>
                </a:cubicBezTo>
                <a:cubicBezTo>
                  <a:pt x="1178" y="533"/>
                  <a:pt x="1134" y="549"/>
                  <a:pt x="1144" y="549"/>
                </a:cubicBezTo>
                <a:cubicBezTo>
                  <a:pt x="1161" y="549"/>
                  <a:pt x="1192" y="533"/>
                  <a:pt x="1192" y="533"/>
                </a:cubicBezTo>
                <a:cubicBezTo>
                  <a:pt x="1149" y="519"/>
                  <a:pt x="1146" y="485"/>
                  <a:pt x="1136" y="445"/>
                </a:cubicBezTo>
                <a:cubicBezTo>
                  <a:pt x="1127" y="355"/>
                  <a:pt x="1142" y="337"/>
                  <a:pt x="1064" y="389"/>
                </a:cubicBezTo>
                <a:cubicBezTo>
                  <a:pt x="976" y="330"/>
                  <a:pt x="934" y="380"/>
                  <a:pt x="872" y="421"/>
                </a:cubicBezTo>
                <a:cubicBezTo>
                  <a:pt x="859" y="460"/>
                  <a:pt x="848" y="475"/>
                  <a:pt x="808" y="485"/>
                </a:cubicBezTo>
                <a:cubicBezTo>
                  <a:pt x="795" y="524"/>
                  <a:pt x="775" y="515"/>
                  <a:pt x="752" y="549"/>
                </a:cubicBezTo>
                <a:cubicBezTo>
                  <a:pt x="748" y="537"/>
                  <a:pt x="728" y="501"/>
                  <a:pt x="768" y="501"/>
                </a:cubicBezTo>
                <a:cubicBezTo>
                  <a:pt x="776" y="501"/>
                  <a:pt x="766" y="519"/>
                  <a:pt x="760" y="525"/>
                </a:cubicBezTo>
                <a:cubicBezTo>
                  <a:pt x="741" y="544"/>
                  <a:pt x="707" y="537"/>
                  <a:pt x="680" y="541"/>
                </a:cubicBezTo>
                <a:cubicBezTo>
                  <a:pt x="609" y="576"/>
                  <a:pt x="674" y="557"/>
                  <a:pt x="640" y="533"/>
                </a:cubicBezTo>
                <a:cubicBezTo>
                  <a:pt x="626" y="523"/>
                  <a:pt x="592" y="517"/>
                  <a:pt x="592" y="517"/>
                </a:cubicBezTo>
                <a:cubicBezTo>
                  <a:pt x="584" y="522"/>
                  <a:pt x="578" y="533"/>
                  <a:pt x="568" y="533"/>
                </a:cubicBezTo>
                <a:cubicBezTo>
                  <a:pt x="551" y="533"/>
                  <a:pt x="520" y="517"/>
                  <a:pt x="520" y="517"/>
                </a:cubicBezTo>
                <a:cubicBezTo>
                  <a:pt x="412" y="553"/>
                  <a:pt x="107" y="540"/>
                  <a:pt x="48" y="541"/>
                </a:cubicBezTo>
                <a:cubicBezTo>
                  <a:pt x="35" y="546"/>
                  <a:pt x="21" y="551"/>
                  <a:pt x="8" y="557"/>
                </a:cubicBezTo>
                <a:cubicBezTo>
                  <a:pt x="0" y="561"/>
                  <a:pt x="36" y="541"/>
                  <a:pt x="32" y="549"/>
                </a:cubicBezTo>
                <a:cubicBezTo>
                  <a:pt x="26" y="561"/>
                  <a:pt x="11" y="565"/>
                  <a:pt x="0" y="573"/>
                </a:cubicBezTo>
                <a:cubicBezTo>
                  <a:pt x="80" y="600"/>
                  <a:pt x="169" y="591"/>
                  <a:pt x="248" y="565"/>
                </a:cubicBezTo>
                <a:cubicBezTo>
                  <a:pt x="424" y="568"/>
                  <a:pt x="600" y="567"/>
                  <a:pt x="776" y="573"/>
                </a:cubicBezTo>
                <a:cubicBezTo>
                  <a:pt x="784" y="573"/>
                  <a:pt x="760" y="581"/>
                  <a:pt x="752" y="581"/>
                </a:cubicBezTo>
                <a:cubicBezTo>
                  <a:pt x="541" y="584"/>
                  <a:pt x="331" y="581"/>
                  <a:pt x="120" y="581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4348080" y="965160"/>
            <a:ext cx="1224000" cy="243000"/>
          </a:xfrm>
          <a:custGeom>
            <a:avLst/>
            <a:gdLst/>
            <a:ahLst/>
            <a:rect l="l" t="t" r="r" b="b"/>
            <a:pathLst>
              <a:path w="3399" h="671">
                <a:moveTo>
                  <a:pt x="15453" y="2381"/>
                </a:moveTo>
                <a:cubicBezTo>
                  <a:pt x="15453" y="2426"/>
                  <a:pt x="15433" y="2440"/>
                  <a:pt x="15429" y="2480"/>
                </a:cubicBezTo>
                <a:cubicBezTo>
                  <a:pt x="15424" y="2522"/>
                  <a:pt x="15408" y="2541"/>
                  <a:pt x="15404" y="2580"/>
                </a:cubicBezTo>
                <a:cubicBezTo>
                  <a:pt x="15399" y="2628"/>
                  <a:pt x="15404" y="2681"/>
                  <a:pt x="15404" y="2729"/>
                </a:cubicBezTo>
                <a:cubicBezTo>
                  <a:pt x="15363" y="2742"/>
                  <a:pt x="15379" y="2777"/>
                  <a:pt x="15379" y="2828"/>
                </a:cubicBezTo>
                <a:cubicBezTo>
                  <a:pt x="15379" y="2844"/>
                  <a:pt x="15379" y="2861"/>
                  <a:pt x="15379" y="2877"/>
                </a:cubicBezTo>
                <a:cubicBezTo>
                  <a:pt x="15389" y="2837"/>
                  <a:pt x="15419" y="2818"/>
                  <a:pt x="15429" y="2778"/>
                </a:cubicBezTo>
              </a:path>
              <a:path w="3399" h="671">
                <a:moveTo>
                  <a:pt x="15478" y="2356"/>
                </a:moveTo>
                <a:cubicBezTo>
                  <a:pt x="15478" y="2373"/>
                  <a:pt x="15478" y="2389"/>
                  <a:pt x="15478" y="2406"/>
                </a:cubicBezTo>
                <a:cubicBezTo>
                  <a:pt x="15436" y="2420"/>
                  <a:pt x="15453" y="2454"/>
                  <a:pt x="15453" y="2505"/>
                </a:cubicBezTo>
                <a:cubicBezTo>
                  <a:pt x="15453" y="2587"/>
                  <a:pt x="15443" y="2659"/>
                  <a:pt x="15429" y="2729"/>
                </a:cubicBezTo>
                <a:cubicBezTo>
                  <a:pt x="15420" y="2773"/>
                  <a:pt x="15429" y="2831"/>
                  <a:pt x="15429" y="2877"/>
                </a:cubicBezTo>
              </a:path>
              <a:path w="3399" h="671">
                <a:moveTo>
                  <a:pt x="12452" y="2381"/>
                </a:moveTo>
                <a:cubicBezTo>
                  <a:pt x="12452" y="2373"/>
                  <a:pt x="12452" y="2364"/>
                  <a:pt x="12452" y="2356"/>
                </a:cubicBezTo>
                <a:cubicBezTo>
                  <a:pt x="12492" y="2334"/>
                  <a:pt x="12507" y="2341"/>
                  <a:pt x="12526" y="2307"/>
                </a:cubicBezTo>
                <a:cubicBezTo>
                  <a:pt x="12526" y="2299"/>
                  <a:pt x="12526" y="2290"/>
                  <a:pt x="12526" y="2282"/>
                </a:cubicBezTo>
                <a:cubicBezTo>
                  <a:pt x="13376" y="2282"/>
                  <a:pt x="14365" y="2282"/>
                  <a:pt x="15131" y="2282"/>
                </a:cubicBezTo>
              </a:path>
              <a:path w="3399" h="671">
                <a:moveTo>
                  <a:pt x="12626" y="2307"/>
                </a:moveTo>
                <a:cubicBezTo>
                  <a:pt x="12543" y="2307"/>
                  <a:pt x="12461" y="2307"/>
                  <a:pt x="12378" y="2307"/>
                </a:cubicBezTo>
                <a:cubicBezTo>
                  <a:pt x="12367" y="2339"/>
                  <a:pt x="12344" y="2346"/>
                  <a:pt x="12303" y="2356"/>
                </a:cubicBezTo>
                <a:cubicBezTo>
                  <a:pt x="12291" y="2391"/>
                  <a:pt x="12266" y="2383"/>
                  <a:pt x="12254" y="2431"/>
                </a:cubicBezTo>
                <a:cubicBezTo>
                  <a:pt x="12214" y="2441"/>
                  <a:pt x="12214" y="2440"/>
                  <a:pt x="12204" y="2480"/>
                </a:cubicBezTo>
                <a:cubicBezTo>
                  <a:pt x="12188" y="2485"/>
                  <a:pt x="12142" y="2503"/>
                  <a:pt x="12129" y="2530"/>
                </a:cubicBezTo>
                <a:cubicBezTo>
                  <a:pt x="12114" y="2559"/>
                  <a:pt x="12091" y="2561"/>
                  <a:pt x="12080" y="2604"/>
                </a:cubicBezTo>
              </a:path>
              <a:path w="3399" h="671">
                <a:moveTo>
                  <a:pt x="12204" y="2902"/>
                </a:moveTo>
                <a:lnTo>
                  <a:pt x="12204" y="2902"/>
                </a:lnTo>
              </a:path>
              <a:path w="3399" h="671">
                <a:moveTo>
                  <a:pt x="12402" y="2902"/>
                </a:moveTo>
                <a:cubicBezTo>
                  <a:pt x="12526" y="2902"/>
                  <a:pt x="12650" y="2902"/>
                  <a:pt x="12774" y="2902"/>
                </a:cubicBezTo>
              </a:path>
              <a:path w="3399" h="671">
                <a:moveTo>
                  <a:pt x="12923" y="2902"/>
                </a:moveTo>
                <a:cubicBezTo>
                  <a:pt x="12973" y="2902"/>
                  <a:pt x="13022" y="2902"/>
                  <a:pt x="13072" y="2902"/>
                </a:cubicBezTo>
              </a:path>
              <a:path w="3399" h="671">
                <a:moveTo>
                  <a:pt x="14015" y="2952"/>
                </a:moveTo>
                <a:cubicBezTo>
                  <a:pt x="14189" y="2952"/>
                  <a:pt x="14362" y="2952"/>
                  <a:pt x="14536" y="2952"/>
                </a:cubicBezTo>
              </a:path>
              <a:path w="3399" h="671">
                <a:moveTo>
                  <a:pt x="14858" y="2952"/>
                </a:moveTo>
                <a:cubicBezTo>
                  <a:pt x="14908" y="2952"/>
                  <a:pt x="14957" y="2952"/>
                  <a:pt x="15007" y="2952"/>
                </a:cubicBezTo>
              </a:path>
              <a:path w="3399" h="671">
                <a:moveTo>
                  <a:pt x="14163" y="2803"/>
                </a:moveTo>
                <a:cubicBezTo>
                  <a:pt x="14163" y="2795"/>
                  <a:pt x="14163" y="2786"/>
                  <a:pt x="14163" y="2778"/>
                </a:cubicBezTo>
              </a:path>
              <a:path w="3399" h="671">
                <a:moveTo>
                  <a:pt x="14114" y="2729"/>
                </a:moveTo>
                <a:cubicBezTo>
                  <a:pt x="14114" y="2753"/>
                  <a:pt x="14114" y="2761"/>
                  <a:pt x="14089" y="2753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3446640" y="1641600"/>
            <a:ext cx="376200" cy="492120"/>
          </a:xfrm>
          <a:custGeom>
            <a:avLst/>
            <a:gdLst/>
            <a:ahLst/>
            <a:rect l="l" t="t" r="r" b="b"/>
            <a:pathLst>
              <a:path w="1042" h="1366">
                <a:moveTo>
                  <a:pt x="10492" y="18728"/>
                </a:moveTo>
                <a:cubicBezTo>
                  <a:pt x="10492" y="18682"/>
                  <a:pt x="10495" y="18659"/>
                  <a:pt x="10443" y="18653"/>
                </a:cubicBezTo>
                <a:cubicBezTo>
                  <a:pt x="10423" y="18651"/>
                  <a:pt x="10329" y="18619"/>
                  <a:pt x="10393" y="18604"/>
                </a:cubicBezTo>
                <a:cubicBezTo>
                  <a:pt x="10456" y="18589"/>
                  <a:pt x="10486" y="18613"/>
                  <a:pt x="10542" y="18579"/>
                </a:cubicBezTo>
                <a:cubicBezTo>
                  <a:pt x="10431" y="18579"/>
                  <a:pt x="10028" y="18579"/>
                  <a:pt x="10096" y="18579"/>
                </a:cubicBezTo>
                <a:cubicBezTo>
                  <a:pt x="10140" y="18579"/>
                  <a:pt x="10461" y="18579"/>
                  <a:pt x="10269" y="18579"/>
                </a:cubicBezTo>
                <a:cubicBezTo>
                  <a:pt x="10114" y="18579"/>
                  <a:pt x="9973" y="18629"/>
                  <a:pt x="9823" y="18653"/>
                </a:cubicBezTo>
                <a:cubicBezTo>
                  <a:pt x="9781" y="18653"/>
                  <a:pt x="9773" y="18653"/>
                  <a:pt x="9748" y="18653"/>
                </a:cubicBezTo>
                <a:cubicBezTo>
                  <a:pt x="9811" y="18653"/>
                  <a:pt x="10144" y="18646"/>
                  <a:pt x="10096" y="18678"/>
                </a:cubicBezTo>
                <a:cubicBezTo>
                  <a:pt x="10043" y="18713"/>
                  <a:pt x="9934" y="18718"/>
                  <a:pt x="9872" y="18728"/>
                </a:cubicBezTo>
                <a:cubicBezTo>
                  <a:pt x="9856" y="18728"/>
                  <a:pt x="9839" y="18728"/>
                  <a:pt x="9823" y="18728"/>
                </a:cubicBezTo>
                <a:cubicBezTo>
                  <a:pt x="10001" y="18728"/>
                  <a:pt x="10164" y="18683"/>
                  <a:pt x="10344" y="18678"/>
                </a:cubicBezTo>
                <a:cubicBezTo>
                  <a:pt x="10443" y="18675"/>
                  <a:pt x="10493" y="18678"/>
                  <a:pt x="10592" y="18678"/>
                </a:cubicBezTo>
              </a:path>
              <a:path w="1042" h="1366">
                <a:moveTo>
                  <a:pt x="10120" y="17363"/>
                </a:moveTo>
                <a:cubicBezTo>
                  <a:pt x="10112" y="17363"/>
                  <a:pt x="10104" y="17363"/>
                  <a:pt x="10096" y="17363"/>
                </a:cubicBezTo>
                <a:cubicBezTo>
                  <a:pt x="10096" y="17429"/>
                  <a:pt x="10103" y="17459"/>
                  <a:pt x="10120" y="17512"/>
                </a:cubicBezTo>
                <a:cubicBezTo>
                  <a:pt x="10204" y="17775"/>
                  <a:pt x="10120" y="18197"/>
                  <a:pt x="10120" y="18479"/>
                </a:cubicBezTo>
                <a:cubicBezTo>
                  <a:pt x="10148" y="18479"/>
                  <a:pt x="10159" y="18477"/>
                  <a:pt x="10170" y="18455"/>
                </a:cubicBezTo>
              </a:path>
              <a:path w="1042" h="1366">
                <a:moveTo>
                  <a:pt x="9624" y="17909"/>
                </a:moveTo>
                <a:cubicBezTo>
                  <a:pt x="9947" y="17909"/>
                  <a:pt x="10865" y="17909"/>
                  <a:pt x="10542" y="17909"/>
                </a:cubicBezTo>
                <a:cubicBezTo>
                  <a:pt x="10534" y="17909"/>
                  <a:pt x="10525" y="17909"/>
                  <a:pt x="10517" y="17909"/>
                </a:cubicBezTo>
              </a:path>
              <a:path w="1042" h="1366">
                <a:moveTo>
                  <a:pt x="10021" y="17438"/>
                </a:moveTo>
                <a:cubicBezTo>
                  <a:pt x="9937" y="17438"/>
                  <a:pt x="9842" y="17422"/>
                  <a:pt x="9773" y="17462"/>
                </a:cubicBezTo>
                <a:cubicBezTo>
                  <a:pt x="9807" y="17447"/>
                  <a:pt x="9857" y="17422"/>
                  <a:pt x="9897" y="17413"/>
                </a:cubicBezTo>
                <a:cubicBezTo>
                  <a:pt x="9997" y="17391"/>
                  <a:pt x="10242" y="17383"/>
                  <a:pt x="10319" y="17438"/>
                </a:cubicBezTo>
                <a:cubicBezTo>
                  <a:pt x="10347" y="17458"/>
                  <a:pt x="10357" y="17444"/>
                  <a:pt x="10393" y="17462"/>
                </a:cubicBezTo>
                <a:cubicBezTo>
                  <a:pt x="10411" y="17471"/>
                  <a:pt x="10443" y="17540"/>
                  <a:pt x="10468" y="17562"/>
                </a:cubicBezTo>
                <a:cubicBezTo>
                  <a:pt x="10480" y="17573"/>
                  <a:pt x="10540" y="17603"/>
                  <a:pt x="10542" y="17611"/>
                </a:cubicBezTo>
                <a:cubicBezTo>
                  <a:pt x="10587" y="17766"/>
                  <a:pt x="10541" y="18064"/>
                  <a:pt x="10517" y="18182"/>
                </a:cubicBezTo>
                <a:cubicBezTo>
                  <a:pt x="10511" y="18213"/>
                  <a:pt x="10513" y="18260"/>
                  <a:pt x="10492" y="18281"/>
                </a:cubicBezTo>
                <a:cubicBezTo>
                  <a:pt x="10476" y="18298"/>
                  <a:pt x="10433" y="18321"/>
                  <a:pt x="10418" y="18331"/>
                </a:cubicBezTo>
                <a:cubicBezTo>
                  <a:pt x="10371" y="18361"/>
                  <a:pt x="10344" y="18353"/>
                  <a:pt x="10294" y="18355"/>
                </a:cubicBezTo>
                <a:cubicBezTo>
                  <a:pt x="10094" y="18363"/>
                  <a:pt x="9894" y="18356"/>
                  <a:pt x="9699" y="18331"/>
                </a:cubicBezTo>
                <a:cubicBezTo>
                  <a:pt x="9622" y="18321"/>
                  <a:pt x="9675" y="18324"/>
                  <a:pt x="9624" y="18256"/>
                </a:cubicBezTo>
                <a:cubicBezTo>
                  <a:pt x="9599" y="18223"/>
                  <a:pt x="9584" y="18197"/>
                  <a:pt x="9575" y="18157"/>
                </a:cubicBezTo>
                <a:cubicBezTo>
                  <a:pt x="9543" y="18010"/>
                  <a:pt x="9573" y="17795"/>
                  <a:pt x="9599" y="17661"/>
                </a:cubicBezTo>
                <a:cubicBezTo>
                  <a:pt x="9614" y="17584"/>
                  <a:pt x="9599" y="17632"/>
                  <a:pt x="9599" y="17686"/>
                </a:cubicBezTo>
                <a:cubicBezTo>
                  <a:pt x="9599" y="17804"/>
                  <a:pt x="9608" y="17953"/>
                  <a:pt x="9624" y="18033"/>
                </a:cubicBezTo>
                <a:cubicBezTo>
                  <a:pt x="9636" y="18094"/>
                  <a:pt x="9610" y="18108"/>
                  <a:pt x="9649" y="18157"/>
                </a:cubicBezTo>
                <a:cubicBezTo>
                  <a:pt x="9660" y="18171"/>
                  <a:pt x="9706" y="18214"/>
                  <a:pt x="9723" y="18231"/>
                </a:cubicBezTo>
                <a:cubicBezTo>
                  <a:pt x="9740" y="18248"/>
                  <a:pt x="9769" y="18264"/>
                  <a:pt x="9798" y="18281"/>
                </a:cubicBezTo>
                <a:cubicBezTo>
                  <a:pt x="9770" y="18253"/>
                  <a:pt x="9782" y="18253"/>
                  <a:pt x="9748" y="18231"/>
                </a:cubicBezTo>
                <a:cubicBezTo>
                  <a:pt x="9720" y="18231"/>
                  <a:pt x="9710" y="18229"/>
                  <a:pt x="9699" y="18207"/>
                </a:cubicBezTo>
              </a:path>
              <a:path w="1042" h="1366">
                <a:moveTo>
                  <a:pt x="9723" y="17487"/>
                </a:moveTo>
                <a:cubicBezTo>
                  <a:pt x="9685" y="17500"/>
                  <a:pt x="9697" y="17528"/>
                  <a:pt x="9674" y="17562"/>
                </a:cubicBezTo>
                <a:cubicBezTo>
                  <a:pt x="9666" y="17574"/>
                  <a:pt x="9651" y="17660"/>
                  <a:pt x="9649" y="17661"/>
                </a:cubicBezTo>
                <a:cubicBezTo>
                  <a:pt x="9621" y="17684"/>
                  <a:pt x="9624" y="17683"/>
                  <a:pt x="9624" y="17735"/>
                </a:cubicBezTo>
                <a:cubicBezTo>
                  <a:pt x="9624" y="17743"/>
                  <a:pt x="9624" y="17752"/>
                  <a:pt x="9624" y="17760"/>
                </a:cubicBezTo>
                <a:cubicBezTo>
                  <a:pt x="9636" y="17712"/>
                  <a:pt x="9679" y="17688"/>
                  <a:pt x="9723" y="17661"/>
                </a:cubicBezTo>
                <a:cubicBezTo>
                  <a:pt x="9773" y="17631"/>
                  <a:pt x="9807" y="17647"/>
                  <a:pt x="9847" y="17611"/>
                </a:cubicBezTo>
                <a:cubicBezTo>
                  <a:pt x="9873" y="17588"/>
                  <a:pt x="9895" y="17551"/>
                  <a:pt x="9922" y="17537"/>
                </a:cubicBezTo>
                <a:cubicBezTo>
                  <a:pt x="9930" y="17533"/>
                  <a:pt x="9990" y="17496"/>
                  <a:pt x="9996" y="17487"/>
                </a:cubicBezTo>
                <a:cubicBezTo>
                  <a:pt x="10012" y="17463"/>
                  <a:pt x="10025" y="17441"/>
                  <a:pt x="10071" y="17438"/>
                </a:cubicBezTo>
                <a:cubicBezTo>
                  <a:pt x="10168" y="17431"/>
                  <a:pt x="10308" y="17433"/>
                  <a:pt x="10368" y="17462"/>
                </a:cubicBezTo>
                <a:cubicBezTo>
                  <a:pt x="10451" y="17502"/>
                  <a:pt x="10340" y="17476"/>
                  <a:pt x="10294" y="17462"/>
                </a:cubicBezTo>
                <a:cubicBezTo>
                  <a:pt x="10260" y="17429"/>
                  <a:pt x="10238" y="17421"/>
                  <a:pt x="10195" y="17438"/>
                </a:cubicBezTo>
                <a:cubicBezTo>
                  <a:pt x="10140" y="17438"/>
                  <a:pt x="10266" y="17445"/>
                  <a:pt x="10294" y="17462"/>
                </a:cubicBezTo>
                <a:cubicBezTo>
                  <a:pt x="10331" y="17485"/>
                  <a:pt x="10319" y="17525"/>
                  <a:pt x="10319" y="17562"/>
                </a:cubicBezTo>
                <a:cubicBezTo>
                  <a:pt x="10319" y="17574"/>
                  <a:pt x="10355" y="17613"/>
                  <a:pt x="10368" y="17636"/>
                </a:cubicBezTo>
                <a:cubicBezTo>
                  <a:pt x="10391" y="17659"/>
                  <a:pt x="10395" y="17667"/>
                  <a:pt x="10418" y="17661"/>
                </a:cubicBezTo>
                <a:cubicBezTo>
                  <a:pt x="10418" y="17609"/>
                  <a:pt x="10423" y="17609"/>
                  <a:pt x="10393" y="17587"/>
                </a:cubicBezTo>
                <a:cubicBezTo>
                  <a:pt x="10374" y="17573"/>
                  <a:pt x="10320" y="17515"/>
                  <a:pt x="10319" y="17512"/>
                </a:cubicBezTo>
                <a:cubicBezTo>
                  <a:pt x="10306" y="17487"/>
                  <a:pt x="10287" y="17464"/>
                  <a:pt x="10244" y="17462"/>
                </a:cubicBezTo>
                <a:cubicBezTo>
                  <a:pt x="10104" y="17455"/>
                  <a:pt x="9746" y="17406"/>
                  <a:pt x="9624" y="17487"/>
                </a:cubicBezTo>
                <a:cubicBezTo>
                  <a:pt x="9616" y="17495"/>
                  <a:pt x="9607" y="17504"/>
                  <a:pt x="9599" y="17512"/>
                </a:cubicBezTo>
              </a:path>
              <a:path w="1042" h="1366">
                <a:moveTo>
                  <a:pt x="9624" y="17810"/>
                </a:moveTo>
                <a:cubicBezTo>
                  <a:pt x="9624" y="17886"/>
                  <a:pt x="9602" y="18000"/>
                  <a:pt x="9649" y="18058"/>
                </a:cubicBezTo>
                <a:cubicBezTo>
                  <a:pt x="9669" y="18083"/>
                  <a:pt x="9760" y="18200"/>
                  <a:pt x="9773" y="18207"/>
                </a:cubicBezTo>
                <a:cubicBezTo>
                  <a:pt x="9798" y="18207"/>
                  <a:pt x="9806" y="18207"/>
                  <a:pt x="9823" y="18207"/>
                </a:cubicBezTo>
                <a:cubicBezTo>
                  <a:pt x="9839" y="18261"/>
                  <a:pt x="9851" y="18280"/>
                  <a:pt x="9872" y="18331"/>
                </a:cubicBezTo>
                <a:cubicBezTo>
                  <a:pt x="9901" y="18400"/>
                  <a:pt x="9945" y="18380"/>
                  <a:pt x="10021" y="18380"/>
                </a:cubicBezTo>
                <a:cubicBezTo>
                  <a:pt x="10113" y="18380"/>
                  <a:pt x="10218" y="18395"/>
                  <a:pt x="10294" y="18355"/>
                </a:cubicBezTo>
                <a:cubicBezTo>
                  <a:pt x="10343" y="18329"/>
                  <a:pt x="10336" y="18339"/>
                  <a:pt x="10344" y="18281"/>
                </a:cubicBezTo>
                <a:cubicBezTo>
                  <a:pt x="10378" y="18281"/>
                  <a:pt x="10452" y="18297"/>
                  <a:pt x="10468" y="18256"/>
                </a:cubicBezTo>
                <a:cubicBezTo>
                  <a:pt x="10486" y="18211"/>
                  <a:pt x="10496" y="18211"/>
                  <a:pt x="10517" y="18182"/>
                </a:cubicBezTo>
                <a:cubicBezTo>
                  <a:pt x="10534" y="18158"/>
                  <a:pt x="10561" y="18129"/>
                  <a:pt x="10567" y="18107"/>
                </a:cubicBezTo>
                <a:cubicBezTo>
                  <a:pt x="10589" y="18032"/>
                  <a:pt x="10582" y="17765"/>
                  <a:pt x="10542" y="17735"/>
                </a:cubicBezTo>
                <a:cubicBezTo>
                  <a:pt x="10493" y="17698"/>
                  <a:pt x="10483" y="17702"/>
                  <a:pt x="10443" y="17661"/>
                </a:cubicBezTo>
                <a:cubicBezTo>
                  <a:pt x="10411" y="17629"/>
                  <a:pt x="10413" y="17609"/>
                  <a:pt x="10393" y="17587"/>
                </a:cubicBezTo>
                <a:cubicBezTo>
                  <a:pt x="10337" y="17526"/>
                  <a:pt x="10256" y="17518"/>
                  <a:pt x="10195" y="17487"/>
                </a:cubicBezTo>
                <a:cubicBezTo>
                  <a:pt x="10195" y="17462"/>
                  <a:pt x="10195" y="17454"/>
                  <a:pt x="10170" y="17462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3098880" y="965160"/>
            <a:ext cx="3179520" cy="1206720"/>
          </a:xfrm>
          <a:custGeom>
            <a:avLst/>
            <a:gdLst/>
            <a:ahLst/>
            <a:rect l="l" t="t" r="r" b="b"/>
            <a:pathLst>
              <a:path w="8832" h="3350">
                <a:moveTo>
                  <a:pt x="16297" y="4986"/>
                </a:moveTo>
                <a:cubicBezTo>
                  <a:pt x="16394" y="4986"/>
                  <a:pt x="16476" y="4985"/>
                  <a:pt x="16570" y="5011"/>
                </a:cubicBezTo>
                <a:cubicBezTo>
                  <a:pt x="16625" y="5026"/>
                  <a:pt x="16707" y="5052"/>
                  <a:pt x="16768" y="5035"/>
                </a:cubicBezTo>
                <a:cubicBezTo>
                  <a:pt x="16831" y="5017"/>
                  <a:pt x="16849" y="5011"/>
                  <a:pt x="16917" y="5011"/>
                </a:cubicBezTo>
                <a:cubicBezTo>
                  <a:pt x="16950" y="5011"/>
                  <a:pt x="16983" y="5011"/>
                  <a:pt x="17016" y="5011"/>
                </a:cubicBezTo>
              </a:path>
              <a:path w="8832" h="3350">
                <a:moveTo>
                  <a:pt x="16247" y="5035"/>
                </a:moveTo>
                <a:cubicBezTo>
                  <a:pt x="16462" y="5035"/>
                  <a:pt x="16677" y="5035"/>
                  <a:pt x="16892" y="5035"/>
                </a:cubicBezTo>
              </a:path>
              <a:path w="8832" h="3350">
                <a:moveTo>
                  <a:pt x="16272" y="4911"/>
                </a:moveTo>
                <a:cubicBezTo>
                  <a:pt x="16479" y="4911"/>
                  <a:pt x="16685" y="4911"/>
                  <a:pt x="16892" y="4911"/>
                </a:cubicBezTo>
              </a:path>
              <a:path w="8832" h="3350">
                <a:moveTo>
                  <a:pt x="16297" y="5110"/>
                </a:moveTo>
                <a:cubicBezTo>
                  <a:pt x="16297" y="5002"/>
                  <a:pt x="16297" y="4895"/>
                  <a:pt x="16297" y="4787"/>
                </a:cubicBezTo>
              </a:path>
              <a:path w="8832" h="3350">
                <a:moveTo>
                  <a:pt x="16247" y="5011"/>
                </a:moveTo>
                <a:cubicBezTo>
                  <a:pt x="16247" y="4920"/>
                  <a:pt x="16247" y="4829"/>
                  <a:pt x="16247" y="4738"/>
                </a:cubicBezTo>
              </a:path>
              <a:path w="8832" h="3350">
                <a:moveTo>
                  <a:pt x="11187" y="4862"/>
                </a:moveTo>
                <a:cubicBezTo>
                  <a:pt x="12187" y="4862"/>
                  <a:pt x="13188" y="4862"/>
                  <a:pt x="14188" y="4862"/>
                </a:cubicBezTo>
              </a:path>
              <a:path w="8832" h="3350">
                <a:moveTo>
                  <a:pt x="13543" y="2282"/>
                </a:moveTo>
                <a:cubicBezTo>
                  <a:pt x="14072" y="2282"/>
                  <a:pt x="14602" y="2282"/>
                  <a:pt x="15131" y="2282"/>
                </a:cubicBezTo>
              </a:path>
              <a:path w="8832" h="3350">
                <a:moveTo>
                  <a:pt x="15280" y="2381"/>
                </a:moveTo>
                <a:cubicBezTo>
                  <a:pt x="15280" y="2712"/>
                  <a:pt x="15280" y="3655"/>
                  <a:pt x="15280" y="3324"/>
                </a:cubicBezTo>
              </a:path>
              <a:path w="8832" h="3350">
                <a:moveTo>
                  <a:pt x="15329" y="2456"/>
                </a:moveTo>
                <a:cubicBezTo>
                  <a:pt x="15329" y="2802"/>
                  <a:pt x="15438" y="3388"/>
                  <a:pt x="15304" y="3696"/>
                </a:cubicBezTo>
                <a:cubicBezTo>
                  <a:pt x="15294" y="3718"/>
                  <a:pt x="15291" y="3748"/>
                  <a:pt x="15280" y="3770"/>
                </a:cubicBezTo>
                <a:cubicBezTo>
                  <a:pt x="15239" y="3775"/>
                  <a:pt x="15215" y="3779"/>
                  <a:pt x="15180" y="3795"/>
                </a:cubicBezTo>
                <a:cubicBezTo>
                  <a:pt x="15143" y="3812"/>
                  <a:pt x="15120" y="3807"/>
                  <a:pt x="15081" y="3820"/>
                </a:cubicBezTo>
                <a:cubicBezTo>
                  <a:pt x="15048" y="3831"/>
                  <a:pt x="15017" y="3833"/>
                  <a:pt x="14982" y="3845"/>
                </a:cubicBezTo>
                <a:cubicBezTo>
                  <a:pt x="14935" y="3861"/>
                  <a:pt x="14901" y="3895"/>
                  <a:pt x="14858" y="3919"/>
                </a:cubicBezTo>
                <a:cubicBezTo>
                  <a:pt x="14818" y="3941"/>
                  <a:pt x="14826" y="3933"/>
                  <a:pt x="14784" y="3944"/>
                </a:cubicBezTo>
                <a:cubicBezTo>
                  <a:pt x="14769" y="3959"/>
                  <a:pt x="14744" y="3998"/>
                  <a:pt x="14709" y="4018"/>
                </a:cubicBezTo>
                <a:cubicBezTo>
                  <a:pt x="14701" y="4018"/>
                  <a:pt x="14692" y="4018"/>
                  <a:pt x="14684" y="4018"/>
                </a:cubicBezTo>
                <a:cubicBezTo>
                  <a:pt x="14668" y="4039"/>
                  <a:pt x="14652" y="4062"/>
                  <a:pt x="14635" y="4093"/>
                </a:cubicBezTo>
                <a:cubicBezTo>
                  <a:pt x="14614" y="4109"/>
                  <a:pt x="14606" y="4103"/>
                  <a:pt x="14585" y="4118"/>
                </a:cubicBezTo>
                <a:cubicBezTo>
                  <a:pt x="14585" y="4142"/>
                  <a:pt x="14585" y="4151"/>
                  <a:pt x="14585" y="4167"/>
                </a:cubicBezTo>
              </a:path>
              <a:path w="8832" h="3350">
                <a:moveTo>
                  <a:pt x="13915" y="2480"/>
                </a:moveTo>
                <a:cubicBezTo>
                  <a:pt x="13880" y="2504"/>
                  <a:pt x="13891" y="2548"/>
                  <a:pt x="13891" y="2604"/>
                </a:cubicBezTo>
                <a:cubicBezTo>
                  <a:pt x="13891" y="2860"/>
                  <a:pt x="13891" y="3117"/>
                  <a:pt x="13891" y="3373"/>
                </a:cubicBezTo>
              </a:path>
              <a:path w="8832" h="3350">
                <a:moveTo>
                  <a:pt x="13742" y="2530"/>
                </a:moveTo>
                <a:cubicBezTo>
                  <a:pt x="13706" y="2554"/>
                  <a:pt x="13717" y="2597"/>
                  <a:pt x="13717" y="2654"/>
                </a:cubicBezTo>
                <a:cubicBezTo>
                  <a:pt x="13717" y="2811"/>
                  <a:pt x="13717" y="2968"/>
                  <a:pt x="13717" y="3125"/>
                </a:cubicBezTo>
              </a:path>
              <a:path w="8832" h="3350">
                <a:moveTo>
                  <a:pt x="12129" y="3150"/>
                </a:moveTo>
                <a:cubicBezTo>
                  <a:pt x="12144" y="3210"/>
                  <a:pt x="12180" y="3178"/>
                  <a:pt x="12204" y="3225"/>
                </a:cubicBezTo>
                <a:cubicBezTo>
                  <a:pt x="12215" y="3246"/>
                  <a:pt x="12247" y="3265"/>
                  <a:pt x="12254" y="3299"/>
                </a:cubicBezTo>
                <a:cubicBezTo>
                  <a:pt x="12254" y="3316"/>
                  <a:pt x="12254" y="3332"/>
                  <a:pt x="12254" y="3349"/>
                </a:cubicBezTo>
                <a:cubicBezTo>
                  <a:pt x="12317" y="3349"/>
                  <a:pt x="12377" y="3362"/>
                  <a:pt x="12427" y="3324"/>
                </a:cubicBezTo>
                <a:cubicBezTo>
                  <a:pt x="12398" y="3265"/>
                  <a:pt x="12320" y="3256"/>
                  <a:pt x="12254" y="3225"/>
                </a:cubicBezTo>
                <a:cubicBezTo>
                  <a:pt x="12197" y="3198"/>
                  <a:pt x="12113" y="3195"/>
                  <a:pt x="12105" y="3125"/>
                </a:cubicBezTo>
                <a:cubicBezTo>
                  <a:pt x="12099" y="3073"/>
                  <a:pt x="12102" y="3047"/>
                  <a:pt x="12129" y="3026"/>
                </a:cubicBezTo>
                <a:cubicBezTo>
                  <a:pt x="12152" y="3003"/>
                  <a:pt x="12156" y="2995"/>
                  <a:pt x="12179" y="3001"/>
                </a:cubicBezTo>
                <a:cubicBezTo>
                  <a:pt x="12214" y="3054"/>
                  <a:pt x="12229" y="3043"/>
                  <a:pt x="12229" y="3101"/>
                </a:cubicBezTo>
                <a:cubicBezTo>
                  <a:pt x="12229" y="3185"/>
                  <a:pt x="12230" y="3253"/>
                  <a:pt x="12254" y="3324"/>
                </a:cubicBezTo>
                <a:cubicBezTo>
                  <a:pt x="12268" y="3365"/>
                  <a:pt x="12227" y="3417"/>
                  <a:pt x="12278" y="3423"/>
                </a:cubicBezTo>
                <a:cubicBezTo>
                  <a:pt x="12286" y="3423"/>
                  <a:pt x="12295" y="3423"/>
                  <a:pt x="12303" y="3423"/>
                </a:cubicBezTo>
              </a:path>
              <a:path w="8832" h="3350">
                <a:moveTo>
                  <a:pt x="11683" y="3150"/>
                </a:moveTo>
                <a:cubicBezTo>
                  <a:pt x="11683" y="3196"/>
                  <a:pt x="11708" y="3404"/>
                  <a:pt x="11658" y="3423"/>
                </a:cubicBezTo>
                <a:cubicBezTo>
                  <a:pt x="11627" y="3435"/>
                  <a:pt x="11567" y="3423"/>
                  <a:pt x="11534" y="3423"/>
                </a:cubicBezTo>
                <a:cubicBezTo>
                  <a:pt x="11534" y="3345"/>
                  <a:pt x="11546" y="3288"/>
                  <a:pt x="11559" y="3225"/>
                </a:cubicBezTo>
                <a:cubicBezTo>
                  <a:pt x="11569" y="3176"/>
                  <a:pt x="11550" y="3167"/>
                  <a:pt x="11584" y="3125"/>
                </a:cubicBezTo>
                <a:cubicBezTo>
                  <a:pt x="11603" y="3101"/>
                  <a:pt x="11643" y="3106"/>
                  <a:pt x="11683" y="3076"/>
                </a:cubicBezTo>
                <a:cubicBezTo>
                  <a:pt x="11714" y="3053"/>
                  <a:pt x="11714" y="3030"/>
                  <a:pt x="11782" y="3026"/>
                </a:cubicBezTo>
                <a:cubicBezTo>
                  <a:pt x="11822" y="3024"/>
                  <a:pt x="11866" y="3026"/>
                  <a:pt x="11906" y="3026"/>
                </a:cubicBezTo>
                <a:cubicBezTo>
                  <a:pt x="11906" y="3191"/>
                  <a:pt x="11906" y="3357"/>
                  <a:pt x="11906" y="3522"/>
                </a:cubicBezTo>
                <a:cubicBezTo>
                  <a:pt x="11815" y="3522"/>
                  <a:pt x="11742" y="3510"/>
                  <a:pt x="11658" y="3497"/>
                </a:cubicBezTo>
                <a:cubicBezTo>
                  <a:pt x="11604" y="3488"/>
                  <a:pt x="11540" y="3497"/>
                  <a:pt x="11485" y="3497"/>
                </a:cubicBezTo>
                <a:cubicBezTo>
                  <a:pt x="11493" y="3442"/>
                  <a:pt x="11507" y="3425"/>
                  <a:pt x="11534" y="3398"/>
                </a:cubicBezTo>
                <a:cubicBezTo>
                  <a:pt x="11565" y="3367"/>
                  <a:pt x="11586" y="3313"/>
                  <a:pt x="11609" y="3274"/>
                </a:cubicBezTo>
                <a:cubicBezTo>
                  <a:pt x="11628" y="3243"/>
                  <a:pt x="11648" y="3235"/>
                  <a:pt x="11658" y="3200"/>
                </a:cubicBezTo>
                <a:cubicBezTo>
                  <a:pt x="11680" y="3122"/>
                  <a:pt x="11637" y="3164"/>
                  <a:pt x="11708" y="3101"/>
                </a:cubicBezTo>
                <a:cubicBezTo>
                  <a:pt x="11739" y="3074"/>
                  <a:pt x="11750" y="3077"/>
                  <a:pt x="11782" y="3051"/>
                </a:cubicBezTo>
                <a:cubicBezTo>
                  <a:pt x="11761" y="3044"/>
                  <a:pt x="11713" y="3026"/>
                  <a:pt x="11658" y="3026"/>
                </a:cubicBezTo>
                <a:cubicBezTo>
                  <a:pt x="11571" y="3026"/>
                  <a:pt x="11458" y="3013"/>
                  <a:pt x="11410" y="3051"/>
                </a:cubicBezTo>
                <a:cubicBezTo>
                  <a:pt x="11390" y="3067"/>
                  <a:pt x="11335" y="3118"/>
                  <a:pt x="11311" y="3125"/>
                </a:cubicBezTo>
                <a:cubicBezTo>
                  <a:pt x="11273" y="3136"/>
                  <a:pt x="11250" y="3170"/>
                  <a:pt x="11237" y="3175"/>
                </a:cubicBezTo>
                <a:cubicBezTo>
                  <a:pt x="11193" y="3193"/>
                  <a:pt x="11189" y="3178"/>
                  <a:pt x="11162" y="3200"/>
                </a:cubicBezTo>
                <a:cubicBezTo>
                  <a:pt x="11131" y="3225"/>
                  <a:pt x="11124" y="3257"/>
                  <a:pt x="11088" y="3274"/>
                </a:cubicBezTo>
                <a:cubicBezTo>
                  <a:pt x="11063" y="3274"/>
                  <a:pt x="11055" y="3274"/>
                  <a:pt x="11038" y="3274"/>
                </a:cubicBezTo>
                <a:cubicBezTo>
                  <a:pt x="11050" y="3262"/>
                  <a:pt x="11104" y="3185"/>
                  <a:pt x="11137" y="3175"/>
                </a:cubicBezTo>
                <a:cubicBezTo>
                  <a:pt x="11162" y="3168"/>
                  <a:pt x="11239" y="3145"/>
                  <a:pt x="11261" y="3125"/>
                </a:cubicBezTo>
                <a:cubicBezTo>
                  <a:pt x="11284" y="3104"/>
                  <a:pt x="11318" y="3064"/>
                  <a:pt x="11336" y="3051"/>
                </a:cubicBezTo>
                <a:cubicBezTo>
                  <a:pt x="11348" y="3042"/>
                  <a:pt x="11401" y="3007"/>
                  <a:pt x="11410" y="2977"/>
                </a:cubicBezTo>
                <a:cubicBezTo>
                  <a:pt x="11428" y="2915"/>
                  <a:pt x="11412" y="2950"/>
                  <a:pt x="11460" y="2902"/>
                </a:cubicBezTo>
                <a:cubicBezTo>
                  <a:pt x="11466" y="2896"/>
                  <a:pt x="11500" y="2833"/>
                  <a:pt x="11509" y="2828"/>
                </a:cubicBezTo>
                <a:cubicBezTo>
                  <a:pt x="11546" y="2805"/>
                  <a:pt x="11626" y="2799"/>
                  <a:pt x="11658" y="2778"/>
                </a:cubicBezTo>
                <a:cubicBezTo>
                  <a:pt x="11674" y="2768"/>
                  <a:pt x="11746" y="2710"/>
                  <a:pt x="11757" y="2704"/>
                </a:cubicBezTo>
                <a:cubicBezTo>
                  <a:pt x="11800" y="2682"/>
                  <a:pt x="11837" y="2649"/>
                  <a:pt x="11857" y="2629"/>
                </a:cubicBezTo>
                <a:cubicBezTo>
                  <a:pt x="11883" y="2602"/>
                  <a:pt x="11943" y="2563"/>
                  <a:pt x="11956" y="2555"/>
                </a:cubicBezTo>
                <a:cubicBezTo>
                  <a:pt x="12007" y="2524"/>
                  <a:pt x="12024" y="2526"/>
                  <a:pt x="12055" y="2505"/>
                </a:cubicBezTo>
              </a:path>
              <a:path w="8832" h="3350">
                <a:moveTo>
                  <a:pt x="11658" y="3944"/>
                </a:moveTo>
                <a:cubicBezTo>
                  <a:pt x="11622" y="3968"/>
                  <a:pt x="11633" y="4011"/>
                  <a:pt x="11633" y="4068"/>
                </a:cubicBezTo>
                <a:cubicBezTo>
                  <a:pt x="11633" y="4200"/>
                  <a:pt x="11633" y="4547"/>
                  <a:pt x="11633" y="4415"/>
                </a:cubicBezTo>
                <a:cubicBezTo>
                  <a:pt x="11633" y="4373"/>
                  <a:pt x="11631" y="4272"/>
                  <a:pt x="11609" y="4242"/>
                </a:cubicBezTo>
                <a:cubicBezTo>
                  <a:pt x="11595" y="4223"/>
                  <a:pt x="11581" y="4182"/>
                  <a:pt x="11559" y="4167"/>
                </a:cubicBezTo>
                <a:cubicBezTo>
                  <a:pt x="11530" y="4177"/>
                  <a:pt x="11514" y="4201"/>
                  <a:pt x="11509" y="4242"/>
                </a:cubicBezTo>
                <a:cubicBezTo>
                  <a:pt x="11493" y="4386"/>
                  <a:pt x="11509" y="4542"/>
                  <a:pt x="11509" y="4688"/>
                </a:cubicBezTo>
                <a:cubicBezTo>
                  <a:pt x="11562" y="4677"/>
                  <a:pt x="11606" y="4651"/>
                  <a:pt x="11658" y="4638"/>
                </a:cubicBezTo>
                <a:cubicBezTo>
                  <a:pt x="11697" y="4628"/>
                  <a:pt x="11683" y="4607"/>
                  <a:pt x="11683" y="4564"/>
                </a:cubicBezTo>
                <a:cubicBezTo>
                  <a:pt x="11683" y="4556"/>
                  <a:pt x="11683" y="4547"/>
                  <a:pt x="11683" y="4539"/>
                </a:cubicBezTo>
                <a:cubicBezTo>
                  <a:pt x="11645" y="4552"/>
                  <a:pt x="11658" y="4569"/>
                  <a:pt x="11658" y="4614"/>
                </a:cubicBezTo>
                <a:cubicBezTo>
                  <a:pt x="11658" y="4671"/>
                  <a:pt x="11649" y="4692"/>
                  <a:pt x="11633" y="4738"/>
                </a:cubicBezTo>
                <a:cubicBezTo>
                  <a:pt x="11627" y="4757"/>
                  <a:pt x="11633" y="4792"/>
                  <a:pt x="11633" y="4812"/>
                </a:cubicBezTo>
                <a:cubicBezTo>
                  <a:pt x="11559" y="4812"/>
                  <a:pt x="11484" y="4812"/>
                  <a:pt x="11410" y="4812"/>
                </a:cubicBezTo>
              </a:path>
              <a:path w="8832" h="3350">
                <a:moveTo>
                  <a:pt x="11261" y="4564"/>
                </a:moveTo>
                <a:cubicBezTo>
                  <a:pt x="11253" y="4564"/>
                  <a:pt x="11245" y="4564"/>
                  <a:pt x="11237" y="4564"/>
                </a:cubicBezTo>
                <a:cubicBezTo>
                  <a:pt x="11287" y="4564"/>
                  <a:pt x="11299" y="4563"/>
                  <a:pt x="11311" y="4514"/>
                </a:cubicBezTo>
              </a:path>
              <a:path w="8832" h="3350">
                <a:moveTo>
                  <a:pt x="13742" y="3671"/>
                </a:moveTo>
                <a:cubicBezTo>
                  <a:pt x="13734" y="3671"/>
                  <a:pt x="13725" y="3671"/>
                  <a:pt x="13717" y="3671"/>
                </a:cubicBezTo>
                <a:cubicBezTo>
                  <a:pt x="13717" y="3869"/>
                  <a:pt x="13717" y="4068"/>
                  <a:pt x="13717" y="4266"/>
                </a:cubicBezTo>
              </a:path>
              <a:path w="8832" h="3350">
                <a:moveTo>
                  <a:pt x="16520" y="4787"/>
                </a:moveTo>
                <a:cubicBezTo>
                  <a:pt x="16718" y="4787"/>
                  <a:pt x="16917" y="4787"/>
                  <a:pt x="17115" y="4787"/>
                </a:cubicBezTo>
              </a:path>
              <a:path w="8832" h="3350">
                <a:moveTo>
                  <a:pt x="17165" y="4688"/>
                </a:moveTo>
                <a:cubicBezTo>
                  <a:pt x="17155" y="4728"/>
                  <a:pt x="17127" y="4750"/>
                  <a:pt x="17115" y="4787"/>
                </a:cubicBezTo>
                <a:cubicBezTo>
                  <a:pt x="17105" y="4816"/>
                  <a:pt x="17095" y="4829"/>
                  <a:pt x="17066" y="4862"/>
                </a:cubicBezTo>
                <a:cubicBezTo>
                  <a:pt x="17037" y="4896"/>
                  <a:pt x="17054" y="4931"/>
                  <a:pt x="17016" y="4936"/>
                </a:cubicBezTo>
                <a:cubicBezTo>
                  <a:pt x="16991" y="4936"/>
                  <a:pt x="16983" y="4936"/>
                  <a:pt x="16966" y="4936"/>
                </a:cubicBezTo>
                <a:cubicBezTo>
                  <a:pt x="16974" y="4904"/>
                  <a:pt x="17005" y="4853"/>
                  <a:pt x="17041" y="4837"/>
                </a:cubicBezTo>
                <a:cubicBezTo>
                  <a:pt x="17072" y="4823"/>
                  <a:pt x="17067" y="4792"/>
                  <a:pt x="17115" y="4787"/>
                </a:cubicBezTo>
                <a:cubicBezTo>
                  <a:pt x="17147" y="4783"/>
                  <a:pt x="17171" y="4750"/>
                  <a:pt x="17214" y="4738"/>
                </a:cubicBezTo>
                <a:cubicBezTo>
                  <a:pt x="17245" y="4729"/>
                  <a:pt x="17317" y="4731"/>
                  <a:pt x="17338" y="4713"/>
                </a:cubicBezTo>
                <a:cubicBezTo>
                  <a:pt x="17338" y="4713"/>
                  <a:pt x="17412" y="4665"/>
                  <a:pt x="17413" y="4663"/>
                </a:cubicBezTo>
                <a:cubicBezTo>
                  <a:pt x="17413" y="4655"/>
                  <a:pt x="17413" y="4646"/>
                  <a:pt x="17413" y="4638"/>
                </a:cubicBezTo>
                <a:cubicBezTo>
                  <a:pt x="17367" y="4638"/>
                  <a:pt x="17349" y="4632"/>
                  <a:pt x="17314" y="4663"/>
                </a:cubicBezTo>
                <a:cubicBezTo>
                  <a:pt x="17298" y="4677"/>
                  <a:pt x="17265" y="4736"/>
                  <a:pt x="17264" y="4738"/>
                </a:cubicBezTo>
                <a:cubicBezTo>
                  <a:pt x="17251" y="4764"/>
                  <a:pt x="17223" y="4809"/>
                  <a:pt x="17214" y="4837"/>
                </a:cubicBezTo>
                <a:cubicBezTo>
                  <a:pt x="17204" y="4867"/>
                  <a:pt x="17213" y="4900"/>
                  <a:pt x="17190" y="4911"/>
                </a:cubicBezTo>
                <a:cubicBezTo>
                  <a:pt x="17142" y="4934"/>
                  <a:pt x="17145" y="4896"/>
                  <a:pt x="17115" y="4936"/>
                </a:cubicBezTo>
                <a:cubicBezTo>
                  <a:pt x="17104" y="4950"/>
                  <a:pt x="17034" y="4984"/>
                  <a:pt x="17016" y="4961"/>
                </a:cubicBezTo>
                <a:cubicBezTo>
                  <a:pt x="17016" y="4928"/>
                  <a:pt x="17016" y="4912"/>
                  <a:pt x="17016" y="4887"/>
                </a:cubicBezTo>
              </a:path>
              <a:path w="8832" h="3350">
                <a:moveTo>
                  <a:pt x="17140" y="4118"/>
                </a:moveTo>
                <a:cubicBezTo>
                  <a:pt x="17214" y="4118"/>
                  <a:pt x="17289" y="4118"/>
                  <a:pt x="17363" y="4118"/>
                </a:cubicBezTo>
                <a:cubicBezTo>
                  <a:pt x="17430" y="4118"/>
                  <a:pt x="17303" y="4111"/>
                  <a:pt x="17289" y="4118"/>
                </a:cubicBezTo>
                <a:cubicBezTo>
                  <a:pt x="17256" y="4134"/>
                  <a:pt x="17226" y="4156"/>
                  <a:pt x="17214" y="4192"/>
                </a:cubicBezTo>
                <a:cubicBezTo>
                  <a:pt x="17192" y="4258"/>
                  <a:pt x="17223" y="4283"/>
                  <a:pt x="17264" y="4316"/>
                </a:cubicBezTo>
                <a:cubicBezTo>
                  <a:pt x="17287" y="4335"/>
                  <a:pt x="17409" y="4370"/>
                  <a:pt x="17438" y="4341"/>
                </a:cubicBezTo>
                <a:cubicBezTo>
                  <a:pt x="17438" y="4333"/>
                  <a:pt x="17438" y="4324"/>
                  <a:pt x="17438" y="4316"/>
                </a:cubicBezTo>
                <a:cubicBezTo>
                  <a:pt x="17438" y="4245"/>
                  <a:pt x="17433" y="4290"/>
                  <a:pt x="17388" y="4266"/>
                </a:cubicBezTo>
                <a:cubicBezTo>
                  <a:pt x="17335" y="4238"/>
                  <a:pt x="17385" y="4217"/>
                  <a:pt x="17314" y="4217"/>
                </a:cubicBezTo>
                <a:cubicBezTo>
                  <a:pt x="17268" y="4217"/>
                  <a:pt x="17249" y="4211"/>
                  <a:pt x="17214" y="4242"/>
                </a:cubicBezTo>
                <a:cubicBezTo>
                  <a:pt x="17176" y="4276"/>
                  <a:pt x="17162" y="4261"/>
                  <a:pt x="17140" y="4291"/>
                </a:cubicBezTo>
                <a:cubicBezTo>
                  <a:pt x="17115" y="4324"/>
                  <a:pt x="17094" y="4336"/>
                  <a:pt x="17090" y="4366"/>
                </a:cubicBezTo>
                <a:cubicBezTo>
                  <a:pt x="17084" y="4409"/>
                  <a:pt x="17087" y="4434"/>
                  <a:pt x="17115" y="4465"/>
                </a:cubicBezTo>
                <a:cubicBezTo>
                  <a:pt x="17154" y="4508"/>
                  <a:pt x="17202" y="4498"/>
                  <a:pt x="17239" y="4465"/>
                </a:cubicBezTo>
                <a:cubicBezTo>
                  <a:pt x="17262" y="4442"/>
                  <a:pt x="17270" y="4438"/>
                  <a:pt x="17264" y="4415"/>
                </a:cubicBezTo>
                <a:cubicBezTo>
                  <a:pt x="17264" y="4477"/>
                  <a:pt x="17254" y="4510"/>
                  <a:pt x="17239" y="4539"/>
                </a:cubicBezTo>
                <a:cubicBezTo>
                  <a:pt x="17229" y="4560"/>
                  <a:pt x="17239" y="4614"/>
                  <a:pt x="17239" y="4638"/>
                </a:cubicBezTo>
                <a:cubicBezTo>
                  <a:pt x="17281" y="4638"/>
                  <a:pt x="17290" y="4632"/>
                  <a:pt x="17314" y="4614"/>
                </a:cubicBezTo>
                <a:cubicBezTo>
                  <a:pt x="17352" y="4585"/>
                  <a:pt x="17338" y="4533"/>
                  <a:pt x="17338" y="4490"/>
                </a:cubicBezTo>
                <a:cubicBezTo>
                  <a:pt x="17338" y="4374"/>
                  <a:pt x="17338" y="4258"/>
                  <a:pt x="17338" y="4142"/>
                </a:cubicBezTo>
              </a:path>
              <a:path w="8832" h="3350">
                <a:moveTo>
                  <a:pt x="17165" y="4564"/>
                </a:moveTo>
                <a:cubicBezTo>
                  <a:pt x="17165" y="4475"/>
                  <a:pt x="17147" y="4363"/>
                  <a:pt x="17190" y="4291"/>
                </a:cubicBezTo>
              </a:path>
              <a:path w="8832" h="3350">
                <a:moveTo>
                  <a:pt x="17115" y="3820"/>
                </a:moveTo>
                <a:cubicBezTo>
                  <a:pt x="17115" y="3770"/>
                  <a:pt x="17115" y="3721"/>
                  <a:pt x="17115" y="3671"/>
                </a:cubicBezTo>
              </a:path>
              <a:path w="8832" h="3350">
                <a:moveTo>
                  <a:pt x="15453" y="3200"/>
                </a:moveTo>
                <a:cubicBezTo>
                  <a:pt x="15453" y="3225"/>
                  <a:pt x="15453" y="3233"/>
                  <a:pt x="15453" y="3249"/>
                </a:cubicBezTo>
                <a:cubicBezTo>
                  <a:pt x="15513" y="3230"/>
                  <a:pt x="15538" y="3228"/>
                  <a:pt x="15602" y="3225"/>
                </a:cubicBezTo>
                <a:cubicBezTo>
                  <a:pt x="16145" y="3201"/>
                  <a:pt x="16695" y="3225"/>
                  <a:pt x="17239" y="3225"/>
                </a:cubicBezTo>
                <a:cubicBezTo>
                  <a:pt x="17239" y="3310"/>
                  <a:pt x="17240" y="3399"/>
                  <a:pt x="17214" y="3448"/>
                </a:cubicBezTo>
                <a:cubicBezTo>
                  <a:pt x="17195" y="3484"/>
                  <a:pt x="17183" y="3502"/>
                  <a:pt x="17165" y="3522"/>
                </a:cubicBezTo>
                <a:cubicBezTo>
                  <a:pt x="17120" y="3572"/>
                  <a:pt x="17150" y="3555"/>
                  <a:pt x="17090" y="3572"/>
                </a:cubicBezTo>
                <a:cubicBezTo>
                  <a:pt x="17100" y="3554"/>
                  <a:pt x="17130" y="3500"/>
                  <a:pt x="17140" y="3497"/>
                </a:cubicBezTo>
                <a:cubicBezTo>
                  <a:pt x="17185" y="3484"/>
                  <a:pt x="17181" y="3490"/>
                  <a:pt x="17214" y="3473"/>
                </a:cubicBezTo>
                <a:cubicBezTo>
                  <a:pt x="17254" y="3452"/>
                  <a:pt x="17305" y="3444"/>
                  <a:pt x="17338" y="3423"/>
                </a:cubicBezTo>
                <a:cubicBezTo>
                  <a:pt x="17373" y="3400"/>
                  <a:pt x="17370" y="3391"/>
                  <a:pt x="17388" y="3373"/>
                </a:cubicBezTo>
              </a:path>
              <a:path w="8832" h="3350">
                <a:moveTo>
                  <a:pt x="8781" y="4589"/>
                </a:moveTo>
                <a:cubicBezTo>
                  <a:pt x="8781" y="4641"/>
                  <a:pt x="8760" y="4698"/>
                  <a:pt x="8756" y="4713"/>
                </a:cubicBezTo>
                <a:cubicBezTo>
                  <a:pt x="8749" y="4737"/>
                  <a:pt x="8756" y="4784"/>
                  <a:pt x="8756" y="4812"/>
                </a:cubicBezTo>
                <a:cubicBezTo>
                  <a:pt x="8756" y="4757"/>
                  <a:pt x="8731" y="4644"/>
                  <a:pt x="8781" y="4614"/>
                </a:cubicBezTo>
                <a:cubicBezTo>
                  <a:pt x="8789" y="4614"/>
                  <a:pt x="8798" y="4614"/>
                  <a:pt x="8806" y="4614"/>
                </a:cubicBezTo>
              </a:path>
              <a:path w="8832" h="3350">
                <a:moveTo>
                  <a:pt x="8855" y="4465"/>
                </a:moveTo>
                <a:cubicBezTo>
                  <a:pt x="8855" y="4581"/>
                  <a:pt x="8855" y="4696"/>
                  <a:pt x="8855" y="4812"/>
                </a:cubicBezTo>
                <a:cubicBezTo>
                  <a:pt x="8855" y="4877"/>
                  <a:pt x="8832" y="4753"/>
                  <a:pt x="8830" y="4738"/>
                </a:cubicBezTo>
                <a:cubicBezTo>
                  <a:pt x="8830" y="4730"/>
                  <a:pt x="8830" y="4721"/>
                  <a:pt x="8830" y="4713"/>
                </a:cubicBezTo>
              </a:path>
              <a:path w="8832" h="3350">
                <a:moveTo>
                  <a:pt x="8756" y="4440"/>
                </a:moveTo>
                <a:cubicBezTo>
                  <a:pt x="8802" y="4440"/>
                  <a:pt x="8975" y="4416"/>
                  <a:pt x="8979" y="4465"/>
                </a:cubicBezTo>
                <a:cubicBezTo>
                  <a:pt x="8984" y="4523"/>
                  <a:pt x="8965" y="4564"/>
                  <a:pt x="8954" y="4589"/>
                </a:cubicBezTo>
                <a:cubicBezTo>
                  <a:pt x="8920" y="4668"/>
                  <a:pt x="9014" y="4832"/>
                  <a:pt x="8905" y="4837"/>
                </a:cubicBezTo>
                <a:cubicBezTo>
                  <a:pt x="8847" y="4837"/>
                  <a:pt x="8839" y="4837"/>
                  <a:pt x="8806" y="4837"/>
                </a:cubicBezTo>
                <a:cubicBezTo>
                  <a:pt x="8832" y="4798"/>
                  <a:pt x="8893" y="4812"/>
                  <a:pt x="8954" y="4812"/>
                </a:cubicBezTo>
                <a:cubicBezTo>
                  <a:pt x="8996" y="4812"/>
                  <a:pt x="9037" y="4812"/>
                  <a:pt x="9079" y="4812"/>
                </a:cubicBezTo>
                <a:cubicBezTo>
                  <a:pt x="9133" y="4812"/>
                  <a:pt x="9133" y="4812"/>
                  <a:pt x="9079" y="4812"/>
                </a:cubicBezTo>
                <a:cubicBezTo>
                  <a:pt x="9063" y="4812"/>
                  <a:pt x="8940" y="4812"/>
                  <a:pt x="9004" y="4812"/>
                </a:cubicBezTo>
                <a:cubicBezTo>
                  <a:pt x="9029" y="4812"/>
                  <a:pt x="9037" y="4812"/>
                  <a:pt x="9054" y="4812"/>
                </a:cubicBezTo>
                <a:cubicBezTo>
                  <a:pt x="8991" y="4812"/>
                  <a:pt x="8762" y="4781"/>
                  <a:pt x="8855" y="4812"/>
                </a:cubicBezTo>
                <a:cubicBezTo>
                  <a:pt x="8875" y="4819"/>
                  <a:pt x="9052" y="4848"/>
                  <a:pt x="8979" y="4862"/>
                </a:cubicBezTo>
                <a:cubicBezTo>
                  <a:pt x="8880" y="4881"/>
                  <a:pt x="8757" y="4862"/>
                  <a:pt x="8657" y="4862"/>
                </a:cubicBezTo>
                <a:cubicBezTo>
                  <a:pt x="8526" y="4862"/>
                  <a:pt x="8739" y="4885"/>
                  <a:pt x="8756" y="4887"/>
                </a:cubicBezTo>
                <a:cubicBezTo>
                  <a:pt x="8882" y="4905"/>
                  <a:pt x="9025" y="4887"/>
                  <a:pt x="9153" y="4887"/>
                </a:cubicBezTo>
                <a:cubicBezTo>
                  <a:pt x="9220" y="4887"/>
                  <a:pt x="9069" y="4887"/>
                  <a:pt x="9054" y="4887"/>
                </a:cubicBezTo>
                <a:cubicBezTo>
                  <a:pt x="8999" y="4887"/>
                  <a:pt x="8952" y="4887"/>
                  <a:pt x="9029" y="4887"/>
                </a:cubicBezTo>
                <a:cubicBezTo>
                  <a:pt x="9062" y="4887"/>
                  <a:pt x="9255" y="4887"/>
                  <a:pt x="9128" y="4887"/>
                </a:cubicBezTo>
                <a:cubicBezTo>
                  <a:pt x="9048" y="4887"/>
                  <a:pt x="8613" y="4912"/>
                  <a:pt x="8607" y="4862"/>
                </a:cubicBezTo>
                <a:cubicBezTo>
                  <a:pt x="8595" y="4768"/>
                  <a:pt x="8573" y="4507"/>
                  <a:pt x="8632" y="4440"/>
                </a:cubicBezTo>
                <a:cubicBezTo>
                  <a:pt x="8655" y="4414"/>
                  <a:pt x="8724" y="4394"/>
                  <a:pt x="8756" y="4390"/>
                </a:cubicBezTo>
                <a:cubicBezTo>
                  <a:pt x="8804" y="4385"/>
                  <a:pt x="8856" y="4390"/>
                  <a:pt x="8905" y="4390"/>
                </a:cubicBezTo>
              </a:path>
              <a:path w="8832" h="3350">
                <a:moveTo>
                  <a:pt x="8855" y="4316"/>
                </a:moveTo>
                <a:cubicBezTo>
                  <a:pt x="8805" y="4316"/>
                  <a:pt x="8756" y="4316"/>
                  <a:pt x="8706" y="4316"/>
                </a:cubicBezTo>
                <a:cubicBezTo>
                  <a:pt x="8706" y="4233"/>
                  <a:pt x="8706" y="4151"/>
                  <a:pt x="8706" y="4068"/>
                </a:cubicBezTo>
                <a:cubicBezTo>
                  <a:pt x="8706" y="4001"/>
                  <a:pt x="8706" y="4107"/>
                  <a:pt x="8706" y="4118"/>
                </a:cubicBezTo>
                <a:cubicBezTo>
                  <a:pt x="8706" y="4169"/>
                  <a:pt x="8733" y="4340"/>
                  <a:pt x="8682" y="4366"/>
                </a:cubicBezTo>
                <a:cubicBezTo>
                  <a:pt x="8654" y="4380"/>
                  <a:pt x="8653" y="4426"/>
                  <a:pt x="8632" y="4440"/>
                </a:cubicBezTo>
                <a:cubicBezTo>
                  <a:pt x="8624" y="4440"/>
                  <a:pt x="8615" y="4440"/>
                  <a:pt x="8607" y="4440"/>
                </a:cubicBezTo>
                <a:cubicBezTo>
                  <a:pt x="8607" y="4379"/>
                  <a:pt x="8617" y="4345"/>
                  <a:pt x="8632" y="4316"/>
                </a:cubicBezTo>
                <a:cubicBezTo>
                  <a:pt x="8660" y="4260"/>
                  <a:pt x="8610" y="4227"/>
                  <a:pt x="8657" y="4192"/>
                </a:cubicBezTo>
                <a:cubicBezTo>
                  <a:pt x="8686" y="4170"/>
                  <a:pt x="8690" y="4151"/>
                  <a:pt x="8706" y="4118"/>
                </a:cubicBezTo>
                <a:cubicBezTo>
                  <a:pt x="8732" y="4065"/>
                  <a:pt x="8730" y="4101"/>
                  <a:pt x="8756" y="4068"/>
                </a:cubicBezTo>
                <a:cubicBezTo>
                  <a:pt x="8756" y="4035"/>
                  <a:pt x="8764" y="4026"/>
                  <a:pt x="8806" y="4043"/>
                </a:cubicBezTo>
                <a:cubicBezTo>
                  <a:pt x="8838" y="4065"/>
                  <a:pt x="8830" y="4092"/>
                  <a:pt x="8830" y="4142"/>
                </a:cubicBezTo>
                <a:cubicBezTo>
                  <a:pt x="8830" y="4200"/>
                  <a:pt x="8800" y="4219"/>
                  <a:pt x="8781" y="4266"/>
                </a:cubicBezTo>
                <a:cubicBezTo>
                  <a:pt x="8769" y="4296"/>
                  <a:pt x="8781" y="4357"/>
                  <a:pt x="8781" y="4390"/>
                </a:cubicBezTo>
              </a:path>
              <a:path w="8832" h="3350">
                <a:moveTo>
                  <a:pt x="8979" y="4217"/>
                </a:moveTo>
                <a:cubicBezTo>
                  <a:pt x="8979" y="4143"/>
                  <a:pt x="8979" y="4068"/>
                  <a:pt x="8979" y="3994"/>
                </a:cubicBezTo>
                <a:cubicBezTo>
                  <a:pt x="9014" y="3982"/>
                  <a:pt x="9004" y="3987"/>
                  <a:pt x="9004" y="3944"/>
                </a:cubicBezTo>
                <a:cubicBezTo>
                  <a:pt x="9056" y="3931"/>
                  <a:pt x="9046" y="3907"/>
                  <a:pt x="9079" y="3870"/>
                </a:cubicBezTo>
                <a:cubicBezTo>
                  <a:pt x="9107" y="3838"/>
                  <a:pt x="9103" y="3835"/>
                  <a:pt x="9103" y="3795"/>
                </a:cubicBezTo>
              </a:path>
              <a:path w="8832" h="3350">
                <a:moveTo>
                  <a:pt x="9426" y="3770"/>
                </a:moveTo>
                <a:cubicBezTo>
                  <a:pt x="9558" y="3770"/>
                  <a:pt x="9691" y="3770"/>
                  <a:pt x="9823" y="3770"/>
                </a:cubicBezTo>
                <a:cubicBezTo>
                  <a:pt x="9823" y="3706"/>
                  <a:pt x="9833" y="3650"/>
                  <a:pt x="9798" y="3621"/>
                </a:cubicBezTo>
                <a:cubicBezTo>
                  <a:pt x="9764" y="3592"/>
                  <a:pt x="9732" y="3549"/>
                  <a:pt x="9723" y="3522"/>
                </a:cubicBezTo>
              </a:path>
              <a:path w="8832" h="3350">
                <a:moveTo>
                  <a:pt x="10344" y="3473"/>
                </a:moveTo>
                <a:cubicBezTo>
                  <a:pt x="10368" y="3473"/>
                  <a:pt x="10377" y="3473"/>
                  <a:pt x="10393" y="3473"/>
                </a:cubicBezTo>
              </a:path>
              <a:path w="8832" h="3350">
                <a:moveTo>
                  <a:pt x="10939" y="4043"/>
                </a:moveTo>
                <a:cubicBezTo>
                  <a:pt x="10939" y="4051"/>
                  <a:pt x="10939" y="4060"/>
                  <a:pt x="10939" y="4068"/>
                </a:cubicBezTo>
              </a:path>
              <a:path w="8832" h="3350">
                <a:moveTo>
                  <a:pt x="16371" y="4738"/>
                </a:moveTo>
                <a:cubicBezTo>
                  <a:pt x="16363" y="4738"/>
                  <a:pt x="16354" y="4738"/>
                  <a:pt x="16346" y="4738"/>
                </a:cubicBezTo>
                <a:cubicBezTo>
                  <a:pt x="16445" y="4738"/>
                  <a:pt x="16545" y="4738"/>
                  <a:pt x="16644" y="4738"/>
                </a:cubicBezTo>
              </a:path>
              <a:path w="8832" h="3350">
                <a:moveTo>
                  <a:pt x="16247" y="4440"/>
                </a:moveTo>
                <a:cubicBezTo>
                  <a:pt x="16437" y="4440"/>
                  <a:pt x="16628" y="4440"/>
                  <a:pt x="16818" y="4440"/>
                </a:cubicBezTo>
              </a:path>
              <a:path w="8832" h="3350">
                <a:moveTo>
                  <a:pt x="11881" y="4291"/>
                </a:moveTo>
                <a:cubicBezTo>
                  <a:pt x="11918" y="4303"/>
                  <a:pt x="12005" y="4316"/>
                  <a:pt x="12080" y="4316"/>
                </a:cubicBezTo>
                <a:cubicBezTo>
                  <a:pt x="12609" y="4316"/>
                  <a:pt x="13138" y="4316"/>
                  <a:pt x="13667" y="4316"/>
                </a:cubicBezTo>
              </a:path>
              <a:path w="8832" h="3350">
                <a:moveTo>
                  <a:pt x="9823" y="5457"/>
                </a:moveTo>
                <a:cubicBezTo>
                  <a:pt x="9682" y="5457"/>
                  <a:pt x="9542" y="5457"/>
                  <a:pt x="9401" y="5457"/>
                </a:cubicBezTo>
                <a:cubicBezTo>
                  <a:pt x="9421" y="5417"/>
                  <a:pt x="9472" y="5396"/>
                  <a:pt x="9525" y="5383"/>
                </a:cubicBezTo>
                <a:cubicBezTo>
                  <a:pt x="9580" y="5370"/>
                  <a:pt x="9793" y="5369"/>
                  <a:pt x="9798" y="5407"/>
                </a:cubicBezTo>
                <a:cubicBezTo>
                  <a:pt x="9805" y="5458"/>
                  <a:pt x="9746" y="5410"/>
                  <a:pt x="9723" y="5457"/>
                </a:cubicBezTo>
                <a:cubicBezTo>
                  <a:pt x="9723" y="5465"/>
                  <a:pt x="9723" y="5474"/>
                  <a:pt x="9723" y="5482"/>
                </a:cubicBezTo>
                <a:cubicBezTo>
                  <a:pt x="9658" y="5482"/>
                  <a:pt x="9809" y="5482"/>
                  <a:pt x="9823" y="5482"/>
                </a:cubicBezTo>
                <a:cubicBezTo>
                  <a:pt x="9951" y="5482"/>
                  <a:pt x="9749" y="5482"/>
                  <a:pt x="9723" y="5482"/>
                </a:cubicBezTo>
                <a:cubicBezTo>
                  <a:pt x="9602" y="5482"/>
                  <a:pt x="9683" y="5482"/>
                  <a:pt x="9748" y="5482"/>
                </a:cubicBezTo>
                <a:cubicBezTo>
                  <a:pt x="9767" y="5482"/>
                  <a:pt x="10306" y="5484"/>
                  <a:pt x="10294" y="5507"/>
                </a:cubicBezTo>
                <a:cubicBezTo>
                  <a:pt x="10275" y="5544"/>
                  <a:pt x="10228" y="5531"/>
                  <a:pt x="10195" y="5531"/>
                </a:cubicBezTo>
                <a:cubicBezTo>
                  <a:pt x="10170" y="5531"/>
                  <a:pt x="10162" y="5531"/>
                  <a:pt x="10195" y="5531"/>
                </a:cubicBezTo>
                <a:cubicBezTo>
                  <a:pt x="10344" y="5531"/>
                  <a:pt x="10492" y="5531"/>
                  <a:pt x="10641" y="5531"/>
                </a:cubicBezTo>
                <a:cubicBezTo>
                  <a:pt x="10578" y="5539"/>
                  <a:pt x="10529" y="5575"/>
                  <a:pt x="10468" y="5581"/>
                </a:cubicBezTo>
                <a:cubicBezTo>
                  <a:pt x="10402" y="5588"/>
                  <a:pt x="10551" y="5581"/>
                  <a:pt x="10567" y="5581"/>
                </a:cubicBezTo>
                <a:cubicBezTo>
                  <a:pt x="10658" y="5581"/>
                  <a:pt x="10682" y="5581"/>
                  <a:pt x="10740" y="5581"/>
                </a:cubicBezTo>
                <a:cubicBezTo>
                  <a:pt x="10402" y="5581"/>
                  <a:pt x="9939" y="5512"/>
                  <a:pt x="9624" y="5606"/>
                </a:cubicBezTo>
                <a:cubicBezTo>
                  <a:pt x="9553" y="5627"/>
                  <a:pt x="9488" y="5584"/>
                  <a:pt x="9426" y="5631"/>
                </a:cubicBezTo>
                <a:cubicBezTo>
                  <a:pt x="9566" y="5631"/>
                  <a:pt x="9707" y="5631"/>
                  <a:pt x="9847" y="5631"/>
                </a:cubicBezTo>
              </a:path>
              <a:path w="8832" h="3350">
                <a:moveTo>
                  <a:pt x="15801" y="5581"/>
                </a:moveTo>
                <a:cubicBezTo>
                  <a:pt x="15950" y="5581"/>
                  <a:pt x="16098" y="5581"/>
                  <a:pt x="16247" y="5581"/>
                </a:cubicBezTo>
              </a:path>
              <a:path w="8832" h="3350">
                <a:moveTo>
                  <a:pt x="15801" y="5507"/>
                </a:moveTo>
                <a:cubicBezTo>
                  <a:pt x="15594" y="5507"/>
                  <a:pt x="15387" y="5507"/>
                  <a:pt x="15180" y="5507"/>
                </a:cubicBezTo>
              </a:path>
              <a:path w="8832" h="3350">
                <a:moveTo>
                  <a:pt x="10468" y="5333"/>
                </a:moveTo>
                <a:cubicBezTo>
                  <a:pt x="10492" y="5333"/>
                  <a:pt x="10501" y="5333"/>
                  <a:pt x="10517" y="5333"/>
                </a:cubicBezTo>
              </a:path>
              <a:path w="8832" h="3350">
                <a:moveTo>
                  <a:pt x="10096" y="4986"/>
                </a:moveTo>
                <a:cubicBezTo>
                  <a:pt x="10071" y="4986"/>
                  <a:pt x="10063" y="4986"/>
                  <a:pt x="10046" y="4986"/>
                </a:cubicBezTo>
                <a:cubicBezTo>
                  <a:pt x="10036" y="5026"/>
                  <a:pt x="10037" y="5025"/>
                  <a:pt x="9996" y="5035"/>
                </a:cubicBezTo>
                <a:cubicBezTo>
                  <a:pt x="9986" y="5075"/>
                  <a:pt x="9987" y="5075"/>
                  <a:pt x="9947" y="5085"/>
                </a:cubicBezTo>
                <a:cubicBezTo>
                  <a:pt x="9937" y="5124"/>
                  <a:pt x="9922" y="5140"/>
                  <a:pt x="9922" y="5184"/>
                </a:cubicBezTo>
              </a:path>
              <a:path w="8832" h="3350">
                <a:moveTo>
                  <a:pt x="9847" y="4762"/>
                </a:moveTo>
                <a:cubicBezTo>
                  <a:pt x="9814" y="4762"/>
                  <a:pt x="9781" y="4762"/>
                  <a:pt x="9748" y="4762"/>
                </a:cubicBezTo>
              </a:path>
              <a:path w="8832" h="3350">
                <a:moveTo>
                  <a:pt x="10368" y="4738"/>
                </a:moveTo>
                <a:cubicBezTo>
                  <a:pt x="10443" y="4750"/>
                  <a:pt x="10503" y="4776"/>
                  <a:pt x="10567" y="4812"/>
                </a:cubicBezTo>
                <a:cubicBezTo>
                  <a:pt x="10607" y="4832"/>
                  <a:pt x="10613" y="4841"/>
                  <a:pt x="10641" y="4837"/>
                </a:cubicBezTo>
              </a:path>
              <a:path w="8832" h="3350">
                <a:moveTo>
                  <a:pt x="10616" y="4638"/>
                </a:moveTo>
                <a:cubicBezTo>
                  <a:pt x="10616" y="4646"/>
                  <a:pt x="10616" y="4655"/>
                  <a:pt x="10616" y="4663"/>
                </a:cubicBezTo>
                <a:cubicBezTo>
                  <a:pt x="10567" y="4663"/>
                  <a:pt x="10517" y="4663"/>
                  <a:pt x="10468" y="4663"/>
                </a:cubicBezTo>
              </a:path>
              <a:path w="8832" h="3350">
                <a:moveTo>
                  <a:pt x="10344" y="4341"/>
                </a:moveTo>
                <a:cubicBezTo>
                  <a:pt x="10324" y="4381"/>
                  <a:pt x="10325" y="4397"/>
                  <a:pt x="10294" y="4390"/>
                </a:cubicBezTo>
                <a:cubicBezTo>
                  <a:pt x="10287" y="4416"/>
                  <a:pt x="10273" y="4475"/>
                  <a:pt x="10244" y="4490"/>
                </a:cubicBezTo>
                <a:cubicBezTo>
                  <a:pt x="10220" y="4490"/>
                  <a:pt x="10211" y="4490"/>
                  <a:pt x="10195" y="4490"/>
                </a:cubicBezTo>
              </a:path>
              <a:path w="8832" h="3350">
                <a:moveTo>
                  <a:pt x="9599" y="4887"/>
                </a:moveTo>
                <a:cubicBezTo>
                  <a:pt x="9575" y="4887"/>
                  <a:pt x="9566" y="4887"/>
                  <a:pt x="9550" y="4887"/>
                </a:cubicBezTo>
              </a:path>
              <a:path w="8832" h="3350">
                <a:moveTo>
                  <a:pt x="9699" y="4961"/>
                </a:moveTo>
                <a:cubicBezTo>
                  <a:pt x="9737" y="4932"/>
                  <a:pt x="9761" y="4935"/>
                  <a:pt x="9773" y="4887"/>
                </a:cubicBezTo>
                <a:cubicBezTo>
                  <a:pt x="9816" y="4876"/>
                  <a:pt x="9849" y="4847"/>
                  <a:pt x="9897" y="4837"/>
                </a:cubicBezTo>
                <a:cubicBezTo>
                  <a:pt x="9907" y="4796"/>
                  <a:pt x="9906" y="4797"/>
                  <a:pt x="9947" y="4787"/>
                </a:cubicBezTo>
              </a:path>
              <a:path w="8832" h="3350">
                <a:moveTo>
                  <a:pt x="9674" y="4614"/>
                </a:moveTo>
                <a:cubicBezTo>
                  <a:pt x="9773" y="4614"/>
                  <a:pt x="9872" y="4614"/>
                  <a:pt x="9971" y="4614"/>
                </a:cubicBezTo>
              </a:path>
              <a:path w="8832" h="3350">
                <a:moveTo>
                  <a:pt x="9748" y="4341"/>
                </a:moveTo>
                <a:cubicBezTo>
                  <a:pt x="9714" y="4361"/>
                  <a:pt x="9694" y="4370"/>
                  <a:pt x="9674" y="4390"/>
                </a:cubicBezTo>
                <a:cubicBezTo>
                  <a:pt x="9658" y="4406"/>
                  <a:pt x="9650" y="4414"/>
                  <a:pt x="9624" y="4440"/>
                </a:cubicBezTo>
                <a:cubicBezTo>
                  <a:pt x="9657" y="4421"/>
                  <a:pt x="9687" y="4389"/>
                  <a:pt x="9723" y="4366"/>
                </a:cubicBezTo>
                <a:cubicBezTo>
                  <a:pt x="9752" y="4348"/>
                  <a:pt x="9786" y="4343"/>
                  <a:pt x="9823" y="4341"/>
                </a:cubicBezTo>
                <a:cubicBezTo>
                  <a:pt x="9930" y="4335"/>
                  <a:pt x="10038" y="4341"/>
                  <a:pt x="10145" y="4341"/>
                </a:cubicBezTo>
                <a:cubicBezTo>
                  <a:pt x="10029" y="4341"/>
                  <a:pt x="9914" y="4341"/>
                  <a:pt x="9798" y="4341"/>
                </a:cubicBezTo>
                <a:cubicBezTo>
                  <a:pt x="9846" y="4341"/>
                  <a:pt x="9850" y="4325"/>
                  <a:pt x="9897" y="4316"/>
                </a:cubicBezTo>
                <a:cubicBezTo>
                  <a:pt x="9995" y="4296"/>
                  <a:pt x="10153" y="4306"/>
                  <a:pt x="10244" y="4341"/>
                </a:cubicBezTo>
                <a:cubicBezTo>
                  <a:pt x="10293" y="4360"/>
                  <a:pt x="10367" y="4362"/>
                  <a:pt x="10393" y="4415"/>
                </a:cubicBezTo>
                <a:cubicBezTo>
                  <a:pt x="10413" y="4454"/>
                  <a:pt x="10397" y="4464"/>
                  <a:pt x="10418" y="4490"/>
                </a:cubicBezTo>
                <a:cubicBezTo>
                  <a:pt x="10441" y="4518"/>
                  <a:pt x="10459" y="4529"/>
                  <a:pt x="10468" y="4564"/>
                </a:cubicBezTo>
                <a:cubicBezTo>
                  <a:pt x="10494" y="4663"/>
                  <a:pt x="10502" y="5012"/>
                  <a:pt x="10443" y="5085"/>
                </a:cubicBezTo>
                <a:cubicBezTo>
                  <a:pt x="10429" y="5103"/>
                  <a:pt x="10412" y="5135"/>
                  <a:pt x="10393" y="5159"/>
                </a:cubicBezTo>
                <a:cubicBezTo>
                  <a:pt x="10365" y="5196"/>
                  <a:pt x="10335" y="5182"/>
                  <a:pt x="10294" y="5184"/>
                </a:cubicBezTo>
                <a:cubicBezTo>
                  <a:pt x="10261" y="5186"/>
                  <a:pt x="10228" y="5184"/>
                  <a:pt x="10195" y="5184"/>
                </a:cubicBezTo>
              </a:path>
              <a:path w="8832" h="3350">
                <a:moveTo>
                  <a:pt x="16098" y="5011"/>
                </a:moveTo>
                <a:cubicBezTo>
                  <a:pt x="16108" y="4970"/>
                  <a:pt x="16107" y="4971"/>
                  <a:pt x="16148" y="4961"/>
                </a:cubicBezTo>
                <a:cubicBezTo>
                  <a:pt x="16148" y="4754"/>
                  <a:pt x="16148" y="4548"/>
                  <a:pt x="16148" y="4341"/>
                </a:cubicBezTo>
                <a:cubicBezTo>
                  <a:pt x="16108" y="4328"/>
                  <a:pt x="16123" y="4293"/>
                  <a:pt x="16123" y="4242"/>
                </a:cubicBezTo>
                <a:cubicBezTo>
                  <a:pt x="16123" y="4207"/>
                  <a:pt x="16118" y="4189"/>
                  <a:pt x="16098" y="4167"/>
                </a:cubicBezTo>
              </a:path>
              <a:path w="8832" h="3350">
                <a:moveTo>
                  <a:pt x="11509" y="4440"/>
                </a:moveTo>
                <a:cubicBezTo>
                  <a:pt x="11468" y="4440"/>
                  <a:pt x="11460" y="4440"/>
                  <a:pt x="11435" y="4440"/>
                </a:cubicBezTo>
              </a:path>
              <a:path w="8832" h="3350">
                <a:moveTo>
                  <a:pt x="11385" y="4490"/>
                </a:moveTo>
                <a:cubicBezTo>
                  <a:pt x="11385" y="4366"/>
                  <a:pt x="11385" y="4242"/>
                  <a:pt x="11385" y="4118"/>
                </a:cubicBezTo>
                <a:cubicBezTo>
                  <a:pt x="11385" y="4180"/>
                  <a:pt x="11366" y="4208"/>
                  <a:pt x="11361" y="4266"/>
                </a:cubicBezTo>
                <a:cubicBezTo>
                  <a:pt x="11361" y="4274"/>
                  <a:pt x="11361" y="4283"/>
                  <a:pt x="11361" y="4291"/>
                </a:cubicBezTo>
                <a:cubicBezTo>
                  <a:pt x="11361" y="4200"/>
                  <a:pt x="11361" y="4109"/>
                  <a:pt x="11361" y="4018"/>
                </a:cubicBezTo>
              </a:path>
              <a:path w="8832" h="3350">
                <a:moveTo>
                  <a:pt x="15602" y="2580"/>
                </a:moveTo>
                <a:cubicBezTo>
                  <a:pt x="15616" y="2634"/>
                  <a:pt x="15664" y="2611"/>
                  <a:pt x="15677" y="2654"/>
                </a:cubicBezTo>
                <a:cubicBezTo>
                  <a:pt x="15677" y="2671"/>
                  <a:pt x="15677" y="2687"/>
                  <a:pt x="15677" y="2704"/>
                </a:cubicBezTo>
                <a:cubicBezTo>
                  <a:pt x="15711" y="2716"/>
                  <a:pt x="15701" y="2712"/>
                  <a:pt x="15701" y="2753"/>
                </a:cubicBezTo>
                <a:cubicBezTo>
                  <a:pt x="15768" y="2770"/>
                  <a:pt x="15727" y="2785"/>
                  <a:pt x="15751" y="2828"/>
                </a:cubicBezTo>
                <a:cubicBezTo>
                  <a:pt x="15772" y="2866"/>
                  <a:pt x="15812" y="2886"/>
                  <a:pt x="15825" y="2927"/>
                </a:cubicBezTo>
                <a:cubicBezTo>
                  <a:pt x="15833" y="2952"/>
                  <a:pt x="15837" y="3003"/>
                  <a:pt x="15850" y="3026"/>
                </a:cubicBezTo>
                <a:cubicBezTo>
                  <a:pt x="15870" y="3061"/>
                  <a:pt x="15890" y="3062"/>
                  <a:pt x="15900" y="3101"/>
                </a:cubicBezTo>
                <a:cubicBezTo>
                  <a:pt x="15941" y="3114"/>
                  <a:pt x="15925" y="3149"/>
                  <a:pt x="15925" y="3200"/>
                </a:cubicBezTo>
                <a:cubicBezTo>
                  <a:pt x="15961" y="3213"/>
                  <a:pt x="15949" y="3230"/>
                  <a:pt x="15949" y="3274"/>
                </a:cubicBezTo>
                <a:cubicBezTo>
                  <a:pt x="15949" y="3282"/>
                  <a:pt x="15949" y="3291"/>
                  <a:pt x="15949" y="3299"/>
                </a:cubicBezTo>
              </a:path>
              <a:path w="8832" h="3350">
                <a:moveTo>
                  <a:pt x="15652" y="2679"/>
                </a:moveTo>
                <a:cubicBezTo>
                  <a:pt x="15669" y="2687"/>
                  <a:pt x="15738" y="2737"/>
                  <a:pt x="15751" y="2753"/>
                </a:cubicBezTo>
                <a:cubicBezTo>
                  <a:pt x="15773" y="2780"/>
                  <a:pt x="15815" y="2846"/>
                  <a:pt x="15825" y="2877"/>
                </a:cubicBezTo>
                <a:cubicBezTo>
                  <a:pt x="15842" y="2930"/>
                  <a:pt x="15810" y="2957"/>
                  <a:pt x="15850" y="3001"/>
                </a:cubicBezTo>
                <a:cubicBezTo>
                  <a:pt x="15881" y="3035"/>
                  <a:pt x="15889" y="3065"/>
                  <a:pt x="15925" y="3101"/>
                </a:cubicBezTo>
                <a:cubicBezTo>
                  <a:pt x="15965" y="3141"/>
                  <a:pt x="15927" y="3160"/>
                  <a:pt x="15949" y="3200"/>
                </a:cubicBezTo>
                <a:cubicBezTo>
                  <a:pt x="15976" y="3248"/>
                  <a:pt x="15999" y="3239"/>
                  <a:pt x="15999" y="3299"/>
                </a:cubicBezTo>
                <a:cubicBezTo>
                  <a:pt x="15999" y="3338"/>
                  <a:pt x="16044" y="3324"/>
                  <a:pt x="15999" y="3324"/>
                </a:cubicBezTo>
              </a:path>
              <a:path w="8832" h="3350">
                <a:moveTo>
                  <a:pt x="15602" y="2480"/>
                </a:moveTo>
                <a:cubicBezTo>
                  <a:pt x="15610" y="2480"/>
                  <a:pt x="15619" y="2480"/>
                  <a:pt x="15627" y="2480"/>
                </a:cubicBezTo>
                <a:cubicBezTo>
                  <a:pt x="15637" y="2519"/>
                  <a:pt x="15652" y="2535"/>
                  <a:pt x="15652" y="2580"/>
                </a:cubicBezTo>
                <a:cubicBezTo>
                  <a:pt x="15652" y="2630"/>
                  <a:pt x="15701" y="2645"/>
                  <a:pt x="15701" y="2704"/>
                </a:cubicBezTo>
                <a:cubicBezTo>
                  <a:pt x="15701" y="2712"/>
                  <a:pt x="15701" y="2721"/>
                  <a:pt x="15701" y="2729"/>
                </a:cubicBezTo>
                <a:cubicBezTo>
                  <a:pt x="15740" y="2742"/>
                  <a:pt x="15717" y="2765"/>
                  <a:pt x="15751" y="2803"/>
                </a:cubicBezTo>
                <a:cubicBezTo>
                  <a:pt x="15782" y="2838"/>
                  <a:pt x="15776" y="2856"/>
                  <a:pt x="15776" y="2902"/>
                </a:cubicBezTo>
                <a:cubicBezTo>
                  <a:pt x="15776" y="2976"/>
                  <a:pt x="15776" y="3051"/>
                  <a:pt x="15776" y="3125"/>
                </a:cubicBezTo>
              </a:path>
              <a:path w="8832" h="3350">
                <a:moveTo>
                  <a:pt x="15577" y="2530"/>
                </a:moveTo>
                <a:cubicBezTo>
                  <a:pt x="15613" y="2530"/>
                  <a:pt x="15681" y="2514"/>
                  <a:pt x="15701" y="2555"/>
                </a:cubicBezTo>
                <a:cubicBezTo>
                  <a:pt x="15721" y="2596"/>
                  <a:pt x="15727" y="2600"/>
                  <a:pt x="15751" y="2629"/>
                </a:cubicBezTo>
                <a:cubicBezTo>
                  <a:pt x="15771" y="2653"/>
                  <a:pt x="15837" y="2724"/>
                  <a:pt x="15850" y="2753"/>
                </a:cubicBezTo>
                <a:cubicBezTo>
                  <a:pt x="15868" y="2793"/>
                  <a:pt x="15861" y="2808"/>
                  <a:pt x="15900" y="2828"/>
                </a:cubicBezTo>
                <a:cubicBezTo>
                  <a:pt x="15900" y="2887"/>
                  <a:pt x="15928" y="2879"/>
                  <a:pt x="15949" y="2927"/>
                </a:cubicBezTo>
                <a:cubicBezTo>
                  <a:pt x="15965" y="2964"/>
                  <a:pt x="15955" y="2966"/>
                  <a:pt x="15999" y="2977"/>
                </a:cubicBezTo>
                <a:cubicBezTo>
                  <a:pt x="15999" y="3027"/>
                  <a:pt x="16010" y="3035"/>
                  <a:pt x="16024" y="3076"/>
                </a:cubicBezTo>
                <a:cubicBezTo>
                  <a:pt x="16038" y="3118"/>
                  <a:pt x="16035" y="3131"/>
                  <a:pt x="16073" y="3150"/>
                </a:cubicBezTo>
              </a:path>
              <a:path w="8832" h="3350">
                <a:moveTo>
                  <a:pt x="15701" y="2555"/>
                </a:moveTo>
                <a:cubicBezTo>
                  <a:pt x="15711" y="2594"/>
                  <a:pt x="15726" y="2609"/>
                  <a:pt x="15726" y="2654"/>
                </a:cubicBezTo>
                <a:cubicBezTo>
                  <a:pt x="15764" y="2667"/>
                  <a:pt x="15751" y="2684"/>
                  <a:pt x="15751" y="2729"/>
                </a:cubicBezTo>
                <a:cubicBezTo>
                  <a:pt x="15751" y="2782"/>
                  <a:pt x="15764" y="2790"/>
                  <a:pt x="15801" y="2828"/>
                </a:cubicBezTo>
                <a:cubicBezTo>
                  <a:pt x="15837" y="2865"/>
                  <a:pt x="15820" y="2888"/>
                  <a:pt x="15875" y="2902"/>
                </a:cubicBezTo>
                <a:cubicBezTo>
                  <a:pt x="15885" y="2943"/>
                  <a:pt x="15884" y="2942"/>
                  <a:pt x="15925" y="2952"/>
                </a:cubicBezTo>
                <a:cubicBezTo>
                  <a:pt x="15941" y="3018"/>
                  <a:pt x="15956" y="2977"/>
                  <a:pt x="15999" y="3001"/>
                </a:cubicBezTo>
                <a:cubicBezTo>
                  <a:pt x="16027" y="3017"/>
                  <a:pt x="16042" y="3098"/>
                  <a:pt x="16049" y="3125"/>
                </a:cubicBezTo>
              </a:path>
              <a:path w="8832" h="3350">
                <a:moveTo>
                  <a:pt x="15453" y="2704"/>
                </a:moveTo>
                <a:cubicBezTo>
                  <a:pt x="15440" y="2726"/>
                  <a:pt x="15429" y="2727"/>
                  <a:pt x="15429" y="2778"/>
                </a:cubicBezTo>
                <a:cubicBezTo>
                  <a:pt x="15429" y="2873"/>
                  <a:pt x="15379" y="3217"/>
                  <a:pt x="15453" y="3274"/>
                </a:cubicBezTo>
                <a:cubicBezTo>
                  <a:pt x="15494" y="3305"/>
                  <a:pt x="15580" y="3344"/>
                  <a:pt x="15627" y="3349"/>
                </a:cubicBezTo>
                <a:cubicBezTo>
                  <a:pt x="15713" y="3359"/>
                  <a:pt x="15789" y="3357"/>
                  <a:pt x="15875" y="3373"/>
                </a:cubicBezTo>
                <a:cubicBezTo>
                  <a:pt x="15914" y="3380"/>
                  <a:pt x="15959" y="3373"/>
                  <a:pt x="15999" y="3373"/>
                </a:cubicBezTo>
                <a:cubicBezTo>
                  <a:pt x="15999" y="3294"/>
                  <a:pt x="16002" y="3219"/>
                  <a:pt x="16024" y="3175"/>
                </a:cubicBezTo>
                <a:cubicBezTo>
                  <a:pt x="16035" y="3154"/>
                  <a:pt x="16061" y="3106"/>
                  <a:pt x="16073" y="3101"/>
                </a:cubicBezTo>
                <a:cubicBezTo>
                  <a:pt x="16109" y="3085"/>
                  <a:pt x="16085" y="3089"/>
                  <a:pt x="16123" y="3076"/>
                </a:cubicBezTo>
                <a:cubicBezTo>
                  <a:pt x="16123" y="3122"/>
                  <a:pt x="16117" y="3140"/>
                  <a:pt x="16148" y="3175"/>
                </a:cubicBezTo>
                <a:cubicBezTo>
                  <a:pt x="16166" y="3195"/>
                  <a:pt x="16192" y="3241"/>
                  <a:pt x="16197" y="3249"/>
                </a:cubicBezTo>
                <a:cubicBezTo>
                  <a:pt x="16216" y="3283"/>
                  <a:pt x="16236" y="3341"/>
                  <a:pt x="16247" y="3373"/>
                </a:cubicBezTo>
                <a:cubicBezTo>
                  <a:pt x="16247" y="3381"/>
                  <a:pt x="16247" y="3390"/>
                  <a:pt x="16247" y="3398"/>
                </a:cubicBezTo>
                <a:cubicBezTo>
                  <a:pt x="15974" y="3398"/>
                  <a:pt x="15702" y="3398"/>
                  <a:pt x="15429" y="3398"/>
                </a:cubicBezTo>
                <a:cubicBezTo>
                  <a:pt x="15429" y="3307"/>
                  <a:pt x="15419" y="3235"/>
                  <a:pt x="15404" y="3150"/>
                </a:cubicBezTo>
                <a:cubicBezTo>
                  <a:pt x="15393" y="3088"/>
                  <a:pt x="15395" y="3058"/>
                  <a:pt x="15379" y="3026"/>
                </a:cubicBezTo>
                <a:cubicBezTo>
                  <a:pt x="15361" y="2990"/>
                  <a:pt x="15337" y="2960"/>
                  <a:pt x="15304" y="2927"/>
                </a:cubicBezTo>
              </a:path>
              <a:path w="8832" h="3350">
                <a:moveTo>
                  <a:pt x="15825" y="3522"/>
                </a:moveTo>
                <a:cubicBezTo>
                  <a:pt x="16181" y="3522"/>
                  <a:pt x="16536" y="3522"/>
                  <a:pt x="16892" y="3522"/>
                </a:cubicBezTo>
              </a:path>
              <a:path w="8832" h="3350">
                <a:moveTo>
                  <a:pt x="16197" y="3423"/>
                </a:moveTo>
                <a:cubicBezTo>
                  <a:pt x="16281" y="3423"/>
                  <a:pt x="16342" y="3438"/>
                  <a:pt x="16421" y="3448"/>
                </a:cubicBezTo>
                <a:cubicBezTo>
                  <a:pt x="16717" y="3484"/>
                  <a:pt x="17562" y="3448"/>
                  <a:pt x="17264" y="3448"/>
                </a:cubicBezTo>
              </a:path>
              <a:path w="8832" h="3350">
                <a:moveTo>
                  <a:pt x="13891" y="3621"/>
                </a:moveTo>
                <a:cubicBezTo>
                  <a:pt x="13891" y="3588"/>
                  <a:pt x="13891" y="3555"/>
                  <a:pt x="13891" y="3522"/>
                </a:cubicBezTo>
                <a:cubicBezTo>
                  <a:pt x="13861" y="3529"/>
                  <a:pt x="13846" y="3540"/>
                  <a:pt x="13816" y="3547"/>
                </a:cubicBezTo>
              </a:path>
              <a:path w="8832" h="3350">
                <a:moveTo>
                  <a:pt x="14957" y="3721"/>
                </a:moveTo>
                <a:cubicBezTo>
                  <a:pt x="14993" y="3694"/>
                  <a:pt x="14996" y="3704"/>
                  <a:pt x="15007" y="3671"/>
                </a:cubicBezTo>
              </a:path>
              <a:path w="8832" h="3350">
                <a:moveTo>
                  <a:pt x="14114" y="3473"/>
                </a:moveTo>
                <a:cubicBezTo>
                  <a:pt x="14403" y="3473"/>
                  <a:pt x="14693" y="3473"/>
                  <a:pt x="14982" y="3473"/>
                </a:cubicBezTo>
              </a:path>
              <a:path w="8832" h="3350">
                <a:moveTo>
                  <a:pt x="14213" y="3448"/>
                </a:moveTo>
                <a:cubicBezTo>
                  <a:pt x="14560" y="3448"/>
                  <a:pt x="14908" y="3448"/>
                  <a:pt x="15255" y="3448"/>
                </a:cubicBezTo>
              </a:path>
              <a:path w="8832" h="3350">
                <a:moveTo>
                  <a:pt x="14188" y="3448"/>
                </a:moveTo>
                <a:cubicBezTo>
                  <a:pt x="14232" y="3439"/>
                  <a:pt x="14265" y="3423"/>
                  <a:pt x="14312" y="3423"/>
                </a:cubicBezTo>
                <a:cubicBezTo>
                  <a:pt x="14593" y="3423"/>
                  <a:pt x="14875" y="3423"/>
                  <a:pt x="15156" y="3423"/>
                </a:cubicBezTo>
              </a:path>
              <a:path w="8832" h="3350">
                <a:moveTo>
                  <a:pt x="12005" y="3423"/>
                </a:moveTo>
                <a:cubicBezTo>
                  <a:pt x="12559" y="3423"/>
                  <a:pt x="14122" y="3423"/>
                  <a:pt x="13568" y="3423"/>
                </a:cubicBezTo>
              </a:path>
              <a:path w="8832" h="3350">
                <a:moveTo>
                  <a:pt x="12129" y="3349"/>
                </a:moveTo>
                <a:cubicBezTo>
                  <a:pt x="12179" y="3319"/>
                  <a:pt x="12216" y="3324"/>
                  <a:pt x="12278" y="3324"/>
                </a:cubicBezTo>
                <a:cubicBezTo>
                  <a:pt x="12320" y="3324"/>
                  <a:pt x="12350" y="3299"/>
                  <a:pt x="12402" y="3299"/>
                </a:cubicBezTo>
                <a:cubicBezTo>
                  <a:pt x="12774" y="3299"/>
                  <a:pt x="13147" y="3299"/>
                  <a:pt x="13519" y="3299"/>
                </a:cubicBezTo>
              </a:path>
              <a:path w="8832" h="3350">
                <a:moveTo>
                  <a:pt x="13940" y="3373"/>
                </a:moveTo>
                <a:cubicBezTo>
                  <a:pt x="14093" y="3373"/>
                  <a:pt x="15059" y="3477"/>
                  <a:pt x="15156" y="3349"/>
                </a:cubicBezTo>
                <a:cubicBezTo>
                  <a:pt x="15173" y="3327"/>
                  <a:pt x="15199" y="3294"/>
                  <a:pt x="15205" y="3274"/>
                </a:cubicBezTo>
                <a:cubicBezTo>
                  <a:pt x="15231" y="3182"/>
                  <a:pt x="15196" y="3055"/>
                  <a:pt x="15180" y="2977"/>
                </a:cubicBezTo>
                <a:cubicBezTo>
                  <a:pt x="15166" y="2908"/>
                  <a:pt x="15180" y="2824"/>
                  <a:pt x="15180" y="2753"/>
                </a:cubicBezTo>
              </a:path>
              <a:path w="8832" h="3350">
                <a:moveTo>
                  <a:pt x="15429" y="3547"/>
                </a:moveTo>
                <a:cubicBezTo>
                  <a:pt x="15454" y="3590"/>
                  <a:pt x="15453" y="3619"/>
                  <a:pt x="15453" y="3671"/>
                </a:cubicBezTo>
                <a:cubicBezTo>
                  <a:pt x="15453" y="3696"/>
                  <a:pt x="15453" y="3721"/>
                  <a:pt x="15453" y="3746"/>
                </a:cubicBezTo>
              </a:path>
              <a:path w="8832" h="3350">
                <a:moveTo>
                  <a:pt x="15949" y="3770"/>
                </a:moveTo>
                <a:cubicBezTo>
                  <a:pt x="15991" y="3770"/>
                  <a:pt x="15999" y="3770"/>
                  <a:pt x="16024" y="3770"/>
                </a:cubicBezTo>
              </a:path>
              <a:path w="8832" h="3350">
                <a:moveTo>
                  <a:pt x="16570" y="4837"/>
                </a:moveTo>
                <a:cubicBezTo>
                  <a:pt x="16601" y="4813"/>
                  <a:pt x="16630" y="4791"/>
                  <a:pt x="16669" y="4787"/>
                </a:cubicBezTo>
                <a:cubicBezTo>
                  <a:pt x="16694" y="4787"/>
                  <a:pt x="16702" y="4787"/>
                  <a:pt x="16718" y="4787"/>
                </a:cubicBezTo>
                <a:cubicBezTo>
                  <a:pt x="16627" y="4787"/>
                  <a:pt x="16537" y="4787"/>
                  <a:pt x="16446" y="4787"/>
                </a:cubicBezTo>
                <a:cubicBezTo>
                  <a:pt x="16549" y="4847"/>
                  <a:pt x="16696" y="4853"/>
                  <a:pt x="16818" y="4862"/>
                </a:cubicBezTo>
                <a:cubicBezTo>
                  <a:pt x="16892" y="4862"/>
                  <a:pt x="16901" y="4862"/>
                  <a:pt x="16942" y="4862"/>
                </a:cubicBezTo>
                <a:cubicBezTo>
                  <a:pt x="16849" y="4862"/>
                  <a:pt x="16460" y="4862"/>
                  <a:pt x="16545" y="4862"/>
                </a:cubicBezTo>
                <a:cubicBezTo>
                  <a:pt x="16656" y="4888"/>
                  <a:pt x="16796" y="4883"/>
                  <a:pt x="16594" y="4911"/>
                </a:cubicBezTo>
                <a:cubicBezTo>
                  <a:pt x="16550" y="4917"/>
                  <a:pt x="16256" y="4903"/>
                  <a:pt x="16321" y="4936"/>
                </a:cubicBezTo>
                <a:cubicBezTo>
                  <a:pt x="16423" y="4987"/>
                  <a:pt x="16533" y="4986"/>
                  <a:pt x="16644" y="4986"/>
                </a:cubicBezTo>
                <a:cubicBezTo>
                  <a:pt x="16706" y="4986"/>
                  <a:pt x="16586" y="5010"/>
                  <a:pt x="16570" y="5011"/>
                </a:cubicBezTo>
                <a:cubicBezTo>
                  <a:pt x="16528" y="5011"/>
                  <a:pt x="16520" y="5011"/>
                  <a:pt x="16495" y="5011"/>
                </a:cubicBezTo>
                <a:cubicBezTo>
                  <a:pt x="16648" y="5011"/>
                  <a:pt x="16805" y="5014"/>
                  <a:pt x="16942" y="4986"/>
                </a:cubicBezTo>
                <a:cubicBezTo>
                  <a:pt x="16988" y="4977"/>
                  <a:pt x="17046" y="4966"/>
                  <a:pt x="17090" y="4961"/>
                </a:cubicBezTo>
                <a:cubicBezTo>
                  <a:pt x="17136" y="4956"/>
                  <a:pt x="17159" y="4967"/>
                  <a:pt x="17165" y="4911"/>
                </a:cubicBezTo>
                <a:cubicBezTo>
                  <a:pt x="17170" y="4867"/>
                  <a:pt x="17161" y="4875"/>
                  <a:pt x="17190" y="4837"/>
                </a:cubicBezTo>
              </a:path>
              <a:path w="8832" h="3350">
                <a:moveTo>
                  <a:pt x="17338" y="4812"/>
                </a:moveTo>
                <a:cubicBezTo>
                  <a:pt x="17338" y="4820"/>
                  <a:pt x="17338" y="4829"/>
                  <a:pt x="17338" y="4837"/>
                </a:cubicBezTo>
                <a:cubicBezTo>
                  <a:pt x="17304" y="4849"/>
                  <a:pt x="17314" y="4845"/>
                  <a:pt x="17314" y="4887"/>
                </a:cubicBezTo>
                <a:cubicBezTo>
                  <a:pt x="17279" y="4898"/>
                  <a:pt x="17289" y="4930"/>
                  <a:pt x="17239" y="4936"/>
                </a:cubicBezTo>
                <a:cubicBezTo>
                  <a:pt x="17150" y="4946"/>
                  <a:pt x="17055" y="4936"/>
                  <a:pt x="16966" y="4936"/>
                </a:cubicBezTo>
              </a:path>
              <a:path w="8832" h="3350">
                <a:moveTo>
                  <a:pt x="12254" y="4887"/>
                </a:moveTo>
                <a:cubicBezTo>
                  <a:pt x="12502" y="4887"/>
                  <a:pt x="12750" y="4887"/>
                  <a:pt x="12998" y="4887"/>
                </a:cubicBezTo>
                <a:cubicBezTo>
                  <a:pt x="12928" y="4895"/>
                  <a:pt x="12869" y="4926"/>
                  <a:pt x="12799" y="4936"/>
                </a:cubicBezTo>
                <a:cubicBezTo>
                  <a:pt x="12705" y="4949"/>
                  <a:pt x="12598" y="4936"/>
                  <a:pt x="12502" y="4936"/>
                </a:cubicBezTo>
                <a:cubicBezTo>
                  <a:pt x="12585" y="4936"/>
                  <a:pt x="12617" y="4936"/>
                  <a:pt x="12700" y="4936"/>
                </a:cubicBezTo>
                <a:cubicBezTo>
                  <a:pt x="13229" y="4936"/>
                  <a:pt x="13759" y="4936"/>
                  <a:pt x="14288" y="4936"/>
                </a:cubicBezTo>
              </a:path>
              <a:path w="8832" h="3350">
                <a:moveTo>
                  <a:pt x="11162" y="4986"/>
                </a:moveTo>
                <a:cubicBezTo>
                  <a:pt x="11228" y="4986"/>
                  <a:pt x="11278" y="4975"/>
                  <a:pt x="11311" y="4961"/>
                </a:cubicBezTo>
                <a:cubicBezTo>
                  <a:pt x="11522" y="4871"/>
                  <a:pt x="12047" y="4953"/>
                  <a:pt x="12254" y="4986"/>
                </a:cubicBezTo>
                <a:cubicBezTo>
                  <a:pt x="12295" y="4986"/>
                  <a:pt x="12303" y="4986"/>
                  <a:pt x="12328" y="4986"/>
                </a:cubicBezTo>
              </a:path>
              <a:path w="8832" h="3350">
                <a:moveTo>
                  <a:pt x="8979" y="4961"/>
                </a:moveTo>
                <a:cubicBezTo>
                  <a:pt x="9022" y="4961"/>
                  <a:pt x="9017" y="4971"/>
                  <a:pt x="9029" y="4936"/>
                </a:cubicBezTo>
              </a:path>
              <a:path w="8832" h="3350">
                <a:moveTo>
                  <a:pt x="11038" y="5011"/>
                </a:moveTo>
                <a:cubicBezTo>
                  <a:pt x="11082" y="5000"/>
                  <a:pt x="11120" y="5002"/>
                  <a:pt x="11162" y="4986"/>
                </a:cubicBezTo>
                <a:cubicBezTo>
                  <a:pt x="11194" y="4974"/>
                  <a:pt x="11228" y="4973"/>
                  <a:pt x="11261" y="4961"/>
                </a:cubicBezTo>
                <a:cubicBezTo>
                  <a:pt x="11312" y="4942"/>
                  <a:pt x="11343" y="4938"/>
                  <a:pt x="11410" y="4936"/>
                </a:cubicBezTo>
                <a:cubicBezTo>
                  <a:pt x="12408" y="4901"/>
                  <a:pt x="13413" y="4936"/>
                  <a:pt x="14412" y="4936"/>
                </a:cubicBezTo>
              </a:path>
              <a:path w="8832" h="3350">
                <a:moveTo>
                  <a:pt x="11162" y="4911"/>
                </a:moveTo>
                <a:cubicBezTo>
                  <a:pt x="11261" y="4911"/>
                  <a:pt x="11361" y="4911"/>
                  <a:pt x="11460" y="4911"/>
                </a:cubicBezTo>
                <a:cubicBezTo>
                  <a:pt x="11344" y="4911"/>
                  <a:pt x="11228" y="4911"/>
                  <a:pt x="11112" y="4911"/>
                </a:cubicBezTo>
                <a:cubicBezTo>
                  <a:pt x="11112" y="4837"/>
                  <a:pt x="11112" y="4762"/>
                  <a:pt x="11112" y="4688"/>
                </a:cubicBezTo>
                <a:cubicBezTo>
                  <a:pt x="11059" y="4688"/>
                  <a:pt x="10956" y="4665"/>
                  <a:pt x="10914" y="4713"/>
                </a:cubicBezTo>
                <a:cubicBezTo>
                  <a:pt x="10904" y="4725"/>
                  <a:pt x="10914" y="4796"/>
                  <a:pt x="10914" y="4812"/>
                </a:cubicBezTo>
                <a:cubicBezTo>
                  <a:pt x="10924" y="4773"/>
                  <a:pt x="10939" y="4757"/>
                  <a:pt x="10939" y="4713"/>
                </a:cubicBezTo>
                <a:cubicBezTo>
                  <a:pt x="10939" y="4630"/>
                  <a:pt x="10964" y="4803"/>
                  <a:pt x="10964" y="4812"/>
                </a:cubicBezTo>
                <a:cubicBezTo>
                  <a:pt x="10964" y="4891"/>
                  <a:pt x="10921" y="4994"/>
                  <a:pt x="11013" y="4911"/>
                </a:cubicBezTo>
                <a:cubicBezTo>
                  <a:pt x="11044" y="4883"/>
                  <a:pt x="11038" y="4876"/>
                  <a:pt x="11038" y="4837"/>
                </a:cubicBezTo>
                <a:cubicBezTo>
                  <a:pt x="11038" y="4870"/>
                  <a:pt x="11038" y="5036"/>
                  <a:pt x="11038" y="4986"/>
                </a:cubicBezTo>
                <a:cubicBezTo>
                  <a:pt x="11038" y="4928"/>
                  <a:pt x="11038" y="4870"/>
                  <a:pt x="11038" y="4812"/>
                </a:cubicBezTo>
              </a:path>
              <a:path w="8832" h="3350">
                <a:moveTo>
                  <a:pt x="9203" y="4911"/>
                </a:moveTo>
                <a:cubicBezTo>
                  <a:pt x="9203" y="4696"/>
                  <a:pt x="9203" y="4481"/>
                  <a:pt x="9203" y="4266"/>
                </a:cubicBezTo>
              </a:path>
              <a:path w="8832" h="3350">
                <a:moveTo>
                  <a:pt x="11162" y="5035"/>
                </a:moveTo>
                <a:cubicBezTo>
                  <a:pt x="11162" y="4997"/>
                  <a:pt x="11180" y="5011"/>
                  <a:pt x="11212" y="5011"/>
                </a:cubicBezTo>
              </a:path>
              <a:path w="8832" h="3350">
                <a:moveTo>
                  <a:pt x="11237" y="4911"/>
                </a:moveTo>
                <a:cubicBezTo>
                  <a:pt x="11440" y="4911"/>
                  <a:pt x="13767" y="4888"/>
                  <a:pt x="13767" y="4936"/>
                </a:cubicBezTo>
                <a:cubicBezTo>
                  <a:pt x="13767" y="4961"/>
                  <a:pt x="13767" y="4969"/>
                  <a:pt x="13742" y="4961"/>
                </a:cubicBezTo>
              </a:path>
              <a:path w="8832" h="3350">
                <a:moveTo>
                  <a:pt x="12452" y="4986"/>
                </a:moveTo>
                <a:cubicBezTo>
                  <a:pt x="12566" y="4986"/>
                  <a:pt x="12675" y="4981"/>
                  <a:pt x="12774" y="4961"/>
                </a:cubicBezTo>
                <a:cubicBezTo>
                  <a:pt x="13285" y="4858"/>
                  <a:pt x="13938" y="4961"/>
                  <a:pt x="14461" y="4961"/>
                </a:cubicBezTo>
                <a:cubicBezTo>
                  <a:pt x="14450" y="4932"/>
                  <a:pt x="14449" y="4889"/>
                  <a:pt x="14436" y="4862"/>
                </a:cubicBezTo>
                <a:cubicBezTo>
                  <a:pt x="14433" y="4856"/>
                  <a:pt x="14423" y="4808"/>
                  <a:pt x="14412" y="4787"/>
                </a:cubicBezTo>
                <a:cubicBezTo>
                  <a:pt x="14387" y="4787"/>
                  <a:pt x="14379" y="4787"/>
                  <a:pt x="14387" y="4762"/>
                </a:cubicBezTo>
                <a:cubicBezTo>
                  <a:pt x="14360" y="4802"/>
                  <a:pt x="14354" y="4841"/>
                  <a:pt x="14337" y="4887"/>
                </a:cubicBezTo>
                <a:cubicBezTo>
                  <a:pt x="14337" y="4820"/>
                  <a:pt x="14346" y="4790"/>
                  <a:pt x="14362" y="4738"/>
                </a:cubicBezTo>
                <a:cubicBezTo>
                  <a:pt x="14362" y="4730"/>
                  <a:pt x="14362" y="4721"/>
                  <a:pt x="14362" y="4713"/>
                </a:cubicBezTo>
              </a:path>
              <a:path w="8832" h="3350">
                <a:moveTo>
                  <a:pt x="11038" y="5159"/>
                </a:moveTo>
                <a:cubicBezTo>
                  <a:pt x="11038" y="5068"/>
                  <a:pt x="11038" y="4978"/>
                  <a:pt x="11038" y="4887"/>
                </a:cubicBezTo>
              </a:path>
              <a:path w="8832" h="3350">
                <a:moveTo>
                  <a:pt x="16197" y="5209"/>
                </a:moveTo>
                <a:cubicBezTo>
                  <a:pt x="16197" y="5060"/>
                  <a:pt x="16197" y="4911"/>
                  <a:pt x="16197" y="4762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5292720" y="161280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5357880" y="1643040"/>
            <a:ext cx="349200" cy="401760"/>
          </a:xfrm>
          <a:custGeom>
            <a:avLst/>
            <a:gdLst/>
            <a:ahLst/>
            <a:rect l="l" t="t" r="r" b="b"/>
            <a:pathLst>
              <a:path w="968" h="1117">
                <a:moveTo>
                  <a:pt x="15255" y="17413"/>
                </a:moveTo>
                <a:cubicBezTo>
                  <a:pt x="15222" y="17418"/>
                  <a:pt x="15213" y="17431"/>
                  <a:pt x="15180" y="17438"/>
                </a:cubicBezTo>
                <a:cubicBezTo>
                  <a:pt x="15113" y="17452"/>
                  <a:pt x="15161" y="17452"/>
                  <a:pt x="15106" y="17487"/>
                </a:cubicBezTo>
                <a:cubicBezTo>
                  <a:pt x="15079" y="17504"/>
                  <a:pt x="15048" y="17521"/>
                  <a:pt x="15032" y="17537"/>
                </a:cubicBezTo>
                <a:cubicBezTo>
                  <a:pt x="14978" y="17591"/>
                  <a:pt x="14981" y="17577"/>
                  <a:pt x="14957" y="17636"/>
                </a:cubicBezTo>
                <a:cubicBezTo>
                  <a:pt x="14934" y="17692"/>
                  <a:pt x="14898" y="17683"/>
                  <a:pt x="14883" y="17735"/>
                </a:cubicBezTo>
                <a:cubicBezTo>
                  <a:pt x="14853" y="17840"/>
                  <a:pt x="14852" y="18191"/>
                  <a:pt x="14932" y="18256"/>
                </a:cubicBezTo>
                <a:cubicBezTo>
                  <a:pt x="15008" y="18318"/>
                  <a:pt x="15099" y="18303"/>
                  <a:pt x="15180" y="18331"/>
                </a:cubicBezTo>
                <a:cubicBezTo>
                  <a:pt x="15246" y="18354"/>
                  <a:pt x="15300" y="18355"/>
                  <a:pt x="15379" y="18355"/>
                </a:cubicBezTo>
                <a:cubicBezTo>
                  <a:pt x="15476" y="18355"/>
                  <a:pt x="15568" y="18346"/>
                  <a:pt x="15652" y="18331"/>
                </a:cubicBezTo>
                <a:cubicBezTo>
                  <a:pt x="15724" y="18318"/>
                  <a:pt x="15670" y="18331"/>
                  <a:pt x="15701" y="18281"/>
                </a:cubicBezTo>
                <a:cubicBezTo>
                  <a:pt x="15727" y="18239"/>
                  <a:pt x="15723" y="18232"/>
                  <a:pt x="15726" y="18182"/>
                </a:cubicBezTo>
                <a:cubicBezTo>
                  <a:pt x="15733" y="18054"/>
                  <a:pt x="15757" y="17842"/>
                  <a:pt x="15701" y="17735"/>
                </a:cubicBezTo>
                <a:cubicBezTo>
                  <a:pt x="15686" y="17707"/>
                  <a:pt x="15660" y="17674"/>
                  <a:pt x="15652" y="17661"/>
                </a:cubicBezTo>
                <a:cubicBezTo>
                  <a:pt x="15612" y="17599"/>
                  <a:pt x="15600" y="17604"/>
                  <a:pt x="15553" y="17562"/>
                </a:cubicBezTo>
                <a:cubicBezTo>
                  <a:pt x="15493" y="17507"/>
                  <a:pt x="15462" y="17500"/>
                  <a:pt x="15354" y="17487"/>
                </a:cubicBezTo>
                <a:cubicBezTo>
                  <a:pt x="15286" y="17479"/>
                  <a:pt x="15225" y="17465"/>
                  <a:pt x="15156" y="17462"/>
                </a:cubicBezTo>
                <a:cubicBezTo>
                  <a:pt x="15082" y="17459"/>
                  <a:pt x="15006" y="17462"/>
                  <a:pt x="14932" y="17462"/>
                </a:cubicBezTo>
                <a:cubicBezTo>
                  <a:pt x="14932" y="17665"/>
                  <a:pt x="14924" y="17920"/>
                  <a:pt x="14957" y="18083"/>
                </a:cubicBezTo>
                <a:cubicBezTo>
                  <a:pt x="14967" y="18134"/>
                  <a:pt x="14996" y="18184"/>
                  <a:pt x="15056" y="18207"/>
                </a:cubicBezTo>
                <a:cubicBezTo>
                  <a:pt x="15103" y="18225"/>
                  <a:pt x="15177" y="18269"/>
                  <a:pt x="15230" y="18281"/>
                </a:cubicBezTo>
                <a:cubicBezTo>
                  <a:pt x="15289" y="18294"/>
                  <a:pt x="15326" y="18284"/>
                  <a:pt x="15379" y="18306"/>
                </a:cubicBezTo>
                <a:cubicBezTo>
                  <a:pt x="15442" y="18331"/>
                  <a:pt x="15488" y="18331"/>
                  <a:pt x="15553" y="18331"/>
                </a:cubicBezTo>
                <a:cubicBezTo>
                  <a:pt x="15590" y="18331"/>
                  <a:pt x="15624" y="18323"/>
                  <a:pt x="15652" y="18306"/>
                </a:cubicBezTo>
                <a:cubicBezTo>
                  <a:pt x="15691" y="18282"/>
                  <a:pt x="15675" y="18245"/>
                  <a:pt x="15677" y="18207"/>
                </a:cubicBezTo>
                <a:cubicBezTo>
                  <a:pt x="15679" y="18174"/>
                  <a:pt x="15677" y="18140"/>
                  <a:pt x="15677" y="18107"/>
                </a:cubicBezTo>
                <a:cubicBezTo>
                  <a:pt x="15644" y="18126"/>
                  <a:pt x="15597" y="18151"/>
                  <a:pt x="15577" y="18182"/>
                </a:cubicBezTo>
                <a:cubicBezTo>
                  <a:pt x="15560" y="18209"/>
                  <a:pt x="15544" y="18240"/>
                  <a:pt x="15528" y="18256"/>
                </a:cubicBezTo>
                <a:cubicBezTo>
                  <a:pt x="15520" y="18264"/>
                  <a:pt x="15511" y="18273"/>
                  <a:pt x="15503" y="18281"/>
                </a:cubicBezTo>
                <a:cubicBezTo>
                  <a:pt x="15529" y="18255"/>
                  <a:pt x="15537" y="18289"/>
                  <a:pt x="15553" y="18256"/>
                </a:cubicBezTo>
                <a:cubicBezTo>
                  <a:pt x="15568" y="18223"/>
                  <a:pt x="15589" y="18216"/>
                  <a:pt x="15602" y="18182"/>
                </a:cubicBezTo>
                <a:cubicBezTo>
                  <a:pt x="15613" y="18154"/>
                  <a:pt x="15645" y="18108"/>
                  <a:pt x="15652" y="18083"/>
                </a:cubicBezTo>
                <a:cubicBezTo>
                  <a:pt x="15674" y="18008"/>
                  <a:pt x="15682" y="17691"/>
                  <a:pt x="15627" y="17636"/>
                </a:cubicBezTo>
                <a:cubicBezTo>
                  <a:pt x="15595" y="17604"/>
                  <a:pt x="15516" y="17605"/>
                  <a:pt x="15478" y="17587"/>
                </a:cubicBezTo>
                <a:cubicBezTo>
                  <a:pt x="15418" y="17560"/>
                  <a:pt x="15401" y="17540"/>
                  <a:pt x="15329" y="17537"/>
                </a:cubicBezTo>
                <a:cubicBezTo>
                  <a:pt x="15241" y="17533"/>
                  <a:pt x="15075" y="17508"/>
                  <a:pt x="15007" y="17562"/>
                </a:cubicBezTo>
                <a:cubicBezTo>
                  <a:pt x="15002" y="17566"/>
                  <a:pt x="14962" y="17617"/>
                  <a:pt x="14957" y="17636"/>
                </a:cubicBezTo>
                <a:cubicBezTo>
                  <a:pt x="14949" y="17662"/>
                  <a:pt x="14936" y="17715"/>
                  <a:pt x="14932" y="17735"/>
                </a:cubicBezTo>
                <a:cubicBezTo>
                  <a:pt x="14919" y="17799"/>
                  <a:pt x="14930" y="17847"/>
                  <a:pt x="14908" y="17884"/>
                </a:cubicBezTo>
                <a:cubicBezTo>
                  <a:pt x="14908" y="17828"/>
                  <a:pt x="14897" y="17778"/>
                  <a:pt x="14932" y="17735"/>
                </a:cubicBezTo>
                <a:cubicBezTo>
                  <a:pt x="14970" y="17688"/>
                  <a:pt x="14998" y="17693"/>
                  <a:pt x="15032" y="17661"/>
                </a:cubicBezTo>
                <a:cubicBezTo>
                  <a:pt x="15055" y="17639"/>
                  <a:pt x="15088" y="17602"/>
                  <a:pt x="15106" y="17587"/>
                </a:cubicBezTo>
                <a:cubicBezTo>
                  <a:pt x="15126" y="17571"/>
                  <a:pt x="15167" y="17526"/>
                  <a:pt x="15205" y="17512"/>
                </a:cubicBezTo>
                <a:cubicBezTo>
                  <a:pt x="15213" y="17512"/>
                  <a:pt x="15222" y="17512"/>
                  <a:pt x="15230" y="17512"/>
                </a:cubicBezTo>
                <a:cubicBezTo>
                  <a:pt x="15189" y="17528"/>
                  <a:pt x="15153" y="17542"/>
                  <a:pt x="15131" y="17562"/>
                </a:cubicBezTo>
                <a:cubicBezTo>
                  <a:pt x="15096" y="17593"/>
                  <a:pt x="15088" y="17627"/>
                  <a:pt x="15056" y="17636"/>
                </a:cubicBezTo>
                <a:cubicBezTo>
                  <a:pt x="14985" y="17656"/>
                  <a:pt x="15046" y="17650"/>
                  <a:pt x="15007" y="17686"/>
                </a:cubicBezTo>
                <a:cubicBezTo>
                  <a:pt x="14995" y="17697"/>
                  <a:pt x="14934" y="17726"/>
                  <a:pt x="14932" y="17735"/>
                </a:cubicBezTo>
                <a:cubicBezTo>
                  <a:pt x="14919" y="17781"/>
                  <a:pt x="14972" y="17788"/>
                  <a:pt x="14957" y="17810"/>
                </a:cubicBezTo>
                <a:cubicBezTo>
                  <a:pt x="14952" y="17818"/>
                  <a:pt x="14886" y="17853"/>
                  <a:pt x="14883" y="17859"/>
                </a:cubicBezTo>
                <a:cubicBezTo>
                  <a:pt x="14883" y="17867"/>
                  <a:pt x="14883" y="17876"/>
                  <a:pt x="14883" y="17884"/>
                </a:cubicBezTo>
                <a:cubicBezTo>
                  <a:pt x="15214" y="17884"/>
                  <a:pt x="16156" y="17884"/>
                  <a:pt x="15825" y="17884"/>
                </a:cubicBezTo>
                <a:cubicBezTo>
                  <a:pt x="15753" y="17884"/>
                  <a:pt x="15690" y="17875"/>
                  <a:pt x="15627" y="17835"/>
                </a:cubicBezTo>
                <a:cubicBezTo>
                  <a:pt x="15602" y="17810"/>
                  <a:pt x="15594" y="17802"/>
                  <a:pt x="15577" y="17785"/>
                </a:cubicBezTo>
              </a:path>
              <a:path w="968" h="1117">
                <a:moveTo>
                  <a:pt x="15255" y="17512"/>
                </a:moveTo>
                <a:cubicBezTo>
                  <a:pt x="15247" y="17512"/>
                  <a:pt x="15238" y="17512"/>
                  <a:pt x="15230" y="17512"/>
                </a:cubicBezTo>
                <a:cubicBezTo>
                  <a:pt x="15230" y="17574"/>
                  <a:pt x="15217" y="17638"/>
                  <a:pt x="15255" y="17686"/>
                </a:cubicBezTo>
                <a:cubicBezTo>
                  <a:pt x="15285" y="17723"/>
                  <a:pt x="15280" y="17737"/>
                  <a:pt x="15280" y="17785"/>
                </a:cubicBezTo>
                <a:cubicBezTo>
                  <a:pt x="15280" y="18033"/>
                  <a:pt x="15280" y="18281"/>
                  <a:pt x="15280" y="18529"/>
                </a:cubicBezTo>
                <a:cubicBezTo>
                  <a:pt x="15280" y="18496"/>
                  <a:pt x="15280" y="18463"/>
                  <a:pt x="15280" y="18430"/>
                </a:cubicBezTo>
              </a:path>
              <a:path w="968" h="1117">
                <a:moveTo>
                  <a:pt x="15280" y="17785"/>
                </a:moveTo>
                <a:cubicBezTo>
                  <a:pt x="15309" y="17733"/>
                  <a:pt x="15302" y="17723"/>
                  <a:pt x="15354" y="17711"/>
                </a:cubicBezTo>
                <a:cubicBezTo>
                  <a:pt x="15364" y="17670"/>
                  <a:pt x="15363" y="17671"/>
                  <a:pt x="15404" y="17661"/>
                </a:cubicBezTo>
                <a:cubicBezTo>
                  <a:pt x="15404" y="17633"/>
                  <a:pt x="15406" y="17622"/>
                  <a:pt x="15429" y="17611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3132000" y="919080"/>
            <a:ext cx="2405160" cy="946080"/>
          </a:xfrm>
          <a:custGeom>
            <a:avLst/>
            <a:gdLst/>
            <a:ahLst/>
            <a:rect l="l" t="t" r="r" b="b"/>
            <a:pathLst>
              <a:path w="1515" h="596">
                <a:moveTo>
                  <a:pt x="3" y="590"/>
                </a:moveTo>
                <a:cubicBezTo>
                  <a:pt x="6" y="566"/>
                  <a:pt x="0" y="540"/>
                  <a:pt x="11" y="518"/>
                </a:cubicBezTo>
                <a:cubicBezTo>
                  <a:pt x="27" y="487"/>
                  <a:pt x="40" y="540"/>
                  <a:pt x="43" y="550"/>
                </a:cubicBezTo>
                <a:cubicBezTo>
                  <a:pt x="40" y="563"/>
                  <a:pt x="45" y="580"/>
                  <a:pt x="35" y="590"/>
                </a:cubicBezTo>
                <a:cubicBezTo>
                  <a:pt x="29" y="596"/>
                  <a:pt x="27" y="574"/>
                  <a:pt x="27" y="566"/>
                </a:cubicBezTo>
                <a:cubicBezTo>
                  <a:pt x="27" y="539"/>
                  <a:pt x="32" y="513"/>
                  <a:pt x="35" y="486"/>
                </a:cubicBezTo>
                <a:cubicBezTo>
                  <a:pt x="54" y="489"/>
                  <a:pt x="77" y="482"/>
                  <a:pt x="91" y="494"/>
                </a:cubicBezTo>
                <a:cubicBezTo>
                  <a:pt x="99" y="501"/>
                  <a:pt x="85" y="515"/>
                  <a:pt x="83" y="526"/>
                </a:cubicBezTo>
                <a:cubicBezTo>
                  <a:pt x="80" y="539"/>
                  <a:pt x="78" y="553"/>
                  <a:pt x="75" y="566"/>
                </a:cubicBezTo>
                <a:cubicBezTo>
                  <a:pt x="57" y="511"/>
                  <a:pt x="23" y="435"/>
                  <a:pt x="107" y="414"/>
                </a:cubicBezTo>
                <a:cubicBezTo>
                  <a:pt x="115" y="409"/>
                  <a:pt x="131" y="408"/>
                  <a:pt x="131" y="398"/>
                </a:cubicBezTo>
                <a:cubicBezTo>
                  <a:pt x="131" y="359"/>
                  <a:pt x="74" y="456"/>
                  <a:pt x="91" y="430"/>
                </a:cubicBezTo>
                <a:cubicBezTo>
                  <a:pt x="186" y="287"/>
                  <a:pt x="432" y="300"/>
                  <a:pt x="571" y="294"/>
                </a:cubicBezTo>
                <a:cubicBezTo>
                  <a:pt x="613" y="280"/>
                  <a:pt x="579" y="295"/>
                  <a:pt x="619" y="262"/>
                </a:cubicBezTo>
                <a:cubicBezTo>
                  <a:pt x="626" y="256"/>
                  <a:pt x="652" y="248"/>
                  <a:pt x="643" y="246"/>
                </a:cubicBezTo>
                <a:cubicBezTo>
                  <a:pt x="619" y="242"/>
                  <a:pt x="595" y="252"/>
                  <a:pt x="571" y="254"/>
                </a:cubicBezTo>
                <a:cubicBezTo>
                  <a:pt x="536" y="257"/>
                  <a:pt x="502" y="259"/>
                  <a:pt x="467" y="262"/>
                </a:cubicBezTo>
                <a:cubicBezTo>
                  <a:pt x="459" y="267"/>
                  <a:pt x="450" y="271"/>
                  <a:pt x="443" y="278"/>
                </a:cubicBezTo>
                <a:cubicBezTo>
                  <a:pt x="436" y="285"/>
                  <a:pt x="418" y="298"/>
                  <a:pt x="427" y="302"/>
                </a:cubicBezTo>
                <a:cubicBezTo>
                  <a:pt x="442" y="309"/>
                  <a:pt x="459" y="298"/>
                  <a:pt x="475" y="294"/>
                </a:cubicBezTo>
                <a:cubicBezTo>
                  <a:pt x="547" y="278"/>
                  <a:pt x="423" y="295"/>
                  <a:pt x="547" y="254"/>
                </a:cubicBezTo>
                <a:cubicBezTo>
                  <a:pt x="604" y="235"/>
                  <a:pt x="581" y="247"/>
                  <a:pt x="619" y="222"/>
                </a:cubicBezTo>
                <a:cubicBezTo>
                  <a:pt x="632" y="202"/>
                  <a:pt x="683" y="166"/>
                  <a:pt x="683" y="158"/>
                </a:cubicBezTo>
                <a:cubicBezTo>
                  <a:pt x="683" y="150"/>
                  <a:pt x="667" y="162"/>
                  <a:pt x="659" y="166"/>
                </a:cubicBezTo>
                <a:cubicBezTo>
                  <a:pt x="636" y="177"/>
                  <a:pt x="607" y="190"/>
                  <a:pt x="587" y="206"/>
                </a:cubicBezTo>
                <a:cubicBezTo>
                  <a:pt x="547" y="239"/>
                  <a:pt x="581" y="224"/>
                  <a:pt x="539" y="238"/>
                </a:cubicBezTo>
                <a:cubicBezTo>
                  <a:pt x="534" y="246"/>
                  <a:pt x="516" y="255"/>
                  <a:pt x="523" y="262"/>
                </a:cubicBezTo>
                <a:cubicBezTo>
                  <a:pt x="530" y="269"/>
                  <a:pt x="541" y="254"/>
                  <a:pt x="547" y="246"/>
                </a:cubicBezTo>
                <a:cubicBezTo>
                  <a:pt x="552" y="239"/>
                  <a:pt x="549" y="228"/>
                  <a:pt x="555" y="222"/>
                </a:cubicBezTo>
                <a:cubicBezTo>
                  <a:pt x="569" y="208"/>
                  <a:pt x="589" y="204"/>
                  <a:pt x="603" y="190"/>
                </a:cubicBezTo>
                <a:cubicBezTo>
                  <a:pt x="660" y="133"/>
                  <a:pt x="707" y="118"/>
                  <a:pt x="779" y="94"/>
                </a:cubicBezTo>
                <a:cubicBezTo>
                  <a:pt x="795" y="94"/>
                  <a:pt x="1302" y="0"/>
                  <a:pt x="1491" y="126"/>
                </a:cubicBezTo>
                <a:cubicBezTo>
                  <a:pt x="1496" y="187"/>
                  <a:pt x="1497" y="249"/>
                  <a:pt x="1507" y="310"/>
                </a:cubicBezTo>
                <a:cubicBezTo>
                  <a:pt x="1509" y="321"/>
                  <a:pt x="1515" y="267"/>
                  <a:pt x="1515" y="278"/>
                </a:cubicBezTo>
                <a:cubicBezTo>
                  <a:pt x="1515" y="305"/>
                  <a:pt x="1510" y="331"/>
                  <a:pt x="1507" y="358"/>
                </a:cubicBezTo>
                <a:cubicBezTo>
                  <a:pt x="1458" y="285"/>
                  <a:pt x="1491" y="344"/>
                  <a:pt x="1491" y="15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3203640" y="981000"/>
            <a:ext cx="2081160" cy="644760"/>
          </a:xfrm>
          <a:custGeom>
            <a:avLst/>
            <a:gdLst/>
            <a:ahLst/>
            <a:rect l="l" t="t" r="r" b="b"/>
            <a:pathLst>
              <a:path w="5781" h="1787">
                <a:moveTo>
                  <a:pt x="11906" y="15925"/>
                </a:moveTo>
                <a:cubicBezTo>
                  <a:pt x="11906" y="15908"/>
                  <a:pt x="11906" y="15892"/>
                  <a:pt x="11906" y="15875"/>
                </a:cubicBezTo>
                <a:cubicBezTo>
                  <a:pt x="11977" y="15857"/>
                  <a:pt x="12012" y="15803"/>
                  <a:pt x="12080" y="15776"/>
                </a:cubicBezTo>
                <a:cubicBezTo>
                  <a:pt x="12088" y="15776"/>
                  <a:pt x="12097" y="15776"/>
                  <a:pt x="12105" y="15776"/>
                </a:cubicBezTo>
                <a:cubicBezTo>
                  <a:pt x="12118" y="15720"/>
                  <a:pt x="12119" y="15735"/>
                  <a:pt x="12179" y="15726"/>
                </a:cubicBezTo>
                <a:cubicBezTo>
                  <a:pt x="12202" y="15681"/>
                  <a:pt x="12256" y="15673"/>
                  <a:pt x="12278" y="15627"/>
                </a:cubicBezTo>
                <a:cubicBezTo>
                  <a:pt x="12321" y="15627"/>
                  <a:pt x="12316" y="15637"/>
                  <a:pt x="12328" y="15602"/>
                </a:cubicBezTo>
              </a:path>
              <a:path w="5781" h="1787">
                <a:moveTo>
                  <a:pt x="12080" y="15677"/>
                </a:moveTo>
                <a:cubicBezTo>
                  <a:pt x="12452" y="15677"/>
                  <a:pt x="12824" y="15677"/>
                  <a:pt x="13196" y="15677"/>
                </a:cubicBezTo>
                <a:cubicBezTo>
                  <a:pt x="13105" y="15677"/>
                  <a:pt x="13014" y="15677"/>
                  <a:pt x="12923" y="15677"/>
                </a:cubicBezTo>
              </a:path>
              <a:path w="5781" h="1787">
                <a:moveTo>
                  <a:pt x="12353" y="15627"/>
                </a:moveTo>
                <a:cubicBezTo>
                  <a:pt x="12733" y="15627"/>
                  <a:pt x="13114" y="15627"/>
                  <a:pt x="13494" y="15627"/>
                </a:cubicBezTo>
                <a:cubicBezTo>
                  <a:pt x="13536" y="15627"/>
                  <a:pt x="13461" y="15627"/>
                  <a:pt x="13419" y="15627"/>
                </a:cubicBezTo>
              </a:path>
              <a:path w="5781" h="1787">
                <a:moveTo>
                  <a:pt x="12477" y="15602"/>
                </a:moveTo>
                <a:cubicBezTo>
                  <a:pt x="12816" y="15602"/>
                  <a:pt x="13155" y="15602"/>
                  <a:pt x="13494" y="15602"/>
                </a:cubicBezTo>
                <a:cubicBezTo>
                  <a:pt x="13444" y="15602"/>
                  <a:pt x="13428" y="15602"/>
                  <a:pt x="13395" y="15602"/>
                </a:cubicBezTo>
              </a:path>
              <a:path w="5781" h="1787">
                <a:moveTo>
                  <a:pt x="12526" y="15602"/>
                </a:moveTo>
                <a:cubicBezTo>
                  <a:pt x="12625" y="15602"/>
                  <a:pt x="12714" y="15594"/>
                  <a:pt x="12799" y="15577"/>
                </a:cubicBezTo>
                <a:cubicBezTo>
                  <a:pt x="13271" y="15482"/>
                  <a:pt x="14230" y="15461"/>
                  <a:pt x="14684" y="15602"/>
                </a:cubicBezTo>
                <a:cubicBezTo>
                  <a:pt x="14725" y="15622"/>
                  <a:pt x="14731" y="15631"/>
                  <a:pt x="14759" y="15627"/>
                </a:cubicBezTo>
              </a:path>
              <a:path w="5781" h="1787">
                <a:moveTo>
                  <a:pt x="11584" y="16570"/>
                </a:moveTo>
                <a:cubicBezTo>
                  <a:pt x="11584" y="16562"/>
                  <a:pt x="11584" y="16553"/>
                  <a:pt x="11584" y="16545"/>
                </a:cubicBezTo>
              </a:path>
              <a:path w="5781" h="1787">
                <a:moveTo>
                  <a:pt x="11187" y="16570"/>
                </a:moveTo>
                <a:cubicBezTo>
                  <a:pt x="11242" y="16526"/>
                  <a:pt x="11306" y="16525"/>
                  <a:pt x="11361" y="16495"/>
                </a:cubicBezTo>
                <a:cubicBezTo>
                  <a:pt x="11385" y="16470"/>
                  <a:pt x="11393" y="16462"/>
                  <a:pt x="11410" y="16446"/>
                </a:cubicBezTo>
              </a:path>
              <a:path w="5781" h="1787">
                <a:moveTo>
                  <a:pt x="9649" y="16793"/>
                </a:moveTo>
                <a:cubicBezTo>
                  <a:pt x="9592" y="16821"/>
                  <a:pt x="9573" y="16826"/>
                  <a:pt x="9525" y="16867"/>
                </a:cubicBezTo>
                <a:cubicBezTo>
                  <a:pt x="9508" y="16882"/>
                  <a:pt x="9475" y="16899"/>
                  <a:pt x="9451" y="16917"/>
                </a:cubicBezTo>
                <a:cubicBezTo>
                  <a:pt x="9440" y="16925"/>
                  <a:pt x="9415" y="16980"/>
                  <a:pt x="9401" y="16991"/>
                </a:cubicBezTo>
                <a:cubicBezTo>
                  <a:pt x="9362" y="17024"/>
                  <a:pt x="9358" y="17004"/>
                  <a:pt x="9351" y="17066"/>
                </a:cubicBezTo>
                <a:cubicBezTo>
                  <a:pt x="9346" y="17106"/>
                  <a:pt x="9342" y="17131"/>
                  <a:pt x="9327" y="17165"/>
                </a:cubicBezTo>
                <a:cubicBezTo>
                  <a:pt x="9312" y="17199"/>
                  <a:pt x="9308" y="17235"/>
                  <a:pt x="9277" y="17264"/>
                </a:cubicBezTo>
                <a:cubicBezTo>
                  <a:pt x="9247" y="17292"/>
                  <a:pt x="9230" y="17307"/>
                  <a:pt x="9203" y="17314"/>
                </a:cubicBezTo>
                <a:cubicBezTo>
                  <a:pt x="9141" y="17331"/>
                  <a:pt x="9060" y="17324"/>
                  <a:pt x="9004" y="17338"/>
                </a:cubicBezTo>
                <a:cubicBezTo>
                  <a:pt x="8958" y="17349"/>
                  <a:pt x="8999" y="17314"/>
                  <a:pt x="9029" y="17289"/>
                </a:cubicBezTo>
                <a:cubicBezTo>
                  <a:pt x="9044" y="17277"/>
                  <a:pt x="9099" y="17250"/>
                  <a:pt x="9103" y="17239"/>
                </a:cubicBezTo>
                <a:cubicBezTo>
                  <a:pt x="9120" y="17190"/>
                  <a:pt x="9114" y="17186"/>
                  <a:pt x="9153" y="17140"/>
                </a:cubicBezTo>
                <a:cubicBezTo>
                  <a:pt x="9170" y="17120"/>
                  <a:pt x="9186" y="17098"/>
                  <a:pt x="9203" y="17066"/>
                </a:cubicBezTo>
                <a:cubicBezTo>
                  <a:pt x="9233" y="17009"/>
                  <a:pt x="9236" y="17045"/>
                  <a:pt x="9277" y="17016"/>
                </a:cubicBezTo>
                <a:cubicBezTo>
                  <a:pt x="9334" y="16976"/>
                  <a:pt x="9360" y="16971"/>
                  <a:pt x="9426" y="16942"/>
                </a:cubicBezTo>
                <a:cubicBezTo>
                  <a:pt x="9476" y="16920"/>
                  <a:pt x="9534" y="16918"/>
                  <a:pt x="9575" y="16892"/>
                </a:cubicBezTo>
                <a:cubicBezTo>
                  <a:pt x="9590" y="16882"/>
                  <a:pt x="9639" y="16839"/>
                  <a:pt x="9674" y="16818"/>
                </a:cubicBezTo>
                <a:cubicBezTo>
                  <a:pt x="9718" y="16792"/>
                  <a:pt x="9751" y="16761"/>
                  <a:pt x="9773" y="16743"/>
                </a:cubicBezTo>
                <a:cubicBezTo>
                  <a:pt x="9710" y="16751"/>
                  <a:pt x="9664" y="16765"/>
                  <a:pt x="9599" y="16768"/>
                </a:cubicBezTo>
                <a:cubicBezTo>
                  <a:pt x="9575" y="16768"/>
                  <a:pt x="9566" y="16768"/>
                  <a:pt x="9550" y="16768"/>
                </a:cubicBezTo>
                <a:cubicBezTo>
                  <a:pt x="9563" y="16761"/>
                  <a:pt x="9617" y="16737"/>
                  <a:pt x="9649" y="16718"/>
                </a:cubicBezTo>
                <a:cubicBezTo>
                  <a:pt x="9682" y="16698"/>
                  <a:pt x="9696" y="16705"/>
                  <a:pt x="9748" y="16694"/>
                </a:cubicBezTo>
                <a:cubicBezTo>
                  <a:pt x="9808" y="16682"/>
                  <a:pt x="9874" y="16669"/>
                  <a:pt x="9947" y="16669"/>
                </a:cubicBezTo>
                <a:cubicBezTo>
                  <a:pt x="10068" y="16669"/>
                  <a:pt x="10182" y="16656"/>
                  <a:pt x="10294" y="16644"/>
                </a:cubicBezTo>
                <a:cubicBezTo>
                  <a:pt x="10382" y="16635"/>
                  <a:pt x="10460" y="16633"/>
                  <a:pt x="10542" y="16619"/>
                </a:cubicBezTo>
                <a:cubicBezTo>
                  <a:pt x="10627" y="16605"/>
                  <a:pt x="10616" y="16630"/>
                  <a:pt x="10666" y="16570"/>
                </a:cubicBezTo>
              </a:path>
              <a:path w="5781" h="1787">
                <a:moveTo>
                  <a:pt x="9451" y="16917"/>
                </a:moveTo>
                <a:cubicBezTo>
                  <a:pt x="9475" y="16917"/>
                  <a:pt x="9484" y="16917"/>
                  <a:pt x="9500" y="16917"/>
                </a:cubicBezTo>
                <a:cubicBezTo>
                  <a:pt x="9513" y="16878"/>
                  <a:pt x="9540" y="16891"/>
                  <a:pt x="9575" y="16867"/>
                </a:cubicBezTo>
                <a:cubicBezTo>
                  <a:pt x="9607" y="16845"/>
                  <a:pt x="9641" y="16817"/>
                  <a:pt x="9649" y="16793"/>
                </a:cubicBezTo>
              </a:path>
              <a:path w="5781" h="1787">
                <a:moveTo>
                  <a:pt x="9451" y="16842"/>
                </a:moveTo>
                <a:cubicBezTo>
                  <a:pt x="9408" y="16874"/>
                  <a:pt x="9401" y="16861"/>
                  <a:pt x="9401" y="16917"/>
                </a:cubicBezTo>
                <a:cubicBezTo>
                  <a:pt x="9411" y="16876"/>
                  <a:pt x="9410" y="16877"/>
                  <a:pt x="9451" y="16867"/>
                </a:cubicBezTo>
                <a:cubicBezTo>
                  <a:pt x="9462" y="16832"/>
                  <a:pt x="9488" y="16840"/>
                  <a:pt x="9500" y="16793"/>
                </a:cubicBezTo>
                <a:cubicBezTo>
                  <a:pt x="9530" y="16786"/>
                  <a:pt x="9545" y="16775"/>
                  <a:pt x="9575" y="16768"/>
                </a:cubicBezTo>
                <a:cubicBezTo>
                  <a:pt x="9590" y="16721"/>
                  <a:pt x="9608" y="16765"/>
                  <a:pt x="9624" y="16718"/>
                </a:cubicBezTo>
              </a:path>
              <a:path w="5781" h="1787">
                <a:moveTo>
                  <a:pt x="10567" y="16644"/>
                </a:moveTo>
                <a:cubicBezTo>
                  <a:pt x="10616" y="16632"/>
                  <a:pt x="10661" y="16607"/>
                  <a:pt x="10716" y="16594"/>
                </a:cubicBezTo>
                <a:cubicBezTo>
                  <a:pt x="10742" y="16588"/>
                  <a:pt x="10790" y="16594"/>
                  <a:pt x="10815" y="16594"/>
                </a:cubicBezTo>
                <a:cubicBezTo>
                  <a:pt x="10827" y="16560"/>
                  <a:pt x="10823" y="16570"/>
                  <a:pt x="10864" y="16570"/>
                </a:cubicBezTo>
                <a:cubicBezTo>
                  <a:pt x="10864" y="16537"/>
                  <a:pt x="10872" y="16528"/>
                  <a:pt x="10914" y="16545"/>
                </a:cubicBezTo>
              </a:path>
              <a:path w="5781" h="1787">
                <a:moveTo>
                  <a:pt x="11361" y="16371"/>
                </a:moveTo>
                <a:cubicBezTo>
                  <a:pt x="11399" y="16361"/>
                  <a:pt x="11429" y="16347"/>
                  <a:pt x="11460" y="16321"/>
                </a:cubicBezTo>
                <a:cubicBezTo>
                  <a:pt x="11497" y="16289"/>
                  <a:pt x="11497" y="16309"/>
                  <a:pt x="11509" y="16272"/>
                </a:cubicBezTo>
              </a:path>
              <a:path w="5781" h="1787">
                <a:moveTo>
                  <a:pt x="11609" y="16570"/>
                </a:moveTo>
                <a:cubicBezTo>
                  <a:pt x="11609" y="16545"/>
                  <a:pt x="11609" y="16537"/>
                  <a:pt x="11609" y="16520"/>
                </a:cubicBezTo>
                <a:cubicBezTo>
                  <a:pt x="11664" y="16501"/>
                  <a:pt x="11600" y="16475"/>
                  <a:pt x="11633" y="16446"/>
                </a:cubicBezTo>
                <a:cubicBezTo>
                  <a:pt x="11674" y="16426"/>
                  <a:pt x="11690" y="16428"/>
                  <a:pt x="11683" y="16396"/>
                </a:cubicBezTo>
                <a:cubicBezTo>
                  <a:pt x="11749" y="16379"/>
                  <a:pt x="11709" y="16365"/>
                  <a:pt x="11733" y="16321"/>
                </a:cubicBezTo>
                <a:cubicBezTo>
                  <a:pt x="11755" y="16299"/>
                  <a:pt x="11760" y="16291"/>
                  <a:pt x="11782" y="16297"/>
                </a:cubicBezTo>
                <a:cubicBezTo>
                  <a:pt x="11798" y="16235"/>
                  <a:pt x="11834" y="16251"/>
                  <a:pt x="11881" y="16222"/>
                </a:cubicBezTo>
                <a:cubicBezTo>
                  <a:pt x="11903" y="16209"/>
                  <a:pt x="11972" y="16136"/>
                  <a:pt x="11981" y="16123"/>
                </a:cubicBezTo>
                <a:cubicBezTo>
                  <a:pt x="12014" y="16074"/>
                  <a:pt x="12053" y="16066"/>
                  <a:pt x="12080" y="16024"/>
                </a:cubicBezTo>
                <a:cubicBezTo>
                  <a:pt x="12080" y="16016"/>
                  <a:pt x="12080" y="16007"/>
                  <a:pt x="12080" y="15999"/>
                </a:cubicBezTo>
                <a:cubicBezTo>
                  <a:pt x="12139" y="15990"/>
                  <a:pt x="12140" y="16005"/>
                  <a:pt x="12154" y="15949"/>
                </a:cubicBezTo>
                <a:cubicBezTo>
                  <a:pt x="12224" y="15938"/>
                  <a:pt x="12199" y="15912"/>
                  <a:pt x="12278" y="15900"/>
                </a:cubicBezTo>
                <a:cubicBezTo>
                  <a:pt x="12290" y="15850"/>
                  <a:pt x="12314" y="15854"/>
                  <a:pt x="12353" y="15825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3160800" y="1052640"/>
            <a:ext cx="3073320" cy="919080"/>
          </a:xfrm>
          <a:custGeom>
            <a:avLst/>
            <a:gdLst/>
            <a:ahLst/>
            <a:rect l="l" t="t" r="r" b="b"/>
            <a:pathLst>
              <a:path w="8534" h="2556">
                <a:moveTo>
                  <a:pt x="10914" y="18058"/>
                </a:moveTo>
                <a:cubicBezTo>
                  <a:pt x="10914" y="17992"/>
                  <a:pt x="10914" y="17925"/>
                  <a:pt x="10914" y="17859"/>
                </a:cubicBezTo>
              </a:path>
              <a:path w="8534" h="2556">
                <a:moveTo>
                  <a:pt x="11013" y="18083"/>
                </a:moveTo>
                <a:cubicBezTo>
                  <a:pt x="12085" y="18083"/>
                  <a:pt x="13241" y="18190"/>
                  <a:pt x="14288" y="18058"/>
                </a:cubicBezTo>
                <a:cubicBezTo>
                  <a:pt x="14329" y="18058"/>
                  <a:pt x="14337" y="18058"/>
                  <a:pt x="14362" y="18058"/>
                </a:cubicBezTo>
              </a:path>
              <a:path w="8534" h="2556">
                <a:moveTo>
                  <a:pt x="8781" y="18058"/>
                </a:moveTo>
                <a:cubicBezTo>
                  <a:pt x="8946" y="18058"/>
                  <a:pt x="9112" y="18058"/>
                  <a:pt x="9277" y="18058"/>
                </a:cubicBezTo>
              </a:path>
              <a:path w="8534" h="2556">
                <a:moveTo>
                  <a:pt x="9327" y="17835"/>
                </a:moveTo>
                <a:cubicBezTo>
                  <a:pt x="9327" y="17719"/>
                  <a:pt x="9327" y="17603"/>
                  <a:pt x="9327" y="17487"/>
                </a:cubicBezTo>
              </a:path>
              <a:path w="8534" h="2556">
                <a:moveTo>
                  <a:pt x="9327" y="17785"/>
                </a:moveTo>
                <a:cubicBezTo>
                  <a:pt x="9348" y="17753"/>
                  <a:pt x="9345" y="17756"/>
                  <a:pt x="9376" y="17735"/>
                </a:cubicBezTo>
                <a:cubicBezTo>
                  <a:pt x="9385" y="17674"/>
                  <a:pt x="9386" y="17694"/>
                  <a:pt x="9426" y="17661"/>
                </a:cubicBezTo>
                <a:cubicBezTo>
                  <a:pt x="9431" y="17622"/>
                  <a:pt x="9410" y="17588"/>
                  <a:pt x="9451" y="17562"/>
                </a:cubicBezTo>
                <a:cubicBezTo>
                  <a:pt x="9459" y="17562"/>
                  <a:pt x="9467" y="17562"/>
                  <a:pt x="9475" y="17562"/>
                </a:cubicBezTo>
                <a:cubicBezTo>
                  <a:pt x="9475" y="17537"/>
                  <a:pt x="9475" y="17512"/>
                  <a:pt x="9475" y="17487"/>
                </a:cubicBezTo>
                <a:cubicBezTo>
                  <a:pt x="9537" y="17467"/>
                  <a:pt x="9504" y="17499"/>
                  <a:pt x="9525" y="17438"/>
                </a:cubicBezTo>
                <a:cubicBezTo>
                  <a:pt x="9545" y="17412"/>
                  <a:pt x="9542" y="17439"/>
                  <a:pt x="9550" y="17388"/>
                </a:cubicBezTo>
                <a:cubicBezTo>
                  <a:pt x="9572" y="17370"/>
                  <a:pt x="9588" y="17361"/>
                  <a:pt x="9624" y="17338"/>
                </a:cubicBezTo>
                <a:cubicBezTo>
                  <a:pt x="9642" y="17327"/>
                  <a:pt x="9679" y="17324"/>
                  <a:pt x="9699" y="17314"/>
                </a:cubicBezTo>
                <a:cubicBezTo>
                  <a:pt x="9724" y="17299"/>
                  <a:pt x="9720" y="17292"/>
                  <a:pt x="9773" y="17289"/>
                </a:cubicBezTo>
                <a:cubicBezTo>
                  <a:pt x="9806" y="17287"/>
                  <a:pt x="9839" y="17289"/>
                  <a:pt x="9872" y="17289"/>
                </a:cubicBezTo>
                <a:cubicBezTo>
                  <a:pt x="9896" y="17275"/>
                  <a:pt x="9894" y="17267"/>
                  <a:pt x="9947" y="17264"/>
                </a:cubicBezTo>
                <a:cubicBezTo>
                  <a:pt x="10181" y="17250"/>
                  <a:pt x="10866" y="17221"/>
                  <a:pt x="10641" y="17289"/>
                </a:cubicBezTo>
                <a:cubicBezTo>
                  <a:pt x="10616" y="17289"/>
                  <a:pt x="10592" y="17289"/>
                  <a:pt x="10567" y="17289"/>
                </a:cubicBezTo>
              </a:path>
              <a:path w="8534" h="2556">
                <a:moveTo>
                  <a:pt x="10393" y="17264"/>
                </a:moveTo>
                <a:cubicBezTo>
                  <a:pt x="10434" y="17264"/>
                  <a:pt x="10476" y="17264"/>
                  <a:pt x="10517" y="17264"/>
                </a:cubicBezTo>
                <a:cubicBezTo>
                  <a:pt x="10530" y="17302"/>
                  <a:pt x="10547" y="17289"/>
                  <a:pt x="10592" y="17289"/>
                </a:cubicBezTo>
                <a:cubicBezTo>
                  <a:pt x="10647" y="17289"/>
                  <a:pt x="10632" y="17329"/>
                  <a:pt x="10691" y="17338"/>
                </a:cubicBezTo>
                <a:cubicBezTo>
                  <a:pt x="10674" y="17338"/>
                  <a:pt x="10658" y="17338"/>
                  <a:pt x="10641" y="17338"/>
                </a:cubicBezTo>
              </a:path>
              <a:path w="8534" h="2556">
                <a:moveTo>
                  <a:pt x="10443" y="17264"/>
                </a:moveTo>
                <a:cubicBezTo>
                  <a:pt x="10468" y="17264"/>
                  <a:pt x="10476" y="17264"/>
                  <a:pt x="10492" y="17264"/>
                </a:cubicBezTo>
                <a:cubicBezTo>
                  <a:pt x="10512" y="17293"/>
                  <a:pt x="10522" y="17285"/>
                  <a:pt x="10542" y="17314"/>
                </a:cubicBezTo>
                <a:cubicBezTo>
                  <a:pt x="10587" y="17314"/>
                  <a:pt x="10601" y="17334"/>
                  <a:pt x="10641" y="17338"/>
                </a:cubicBezTo>
                <a:cubicBezTo>
                  <a:pt x="10661" y="17340"/>
                  <a:pt x="10722" y="17353"/>
                  <a:pt x="10740" y="17363"/>
                </a:cubicBezTo>
                <a:cubicBezTo>
                  <a:pt x="10779" y="17385"/>
                  <a:pt x="10769" y="17388"/>
                  <a:pt x="10815" y="17388"/>
                </a:cubicBezTo>
                <a:cubicBezTo>
                  <a:pt x="10831" y="17454"/>
                  <a:pt x="10846" y="17415"/>
                  <a:pt x="10889" y="17438"/>
                </a:cubicBezTo>
                <a:cubicBezTo>
                  <a:pt x="10907" y="17448"/>
                  <a:pt x="10980" y="17496"/>
                  <a:pt x="10988" y="17512"/>
                </a:cubicBezTo>
                <a:cubicBezTo>
                  <a:pt x="10988" y="17520"/>
                  <a:pt x="10988" y="17529"/>
                  <a:pt x="10988" y="17537"/>
                </a:cubicBezTo>
                <a:cubicBezTo>
                  <a:pt x="11033" y="17537"/>
                  <a:pt x="11065" y="17572"/>
                  <a:pt x="11013" y="17537"/>
                </a:cubicBezTo>
              </a:path>
              <a:path w="8534" h="2556">
                <a:moveTo>
                  <a:pt x="10641" y="17388"/>
                </a:moveTo>
                <a:cubicBezTo>
                  <a:pt x="10641" y="17396"/>
                  <a:pt x="10641" y="17405"/>
                  <a:pt x="10641" y="17413"/>
                </a:cubicBezTo>
                <a:cubicBezTo>
                  <a:pt x="10681" y="17423"/>
                  <a:pt x="10681" y="17422"/>
                  <a:pt x="10691" y="17462"/>
                </a:cubicBezTo>
                <a:cubicBezTo>
                  <a:pt x="10763" y="17462"/>
                  <a:pt x="10710" y="17484"/>
                  <a:pt x="10765" y="17512"/>
                </a:cubicBezTo>
                <a:cubicBezTo>
                  <a:pt x="10801" y="17530"/>
                  <a:pt x="10856" y="17543"/>
                  <a:pt x="10889" y="17562"/>
                </a:cubicBezTo>
                <a:cubicBezTo>
                  <a:pt x="10936" y="17588"/>
                  <a:pt x="10929" y="17611"/>
                  <a:pt x="10988" y="17611"/>
                </a:cubicBezTo>
                <a:cubicBezTo>
                  <a:pt x="11029" y="17611"/>
                  <a:pt x="11080" y="17662"/>
                  <a:pt x="11088" y="17686"/>
                </a:cubicBezTo>
                <a:cubicBezTo>
                  <a:pt x="11048" y="17656"/>
                  <a:pt x="11011" y="17638"/>
                  <a:pt x="10964" y="17611"/>
                </a:cubicBezTo>
              </a:path>
              <a:path w="8534" h="2556">
                <a:moveTo>
                  <a:pt x="10889" y="17587"/>
                </a:moveTo>
                <a:cubicBezTo>
                  <a:pt x="10892" y="17588"/>
                  <a:pt x="10961" y="17608"/>
                  <a:pt x="10964" y="17611"/>
                </a:cubicBezTo>
                <a:cubicBezTo>
                  <a:pt x="10978" y="17629"/>
                  <a:pt x="10980" y="17669"/>
                  <a:pt x="11013" y="17686"/>
                </a:cubicBezTo>
                <a:cubicBezTo>
                  <a:pt x="11043" y="17701"/>
                  <a:pt x="11059" y="17707"/>
                  <a:pt x="11088" y="17735"/>
                </a:cubicBezTo>
                <a:cubicBezTo>
                  <a:pt x="11053" y="17708"/>
                  <a:pt x="11029" y="17694"/>
                  <a:pt x="11013" y="17661"/>
                </a:cubicBezTo>
              </a:path>
              <a:path w="8534" h="2556">
                <a:moveTo>
                  <a:pt x="10889" y="17636"/>
                </a:moveTo>
                <a:cubicBezTo>
                  <a:pt x="10889" y="17644"/>
                  <a:pt x="10889" y="17653"/>
                  <a:pt x="10889" y="17661"/>
                </a:cubicBezTo>
                <a:cubicBezTo>
                  <a:pt x="10932" y="17661"/>
                  <a:pt x="10927" y="17651"/>
                  <a:pt x="10939" y="17686"/>
                </a:cubicBezTo>
                <a:cubicBezTo>
                  <a:pt x="11011" y="17686"/>
                  <a:pt x="10958" y="17708"/>
                  <a:pt x="11013" y="17735"/>
                </a:cubicBezTo>
                <a:cubicBezTo>
                  <a:pt x="11021" y="17735"/>
                  <a:pt x="11030" y="17735"/>
                  <a:pt x="11038" y="17735"/>
                </a:cubicBezTo>
              </a:path>
              <a:path w="8534" h="2556">
                <a:moveTo>
                  <a:pt x="14461" y="18033"/>
                </a:moveTo>
                <a:cubicBezTo>
                  <a:pt x="14461" y="17980"/>
                  <a:pt x="14433" y="17787"/>
                  <a:pt x="14486" y="17760"/>
                </a:cubicBezTo>
                <a:cubicBezTo>
                  <a:pt x="14494" y="17760"/>
                  <a:pt x="14503" y="17760"/>
                  <a:pt x="14511" y="17760"/>
                </a:cubicBezTo>
                <a:cubicBezTo>
                  <a:pt x="14511" y="17714"/>
                  <a:pt x="14505" y="17697"/>
                  <a:pt x="14536" y="17661"/>
                </a:cubicBezTo>
                <a:cubicBezTo>
                  <a:pt x="14558" y="17638"/>
                  <a:pt x="14566" y="17633"/>
                  <a:pt x="14560" y="17611"/>
                </a:cubicBezTo>
                <a:cubicBezTo>
                  <a:pt x="14631" y="17611"/>
                  <a:pt x="14586" y="17606"/>
                  <a:pt x="14610" y="17562"/>
                </a:cubicBezTo>
                <a:cubicBezTo>
                  <a:pt x="14633" y="17539"/>
                  <a:pt x="14637" y="17531"/>
                  <a:pt x="14660" y="17537"/>
                </a:cubicBezTo>
                <a:cubicBezTo>
                  <a:pt x="14667" y="17515"/>
                  <a:pt x="14669" y="17489"/>
                  <a:pt x="14684" y="17462"/>
                </a:cubicBezTo>
                <a:cubicBezTo>
                  <a:pt x="14707" y="17440"/>
                  <a:pt x="14712" y="17432"/>
                  <a:pt x="14734" y="17438"/>
                </a:cubicBezTo>
                <a:cubicBezTo>
                  <a:pt x="14742" y="17407"/>
                  <a:pt x="14772" y="17354"/>
                  <a:pt x="14808" y="17338"/>
                </a:cubicBezTo>
                <a:cubicBezTo>
                  <a:pt x="14849" y="17320"/>
                  <a:pt x="14891" y="17278"/>
                  <a:pt x="14932" y="17264"/>
                </a:cubicBezTo>
                <a:cubicBezTo>
                  <a:pt x="14972" y="17250"/>
                  <a:pt x="14996" y="17248"/>
                  <a:pt x="15007" y="17214"/>
                </a:cubicBezTo>
              </a:path>
              <a:path w="8534" h="2556">
                <a:moveTo>
                  <a:pt x="14039" y="16619"/>
                </a:moveTo>
                <a:cubicBezTo>
                  <a:pt x="14311" y="16619"/>
                  <a:pt x="14596" y="16602"/>
                  <a:pt x="14858" y="16644"/>
                </a:cubicBezTo>
                <a:cubicBezTo>
                  <a:pt x="14953" y="16659"/>
                  <a:pt x="15104" y="16658"/>
                  <a:pt x="15180" y="16619"/>
                </a:cubicBezTo>
              </a:path>
              <a:path w="8534" h="2556">
                <a:moveTo>
                  <a:pt x="15429" y="15726"/>
                </a:moveTo>
                <a:cubicBezTo>
                  <a:pt x="15429" y="15743"/>
                  <a:pt x="15429" y="15759"/>
                  <a:pt x="15429" y="15776"/>
                </a:cubicBezTo>
                <a:cubicBezTo>
                  <a:pt x="15402" y="15785"/>
                  <a:pt x="15386" y="15840"/>
                  <a:pt x="15379" y="15875"/>
                </a:cubicBezTo>
                <a:cubicBezTo>
                  <a:pt x="15368" y="15929"/>
                  <a:pt x="15370" y="15997"/>
                  <a:pt x="15354" y="16049"/>
                </a:cubicBezTo>
                <a:cubicBezTo>
                  <a:pt x="15344" y="16081"/>
                  <a:pt x="15342" y="16172"/>
                  <a:pt x="15329" y="16197"/>
                </a:cubicBezTo>
                <a:cubicBezTo>
                  <a:pt x="15305" y="16243"/>
                  <a:pt x="15304" y="16261"/>
                  <a:pt x="15304" y="16321"/>
                </a:cubicBezTo>
                <a:cubicBezTo>
                  <a:pt x="15304" y="16379"/>
                  <a:pt x="15304" y="16437"/>
                  <a:pt x="15304" y="16495"/>
                </a:cubicBezTo>
              </a:path>
              <a:path w="8534" h="2556">
                <a:moveTo>
                  <a:pt x="14709" y="15627"/>
                </a:moveTo>
                <a:cubicBezTo>
                  <a:pt x="14823" y="15627"/>
                  <a:pt x="15226" y="15562"/>
                  <a:pt x="15304" y="15652"/>
                </a:cubicBezTo>
                <a:cubicBezTo>
                  <a:pt x="15315" y="15665"/>
                  <a:pt x="15321" y="15744"/>
                  <a:pt x="15329" y="15751"/>
                </a:cubicBezTo>
                <a:cubicBezTo>
                  <a:pt x="15362" y="15751"/>
                  <a:pt x="15371" y="15759"/>
                  <a:pt x="15354" y="15801"/>
                </a:cubicBezTo>
              </a:path>
              <a:path w="8534" h="2556">
                <a:moveTo>
                  <a:pt x="15602" y="15801"/>
                </a:moveTo>
                <a:cubicBezTo>
                  <a:pt x="15602" y="15826"/>
                  <a:pt x="15602" y="15850"/>
                  <a:pt x="15602" y="15875"/>
                </a:cubicBezTo>
                <a:cubicBezTo>
                  <a:pt x="15642" y="15888"/>
                  <a:pt x="15612" y="15887"/>
                  <a:pt x="15652" y="15900"/>
                </a:cubicBezTo>
                <a:cubicBezTo>
                  <a:pt x="15652" y="15949"/>
                  <a:pt x="15636" y="16036"/>
                  <a:pt x="15677" y="16073"/>
                </a:cubicBezTo>
                <a:cubicBezTo>
                  <a:pt x="15685" y="16073"/>
                  <a:pt x="15693" y="16073"/>
                  <a:pt x="15701" y="16073"/>
                </a:cubicBezTo>
                <a:cubicBezTo>
                  <a:pt x="15701" y="16107"/>
                  <a:pt x="15688" y="16154"/>
                  <a:pt x="15726" y="16173"/>
                </a:cubicBezTo>
                <a:cubicBezTo>
                  <a:pt x="15734" y="16173"/>
                  <a:pt x="15743" y="16173"/>
                  <a:pt x="15751" y="16173"/>
                </a:cubicBezTo>
                <a:cubicBezTo>
                  <a:pt x="15751" y="16225"/>
                  <a:pt x="15765" y="16227"/>
                  <a:pt x="15801" y="16272"/>
                </a:cubicBezTo>
                <a:cubicBezTo>
                  <a:pt x="15827" y="16304"/>
                  <a:pt x="15838" y="16297"/>
                  <a:pt x="15875" y="16297"/>
                </a:cubicBezTo>
                <a:cubicBezTo>
                  <a:pt x="15875" y="16349"/>
                  <a:pt x="15873" y="16346"/>
                  <a:pt x="15925" y="16346"/>
                </a:cubicBezTo>
                <a:cubicBezTo>
                  <a:pt x="15925" y="16416"/>
                  <a:pt x="15948" y="16374"/>
                  <a:pt x="15974" y="16446"/>
                </a:cubicBezTo>
                <a:cubicBezTo>
                  <a:pt x="15984" y="16473"/>
                  <a:pt x="15978" y="16534"/>
                  <a:pt x="15999" y="16470"/>
                </a:cubicBezTo>
              </a:path>
              <a:path w="8534" h="2556">
                <a:moveTo>
                  <a:pt x="15677" y="15776"/>
                </a:moveTo>
                <a:cubicBezTo>
                  <a:pt x="15687" y="15819"/>
                  <a:pt x="15698" y="15818"/>
                  <a:pt x="15701" y="15850"/>
                </a:cubicBezTo>
                <a:cubicBezTo>
                  <a:pt x="15705" y="15883"/>
                  <a:pt x="15700" y="15904"/>
                  <a:pt x="15726" y="15925"/>
                </a:cubicBezTo>
                <a:cubicBezTo>
                  <a:pt x="15769" y="15959"/>
                  <a:pt x="15763" y="15975"/>
                  <a:pt x="15801" y="16024"/>
                </a:cubicBezTo>
                <a:cubicBezTo>
                  <a:pt x="15831" y="16063"/>
                  <a:pt x="15843" y="16105"/>
                  <a:pt x="15875" y="16148"/>
                </a:cubicBezTo>
                <a:cubicBezTo>
                  <a:pt x="15906" y="16189"/>
                  <a:pt x="15940" y="16192"/>
                  <a:pt x="15974" y="16222"/>
                </a:cubicBezTo>
                <a:cubicBezTo>
                  <a:pt x="16002" y="16247"/>
                  <a:pt x="16027" y="16334"/>
                  <a:pt x="16049" y="16346"/>
                </a:cubicBezTo>
                <a:cubicBezTo>
                  <a:pt x="16098" y="16372"/>
                  <a:pt x="16103" y="16424"/>
                  <a:pt x="16148" y="16446"/>
                </a:cubicBezTo>
                <a:cubicBezTo>
                  <a:pt x="16186" y="16465"/>
                  <a:pt x="16173" y="16489"/>
                  <a:pt x="16173" y="16545"/>
                </a:cubicBezTo>
                <a:cubicBezTo>
                  <a:pt x="16173" y="16553"/>
                  <a:pt x="16173" y="16562"/>
                  <a:pt x="16173" y="16570"/>
                </a:cubicBezTo>
                <a:cubicBezTo>
                  <a:pt x="15988" y="16570"/>
                  <a:pt x="15746" y="16572"/>
                  <a:pt x="15602" y="16545"/>
                </a:cubicBezTo>
                <a:cubicBezTo>
                  <a:pt x="15540" y="16533"/>
                  <a:pt x="15369" y="16580"/>
                  <a:pt x="15354" y="16520"/>
                </a:cubicBezTo>
                <a:cubicBezTo>
                  <a:pt x="15354" y="16495"/>
                  <a:pt x="15354" y="16487"/>
                  <a:pt x="15354" y="16470"/>
                </a:cubicBezTo>
              </a:path>
              <a:path w="8534" h="2556">
                <a:moveTo>
                  <a:pt x="15553" y="15825"/>
                </a:moveTo>
                <a:cubicBezTo>
                  <a:pt x="15510" y="15814"/>
                  <a:pt x="15474" y="15803"/>
                  <a:pt x="15429" y="15801"/>
                </a:cubicBezTo>
                <a:cubicBezTo>
                  <a:pt x="15370" y="15799"/>
                  <a:pt x="15350" y="15793"/>
                  <a:pt x="15304" y="15776"/>
                </a:cubicBezTo>
                <a:cubicBezTo>
                  <a:pt x="15316" y="15764"/>
                  <a:pt x="15345" y="15715"/>
                  <a:pt x="15379" y="15701"/>
                </a:cubicBezTo>
                <a:cubicBezTo>
                  <a:pt x="15421" y="15684"/>
                  <a:pt x="15506" y="15701"/>
                  <a:pt x="15553" y="15701"/>
                </a:cubicBezTo>
                <a:cubicBezTo>
                  <a:pt x="15548" y="15734"/>
                  <a:pt x="15535" y="15743"/>
                  <a:pt x="15528" y="15776"/>
                </a:cubicBezTo>
                <a:cubicBezTo>
                  <a:pt x="15518" y="15825"/>
                  <a:pt x="15510" y="15813"/>
                  <a:pt x="15503" y="15850"/>
                </a:cubicBezTo>
                <a:cubicBezTo>
                  <a:pt x="15495" y="15889"/>
                  <a:pt x="15483" y="15944"/>
                  <a:pt x="15478" y="15974"/>
                </a:cubicBezTo>
                <a:cubicBezTo>
                  <a:pt x="15466" y="16046"/>
                  <a:pt x="15463" y="16135"/>
                  <a:pt x="15453" y="16197"/>
                </a:cubicBezTo>
                <a:cubicBezTo>
                  <a:pt x="15432" y="16322"/>
                  <a:pt x="15446" y="16501"/>
                  <a:pt x="15429" y="16594"/>
                </a:cubicBezTo>
                <a:cubicBezTo>
                  <a:pt x="15420" y="16646"/>
                  <a:pt x="15431" y="16617"/>
                  <a:pt x="15404" y="16644"/>
                </a:cubicBezTo>
                <a:cubicBezTo>
                  <a:pt x="15950" y="16644"/>
                  <a:pt x="16495" y="16644"/>
                  <a:pt x="17041" y="16644"/>
                </a:cubicBezTo>
              </a:path>
              <a:path w="8534" h="2556">
                <a:moveTo>
                  <a:pt x="16743" y="16495"/>
                </a:moveTo>
                <a:cubicBezTo>
                  <a:pt x="16933" y="16495"/>
                  <a:pt x="17124" y="16495"/>
                  <a:pt x="17314" y="16495"/>
                </a:cubicBezTo>
                <a:cubicBezTo>
                  <a:pt x="17255" y="16502"/>
                  <a:pt x="17216" y="16539"/>
                  <a:pt x="17165" y="16545"/>
                </a:cubicBezTo>
                <a:cubicBezTo>
                  <a:pt x="17113" y="16551"/>
                  <a:pt x="17129" y="16565"/>
                  <a:pt x="17090" y="16570"/>
                </a:cubicBezTo>
                <a:cubicBezTo>
                  <a:pt x="17082" y="16570"/>
                  <a:pt x="17074" y="16570"/>
                  <a:pt x="17066" y="16570"/>
                </a:cubicBezTo>
                <a:cubicBezTo>
                  <a:pt x="17110" y="16534"/>
                  <a:pt x="17141" y="16488"/>
                  <a:pt x="17190" y="16470"/>
                </a:cubicBezTo>
                <a:cubicBezTo>
                  <a:pt x="17223" y="16458"/>
                  <a:pt x="17214" y="16463"/>
                  <a:pt x="17214" y="16421"/>
                </a:cubicBezTo>
                <a:cubicBezTo>
                  <a:pt x="17298" y="16407"/>
                  <a:pt x="17233" y="16415"/>
                  <a:pt x="17289" y="16396"/>
                </a:cubicBezTo>
              </a:path>
              <a:path w="8534" h="2556">
                <a:moveTo>
                  <a:pt x="17264" y="16644"/>
                </a:moveTo>
                <a:cubicBezTo>
                  <a:pt x="17239" y="16644"/>
                  <a:pt x="17231" y="16644"/>
                  <a:pt x="17214" y="16644"/>
                </a:cubicBezTo>
                <a:cubicBezTo>
                  <a:pt x="17214" y="16696"/>
                  <a:pt x="17198" y="16718"/>
                  <a:pt x="17190" y="16768"/>
                </a:cubicBezTo>
                <a:cubicBezTo>
                  <a:pt x="17182" y="16817"/>
                  <a:pt x="17170" y="16870"/>
                  <a:pt x="17165" y="16917"/>
                </a:cubicBezTo>
                <a:cubicBezTo>
                  <a:pt x="17156" y="17005"/>
                  <a:pt x="17161" y="17081"/>
                  <a:pt x="17140" y="17165"/>
                </a:cubicBezTo>
                <a:cubicBezTo>
                  <a:pt x="17126" y="17221"/>
                  <a:pt x="17169" y="17321"/>
                  <a:pt x="17115" y="17338"/>
                </a:cubicBezTo>
                <a:cubicBezTo>
                  <a:pt x="17123" y="17330"/>
                  <a:pt x="17132" y="17322"/>
                  <a:pt x="17140" y="17314"/>
                </a:cubicBezTo>
              </a:path>
              <a:path w="8534" h="2556">
                <a:moveTo>
                  <a:pt x="17165" y="16694"/>
                </a:moveTo>
                <a:cubicBezTo>
                  <a:pt x="17165" y="16768"/>
                  <a:pt x="17165" y="16843"/>
                  <a:pt x="17165" y="16917"/>
                </a:cubicBezTo>
              </a:path>
              <a:path w="8534" h="2556">
                <a:moveTo>
                  <a:pt x="17190" y="16917"/>
                </a:moveTo>
                <a:cubicBezTo>
                  <a:pt x="17165" y="16917"/>
                  <a:pt x="17157" y="16917"/>
                  <a:pt x="17140" y="16917"/>
                </a:cubicBezTo>
                <a:cubicBezTo>
                  <a:pt x="17140" y="17016"/>
                  <a:pt x="17140" y="17115"/>
                  <a:pt x="17140" y="17214"/>
                </a:cubicBezTo>
                <a:cubicBezTo>
                  <a:pt x="17140" y="17123"/>
                  <a:pt x="17140" y="17033"/>
                  <a:pt x="17140" y="16942"/>
                </a:cubicBezTo>
              </a:path>
              <a:path w="8534" h="2556">
                <a:moveTo>
                  <a:pt x="17115" y="16818"/>
                </a:moveTo>
                <a:cubicBezTo>
                  <a:pt x="17090" y="16818"/>
                  <a:pt x="17066" y="16818"/>
                  <a:pt x="17041" y="16818"/>
                </a:cubicBezTo>
                <a:cubicBezTo>
                  <a:pt x="17041" y="16901"/>
                  <a:pt x="17041" y="16983"/>
                  <a:pt x="17041" y="17066"/>
                </a:cubicBezTo>
                <a:cubicBezTo>
                  <a:pt x="17089" y="17033"/>
                  <a:pt x="17102" y="17031"/>
                  <a:pt x="17115" y="16991"/>
                </a:cubicBezTo>
              </a:path>
              <a:path w="8534" h="2556">
                <a:moveTo>
                  <a:pt x="11757" y="17636"/>
                </a:moveTo>
                <a:cubicBezTo>
                  <a:pt x="11811" y="17636"/>
                  <a:pt x="11837" y="17656"/>
                  <a:pt x="11881" y="17661"/>
                </a:cubicBezTo>
                <a:cubicBezTo>
                  <a:pt x="11889" y="17661"/>
                  <a:pt x="11898" y="17661"/>
                  <a:pt x="11906" y="17661"/>
                </a:cubicBezTo>
              </a:path>
              <a:path w="8534" h="2556">
                <a:moveTo>
                  <a:pt x="11485" y="16669"/>
                </a:moveTo>
                <a:cubicBezTo>
                  <a:pt x="11485" y="16742"/>
                  <a:pt x="11470" y="16827"/>
                  <a:pt x="11509" y="16892"/>
                </a:cubicBezTo>
                <a:cubicBezTo>
                  <a:pt x="11525" y="16918"/>
                  <a:pt x="11534" y="16985"/>
                  <a:pt x="11534" y="16942"/>
                </a:cubicBezTo>
                <a:cubicBezTo>
                  <a:pt x="11534" y="16903"/>
                  <a:pt x="11515" y="16798"/>
                  <a:pt x="11485" y="16768"/>
                </a:cubicBezTo>
                <a:cubicBezTo>
                  <a:pt x="11462" y="16745"/>
                  <a:pt x="11460" y="16770"/>
                  <a:pt x="11460" y="16718"/>
                </a:cubicBezTo>
              </a:path>
              <a:path w="8534" h="2556">
                <a:moveTo>
                  <a:pt x="12105" y="16842"/>
                </a:moveTo>
                <a:cubicBezTo>
                  <a:pt x="12312" y="16842"/>
                  <a:pt x="12518" y="16842"/>
                  <a:pt x="12725" y="16842"/>
                </a:cubicBezTo>
              </a:path>
              <a:path w="8534" h="2556">
                <a:moveTo>
                  <a:pt x="12650" y="16644"/>
                </a:moveTo>
                <a:cubicBezTo>
                  <a:pt x="12832" y="16644"/>
                  <a:pt x="13014" y="16644"/>
                  <a:pt x="13196" y="16644"/>
                </a:cubicBezTo>
              </a:path>
              <a:path w="8534" h="2556">
                <a:moveTo>
                  <a:pt x="13519" y="16545"/>
                </a:moveTo>
                <a:cubicBezTo>
                  <a:pt x="13519" y="16437"/>
                  <a:pt x="13519" y="16330"/>
                  <a:pt x="13519" y="16222"/>
                </a:cubicBezTo>
              </a:path>
              <a:path w="8534" h="2556">
                <a:moveTo>
                  <a:pt x="13791" y="16247"/>
                </a:moveTo>
                <a:cubicBezTo>
                  <a:pt x="13791" y="16222"/>
                  <a:pt x="13791" y="16214"/>
                  <a:pt x="13791" y="16197"/>
                </a:cubicBezTo>
                <a:cubicBezTo>
                  <a:pt x="13791" y="16247"/>
                  <a:pt x="13791" y="16296"/>
                  <a:pt x="13791" y="16346"/>
                </a:cubicBezTo>
              </a:path>
              <a:path w="8534" h="2556">
                <a:moveTo>
                  <a:pt x="13816" y="16545"/>
                </a:moveTo>
                <a:cubicBezTo>
                  <a:pt x="13816" y="16537"/>
                  <a:pt x="13816" y="16528"/>
                  <a:pt x="13816" y="16520"/>
                </a:cubicBezTo>
              </a:path>
              <a:path w="8534" h="2556">
                <a:moveTo>
                  <a:pt x="14114" y="16619"/>
                </a:moveTo>
                <a:cubicBezTo>
                  <a:pt x="14114" y="16647"/>
                  <a:pt x="14112" y="16658"/>
                  <a:pt x="14089" y="16669"/>
                </a:cubicBezTo>
                <a:cubicBezTo>
                  <a:pt x="14089" y="16644"/>
                  <a:pt x="14089" y="16619"/>
                  <a:pt x="14089" y="16594"/>
                </a:cubicBezTo>
              </a:path>
              <a:path w="8534" h="2556">
                <a:moveTo>
                  <a:pt x="14362" y="16768"/>
                </a:moveTo>
                <a:lnTo>
                  <a:pt x="14362" y="16768"/>
                </a:lnTo>
              </a:path>
              <a:path w="8534" h="2556">
                <a:moveTo>
                  <a:pt x="14436" y="17512"/>
                </a:moveTo>
                <a:cubicBezTo>
                  <a:pt x="14436" y="17449"/>
                  <a:pt x="14451" y="17432"/>
                  <a:pt x="14412" y="17462"/>
                </a:cubicBezTo>
                <a:cubicBezTo>
                  <a:pt x="14379" y="17487"/>
                  <a:pt x="14376" y="17502"/>
                  <a:pt x="14337" y="17512"/>
                </a:cubicBezTo>
                <a:cubicBezTo>
                  <a:pt x="14337" y="17559"/>
                  <a:pt x="14322" y="17598"/>
                  <a:pt x="14362" y="17611"/>
                </a:cubicBezTo>
              </a:path>
              <a:path w="8534" h="2556">
                <a:moveTo>
                  <a:pt x="14461" y="17760"/>
                </a:moveTo>
                <a:cubicBezTo>
                  <a:pt x="14461" y="17826"/>
                  <a:pt x="14453" y="17832"/>
                  <a:pt x="14436" y="17884"/>
                </a:cubicBezTo>
                <a:cubicBezTo>
                  <a:pt x="14425" y="17915"/>
                  <a:pt x="14421" y="17954"/>
                  <a:pt x="14412" y="17983"/>
                </a:cubicBezTo>
                <a:cubicBezTo>
                  <a:pt x="14412" y="18008"/>
                  <a:pt x="14412" y="18016"/>
                  <a:pt x="14412" y="17983"/>
                </a:cubicBezTo>
              </a:path>
              <a:path w="8534" h="2556">
                <a:moveTo>
                  <a:pt x="9922" y="17462"/>
                </a:moveTo>
                <a:cubicBezTo>
                  <a:pt x="9975" y="17475"/>
                  <a:pt x="9971" y="17500"/>
                  <a:pt x="9996" y="17537"/>
                </a:cubicBezTo>
                <a:cubicBezTo>
                  <a:pt x="10009" y="17557"/>
                  <a:pt x="10053" y="17627"/>
                  <a:pt x="10071" y="17636"/>
                </a:cubicBezTo>
                <a:cubicBezTo>
                  <a:pt x="10079" y="17636"/>
                  <a:pt x="10088" y="17636"/>
                  <a:pt x="10096" y="17636"/>
                </a:cubicBezTo>
                <a:cubicBezTo>
                  <a:pt x="10096" y="17669"/>
                  <a:pt x="10096" y="17702"/>
                  <a:pt x="10096" y="17735"/>
                </a:cubicBezTo>
                <a:cubicBezTo>
                  <a:pt x="10120" y="17735"/>
                  <a:pt x="10129" y="17735"/>
                  <a:pt x="10145" y="17735"/>
                </a:cubicBezTo>
              </a:path>
              <a:path w="8534" h="2556">
                <a:moveTo>
                  <a:pt x="10244" y="17537"/>
                </a:moveTo>
                <a:cubicBezTo>
                  <a:pt x="10244" y="17636"/>
                  <a:pt x="10244" y="17736"/>
                  <a:pt x="10244" y="17835"/>
                </a:cubicBezTo>
                <a:cubicBezTo>
                  <a:pt x="10417" y="17835"/>
                  <a:pt x="10889" y="17835"/>
                  <a:pt x="10716" y="17835"/>
                </a:cubicBezTo>
              </a:path>
              <a:path w="8534" h="2556">
                <a:moveTo>
                  <a:pt x="10344" y="17934"/>
                </a:moveTo>
                <a:cubicBezTo>
                  <a:pt x="10344" y="17950"/>
                  <a:pt x="10344" y="17967"/>
                  <a:pt x="10344" y="17983"/>
                </a:cubicBezTo>
                <a:cubicBezTo>
                  <a:pt x="10384" y="17993"/>
                  <a:pt x="10383" y="17993"/>
                  <a:pt x="10393" y="18033"/>
                </a:cubicBezTo>
                <a:cubicBezTo>
                  <a:pt x="10459" y="18042"/>
                  <a:pt x="10468" y="18039"/>
                  <a:pt x="10468" y="18107"/>
                </a:cubicBezTo>
                <a:cubicBezTo>
                  <a:pt x="10468" y="18132"/>
                  <a:pt x="10468" y="18140"/>
                  <a:pt x="10492" y="18132"/>
                </a:cubicBezTo>
              </a:path>
              <a:path w="8534" h="2556">
                <a:moveTo>
                  <a:pt x="9947" y="18008"/>
                </a:moveTo>
                <a:cubicBezTo>
                  <a:pt x="9897" y="18008"/>
                  <a:pt x="9848" y="18008"/>
                  <a:pt x="9798" y="18008"/>
                </a:cubicBezTo>
                <a:cubicBezTo>
                  <a:pt x="9798" y="18067"/>
                  <a:pt x="9790" y="18047"/>
                  <a:pt x="9748" y="18083"/>
                </a:cubicBezTo>
                <a:cubicBezTo>
                  <a:pt x="9720" y="18108"/>
                  <a:pt x="9674" y="18128"/>
                  <a:pt x="9649" y="18157"/>
                </a:cubicBezTo>
                <a:cubicBezTo>
                  <a:pt x="9627" y="18183"/>
                  <a:pt x="9650" y="18182"/>
                  <a:pt x="9599" y="18182"/>
                </a:cubicBezTo>
                <a:cubicBezTo>
                  <a:pt x="9628" y="18108"/>
                  <a:pt x="9666" y="18118"/>
                  <a:pt x="9723" y="18083"/>
                </a:cubicBezTo>
                <a:cubicBezTo>
                  <a:pt x="9731" y="18075"/>
                  <a:pt x="9740" y="18066"/>
                  <a:pt x="9748" y="18058"/>
                </a:cubicBezTo>
              </a:path>
              <a:path w="8534" h="2556">
                <a:moveTo>
                  <a:pt x="9872" y="17859"/>
                </a:moveTo>
                <a:cubicBezTo>
                  <a:pt x="9819" y="17859"/>
                  <a:pt x="9792" y="17840"/>
                  <a:pt x="9748" y="17835"/>
                </a:cubicBezTo>
                <a:cubicBezTo>
                  <a:pt x="9723" y="17835"/>
                  <a:pt x="9715" y="17835"/>
                  <a:pt x="9699" y="17835"/>
                </a:cubicBezTo>
                <a:cubicBezTo>
                  <a:pt x="9699" y="17786"/>
                  <a:pt x="9671" y="17613"/>
                  <a:pt x="9723" y="17587"/>
                </a:cubicBezTo>
                <a:cubicBezTo>
                  <a:pt x="9744" y="17577"/>
                  <a:pt x="9821" y="17542"/>
                  <a:pt x="9847" y="17512"/>
                </a:cubicBezTo>
                <a:cubicBezTo>
                  <a:pt x="9847" y="17504"/>
                  <a:pt x="9847" y="17495"/>
                  <a:pt x="9847" y="17487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191120" y="1057320"/>
            <a:ext cx="1336680" cy="447480"/>
          </a:xfrm>
          <a:custGeom>
            <a:avLst/>
            <a:gdLst/>
            <a:ahLst/>
            <a:rect l="l" t="t" r="r" b="b"/>
            <a:pathLst>
              <a:path w="842" h="282">
                <a:moveTo>
                  <a:pt x="0" y="213"/>
                </a:moveTo>
                <a:cubicBezTo>
                  <a:pt x="139" y="282"/>
                  <a:pt x="376" y="236"/>
                  <a:pt x="536" y="229"/>
                </a:cubicBezTo>
                <a:cubicBezTo>
                  <a:pt x="533" y="160"/>
                  <a:pt x="537" y="90"/>
                  <a:pt x="528" y="21"/>
                </a:cubicBezTo>
                <a:cubicBezTo>
                  <a:pt x="527" y="11"/>
                  <a:pt x="516" y="36"/>
                  <a:pt x="512" y="45"/>
                </a:cubicBezTo>
                <a:cubicBezTo>
                  <a:pt x="505" y="60"/>
                  <a:pt x="496" y="93"/>
                  <a:pt x="496" y="93"/>
                </a:cubicBezTo>
                <a:cubicBezTo>
                  <a:pt x="490" y="153"/>
                  <a:pt x="489" y="203"/>
                  <a:pt x="456" y="253"/>
                </a:cubicBezTo>
                <a:cubicBezTo>
                  <a:pt x="475" y="177"/>
                  <a:pt x="484" y="158"/>
                  <a:pt x="440" y="45"/>
                </a:cubicBezTo>
                <a:cubicBezTo>
                  <a:pt x="430" y="20"/>
                  <a:pt x="386" y="36"/>
                  <a:pt x="360" y="29"/>
                </a:cubicBezTo>
                <a:cubicBezTo>
                  <a:pt x="243" y="34"/>
                  <a:pt x="184" y="8"/>
                  <a:pt x="104" y="61"/>
                </a:cubicBezTo>
                <a:cubicBezTo>
                  <a:pt x="99" y="69"/>
                  <a:pt x="95" y="78"/>
                  <a:pt x="88" y="85"/>
                </a:cubicBezTo>
                <a:cubicBezTo>
                  <a:pt x="81" y="92"/>
                  <a:pt x="70" y="93"/>
                  <a:pt x="64" y="101"/>
                </a:cubicBezTo>
                <a:cubicBezTo>
                  <a:pt x="59" y="108"/>
                  <a:pt x="61" y="118"/>
                  <a:pt x="56" y="125"/>
                </a:cubicBezTo>
                <a:cubicBezTo>
                  <a:pt x="50" y="134"/>
                  <a:pt x="40" y="141"/>
                  <a:pt x="32" y="149"/>
                </a:cubicBezTo>
                <a:cubicBezTo>
                  <a:pt x="23" y="175"/>
                  <a:pt x="9" y="195"/>
                  <a:pt x="0" y="221"/>
                </a:cubicBezTo>
                <a:cubicBezTo>
                  <a:pt x="200" y="224"/>
                  <a:pt x="400" y="229"/>
                  <a:pt x="600" y="229"/>
                </a:cubicBezTo>
                <a:cubicBezTo>
                  <a:pt x="661" y="229"/>
                  <a:pt x="729" y="248"/>
                  <a:pt x="784" y="221"/>
                </a:cubicBezTo>
                <a:cubicBezTo>
                  <a:pt x="842" y="192"/>
                  <a:pt x="721" y="64"/>
                  <a:pt x="712" y="61"/>
                </a:cubicBezTo>
                <a:cubicBezTo>
                  <a:pt x="655" y="42"/>
                  <a:pt x="597" y="42"/>
                  <a:pt x="536" y="37"/>
                </a:cubicBezTo>
                <a:cubicBezTo>
                  <a:pt x="547" y="34"/>
                  <a:pt x="557" y="29"/>
                  <a:pt x="568" y="29"/>
                </a:cubicBezTo>
                <a:cubicBezTo>
                  <a:pt x="804" y="29"/>
                  <a:pt x="776" y="0"/>
                  <a:pt x="776" y="205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5562720" y="1332000"/>
            <a:ext cx="672840" cy="1440"/>
          </a:xfrm>
          <a:custGeom>
            <a:avLst/>
            <a:gdLst/>
            <a:ahLst/>
            <a:rect l="l" t="t" r="r" b="b"/>
            <a:pathLst>
              <a:path w="424" h="1">
                <a:moveTo>
                  <a:pt x="0" y="0"/>
                </a:moveTo>
                <a:cubicBezTo>
                  <a:pt x="141" y="0"/>
                  <a:pt x="283" y="0"/>
                  <a:pt x="424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3232080" y="1731960"/>
            <a:ext cx="142920" cy="1350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8979" y="17959"/>
                </a:moveTo>
                <a:cubicBezTo>
                  <a:pt x="9070" y="17959"/>
                  <a:pt x="9161" y="17959"/>
                  <a:pt x="9252" y="17959"/>
                </a:cubicBezTo>
              </a:path>
              <a:path w="398" h="373">
                <a:moveTo>
                  <a:pt x="9376" y="17959"/>
                </a:moveTo>
                <a:cubicBezTo>
                  <a:pt x="9376" y="17934"/>
                  <a:pt x="9376" y="17909"/>
                  <a:pt x="9376" y="17884"/>
                </a:cubicBezTo>
                <a:cubicBezTo>
                  <a:pt x="9348" y="17884"/>
                  <a:pt x="9337" y="17886"/>
                  <a:pt x="9327" y="17909"/>
                </a:cubicBezTo>
              </a:path>
              <a:path w="398" h="373">
                <a:moveTo>
                  <a:pt x="9302" y="17909"/>
                </a:moveTo>
                <a:cubicBezTo>
                  <a:pt x="9302" y="17876"/>
                  <a:pt x="9302" y="17843"/>
                  <a:pt x="9302" y="17810"/>
                </a:cubicBezTo>
                <a:cubicBezTo>
                  <a:pt x="9337" y="17798"/>
                  <a:pt x="9327" y="17803"/>
                  <a:pt x="9327" y="17760"/>
                </a:cubicBezTo>
              </a:path>
              <a:path w="398" h="373">
                <a:moveTo>
                  <a:pt x="9302" y="17611"/>
                </a:moveTo>
                <a:cubicBezTo>
                  <a:pt x="9302" y="17603"/>
                  <a:pt x="9302" y="17595"/>
                  <a:pt x="9302" y="17587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4340160" y="1803240"/>
            <a:ext cx="152640" cy="9720"/>
          </a:xfrm>
          <a:custGeom>
            <a:avLst/>
            <a:gdLst/>
            <a:ahLst/>
            <a:rect l="l" t="t" r="r" b="b"/>
            <a:pathLst>
              <a:path w="423" h="26">
                <a:moveTo>
                  <a:pt x="12055" y="17785"/>
                </a:moveTo>
                <a:cubicBezTo>
                  <a:pt x="12196" y="17785"/>
                  <a:pt x="12336" y="17785"/>
                  <a:pt x="12477" y="17785"/>
                </a:cubicBezTo>
                <a:cubicBezTo>
                  <a:pt x="12421" y="17806"/>
                  <a:pt x="12387" y="17810"/>
                  <a:pt x="12328" y="17810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3132000" y="3638520"/>
            <a:ext cx="3141720" cy="1085760"/>
          </a:xfrm>
          <a:custGeom>
            <a:avLst/>
            <a:gdLst/>
            <a:ahLst/>
            <a:rect l="l" t="t" r="r" b="b"/>
            <a:pathLst>
              <a:path w="1912" h="569">
                <a:moveTo>
                  <a:pt x="0" y="389"/>
                </a:moveTo>
                <a:cubicBezTo>
                  <a:pt x="19" y="361"/>
                  <a:pt x="56" y="347"/>
                  <a:pt x="88" y="333"/>
                </a:cubicBezTo>
                <a:cubicBezTo>
                  <a:pt x="98" y="329"/>
                  <a:pt x="131" y="324"/>
                  <a:pt x="120" y="325"/>
                </a:cubicBezTo>
                <a:cubicBezTo>
                  <a:pt x="88" y="329"/>
                  <a:pt x="24" y="341"/>
                  <a:pt x="24" y="341"/>
                </a:cubicBezTo>
                <a:cubicBezTo>
                  <a:pt x="21" y="349"/>
                  <a:pt x="10" y="359"/>
                  <a:pt x="16" y="365"/>
                </a:cubicBezTo>
                <a:cubicBezTo>
                  <a:pt x="23" y="372"/>
                  <a:pt x="63" y="342"/>
                  <a:pt x="64" y="341"/>
                </a:cubicBezTo>
                <a:cubicBezTo>
                  <a:pt x="73" y="334"/>
                  <a:pt x="78" y="322"/>
                  <a:pt x="88" y="317"/>
                </a:cubicBezTo>
                <a:cubicBezTo>
                  <a:pt x="116" y="301"/>
                  <a:pt x="160" y="293"/>
                  <a:pt x="192" y="285"/>
                </a:cubicBezTo>
                <a:cubicBezTo>
                  <a:pt x="231" y="259"/>
                  <a:pt x="276" y="252"/>
                  <a:pt x="320" y="237"/>
                </a:cubicBezTo>
                <a:cubicBezTo>
                  <a:pt x="329" y="234"/>
                  <a:pt x="336" y="226"/>
                  <a:pt x="344" y="221"/>
                </a:cubicBezTo>
                <a:cubicBezTo>
                  <a:pt x="427" y="174"/>
                  <a:pt x="501" y="107"/>
                  <a:pt x="592" y="77"/>
                </a:cubicBezTo>
                <a:cubicBezTo>
                  <a:pt x="650" y="58"/>
                  <a:pt x="710" y="48"/>
                  <a:pt x="768" y="29"/>
                </a:cubicBezTo>
                <a:cubicBezTo>
                  <a:pt x="784" y="24"/>
                  <a:pt x="800" y="18"/>
                  <a:pt x="816" y="13"/>
                </a:cubicBezTo>
                <a:cubicBezTo>
                  <a:pt x="824" y="10"/>
                  <a:pt x="840" y="5"/>
                  <a:pt x="840" y="5"/>
                </a:cubicBezTo>
                <a:cubicBezTo>
                  <a:pt x="1131" y="8"/>
                  <a:pt x="1422" y="0"/>
                  <a:pt x="1712" y="13"/>
                </a:cubicBezTo>
                <a:cubicBezTo>
                  <a:pt x="1731" y="14"/>
                  <a:pt x="1760" y="45"/>
                  <a:pt x="1760" y="45"/>
                </a:cubicBezTo>
                <a:cubicBezTo>
                  <a:pt x="1765" y="53"/>
                  <a:pt x="1772" y="60"/>
                  <a:pt x="1776" y="69"/>
                </a:cubicBezTo>
                <a:cubicBezTo>
                  <a:pt x="1780" y="77"/>
                  <a:pt x="1780" y="86"/>
                  <a:pt x="1784" y="93"/>
                </a:cubicBezTo>
                <a:cubicBezTo>
                  <a:pt x="1830" y="176"/>
                  <a:pt x="1806" y="111"/>
                  <a:pt x="1824" y="165"/>
                </a:cubicBezTo>
                <a:cubicBezTo>
                  <a:pt x="1829" y="224"/>
                  <a:pt x="1837" y="269"/>
                  <a:pt x="1848" y="325"/>
                </a:cubicBezTo>
                <a:cubicBezTo>
                  <a:pt x="1855" y="411"/>
                  <a:pt x="1805" y="569"/>
                  <a:pt x="1912" y="533"/>
                </a:cubicBezTo>
                <a:cubicBezTo>
                  <a:pt x="1902" y="493"/>
                  <a:pt x="1889" y="479"/>
                  <a:pt x="1848" y="493"/>
                </a:cubicBezTo>
                <a:cubicBezTo>
                  <a:pt x="1837" y="525"/>
                  <a:pt x="1840" y="509"/>
                  <a:pt x="1840" y="541"/>
                </a:cubicBezTo>
              </a:path>
            </a:pathLst>
          </a:custGeom>
          <a:noFill/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ถยนต์นั่งหรือรถยนต์โดยสารไม่เกิน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0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468360" y="2641680"/>
            <a:ext cx="1727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ltera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ถดัดแปล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2987640" y="343224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3132000" y="32878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3851280" y="3287880"/>
            <a:ext cx="136836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5651640" y="3287880"/>
            <a:ext cx="50472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089160" y="3166920"/>
            <a:ext cx="285840" cy="115920"/>
          </a:xfrm>
          <a:custGeom>
            <a:avLst/>
            <a:gdLst/>
            <a:ahLst/>
            <a:rect l="l" t="t" r="r" b="b"/>
            <a:pathLst>
              <a:path w="795" h="323">
                <a:moveTo>
                  <a:pt x="8607" y="5011"/>
                </a:moveTo>
                <a:cubicBezTo>
                  <a:pt x="8607" y="5110"/>
                  <a:pt x="8607" y="5209"/>
                  <a:pt x="8607" y="5308"/>
                </a:cubicBezTo>
                <a:cubicBezTo>
                  <a:pt x="8632" y="5308"/>
                  <a:pt x="8640" y="5308"/>
                  <a:pt x="8657" y="5308"/>
                </a:cubicBezTo>
              </a:path>
              <a:path w="795" h="323">
                <a:moveTo>
                  <a:pt x="8607" y="5011"/>
                </a:moveTo>
                <a:lnTo>
                  <a:pt x="8607" y="5011"/>
                </a:lnTo>
              </a:path>
              <a:path w="795" h="323">
                <a:moveTo>
                  <a:pt x="8607" y="5011"/>
                </a:moveTo>
                <a:cubicBezTo>
                  <a:pt x="8607" y="5019"/>
                  <a:pt x="8607" y="5027"/>
                  <a:pt x="8607" y="5035"/>
                </a:cubicBezTo>
                <a:cubicBezTo>
                  <a:pt x="8569" y="5048"/>
                  <a:pt x="8582" y="5065"/>
                  <a:pt x="8582" y="5110"/>
                </a:cubicBezTo>
                <a:cubicBezTo>
                  <a:pt x="8582" y="5156"/>
                  <a:pt x="8559" y="5284"/>
                  <a:pt x="8607" y="5308"/>
                </a:cubicBezTo>
                <a:cubicBezTo>
                  <a:pt x="8615" y="5308"/>
                  <a:pt x="8624" y="5308"/>
                  <a:pt x="8632" y="5308"/>
                </a:cubicBezTo>
              </a:path>
              <a:path w="795" h="323">
                <a:moveTo>
                  <a:pt x="8632" y="4986"/>
                </a:moveTo>
                <a:cubicBezTo>
                  <a:pt x="8640" y="4986"/>
                  <a:pt x="8649" y="4986"/>
                  <a:pt x="8657" y="4986"/>
                </a:cubicBezTo>
                <a:cubicBezTo>
                  <a:pt x="8657" y="5052"/>
                  <a:pt x="8657" y="5118"/>
                  <a:pt x="8657" y="5184"/>
                </a:cubicBezTo>
                <a:cubicBezTo>
                  <a:pt x="8695" y="5197"/>
                  <a:pt x="8682" y="5214"/>
                  <a:pt x="8682" y="5259"/>
                </a:cubicBezTo>
                <a:cubicBezTo>
                  <a:pt x="8682" y="5283"/>
                  <a:pt x="8682" y="5292"/>
                  <a:pt x="8682" y="5308"/>
                </a:cubicBezTo>
              </a:path>
              <a:path w="795" h="323">
                <a:moveTo>
                  <a:pt x="8706" y="5060"/>
                </a:moveTo>
                <a:lnTo>
                  <a:pt x="8706" y="5060"/>
                </a:lnTo>
              </a:path>
              <a:path w="795" h="323">
                <a:moveTo>
                  <a:pt x="8582" y="5011"/>
                </a:moveTo>
                <a:cubicBezTo>
                  <a:pt x="8607" y="5011"/>
                  <a:pt x="8615" y="5011"/>
                  <a:pt x="8632" y="5011"/>
                </a:cubicBezTo>
                <a:cubicBezTo>
                  <a:pt x="8645" y="5047"/>
                  <a:pt x="8662" y="5035"/>
                  <a:pt x="8706" y="5035"/>
                </a:cubicBezTo>
                <a:cubicBezTo>
                  <a:pt x="8714" y="5035"/>
                  <a:pt x="8723" y="5035"/>
                  <a:pt x="8731" y="5035"/>
                </a:cubicBezTo>
                <a:cubicBezTo>
                  <a:pt x="8744" y="5073"/>
                  <a:pt x="8761" y="5060"/>
                  <a:pt x="8806" y="5060"/>
                </a:cubicBezTo>
                <a:cubicBezTo>
                  <a:pt x="8818" y="5098"/>
                  <a:pt x="8835" y="5085"/>
                  <a:pt x="8880" y="5085"/>
                </a:cubicBezTo>
                <a:cubicBezTo>
                  <a:pt x="8888" y="5085"/>
                  <a:pt x="8897" y="5085"/>
                  <a:pt x="8905" y="5085"/>
                </a:cubicBezTo>
                <a:cubicBezTo>
                  <a:pt x="8918" y="5123"/>
                  <a:pt x="8934" y="5110"/>
                  <a:pt x="8979" y="5110"/>
                </a:cubicBezTo>
                <a:cubicBezTo>
                  <a:pt x="8987" y="5110"/>
                  <a:pt x="8996" y="5110"/>
                  <a:pt x="9004" y="5110"/>
                </a:cubicBezTo>
              </a:path>
              <a:path w="795" h="323">
                <a:moveTo>
                  <a:pt x="8657" y="5011"/>
                </a:moveTo>
                <a:cubicBezTo>
                  <a:pt x="8690" y="5011"/>
                  <a:pt x="8723" y="5011"/>
                  <a:pt x="8756" y="5011"/>
                </a:cubicBezTo>
                <a:cubicBezTo>
                  <a:pt x="8769" y="5047"/>
                  <a:pt x="8786" y="5035"/>
                  <a:pt x="8830" y="5035"/>
                </a:cubicBezTo>
                <a:cubicBezTo>
                  <a:pt x="8887" y="5035"/>
                  <a:pt x="8908" y="5045"/>
                  <a:pt x="8954" y="5060"/>
                </a:cubicBezTo>
                <a:cubicBezTo>
                  <a:pt x="9000" y="5075"/>
                  <a:pt x="9013" y="5036"/>
                  <a:pt x="9029" y="5085"/>
                </a:cubicBezTo>
              </a:path>
              <a:path w="795" h="323">
                <a:moveTo>
                  <a:pt x="8657" y="4986"/>
                </a:moveTo>
                <a:cubicBezTo>
                  <a:pt x="8690" y="4986"/>
                  <a:pt x="8723" y="4986"/>
                  <a:pt x="8756" y="4986"/>
                </a:cubicBezTo>
                <a:cubicBezTo>
                  <a:pt x="8769" y="5024"/>
                  <a:pt x="8785" y="5011"/>
                  <a:pt x="8830" y="5011"/>
                </a:cubicBezTo>
                <a:cubicBezTo>
                  <a:pt x="8838" y="5011"/>
                  <a:pt x="8847" y="5011"/>
                  <a:pt x="8855" y="5011"/>
                </a:cubicBezTo>
                <a:cubicBezTo>
                  <a:pt x="8868" y="5047"/>
                  <a:pt x="8886" y="5035"/>
                  <a:pt x="8930" y="5035"/>
                </a:cubicBezTo>
                <a:cubicBezTo>
                  <a:pt x="8977" y="5035"/>
                  <a:pt x="9016" y="5020"/>
                  <a:pt x="9029" y="5060"/>
                </a:cubicBezTo>
              </a:path>
              <a:path w="795" h="323">
                <a:moveTo>
                  <a:pt x="8682" y="5011"/>
                </a:moveTo>
                <a:cubicBezTo>
                  <a:pt x="8706" y="5011"/>
                  <a:pt x="8715" y="5011"/>
                  <a:pt x="8731" y="5011"/>
                </a:cubicBezTo>
                <a:cubicBezTo>
                  <a:pt x="8744" y="5047"/>
                  <a:pt x="8762" y="5035"/>
                  <a:pt x="8806" y="5035"/>
                </a:cubicBezTo>
                <a:cubicBezTo>
                  <a:pt x="8851" y="5035"/>
                  <a:pt x="8865" y="5056"/>
                  <a:pt x="8905" y="5060"/>
                </a:cubicBezTo>
                <a:cubicBezTo>
                  <a:pt x="8952" y="5065"/>
                  <a:pt x="8964" y="5072"/>
                  <a:pt x="9004" y="5085"/>
                </a:cubicBezTo>
                <a:cubicBezTo>
                  <a:pt x="9041" y="5097"/>
                  <a:pt x="9060" y="5110"/>
                  <a:pt x="9103" y="5110"/>
                </a:cubicBezTo>
                <a:cubicBezTo>
                  <a:pt x="9144" y="5110"/>
                  <a:pt x="9186" y="5110"/>
                  <a:pt x="9227" y="5110"/>
                </a:cubicBezTo>
              </a:path>
              <a:path w="795" h="323">
                <a:moveTo>
                  <a:pt x="8756" y="5060"/>
                </a:moveTo>
                <a:cubicBezTo>
                  <a:pt x="8789" y="5060"/>
                  <a:pt x="8822" y="5060"/>
                  <a:pt x="8855" y="5060"/>
                </a:cubicBezTo>
                <a:cubicBezTo>
                  <a:pt x="8868" y="5022"/>
                  <a:pt x="8885" y="5035"/>
                  <a:pt x="8930" y="5035"/>
                </a:cubicBezTo>
                <a:cubicBezTo>
                  <a:pt x="8954" y="5035"/>
                  <a:pt x="8963" y="5035"/>
                  <a:pt x="8979" y="5035"/>
                </a:cubicBezTo>
              </a:path>
              <a:path w="795" h="323">
                <a:moveTo>
                  <a:pt x="8682" y="5011"/>
                </a:moveTo>
                <a:cubicBezTo>
                  <a:pt x="8814" y="5011"/>
                  <a:pt x="8947" y="5011"/>
                  <a:pt x="9079" y="5011"/>
                </a:cubicBezTo>
              </a:path>
              <a:path w="795" h="323">
                <a:moveTo>
                  <a:pt x="9153" y="4986"/>
                </a:moveTo>
                <a:cubicBezTo>
                  <a:pt x="9153" y="5085"/>
                  <a:pt x="9153" y="5184"/>
                  <a:pt x="9153" y="5283"/>
                </a:cubicBezTo>
              </a:path>
              <a:path w="795" h="323">
                <a:moveTo>
                  <a:pt x="9252" y="5035"/>
                </a:moveTo>
                <a:cubicBezTo>
                  <a:pt x="9260" y="5035"/>
                  <a:pt x="9269" y="5035"/>
                  <a:pt x="9277" y="5035"/>
                </a:cubicBezTo>
                <a:cubicBezTo>
                  <a:pt x="9277" y="5087"/>
                  <a:pt x="9277" y="5264"/>
                  <a:pt x="9277" y="5234"/>
                </a:cubicBezTo>
              </a:path>
              <a:path w="795" h="323">
                <a:moveTo>
                  <a:pt x="9302" y="5011"/>
                </a:moveTo>
                <a:lnTo>
                  <a:pt x="9302" y="5011"/>
                </a:lnTo>
              </a:path>
              <a:path w="795" h="323">
                <a:moveTo>
                  <a:pt x="9302" y="5234"/>
                </a:moveTo>
                <a:cubicBezTo>
                  <a:pt x="9329" y="5234"/>
                  <a:pt x="9346" y="5261"/>
                  <a:pt x="9376" y="5283"/>
                </a:cubicBezTo>
              </a:path>
            </a:pathLst>
          </a:custGeom>
          <a:noFill/>
          <a:ln cap="rnd" w="1908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3851280" y="3216240"/>
            <a:ext cx="136836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468360" y="39117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2987640" y="485136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3419640" y="4365720"/>
            <a:ext cx="504720" cy="50328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5292720" y="4365720"/>
            <a:ext cx="503280" cy="50004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3059280" y="4653000"/>
            <a:ext cx="2156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3851280" y="4653000"/>
            <a:ext cx="136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5722920" y="4675320"/>
            <a:ext cx="50472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3089160" y="4537080"/>
            <a:ext cx="285840" cy="115920"/>
          </a:xfrm>
          <a:custGeom>
            <a:avLst/>
            <a:gdLst/>
            <a:ahLst/>
            <a:rect l="l" t="t" r="r" b="b"/>
            <a:pathLst>
              <a:path w="795" h="323">
                <a:moveTo>
                  <a:pt x="8607" y="5011"/>
                </a:moveTo>
                <a:cubicBezTo>
                  <a:pt x="8607" y="5110"/>
                  <a:pt x="8607" y="5209"/>
                  <a:pt x="8607" y="5308"/>
                </a:cubicBezTo>
                <a:cubicBezTo>
                  <a:pt x="8632" y="5308"/>
                  <a:pt x="8640" y="5308"/>
                  <a:pt x="8657" y="5308"/>
                </a:cubicBezTo>
              </a:path>
              <a:path w="795" h="323">
                <a:moveTo>
                  <a:pt x="8607" y="5011"/>
                </a:moveTo>
                <a:lnTo>
                  <a:pt x="8607" y="5011"/>
                </a:lnTo>
              </a:path>
              <a:path w="795" h="323">
                <a:moveTo>
                  <a:pt x="8607" y="5011"/>
                </a:moveTo>
                <a:cubicBezTo>
                  <a:pt x="8607" y="5019"/>
                  <a:pt x="8607" y="5027"/>
                  <a:pt x="8607" y="5035"/>
                </a:cubicBezTo>
                <a:cubicBezTo>
                  <a:pt x="8569" y="5048"/>
                  <a:pt x="8582" y="5065"/>
                  <a:pt x="8582" y="5110"/>
                </a:cubicBezTo>
                <a:cubicBezTo>
                  <a:pt x="8582" y="5156"/>
                  <a:pt x="8559" y="5284"/>
                  <a:pt x="8607" y="5308"/>
                </a:cubicBezTo>
                <a:cubicBezTo>
                  <a:pt x="8615" y="5308"/>
                  <a:pt x="8624" y="5308"/>
                  <a:pt x="8632" y="5308"/>
                </a:cubicBezTo>
              </a:path>
              <a:path w="795" h="323">
                <a:moveTo>
                  <a:pt x="8632" y="4986"/>
                </a:moveTo>
                <a:cubicBezTo>
                  <a:pt x="8640" y="4986"/>
                  <a:pt x="8649" y="4986"/>
                  <a:pt x="8657" y="4986"/>
                </a:cubicBezTo>
                <a:cubicBezTo>
                  <a:pt x="8657" y="5052"/>
                  <a:pt x="8657" y="5118"/>
                  <a:pt x="8657" y="5184"/>
                </a:cubicBezTo>
                <a:cubicBezTo>
                  <a:pt x="8695" y="5197"/>
                  <a:pt x="8682" y="5214"/>
                  <a:pt x="8682" y="5259"/>
                </a:cubicBezTo>
                <a:cubicBezTo>
                  <a:pt x="8682" y="5283"/>
                  <a:pt x="8682" y="5292"/>
                  <a:pt x="8682" y="5308"/>
                </a:cubicBezTo>
              </a:path>
              <a:path w="795" h="323">
                <a:moveTo>
                  <a:pt x="8706" y="5060"/>
                </a:moveTo>
                <a:lnTo>
                  <a:pt x="8706" y="5060"/>
                </a:lnTo>
              </a:path>
              <a:path w="795" h="323">
                <a:moveTo>
                  <a:pt x="8582" y="5011"/>
                </a:moveTo>
                <a:cubicBezTo>
                  <a:pt x="8607" y="5011"/>
                  <a:pt x="8615" y="5011"/>
                  <a:pt x="8632" y="5011"/>
                </a:cubicBezTo>
                <a:cubicBezTo>
                  <a:pt x="8645" y="5047"/>
                  <a:pt x="8662" y="5035"/>
                  <a:pt x="8706" y="5035"/>
                </a:cubicBezTo>
                <a:cubicBezTo>
                  <a:pt x="8714" y="5035"/>
                  <a:pt x="8723" y="5035"/>
                  <a:pt x="8731" y="5035"/>
                </a:cubicBezTo>
                <a:cubicBezTo>
                  <a:pt x="8744" y="5073"/>
                  <a:pt x="8761" y="5060"/>
                  <a:pt x="8806" y="5060"/>
                </a:cubicBezTo>
                <a:cubicBezTo>
                  <a:pt x="8818" y="5098"/>
                  <a:pt x="8835" y="5085"/>
                  <a:pt x="8880" y="5085"/>
                </a:cubicBezTo>
                <a:cubicBezTo>
                  <a:pt x="8888" y="5085"/>
                  <a:pt x="8897" y="5085"/>
                  <a:pt x="8905" y="5085"/>
                </a:cubicBezTo>
                <a:cubicBezTo>
                  <a:pt x="8918" y="5123"/>
                  <a:pt x="8934" y="5110"/>
                  <a:pt x="8979" y="5110"/>
                </a:cubicBezTo>
                <a:cubicBezTo>
                  <a:pt x="8987" y="5110"/>
                  <a:pt x="8996" y="5110"/>
                  <a:pt x="9004" y="5110"/>
                </a:cubicBezTo>
              </a:path>
              <a:path w="795" h="323">
                <a:moveTo>
                  <a:pt x="8657" y="5011"/>
                </a:moveTo>
                <a:cubicBezTo>
                  <a:pt x="8690" y="5011"/>
                  <a:pt x="8723" y="5011"/>
                  <a:pt x="8756" y="5011"/>
                </a:cubicBezTo>
                <a:cubicBezTo>
                  <a:pt x="8769" y="5047"/>
                  <a:pt x="8786" y="5035"/>
                  <a:pt x="8830" y="5035"/>
                </a:cubicBezTo>
                <a:cubicBezTo>
                  <a:pt x="8887" y="5035"/>
                  <a:pt x="8908" y="5045"/>
                  <a:pt x="8954" y="5060"/>
                </a:cubicBezTo>
                <a:cubicBezTo>
                  <a:pt x="9000" y="5075"/>
                  <a:pt x="9013" y="5036"/>
                  <a:pt x="9029" y="5085"/>
                </a:cubicBezTo>
              </a:path>
              <a:path w="795" h="323">
                <a:moveTo>
                  <a:pt x="8657" y="4986"/>
                </a:moveTo>
                <a:cubicBezTo>
                  <a:pt x="8690" y="4986"/>
                  <a:pt x="8723" y="4986"/>
                  <a:pt x="8756" y="4986"/>
                </a:cubicBezTo>
                <a:cubicBezTo>
                  <a:pt x="8769" y="5024"/>
                  <a:pt x="8785" y="5011"/>
                  <a:pt x="8830" y="5011"/>
                </a:cubicBezTo>
                <a:cubicBezTo>
                  <a:pt x="8838" y="5011"/>
                  <a:pt x="8847" y="5011"/>
                  <a:pt x="8855" y="5011"/>
                </a:cubicBezTo>
                <a:cubicBezTo>
                  <a:pt x="8868" y="5047"/>
                  <a:pt x="8886" y="5035"/>
                  <a:pt x="8930" y="5035"/>
                </a:cubicBezTo>
                <a:cubicBezTo>
                  <a:pt x="8977" y="5035"/>
                  <a:pt x="9016" y="5020"/>
                  <a:pt x="9029" y="5060"/>
                </a:cubicBezTo>
              </a:path>
              <a:path w="795" h="323">
                <a:moveTo>
                  <a:pt x="8682" y="5011"/>
                </a:moveTo>
                <a:cubicBezTo>
                  <a:pt x="8706" y="5011"/>
                  <a:pt x="8715" y="5011"/>
                  <a:pt x="8731" y="5011"/>
                </a:cubicBezTo>
                <a:cubicBezTo>
                  <a:pt x="8744" y="5047"/>
                  <a:pt x="8762" y="5035"/>
                  <a:pt x="8806" y="5035"/>
                </a:cubicBezTo>
                <a:cubicBezTo>
                  <a:pt x="8851" y="5035"/>
                  <a:pt x="8865" y="5056"/>
                  <a:pt x="8905" y="5060"/>
                </a:cubicBezTo>
                <a:cubicBezTo>
                  <a:pt x="8952" y="5065"/>
                  <a:pt x="8964" y="5072"/>
                  <a:pt x="9004" y="5085"/>
                </a:cubicBezTo>
                <a:cubicBezTo>
                  <a:pt x="9041" y="5097"/>
                  <a:pt x="9060" y="5110"/>
                  <a:pt x="9103" y="5110"/>
                </a:cubicBezTo>
                <a:cubicBezTo>
                  <a:pt x="9144" y="5110"/>
                  <a:pt x="9186" y="5110"/>
                  <a:pt x="9227" y="5110"/>
                </a:cubicBezTo>
              </a:path>
              <a:path w="795" h="323">
                <a:moveTo>
                  <a:pt x="8756" y="5060"/>
                </a:moveTo>
                <a:cubicBezTo>
                  <a:pt x="8789" y="5060"/>
                  <a:pt x="8822" y="5060"/>
                  <a:pt x="8855" y="5060"/>
                </a:cubicBezTo>
                <a:cubicBezTo>
                  <a:pt x="8868" y="5022"/>
                  <a:pt x="8885" y="5035"/>
                  <a:pt x="8930" y="5035"/>
                </a:cubicBezTo>
                <a:cubicBezTo>
                  <a:pt x="8954" y="5035"/>
                  <a:pt x="8963" y="5035"/>
                  <a:pt x="8979" y="5035"/>
                </a:cubicBezTo>
              </a:path>
              <a:path w="795" h="323">
                <a:moveTo>
                  <a:pt x="8682" y="5011"/>
                </a:moveTo>
                <a:cubicBezTo>
                  <a:pt x="8814" y="5011"/>
                  <a:pt x="8947" y="5011"/>
                  <a:pt x="9079" y="5011"/>
                </a:cubicBezTo>
              </a:path>
              <a:path w="795" h="323">
                <a:moveTo>
                  <a:pt x="9153" y="4986"/>
                </a:moveTo>
                <a:cubicBezTo>
                  <a:pt x="9153" y="5085"/>
                  <a:pt x="9153" y="5184"/>
                  <a:pt x="9153" y="5283"/>
                </a:cubicBezTo>
              </a:path>
              <a:path w="795" h="323">
                <a:moveTo>
                  <a:pt x="9252" y="5035"/>
                </a:moveTo>
                <a:cubicBezTo>
                  <a:pt x="9260" y="5035"/>
                  <a:pt x="9269" y="5035"/>
                  <a:pt x="9277" y="5035"/>
                </a:cubicBezTo>
                <a:cubicBezTo>
                  <a:pt x="9277" y="5087"/>
                  <a:pt x="9277" y="5264"/>
                  <a:pt x="9277" y="5234"/>
                </a:cubicBezTo>
              </a:path>
              <a:path w="795" h="323">
                <a:moveTo>
                  <a:pt x="9302" y="5011"/>
                </a:moveTo>
                <a:lnTo>
                  <a:pt x="9302" y="5011"/>
                </a:lnTo>
              </a:path>
              <a:path w="795" h="323">
                <a:moveTo>
                  <a:pt x="9302" y="5234"/>
                </a:moveTo>
                <a:cubicBezTo>
                  <a:pt x="9329" y="5234"/>
                  <a:pt x="9346" y="5261"/>
                  <a:pt x="9376" y="5283"/>
                </a:cubicBezTo>
              </a:path>
            </a:pathLst>
          </a:custGeom>
          <a:noFill/>
          <a:ln cap="rnd"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940360" y="3645000"/>
            <a:ext cx="216000" cy="360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3402000" y="4869000"/>
            <a:ext cx="590400" cy="63360"/>
          </a:xfrm>
          <a:custGeom>
            <a:avLst/>
            <a:gdLst/>
            <a:ahLst/>
            <a:rect l="l" t="t" r="r" b="b"/>
            <a:pathLst>
              <a:path w="1638" h="175">
                <a:moveTo>
                  <a:pt x="10368" y="8756"/>
                </a:moveTo>
                <a:cubicBezTo>
                  <a:pt x="10331" y="8743"/>
                  <a:pt x="10347" y="8731"/>
                  <a:pt x="10294" y="8731"/>
                </a:cubicBezTo>
                <a:cubicBezTo>
                  <a:pt x="10267" y="8731"/>
                  <a:pt x="10088" y="8731"/>
                  <a:pt x="10145" y="8731"/>
                </a:cubicBezTo>
                <a:cubicBezTo>
                  <a:pt x="10162" y="8731"/>
                  <a:pt x="10326" y="8732"/>
                  <a:pt x="10294" y="8756"/>
                </a:cubicBezTo>
                <a:cubicBezTo>
                  <a:pt x="10285" y="8763"/>
                  <a:pt x="10155" y="8779"/>
                  <a:pt x="10145" y="8781"/>
                </a:cubicBezTo>
                <a:cubicBezTo>
                  <a:pt x="10103" y="8790"/>
                  <a:pt x="10058" y="8802"/>
                  <a:pt x="10021" y="8806"/>
                </a:cubicBezTo>
                <a:cubicBezTo>
                  <a:pt x="10013" y="8806"/>
                  <a:pt x="10004" y="8806"/>
                  <a:pt x="9996" y="8806"/>
                </a:cubicBezTo>
                <a:cubicBezTo>
                  <a:pt x="10065" y="8806"/>
                  <a:pt x="10125" y="8827"/>
                  <a:pt x="10195" y="8830"/>
                </a:cubicBezTo>
                <a:cubicBezTo>
                  <a:pt x="10272" y="8833"/>
                  <a:pt x="10339" y="8855"/>
                  <a:pt x="10418" y="8855"/>
                </a:cubicBezTo>
                <a:cubicBezTo>
                  <a:pt x="10443" y="8855"/>
                  <a:pt x="10451" y="8855"/>
                  <a:pt x="10443" y="8880"/>
                </a:cubicBezTo>
                <a:cubicBezTo>
                  <a:pt x="10294" y="8880"/>
                  <a:pt x="10145" y="8880"/>
                  <a:pt x="9996" y="8880"/>
                </a:cubicBezTo>
                <a:cubicBezTo>
                  <a:pt x="10178" y="8880"/>
                  <a:pt x="10674" y="8880"/>
                  <a:pt x="10492" y="8880"/>
                </a:cubicBezTo>
                <a:cubicBezTo>
                  <a:pt x="10484" y="8880"/>
                  <a:pt x="10476" y="8880"/>
                  <a:pt x="10468" y="8880"/>
                </a:cubicBezTo>
                <a:cubicBezTo>
                  <a:pt x="10344" y="8880"/>
                  <a:pt x="10220" y="8880"/>
                  <a:pt x="10096" y="8880"/>
                </a:cubicBezTo>
                <a:cubicBezTo>
                  <a:pt x="10112" y="8831"/>
                  <a:pt x="10142" y="8867"/>
                  <a:pt x="10195" y="8855"/>
                </a:cubicBezTo>
                <a:cubicBezTo>
                  <a:pt x="10276" y="8836"/>
                  <a:pt x="10365" y="8850"/>
                  <a:pt x="10443" y="8830"/>
                </a:cubicBezTo>
                <a:cubicBezTo>
                  <a:pt x="10459" y="8822"/>
                  <a:pt x="10476" y="8814"/>
                  <a:pt x="10492" y="8806"/>
                </a:cubicBezTo>
                <a:cubicBezTo>
                  <a:pt x="10559" y="8806"/>
                  <a:pt x="10454" y="8806"/>
                  <a:pt x="10443" y="8806"/>
                </a:cubicBezTo>
                <a:cubicBezTo>
                  <a:pt x="10238" y="8806"/>
                  <a:pt x="9863" y="8751"/>
                  <a:pt x="9699" y="8830"/>
                </a:cubicBezTo>
                <a:cubicBezTo>
                  <a:pt x="9692" y="8834"/>
                  <a:pt x="9579" y="8830"/>
                  <a:pt x="9649" y="8830"/>
                </a:cubicBezTo>
                <a:cubicBezTo>
                  <a:pt x="9657" y="8830"/>
                  <a:pt x="9666" y="8830"/>
                  <a:pt x="9674" y="8830"/>
                </a:cubicBezTo>
                <a:cubicBezTo>
                  <a:pt x="9814" y="8830"/>
                  <a:pt x="9972" y="8813"/>
                  <a:pt x="10096" y="8855"/>
                </a:cubicBezTo>
                <a:cubicBezTo>
                  <a:pt x="10140" y="8870"/>
                  <a:pt x="10213" y="8825"/>
                  <a:pt x="10220" y="8880"/>
                </a:cubicBezTo>
                <a:cubicBezTo>
                  <a:pt x="10220" y="8905"/>
                  <a:pt x="10220" y="8913"/>
                  <a:pt x="10244" y="8905"/>
                </a:cubicBezTo>
              </a:path>
              <a:path w="1638" h="175">
                <a:moveTo>
                  <a:pt x="10492" y="8830"/>
                </a:moveTo>
                <a:cubicBezTo>
                  <a:pt x="10636" y="8830"/>
                  <a:pt x="10777" y="8838"/>
                  <a:pt x="10914" y="8855"/>
                </a:cubicBezTo>
                <a:cubicBezTo>
                  <a:pt x="10997" y="8866"/>
                  <a:pt x="10983" y="8839"/>
                  <a:pt x="11038" y="8880"/>
                </a:cubicBezTo>
              </a:path>
              <a:path w="1638" h="175">
                <a:moveTo>
                  <a:pt x="10641" y="8806"/>
                </a:moveTo>
                <a:cubicBezTo>
                  <a:pt x="10761" y="8806"/>
                  <a:pt x="10882" y="8809"/>
                  <a:pt x="10988" y="8830"/>
                </a:cubicBezTo>
                <a:cubicBezTo>
                  <a:pt x="11016" y="8836"/>
                  <a:pt x="11058" y="8830"/>
                  <a:pt x="11088" y="8830"/>
                </a:cubicBezTo>
                <a:cubicBezTo>
                  <a:pt x="10951" y="8830"/>
                  <a:pt x="10739" y="8853"/>
                  <a:pt x="10641" y="8806"/>
                </a:cubicBezTo>
                <a:cubicBezTo>
                  <a:pt x="10616" y="8794"/>
                  <a:pt x="10569" y="8788"/>
                  <a:pt x="10542" y="8781"/>
                </a:cubicBezTo>
              </a:path>
              <a:path w="1638" h="175">
                <a:moveTo>
                  <a:pt x="9451" y="8880"/>
                </a:moveTo>
                <a:lnTo>
                  <a:pt x="9451" y="8880"/>
                </a:lnTo>
              </a:path>
            </a:pathLst>
          </a:custGeom>
          <a:noFill/>
          <a:ln cap="rnd"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5276880" y="4870440"/>
            <a:ext cx="384120" cy="71280"/>
          </a:xfrm>
          <a:custGeom>
            <a:avLst/>
            <a:gdLst/>
            <a:ahLst/>
            <a:rect l="l" t="t" r="r" b="b"/>
            <a:pathLst>
              <a:path w="1067" h="199">
                <a:moveTo>
                  <a:pt x="14932" y="8781"/>
                </a:moveTo>
                <a:cubicBezTo>
                  <a:pt x="14878" y="8781"/>
                  <a:pt x="14878" y="8781"/>
                  <a:pt x="14932" y="8781"/>
                </a:cubicBezTo>
                <a:cubicBezTo>
                  <a:pt x="14990" y="8781"/>
                  <a:pt x="15048" y="8781"/>
                  <a:pt x="15106" y="8781"/>
                </a:cubicBezTo>
                <a:cubicBezTo>
                  <a:pt x="15075" y="8804"/>
                  <a:pt x="15046" y="8826"/>
                  <a:pt x="15007" y="8830"/>
                </a:cubicBezTo>
                <a:cubicBezTo>
                  <a:pt x="14947" y="8836"/>
                  <a:pt x="14892" y="8870"/>
                  <a:pt x="14833" y="8880"/>
                </a:cubicBezTo>
                <a:cubicBezTo>
                  <a:pt x="14784" y="8888"/>
                  <a:pt x="14731" y="8900"/>
                  <a:pt x="14684" y="8905"/>
                </a:cubicBezTo>
                <a:cubicBezTo>
                  <a:pt x="14676" y="8905"/>
                  <a:pt x="14668" y="8905"/>
                  <a:pt x="14660" y="8905"/>
                </a:cubicBezTo>
                <a:cubicBezTo>
                  <a:pt x="14672" y="8943"/>
                  <a:pt x="14689" y="8930"/>
                  <a:pt x="14734" y="8930"/>
                </a:cubicBezTo>
                <a:cubicBezTo>
                  <a:pt x="14874" y="8930"/>
                  <a:pt x="15033" y="8947"/>
                  <a:pt x="15156" y="8905"/>
                </a:cubicBezTo>
                <a:cubicBezTo>
                  <a:pt x="15188" y="8894"/>
                  <a:pt x="15226" y="8890"/>
                  <a:pt x="15255" y="8880"/>
                </a:cubicBezTo>
                <a:cubicBezTo>
                  <a:pt x="15290" y="8868"/>
                  <a:pt x="15380" y="8881"/>
                  <a:pt x="15354" y="8855"/>
                </a:cubicBezTo>
                <a:cubicBezTo>
                  <a:pt x="15346" y="8855"/>
                  <a:pt x="15337" y="8855"/>
                  <a:pt x="15329" y="8855"/>
                </a:cubicBezTo>
                <a:cubicBezTo>
                  <a:pt x="15261" y="8855"/>
                  <a:pt x="15219" y="8864"/>
                  <a:pt x="15156" y="8880"/>
                </a:cubicBezTo>
                <a:cubicBezTo>
                  <a:pt x="15143" y="8883"/>
                  <a:pt x="15004" y="8880"/>
                  <a:pt x="15081" y="8880"/>
                </a:cubicBezTo>
                <a:cubicBezTo>
                  <a:pt x="15089" y="8880"/>
                  <a:pt x="15098" y="8880"/>
                  <a:pt x="15106" y="8880"/>
                </a:cubicBezTo>
                <a:cubicBezTo>
                  <a:pt x="15238" y="8880"/>
                  <a:pt x="15371" y="8880"/>
                  <a:pt x="15503" y="8880"/>
                </a:cubicBezTo>
                <a:cubicBezTo>
                  <a:pt x="15432" y="8880"/>
                  <a:pt x="15247" y="8853"/>
                  <a:pt x="15230" y="8905"/>
                </a:cubicBezTo>
                <a:cubicBezTo>
                  <a:pt x="15387" y="8905"/>
                  <a:pt x="15544" y="8905"/>
                  <a:pt x="15701" y="8905"/>
                </a:cubicBezTo>
                <a:cubicBezTo>
                  <a:pt x="15768" y="8905"/>
                  <a:pt x="15663" y="8905"/>
                  <a:pt x="15652" y="8905"/>
                </a:cubicBezTo>
                <a:cubicBezTo>
                  <a:pt x="15513" y="8905"/>
                  <a:pt x="15301" y="8928"/>
                  <a:pt x="15205" y="8880"/>
                </a:cubicBezTo>
                <a:cubicBezTo>
                  <a:pt x="15197" y="8880"/>
                  <a:pt x="15188" y="8880"/>
                  <a:pt x="15180" y="8880"/>
                </a:cubicBezTo>
                <a:cubicBezTo>
                  <a:pt x="15288" y="8880"/>
                  <a:pt x="15405" y="8899"/>
                  <a:pt x="15503" y="8855"/>
                </a:cubicBezTo>
                <a:cubicBezTo>
                  <a:pt x="15547" y="8835"/>
                  <a:pt x="15591" y="8838"/>
                  <a:pt x="15602" y="8806"/>
                </a:cubicBezTo>
                <a:cubicBezTo>
                  <a:pt x="15478" y="8806"/>
                  <a:pt x="15354" y="8806"/>
                  <a:pt x="15230" y="8806"/>
                </a:cubicBezTo>
                <a:cubicBezTo>
                  <a:pt x="15163" y="8806"/>
                  <a:pt x="15269" y="8806"/>
                  <a:pt x="15280" y="8806"/>
                </a:cubicBezTo>
                <a:cubicBezTo>
                  <a:pt x="15387" y="8806"/>
                  <a:pt x="15495" y="8806"/>
                  <a:pt x="15602" y="8806"/>
                </a:cubicBezTo>
                <a:cubicBezTo>
                  <a:pt x="15562" y="8806"/>
                  <a:pt x="15535" y="8813"/>
                  <a:pt x="15503" y="8830"/>
                </a:cubicBezTo>
                <a:cubicBezTo>
                  <a:pt x="15479" y="8843"/>
                  <a:pt x="15392" y="8861"/>
                  <a:pt x="15379" y="8880"/>
                </a:cubicBezTo>
                <a:cubicBezTo>
                  <a:pt x="15379" y="8888"/>
                  <a:pt x="15379" y="8897"/>
                  <a:pt x="15379" y="8905"/>
                </a:cubicBezTo>
                <a:cubicBezTo>
                  <a:pt x="15435" y="8905"/>
                  <a:pt x="15710" y="8923"/>
                  <a:pt x="15701" y="8930"/>
                </a:cubicBezTo>
                <a:cubicBezTo>
                  <a:pt x="15690" y="8939"/>
                  <a:pt x="15635" y="8953"/>
                  <a:pt x="15627" y="8954"/>
                </a:cubicBezTo>
                <a:cubicBezTo>
                  <a:pt x="15584" y="8959"/>
                  <a:pt x="15617" y="8966"/>
                  <a:pt x="15577" y="8979"/>
                </a:cubicBezTo>
              </a:path>
            </a:pathLst>
          </a:custGeom>
          <a:noFill/>
          <a:ln cap="rnd"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468360" y="52801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2987640" y="645336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3924360" y="5808600"/>
            <a:ext cx="13683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1670040" y="55767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4638" y="11683"/>
                </a:moveTo>
                <a:lnTo>
                  <a:pt x="4638" y="11683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5322960" y="2979720"/>
            <a:ext cx="7920" cy="7920"/>
          </a:xfrm>
          <a:custGeom>
            <a:avLst/>
            <a:gdLst/>
            <a:ahLst/>
            <a:rect l="l" t="t" r="r" b="b"/>
            <a:pathLst>
              <a:path w="25" h="26">
                <a:moveTo>
                  <a:pt x="14784" y="4490"/>
                </a:moveTo>
                <a:cubicBezTo>
                  <a:pt x="14792" y="4482"/>
                  <a:pt x="14800" y="4473"/>
                  <a:pt x="14808" y="44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3492360" y="4457880"/>
            <a:ext cx="314640" cy="339480"/>
          </a:xfrm>
          <a:custGeom>
            <a:avLst/>
            <a:gdLst/>
            <a:ahLst/>
            <a:rect l="l" t="t" r="r" b="b"/>
            <a:pathLst>
              <a:path w="869" h="944">
                <a:moveTo>
                  <a:pt x="10145" y="7689"/>
                </a:moveTo>
                <a:cubicBezTo>
                  <a:pt x="10185" y="7719"/>
                  <a:pt x="10223" y="7720"/>
                  <a:pt x="10244" y="7764"/>
                </a:cubicBezTo>
                <a:cubicBezTo>
                  <a:pt x="10282" y="7777"/>
                  <a:pt x="10265" y="7789"/>
                  <a:pt x="10319" y="7789"/>
                </a:cubicBezTo>
                <a:cubicBezTo>
                  <a:pt x="10319" y="7861"/>
                  <a:pt x="10352" y="7808"/>
                  <a:pt x="10368" y="7863"/>
                </a:cubicBezTo>
                <a:cubicBezTo>
                  <a:pt x="10383" y="7914"/>
                  <a:pt x="10378" y="7966"/>
                  <a:pt x="10393" y="8012"/>
                </a:cubicBezTo>
                <a:cubicBezTo>
                  <a:pt x="10399" y="8031"/>
                  <a:pt x="10393" y="8066"/>
                  <a:pt x="10393" y="8086"/>
                </a:cubicBezTo>
                <a:cubicBezTo>
                  <a:pt x="10433" y="8099"/>
                  <a:pt x="10403" y="8098"/>
                  <a:pt x="10443" y="8111"/>
                </a:cubicBezTo>
                <a:cubicBezTo>
                  <a:pt x="10443" y="8059"/>
                  <a:pt x="10448" y="8059"/>
                  <a:pt x="10418" y="8037"/>
                </a:cubicBezTo>
                <a:cubicBezTo>
                  <a:pt x="10389" y="8015"/>
                  <a:pt x="10375" y="7984"/>
                  <a:pt x="10368" y="7962"/>
                </a:cubicBezTo>
              </a:path>
              <a:path w="869" h="944">
                <a:moveTo>
                  <a:pt x="10294" y="7813"/>
                </a:moveTo>
                <a:cubicBezTo>
                  <a:pt x="10343" y="7820"/>
                  <a:pt x="10335" y="7820"/>
                  <a:pt x="10368" y="7838"/>
                </a:cubicBezTo>
                <a:cubicBezTo>
                  <a:pt x="10386" y="7848"/>
                  <a:pt x="10440" y="7879"/>
                  <a:pt x="10443" y="7888"/>
                </a:cubicBezTo>
                <a:cubicBezTo>
                  <a:pt x="10456" y="7934"/>
                  <a:pt x="10473" y="7944"/>
                  <a:pt x="10492" y="7987"/>
                </a:cubicBezTo>
                <a:cubicBezTo>
                  <a:pt x="10492" y="7995"/>
                  <a:pt x="10492" y="8004"/>
                  <a:pt x="10492" y="8012"/>
                </a:cubicBezTo>
                <a:cubicBezTo>
                  <a:pt x="10464" y="7983"/>
                  <a:pt x="10472" y="7990"/>
                  <a:pt x="10443" y="7962"/>
                </a:cubicBezTo>
                <a:cubicBezTo>
                  <a:pt x="10423" y="7942"/>
                  <a:pt x="10381" y="7916"/>
                  <a:pt x="10344" y="7888"/>
                </a:cubicBezTo>
                <a:cubicBezTo>
                  <a:pt x="10291" y="7848"/>
                  <a:pt x="10270" y="7861"/>
                  <a:pt x="10220" y="7838"/>
                </a:cubicBezTo>
                <a:cubicBezTo>
                  <a:pt x="10200" y="7829"/>
                  <a:pt x="10194" y="7816"/>
                  <a:pt x="10145" y="7813"/>
                </a:cubicBezTo>
                <a:cubicBezTo>
                  <a:pt x="10054" y="7808"/>
                  <a:pt x="9973" y="7823"/>
                  <a:pt x="9897" y="7838"/>
                </a:cubicBezTo>
                <a:cubicBezTo>
                  <a:pt x="9844" y="7849"/>
                  <a:pt x="9851" y="7840"/>
                  <a:pt x="9823" y="7863"/>
                </a:cubicBezTo>
                <a:cubicBezTo>
                  <a:pt x="9769" y="7906"/>
                  <a:pt x="9802" y="7890"/>
                  <a:pt x="9773" y="7938"/>
                </a:cubicBezTo>
                <a:cubicBezTo>
                  <a:pt x="9744" y="7986"/>
                  <a:pt x="9727" y="7978"/>
                  <a:pt x="9723" y="8037"/>
                </a:cubicBezTo>
                <a:cubicBezTo>
                  <a:pt x="9720" y="8091"/>
                  <a:pt x="9707" y="8071"/>
                  <a:pt x="9699" y="8111"/>
                </a:cubicBezTo>
                <a:cubicBezTo>
                  <a:pt x="9683" y="8196"/>
                  <a:pt x="9709" y="8287"/>
                  <a:pt x="9723" y="8359"/>
                </a:cubicBezTo>
                <a:cubicBezTo>
                  <a:pt x="9734" y="8415"/>
                  <a:pt x="9742" y="8410"/>
                  <a:pt x="9773" y="8458"/>
                </a:cubicBezTo>
                <a:cubicBezTo>
                  <a:pt x="9819" y="8529"/>
                  <a:pt x="9855" y="8529"/>
                  <a:pt x="9947" y="8533"/>
                </a:cubicBezTo>
                <a:cubicBezTo>
                  <a:pt x="10054" y="8538"/>
                  <a:pt x="10228" y="8564"/>
                  <a:pt x="10319" y="8508"/>
                </a:cubicBezTo>
                <a:cubicBezTo>
                  <a:pt x="10336" y="8498"/>
                  <a:pt x="10343" y="8459"/>
                  <a:pt x="10368" y="8434"/>
                </a:cubicBezTo>
                <a:cubicBezTo>
                  <a:pt x="10405" y="8397"/>
                  <a:pt x="10406" y="8396"/>
                  <a:pt x="10443" y="8359"/>
                </a:cubicBezTo>
                <a:cubicBezTo>
                  <a:pt x="10463" y="8339"/>
                  <a:pt x="10466" y="8325"/>
                  <a:pt x="10468" y="8285"/>
                </a:cubicBezTo>
                <a:cubicBezTo>
                  <a:pt x="10472" y="8225"/>
                  <a:pt x="10492" y="8075"/>
                  <a:pt x="10443" y="8037"/>
                </a:cubicBezTo>
                <a:cubicBezTo>
                  <a:pt x="10382" y="7990"/>
                  <a:pt x="10395" y="7977"/>
                  <a:pt x="10344" y="7938"/>
                </a:cubicBezTo>
                <a:cubicBezTo>
                  <a:pt x="10277" y="7886"/>
                  <a:pt x="10222" y="7865"/>
                  <a:pt x="10145" y="7838"/>
                </a:cubicBezTo>
                <a:cubicBezTo>
                  <a:pt x="10082" y="7816"/>
                  <a:pt x="10035" y="7792"/>
                  <a:pt x="9971" y="7789"/>
                </a:cubicBezTo>
                <a:cubicBezTo>
                  <a:pt x="9905" y="7785"/>
                  <a:pt x="9692" y="7758"/>
                  <a:pt x="9649" y="7813"/>
                </a:cubicBezTo>
                <a:cubicBezTo>
                  <a:pt x="9630" y="7838"/>
                  <a:pt x="9626" y="7878"/>
                  <a:pt x="9624" y="7913"/>
                </a:cubicBezTo>
                <a:cubicBezTo>
                  <a:pt x="9617" y="8026"/>
                  <a:pt x="9592" y="8235"/>
                  <a:pt x="9649" y="8334"/>
                </a:cubicBezTo>
                <a:cubicBezTo>
                  <a:pt x="9656" y="8347"/>
                  <a:pt x="9698" y="8374"/>
                  <a:pt x="9723" y="8384"/>
                </a:cubicBezTo>
                <a:cubicBezTo>
                  <a:pt x="9770" y="8403"/>
                  <a:pt x="9800" y="8413"/>
                  <a:pt x="9823" y="8434"/>
                </a:cubicBezTo>
                <a:cubicBezTo>
                  <a:pt x="9851" y="8459"/>
                  <a:pt x="9888" y="8486"/>
                  <a:pt x="9922" y="8508"/>
                </a:cubicBezTo>
                <a:cubicBezTo>
                  <a:pt x="9940" y="8520"/>
                  <a:pt x="9992" y="8551"/>
                  <a:pt x="10021" y="8582"/>
                </a:cubicBezTo>
                <a:cubicBezTo>
                  <a:pt x="10054" y="8582"/>
                  <a:pt x="10063" y="8590"/>
                  <a:pt x="10046" y="8632"/>
                </a:cubicBezTo>
              </a:path>
            </a:pathLst>
          </a:custGeom>
          <a:noFill/>
          <a:ln cap="rnd"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5340240" y="4437000"/>
            <a:ext cx="554040" cy="330120"/>
          </a:xfrm>
          <a:custGeom>
            <a:avLst/>
            <a:gdLst/>
            <a:ahLst/>
            <a:rect l="l" t="t" r="r" b="b"/>
            <a:pathLst>
              <a:path w="1539" h="919">
                <a:moveTo>
                  <a:pt x="15304" y="7764"/>
                </a:moveTo>
                <a:cubicBezTo>
                  <a:pt x="15240" y="7764"/>
                  <a:pt x="15180" y="7751"/>
                  <a:pt x="15131" y="7789"/>
                </a:cubicBezTo>
                <a:cubicBezTo>
                  <a:pt x="15077" y="7831"/>
                  <a:pt x="15104" y="7807"/>
                  <a:pt x="15081" y="7863"/>
                </a:cubicBezTo>
                <a:cubicBezTo>
                  <a:pt x="15075" y="7877"/>
                  <a:pt x="15037" y="7911"/>
                  <a:pt x="15032" y="7938"/>
                </a:cubicBezTo>
                <a:cubicBezTo>
                  <a:pt x="15019" y="8006"/>
                  <a:pt x="14987" y="7981"/>
                  <a:pt x="14982" y="8062"/>
                </a:cubicBezTo>
                <a:cubicBezTo>
                  <a:pt x="14975" y="8174"/>
                  <a:pt x="14987" y="8286"/>
                  <a:pt x="15007" y="8384"/>
                </a:cubicBezTo>
                <a:cubicBezTo>
                  <a:pt x="15013" y="8415"/>
                  <a:pt x="15011" y="8462"/>
                  <a:pt x="15032" y="8483"/>
                </a:cubicBezTo>
                <a:cubicBezTo>
                  <a:pt x="15048" y="8499"/>
                  <a:pt x="15136" y="8529"/>
                  <a:pt x="15156" y="8533"/>
                </a:cubicBezTo>
                <a:cubicBezTo>
                  <a:pt x="15258" y="8554"/>
                  <a:pt x="15513" y="8563"/>
                  <a:pt x="15602" y="8508"/>
                </a:cubicBezTo>
                <a:cubicBezTo>
                  <a:pt x="15636" y="8487"/>
                  <a:pt x="15624" y="8485"/>
                  <a:pt x="15627" y="8434"/>
                </a:cubicBezTo>
                <a:cubicBezTo>
                  <a:pt x="15634" y="8318"/>
                  <a:pt x="15653" y="8133"/>
                  <a:pt x="15602" y="8037"/>
                </a:cubicBezTo>
                <a:cubicBezTo>
                  <a:pt x="15580" y="7997"/>
                  <a:pt x="15574" y="7973"/>
                  <a:pt x="15553" y="7938"/>
                </a:cubicBezTo>
                <a:cubicBezTo>
                  <a:pt x="15526" y="7892"/>
                  <a:pt x="15468" y="7859"/>
                  <a:pt x="15429" y="7838"/>
                </a:cubicBezTo>
                <a:cubicBezTo>
                  <a:pt x="15351" y="7796"/>
                  <a:pt x="15397" y="7794"/>
                  <a:pt x="15304" y="7789"/>
                </a:cubicBezTo>
                <a:cubicBezTo>
                  <a:pt x="15202" y="7783"/>
                  <a:pt x="14963" y="7750"/>
                  <a:pt x="14883" y="7813"/>
                </a:cubicBezTo>
                <a:cubicBezTo>
                  <a:pt x="14848" y="7841"/>
                  <a:pt x="14835" y="7919"/>
                  <a:pt x="14833" y="7962"/>
                </a:cubicBezTo>
                <a:cubicBezTo>
                  <a:pt x="14829" y="8045"/>
                  <a:pt x="14848" y="8110"/>
                  <a:pt x="14858" y="8186"/>
                </a:cubicBezTo>
                <a:cubicBezTo>
                  <a:pt x="14870" y="8282"/>
                  <a:pt x="14839" y="8376"/>
                  <a:pt x="14883" y="8458"/>
                </a:cubicBezTo>
                <a:cubicBezTo>
                  <a:pt x="14903" y="8495"/>
                  <a:pt x="14922" y="8523"/>
                  <a:pt x="14957" y="8558"/>
                </a:cubicBezTo>
                <a:cubicBezTo>
                  <a:pt x="14976" y="8577"/>
                  <a:pt x="15014" y="8599"/>
                  <a:pt x="15056" y="8607"/>
                </a:cubicBezTo>
                <a:cubicBezTo>
                  <a:pt x="15169" y="8630"/>
                  <a:pt x="15400" y="8627"/>
                  <a:pt x="15503" y="8582"/>
                </a:cubicBezTo>
                <a:cubicBezTo>
                  <a:pt x="15537" y="8567"/>
                  <a:pt x="15561" y="8543"/>
                  <a:pt x="15577" y="8533"/>
                </a:cubicBezTo>
                <a:cubicBezTo>
                  <a:pt x="15594" y="8522"/>
                  <a:pt x="15649" y="8493"/>
                  <a:pt x="15652" y="8483"/>
                </a:cubicBezTo>
                <a:cubicBezTo>
                  <a:pt x="15695" y="8335"/>
                  <a:pt x="15654" y="8073"/>
                  <a:pt x="15627" y="7938"/>
                </a:cubicBezTo>
                <a:cubicBezTo>
                  <a:pt x="15615" y="7877"/>
                  <a:pt x="15599" y="7840"/>
                  <a:pt x="15553" y="7789"/>
                </a:cubicBezTo>
                <a:cubicBezTo>
                  <a:pt x="15539" y="7774"/>
                  <a:pt x="15501" y="7756"/>
                  <a:pt x="15478" y="7739"/>
                </a:cubicBezTo>
                <a:cubicBezTo>
                  <a:pt x="15442" y="7712"/>
                  <a:pt x="15408" y="7695"/>
                  <a:pt x="15379" y="7689"/>
                </a:cubicBezTo>
                <a:cubicBezTo>
                  <a:pt x="15279" y="7669"/>
                  <a:pt x="15141" y="7702"/>
                  <a:pt x="15081" y="7714"/>
                </a:cubicBezTo>
                <a:cubicBezTo>
                  <a:pt x="15022" y="7726"/>
                  <a:pt x="15020" y="7725"/>
                  <a:pt x="15032" y="7689"/>
                </a:cubicBezTo>
              </a:path>
              <a:path w="1539" h="919">
                <a:moveTo>
                  <a:pt x="15429" y="7714"/>
                </a:moveTo>
                <a:cubicBezTo>
                  <a:pt x="15477" y="7744"/>
                  <a:pt x="15508" y="7744"/>
                  <a:pt x="15553" y="7789"/>
                </a:cubicBezTo>
                <a:cubicBezTo>
                  <a:pt x="15592" y="7828"/>
                  <a:pt x="15613" y="7866"/>
                  <a:pt x="15627" y="7913"/>
                </a:cubicBezTo>
                <a:cubicBezTo>
                  <a:pt x="15639" y="7952"/>
                  <a:pt x="15667" y="7972"/>
                  <a:pt x="15677" y="8012"/>
                </a:cubicBezTo>
                <a:cubicBezTo>
                  <a:pt x="15737" y="8012"/>
                  <a:pt x="15724" y="8001"/>
                  <a:pt x="15751" y="7962"/>
                </a:cubicBezTo>
                <a:cubicBezTo>
                  <a:pt x="15773" y="7929"/>
                  <a:pt x="15824" y="7890"/>
                  <a:pt x="15850" y="7863"/>
                </a:cubicBezTo>
              </a:path>
              <a:path w="1539" h="919">
                <a:moveTo>
                  <a:pt x="16024" y="7813"/>
                </a:moveTo>
                <a:cubicBezTo>
                  <a:pt x="16035" y="7858"/>
                  <a:pt x="16053" y="7877"/>
                  <a:pt x="16098" y="7888"/>
                </a:cubicBezTo>
                <a:cubicBezTo>
                  <a:pt x="16108" y="7928"/>
                  <a:pt x="16136" y="7950"/>
                  <a:pt x="16148" y="7987"/>
                </a:cubicBezTo>
                <a:cubicBezTo>
                  <a:pt x="16181" y="8086"/>
                  <a:pt x="16148" y="8254"/>
                  <a:pt x="16148" y="8359"/>
                </a:cubicBezTo>
                <a:cubicBezTo>
                  <a:pt x="16183" y="8332"/>
                  <a:pt x="16186" y="8342"/>
                  <a:pt x="16197" y="8310"/>
                </a:cubicBezTo>
                <a:cubicBezTo>
                  <a:pt x="16260" y="8310"/>
                  <a:pt x="16344" y="8325"/>
                  <a:pt x="16371" y="8285"/>
                </a:cubicBezTo>
              </a:path>
            </a:pathLst>
          </a:custGeom>
          <a:noFill/>
          <a:ln cap="rnd" w="349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3492360" y="4437000"/>
            <a:ext cx="303480" cy="295200"/>
          </a:xfrm>
          <a:custGeom>
            <a:avLst/>
            <a:gdLst/>
            <a:ahLst/>
            <a:rect l="l" t="t" r="r" b="b"/>
            <a:pathLst>
              <a:path w="845" h="820">
                <a:moveTo>
                  <a:pt x="10120" y="7838"/>
                </a:moveTo>
                <a:cubicBezTo>
                  <a:pt x="10120" y="7915"/>
                  <a:pt x="10128" y="7965"/>
                  <a:pt x="10145" y="8037"/>
                </a:cubicBezTo>
                <a:cubicBezTo>
                  <a:pt x="10188" y="8221"/>
                  <a:pt x="10145" y="8465"/>
                  <a:pt x="10145" y="8657"/>
                </a:cubicBezTo>
              </a:path>
              <a:path w="845" h="820">
                <a:moveTo>
                  <a:pt x="9748" y="8186"/>
                </a:moveTo>
                <a:cubicBezTo>
                  <a:pt x="10029" y="8186"/>
                  <a:pt x="10311" y="8186"/>
                  <a:pt x="10592" y="8186"/>
                </a:cubicBezTo>
              </a:path>
            </a:pathLst>
          </a:custGeom>
          <a:noFill/>
          <a:ln cap="rnd"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5364000" y="4437000"/>
            <a:ext cx="312840" cy="349200"/>
          </a:xfrm>
          <a:custGeom>
            <a:avLst/>
            <a:gdLst/>
            <a:ahLst/>
            <a:rect l="l" t="t" r="r" b="b"/>
            <a:pathLst>
              <a:path w="869" h="968">
                <a:moveTo>
                  <a:pt x="15354" y="7739"/>
                </a:moveTo>
                <a:cubicBezTo>
                  <a:pt x="15354" y="8069"/>
                  <a:pt x="15354" y="9012"/>
                  <a:pt x="15354" y="8682"/>
                </a:cubicBezTo>
              </a:path>
              <a:path w="869" h="968">
                <a:moveTo>
                  <a:pt x="14908" y="8186"/>
                </a:moveTo>
                <a:cubicBezTo>
                  <a:pt x="15197" y="8186"/>
                  <a:pt x="15487" y="8186"/>
                  <a:pt x="15776" y="8186"/>
                </a:cubicBezTo>
              </a:path>
              <a:path w="869" h="968">
                <a:moveTo>
                  <a:pt x="15230" y="8582"/>
                </a:moveTo>
                <a:cubicBezTo>
                  <a:pt x="15230" y="8557"/>
                  <a:pt x="15230" y="8533"/>
                  <a:pt x="15230" y="8508"/>
                </a:cubicBezTo>
                <a:cubicBezTo>
                  <a:pt x="15268" y="8495"/>
                  <a:pt x="15255" y="8479"/>
                  <a:pt x="15255" y="8434"/>
                </a:cubicBezTo>
                <a:cubicBezTo>
                  <a:pt x="15255" y="8366"/>
                  <a:pt x="15263" y="8318"/>
                  <a:pt x="15280" y="8260"/>
                </a:cubicBezTo>
                <a:cubicBezTo>
                  <a:pt x="15292" y="8221"/>
                  <a:pt x="15280" y="8151"/>
                  <a:pt x="15280" y="8111"/>
                </a:cubicBezTo>
              </a:path>
              <a:path w="869" h="968">
                <a:moveTo>
                  <a:pt x="15453" y="8186"/>
                </a:moveTo>
                <a:cubicBezTo>
                  <a:pt x="15510" y="8154"/>
                  <a:pt x="15516" y="8145"/>
                  <a:pt x="15577" y="8136"/>
                </a:cubicBezTo>
                <a:cubicBezTo>
                  <a:pt x="15594" y="8068"/>
                  <a:pt x="15627" y="8116"/>
                  <a:pt x="15652" y="8086"/>
                </a:cubicBezTo>
                <a:cubicBezTo>
                  <a:pt x="15652" y="8078"/>
                  <a:pt x="15652" y="8070"/>
                  <a:pt x="15652" y="8062"/>
                </a:cubicBezTo>
              </a:path>
              <a:path w="869" h="968">
                <a:moveTo>
                  <a:pt x="15205" y="7838"/>
                </a:moveTo>
                <a:cubicBezTo>
                  <a:pt x="15253" y="7886"/>
                  <a:pt x="15255" y="7893"/>
                  <a:pt x="15255" y="7962"/>
                </a:cubicBezTo>
                <a:cubicBezTo>
                  <a:pt x="15255" y="7987"/>
                  <a:pt x="15255" y="7995"/>
                  <a:pt x="15255" y="8012"/>
                </a:cubicBezTo>
              </a:path>
            </a:pathLst>
          </a:custGeom>
          <a:noFill/>
          <a:ln cap="rnd"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4027320" y="3174840"/>
            <a:ext cx="44640" cy="4608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11187" y="5135"/>
                </a:moveTo>
                <a:cubicBezTo>
                  <a:pt x="11187" y="5110"/>
                  <a:pt x="11187" y="5102"/>
                  <a:pt x="11187" y="5085"/>
                </a:cubicBezTo>
              </a:path>
              <a:path w="125" h="125">
                <a:moveTo>
                  <a:pt x="11286" y="5011"/>
                </a:moveTo>
                <a:cubicBezTo>
                  <a:pt x="11294" y="5011"/>
                  <a:pt x="11303" y="5011"/>
                  <a:pt x="11311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4759200" y="3192480"/>
            <a:ext cx="19080" cy="9360"/>
          </a:xfrm>
          <a:custGeom>
            <a:avLst/>
            <a:gdLst/>
            <a:ahLst/>
            <a:rect l="l" t="t" r="r" b="b"/>
            <a:pathLst>
              <a:path w="51" h="26">
                <a:moveTo>
                  <a:pt x="13221" y="5060"/>
                </a:moveTo>
                <a:cubicBezTo>
                  <a:pt x="13221" y="5093"/>
                  <a:pt x="13229" y="5102"/>
                  <a:pt x="13271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4902120" y="3211560"/>
            <a:ext cx="142920" cy="61920"/>
          </a:xfrm>
          <a:custGeom>
            <a:avLst/>
            <a:gdLst/>
            <a:ahLst/>
            <a:rect l="l" t="t" r="r" b="b"/>
            <a:pathLst>
              <a:path w="398" h="174">
                <a:moveTo>
                  <a:pt x="13618" y="5283"/>
                </a:moveTo>
                <a:cubicBezTo>
                  <a:pt x="13634" y="5283"/>
                  <a:pt x="13651" y="5283"/>
                  <a:pt x="13667" y="5283"/>
                </a:cubicBezTo>
              </a:path>
              <a:path w="398" h="174">
                <a:moveTo>
                  <a:pt x="13816" y="5283"/>
                </a:moveTo>
                <a:cubicBezTo>
                  <a:pt x="13841" y="5283"/>
                  <a:pt x="13849" y="5283"/>
                  <a:pt x="13841" y="5259"/>
                </a:cubicBezTo>
              </a:path>
              <a:path w="398" h="174">
                <a:moveTo>
                  <a:pt x="14015" y="5110"/>
                </a:moveTo>
                <a:lnTo>
                  <a:pt x="14015" y="511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5133960" y="3201840"/>
            <a:ext cx="27000" cy="19080"/>
          </a:xfrm>
          <a:custGeom>
            <a:avLst/>
            <a:gdLst/>
            <a:ahLst/>
            <a:rect l="l" t="t" r="r" b="b"/>
            <a:pathLst>
              <a:path w="75" h="51">
                <a:moveTo>
                  <a:pt x="14263" y="5135"/>
                </a:moveTo>
                <a:lnTo>
                  <a:pt x="14263" y="5135"/>
                </a:lnTo>
              </a:path>
              <a:path w="75" h="51">
                <a:moveTo>
                  <a:pt x="14288" y="5135"/>
                </a:moveTo>
                <a:cubicBezTo>
                  <a:pt x="14318" y="5135"/>
                  <a:pt x="14316" y="5113"/>
                  <a:pt x="14337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5072040" y="3122640"/>
            <a:ext cx="81000" cy="61920"/>
          </a:xfrm>
          <a:custGeom>
            <a:avLst/>
            <a:gdLst/>
            <a:ahLst/>
            <a:rect l="l" t="t" r="r" b="b"/>
            <a:pathLst>
              <a:path w="224" h="174">
                <a:moveTo>
                  <a:pt x="14288" y="4961"/>
                </a:moveTo>
                <a:lnTo>
                  <a:pt x="14288" y="4961"/>
                </a:lnTo>
              </a:path>
              <a:path w="224" h="174">
                <a:moveTo>
                  <a:pt x="14163" y="4936"/>
                </a:moveTo>
                <a:cubicBezTo>
                  <a:pt x="14163" y="4961"/>
                  <a:pt x="14163" y="4969"/>
                  <a:pt x="14163" y="4986"/>
                </a:cubicBezTo>
              </a:path>
              <a:path w="224" h="174">
                <a:moveTo>
                  <a:pt x="14089" y="5035"/>
                </a:moveTo>
                <a:cubicBezTo>
                  <a:pt x="14097" y="5035"/>
                  <a:pt x="14106" y="5035"/>
                  <a:pt x="14114" y="5035"/>
                </a:cubicBezTo>
              </a:path>
              <a:path w="224" h="174">
                <a:moveTo>
                  <a:pt x="14163" y="5035"/>
                </a:moveTo>
                <a:cubicBezTo>
                  <a:pt x="14163" y="4977"/>
                  <a:pt x="14150" y="4997"/>
                  <a:pt x="14213" y="4986"/>
                </a:cubicBezTo>
              </a:path>
              <a:path w="224" h="174">
                <a:moveTo>
                  <a:pt x="14288" y="4887"/>
                </a:moveTo>
                <a:cubicBezTo>
                  <a:pt x="14288" y="4862"/>
                  <a:pt x="14288" y="4854"/>
                  <a:pt x="14312" y="4862"/>
                </a:cubicBezTo>
              </a:path>
            </a:pathLst>
          </a:custGeom>
          <a:noFill/>
          <a:ln cap="rnd" w="1908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5268960" y="3014640"/>
            <a:ext cx="81000" cy="19080"/>
          </a:xfrm>
          <a:custGeom>
            <a:avLst/>
            <a:gdLst/>
            <a:ahLst/>
            <a:rect l="l" t="t" r="r" b="b"/>
            <a:pathLst>
              <a:path w="224" h="51">
                <a:moveTo>
                  <a:pt x="14635" y="4614"/>
                </a:moveTo>
                <a:cubicBezTo>
                  <a:pt x="14651" y="4614"/>
                  <a:pt x="14668" y="4614"/>
                  <a:pt x="14684" y="4614"/>
                </a:cubicBezTo>
              </a:path>
              <a:path w="224" h="51">
                <a:moveTo>
                  <a:pt x="14833" y="4564"/>
                </a:moveTo>
                <a:cubicBezTo>
                  <a:pt x="14841" y="4564"/>
                  <a:pt x="14850" y="4564"/>
                  <a:pt x="14858" y="45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6161040" y="4818240"/>
            <a:ext cx="9720" cy="9360"/>
          </a:xfrm>
          <a:custGeom>
            <a:avLst/>
            <a:gdLst/>
            <a:ahLst/>
            <a:rect l="l" t="t" r="r" b="b"/>
            <a:pathLst>
              <a:path w="26" h="25">
                <a:moveTo>
                  <a:pt x="17115" y="9575"/>
                </a:moveTo>
                <a:cubicBezTo>
                  <a:pt x="17115" y="9609"/>
                  <a:pt x="17107" y="9586"/>
                  <a:pt x="17140" y="9575"/>
                </a:cubicBezTo>
              </a:path>
            </a:pathLst>
          </a:custGeom>
          <a:noFill/>
          <a:ln cap="rnd" w="190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6137280" y="4202280"/>
            <a:ext cx="19080" cy="98280"/>
          </a:xfrm>
          <a:custGeom>
            <a:avLst/>
            <a:gdLst/>
            <a:ahLst/>
            <a:rect l="l" t="t" r="r" b="b"/>
            <a:pathLst>
              <a:path w="50" h="274">
                <a:moveTo>
                  <a:pt x="17338" y="8136"/>
                </a:moveTo>
                <a:lnTo>
                  <a:pt x="17338" y="8136"/>
                </a:lnTo>
              </a:path>
              <a:path w="50" h="274">
                <a:moveTo>
                  <a:pt x="17314" y="8062"/>
                </a:moveTo>
                <a:cubicBezTo>
                  <a:pt x="17314" y="8034"/>
                  <a:pt x="17316" y="8023"/>
                  <a:pt x="17338" y="8012"/>
                </a:cubicBezTo>
              </a:path>
              <a:path w="50" h="274">
                <a:moveTo>
                  <a:pt x="17363" y="7888"/>
                </a:moveTo>
                <a:cubicBezTo>
                  <a:pt x="17363" y="7880"/>
                  <a:pt x="17363" y="7871"/>
                  <a:pt x="17363" y="7863"/>
                </a:cubicBezTo>
              </a:path>
            </a:pathLst>
          </a:custGeom>
          <a:noFill/>
          <a:ln cap="rnd" w="190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4768920" y="4406760"/>
            <a:ext cx="9360" cy="1800"/>
          </a:xfrm>
          <a:custGeom>
            <a:avLst/>
            <a:gdLst/>
            <a:ahLst/>
            <a:rect l="l" t="t" r="r" b="b"/>
            <a:pathLst>
              <a:path w="26" h="1">
                <a:moveTo>
                  <a:pt x="13271" y="8235"/>
                </a:moveTo>
                <a:cubicBezTo>
                  <a:pt x="13263" y="8235"/>
                  <a:pt x="13254" y="8235"/>
                  <a:pt x="13246" y="8235"/>
                </a:cubicBezTo>
              </a:path>
            </a:pathLst>
          </a:custGeom>
          <a:noFill/>
          <a:ln cap="rnd" w="190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4991040" y="44067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3866" y="8235"/>
                </a:moveTo>
                <a:lnTo>
                  <a:pt x="13866" y="8235"/>
                </a:lnTo>
              </a:path>
            </a:pathLst>
          </a:custGeom>
          <a:noFill/>
          <a:ln cap="rnd" w="190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5081760" y="4309920"/>
            <a:ext cx="9360" cy="34920"/>
          </a:xfrm>
          <a:custGeom>
            <a:avLst/>
            <a:gdLst/>
            <a:ahLst/>
            <a:rect l="l" t="t" r="r" b="b"/>
            <a:pathLst>
              <a:path w="26" h="100">
                <a:moveTo>
                  <a:pt x="14139" y="8186"/>
                </a:moveTo>
                <a:cubicBezTo>
                  <a:pt x="14139" y="8178"/>
                  <a:pt x="14139" y="8169"/>
                  <a:pt x="14139" y="8161"/>
                </a:cubicBezTo>
              </a:path>
              <a:path w="26" h="100">
                <a:moveTo>
                  <a:pt x="14114" y="8260"/>
                </a:moveTo>
                <a:lnTo>
                  <a:pt x="14114" y="8260"/>
                </a:lnTo>
              </a:path>
            </a:pathLst>
          </a:custGeom>
          <a:noFill/>
          <a:ln cap="rnd" w="190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3321000" y="4844880"/>
            <a:ext cx="243000" cy="46080"/>
          </a:xfrm>
          <a:custGeom>
            <a:avLst/>
            <a:gdLst/>
            <a:ahLst/>
            <a:rect l="l" t="t" r="r" b="b"/>
            <a:pathLst>
              <a:path w="671" h="125">
                <a:moveTo>
                  <a:pt x="9748" y="8434"/>
                </a:moveTo>
                <a:cubicBezTo>
                  <a:pt x="9770" y="8398"/>
                  <a:pt x="9825" y="8350"/>
                  <a:pt x="9872" y="8334"/>
                </a:cubicBezTo>
                <a:cubicBezTo>
                  <a:pt x="9880" y="8334"/>
                  <a:pt x="9889" y="8334"/>
                  <a:pt x="9897" y="8334"/>
                </a:cubicBezTo>
                <a:cubicBezTo>
                  <a:pt x="9815" y="8334"/>
                  <a:pt x="9754" y="8355"/>
                  <a:pt x="9674" y="8359"/>
                </a:cubicBezTo>
                <a:cubicBezTo>
                  <a:pt x="9568" y="8364"/>
                  <a:pt x="9647" y="8334"/>
                  <a:pt x="9699" y="8334"/>
                </a:cubicBezTo>
                <a:cubicBezTo>
                  <a:pt x="9763" y="8334"/>
                  <a:pt x="9593" y="8334"/>
                  <a:pt x="9575" y="8334"/>
                </a:cubicBezTo>
                <a:cubicBezTo>
                  <a:pt x="9528" y="8334"/>
                  <a:pt x="9245" y="8363"/>
                  <a:pt x="9227" y="8310"/>
                </a:cubicBezTo>
              </a:path>
            </a:pathLst>
          </a:custGeom>
          <a:noFill/>
          <a:ln cap="rnd" w="190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5911920" y="4653000"/>
            <a:ext cx="81000" cy="17280"/>
          </a:xfrm>
          <a:custGeom>
            <a:avLst/>
            <a:gdLst/>
            <a:ahLst/>
            <a:rect l="l" t="t" r="r" b="b"/>
            <a:pathLst>
              <a:path w="225" h="51">
                <a:moveTo>
                  <a:pt x="16222" y="8062"/>
                </a:moveTo>
                <a:cubicBezTo>
                  <a:pt x="16287" y="8062"/>
                  <a:pt x="16333" y="8041"/>
                  <a:pt x="16396" y="8037"/>
                </a:cubicBezTo>
                <a:cubicBezTo>
                  <a:pt x="16438" y="8037"/>
                  <a:pt x="16454" y="8045"/>
                  <a:pt x="16446" y="8012"/>
                </a:cubicBezTo>
              </a:path>
            </a:pathLst>
          </a:custGeom>
          <a:noFill/>
          <a:ln cap="rnd" w="190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5303880" y="6462720"/>
            <a:ext cx="546120" cy="63360"/>
          </a:xfrm>
          <a:custGeom>
            <a:avLst/>
            <a:gdLst/>
            <a:ahLst/>
            <a:rect l="l" t="t" r="r" b="b"/>
            <a:pathLst>
              <a:path w="1514" h="174">
                <a:moveTo>
                  <a:pt x="15379" y="15156"/>
                </a:moveTo>
                <a:cubicBezTo>
                  <a:pt x="15459" y="15156"/>
                  <a:pt x="15725" y="15130"/>
                  <a:pt x="15701" y="15180"/>
                </a:cubicBezTo>
                <a:cubicBezTo>
                  <a:pt x="15682" y="15219"/>
                  <a:pt x="15602" y="15199"/>
                  <a:pt x="15652" y="15205"/>
                </a:cubicBezTo>
                <a:cubicBezTo>
                  <a:pt x="15674" y="15208"/>
                  <a:pt x="15793" y="15205"/>
                  <a:pt x="15677" y="15205"/>
                </a:cubicBezTo>
                <a:cubicBezTo>
                  <a:pt x="15635" y="15205"/>
                  <a:pt x="15627" y="15205"/>
                  <a:pt x="15602" y="15205"/>
                </a:cubicBezTo>
                <a:cubicBezTo>
                  <a:pt x="15519" y="15205"/>
                  <a:pt x="15413" y="15205"/>
                  <a:pt x="15577" y="15205"/>
                </a:cubicBezTo>
                <a:cubicBezTo>
                  <a:pt x="15608" y="15205"/>
                  <a:pt x="15831" y="15205"/>
                  <a:pt x="15701" y="15205"/>
                </a:cubicBezTo>
                <a:cubicBezTo>
                  <a:pt x="15536" y="15205"/>
                  <a:pt x="15090" y="15205"/>
                  <a:pt x="15255" y="15205"/>
                </a:cubicBezTo>
                <a:cubicBezTo>
                  <a:pt x="15280" y="15205"/>
                  <a:pt x="15304" y="15205"/>
                  <a:pt x="15329" y="15205"/>
                </a:cubicBezTo>
                <a:cubicBezTo>
                  <a:pt x="15372" y="15205"/>
                  <a:pt x="15649" y="15205"/>
                  <a:pt x="15528" y="15205"/>
                </a:cubicBezTo>
                <a:cubicBezTo>
                  <a:pt x="15404" y="15205"/>
                  <a:pt x="14984" y="15205"/>
                  <a:pt x="15032" y="15205"/>
                </a:cubicBezTo>
                <a:cubicBezTo>
                  <a:pt x="15098" y="15205"/>
                  <a:pt x="15197" y="15205"/>
                  <a:pt x="15131" y="15205"/>
                </a:cubicBezTo>
                <a:cubicBezTo>
                  <a:pt x="15007" y="15205"/>
                  <a:pt x="14883" y="15205"/>
                  <a:pt x="14759" y="15205"/>
                </a:cubicBezTo>
                <a:cubicBezTo>
                  <a:pt x="14817" y="15205"/>
                  <a:pt x="14825" y="15205"/>
                  <a:pt x="14883" y="15205"/>
                </a:cubicBezTo>
                <a:cubicBezTo>
                  <a:pt x="14885" y="15205"/>
                  <a:pt x="15081" y="15205"/>
                  <a:pt x="15007" y="15205"/>
                </a:cubicBezTo>
                <a:cubicBezTo>
                  <a:pt x="14896" y="15205"/>
                  <a:pt x="15044" y="15205"/>
                  <a:pt x="15081" y="15205"/>
                </a:cubicBezTo>
                <a:cubicBezTo>
                  <a:pt x="15263" y="15205"/>
                  <a:pt x="15425" y="15254"/>
                  <a:pt x="15602" y="15280"/>
                </a:cubicBezTo>
                <a:cubicBezTo>
                  <a:pt x="15726" y="15298"/>
                  <a:pt x="15558" y="15280"/>
                  <a:pt x="15528" y="15280"/>
                </a:cubicBezTo>
                <a:cubicBezTo>
                  <a:pt x="15486" y="15280"/>
                  <a:pt x="15478" y="15280"/>
                  <a:pt x="15453" y="15280"/>
                </a:cubicBezTo>
                <a:cubicBezTo>
                  <a:pt x="15551" y="15312"/>
                  <a:pt x="15646" y="15304"/>
                  <a:pt x="15751" y="15304"/>
                </a:cubicBezTo>
                <a:cubicBezTo>
                  <a:pt x="15859" y="15304"/>
                  <a:pt x="16262" y="15304"/>
                  <a:pt x="16197" y="15304"/>
                </a:cubicBezTo>
                <a:cubicBezTo>
                  <a:pt x="16181" y="15304"/>
                  <a:pt x="16164" y="15304"/>
                  <a:pt x="16148" y="15304"/>
                </a:cubicBezTo>
                <a:cubicBezTo>
                  <a:pt x="16028" y="15304"/>
                  <a:pt x="15918" y="15291"/>
                  <a:pt x="15801" y="15280"/>
                </a:cubicBezTo>
                <a:cubicBezTo>
                  <a:pt x="15769" y="15277"/>
                  <a:pt x="15480" y="15273"/>
                  <a:pt x="15503" y="15255"/>
                </a:cubicBezTo>
                <a:cubicBezTo>
                  <a:pt x="15550" y="15217"/>
                  <a:pt x="15737" y="15230"/>
                  <a:pt x="15677" y="15230"/>
                </a:cubicBezTo>
                <a:cubicBezTo>
                  <a:pt x="15603" y="15230"/>
                  <a:pt x="15552" y="15212"/>
                  <a:pt x="15478" y="15205"/>
                </a:cubicBezTo>
                <a:cubicBezTo>
                  <a:pt x="15576" y="15172"/>
                  <a:pt x="15670" y="15180"/>
                  <a:pt x="15776" y="15180"/>
                </a:cubicBezTo>
                <a:cubicBezTo>
                  <a:pt x="15971" y="15180"/>
                  <a:pt x="15742" y="15180"/>
                  <a:pt x="15726" y="15180"/>
                </a:cubicBezTo>
                <a:cubicBezTo>
                  <a:pt x="15617" y="15180"/>
                  <a:pt x="15602" y="15203"/>
                  <a:pt x="15503" y="15156"/>
                </a:cubicBezTo>
                <a:cubicBezTo>
                  <a:pt x="15399" y="15106"/>
                  <a:pt x="15130" y="15151"/>
                  <a:pt x="15007" y="15131"/>
                </a:cubicBezTo>
                <a:cubicBezTo>
                  <a:pt x="14937" y="15120"/>
                  <a:pt x="14855" y="15131"/>
                  <a:pt x="14784" y="15131"/>
                </a:cubicBezTo>
                <a:cubicBezTo>
                  <a:pt x="14652" y="15164"/>
                  <a:pt x="14899" y="15148"/>
                  <a:pt x="14932" y="15156"/>
                </a:cubicBezTo>
                <a:cubicBezTo>
                  <a:pt x="15093" y="15194"/>
                  <a:pt x="15213" y="15230"/>
                  <a:pt x="15379" y="15230"/>
                </a:cubicBezTo>
                <a:cubicBezTo>
                  <a:pt x="15449" y="15230"/>
                  <a:pt x="15296" y="15230"/>
                  <a:pt x="15280" y="15230"/>
                </a:cubicBezTo>
                <a:cubicBezTo>
                  <a:pt x="15195" y="15230"/>
                  <a:pt x="15195" y="15230"/>
                  <a:pt x="15280" y="15230"/>
                </a:cubicBezTo>
                <a:cubicBezTo>
                  <a:pt x="15286" y="15230"/>
                  <a:pt x="15393" y="15217"/>
                  <a:pt x="15354" y="15205"/>
                </a:cubicBezTo>
                <a:cubicBezTo>
                  <a:pt x="15324" y="15196"/>
                  <a:pt x="15286" y="15208"/>
                  <a:pt x="15255" y="15205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3348000" y="6462720"/>
            <a:ext cx="642960" cy="63360"/>
          </a:xfrm>
          <a:custGeom>
            <a:avLst/>
            <a:gdLst/>
            <a:ahLst/>
            <a:rect l="l" t="t" r="r" b="b"/>
            <a:pathLst>
              <a:path w="1787" h="174">
                <a:moveTo>
                  <a:pt x="10096" y="15255"/>
                </a:moveTo>
                <a:cubicBezTo>
                  <a:pt x="10179" y="15255"/>
                  <a:pt x="10261" y="15255"/>
                  <a:pt x="10344" y="15255"/>
                </a:cubicBezTo>
                <a:cubicBezTo>
                  <a:pt x="10508" y="15255"/>
                  <a:pt x="10402" y="15255"/>
                  <a:pt x="10319" y="15255"/>
                </a:cubicBezTo>
                <a:cubicBezTo>
                  <a:pt x="10269" y="15255"/>
                  <a:pt x="10114" y="15291"/>
                  <a:pt x="10220" y="15230"/>
                </a:cubicBezTo>
                <a:cubicBezTo>
                  <a:pt x="10238" y="15220"/>
                  <a:pt x="10364" y="15188"/>
                  <a:pt x="10368" y="15180"/>
                </a:cubicBezTo>
                <a:cubicBezTo>
                  <a:pt x="10443" y="15033"/>
                  <a:pt x="10037" y="15180"/>
                  <a:pt x="9872" y="15180"/>
                </a:cubicBezTo>
                <a:cubicBezTo>
                  <a:pt x="9925" y="15167"/>
                  <a:pt x="10056" y="15156"/>
                  <a:pt x="10145" y="15156"/>
                </a:cubicBezTo>
                <a:cubicBezTo>
                  <a:pt x="10178" y="15156"/>
                  <a:pt x="10211" y="15156"/>
                  <a:pt x="10244" y="15156"/>
                </a:cubicBezTo>
                <a:cubicBezTo>
                  <a:pt x="10409" y="15156"/>
                  <a:pt x="10303" y="15156"/>
                  <a:pt x="10220" y="15156"/>
                </a:cubicBezTo>
                <a:cubicBezTo>
                  <a:pt x="10166" y="15156"/>
                  <a:pt x="9828" y="15156"/>
                  <a:pt x="9947" y="15156"/>
                </a:cubicBezTo>
                <a:cubicBezTo>
                  <a:pt x="10042" y="15156"/>
                  <a:pt x="10127" y="15140"/>
                  <a:pt x="10220" y="15131"/>
                </a:cubicBezTo>
                <a:cubicBezTo>
                  <a:pt x="9963" y="15131"/>
                  <a:pt x="9293" y="15131"/>
                  <a:pt x="9550" y="15131"/>
                </a:cubicBezTo>
                <a:cubicBezTo>
                  <a:pt x="9575" y="15131"/>
                  <a:pt x="9835" y="15131"/>
                  <a:pt x="9699" y="15131"/>
                </a:cubicBezTo>
                <a:cubicBezTo>
                  <a:pt x="9575" y="15131"/>
                  <a:pt x="9451" y="15131"/>
                  <a:pt x="9327" y="15131"/>
                </a:cubicBezTo>
                <a:cubicBezTo>
                  <a:pt x="9185" y="15131"/>
                  <a:pt x="9317" y="15131"/>
                  <a:pt x="9376" y="15131"/>
                </a:cubicBezTo>
                <a:cubicBezTo>
                  <a:pt x="9492" y="15131"/>
                  <a:pt x="9607" y="15131"/>
                  <a:pt x="9723" y="15131"/>
                </a:cubicBezTo>
                <a:cubicBezTo>
                  <a:pt x="9671" y="15183"/>
                  <a:pt x="9649" y="15174"/>
                  <a:pt x="9599" y="15230"/>
                </a:cubicBezTo>
                <a:cubicBezTo>
                  <a:pt x="9556" y="15278"/>
                  <a:pt x="9532" y="15255"/>
                  <a:pt x="9649" y="15255"/>
                </a:cubicBezTo>
                <a:cubicBezTo>
                  <a:pt x="9792" y="15255"/>
                  <a:pt x="9944" y="15262"/>
                  <a:pt x="10071" y="15230"/>
                </a:cubicBezTo>
                <a:cubicBezTo>
                  <a:pt x="10079" y="15230"/>
                  <a:pt x="10088" y="15230"/>
                  <a:pt x="10096" y="15230"/>
                </a:cubicBezTo>
                <a:cubicBezTo>
                  <a:pt x="10065" y="15230"/>
                  <a:pt x="9871" y="15230"/>
                  <a:pt x="9922" y="15230"/>
                </a:cubicBezTo>
                <a:cubicBezTo>
                  <a:pt x="10085" y="15230"/>
                  <a:pt x="10245" y="15180"/>
                  <a:pt x="10418" y="15180"/>
                </a:cubicBezTo>
                <a:cubicBezTo>
                  <a:pt x="10468" y="15180"/>
                  <a:pt x="10517" y="15180"/>
                  <a:pt x="10567" y="15180"/>
                </a:cubicBezTo>
                <a:cubicBezTo>
                  <a:pt x="10498" y="15186"/>
                  <a:pt x="10436" y="15201"/>
                  <a:pt x="10368" y="15205"/>
                </a:cubicBezTo>
                <a:cubicBezTo>
                  <a:pt x="10275" y="15210"/>
                  <a:pt x="10234" y="15223"/>
                  <a:pt x="10368" y="15230"/>
                </a:cubicBezTo>
                <a:cubicBezTo>
                  <a:pt x="10508" y="15238"/>
                  <a:pt x="10650" y="15230"/>
                  <a:pt x="10790" y="15230"/>
                </a:cubicBezTo>
                <a:cubicBezTo>
                  <a:pt x="10930" y="15230"/>
                  <a:pt x="10641" y="15230"/>
                  <a:pt x="10616" y="15230"/>
                </a:cubicBezTo>
                <a:cubicBezTo>
                  <a:pt x="10533" y="15230"/>
                  <a:pt x="10499" y="15228"/>
                  <a:pt x="10443" y="15205"/>
                </a:cubicBezTo>
                <a:cubicBezTo>
                  <a:pt x="10308" y="15205"/>
                  <a:pt x="10567" y="15205"/>
                  <a:pt x="10592" y="15205"/>
                </a:cubicBezTo>
                <a:cubicBezTo>
                  <a:pt x="10655" y="15205"/>
                  <a:pt x="11032" y="15177"/>
                  <a:pt x="10914" y="15230"/>
                </a:cubicBezTo>
                <a:cubicBezTo>
                  <a:pt x="10825" y="15270"/>
                  <a:pt x="10735" y="15296"/>
                  <a:pt x="10641" y="15304"/>
                </a:cubicBezTo>
                <a:cubicBezTo>
                  <a:pt x="10519" y="15304"/>
                  <a:pt x="10708" y="15285"/>
                  <a:pt x="10740" y="15280"/>
                </a:cubicBezTo>
                <a:cubicBezTo>
                  <a:pt x="10834" y="15266"/>
                  <a:pt x="10943" y="15280"/>
                  <a:pt x="11038" y="15280"/>
                </a:cubicBezTo>
                <a:cubicBezTo>
                  <a:pt x="10641" y="15280"/>
                  <a:pt x="10244" y="15280"/>
                  <a:pt x="9847" y="15280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3708360" y="5808600"/>
            <a:ext cx="231840" cy="19080"/>
          </a:xfrm>
          <a:custGeom>
            <a:avLst/>
            <a:gdLst/>
            <a:ahLst/>
            <a:rect l="l" t="t" r="r" b="b"/>
            <a:pathLst>
              <a:path w="646" h="51">
                <a:moveTo>
                  <a:pt x="10517" y="11683"/>
                </a:moveTo>
                <a:cubicBezTo>
                  <a:pt x="10612" y="11692"/>
                  <a:pt x="10691" y="11708"/>
                  <a:pt x="10790" y="11708"/>
                </a:cubicBezTo>
                <a:cubicBezTo>
                  <a:pt x="10914" y="11708"/>
                  <a:pt x="11038" y="11708"/>
                  <a:pt x="11162" y="11708"/>
                </a:cubicBezTo>
                <a:cubicBezTo>
                  <a:pt x="11118" y="11734"/>
                  <a:pt x="11091" y="11733"/>
                  <a:pt x="11038" y="11733"/>
                </a:cubicBezTo>
                <a:cubicBezTo>
                  <a:pt x="11013" y="11733"/>
                  <a:pt x="11005" y="11733"/>
                  <a:pt x="11013" y="11708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3780000" y="5923080"/>
            <a:ext cx="98280" cy="27000"/>
          </a:xfrm>
          <a:custGeom>
            <a:avLst/>
            <a:gdLst/>
            <a:ahLst/>
            <a:rect l="l" t="t" r="r" b="b"/>
            <a:pathLst>
              <a:path w="273" h="75">
                <a:moveTo>
                  <a:pt x="10592" y="11708"/>
                </a:moveTo>
                <a:cubicBezTo>
                  <a:pt x="10683" y="11708"/>
                  <a:pt x="10773" y="11708"/>
                  <a:pt x="10864" y="11708"/>
                </a:cubicBezTo>
                <a:cubicBezTo>
                  <a:pt x="10814" y="11749"/>
                  <a:pt x="10779" y="11778"/>
                  <a:pt x="10716" y="11782"/>
                </a:cubicBezTo>
                <a:cubicBezTo>
                  <a:pt x="10706" y="11783"/>
                  <a:pt x="10552" y="11782"/>
                  <a:pt x="10616" y="11782"/>
                </a:cubicBezTo>
                <a:cubicBezTo>
                  <a:pt x="10680" y="11755"/>
                  <a:pt x="10719" y="11757"/>
                  <a:pt x="10790" y="1175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5688000" y="6524640"/>
            <a:ext cx="169920" cy="1440"/>
          </a:xfrm>
          <a:custGeom>
            <a:avLst/>
            <a:gdLst/>
            <a:ahLst/>
            <a:rect l="l" t="t" r="r" b="b"/>
            <a:pathLst>
              <a:path w="472" h="1">
                <a:moveTo>
                  <a:pt x="15801" y="15205"/>
                </a:moveTo>
                <a:cubicBezTo>
                  <a:pt x="15958" y="15205"/>
                  <a:pt x="16115" y="15205"/>
                  <a:pt x="16272" y="1520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3768840" y="6567480"/>
            <a:ext cx="142920" cy="1440"/>
          </a:xfrm>
          <a:custGeom>
            <a:avLst/>
            <a:gdLst/>
            <a:ahLst/>
            <a:rect l="l" t="t" r="r" b="b"/>
            <a:pathLst>
              <a:path w="397" h="1">
                <a:moveTo>
                  <a:pt x="10468" y="15131"/>
                </a:moveTo>
                <a:cubicBezTo>
                  <a:pt x="10563" y="15131"/>
                  <a:pt x="10939" y="15131"/>
                  <a:pt x="10790" y="15131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4813200" y="78199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3370" y="17512"/>
                </a:moveTo>
                <a:lnTo>
                  <a:pt x="13370" y="17512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5197320" y="6513480"/>
            <a:ext cx="88920" cy="9720"/>
          </a:xfrm>
          <a:custGeom>
            <a:avLst/>
            <a:gdLst/>
            <a:ahLst/>
            <a:rect l="l" t="t" r="r" b="b"/>
            <a:pathLst>
              <a:path w="249" h="26">
                <a:moveTo>
                  <a:pt x="14684" y="15205"/>
                </a:moveTo>
                <a:cubicBezTo>
                  <a:pt x="14646" y="15205"/>
                  <a:pt x="14401" y="15191"/>
                  <a:pt x="14461" y="15180"/>
                </a:cubicBezTo>
                <a:cubicBezTo>
                  <a:pt x="14486" y="15180"/>
                  <a:pt x="14511" y="15180"/>
                  <a:pt x="14536" y="1518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3213000" y="2190600"/>
            <a:ext cx="2984760" cy="874800"/>
          </a:xfrm>
          <a:custGeom>
            <a:avLst/>
            <a:gdLst/>
            <a:ahLst/>
            <a:rect l="l" t="t" r="r" b="b"/>
            <a:pathLst>
              <a:path w="1880" h="551">
                <a:moveTo>
                  <a:pt x="0" y="519"/>
                </a:moveTo>
                <a:cubicBezTo>
                  <a:pt x="13" y="480"/>
                  <a:pt x="54" y="463"/>
                  <a:pt x="96" y="463"/>
                </a:cubicBezTo>
                <a:cubicBezTo>
                  <a:pt x="104" y="463"/>
                  <a:pt x="80" y="468"/>
                  <a:pt x="72" y="471"/>
                </a:cubicBezTo>
                <a:cubicBezTo>
                  <a:pt x="72" y="471"/>
                  <a:pt x="68" y="488"/>
                  <a:pt x="64" y="495"/>
                </a:cubicBezTo>
                <a:cubicBezTo>
                  <a:pt x="35" y="548"/>
                  <a:pt x="47" y="538"/>
                  <a:pt x="8" y="551"/>
                </a:cubicBezTo>
                <a:cubicBezTo>
                  <a:pt x="38" y="461"/>
                  <a:pt x="82" y="445"/>
                  <a:pt x="168" y="431"/>
                </a:cubicBezTo>
                <a:cubicBezTo>
                  <a:pt x="147" y="428"/>
                  <a:pt x="122" y="434"/>
                  <a:pt x="104" y="423"/>
                </a:cubicBezTo>
                <a:cubicBezTo>
                  <a:pt x="96" y="418"/>
                  <a:pt x="119" y="411"/>
                  <a:pt x="128" y="407"/>
                </a:cubicBezTo>
                <a:cubicBezTo>
                  <a:pt x="153" y="395"/>
                  <a:pt x="194" y="394"/>
                  <a:pt x="216" y="391"/>
                </a:cubicBezTo>
                <a:cubicBezTo>
                  <a:pt x="205" y="388"/>
                  <a:pt x="178" y="392"/>
                  <a:pt x="184" y="383"/>
                </a:cubicBezTo>
                <a:cubicBezTo>
                  <a:pt x="193" y="369"/>
                  <a:pt x="215" y="369"/>
                  <a:pt x="232" y="367"/>
                </a:cubicBezTo>
                <a:cubicBezTo>
                  <a:pt x="261" y="364"/>
                  <a:pt x="291" y="362"/>
                  <a:pt x="320" y="359"/>
                </a:cubicBezTo>
                <a:cubicBezTo>
                  <a:pt x="328" y="356"/>
                  <a:pt x="352" y="351"/>
                  <a:pt x="344" y="351"/>
                </a:cubicBezTo>
                <a:cubicBezTo>
                  <a:pt x="330" y="351"/>
                  <a:pt x="317" y="356"/>
                  <a:pt x="304" y="359"/>
                </a:cubicBezTo>
                <a:cubicBezTo>
                  <a:pt x="296" y="361"/>
                  <a:pt x="280" y="375"/>
                  <a:pt x="280" y="367"/>
                </a:cubicBezTo>
                <a:cubicBezTo>
                  <a:pt x="280" y="357"/>
                  <a:pt x="295" y="355"/>
                  <a:pt x="304" y="351"/>
                </a:cubicBezTo>
                <a:cubicBezTo>
                  <a:pt x="336" y="335"/>
                  <a:pt x="374" y="335"/>
                  <a:pt x="408" y="327"/>
                </a:cubicBezTo>
                <a:cubicBezTo>
                  <a:pt x="424" y="323"/>
                  <a:pt x="440" y="316"/>
                  <a:pt x="456" y="311"/>
                </a:cubicBezTo>
                <a:cubicBezTo>
                  <a:pt x="464" y="308"/>
                  <a:pt x="480" y="303"/>
                  <a:pt x="480" y="303"/>
                </a:cubicBezTo>
                <a:cubicBezTo>
                  <a:pt x="517" y="247"/>
                  <a:pt x="496" y="266"/>
                  <a:pt x="536" y="239"/>
                </a:cubicBezTo>
                <a:cubicBezTo>
                  <a:pt x="615" y="120"/>
                  <a:pt x="926" y="153"/>
                  <a:pt x="1000" y="151"/>
                </a:cubicBezTo>
                <a:cubicBezTo>
                  <a:pt x="1058" y="132"/>
                  <a:pt x="1044" y="119"/>
                  <a:pt x="1056" y="167"/>
                </a:cubicBezTo>
                <a:cubicBezTo>
                  <a:pt x="1117" y="147"/>
                  <a:pt x="1170" y="115"/>
                  <a:pt x="1224" y="79"/>
                </a:cubicBezTo>
                <a:cubicBezTo>
                  <a:pt x="1237" y="70"/>
                  <a:pt x="1192" y="84"/>
                  <a:pt x="1176" y="87"/>
                </a:cubicBezTo>
                <a:cubicBezTo>
                  <a:pt x="1170" y="91"/>
                  <a:pt x="1130" y="121"/>
                  <a:pt x="1120" y="111"/>
                </a:cubicBezTo>
                <a:cubicBezTo>
                  <a:pt x="1113" y="104"/>
                  <a:pt x="1129" y="93"/>
                  <a:pt x="1136" y="87"/>
                </a:cubicBezTo>
                <a:cubicBezTo>
                  <a:pt x="1150" y="74"/>
                  <a:pt x="1184" y="55"/>
                  <a:pt x="1184" y="55"/>
                </a:cubicBezTo>
                <a:cubicBezTo>
                  <a:pt x="1553" y="61"/>
                  <a:pt x="1609" y="0"/>
                  <a:pt x="1824" y="143"/>
                </a:cubicBezTo>
                <a:cubicBezTo>
                  <a:pt x="1839" y="165"/>
                  <a:pt x="1841" y="193"/>
                  <a:pt x="1856" y="215"/>
                </a:cubicBezTo>
                <a:cubicBezTo>
                  <a:pt x="1861" y="223"/>
                  <a:pt x="1862" y="239"/>
                  <a:pt x="1872" y="239"/>
                </a:cubicBezTo>
                <a:cubicBezTo>
                  <a:pt x="1880" y="239"/>
                  <a:pt x="1868" y="223"/>
                  <a:pt x="1864" y="215"/>
                </a:cubicBezTo>
                <a:cubicBezTo>
                  <a:pt x="1860" y="206"/>
                  <a:pt x="1854" y="198"/>
                  <a:pt x="1848" y="191"/>
                </a:cubicBezTo>
                <a:cubicBezTo>
                  <a:pt x="1803" y="137"/>
                  <a:pt x="1771" y="117"/>
                  <a:pt x="1704" y="95"/>
                </a:cubicBezTo>
                <a:cubicBezTo>
                  <a:pt x="1743" y="69"/>
                  <a:pt x="1758" y="84"/>
                  <a:pt x="1800" y="95"/>
                </a:cubicBezTo>
                <a:cubicBezTo>
                  <a:pt x="1808" y="103"/>
                  <a:pt x="1818" y="110"/>
                  <a:pt x="1824" y="119"/>
                </a:cubicBezTo>
                <a:cubicBezTo>
                  <a:pt x="1829" y="126"/>
                  <a:pt x="1832" y="151"/>
                  <a:pt x="1832" y="143"/>
                </a:cubicBezTo>
                <a:cubicBezTo>
                  <a:pt x="1832" y="132"/>
                  <a:pt x="1829" y="121"/>
                  <a:pt x="1824" y="111"/>
                </a:cubicBezTo>
                <a:cubicBezTo>
                  <a:pt x="1822" y="106"/>
                  <a:pt x="1824" y="122"/>
                  <a:pt x="1824" y="127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6140520" y="2557440"/>
            <a:ext cx="108000" cy="711360"/>
          </a:xfrm>
          <a:custGeom>
            <a:avLst/>
            <a:gdLst/>
            <a:ahLst/>
            <a:rect l="l" t="t" r="r" b="b"/>
            <a:pathLst>
              <a:path w="68" h="448">
                <a:moveTo>
                  <a:pt x="68" y="0"/>
                </a:moveTo>
                <a:cubicBezTo>
                  <a:pt x="65" y="136"/>
                  <a:pt x="65" y="272"/>
                  <a:pt x="60" y="408"/>
                </a:cubicBezTo>
                <a:cubicBezTo>
                  <a:pt x="59" y="431"/>
                  <a:pt x="4" y="448"/>
                  <a:pt x="4" y="448"/>
                </a:cubicBezTo>
                <a:cubicBezTo>
                  <a:pt x="6" y="442"/>
                  <a:pt x="18" y="400"/>
                  <a:pt x="28" y="400"/>
                </a:cubicBezTo>
                <a:cubicBezTo>
                  <a:pt x="38" y="400"/>
                  <a:pt x="39" y="416"/>
                  <a:pt x="44" y="424"/>
                </a:cubicBezTo>
                <a:cubicBezTo>
                  <a:pt x="0" y="439"/>
                  <a:pt x="20" y="440"/>
                  <a:pt x="20" y="368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4559400" y="2313000"/>
            <a:ext cx="495360" cy="90360"/>
          </a:xfrm>
          <a:custGeom>
            <a:avLst/>
            <a:gdLst/>
            <a:ahLst/>
            <a:rect l="l" t="t" r="r" b="b"/>
            <a:pathLst>
              <a:path w="312" h="57">
                <a:moveTo>
                  <a:pt x="0" y="50"/>
                </a:moveTo>
                <a:cubicBezTo>
                  <a:pt x="104" y="46"/>
                  <a:pt x="188" y="57"/>
                  <a:pt x="280" y="26"/>
                </a:cubicBezTo>
                <a:cubicBezTo>
                  <a:pt x="306" y="0"/>
                  <a:pt x="293" y="2"/>
                  <a:pt x="312" y="2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4937040" y="2487600"/>
            <a:ext cx="54000" cy="534960"/>
          </a:xfrm>
          <a:custGeom>
            <a:avLst/>
            <a:gdLst/>
            <a:ahLst/>
            <a:rect l="l" t="t" r="r" b="b"/>
            <a:pathLst>
              <a:path w="34" h="337">
                <a:moveTo>
                  <a:pt x="18" y="12"/>
                </a:moveTo>
                <a:cubicBezTo>
                  <a:pt x="0" y="66"/>
                  <a:pt x="18" y="0"/>
                  <a:pt x="18" y="92"/>
                </a:cubicBezTo>
                <a:cubicBezTo>
                  <a:pt x="18" y="153"/>
                  <a:pt x="10" y="337"/>
                  <a:pt x="10" y="276"/>
                </a:cubicBezTo>
                <a:cubicBezTo>
                  <a:pt x="10" y="207"/>
                  <a:pt x="13" y="137"/>
                  <a:pt x="18" y="68"/>
                </a:cubicBezTo>
                <a:cubicBezTo>
                  <a:pt x="22" y="9"/>
                  <a:pt x="34" y="61"/>
                  <a:pt x="18" y="12"/>
                </a:cubicBezTo>
                <a:close/>
              </a:path>
            </a:pathLst>
          </a:custGeom>
          <a:solidFill>
            <a:srgbClr val="3399ff"/>
          </a:soli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3995640" y="2381400"/>
            <a:ext cx="957240" cy="393480"/>
          </a:xfrm>
          <a:custGeom>
            <a:avLst/>
            <a:gdLst/>
            <a:ahLst/>
            <a:rect l="l" t="t" r="r" b="b"/>
            <a:pathLst>
              <a:path w="603" h="248">
                <a:moveTo>
                  <a:pt x="3" y="207"/>
                </a:moveTo>
                <a:cubicBezTo>
                  <a:pt x="6" y="194"/>
                  <a:pt x="1" y="177"/>
                  <a:pt x="11" y="167"/>
                </a:cubicBezTo>
                <a:cubicBezTo>
                  <a:pt x="17" y="161"/>
                  <a:pt x="20" y="183"/>
                  <a:pt x="19" y="191"/>
                </a:cubicBezTo>
                <a:cubicBezTo>
                  <a:pt x="17" y="208"/>
                  <a:pt x="8" y="223"/>
                  <a:pt x="3" y="239"/>
                </a:cubicBezTo>
                <a:cubicBezTo>
                  <a:pt x="0" y="248"/>
                  <a:pt x="12" y="222"/>
                  <a:pt x="19" y="215"/>
                </a:cubicBezTo>
                <a:cubicBezTo>
                  <a:pt x="26" y="208"/>
                  <a:pt x="35" y="204"/>
                  <a:pt x="43" y="199"/>
                </a:cubicBezTo>
                <a:cubicBezTo>
                  <a:pt x="89" y="130"/>
                  <a:pt x="178" y="75"/>
                  <a:pt x="259" y="55"/>
                </a:cubicBezTo>
                <a:cubicBezTo>
                  <a:pt x="342" y="0"/>
                  <a:pt x="426" y="39"/>
                  <a:pt x="531" y="47"/>
                </a:cubicBezTo>
                <a:cubicBezTo>
                  <a:pt x="600" y="70"/>
                  <a:pt x="549" y="158"/>
                  <a:pt x="539" y="215"/>
                </a:cubicBezTo>
                <a:cubicBezTo>
                  <a:pt x="581" y="226"/>
                  <a:pt x="560" y="223"/>
                  <a:pt x="603" y="223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4211640" y="2614680"/>
            <a:ext cx="136440" cy="169920"/>
          </a:xfrm>
          <a:custGeom>
            <a:avLst/>
            <a:gdLst/>
            <a:ahLst/>
            <a:rect l="l" t="t" r="r" b="b"/>
            <a:pathLst>
              <a:path w="75" h="108">
                <a:moveTo>
                  <a:pt x="0" y="44"/>
                </a:moveTo>
                <a:cubicBezTo>
                  <a:pt x="29" y="63"/>
                  <a:pt x="29" y="80"/>
                  <a:pt x="48" y="108"/>
                </a:cubicBezTo>
                <a:cubicBezTo>
                  <a:pt x="45" y="95"/>
                  <a:pt x="44" y="81"/>
                  <a:pt x="40" y="68"/>
                </a:cubicBezTo>
                <a:cubicBezTo>
                  <a:pt x="29" y="29"/>
                  <a:pt x="5" y="0"/>
                  <a:pt x="48" y="36"/>
                </a:cubicBezTo>
                <a:cubicBezTo>
                  <a:pt x="57" y="43"/>
                  <a:pt x="64" y="52"/>
                  <a:pt x="72" y="60"/>
                </a:cubicBezTo>
                <a:cubicBezTo>
                  <a:pt x="63" y="95"/>
                  <a:pt x="75" y="92"/>
                  <a:pt x="56" y="92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4140360" y="2784600"/>
            <a:ext cx="71892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3178080" y="5807160"/>
            <a:ext cx="241560" cy="144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cubicBezTo>
                  <a:pt x="51" y="0"/>
                  <a:pt x="101" y="0"/>
                  <a:pt x="152" y="0"/>
                </a:cubicBezTo>
              </a:path>
            </a:pathLst>
          </a:custGeom>
          <a:noFill/>
          <a:ln w="93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3114720" y="5132520"/>
            <a:ext cx="3124080" cy="1033200"/>
          </a:xfrm>
          <a:custGeom>
            <a:avLst/>
            <a:gdLst/>
            <a:ahLst/>
            <a:rect l="l" t="t" r="r" b="b"/>
            <a:pathLst>
              <a:path w="1968" h="651">
                <a:moveTo>
                  <a:pt x="14" y="523"/>
                </a:moveTo>
                <a:cubicBezTo>
                  <a:pt x="0" y="565"/>
                  <a:pt x="15" y="608"/>
                  <a:pt x="22" y="651"/>
                </a:cubicBezTo>
                <a:cubicBezTo>
                  <a:pt x="28" y="634"/>
                  <a:pt x="45" y="621"/>
                  <a:pt x="46" y="603"/>
                </a:cubicBezTo>
                <a:cubicBezTo>
                  <a:pt x="50" y="545"/>
                  <a:pt x="44" y="532"/>
                  <a:pt x="30" y="491"/>
                </a:cubicBezTo>
                <a:cubicBezTo>
                  <a:pt x="38" y="483"/>
                  <a:pt x="47" y="476"/>
                  <a:pt x="54" y="467"/>
                </a:cubicBezTo>
                <a:cubicBezTo>
                  <a:pt x="60" y="460"/>
                  <a:pt x="60" y="443"/>
                  <a:pt x="70" y="443"/>
                </a:cubicBezTo>
                <a:cubicBezTo>
                  <a:pt x="78" y="443"/>
                  <a:pt x="66" y="459"/>
                  <a:pt x="62" y="467"/>
                </a:cubicBezTo>
                <a:cubicBezTo>
                  <a:pt x="58" y="476"/>
                  <a:pt x="51" y="483"/>
                  <a:pt x="46" y="491"/>
                </a:cubicBezTo>
                <a:cubicBezTo>
                  <a:pt x="40" y="501"/>
                  <a:pt x="42" y="523"/>
                  <a:pt x="30" y="523"/>
                </a:cubicBezTo>
                <a:cubicBezTo>
                  <a:pt x="19" y="523"/>
                  <a:pt x="36" y="502"/>
                  <a:pt x="38" y="491"/>
                </a:cubicBezTo>
                <a:cubicBezTo>
                  <a:pt x="41" y="475"/>
                  <a:pt x="37" y="456"/>
                  <a:pt x="46" y="443"/>
                </a:cubicBezTo>
                <a:cubicBezTo>
                  <a:pt x="57" y="427"/>
                  <a:pt x="94" y="411"/>
                  <a:pt x="94" y="411"/>
                </a:cubicBezTo>
                <a:cubicBezTo>
                  <a:pt x="103" y="364"/>
                  <a:pt x="118" y="331"/>
                  <a:pt x="166" y="315"/>
                </a:cubicBezTo>
                <a:lnTo>
                  <a:pt x="150" y="339"/>
                </a:lnTo>
                <a:cubicBezTo>
                  <a:pt x="133" y="287"/>
                  <a:pt x="172" y="281"/>
                  <a:pt x="214" y="267"/>
                </a:cubicBezTo>
                <a:cubicBezTo>
                  <a:pt x="235" y="235"/>
                  <a:pt x="271" y="211"/>
                  <a:pt x="302" y="187"/>
                </a:cubicBezTo>
                <a:cubicBezTo>
                  <a:pt x="317" y="175"/>
                  <a:pt x="350" y="155"/>
                  <a:pt x="350" y="155"/>
                </a:cubicBezTo>
                <a:cubicBezTo>
                  <a:pt x="402" y="78"/>
                  <a:pt x="454" y="56"/>
                  <a:pt x="542" y="43"/>
                </a:cubicBezTo>
                <a:cubicBezTo>
                  <a:pt x="625" y="64"/>
                  <a:pt x="526" y="35"/>
                  <a:pt x="478" y="59"/>
                </a:cubicBezTo>
                <a:cubicBezTo>
                  <a:pt x="463" y="67"/>
                  <a:pt x="467" y="91"/>
                  <a:pt x="462" y="107"/>
                </a:cubicBezTo>
                <a:cubicBezTo>
                  <a:pt x="459" y="115"/>
                  <a:pt x="478" y="103"/>
                  <a:pt x="486" y="99"/>
                </a:cubicBezTo>
                <a:cubicBezTo>
                  <a:pt x="562" y="61"/>
                  <a:pt x="434" y="108"/>
                  <a:pt x="558" y="67"/>
                </a:cubicBezTo>
                <a:cubicBezTo>
                  <a:pt x="629" y="43"/>
                  <a:pt x="707" y="62"/>
                  <a:pt x="782" y="59"/>
                </a:cubicBezTo>
                <a:cubicBezTo>
                  <a:pt x="915" y="40"/>
                  <a:pt x="1049" y="26"/>
                  <a:pt x="1182" y="11"/>
                </a:cubicBezTo>
                <a:cubicBezTo>
                  <a:pt x="1353" y="14"/>
                  <a:pt x="1523" y="15"/>
                  <a:pt x="1694" y="19"/>
                </a:cubicBezTo>
                <a:cubicBezTo>
                  <a:pt x="1820" y="22"/>
                  <a:pt x="1787" y="0"/>
                  <a:pt x="1838" y="51"/>
                </a:cubicBezTo>
                <a:cubicBezTo>
                  <a:pt x="1841" y="62"/>
                  <a:pt x="1839" y="75"/>
                  <a:pt x="1846" y="83"/>
                </a:cubicBezTo>
                <a:cubicBezTo>
                  <a:pt x="1859" y="97"/>
                  <a:pt x="1894" y="115"/>
                  <a:pt x="1894" y="115"/>
                </a:cubicBezTo>
                <a:cubicBezTo>
                  <a:pt x="1907" y="154"/>
                  <a:pt x="1918" y="235"/>
                  <a:pt x="1918" y="235"/>
                </a:cubicBezTo>
                <a:cubicBezTo>
                  <a:pt x="1933" y="190"/>
                  <a:pt x="1912" y="196"/>
                  <a:pt x="1886" y="163"/>
                </a:cubicBezTo>
                <a:cubicBezTo>
                  <a:pt x="1836" y="98"/>
                  <a:pt x="1876" y="130"/>
                  <a:pt x="1830" y="99"/>
                </a:cubicBezTo>
                <a:cubicBezTo>
                  <a:pt x="1793" y="44"/>
                  <a:pt x="1780" y="57"/>
                  <a:pt x="1822" y="43"/>
                </a:cubicBezTo>
                <a:cubicBezTo>
                  <a:pt x="1869" y="52"/>
                  <a:pt x="1873" y="61"/>
                  <a:pt x="1902" y="99"/>
                </a:cubicBezTo>
                <a:cubicBezTo>
                  <a:pt x="1914" y="114"/>
                  <a:pt x="1934" y="147"/>
                  <a:pt x="1934" y="147"/>
                </a:cubicBezTo>
                <a:cubicBezTo>
                  <a:pt x="1941" y="205"/>
                  <a:pt x="1933" y="274"/>
                  <a:pt x="1966" y="323"/>
                </a:cubicBezTo>
                <a:cubicBezTo>
                  <a:pt x="1963" y="416"/>
                  <a:pt x="1958" y="510"/>
                  <a:pt x="1958" y="603"/>
                </a:cubicBezTo>
                <a:cubicBezTo>
                  <a:pt x="1958" y="611"/>
                  <a:pt x="1965" y="587"/>
                  <a:pt x="1966" y="579"/>
                </a:cubicBezTo>
                <a:cubicBezTo>
                  <a:pt x="1968" y="568"/>
                  <a:pt x="1966" y="558"/>
                  <a:pt x="1966" y="547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4000680" y="4848120"/>
            <a:ext cx="626760" cy="38160"/>
          </a:xfrm>
          <a:custGeom>
            <a:avLst/>
            <a:gdLst/>
            <a:ahLst/>
            <a:rect l="l" t="t" r="r" b="b"/>
            <a:pathLst>
              <a:path w="395" h="24">
                <a:moveTo>
                  <a:pt x="0" y="24"/>
                </a:moveTo>
                <a:cubicBezTo>
                  <a:pt x="54" y="11"/>
                  <a:pt x="83" y="6"/>
                  <a:pt x="144" y="0"/>
                </a:cubicBezTo>
                <a:cubicBezTo>
                  <a:pt x="395" y="12"/>
                  <a:pt x="368" y="8"/>
                  <a:pt x="64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5724360" y="5718240"/>
            <a:ext cx="559080" cy="90360"/>
          </a:xfrm>
          <a:custGeom>
            <a:avLst/>
            <a:gdLst/>
            <a:ahLst/>
            <a:rect l="l" t="t" r="r" b="b"/>
            <a:pathLst>
              <a:path w="352" h="57">
                <a:moveTo>
                  <a:pt x="40" y="41"/>
                </a:moveTo>
                <a:cubicBezTo>
                  <a:pt x="153" y="13"/>
                  <a:pt x="0" y="49"/>
                  <a:pt x="296" y="25"/>
                </a:cubicBezTo>
                <a:cubicBezTo>
                  <a:pt x="304" y="24"/>
                  <a:pt x="280" y="18"/>
                  <a:pt x="272" y="17"/>
                </a:cubicBezTo>
                <a:cubicBezTo>
                  <a:pt x="203" y="12"/>
                  <a:pt x="133" y="12"/>
                  <a:pt x="64" y="9"/>
                </a:cubicBezTo>
                <a:cubicBezTo>
                  <a:pt x="136" y="6"/>
                  <a:pt x="352" y="1"/>
                  <a:pt x="280" y="1"/>
                </a:cubicBezTo>
                <a:cubicBezTo>
                  <a:pt x="195" y="1"/>
                  <a:pt x="109" y="0"/>
                  <a:pt x="24" y="9"/>
                </a:cubicBezTo>
                <a:cubicBezTo>
                  <a:pt x="14" y="10"/>
                  <a:pt x="39" y="23"/>
                  <a:pt x="48" y="25"/>
                </a:cubicBezTo>
                <a:cubicBezTo>
                  <a:pt x="138" y="40"/>
                  <a:pt x="320" y="57"/>
                  <a:pt x="320" y="57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3568680" y="5259240"/>
            <a:ext cx="642960" cy="474840"/>
          </a:xfrm>
          <a:custGeom>
            <a:avLst/>
            <a:gdLst/>
            <a:ahLst/>
            <a:rect l="l" t="t" r="r" b="b"/>
            <a:pathLst>
              <a:path w="405" h="299">
                <a:moveTo>
                  <a:pt x="0" y="192"/>
                </a:moveTo>
                <a:cubicBezTo>
                  <a:pt x="405" y="183"/>
                  <a:pt x="344" y="299"/>
                  <a:pt x="344" y="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4038480" y="5218200"/>
            <a:ext cx="163800" cy="442800"/>
          </a:xfrm>
          <a:custGeom>
            <a:avLst/>
            <a:gdLst/>
            <a:ahLst/>
            <a:rect l="l" t="t" r="r" b="b"/>
            <a:pathLst>
              <a:path w="103" h="279">
                <a:moveTo>
                  <a:pt x="96" y="0"/>
                </a:moveTo>
                <a:cubicBezTo>
                  <a:pt x="88" y="85"/>
                  <a:pt x="103" y="176"/>
                  <a:pt x="72" y="256"/>
                </a:cubicBezTo>
                <a:cubicBezTo>
                  <a:pt x="63" y="279"/>
                  <a:pt x="0" y="272"/>
                  <a:pt x="0" y="248"/>
                </a:cubicBezTo>
                <a:cubicBezTo>
                  <a:pt x="0" y="224"/>
                  <a:pt x="48" y="248"/>
                  <a:pt x="72" y="248"/>
                </a:cubicBezTo>
              </a:path>
            </a:pathLst>
          </a:custGeom>
          <a:noFill/>
          <a:ln w="93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949560" y="4948200"/>
            <a:ext cx="1994040" cy="209520"/>
          </a:xfrm>
          <a:custGeom>
            <a:avLst/>
            <a:gdLst/>
            <a:ahLst/>
            <a:rect l="l" t="t" r="r" b="b"/>
            <a:pathLst>
              <a:path w="1256" h="132">
                <a:moveTo>
                  <a:pt x="0" y="132"/>
                </a:moveTo>
                <a:cubicBezTo>
                  <a:pt x="397" y="0"/>
                  <a:pt x="837" y="124"/>
                  <a:pt x="1256" y="1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127400" y="5086440"/>
            <a:ext cx="2070360" cy="660240"/>
          </a:xfrm>
          <a:custGeom>
            <a:avLst/>
            <a:gdLst/>
            <a:ahLst/>
            <a:rect l="l" t="t" r="r" b="b"/>
            <a:pathLst>
              <a:path w="1304" h="416">
                <a:moveTo>
                  <a:pt x="896" y="93"/>
                </a:moveTo>
                <a:cubicBezTo>
                  <a:pt x="927" y="0"/>
                  <a:pt x="1062" y="58"/>
                  <a:pt x="1136" y="61"/>
                </a:cubicBezTo>
                <a:cubicBezTo>
                  <a:pt x="1149" y="64"/>
                  <a:pt x="1171" y="56"/>
                  <a:pt x="1176" y="69"/>
                </a:cubicBezTo>
                <a:cubicBezTo>
                  <a:pt x="1203" y="137"/>
                  <a:pt x="1178" y="138"/>
                  <a:pt x="1144" y="149"/>
                </a:cubicBezTo>
                <a:cubicBezTo>
                  <a:pt x="1144" y="149"/>
                  <a:pt x="1160" y="144"/>
                  <a:pt x="1168" y="141"/>
                </a:cubicBezTo>
                <a:cubicBezTo>
                  <a:pt x="1264" y="168"/>
                  <a:pt x="1202" y="138"/>
                  <a:pt x="1224" y="205"/>
                </a:cubicBezTo>
                <a:cubicBezTo>
                  <a:pt x="1221" y="216"/>
                  <a:pt x="1216" y="226"/>
                  <a:pt x="1216" y="237"/>
                </a:cubicBezTo>
                <a:cubicBezTo>
                  <a:pt x="1216" y="248"/>
                  <a:pt x="1228" y="259"/>
                  <a:pt x="1224" y="269"/>
                </a:cubicBezTo>
                <a:cubicBezTo>
                  <a:pt x="1221" y="277"/>
                  <a:pt x="1208" y="274"/>
                  <a:pt x="1200" y="277"/>
                </a:cubicBezTo>
                <a:cubicBezTo>
                  <a:pt x="1189" y="282"/>
                  <a:pt x="1179" y="288"/>
                  <a:pt x="1168" y="293"/>
                </a:cubicBezTo>
                <a:cubicBezTo>
                  <a:pt x="1221" y="306"/>
                  <a:pt x="1218" y="278"/>
                  <a:pt x="1264" y="293"/>
                </a:cubicBezTo>
                <a:cubicBezTo>
                  <a:pt x="1256" y="298"/>
                  <a:pt x="1249" y="313"/>
                  <a:pt x="1240" y="309"/>
                </a:cubicBezTo>
                <a:cubicBezTo>
                  <a:pt x="1232" y="305"/>
                  <a:pt x="1248" y="285"/>
                  <a:pt x="1248" y="285"/>
                </a:cubicBezTo>
                <a:cubicBezTo>
                  <a:pt x="1256" y="282"/>
                  <a:pt x="1264" y="273"/>
                  <a:pt x="1272" y="277"/>
                </a:cubicBezTo>
                <a:cubicBezTo>
                  <a:pt x="1280" y="281"/>
                  <a:pt x="1280" y="309"/>
                  <a:pt x="1280" y="301"/>
                </a:cubicBezTo>
                <a:cubicBezTo>
                  <a:pt x="1280" y="289"/>
                  <a:pt x="1257" y="224"/>
                  <a:pt x="1256" y="221"/>
                </a:cubicBezTo>
                <a:cubicBezTo>
                  <a:pt x="1253" y="213"/>
                  <a:pt x="1248" y="197"/>
                  <a:pt x="1248" y="197"/>
                </a:cubicBezTo>
                <a:cubicBezTo>
                  <a:pt x="1243" y="205"/>
                  <a:pt x="1232" y="211"/>
                  <a:pt x="1232" y="221"/>
                </a:cubicBezTo>
                <a:cubicBezTo>
                  <a:pt x="1232" y="231"/>
                  <a:pt x="1244" y="236"/>
                  <a:pt x="1248" y="245"/>
                </a:cubicBezTo>
                <a:cubicBezTo>
                  <a:pt x="1278" y="306"/>
                  <a:pt x="1246" y="267"/>
                  <a:pt x="1288" y="309"/>
                </a:cubicBezTo>
                <a:cubicBezTo>
                  <a:pt x="1301" y="347"/>
                  <a:pt x="1304" y="351"/>
                  <a:pt x="1304" y="405"/>
                </a:cubicBezTo>
                <a:cubicBezTo>
                  <a:pt x="1304" y="416"/>
                  <a:pt x="1301" y="383"/>
                  <a:pt x="1296" y="373"/>
                </a:cubicBezTo>
                <a:cubicBezTo>
                  <a:pt x="1290" y="361"/>
                  <a:pt x="1280" y="352"/>
                  <a:pt x="1272" y="341"/>
                </a:cubicBezTo>
                <a:cubicBezTo>
                  <a:pt x="1143" y="384"/>
                  <a:pt x="1241" y="358"/>
                  <a:pt x="968" y="349"/>
                </a:cubicBezTo>
                <a:cubicBezTo>
                  <a:pt x="926" y="339"/>
                  <a:pt x="881" y="346"/>
                  <a:pt x="840" y="333"/>
                </a:cubicBezTo>
                <a:cubicBezTo>
                  <a:pt x="832" y="331"/>
                  <a:pt x="840" y="311"/>
                  <a:pt x="832" y="309"/>
                </a:cubicBezTo>
                <a:cubicBezTo>
                  <a:pt x="801" y="300"/>
                  <a:pt x="768" y="304"/>
                  <a:pt x="736" y="301"/>
                </a:cubicBezTo>
                <a:cubicBezTo>
                  <a:pt x="561" y="359"/>
                  <a:pt x="0" y="325"/>
                  <a:pt x="184" y="325"/>
                </a:cubicBezTo>
                <a:cubicBezTo>
                  <a:pt x="387" y="325"/>
                  <a:pt x="589" y="320"/>
                  <a:pt x="792" y="317"/>
                </a:cubicBezTo>
                <a:cubicBezTo>
                  <a:pt x="789" y="306"/>
                  <a:pt x="787" y="296"/>
                  <a:pt x="784" y="285"/>
                </a:cubicBezTo>
                <a:cubicBezTo>
                  <a:pt x="779" y="269"/>
                  <a:pt x="768" y="237"/>
                  <a:pt x="768" y="237"/>
                </a:cubicBezTo>
                <a:cubicBezTo>
                  <a:pt x="752" y="127"/>
                  <a:pt x="768" y="224"/>
                  <a:pt x="752" y="149"/>
                </a:cubicBezTo>
                <a:cubicBezTo>
                  <a:pt x="746" y="122"/>
                  <a:pt x="736" y="69"/>
                  <a:pt x="736" y="69"/>
                </a:cubicBezTo>
                <a:cubicBezTo>
                  <a:pt x="739" y="141"/>
                  <a:pt x="693" y="336"/>
                  <a:pt x="744" y="285"/>
                </a:cubicBezTo>
                <a:cubicBezTo>
                  <a:pt x="803" y="226"/>
                  <a:pt x="737" y="114"/>
                  <a:pt x="768" y="37"/>
                </a:cubicBezTo>
                <a:cubicBezTo>
                  <a:pt x="777" y="15"/>
                  <a:pt x="816" y="42"/>
                  <a:pt x="840" y="45"/>
                </a:cubicBezTo>
                <a:cubicBezTo>
                  <a:pt x="826" y="86"/>
                  <a:pt x="820" y="122"/>
                  <a:pt x="816" y="165"/>
                </a:cubicBezTo>
                <a:cubicBezTo>
                  <a:pt x="813" y="200"/>
                  <a:pt x="808" y="269"/>
                  <a:pt x="808" y="269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100400" y="5227560"/>
            <a:ext cx="255600" cy="506520"/>
          </a:xfrm>
          <a:custGeom>
            <a:avLst/>
            <a:gdLst/>
            <a:ahLst/>
            <a:rect l="l" t="t" r="r" b="b"/>
            <a:pathLst>
              <a:path w="161" h="319">
                <a:moveTo>
                  <a:pt x="89" y="227"/>
                </a:moveTo>
                <a:cubicBezTo>
                  <a:pt x="92" y="182"/>
                  <a:pt x="91" y="136"/>
                  <a:pt x="97" y="91"/>
                </a:cubicBezTo>
                <a:cubicBezTo>
                  <a:pt x="102" y="57"/>
                  <a:pt x="161" y="11"/>
                  <a:pt x="161" y="11"/>
                </a:cubicBezTo>
                <a:cubicBezTo>
                  <a:pt x="128" y="0"/>
                  <a:pt x="105" y="8"/>
                  <a:pt x="73" y="19"/>
                </a:cubicBezTo>
                <a:cubicBezTo>
                  <a:pt x="0" y="92"/>
                  <a:pt x="85" y="319"/>
                  <a:pt x="33" y="267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 flipV="1">
            <a:off x="3708360" y="3644640"/>
            <a:ext cx="432000" cy="360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3652920" y="3637080"/>
            <a:ext cx="946080" cy="583920"/>
          </a:xfrm>
          <a:custGeom>
            <a:avLst/>
            <a:gdLst/>
            <a:ahLst/>
            <a:rect l="l" t="t" r="r" b="b"/>
            <a:pathLst>
              <a:path w="596" h="368">
                <a:moveTo>
                  <a:pt x="291" y="44"/>
                </a:moveTo>
                <a:cubicBezTo>
                  <a:pt x="371" y="17"/>
                  <a:pt x="376" y="19"/>
                  <a:pt x="475" y="12"/>
                </a:cubicBezTo>
                <a:cubicBezTo>
                  <a:pt x="491" y="9"/>
                  <a:pt x="507" y="0"/>
                  <a:pt x="523" y="4"/>
                </a:cubicBezTo>
                <a:cubicBezTo>
                  <a:pt x="557" y="12"/>
                  <a:pt x="527" y="56"/>
                  <a:pt x="523" y="92"/>
                </a:cubicBezTo>
                <a:cubicBezTo>
                  <a:pt x="514" y="165"/>
                  <a:pt x="540" y="288"/>
                  <a:pt x="475" y="332"/>
                </a:cubicBezTo>
                <a:cubicBezTo>
                  <a:pt x="320" y="329"/>
                  <a:pt x="165" y="335"/>
                  <a:pt x="11" y="324"/>
                </a:cubicBezTo>
                <a:cubicBezTo>
                  <a:pt x="0" y="323"/>
                  <a:pt x="24" y="301"/>
                  <a:pt x="35" y="300"/>
                </a:cubicBezTo>
                <a:cubicBezTo>
                  <a:pt x="197" y="290"/>
                  <a:pt x="379" y="368"/>
                  <a:pt x="523" y="292"/>
                </a:cubicBezTo>
                <a:cubicBezTo>
                  <a:pt x="596" y="254"/>
                  <a:pt x="523" y="127"/>
                  <a:pt x="523" y="44"/>
                </a:cubicBezTo>
              </a:path>
            </a:pathLst>
          </a:custGeom>
          <a:noFill/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4456080" y="4113360"/>
            <a:ext cx="14400" cy="431640"/>
          </a:xfrm>
          <a:custGeom>
            <a:avLst/>
            <a:gdLst/>
            <a:ahLst/>
            <a:rect l="l" t="t" r="r" b="b"/>
            <a:pathLst>
              <a:path w="9" h="272">
                <a:moveTo>
                  <a:pt x="9" y="0"/>
                </a:moveTo>
                <a:cubicBezTo>
                  <a:pt x="0" y="213"/>
                  <a:pt x="1" y="123"/>
                  <a:pt x="1" y="272"/>
                </a:cubicBezTo>
              </a:path>
            </a:pathLst>
          </a:custGeom>
          <a:noFill/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3949560" y="4532400"/>
            <a:ext cx="1308240" cy="1440"/>
          </a:xfrm>
          <a:custGeom>
            <a:avLst/>
            <a:gdLst/>
            <a:ahLst/>
            <a:rect l="l" t="t" r="r" b="b"/>
            <a:pathLst>
              <a:path w="824" h="1">
                <a:moveTo>
                  <a:pt x="0" y="0"/>
                </a:moveTo>
                <a:cubicBezTo>
                  <a:pt x="275" y="0"/>
                  <a:pt x="549" y="0"/>
                  <a:pt x="824" y="0"/>
                </a:cubicBezTo>
              </a:path>
            </a:pathLst>
          </a:custGeom>
          <a:noFill/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4572000" y="3716280"/>
            <a:ext cx="36036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5003640" y="3716280"/>
            <a:ext cx="36036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5435640" y="3716280"/>
            <a:ext cx="36036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4533840" y="4006800"/>
            <a:ext cx="1575000" cy="69840"/>
          </a:xfrm>
          <a:custGeom>
            <a:avLst/>
            <a:gdLst/>
            <a:ahLst/>
            <a:rect l="l" t="t" r="r" b="b"/>
            <a:pathLst>
              <a:path w="992" h="184">
                <a:moveTo>
                  <a:pt x="0" y="184"/>
                </a:moveTo>
                <a:cubicBezTo>
                  <a:pt x="275" y="0"/>
                  <a:pt x="992" y="144"/>
                  <a:pt x="992" y="144"/>
                </a:cubicBezTo>
              </a:path>
            </a:pathLst>
          </a:custGeom>
          <a:noFill/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3873600" y="3662280"/>
            <a:ext cx="584280" cy="343080"/>
          </a:xfrm>
          <a:custGeom>
            <a:avLst/>
            <a:gdLst/>
            <a:ahLst/>
            <a:rect l="l" t="t" r="r" b="b"/>
            <a:pathLst>
              <a:path w="368" h="216">
                <a:moveTo>
                  <a:pt x="0" y="216"/>
                </a:moveTo>
                <a:cubicBezTo>
                  <a:pt x="11" y="161"/>
                  <a:pt x="28" y="145"/>
                  <a:pt x="80" y="128"/>
                </a:cubicBezTo>
                <a:cubicBezTo>
                  <a:pt x="109" y="84"/>
                  <a:pt x="80" y="121"/>
                  <a:pt x="120" y="88"/>
                </a:cubicBezTo>
                <a:cubicBezTo>
                  <a:pt x="129" y="81"/>
                  <a:pt x="135" y="71"/>
                  <a:pt x="144" y="64"/>
                </a:cubicBezTo>
                <a:cubicBezTo>
                  <a:pt x="210" y="12"/>
                  <a:pt x="232" y="23"/>
                  <a:pt x="328" y="16"/>
                </a:cubicBezTo>
                <a:cubicBezTo>
                  <a:pt x="358" y="6"/>
                  <a:pt x="344" y="12"/>
                  <a:pt x="368" y="0"/>
                </a:cubicBezTo>
              </a:path>
            </a:pathLst>
          </a:custGeom>
          <a:noFill/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3995640" y="5086440"/>
            <a:ext cx="201636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 flipH="1">
            <a:off x="3492360" y="5229360"/>
            <a:ext cx="432000" cy="2887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3106800" y="5479920"/>
            <a:ext cx="3171600" cy="901800"/>
          </a:xfrm>
          <a:custGeom>
            <a:avLst/>
            <a:gdLst/>
            <a:ahLst/>
            <a:rect l="l" t="t" r="r" b="b"/>
            <a:pathLst>
              <a:path w="1998" h="681">
                <a:moveTo>
                  <a:pt x="171" y="101"/>
                </a:moveTo>
                <a:cubicBezTo>
                  <a:pt x="145" y="118"/>
                  <a:pt x="129" y="139"/>
                  <a:pt x="99" y="149"/>
                </a:cubicBezTo>
                <a:cubicBezTo>
                  <a:pt x="92" y="159"/>
                  <a:pt x="59" y="217"/>
                  <a:pt x="67" y="229"/>
                </a:cubicBezTo>
                <a:cubicBezTo>
                  <a:pt x="72" y="236"/>
                  <a:pt x="83" y="224"/>
                  <a:pt x="91" y="221"/>
                </a:cubicBezTo>
                <a:cubicBezTo>
                  <a:pt x="95" y="213"/>
                  <a:pt x="114" y="173"/>
                  <a:pt x="123" y="165"/>
                </a:cubicBezTo>
                <a:cubicBezTo>
                  <a:pt x="130" y="160"/>
                  <a:pt x="139" y="161"/>
                  <a:pt x="147" y="157"/>
                </a:cubicBezTo>
                <a:cubicBezTo>
                  <a:pt x="156" y="153"/>
                  <a:pt x="164" y="147"/>
                  <a:pt x="171" y="141"/>
                </a:cubicBezTo>
                <a:cubicBezTo>
                  <a:pt x="202" y="115"/>
                  <a:pt x="228" y="90"/>
                  <a:pt x="267" y="77"/>
                </a:cubicBezTo>
                <a:cubicBezTo>
                  <a:pt x="728" y="80"/>
                  <a:pt x="1190" y="79"/>
                  <a:pt x="1651" y="85"/>
                </a:cubicBezTo>
                <a:cubicBezTo>
                  <a:pt x="1998" y="90"/>
                  <a:pt x="1994" y="0"/>
                  <a:pt x="1955" y="173"/>
                </a:cubicBezTo>
                <a:cubicBezTo>
                  <a:pt x="1900" y="136"/>
                  <a:pt x="1913" y="123"/>
                  <a:pt x="1899" y="165"/>
                </a:cubicBezTo>
                <a:cubicBezTo>
                  <a:pt x="1902" y="173"/>
                  <a:pt x="1901" y="183"/>
                  <a:pt x="1907" y="189"/>
                </a:cubicBezTo>
                <a:cubicBezTo>
                  <a:pt x="1915" y="197"/>
                  <a:pt x="1937" y="193"/>
                  <a:pt x="1939" y="205"/>
                </a:cubicBezTo>
                <a:cubicBezTo>
                  <a:pt x="1944" y="234"/>
                  <a:pt x="1928" y="264"/>
                  <a:pt x="1923" y="293"/>
                </a:cubicBezTo>
                <a:cubicBezTo>
                  <a:pt x="1893" y="253"/>
                  <a:pt x="1891" y="239"/>
                  <a:pt x="1883" y="189"/>
                </a:cubicBezTo>
                <a:cubicBezTo>
                  <a:pt x="1882" y="208"/>
                  <a:pt x="1822" y="449"/>
                  <a:pt x="1907" y="477"/>
                </a:cubicBezTo>
                <a:cubicBezTo>
                  <a:pt x="1931" y="548"/>
                  <a:pt x="1776" y="505"/>
                  <a:pt x="1667" y="501"/>
                </a:cubicBezTo>
                <a:cubicBezTo>
                  <a:pt x="1659" y="392"/>
                  <a:pt x="1683" y="383"/>
                  <a:pt x="1595" y="365"/>
                </a:cubicBezTo>
                <a:cubicBezTo>
                  <a:pt x="1584" y="360"/>
                  <a:pt x="1574" y="353"/>
                  <a:pt x="1563" y="349"/>
                </a:cubicBezTo>
                <a:cubicBezTo>
                  <a:pt x="1547" y="343"/>
                  <a:pt x="1515" y="333"/>
                  <a:pt x="1515" y="333"/>
                </a:cubicBezTo>
                <a:cubicBezTo>
                  <a:pt x="1445" y="339"/>
                  <a:pt x="1421" y="332"/>
                  <a:pt x="1371" y="365"/>
                </a:cubicBezTo>
                <a:cubicBezTo>
                  <a:pt x="1357" y="408"/>
                  <a:pt x="1350" y="449"/>
                  <a:pt x="1339" y="493"/>
                </a:cubicBezTo>
                <a:cubicBezTo>
                  <a:pt x="1286" y="458"/>
                  <a:pt x="1331" y="498"/>
                  <a:pt x="1331" y="397"/>
                </a:cubicBezTo>
                <a:cubicBezTo>
                  <a:pt x="1331" y="380"/>
                  <a:pt x="1320" y="429"/>
                  <a:pt x="1315" y="445"/>
                </a:cubicBezTo>
                <a:cubicBezTo>
                  <a:pt x="1306" y="473"/>
                  <a:pt x="1312" y="476"/>
                  <a:pt x="1275" y="477"/>
                </a:cubicBezTo>
                <a:cubicBezTo>
                  <a:pt x="1112" y="482"/>
                  <a:pt x="950" y="482"/>
                  <a:pt x="787" y="485"/>
                </a:cubicBezTo>
                <a:cubicBezTo>
                  <a:pt x="684" y="496"/>
                  <a:pt x="587" y="504"/>
                  <a:pt x="483" y="509"/>
                </a:cubicBezTo>
                <a:cubicBezTo>
                  <a:pt x="740" y="681"/>
                  <a:pt x="1102" y="528"/>
                  <a:pt x="1411" y="525"/>
                </a:cubicBezTo>
                <a:cubicBezTo>
                  <a:pt x="1403" y="514"/>
                  <a:pt x="1399" y="499"/>
                  <a:pt x="1387" y="493"/>
                </a:cubicBezTo>
                <a:cubicBezTo>
                  <a:pt x="1384" y="492"/>
                  <a:pt x="1290" y="473"/>
                  <a:pt x="1275" y="469"/>
                </a:cubicBezTo>
                <a:cubicBezTo>
                  <a:pt x="1251" y="445"/>
                  <a:pt x="1231" y="440"/>
                  <a:pt x="1203" y="421"/>
                </a:cubicBezTo>
                <a:cubicBezTo>
                  <a:pt x="1035" y="424"/>
                  <a:pt x="867" y="424"/>
                  <a:pt x="699" y="429"/>
                </a:cubicBezTo>
                <a:cubicBezTo>
                  <a:pt x="654" y="430"/>
                  <a:pt x="614" y="487"/>
                  <a:pt x="571" y="501"/>
                </a:cubicBezTo>
                <a:cubicBezTo>
                  <a:pt x="499" y="555"/>
                  <a:pt x="470" y="529"/>
                  <a:pt x="363" y="525"/>
                </a:cubicBezTo>
                <a:cubicBezTo>
                  <a:pt x="248" y="521"/>
                  <a:pt x="134" y="520"/>
                  <a:pt x="19" y="517"/>
                </a:cubicBezTo>
                <a:cubicBezTo>
                  <a:pt x="0" y="489"/>
                  <a:pt x="3" y="503"/>
                  <a:pt x="3" y="477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4054320" y="5300640"/>
            <a:ext cx="12960" cy="266760"/>
          </a:xfrm>
          <a:custGeom>
            <a:avLst/>
            <a:gdLst/>
            <a:ahLst/>
            <a:rect l="l" t="t" r="r" b="b"/>
            <a:pathLst>
              <a:path w="8" h="168">
                <a:moveTo>
                  <a:pt x="8" y="0"/>
                </a:moveTo>
                <a:cubicBezTo>
                  <a:pt x="0" y="152"/>
                  <a:pt x="0" y="96"/>
                  <a:pt x="0" y="168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4716360" y="5162400"/>
            <a:ext cx="1001880" cy="743040"/>
          </a:xfrm>
          <a:custGeom>
            <a:avLst/>
            <a:gdLst/>
            <a:ahLst/>
            <a:rect l="l" t="t" r="r" b="b"/>
            <a:pathLst>
              <a:path w="631" h="468">
                <a:moveTo>
                  <a:pt x="7" y="47"/>
                </a:moveTo>
                <a:cubicBezTo>
                  <a:pt x="17" y="443"/>
                  <a:pt x="0" y="468"/>
                  <a:pt x="31" y="311"/>
                </a:cubicBezTo>
                <a:cubicBezTo>
                  <a:pt x="34" y="223"/>
                  <a:pt x="29" y="134"/>
                  <a:pt x="39" y="47"/>
                </a:cubicBezTo>
                <a:cubicBezTo>
                  <a:pt x="45" y="0"/>
                  <a:pt x="77" y="59"/>
                  <a:pt x="79" y="63"/>
                </a:cubicBezTo>
                <a:cubicBezTo>
                  <a:pt x="97" y="282"/>
                  <a:pt x="44" y="285"/>
                  <a:pt x="223" y="271"/>
                </a:cubicBezTo>
                <a:cubicBezTo>
                  <a:pt x="276" y="218"/>
                  <a:pt x="287" y="159"/>
                  <a:pt x="231" y="95"/>
                </a:cubicBezTo>
                <a:cubicBezTo>
                  <a:pt x="217" y="79"/>
                  <a:pt x="186" y="63"/>
                  <a:pt x="167" y="55"/>
                </a:cubicBezTo>
                <a:cubicBezTo>
                  <a:pt x="159" y="52"/>
                  <a:pt x="143" y="39"/>
                  <a:pt x="143" y="47"/>
                </a:cubicBezTo>
                <a:cubicBezTo>
                  <a:pt x="143" y="57"/>
                  <a:pt x="159" y="58"/>
                  <a:pt x="167" y="63"/>
                </a:cubicBezTo>
                <a:cubicBezTo>
                  <a:pt x="207" y="60"/>
                  <a:pt x="247" y="55"/>
                  <a:pt x="287" y="55"/>
                </a:cubicBezTo>
                <a:cubicBezTo>
                  <a:pt x="306" y="55"/>
                  <a:pt x="330" y="50"/>
                  <a:pt x="343" y="63"/>
                </a:cubicBezTo>
                <a:cubicBezTo>
                  <a:pt x="357" y="77"/>
                  <a:pt x="325" y="100"/>
                  <a:pt x="319" y="119"/>
                </a:cubicBezTo>
                <a:cubicBezTo>
                  <a:pt x="328" y="191"/>
                  <a:pt x="327" y="197"/>
                  <a:pt x="391" y="223"/>
                </a:cubicBezTo>
                <a:cubicBezTo>
                  <a:pt x="410" y="220"/>
                  <a:pt x="437" y="231"/>
                  <a:pt x="447" y="215"/>
                </a:cubicBezTo>
                <a:cubicBezTo>
                  <a:pt x="457" y="199"/>
                  <a:pt x="440" y="176"/>
                  <a:pt x="431" y="159"/>
                </a:cubicBezTo>
                <a:cubicBezTo>
                  <a:pt x="426" y="149"/>
                  <a:pt x="399" y="143"/>
                  <a:pt x="407" y="135"/>
                </a:cubicBezTo>
                <a:cubicBezTo>
                  <a:pt x="417" y="125"/>
                  <a:pt x="434" y="141"/>
                  <a:pt x="447" y="143"/>
                </a:cubicBezTo>
                <a:cubicBezTo>
                  <a:pt x="471" y="146"/>
                  <a:pt x="495" y="148"/>
                  <a:pt x="519" y="151"/>
                </a:cubicBezTo>
                <a:cubicBezTo>
                  <a:pt x="554" y="148"/>
                  <a:pt x="590" y="154"/>
                  <a:pt x="623" y="143"/>
                </a:cubicBezTo>
                <a:cubicBezTo>
                  <a:pt x="631" y="140"/>
                  <a:pt x="620" y="126"/>
                  <a:pt x="615" y="119"/>
                </a:cubicBezTo>
                <a:cubicBezTo>
                  <a:pt x="599" y="97"/>
                  <a:pt x="573" y="79"/>
                  <a:pt x="551" y="63"/>
                </a:cubicBezTo>
                <a:cubicBezTo>
                  <a:pt x="562" y="60"/>
                  <a:pt x="572" y="55"/>
                  <a:pt x="583" y="55"/>
                </a:cubicBezTo>
                <a:cubicBezTo>
                  <a:pt x="599" y="55"/>
                  <a:pt x="631" y="63"/>
                  <a:pt x="631" y="63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5829480" y="3124080"/>
            <a:ext cx="387000" cy="139680"/>
          </a:xfrm>
          <a:custGeom>
            <a:avLst/>
            <a:gdLst/>
            <a:ahLst/>
            <a:rect l="l" t="t" r="r" b="b"/>
            <a:pathLst>
              <a:path w="244" h="88">
                <a:moveTo>
                  <a:pt x="24" y="59"/>
                </a:moveTo>
                <a:cubicBezTo>
                  <a:pt x="63" y="55"/>
                  <a:pt x="142" y="42"/>
                  <a:pt x="184" y="59"/>
                </a:cubicBezTo>
                <a:cubicBezTo>
                  <a:pt x="194" y="63"/>
                  <a:pt x="163" y="64"/>
                  <a:pt x="152" y="67"/>
                </a:cubicBezTo>
                <a:cubicBezTo>
                  <a:pt x="147" y="59"/>
                  <a:pt x="134" y="52"/>
                  <a:pt x="136" y="43"/>
                </a:cubicBezTo>
                <a:cubicBezTo>
                  <a:pt x="138" y="34"/>
                  <a:pt x="170" y="28"/>
                  <a:pt x="160" y="27"/>
                </a:cubicBezTo>
                <a:cubicBezTo>
                  <a:pt x="115" y="24"/>
                  <a:pt x="69" y="32"/>
                  <a:pt x="24" y="35"/>
                </a:cubicBezTo>
                <a:cubicBezTo>
                  <a:pt x="96" y="83"/>
                  <a:pt x="0" y="11"/>
                  <a:pt x="0" y="59"/>
                </a:cubicBezTo>
                <a:cubicBezTo>
                  <a:pt x="0" y="76"/>
                  <a:pt x="48" y="75"/>
                  <a:pt x="48" y="75"/>
                </a:cubicBezTo>
                <a:cubicBezTo>
                  <a:pt x="107" y="72"/>
                  <a:pt x="169" y="88"/>
                  <a:pt x="224" y="67"/>
                </a:cubicBezTo>
                <a:cubicBezTo>
                  <a:pt x="244" y="59"/>
                  <a:pt x="227" y="24"/>
                  <a:pt x="232" y="3"/>
                </a:cubicBezTo>
                <a:cubicBezTo>
                  <a:pt x="233" y="0"/>
                  <a:pt x="237" y="3"/>
                  <a:pt x="240" y="3"/>
                </a:cubicBezTo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5786280" y="4678200"/>
            <a:ext cx="384480" cy="9720"/>
          </a:xfrm>
          <a:custGeom>
            <a:avLst/>
            <a:gdLst/>
            <a:ahLst/>
            <a:rect l="l" t="t" r="r" b="b"/>
            <a:pathLst>
              <a:path w="1068" h="25">
                <a:moveTo>
                  <a:pt x="16098" y="8310"/>
                </a:moveTo>
                <a:cubicBezTo>
                  <a:pt x="16031" y="8310"/>
                  <a:pt x="16182" y="8310"/>
                  <a:pt x="16197" y="8310"/>
                </a:cubicBezTo>
                <a:cubicBezTo>
                  <a:pt x="16284" y="8310"/>
                  <a:pt x="16359" y="8334"/>
                  <a:pt x="16446" y="8334"/>
                </a:cubicBezTo>
                <a:cubicBezTo>
                  <a:pt x="16677" y="8334"/>
                  <a:pt x="16909" y="8334"/>
                  <a:pt x="17140" y="8334"/>
                </a:cubicBezTo>
              </a:path>
            </a:pathLst>
          </a:custGeom>
          <a:noFill/>
          <a:ln cap="rnd"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3143160" y="5880240"/>
            <a:ext cx="2063880" cy="285480"/>
          </a:xfrm>
          <a:custGeom>
            <a:avLst/>
            <a:gdLst/>
            <a:ahLst/>
            <a:rect l="l" t="t" r="r" b="b"/>
            <a:pathLst>
              <a:path w="5731" h="794">
                <a:moveTo>
                  <a:pt x="8756" y="12005"/>
                </a:moveTo>
                <a:cubicBezTo>
                  <a:pt x="8837" y="12005"/>
                  <a:pt x="8899" y="11986"/>
                  <a:pt x="8979" y="11981"/>
                </a:cubicBezTo>
                <a:cubicBezTo>
                  <a:pt x="9127" y="11972"/>
                  <a:pt x="9278" y="11981"/>
                  <a:pt x="9426" y="11981"/>
                </a:cubicBezTo>
              </a:path>
              <a:path w="5731" h="794">
                <a:moveTo>
                  <a:pt x="8731" y="11981"/>
                </a:moveTo>
                <a:cubicBezTo>
                  <a:pt x="8731" y="11906"/>
                  <a:pt x="8731" y="11832"/>
                  <a:pt x="8731" y="11757"/>
                </a:cubicBezTo>
              </a:path>
              <a:path w="5731" h="794">
                <a:moveTo>
                  <a:pt x="9401" y="11683"/>
                </a:moveTo>
                <a:cubicBezTo>
                  <a:pt x="9401" y="11609"/>
                  <a:pt x="9374" y="11462"/>
                  <a:pt x="9426" y="11410"/>
                </a:cubicBezTo>
                <a:cubicBezTo>
                  <a:pt x="9434" y="11410"/>
                  <a:pt x="9443" y="11410"/>
                  <a:pt x="9451" y="11410"/>
                </a:cubicBezTo>
                <a:cubicBezTo>
                  <a:pt x="9474" y="11386"/>
                  <a:pt x="9494" y="11379"/>
                  <a:pt x="9525" y="11361"/>
                </a:cubicBezTo>
                <a:cubicBezTo>
                  <a:pt x="9541" y="11340"/>
                  <a:pt x="9534" y="11332"/>
                  <a:pt x="9550" y="11311"/>
                </a:cubicBezTo>
                <a:cubicBezTo>
                  <a:pt x="9589" y="11296"/>
                  <a:pt x="9602" y="11292"/>
                  <a:pt x="9649" y="11286"/>
                </a:cubicBezTo>
                <a:cubicBezTo>
                  <a:pt x="9669" y="11258"/>
                  <a:pt x="9680" y="11225"/>
                  <a:pt x="9723" y="11212"/>
                </a:cubicBezTo>
                <a:cubicBezTo>
                  <a:pt x="9951" y="11145"/>
                  <a:pt x="10304" y="11212"/>
                  <a:pt x="10542" y="11212"/>
                </a:cubicBezTo>
                <a:cubicBezTo>
                  <a:pt x="10559" y="11226"/>
                  <a:pt x="10581" y="11242"/>
                  <a:pt x="10616" y="11261"/>
                </a:cubicBezTo>
                <a:cubicBezTo>
                  <a:pt x="10657" y="11282"/>
                  <a:pt x="10712" y="11304"/>
                  <a:pt x="10740" y="11336"/>
                </a:cubicBezTo>
                <a:cubicBezTo>
                  <a:pt x="10740" y="11344"/>
                  <a:pt x="10740" y="11353"/>
                  <a:pt x="10740" y="11361"/>
                </a:cubicBezTo>
                <a:cubicBezTo>
                  <a:pt x="10772" y="11382"/>
                  <a:pt x="10769" y="11379"/>
                  <a:pt x="10790" y="11410"/>
                </a:cubicBezTo>
                <a:cubicBezTo>
                  <a:pt x="10802" y="11430"/>
                  <a:pt x="10801" y="11446"/>
                  <a:pt x="10815" y="11485"/>
                </a:cubicBezTo>
                <a:cubicBezTo>
                  <a:pt x="10828" y="11522"/>
                  <a:pt x="10846" y="11568"/>
                  <a:pt x="10864" y="11609"/>
                </a:cubicBezTo>
                <a:cubicBezTo>
                  <a:pt x="10889" y="11665"/>
                  <a:pt x="10925" y="11696"/>
                  <a:pt x="10939" y="11757"/>
                </a:cubicBezTo>
                <a:cubicBezTo>
                  <a:pt x="10948" y="11795"/>
                  <a:pt x="10958" y="11822"/>
                  <a:pt x="10964" y="11857"/>
                </a:cubicBezTo>
                <a:cubicBezTo>
                  <a:pt x="10972" y="11904"/>
                  <a:pt x="10964" y="11957"/>
                  <a:pt x="10964" y="12005"/>
                </a:cubicBezTo>
                <a:cubicBezTo>
                  <a:pt x="11104" y="12005"/>
                  <a:pt x="11245" y="12005"/>
                  <a:pt x="11385" y="12005"/>
                </a:cubicBezTo>
              </a:path>
              <a:path w="5731" h="794">
                <a:moveTo>
                  <a:pt x="11485" y="11906"/>
                </a:moveTo>
                <a:cubicBezTo>
                  <a:pt x="11556" y="11902"/>
                  <a:pt x="11618" y="11889"/>
                  <a:pt x="11683" y="11881"/>
                </a:cubicBezTo>
                <a:cubicBezTo>
                  <a:pt x="11808" y="11866"/>
                  <a:pt x="11933" y="11896"/>
                  <a:pt x="12055" y="11906"/>
                </a:cubicBezTo>
                <a:cubicBezTo>
                  <a:pt x="12066" y="11907"/>
                  <a:pt x="12359" y="11906"/>
                  <a:pt x="12229" y="11906"/>
                </a:cubicBezTo>
                <a:cubicBezTo>
                  <a:pt x="12121" y="11906"/>
                  <a:pt x="11991" y="11895"/>
                  <a:pt x="11881" y="11881"/>
                </a:cubicBezTo>
                <a:cubicBezTo>
                  <a:pt x="11792" y="11870"/>
                  <a:pt x="11722" y="11835"/>
                  <a:pt x="11633" y="11832"/>
                </a:cubicBezTo>
                <a:cubicBezTo>
                  <a:pt x="11493" y="11827"/>
                  <a:pt x="11352" y="11832"/>
                  <a:pt x="11212" y="11832"/>
                </a:cubicBezTo>
                <a:cubicBezTo>
                  <a:pt x="12295" y="11832"/>
                  <a:pt x="13378" y="11832"/>
                  <a:pt x="14461" y="11832"/>
                </a:cubicBezTo>
              </a:path>
              <a:path w="5731" h="794">
                <a:moveTo>
                  <a:pt x="11609" y="11658"/>
                </a:moveTo>
                <a:cubicBezTo>
                  <a:pt x="11517" y="11658"/>
                  <a:pt x="11449" y="11670"/>
                  <a:pt x="11361" y="11683"/>
                </a:cubicBezTo>
                <a:cubicBezTo>
                  <a:pt x="11344" y="11683"/>
                  <a:pt x="11328" y="11683"/>
                  <a:pt x="11311" y="11683"/>
                </a:cubicBezTo>
                <a:cubicBezTo>
                  <a:pt x="11350" y="11683"/>
                  <a:pt x="11380" y="11699"/>
                  <a:pt x="11385" y="11658"/>
                </a:cubicBezTo>
                <a:cubicBezTo>
                  <a:pt x="11399" y="11538"/>
                  <a:pt x="11385" y="11407"/>
                  <a:pt x="11385" y="11286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4044960" y="5224320"/>
            <a:ext cx="1411200" cy="509760"/>
          </a:xfrm>
          <a:custGeom>
            <a:avLst/>
            <a:gdLst/>
            <a:ahLst/>
            <a:rect l="l" t="t" r="r" b="b"/>
            <a:pathLst>
              <a:path w="3920" h="1415">
                <a:moveTo>
                  <a:pt x="15156" y="9153"/>
                </a:moveTo>
                <a:cubicBezTo>
                  <a:pt x="15156" y="9335"/>
                  <a:pt x="15156" y="9517"/>
                  <a:pt x="15156" y="9699"/>
                </a:cubicBezTo>
                <a:cubicBezTo>
                  <a:pt x="15156" y="9628"/>
                  <a:pt x="15142" y="9589"/>
                  <a:pt x="15131" y="9525"/>
                </a:cubicBezTo>
                <a:cubicBezTo>
                  <a:pt x="15129" y="9513"/>
                  <a:pt x="15117" y="9435"/>
                  <a:pt x="15106" y="9426"/>
                </a:cubicBezTo>
                <a:cubicBezTo>
                  <a:pt x="15085" y="9409"/>
                  <a:pt x="15076" y="9361"/>
                  <a:pt x="15056" y="9351"/>
                </a:cubicBezTo>
                <a:cubicBezTo>
                  <a:pt x="15008" y="9326"/>
                  <a:pt x="15016" y="9337"/>
                  <a:pt x="14982" y="9277"/>
                </a:cubicBezTo>
              </a:path>
              <a:path w="3920" h="1415">
                <a:moveTo>
                  <a:pt x="14932" y="9153"/>
                </a:moveTo>
                <a:cubicBezTo>
                  <a:pt x="14882" y="9153"/>
                  <a:pt x="14874" y="9142"/>
                  <a:pt x="14833" y="9128"/>
                </a:cubicBezTo>
                <a:cubicBezTo>
                  <a:pt x="14733" y="9095"/>
                  <a:pt x="14567" y="9123"/>
                  <a:pt x="14461" y="9103"/>
                </a:cubicBezTo>
                <a:cubicBezTo>
                  <a:pt x="14393" y="9090"/>
                  <a:pt x="14334" y="9079"/>
                  <a:pt x="14263" y="9079"/>
                </a:cubicBezTo>
                <a:cubicBezTo>
                  <a:pt x="14185" y="9079"/>
                  <a:pt x="14021" y="9102"/>
                  <a:pt x="13990" y="9054"/>
                </a:cubicBezTo>
              </a:path>
              <a:path w="3920" h="1415">
                <a:moveTo>
                  <a:pt x="13618" y="9153"/>
                </a:moveTo>
                <a:cubicBezTo>
                  <a:pt x="13618" y="9182"/>
                  <a:pt x="13618" y="9336"/>
                  <a:pt x="13618" y="9277"/>
                </a:cubicBezTo>
                <a:cubicBezTo>
                  <a:pt x="13618" y="9260"/>
                  <a:pt x="13618" y="9244"/>
                  <a:pt x="13618" y="9227"/>
                </a:cubicBezTo>
              </a:path>
              <a:path w="3920" h="1415">
                <a:moveTo>
                  <a:pt x="12229" y="10071"/>
                </a:moveTo>
                <a:cubicBezTo>
                  <a:pt x="12453" y="10071"/>
                  <a:pt x="13001" y="9968"/>
                  <a:pt x="13171" y="10096"/>
                </a:cubicBezTo>
              </a:path>
              <a:path w="3920" h="1415">
                <a:moveTo>
                  <a:pt x="13791" y="10294"/>
                </a:moveTo>
                <a:cubicBezTo>
                  <a:pt x="13760" y="10338"/>
                  <a:pt x="13767" y="10361"/>
                  <a:pt x="13767" y="10418"/>
                </a:cubicBezTo>
                <a:cubicBezTo>
                  <a:pt x="13767" y="10443"/>
                  <a:pt x="13767" y="10451"/>
                  <a:pt x="13767" y="10468"/>
                </a:cubicBezTo>
              </a:path>
              <a:path w="3920" h="1415">
                <a:moveTo>
                  <a:pt x="11658" y="10344"/>
                </a:moveTo>
                <a:cubicBezTo>
                  <a:pt x="11658" y="10356"/>
                  <a:pt x="11658" y="10460"/>
                  <a:pt x="11658" y="10393"/>
                </a:cubicBezTo>
                <a:cubicBezTo>
                  <a:pt x="11658" y="10332"/>
                  <a:pt x="11668" y="10298"/>
                  <a:pt x="11683" y="10269"/>
                </a:cubicBezTo>
                <a:cubicBezTo>
                  <a:pt x="11683" y="10244"/>
                  <a:pt x="11683" y="10236"/>
                  <a:pt x="11683" y="10220"/>
                </a:cubicBezTo>
                <a:cubicBezTo>
                  <a:pt x="11718" y="10215"/>
                  <a:pt x="11804" y="10202"/>
                  <a:pt x="11832" y="10170"/>
                </a:cubicBezTo>
                <a:cubicBezTo>
                  <a:pt x="11860" y="10138"/>
                  <a:pt x="11832" y="10145"/>
                  <a:pt x="11906" y="10145"/>
                </a:cubicBezTo>
                <a:cubicBezTo>
                  <a:pt x="11980" y="10145"/>
                  <a:pt x="11776" y="10145"/>
                  <a:pt x="11757" y="10145"/>
                </a:cubicBezTo>
                <a:cubicBezTo>
                  <a:pt x="11691" y="10145"/>
                  <a:pt x="11625" y="10145"/>
                  <a:pt x="11559" y="10145"/>
                </a:cubicBezTo>
                <a:cubicBezTo>
                  <a:pt x="11559" y="10200"/>
                  <a:pt x="11544" y="10250"/>
                  <a:pt x="11584" y="10269"/>
                </a:cubicBezTo>
                <a:cubicBezTo>
                  <a:pt x="11624" y="10289"/>
                  <a:pt x="11640" y="10288"/>
                  <a:pt x="11633" y="10319"/>
                </a:cubicBezTo>
              </a:path>
              <a:path w="3920" h="1415">
                <a:moveTo>
                  <a:pt x="11683" y="10021"/>
                </a:moveTo>
                <a:cubicBezTo>
                  <a:pt x="11683" y="9847"/>
                  <a:pt x="11683" y="9674"/>
                  <a:pt x="11683" y="9500"/>
                </a:cubicBezTo>
              </a:path>
              <a:path w="3920" h="1415">
                <a:moveTo>
                  <a:pt x="11658" y="9054"/>
                </a:moveTo>
                <a:cubicBezTo>
                  <a:pt x="11608" y="9054"/>
                  <a:pt x="11597" y="9054"/>
                  <a:pt x="11584" y="9103"/>
                </a:cubicBezTo>
                <a:cubicBezTo>
                  <a:pt x="11468" y="9103"/>
                  <a:pt x="11353" y="9103"/>
                  <a:pt x="11237" y="9103"/>
                </a:cubicBezTo>
              </a:path>
              <a:path w="3920" h="1415">
                <a:moveTo>
                  <a:pt x="13469" y="9922"/>
                </a:moveTo>
                <a:cubicBezTo>
                  <a:pt x="13362" y="9922"/>
                  <a:pt x="13264" y="9928"/>
                  <a:pt x="13171" y="9947"/>
                </a:cubicBezTo>
                <a:cubicBezTo>
                  <a:pt x="13040" y="9973"/>
                  <a:pt x="12884" y="9947"/>
                  <a:pt x="12750" y="9947"/>
                </a:cubicBezTo>
              </a:path>
              <a:path w="3920" h="1415">
                <a:moveTo>
                  <a:pt x="13816" y="9847"/>
                </a:moveTo>
                <a:cubicBezTo>
                  <a:pt x="13940" y="9847"/>
                  <a:pt x="14064" y="9847"/>
                  <a:pt x="14188" y="9847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6012000" y="5086440"/>
            <a:ext cx="206280" cy="420480"/>
          </a:xfrm>
          <a:custGeom>
            <a:avLst/>
            <a:gdLst/>
            <a:ahLst/>
            <a:rect l="l" t="t" r="r" b="b"/>
            <a:pathLst>
              <a:path w="572" h="1167">
                <a:moveTo>
                  <a:pt x="16718" y="8930"/>
                </a:moveTo>
                <a:cubicBezTo>
                  <a:pt x="16727" y="8991"/>
                  <a:pt x="16748" y="9030"/>
                  <a:pt x="16793" y="9079"/>
                </a:cubicBezTo>
                <a:cubicBezTo>
                  <a:pt x="16823" y="9112"/>
                  <a:pt x="16840" y="9161"/>
                  <a:pt x="16867" y="9203"/>
                </a:cubicBezTo>
                <a:cubicBezTo>
                  <a:pt x="16898" y="9250"/>
                  <a:pt x="16933" y="9269"/>
                  <a:pt x="16966" y="9302"/>
                </a:cubicBezTo>
                <a:cubicBezTo>
                  <a:pt x="16996" y="9354"/>
                  <a:pt x="17020" y="9403"/>
                  <a:pt x="17066" y="9451"/>
                </a:cubicBezTo>
                <a:cubicBezTo>
                  <a:pt x="17124" y="9513"/>
                  <a:pt x="17154" y="9497"/>
                  <a:pt x="17214" y="9525"/>
                </a:cubicBezTo>
                <a:cubicBezTo>
                  <a:pt x="17237" y="9548"/>
                  <a:pt x="17245" y="9552"/>
                  <a:pt x="17239" y="9575"/>
                </a:cubicBezTo>
                <a:cubicBezTo>
                  <a:pt x="17261" y="9591"/>
                  <a:pt x="17267" y="9583"/>
                  <a:pt x="17289" y="9599"/>
                </a:cubicBezTo>
                <a:cubicBezTo>
                  <a:pt x="17289" y="9765"/>
                  <a:pt x="17289" y="9930"/>
                  <a:pt x="17289" y="10096"/>
                </a:cubicBezTo>
              </a:path>
              <a:path w="572" h="1167">
                <a:moveTo>
                  <a:pt x="16743" y="9029"/>
                </a:moveTo>
                <a:cubicBezTo>
                  <a:pt x="16743" y="9004"/>
                  <a:pt x="16743" y="8996"/>
                  <a:pt x="16743" y="8979"/>
                </a:cubicBezTo>
                <a:cubicBezTo>
                  <a:pt x="16806" y="8992"/>
                  <a:pt x="16833" y="9034"/>
                  <a:pt x="16892" y="9054"/>
                </a:cubicBezTo>
                <a:cubicBezTo>
                  <a:pt x="16917" y="9054"/>
                  <a:pt x="16925" y="9054"/>
                  <a:pt x="16942" y="9054"/>
                </a:cubicBezTo>
                <a:cubicBezTo>
                  <a:pt x="16954" y="9104"/>
                  <a:pt x="16966" y="9103"/>
                  <a:pt x="17016" y="9103"/>
                </a:cubicBezTo>
                <a:cubicBezTo>
                  <a:pt x="17016" y="9146"/>
                  <a:pt x="17006" y="9141"/>
                  <a:pt x="17041" y="9153"/>
                </a:cubicBezTo>
                <a:cubicBezTo>
                  <a:pt x="17041" y="9196"/>
                  <a:pt x="17031" y="9191"/>
                  <a:pt x="17066" y="9203"/>
                </a:cubicBezTo>
                <a:cubicBezTo>
                  <a:pt x="17066" y="9253"/>
                  <a:pt x="17066" y="9265"/>
                  <a:pt x="17115" y="9277"/>
                </a:cubicBezTo>
                <a:cubicBezTo>
                  <a:pt x="17115" y="9364"/>
                  <a:pt x="17117" y="9340"/>
                  <a:pt x="17165" y="9401"/>
                </a:cubicBezTo>
                <a:cubicBezTo>
                  <a:pt x="17206" y="9454"/>
                  <a:pt x="17172" y="9483"/>
                  <a:pt x="17239" y="9500"/>
                </a:cubicBezTo>
                <a:cubicBezTo>
                  <a:pt x="17239" y="9525"/>
                  <a:pt x="17239" y="9550"/>
                  <a:pt x="17239" y="9575"/>
                </a:cubicBezTo>
                <a:cubicBezTo>
                  <a:pt x="17274" y="9575"/>
                  <a:pt x="17287" y="9584"/>
                  <a:pt x="17289" y="9624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3635280" y="5518080"/>
            <a:ext cx="108000" cy="54000"/>
          </a:xfrm>
          <a:custGeom>
            <a:avLst/>
            <a:gdLst/>
            <a:ahLst/>
            <a:rect l="l" t="t" r="r" b="b"/>
            <a:pathLst>
              <a:path w="299" h="150">
                <a:moveTo>
                  <a:pt x="10393" y="9798"/>
                </a:moveTo>
                <a:cubicBezTo>
                  <a:pt x="10416" y="9809"/>
                  <a:pt x="10476" y="9861"/>
                  <a:pt x="10492" y="9897"/>
                </a:cubicBezTo>
                <a:cubicBezTo>
                  <a:pt x="10492" y="9905"/>
                  <a:pt x="10492" y="9914"/>
                  <a:pt x="10492" y="9922"/>
                </a:cubicBezTo>
                <a:cubicBezTo>
                  <a:pt x="10557" y="9922"/>
                  <a:pt x="10590" y="9936"/>
                  <a:pt x="10641" y="9947"/>
                </a:cubicBezTo>
                <a:cubicBezTo>
                  <a:pt x="10658" y="9947"/>
                  <a:pt x="10674" y="9947"/>
                  <a:pt x="10691" y="9947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3902040" y="2649600"/>
            <a:ext cx="214200" cy="169920"/>
          </a:xfrm>
          <a:custGeom>
            <a:avLst/>
            <a:gdLst/>
            <a:ahLst/>
            <a:rect l="l" t="t" r="r" b="b"/>
            <a:pathLst>
              <a:path w="596" h="472">
                <a:moveTo>
                  <a:pt x="11112" y="3473"/>
                </a:moveTo>
                <a:cubicBezTo>
                  <a:pt x="11112" y="3448"/>
                  <a:pt x="11112" y="3423"/>
                  <a:pt x="11112" y="3398"/>
                </a:cubicBezTo>
                <a:cubicBezTo>
                  <a:pt x="11232" y="3436"/>
                  <a:pt x="11326" y="3486"/>
                  <a:pt x="11435" y="3547"/>
                </a:cubicBezTo>
                <a:cubicBezTo>
                  <a:pt x="11435" y="3490"/>
                  <a:pt x="11425" y="3469"/>
                  <a:pt x="11410" y="3423"/>
                </a:cubicBezTo>
                <a:cubicBezTo>
                  <a:pt x="11399" y="3389"/>
                  <a:pt x="11370" y="3384"/>
                  <a:pt x="11361" y="3349"/>
                </a:cubicBezTo>
                <a:cubicBezTo>
                  <a:pt x="11346" y="3286"/>
                  <a:pt x="11346" y="3228"/>
                  <a:pt x="11311" y="3175"/>
                </a:cubicBezTo>
                <a:cubicBezTo>
                  <a:pt x="11303" y="3167"/>
                  <a:pt x="11294" y="3158"/>
                  <a:pt x="11286" y="3150"/>
                </a:cubicBezTo>
                <a:cubicBezTo>
                  <a:pt x="11286" y="3200"/>
                  <a:pt x="11275" y="3209"/>
                  <a:pt x="11261" y="3249"/>
                </a:cubicBezTo>
                <a:cubicBezTo>
                  <a:pt x="11258" y="3258"/>
                  <a:pt x="11220" y="3319"/>
                  <a:pt x="11212" y="3324"/>
                </a:cubicBezTo>
                <a:cubicBezTo>
                  <a:pt x="11184" y="3343"/>
                  <a:pt x="11165" y="3380"/>
                  <a:pt x="11112" y="3398"/>
                </a:cubicBezTo>
                <a:cubicBezTo>
                  <a:pt x="11039" y="3423"/>
                  <a:pt x="10954" y="3369"/>
                  <a:pt x="10914" y="3423"/>
                </a:cubicBezTo>
                <a:cubicBezTo>
                  <a:pt x="10888" y="3457"/>
                  <a:pt x="10853" y="3483"/>
                  <a:pt x="10840" y="3522"/>
                </a:cubicBezTo>
                <a:cubicBezTo>
                  <a:pt x="10831" y="3548"/>
                  <a:pt x="10840" y="3593"/>
                  <a:pt x="10840" y="3621"/>
                </a:cubicBezTo>
                <a:cubicBezTo>
                  <a:pt x="10889" y="3621"/>
                  <a:pt x="10899" y="3610"/>
                  <a:pt x="10939" y="3597"/>
                </a:cubicBezTo>
                <a:cubicBezTo>
                  <a:pt x="10947" y="3594"/>
                  <a:pt x="11008" y="3555"/>
                  <a:pt x="11013" y="3547"/>
                </a:cubicBezTo>
                <a:cubicBezTo>
                  <a:pt x="11031" y="3520"/>
                  <a:pt x="11038" y="3484"/>
                  <a:pt x="11038" y="3448"/>
                </a:cubicBezTo>
                <a:cubicBezTo>
                  <a:pt x="11038" y="3407"/>
                  <a:pt x="11038" y="3365"/>
                  <a:pt x="11038" y="3324"/>
                </a:cubicBezTo>
              </a:path>
              <a:path w="596" h="472">
                <a:moveTo>
                  <a:pt x="11212" y="3225"/>
                </a:moveTo>
                <a:cubicBezTo>
                  <a:pt x="11238" y="3172"/>
                  <a:pt x="11287" y="3185"/>
                  <a:pt x="11311" y="3150"/>
                </a:cubicBezTo>
              </a:path>
            </a:pathLst>
          </a:custGeom>
          <a:noFill/>
          <a:ln cap="rnd" w="1908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4830840" y="2284560"/>
            <a:ext cx="304560" cy="303120"/>
          </a:xfrm>
          <a:custGeom>
            <a:avLst/>
            <a:gdLst/>
            <a:ahLst/>
            <a:rect l="l" t="t" r="r" b="b"/>
            <a:pathLst>
              <a:path w="845" h="845">
                <a:moveTo>
                  <a:pt x="13419" y="2654"/>
                </a:moveTo>
                <a:cubicBezTo>
                  <a:pt x="13419" y="2762"/>
                  <a:pt x="13419" y="2869"/>
                  <a:pt x="13419" y="2977"/>
                </a:cubicBezTo>
              </a:path>
              <a:path w="845" h="845">
                <a:moveTo>
                  <a:pt x="13767" y="2381"/>
                </a:moveTo>
                <a:cubicBezTo>
                  <a:pt x="13789" y="2358"/>
                  <a:pt x="13794" y="2350"/>
                  <a:pt x="13816" y="2356"/>
                </a:cubicBezTo>
                <a:cubicBezTo>
                  <a:pt x="13829" y="2318"/>
                  <a:pt x="13857" y="2330"/>
                  <a:pt x="13891" y="2307"/>
                </a:cubicBezTo>
                <a:cubicBezTo>
                  <a:pt x="13926" y="2283"/>
                  <a:pt x="13960" y="2258"/>
                  <a:pt x="13990" y="2232"/>
                </a:cubicBezTo>
                <a:cubicBezTo>
                  <a:pt x="14022" y="2204"/>
                  <a:pt x="14124" y="2168"/>
                  <a:pt x="14163" y="2158"/>
                </a:cubicBezTo>
                <a:cubicBezTo>
                  <a:pt x="14227" y="2142"/>
                  <a:pt x="14221" y="2147"/>
                  <a:pt x="14263" y="2133"/>
                </a:cubicBezTo>
              </a:path>
            </a:pathLst>
          </a:custGeom>
          <a:noFill/>
          <a:ln cap="rnd" w="1908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3902040" y="4653000"/>
            <a:ext cx="1332000" cy="27000"/>
          </a:xfrm>
          <a:custGeom>
            <a:avLst/>
            <a:gdLst/>
            <a:ahLst/>
            <a:rect l="l" t="t" r="r" b="b"/>
            <a:pathLst>
              <a:path w="3697" h="75">
                <a:moveTo>
                  <a:pt x="10840" y="8186"/>
                </a:moveTo>
                <a:cubicBezTo>
                  <a:pt x="10876" y="8198"/>
                  <a:pt x="10965" y="8210"/>
                  <a:pt x="11038" y="8210"/>
                </a:cubicBezTo>
                <a:cubicBezTo>
                  <a:pt x="11865" y="8210"/>
                  <a:pt x="12726" y="8147"/>
                  <a:pt x="13543" y="8235"/>
                </a:cubicBezTo>
                <a:cubicBezTo>
                  <a:pt x="13674" y="8249"/>
                  <a:pt x="13814" y="8246"/>
                  <a:pt x="13940" y="8260"/>
                </a:cubicBezTo>
                <a:cubicBezTo>
                  <a:pt x="14133" y="8282"/>
                  <a:pt x="14342" y="8260"/>
                  <a:pt x="14536" y="8260"/>
                </a:cubicBezTo>
              </a:path>
            </a:pathLst>
          </a:custGeom>
          <a:noFill/>
          <a:ln cap="rnd"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3170160" y="4626000"/>
            <a:ext cx="88920" cy="27000"/>
          </a:xfrm>
          <a:custGeom>
            <a:avLst/>
            <a:gdLst/>
            <a:ahLst/>
            <a:rect l="l" t="t" r="r" b="b"/>
            <a:pathLst>
              <a:path w="249" h="75">
                <a:moveTo>
                  <a:pt x="8806" y="8111"/>
                </a:moveTo>
                <a:cubicBezTo>
                  <a:pt x="8806" y="8103"/>
                  <a:pt x="8806" y="8094"/>
                  <a:pt x="8806" y="8086"/>
                </a:cubicBezTo>
                <a:cubicBezTo>
                  <a:pt x="8845" y="8076"/>
                  <a:pt x="8869" y="8049"/>
                  <a:pt x="8905" y="8037"/>
                </a:cubicBezTo>
                <a:cubicBezTo>
                  <a:pt x="8945" y="8024"/>
                  <a:pt x="9012" y="8037"/>
                  <a:pt x="9054" y="8037"/>
                </a:cubicBezTo>
                <a:cubicBezTo>
                  <a:pt x="8998" y="8037"/>
                  <a:pt x="8992" y="8022"/>
                  <a:pt x="8979" y="8062"/>
                </a:cubicBezTo>
              </a:path>
            </a:pathLst>
          </a:custGeom>
          <a:noFill/>
          <a:ln cap="rnd"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3260880" y="5769000"/>
            <a:ext cx="231480" cy="36360"/>
          </a:xfrm>
          <a:custGeom>
            <a:avLst/>
            <a:gdLst/>
            <a:ahLst/>
            <a:rect l="l" t="t" r="r" b="b"/>
            <a:pathLst>
              <a:path w="646" h="100">
                <a:moveTo>
                  <a:pt x="8731" y="11906"/>
                </a:moveTo>
                <a:cubicBezTo>
                  <a:pt x="8746" y="11861"/>
                  <a:pt x="8790" y="11879"/>
                  <a:pt x="8830" y="11857"/>
                </a:cubicBezTo>
                <a:cubicBezTo>
                  <a:pt x="8880" y="11829"/>
                  <a:pt x="8917" y="11832"/>
                  <a:pt x="8979" y="11832"/>
                </a:cubicBezTo>
                <a:cubicBezTo>
                  <a:pt x="9018" y="11832"/>
                  <a:pt x="8999" y="11807"/>
                  <a:pt x="9054" y="11807"/>
                </a:cubicBezTo>
                <a:cubicBezTo>
                  <a:pt x="9130" y="11807"/>
                  <a:pt x="9331" y="11807"/>
                  <a:pt x="9327" y="11807"/>
                </a:cubicBezTo>
                <a:cubicBezTo>
                  <a:pt x="9219" y="11807"/>
                  <a:pt x="9112" y="11807"/>
                  <a:pt x="9004" y="11807"/>
                </a:cubicBezTo>
                <a:cubicBezTo>
                  <a:pt x="9128" y="11807"/>
                  <a:pt x="9252" y="11807"/>
                  <a:pt x="9376" y="11807"/>
                </a:cubicBezTo>
                <a:cubicBezTo>
                  <a:pt x="9325" y="11820"/>
                  <a:pt x="9312" y="11857"/>
                  <a:pt x="9252" y="11857"/>
                </a:cubicBezTo>
                <a:cubicBezTo>
                  <a:pt x="9161" y="11857"/>
                  <a:pt x="9070" y="11857"/>
                  <a:pt x="8979" y="11857"/>
                </a:cubicBezTo>
                <a:cubicBezTo>
                  <a:pt x="9070" y="11857"/>
                  <a:pt x="9161" y="11857"/>
                  <a:pt x="9252" y="11857"/>
                </a:cubicBezTo>
              </a:path>
            </a:pathLst>
          </a:custGeom>
          <a:noFill/>
          <a:ln cap="rnd" w="1908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5786280" y="3240000"/>
            <a:ext cx="374760" cy="88920"/>
          </a:xfrm>
          <a:custGeom>
            <a:avLst/>
            <a:gdLst/>
            <a:ahLst/>
            <a:rect l="l" t="t" r="r" b="b"/>
            <a:pathLst>
              <a:path w="1043" h="249">
                <a:moveTo>
                  <a:pt x="16073" y="5035"/>
                </a:moveTo>
                <a:cubicBezTo>
                  <a:pt x="16123" y="5035"/>
                  <a:pt x="16182" y="5015"/>
                  <a:pt x="16197" y="5011"/>
                </a:cubicBezTo>
                <a:cubicBezTo>
                  <a:pt x="16458" y="4943"/>
                  <a:pt x="16817" y="5011"/>
                  <a:pt x="17090" y="5011"/>
                </a:cubicBezTo>
                <a:cubicBezTo>
                  <a:pt x="17090" y="4964"/>
                  <a:pt x="17107" y="4948"/>
                  <a:pt x="17115" y="4911"/>
                </a:cubicBezTo>
                <a:cubicBezTo>
                  <a:pt x="17123" y="4875"/>
                  <a:pt x="17115" y="4824"/>
                  <a:pt x="17115" y="4787"/>
                </a:cubicBezTo>
              </a:path>
            </a:pathLst>
          </a:custGeom>
          <a:noFill/>
          <a:ln cap="rnd" w="1908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3963960" y="5999040"/>
            <a:ext cx="2171880" cy="293760"/>
          </a:xfrm>
          <a:custGeom>
            <a:avLst/>
            <a:gdLst/>
            <a:ahLst/>
            <a:rect l="l" t="t" r="r" b="b"/>
            <a:pathLst>
              <a:path w="6029" h="819">
                <a:moveTo>
                  <a:pt x="11013" y="11956"/>
                </a:moveTo>
                <a:cubicBezTo>
                  <a:pt x="11015" y="11956"/>
                  <a:pt x="11098" y="11980"/>
                  <a:pt x="11137" y="11981"/>
                </a:cubicBezTo>
                <a:cubicBezTo>
                  <a:pt x="12244" y="12009"/>
                  <a:pt x="13354" y="11981"/>
                  <a:pt x="14461" y="11981"/>
                </a:cubicBezTo>
                <a:cubicBezTo>
                  <a:pt x="14465" y="11914"/>
                  <a:pt x="14484" y="11786"/>
                  <a:pt x="14486" y="11757"/>
                </a:cubicBezTo>
                <a:cubicBezTo>
                  <a:pt x="14490" y="11698"/>
                  <a:pt x="14498" y="11661"/>
                  <a:pt x="14511" y="11633"/>
                </a:cubicBezTo>
                <a:cubicBezTo>
                  <a:pt x="14527" y="11598"/>
                  <a:pt x="14548" y="11591"/>
                  <a:pt x="14560" y="11559"/>
                </a:cubicBezTo>
                <a:cubicBezTo>
                  <a:pt x="14582" y="11499"/>
                  <a:pt x="14575" y="11476"/>
                  <a:pt x="14610" y="11435"/>
                </a:cubicBezTo>
                <a:cubicBezTo>
                  <a:pt x="14637" y="11403"/>
                  <a:pt x="14653" y="11388"/>
                  <a:pt x="14684" y="11361"/>
                </a:cubicBezTo>
                <a:cubicBezTo>
                  <a:pt x="14713" y="11336"/>
                  <a:pt x="14749" y="11308"/>
                  <a:pt x="14784" y="11286"/>
                </a:cubicBezTo>
                <a:cubicBezTo>
                  <a:pt x="14805" y="11273"/>
                  <a:pt x="14858" y="11246"/>
                  <a:pt x="14883" y="11237"/>
                </a:cubicBezTo>
                <a:cubicBezTo>
                  <a:pt x="14893" y="11234"/>
                  <a:pt x="15000" y="11213"/>
                  <a:pt x="15007" y="11212"/>
                </a:cubicBezTo>
                <a:cubicBezTo>
                  <a:pt x="15237" y="11186"/>
                  <a:pt x="15529" y="11193"/>
                  <a:pt x="15751" y="11237"/>
                </a:cubicBezTo>
                <a:cubicBezTo>
                  <a:pt x="15817" y="11250"/>
                  <a:pt x="15815" y="11265"/>
                  <a:pt x="15850" y="11286"/>
                </a:cubicBezTo>
                <a:cubicBezTo>
                  <a:pt x="15896" y="11314"/>
                  <a:pt x="15889" y="11277"/>
                  <a:pt x="15925" y="11336"/>
                </a:cubicBezTo>
                <a:cubicBezTo>
                  <a:pt x="15954" y="11384"/>
                  <a:pt x="15934" y="11408"/>
                  <a:pt x="15949" y="11460"/>
                </a:cubicBezTo>
                <a:cubicBezTo>
                  <a:pt x="15954" y="11477"/>
                  <a:pt x="15969" y="11508"/>
                  <a:pt x="15974" y="11559"/>
                </a:cubicBezTo>
                <a:cubicBezTo>
                  <a:pt x="15986" y="11685"/>
                  <a:pt x="15987" y="11808"/>
                  <a:pt x="15999" y="11931"/>
                </a:cubicBezTo>
                <a:cubicBezTo>
                  <a:pt x="15999" y="11956"/>
                  <a:pt x="15999" y="11964"/>
                  <a:pt x="15999" y="11981"/>
                </a:cubicBezTo>
                <a:cubicBezTo>
                  <a:pt x="16161" y="11981"/>
                  <a:pt x="16320" y="11979"/>
                  <a:pt x="16470" y="11956"/>
                </a:cubicBezTo>
                <a:cubicBezTo>
                  <a:pt x="16533" y="11946"/>
                  <a:pt x="16607" y="11935"/>
                  <a:pt x="16669" y="11931"/>
                </a:cubicBezTo>
                <a:cubicBezTo>
                  <a:pt x="16775" y="11924"/>
                  <a:pt x="16885" y="11931"/>
                  <a:pt x="16991" y="11931"/>
                </a:cubicBezTo>
                <a:cubicBezTo>
                  <a:pt x="16941" y="11942"/>
                  <a:pt x="16944" y="11952"/>
                  <a:pt x="16892" y="11956"/>
                </a:cubicBezTo>
                <a:cubicBezTo>
                  <a:pt x="16753" y="11967"/>
                  <a:pt x="16609" y="11956"/>
                  <a:pt x="16470" y="11956"/>
                </a:cubicBezTo>
                <a:cubicBezTo>
                  <a:pt x="16521" y="11983"/>
                  <a:pt x="16550" y="12020"/>
                  <a:pt x="16644" y="12030"/>
                </a:cubicBezTo>
                <a:cubicBezTo>
                  <a:pt x="16773" y="12043"/>
                  <a:pt x="16911" y="12030"/>
                  <a:pt x="17041" y="12030"/>
                </a:cubicBezTo>
                <a:cubicBezTo>
                  <a:pt x="16967" y="12021"/>
                  <a:pt x="16904" y="12022"/>
                  <a:pt x="16867" y="12005"/>
                </a:cubicBezTo>
                <a:cubicBezTo>
                  <a:pt x="16867" y="11997"/>
                  <a:pt x="16867" y="11989"/>
                  <a:pt x="16867" y="11981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3132000" y="5959440"/>
            <a:ext cx="250920" cy="277920"/>
          </a:xfrm>
          <a:custGeom>
            <a:avLst/>
            <a:gdLst/>
            <a:ahLst/>
            <a:rect l="l" t="t" r="r" b="b"/>
            <a:pathLst>
              <a:path w="695" h="770">
                <a:moveTo>
                  <a:pt x="9500" y="10120"/>
                </a:moveTo>
                <a:cubicBezTo>
                  <a:pt x="9464" y="10129"/>
                  <a:pt x="9434" y="10163"/>
                  <a:pt x="9401" y="10170"/>
                </a:cubicBezTo>
                <a:cubicBezTo>
                  <a:pt x="9359" y="10179"/>
                  <a:pt x="9314" y="10191"/>
                  <a:pt x="9277" y="10195"/>
                </a:cubicBezTo>
                <a:cubicBezTo>
                  <a:pt x="9256" y="10197"/>
                  <a:pt x="9227" y="10228"/>
                  <a:pt x="9203" y="10244"/>
                </a:cubicBezTo>
                <a:cubicBezTo>
                  <a:pt x="9177" y="10262"/>
                  <a:pt x="9137" y="10314"/>
                  <a:pt x="9128" y="10319"/>
                </a:cubicBezTo>
                <a:cubicBezTo>
                  <a:pt x="9087" y="10339"/>
                  <a:pt x="9045" y="10359"/>
                  <a:pt x="9029" y="10393"/>
                </a:cubicBezTo>
                <a:cubicBezTo>
                  <a:pt x="8999" y="10458"/>
                  <a:pt x="8947" y="10433"/>
                  <a:pt x="8930" y="10468"/>
                </a:cubicBezTo>
                <a:cubicBezTo>
                  <a:pt x="8911" y="10506"/>
                  <a:pt x="8890" y="10532"/>
                  <a:pt x="8855" y="10567"/>
                </a:cubicBezTo>
                <a:cubicBezTo>
                  <a:pt x="8827" y="10595"/>
                  <a:pt x="8810" y="10653"/>
                  <a:pt x="8806" y="10691"/>
                </a:cubicBezTo>
                <a:cubicBezTo>
                  <a:pt x="8798" y="10765"/>
                  <a:pt x="8733" y="10879"/>
                  <a:pt x="8806" y="10864"/>
                </a:cubicBezTo>
                <a:cubicBezTo>
                  <a:pt x="8822" y="10864"/>
                  <a:pt x="8839" y="10864"/>
                  <a:pt x="8855" y="10864"/>
                </a:cubicBezTo>
                <a:cubicBezTo>
                  <a:pt x="8855" y="10801"/>
                  <a:pt x="8884" y="10821"/>
                  <a:pt x="8905" y="10790"/>
                </a:cubicBezTo>
                <a:cubicBezTo>
                  <a:pt x="8920" y="10767"/>
                  <a:pt x="8950" y="10756"/>
                  <a:pt x="8954" y="10716"/>
                </a:cubicBezTo>
                <a:cubicBezTo>
                  <a:pt x="8958" y="10675"/>
                  <a:pt x="8979" y="10662"/>
                  <a:pt x="8979" y="10616"/>
                </a:cubicBezTo>
                <a:cubicBezTo>
                  <a:pt x="8979" y="10575"/>
                  <a:pt x="8979" y="10533"/>
                  <a:pt x="8979" y="10492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3059280" y="5969160"/>
            <a:ext cx="61920" cy="268200"/>
          </a:xfrm>
          <a:custGeom>
            <a:avLst/>
            <a:gdLst/>
            <a:ahLst/>
            <a:rect l="l" t="t" r="r" b="b"/>
            <a:pathLst>
              <a:path w="174" h="746">
                <a:moveTo>
                  <a:pt x="8855" y="10988"/>
                </a:moveTo>
                <a:cubicBezTo>
                  <a:pt x="8855" y="10996"/>
                  <a:pt x="8855" y="11005"/>
                  <a:pt x="8855" y="11013"/>
                </a:cubicBezTo>
                <a:cubicBezTo>
                  <a:pt x="8817" y="11026"/>
                  <a:pt x="8830" y="11043"/>
                  <a:pt x="8830" y="11088"/>
                </a:cubicBezTo>
                <a:cubicBezTo>
                  <a:pt x="8830" y="11144"/>
                  <a:pt x="8845" y="11163"/>
                  <a:pt x="8781" y="11187"/>
                </a:cubicBezTo>
                <a:cubicBezTo>
                  <a:pt x="8754" y="11197"/>
                  <a:pt x="8712" y="11187"/>
                  <a:pt x="8682" y="11187"/>
                </a:cubicBezTo>
                <a:cubicBezTo>
                  <a:pt x="8682" y="11369"/>
                  <a:pt x="8682" y="11551"/>
                  <a:pt x="8682" y="11733"/>
                </a:cubicBezTo>
              </a:path>
            </a:pathLst>
          </a:custGeom>
          <a:noFill/>
          <a:ln cap="rnd"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3267000" y="5662440"/>
            <a:ext cx="81000" cy="71640"/>
          </a:xfrm>
          <a:custGeom>
            <a:avLst/>
            <a:gdLst/>
            <a:ahLst/>
            <a:rect l="l" t="t" r="r" b="b"/>
            <a:pathLst>
              <a:path w="224" h="200">
                <a:moveTo>
                  <a:pt x="9500" y="10071"/>
                </a:moveTo>
                <a:cubicBezTo>
                  <a:pt x="9510" y="10030"/>
                  <a:pt x="9509" y="10031"/>
                  <a:pt x="9550" y="10021"/>
                </a:cubicBezTo>
                <a:cubicBezTo>
                  <a:pt x="9550" y="9948"/>
                  <a:pt x="9572" y="10001"/>
                  <a:pt x="9599" y="9947"/>
                </a:cubicBezTo>
                <a:cubicBezTo>
                  <a:pt x="9616" y="9913"/>
                  <a:pt x="9631" y="9886"/>
                  <a:pt x="9674" y="9872"/>
                </a:cubicBezTo>
                <a:cubicBezTo>
                  <a:pt x="9699" y="9872"/>
                  <a:pt x="9707" y="9872"/>
                  <a:pt x="9723" y="9872"/>
                </a:cubicBezTo>
              </a:path>
            </a:pathLst>
          </a:custGeom>
          <a:noFill/>
          <a:ln cap="rnd" w="1908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3840120" y="5086440"/>
            <a:ext cx="2116080" cy="142920"/>
          </a:xfrm>
          <a:custGeom>
            <a:avLst/>
            <a:gdLst/>
            <a:ahLst/>
            <a:rect l="l" t="t" r="r" b="b"/>
            <a:pathLst>
              <a:path w="5880" h="398">
                <a:moveTo>
                  <a:pt x="10666" y="9277"/>
                </a:moveTo>
                <a:cubicBezTo>
                  <a:pt x="10692" y="9245"/>
                  <a:pt x="10724" y="9219"/>
                  <a:pt x="10740" y="9203"/>
                </a:cubicBezTo>
                <a:cubicBezTo>
                  <a:pt x="10788" y="9155"/>
                  <a:pt x="10815" y="9161"/>
                  <a:pt x="10864" y="9128"/>
                </a:cubicBezTo>
                <a:cubicBezTo>
                  <a:pt x="10878" y="9118"/>
                  <a:pt x="10890" y="9060"/>
                  <a:pt x="10914" y="9054"/>
                </a:cubicBezTo>
                <a:cubicBezTo>
                  <a:pt x="10982" y="9036"/>
                  <a:pt x="11046" y="9050"/>
                  <a:pt x="11112" y="9029"/>
                </a:cubicBezTo>
                <a:cubicBezTo>
                  <a:pt x="11161" y="9013"/>
                  <a:pt x="11209" y="8995"/>
                  <a:pt x="11261" y="8979"/>
                </a:cubicBezTo>
                <a:cubicBezTo>
                  <a:pt x="11310" y="8964"/>
                  <a:pt x="11335" y="8940"/>
                  <a:pt x="11385" y="8930"/>
                </a:cubicBezTo>
                <a:cubicBezTo>
                  <a:pt x="11578" y="8891"/>
                  <a:pt x="11787" y="8945"/>
                  <a:pt x="11981" y="8905"/>
                </a:cubicBezTo>
                <a:cubicBezTo>
                  <a:pt x="12022" y="8897"/>
                  <a:pt x="12064" y="8884"/>
                  <a:pt x="12105" y="8880"/>
                </a:cubicBezTo>
                <a:cubicBezTo>
                  <a:pt x="13206" y="8777"/>
                  <a:pt x="14465" y="8825"/>
                  <a:pt x="15553" y="8905"/>
                </a:cubicBezTo>
                <a:cubicBezTo>
                  <a:pt x="15693" y="8915"/>
                  <a:pt x="15841" y="8920"/>
                  <a:pt x="15974" y="8930"/>
                </a:cubicBezTo>
                <a:cubicBezTo>
                  <a:pt x="16165" y="8945"/>
                  <a:pt x="16367" y="8922"/>
                  <a:pt x="16545" y="8954"/>
                </a:cubicBezTo>
              </a:path>
            </a:pathLst>
          </a:custGeom>
          <a:noFill/>
          <a:ln cap="rnd"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4759200" y="4533840"/>
            <a:ext cx="19080" cy="36720"/>
          </a:xfrm>
          <a:custGeom>
            <a:avLst/>
            <a:gdLst/>
            <a:ahLst/>
            <a:rect l="l" t="t" r="r" b="b"/>
            <a:pathLst>
              <a:path w="51" h="100">
                <a:moveTo>
                  <a:pt x="13271" y="8384"/>
                </a:moveTo>
                <a:cubicBezTo>
                  <a:pt x="13216" y="8412"/>
                  <a:pt x="13199" y="8426"/>
                  <a:pt x="13221" y="8483"/>
                </a:cubicBezTo>
              </a:path>
            </a:pathLst>
          </a:custGeom>
          <a:noFill/>
          <a:ln cap="rnd" w="190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5148360" y="5300640"/>
            <a:ext cx="0" cy="3603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5435640" y="5373720"/>
            <a:ext cx="0" cy="3603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3200400" y="3605040"/>
            <a:ext cx="1282680" cy="685800"/>
          </a:xfrm>
          <a:custGeom>
            <a:avLst/>
            <a:gdLst/>
            <a:ahLst/>
            <a:rect l="l" t="t" r="r" b="b"/>
            <a:pathLst>
              <a:path w="808" h="432">
                <a:moveTo>
                  <a:pt x="0" y="432"/>
                </a:moveTo>
                <a:cubicBezTo>
                  <a:pt x="26" y="394"/>
                  <a:pt x="74" y="385"/>
                  <a:pt x="112" y="360"/>
                </a:cubicBezTo>
                <a:cubicBezTo>
                  <a:pt x="132" y="330"/>
                  <a:pt x="165" y="300"/>
                  <a:pt x="200" y="288"/>
                </a:cubicBezTo>
                <a:cubicBezTo>
                  <a:pt x="222" y="281"/>
                  <a:pt x="274" y="270"/>
                  <a:pt x="296" y="256"/>
                </a:cubicBezTo>
                <a:cubicBezTo>
                  <a:pt x="312" y="245"/>
                  <a:pt x="328" y="235"/>
                  <a:pt x="344" y="224"/>
                </a:cubicBezTo>
                <a:cubicBezTo>
                  <a:pt x="352" y="219"/>
                  <a:pt x="368" y="208"/>
                  <a:pt x="368" y="208"/>
                </a:cubicBezTo>
                <a:cubicBezTo>
                  <a:pt x="395" y="168"/>
                  <a:pt x="376" y="189"/>
                  <a:pt x="432" y="152"/>
                </a:cubicBezTo>
                <a:cubicBezTo>
                  <a:pt x="470" y="127"/>
                  <a:pt x="507" y="79"/>
                  <a:pt x="552" y="64"/>
                </a:cubicBezTo>
                <a:cubicBezTo>
                  <a:pt x="568" y="59"/>
                  <a:pt x="586" y="57"/>
                  <a:pt x="600" y="48"/>
                </a:cubicBezTo>
                <a:cubicBezTo>
                  <a:pt x="629" y="29"/>
                  <a:pt x="683" y="0"/>
                  <a:pt x="720" y="0"/>
                </a:cubicBezTo>
                <a:cubicBezTo>
                  <a:pt x="749" y="0"/>
                  <a:pt x="779" y="0"/>
                  <a:pt x="808" y="0"/>
                </a:cubicBezTo>
              </a:path>
            </a:pathLst>
          </a:custGeom>
          <a:noFill/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5292720" y="3610080"/>
            <a:ext cx="152280" cy="696960"/>
          </a:xfrm>
          <a:custGeom>
            <a:avLst/>
            <a:gdLst/>
            <a:ahLst/>
            <a:rect l="l" t="t" r="r" b="b"/>
            <a:pathLst>
              <a:path w="96" h="439">
                <a:moveTo>
                  <a:pt x="15" y="45"/>
                </a:moveTo>
                <a:cubicBezTo>
                  <a:pt x="18" y="173"/>
                  <a:pt x="14" y="301"/>
                  <a:pt x="23" y="429"/>
                </a:cubicBezTo>
                <a:cubicBezTo>
                  <a:pt x="24" y="439"/>
                  <a:pt x="38" y="415"/>
                  <a:pt x="39" y="405"/>
                </a:cubicBezTo>
                <a:cubicBezTo>
                  <a:pt x="46" y="301"/>
                  <a:pt x="0" y="0"/>
                  <a:pt x="47" y="93"/>
                </a:cubicBezTo>
                <a:cubicBezTo>
                  <a:pt x="96" y="191"/>
                  <a:pt x="47" y="312"/>
                  <a:pt x="47" y="421"/>
                </a:cubicBezTo>
              </a:path>
            </a:pathLst>
          </a:custGeom>
          <a:noFill/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 flipH="1">
            <a:off x="3779640" y="3716280"/>
            <a:ext cx="431640" cy="28908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468360" y="14954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uble 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2987640" y="209700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3851280" y="1701720"/>
            <a:ext cx="1368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5276880" y="2079720"/>
            <a:ext cx="519120" cy="54000"/>
          </a:xfrm>
          <a:custGeom>
            <a:avLst/>
            <a:gdLst/>
            <a:ahLst/>
            <a:rect l="l" t="t" r="r" b="b"/>
            <a:pathLst>
              <a:path w="1439" h="150">
                <a:moveTo>
                  <a:pt x="15404" y="18653"/>
                </a:moveTo>
                <a:cubicBezTo>
                  <a:pt x="15485" y="18653"/>
                  <a:pt x="15525" y="18631"/>
                  <a:pt x="15602" y="18628"/>
                </a:cubicBezTo>
                <a:cubicBezTo>
                  <a:pt x="15668" y="18626"/>
                  <a:pt x="15767" y="18628"/>
                  <a:pt x="15701" y="18628"/>
                </a:cubicBezTo>
                <a:cubicBezTo>
                  <a:pt x="15676" y="18628"/>
                  <a:pt x="15652" y="18628"/>
                  <a:pt x="15627" y="18628"/>
                </a:cubicBezTo>
                <a:cubicBezTo>
                  <a:pt x="15561" y="18628"/>
                  <a:pt x="15259" y="18616"/>
                  <a:pt x="15304" y="18604"/>
                </a:cubicBezTo>
                <a:cubicBezTo>
                  <a:pt x="15371" y="18586"/>
                  <a:pt x="15573" y="18579"/>
                  <a:pt x="15503" y="18579"/>
                </a:cubicBezTo>
                <a:cubicBezTo>
                  <a:pt x="15362" y="18579"/>
                  <a:pt x="15222" y="18579"/>
                  <a:pt x="15081" y="18579"/>
                </a:cubicBezTo>
                <a:cubicBezTo>
                  <a:pt x="14943" y="18579"/>
                  <a:pt x="14943" y="18579"/>
                  <a:pt x="15081" y="18579"/>
                </a:cubicBezTo>
                <a:cubicBezTo>
                  <a:pt x="15122" y="18579"/>
                  <a:pt x="15499" y="18579"/>
                  <a:pt x="15304" y="18579"/>
                </a:cubicBezTo>
                <a:cubicBezTo>
                  <a:pt x="15137" y="18579"/>
                  <a:pt x="14983" y="18628"/>
                  <a:pt x="14808" y="18628"/>
                </a:cubicBezTo>
                <a:cubicBezTo>
                  <a:pt x="14655" y="18628"/>
                  <a:pt x="14749" y="18628"/>
                  <a:pt x="14858" y="18628"/>
                </a:cubicBezTo>
                <a:cubicBezTo>
                  <a:pt x="15023" y="18628"/>
                  <a:pt x="15189" y="18628"/>
                  <a:pt x="15354" y="18628"/>
                </a:cubicBezTo>
                <a:cubicBezTo>
                  <a:pt x="15542" y="18628"/>
                  <a:pt x="15494" y="18628"/>
                  <a:pt x="15329" y="18628"/>
                </a:cubicBezTo>
                <a:cubicBezTo>
                  <a:pt x="15097" y="18628"/>
                  <a:pt x="14880" y="18659"/>
                  <a:pt x="14660" y="18728"/>
                </a:cubicBezTo>
                <a:cubicBezTo>
                  <a:pt x="14950" y="18728"/>
                  <a:pt x="15225" y="18724"/>
                  <a:pt x="15503" y="18678"/>
                </a:cubicBezTo>
                <a:cubicBezTo>
                  <a:pt x="15562" y="18668"/>
                  <a:pt x="15654" y="18660"/>
                  <a:pt x="15701" y="18653"/>
                </a:cubicBezTo>
                <a:cubicBezTo>
                  <a:pt x="15833" y="18634"/>
                  <a:pt x="15795" y="18653"/>
                  <a:pt x="15701" y="18653"/>
                </a:cubicBezTo>
                <a:cubicBezTo>
                  <a:pt x="15551" y="18653"/>
                  <a:pt x="15707" y="18667"/>
                  <a:pt x="15751" y="18653"/>
                </a:cubicBezTo>
                <a:cubicBezTo>
                  <a:pt x="15783" y="18643"/>
                  <a:pt x="15906" y="18628"/>
                  <a:pt x="15801" y="18628"/>
                </a:cubicBezTo>
                <a:cubicBezTo>
                  <a:pt x="15743" y="18628"/>
                  <a:pt x="15685" y="18628"/>
                  <a:pt x="15627" y="18628"/>
                </a:cubicBezTo>
                <a:cubicBezTo>
                  <a:pt x="15602" y="18628"/>
                  <a:pt x="15578" y="18628"/>
                  <a:pt x="15553" y="18628"/>
                </a:cubicBezTo>
                <a:cubicBezTo>
                  <a:pt x="15496" y="18628"/>
                  <a:pt x="15698" y="18628"/>
                  <a:pt x="15726" y="18628"/>
                </a:cubicBezTo>
                <a:cubicBezTo>
                  <a:pt x="15763" y="18628"/>
                  <a:pt x="16070" y="18596"/>
                  <a:pt x="15949" y="18628"/>
                </a:cubicBezTo>
                <a:cubicBezTo>
                  <a:pt x="15917" y="18636"/>
                  <a:pt x="15619" y="18670"/>
                  <a:pt x="15627" y="18703"/>
                </a:cubicBezTo>
                <a:cubicBezTo>
                  <a:pt x="15632" y="18724"/>
                  <a:pt x="16043" y="18703"/>
                  <a:pt x="16098" y="18703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4633920" y="1758960"/>
            <a:ext cx="144360" cy="9360"/>
          </a:xfrm>
          <a:custGeom>
            <a:avLst/>
            <a:gdLst/>
            <a:ahLst/>
            <a:rect l="l" t="t" r="r" b="b"/>
            <a:pathLst>
              <a:path w="398" h="26">
                <a:moveTo>
                  <a:pt x="12898" y="17711"/>
                </a:moveTo>
                <a:cubicBezTo>
                  <a:pt x="12829" y="17711"/>
                  <a:pt x="13069" y="17686"/>
                  <a:pt x="13072" y="17686"/>
                </a:cubicBezTo>
                <a:cubicBezTo>
                  <a:pt x="13137" y="17679"/>
                  <a:pt x="13206" y="17686"/>
                  <a:pt x="13271" y="17686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4191120" y="1030320"/>
            <a:ext cx="1336680" cy="447480"/>
          </a:xfrm>
          <a:custGeom>
            <a:avLst/>
            <a:gdLst/>
            <a:ahLst/>
            <a:rect l="l" t="t" r="r" b="b"/>
            <a:pathLst>
              <a:path w="842" h="282">
                <a:moveTo>
                  <a:pt x="0" y="213"/>
                </a:moveTo>
                <a:cubicBezTo>
                  <a:pt x="139" y="282"/>
                  <a:pt x="376" y="236"/>
                  <a:pt x="536" y="229"/>
                </a:cubicBezTo>
                <a:cubicBezTo>
                  <a:pt x="533" y="160"/>
                  <a:pt x="537" y="90"/>
                  <a:pt x="528" y="21"/>
                </a:cubicBezTo>
                <a:cubicBezTo>
                  <a:pt x="527" y="11"/>
                  <a:pt x="516" y="36"/>
                  <a:pt x="512" y="45"/>
                </a:cubicBezTo>
                <a:cubicBezTo>
                  <a:pt x="505" y="60"/>
                  <a:pt x="496" y="93"/>
                  <a:pt x="496" y="93"/>
                </a:cubicBezTo>
                <a:cubicBezTo>
                  <a:pt x="490" y="153"/>
                  <a:pt x="489" y="203"/>
                  <a:pt x="456" y="253"/>
                </a:cubicBezTo>
                <a:cubicBezTo>
                  <a:pt x="475" y="177"/>
                  <a:pt x="484" y="158"/>
                  <a:pt x="440" y="45"/>
                </a:cubicBezTo>
                <a:cubicBezTo>
                  <a:pt x="430" y="20"/>
                  <a:pt x="386" y="36"/>
                  <a:pt x="360" y="29"/>
                </a:cubicBezTo>
                <a:cubicBezTo>
                  <a:pt x="243" y="34"/>
                  <a:pt x="184" y="8"/>
                  <a:pt x="104" y="61"/>
                </a:cubicBezTo>
                <a:cubicBezTo>
                  <a:pt x="99" y="69"/>
                  <a:pt x="95" y="78"/>
                  <a:pt x="88" y="85"/>
                </a:cubicBezTo>
                <a:cubicBezTo>
                  <a:pt x="81" y="92"/>
                  <a:pt x="70" y="93"/>
                  <a:pt x="64" y="101"/>
                </a:cubicBezTo>
                <a:cubicBezTo>
                  <a:pt x="59" y="108"/>
                  <a:pt x="61" y="118"/>
                  <a:pt x="56" y="125"/>
                </a:cubicBezTo>
                <a:cubicBezTo>
                  <a:pt x="50" y="134"/>
                  <a:pt x="40" y="141"/>
                  <a:pt x="32" y="149"/>
                </a:cubicBezTo>
                <a:cubicBezTo>
                  <a:pt x="23" y="175"/>
                  <a:pt x="9" y="195"/>
                  <a:pt x="0" y="221"/>
                </a:cubicBezTo>
                <a:cubicBezTo>
                  <a:pt x="200" y="224"/>
                  <a:pt x="400" y="229"/>
                  <a:pt x="600" y="229"/>
                </a:cubicBezTo>
                <a:cubicBezTo>
                  <a:pt x="661" y="229"/>
                  <a:pt x="729" y="248"/>
                  <a:pt x="784" y="221"/>
                </a:cubicBezTo>
                <a:cubicBezTo>
                  <a:pt x="842" y="192"/>
                  <a:pt x="721" y="64"/>
                  <a:pt x="712" y="61"/>
                </a:cubicBezTo>
                <a:cubicBezTo>
                  <a:pt x="655" y="42"/>
                  <a:pt x="597" y="42"/>
                  <a:pt x="536" y="37"/>
                </a:cubicBezTo>
                <a:cubicBezTo>
                  <a:pt x="547" y="34"/>
                  <a:pt x="557" y="29"/>
                  <a:pt x="568" y="29"/>
                </a:cubicBezTo>
                <a:cubicBezTo>
                  <a:pt x="804" y="29"/>
                  <a:pt x="776" y="0"/>
                  <a:pt x="776" y="205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3232080" y="1704960"/>
            <a:ext cx="142920" cy="135000"/>
          </a:xfrm>
          <a:custGeom>
            <a:avLst/>
            <a:gdLst/>
            <a:ahLst/>
            <a:rect l="l" t="t" r="r" b="b"/>
            <a:pathLst>
              <a:path w="398" h="373">
                <a:moveTo>
                  <a:pt x="8979" y="17959"/>
                </a:moveTo>
                <a:cubicBezTo>
                  <a:pt x="9070" y="17959"/>
                  <a:pt x="9161" y="17959"/>
                  <a:pt x="9252" y="17959"/>
                </a:cubicBezTo>
              </a:path>
              <a:path w="398" h="373">
                <a:moveTo>
                  <a:pt x="9376" y="17959"/>
                </a:moveTo>
                <a:cubicBezTo>
                  <a:pt x="9376" y="17934"/>
                  <a:pt x="9376" y="17909"/>
                  <a:pt x="9376" y="17884"/>
                </a:cubicBezTo>
                <a:cubicBezTo>
                  <a:pt x="9348" y="17884"/>
                  <a:pt x="9337" y="17886"/>
                  <a:pt x="9327" y="17909"/>
                </a:cubicBezTo>
              </a:path>
              <a:path w="398" h="373">
                <a:moveTo>
                  <a:pt x="9302" y="17909"/>
                </a:moveTo>
                <a:cubicBezTo>
                  <a:pt x="9302" y="17876"/>
                  <a:pt x="9302" y="17843"/>
                  <a:pt x="9302" y="17810"/>
                </a:cubicBezTo>
                <a:cubicBezTo>
                  <a:pt x="9337" y="17798"/>
                  <a:pt x="9327" y="17803"/>
                  <a:pt x="9327" y="17760"/>
                </a:cubicBezTo>
              </a:path>
              <a:path w="398" h="373">
                <a:moveTo>
                  <a:pt x="9302" y="17611"/>
                </a:moveTo>
                <a:cubicBezTo>
                  <a:pt x="9302" y="17603"/>
                  <a:pt x="9302" y="17595"/>
                  <a:pt x="9302" y="17587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5170320" y="981000"/>
            <a:ext cx="446400" cy="28800"/>
          </a:xfrm>
          <a:custGeom>
            <a:avLst/>
            <a:gdLst/>
            <a:ahLst/>
            <a:rect l="l" t="t" r="r" b="b"/>
            <a:pathLst>
              <a:path w="1241" h="76">
                <a:moveTo>
                  <a:pt x="14362" y="15627"/>
                </a:moveTo>
                <a:cubicBezTo>
                  <a:pt x="14478" y="15627"/>
                  <a:pt x="14631" y="15636"/>
                  <a:pt x="14709" y="15602"/>
                </a:cubicBezTo>
                <a:cubicBezTo>
                  <a:pt x="14789" y="15568"/>
                  <a:pt x="14923" y="15606"/>
                  <a:pt x="14982" y="15577"/>
                </a:cubicBezTo>
                <a:cubicBezTo>
                  <a:pt x="15099" y="15518"/>
                  <a:pt x="15444" y="15565"/>
                  <a:pt x="15553" y="15602"/>
                </a:cubicBezTo>
                <a:cubicBezTo>
                  <a:pt x="15598" y="15617"/>
                  <a:pt x="15556" y="15637"/>
                  <a:pt x="15602" y="15652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3741840" y="1303200"/>
            <a:ext cx="179280" cy="81000"/>
          </a:xfrm>
          <a:custGeom>
            <a:avLst/>
            <a:gdLst/>
            <a:ahLst/>
            <a:rect l="l" t="t" r="r" b="b"/>
            <a:pathLst>
              <a:path w="497" h="225">
                <a:moveTo>
                  <a:pt x="10418" y="16694"/>
                </a:moveTo>
                <a:cubicBezTo>
                  <a:pt x="10459" y="16694"/>
                  <a:pt x="10501" y="16694"/>
                  <a:pt x="10542" y="16694"/>
                </a:cubicBezTo>
                <a:cubicBezTo>
                  <a:pt x="10554" y="16659"/>
                  <a:pt x="10549" y="16669"/>
                  <a:pt x="10592" y="16669"/>
                </a:cubicBezTo>
                <a:cubicBezTo>
                  <a:pt x="10604" y="16650"/>
                  <a:pt x="10656" y="16631"/>
                  <a:pt x="10691" y="16619"/>
                </a:cubicBezTo>
                <a:cubicBezTo>
                  <a:pt x="10728" y="16607"/>
                  <a:pt x="10746" y="16594"/>
                  <a:pt x="10790" y="16594"/>
                </a:cubicBezTo>
                <a:cubicBezTo>
                  <a:pt x="10801" y="16563"/>
                  <a:pt x="10825" y="16555"/>
                  <a:pt x="10864" y="16545"/>
                </a:cubicBezTo>
                <a:cubicBezTo>
                  <a:pt x="10877" y="16505"/>
                  <a:pt x="10876" y="16535"/>
                  <a:pt x="10889" y="16495"/>
                </a:cubicBezTo>
              </a:path>
              <a:path w="497" h="225">
                <a:moveTo>
                  <a:pt x="10393" y="16619"/>
                </a:moveTo>
                <a:cubicBezTo>
                  <a:pt x="10434" y="16619"/>
                  <a:pt x="10476" y="16619"/>
                  <a:pt x="10517" y="16619"/>
                </a:cubicBezTo>
                <a:cubicBezTo>
                  <a:pt x="10534" y="16553"/>
                  <a:pt x="10549" y="16594"/>
                  <a:pt x="10592" y="16570"/>
                </a:cubicBezTo>
                <a:cubicBezTo>
                  <a:pt x="10633" y="16547"/>
                  <a:pt x="10640" y="16545"/>
                  <a:pt x="10691" y="16545"/>
                </a:cubicBezTo>
                <a:cubicBezTo>
                  <a:pt x="10704" y="16507"/>
                  <a:pt x="10720" y="16520"/>
                  <a:pt x="10765" y="16520"/>
                </a:cubicBezTo>
                <a:cubicBezTo>
                  <a:pt x="10778" y="16480"/>
                  <a:pt x="10777" y="16510"/>
                  <a:pt x="10790" y="16470"/>
                </a:cubicBezTo>
              </a:path>
            </a:pathLst>
          </a:custGeom>
          <a:noFill/>
          <a:ln cap="rnd"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146560" y="155736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551335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551335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3274920" y="155736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551335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551335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148000" y="2925720"/>
            <a:ext cx="72072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697061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697061"/>
              </a:path>
            </a:pathLst>
          </a:cu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5219640" y="4292640"/>
            <a:ext cx="720360" cy="66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697061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697061"/>
              </a:path>
            </a:pathLst>
          </a:cu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3275640" y="2921040"/>
            <a:ext cx="72144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" y="9466"/>
                </a:moveTo>
                <a:arcTo wR="10800" hR="10800" stAng="-10374267" swAng="10633344"/>
                <a:lnTo>
                  <a:pt x="10800" y="10800"/>
                </a:lnTo>
                <a:close/>
              </a:path>
              <a:path fill="none" w="21600" h="21600">
                <a:moveTo>
                  <a:pt x="83" y="9466"/>
                </a:moveTo>
                <a:arcTo wR="10800" hR="10800" stAng="-10374267" swAng="10633344"/>
              </a:path>
            </a:pathLst>
          </a:custGeom>
          <a:noFill/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3274920" y="428616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697061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697061"/>
              </a:path>
            </a:pathLst>
          </a:cu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5146560" y="587844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697061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697061"/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3274920" y="5878440"/>
            <a:ext cx="720360" cy="68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" y="9665"/>
                </a:moveTo>
                <a:arcTo wR="10800" hR="10800" stAng="-10437984" swAng="10697061"/>
                <a:lnTo>
                  <a:pt x="10800" y="10800"/>
                </a:lnTo>
                <a:close/>
              </a:path>
              <a:path fill="none" w="21600" h="21600">
                <a:moveTo>
                  <a:pt x="60" y="9665"/>
                </a:moveTo>
                <a:arcTo wR="10800" hR="10800" stAng="-10437984" swAng="10697061"/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3203640" y="3645000"/>
            <a:ext cx="3039840" cy="1031760"/>
          </a:xfrm>
          <a:custGeom>
            <a:avLst/>
            <a:gdLst/>
            <a:ahLst/>
            <a:rect l="l" t="t" r="r" b="b"/>
            <a:pathLst>
              <a:path w="1915" h="650">
                <a:moveTo>
                  <a:pt x="98" y="363"/>
                </a:moveTo>
                <a:cubicBezTo>
                  <a:pt x="93" y="382"/>
                  <a:pt x="92" y="403"/>
                  <a:pt x="82" y="419"/>
                </a:cubicBezTo>
                <a:cubicBezTo>
                  <a:pt x="77" y="427"/>
                  <a:pt x="0" y="435"/>
                  <a:pt x="10" y="435"/>
                </a:cubicBezTo>
                <a:cubicBezTo>
                  <a:pt x="31" y="435"/>
                  <a:pt x="53" y="430"/>
                  <a:pt x="74" y="427"/>
                </a:cubicBezTo>
                <a:cubicBezTo>
                  <a:pt x="87" y="360"/>
                  <a:pt x="92" y="363"/>
                  <a:pt x="154" y="347"/>
                </a:cubicBezTo>
                <a:cubicBezTo>
                  <a:pt x="223" y="451"/>
                  <a:pt x="78" y="424"/>
                  <a:pt x="26" y="427"/>
                </a:cubicBezTo>
                <a:cubicBezTo>
                  <a:pt x="23" y="435"/>
                  <a:pt x="15" y="443"/>
                  <a:pt x="18" y="451"/>
                </a:cubicBezTo>
                <a:cubicBezTo>
                  <a:pt x="31" y="482"/>
                  <a:pt x="79" y="456"/>
                  <a:pt x="98" y="451"/>
                </a:cubicBezTo>
                <a:cubicBezTo>
                  <a:pt x="106" y="427"/>
                  <a:pt x="116" y="354"/>
                  <a:pt x="122" y="379"/>
                </a:cubicBezTo>
                <a:cubicBezTo>
                  <a:pt x="127" y="400"/>
                  <a:pt x="138" y="443"/>
                  <a:pt x="138" y="443"/>
                </a:cubicBezTo>
                <a:cubicBezTo>
                  <a:pt x="141" y="416"/>
                  <a:pt x="132" y="386"/>
                  <a:pt x="146" y="363"/>
                </a:cubicBezTo>
                <a:cubicBezTo>
                  <a:pt x="151" y="354"/>
                  <a:pt x="222" y="341"/>
                  <a:pt x="234" y="339"/>
                </a:cubicBezTo>
                <a:cubicBezTo>
                  <a:pt x="291" y="301"/>
                  <a:pt x="360" y="296"/>
                  <a:pt x="426" y="283"/>
                </a:cubicBezTo>
                <a:cubicBezTo>
                  <a:pt x="518" y="222"/>
                  <a:pt x="599" y="152"/>
                  <a:pt x="690" y="91"/>
                </a:cubicBezTo>
                <a:cubicBezTo>
                  <a:pt x="728" y="66"/>
                  <a:pt x="798" y="57"/>
                  <a:pt x="842" y="51"/>
                </a:cubicBezTo>
                <a:cubicBezTo>
                  <a:pt x="898" y="32"/>
                  <a:pt x="848" y="53"/>
                  <a:pt x="794" y="35"/>
                </a:cubicBezTo>
                <a:cubicBezTo>
                  <a:pt x="786" y="32"/>
                  <a:pt x="810" y="30"/>
                  <a:pt x="818" y="27"/>
                </a:cubicBezTo>
                <a:cubicBezTo>
                  <a:pt x="1176" y="32"/>
                  <a:pt x="1293" y="18"/>
                  <a:pt x="1554" y="51"/>
                </a:cubicBezTo>
                <a:cubicBezTo>
                  <a:pt x="1580" y="60"/>
                  <a:pt x="1610" y="63"/>
                  <a:pt x="1634" y="75"/>
                </a:cubicBezTo>
                <a:cubicBezTo>
                  <a:pt x="1668" y="92"/>
                  <a:pt x="1701" y="111"/>
                  <a:pt x="1738" y="123"/>
                </a:cubicBezTo>
                <a:cubicBezTo>
                  <a:pt x="1746" y="126"/>
                  <a:pt x="1722" y="117"/>
                  <a:pt x="1714" y="115"/>
                </a:cubicBezTo>
                <a:cubicBezTo>
                  <a:pt x="1701" y="112"/>
                  <a:pt x="1688" y="109"/>
                  <a:pt x="1674" y="107"/>
                </a:cubicBezTo>
                <a:cubicBezTo>
                  <a:pt x="1639" y="103"/>
                  <a:pt x="1605" y="102"/>
                  <a:pt x="1570" y="99"/>
                </a:cubicBezTo>
                <a:cubicBezTo>
                  <a:pt x="1543" y="97"/>
                  <a:pt x="1517" y="94"/>
                  <a:pt x="1490" y="91"/>
                </a:cubicBezTo>
                <a:cubicBezTo>
                  <a:pt x="1562" y="43"/>
                  <a:pt x="1483" y="89"/>
                  <a:pt x="1674" y="67"/>
                </a:cubicBezTo>
                <a:cubicBezTo>
                  <a:pt x="1682" y="66"/>
                  <a:pt x="1658" y="61"/>
                  <a:pt x="1650" y="59"/>
                </a:cubicBezTo>
                <a:cubicBezTo>
                  <a:pt x="1639" y="56"/>
                  <a:pt x="1629" y="54"/>
                  <a:pt x="1618" y="51"/>
                </a:cubicBezTo>
                <a:cubicBezTo>
                  <a:pt x="1586" y="41"/>
                  <a:pt x="1554" y="30"/>
                  <a:pt x="1522" y="19"/>
                </a:cubicBezTo>
                <a:cubicBezTo>
                  <a:pt x="1464" y="0"/>
                  <a:pt x="1645" y="24"/>
                  <a:pt x="1706" y="27"/>
                </a:cubicBezTo>
                <a:cubicBezTo>
                  <a:pt x="1717" y="30"/>
                  <a:pt x="1727" y="32"/>
                  <a:pt x="1738" y="35"/>
                </a:cubicBezTo>
                <a:cubicBezTo>
                  <a:pt x="1754" y="40"/>
                  <a:pt x="1786" y="51"/>
                  <a:pt x="1786" y="51"/>
                </a:cubicBezTo>
                <a:cubicBezTo>
                  <a:pt x="1546" y="66"/>
                  <a:pt x="1695" y="67"/>
                  <a:pt x="1778" y="75"/>
                </a:cubicBezTo>
                <a:cubicBezTo>
                  <a:pt x="1717" y="55"/>
                  <a:pt x="1747" y="62"/>
                  <a:pt x="1690" y="51"/>
                </a:cubicBezTo>
                <a:cubicBezTo>
                  <a:pt x="1695" y="59"/>
                  <a:pt x="1699" y="68"/>
                  <a:pt x="1706" y="75"/>
                </a:cubicBezTo>
                <a:cubicBezTo>
                  <a:pt x="1713" y="82"/>
                  <a:pt x="1724" y="83"/>
                  <a:pt x="1730" y="91"/>
                </a:cubicBezTo>
                <a:cubicBezTo>
                  <a:pt x="1746" y="111"/>
                  <a:pt x="1764" y="170"/>
                  <a:pt x="1770" y="195"/>
                </a:cubicBezTo>
                <a:cubicBezTo>
                  <a:pt x="1785" y="263"/>
                  <a:pt x="1769" y="208"/>
                  <a:pt x="1794" y="283"/>
                </a:cubicBezTo>
                <a:cubicBezTo>
                  <a:pt x="1797" y="291"/>
                  <a:pt x="1802" y="307"/>
                  <a:pt x="1802" y="307"/>
                </a:cubicBezTo>
                <a:cubicBezTo>
                  <a:pt x="1808" y="289"/>
                  <a:pt x="1801" y="260"/>
                  <a:pt x="1818" y="251"/>
                </a:cubicBezTo>
                <a:cubicBezTo>
                  <a:pt x="1826" y="247"/>
                  <a:pt x="1824" y="267"/>
                  <a:pt x="1826" y="275"/>
                </a:cubicBezTo>
                <a:cubicBezTo>
                  <a:pt x="1832" y="299"/>
                  <a:pt x="1837" y="323"/>
                  <a:pt x="1842" y="347"/>
                </a:cubicBezTo>
                <a:cubicBezTo>
                  <a:pt x="1856" y="337"/>
                  <a:pt x="1878" y="311"/>
                  <a:pt x="1882" y="355"/>
                </a:cubicBezTo>
                <a:cubicBezTo>
                  <a:pt x="1889" y="443"/>
                  <a:pt x="1893" y="531"/>
                  <a:pt x="1890" y="619"/>
                </a:cubicBezTo>
                <a:cubicBezTo>
                  <a:pt x="1889" y="636"/>
                  <a:pt x="1879" y="587"/>
                  <a:pt x="1874" y="571"/>
                </a:cubicBezTo>
                <a:cubicBezTo>
                  <a:pt x="1861" y="532"/>
                  <a:pt x="1867" y="555"/>
                  <a:pt x="1858" y="499"/>
                </a:cubicBezTo>
                <a:cubicBezTo>
                  <a:pt x="1855" y="448"/>
                  <a:pt x="1854" y="398"/>
                  <a:pt x="1850" y="347"/>
                </a:cubicBezTo>
                <a:cubicBezTo>
                  <a:pt x="1849" y="336"/>
                  <a:pt x="1833" y="309"/>
                  <a:pt x="1842" y="315"/>
                </a:cubicBezTo>
                <a:cubicBezTo>
                  <a:pt x="1858" y="326"/>
                  <a:pt x="1874" y="363"/>
                  <a:pt x="1874" y="363"/>
                </a:cubicBezTo>
                <a:cubicBezTo>
                  <a:pt x="1881" y="390"/>
                  <a:pt x="1891" y="416"/>
                  <a:pt x="1898" y="443"/>
                </a:cubicBezTo>
                <a:cubicBezTo>
                  <a:pt x="1901" y="454"/>
                  <a:pt x="1915" y="481"/>
                  <a:pt x="1906" y="475"/>
                </a:cubicBezTo>
                <a:cubicBezTo>
                  <a:pt x="1864" y="447"/>
                  <a:pt x="1870" y="383"/>
                  <a:pt x="1834" y="355"/>
                </a:cubicBezTo>
                <a:cubicBezTo>
                  <a:pt x="1813" y="338"/>
                  <a:pt x="1771" y="331"/>
                  <a:pt x="1746" y="323"/>
                </a:cubicBezTo>
                <a:cubicBezTo>
                  <a:pt x="1635" y="290"/>
                  <a:pt x="1622" y="280"/>
                  <a:pt x="1490" y="275"/>
                </a:cubicBezTo>
                <a:cubicBezTo>
                  <a:pt x="1389" y="271"/>
                  <a:pt x="1287" y="270"/>
                  <a:pt x="1186" y="267"/>
                </a:cubicBezTo>
                <a:cubicBezTo>
                  <a:pt x="1029" y="270"/>
                  <a:pt x="868" y="243"/>
                  <a:pt x="714" y="275"/>
                </a:cubicBezTo>
                <a:cubicBezTo>
                  <a:pt x="682" y="282"/>
                  <a:pt x="706" y="342"/>
                  <a:pt x="690" y="371"/>
                </a:cubicBezTo>
                <a:cubicBezTo>
                  <a:pt x="689" y="373"/>
                  <a:pt x="617" y="349"/>
                  <a:pt x="610" y="347"/>
                </a:cubicBezTo>
                <a:cubicBezTo>
                  <a:pt x="613" y="361"/>
                  <a:pt x="628" y="422"/>
                  <a:pt x="634" y="427"/>
                </a:cubicBezTo>
                <a:cubicBezTo>
                  <a:pt x="642" y="434"/>
                  <a:pt x="655" y="419"/>
                  <a:pt x="666" y="419"/>
                </a:cubicBezTo>
                <a:cubicBezTo>
                  <a:pt x="674" y="419"/>
                  <a:pt x="650" y="424"/>
                  <a:pt x="642" y="427"/>
                </a:cubicBezTo>
                <a:cubicBezTo>
                  <a:pt x="622" y="458"/>
                  <a:pt x="598" y="468"/>
                  <a:pt x="642" y="483"/>
                </a:cubicBezTo>
                <a:cubicBezTo>
                  <a:pt x="715" y="465"/>
                  <a:pt x="642" y="488"/>
                  <a:pt x="626" y="499"/>
                </a:cubicBezTo>
                <a:cubicBezTo>
                  <a:pt x="652" y="538"/>
                  <a:pt x="642" y="539"/>
                  <a:pt x="610" y="571"/>
                </a:cubicBezTo>
                <a:cubicBezTo>
                  <a:pt x="621" y="576"/>
                  <a:pt x="637" y="576"/>
                  <a:pt x="642" y="587"/>
                </a:cubicBezTo>
                <a:cubicBezTo>
                  <a:pt x="659" y="626"/>
                  <a:pt x="630" y="628"/>
                  <a:pt x="610" y="635"/>
                </a:cubicBezTo>
                <a:cubicBezTo>
                  <a:pt x="687" y="650"/>
                  <a:pt x="794" y="631"/>
                  <a:pt x="866" y="627"/>
                </a:cubicBezTo>
                <a:cubicBezTo>
                  <a:pt x="948" y="615"/>
                  <a:pt x="1024" y="589"/>
                  <a:pt x="1106" y="579"/>
                </a:cubicBezTo>
                <a:cubicBezTo>
                  <a:pt x="1109" y="504"/>
                  <a:pt x="1107" y="429"/>
                  <a:pt x="1114" y="355"/>
                </a:cubicBezTo>
                <a:cubicBezTo>
                  <a:pt x="1115" y="345"/>
                  <a:pt x="1122" y="336"/>
                  <a:pt x="1130" y="331"/>
                </a:cubicBezTo>
                <a:cubicBezTo>
                  <a:pt x="1139" y="325"/>
                  <a:pt x="1173" y="323"/>
                  <a:pt x="1162" y="323"/>
                </a:cubicBezTo>
                <a:cubicBezTo>
                  <a:pt x="1130" y="323"/>
                  <a:pt x="1098" y="328"/>
                  <a:pt x="1066" y="331"/>
                </a:cubicBezTo>
                <a:cubicBezTo>
                  <a:pt x="1079" y="336"/>
                  <a:pt x="1097" y="336"/>
                  <a:pt x="1106" y="347"/>
                </a:cubicBezTo>
                <a:cubicBezTo>
                  <a:pt x="1111" y="354"/>
                  <a:pt x="1093" y="364"/>
                  <a:pt x="1098" y="371"/>
                </a:cubicBezTo>
                <a:cubicBezTo>
                  <a:pt x="1105" y="380"/>
                  <a:pt x="1119" y="376"/>
                  <a:pt x="1130" y="379"/>
                </a:cubicBezTo>
                <a:cubicBezTo>
                  <a:pt x="1133" y="422"/>
                  <a:pt x="1131" y="465"/>
                  <a:pt x="1138" y="507"/>
                </a:cubicBezTo>
                <a:cubicBezTo>
                  <a:pt x="1140" y="518"/>
                  <a:pt x="1144" y="486"/>
                  <a:pt x="1146" y="475"/>
                </a:cubicBezTo>
                <a:cubicBezTo>
                  <a:pt x="1161" y="407"/>
                  <a:pt x="1145" y="462"/>
                  <a:pt x="1170" y="387"/>
                </a:cubicBezTo>
                <a:cubicBezTo>
                  <a:pt x="1187" y="336"/>
                  <a:pt x="1286" y="342"/>
                  <a:pt x="1322" y="339"/>
                </a:cubicBezTo>
                <a:cubicBezTo>
                  <a:pt x="1532" y="349"/>
                  <a:pt x="1544" y="337"/>
                  <a:pt x="1442" y="371"/>
                </a:cubicBezTo>
                <a:cubicBezTo>
                  <a:pt x="1519" y="402"/>
                  <a:pt x="1471" y="375"/>
                  <a:pt x="1426" y="395"/>
                </a:cubicBezTo>
                <a:cubicBezTo>
                  <a:pt x="1417" y="399"/>
                  <a:pt x="1417" y="412"/>
                  <a:pt x="1410" y="419"/>
                </a:cubicBezTo>
                <a:cubicBezTo>
                  <a:pt x="1403" y="426"/>
                  <a:pt x="1394" y="430"/>
                  <a:pt x="1386" y="435"/>
                </a:cubicBezTo>
                <a:cubicBezTo>
                  <a:pt x="1365" y="466"/>
                  <a:pt x="1359" y="500"/>
                  <a:pt x="1338" y="531"/>
                </a:cubicBezTo>
                <a:cubicBezTo>
                  <a:pt x="1335" y="550"/>
                  <a:pt x="1333" y="568"/>
                  <a:pt x="1330" y="587"/>
                </a:cubicBezTo>
                <a:cubicBezTo>
                  <a:pt x="1328" y="598"/>
                  <a:pt x="1332" y="616"/>
                  <a:pt x="1322" y="619"/>
                </a:cubicBezTo>
                <a:cubicBezTo>
                  <a:pt x="1313" y="622"/>
                  <a:pt x="1311" y="603"/>
                  <a:pt x="1306" y="595"/>
                </a:cubicBezTo>
                <a:cubicBezTo>
                  <a:pt x="1309" y="571"/>
                  <a:pt x="1308" y="546"/>
                  <a:pt x="1314" y="523"/>
                </a:cubicBezTo>
                <a:cubicBezTo>
                  <a:pt x="1321" y="496"/>
                  <a:pt x="1362" y="478"/>
                  <a:pt x="1378" y="467"/>
                </a:cubicBezTo>
                <a:cubicBezTo>
                  <a:pt x="1448" y="421"/>
                  <a:pt x="1502" y="411"/>
                  <a:pt x="1586" y="403"/>
                </a:cubicBezTo>
                <a:cubicBezTo>
                  <a:pt x="1578" y="398"/>
                  <a:pt x="1568" y="394"/>
                  <a:pt x="1562" y="387"/>
                </a:cubicBezTo>
                <a:cubicBezTo>
                  <a:pt x="1549" y="373"/>
                  <a:pt x="1530" y="339"/>
                  <a:pt x="1530" y="339"/>
                </a:cubicBezTo>
                <a:cubicBezTo>
                  <a:pt x="1533" y="326"/>
                  <a:pt x="1527" y="307"/>
                  <a:pt x="1538" y="299"/>
                </a:cubicBezTo>
                <a:cubicBezTo>
                  <a:pt x="1546" y="294"/>
                  <a:pt x="1550" y="314"/>
                  <a:pt x="1554" y="323"/>
                </a:cubicBezTo>
                <a:cubicBezTo>
                  <a:pt x="1561" y="341"/>
                  <a:pt x="1565" y="360"/>
                  <a:pt x="1570" y="379"/>
                </a:cubicBezTo>
                <a:cubicBezTo>
                  <a:pt x="1594" y="376"/>
                  <a:pt x="1618" y="375"/>
                  <a:pt x="1642" y="371"/>
                </a:cubicBezTo>
                <a:cubicBezTo>
                  <a:pt x="1650" y="370"/>
                  <a:pt x="1664" y="371"/>
                  <a:pt x="1666" y="363"/>
                </a:cubicBezTo>
                <a:cubicBezTo>
                  <a:pt x="1668" y="354"/>
                  <a:pt x="1658" y="345"/>
                  <a:pt x="1650" y="339"/>
                </a:cubicBezTo>
                <a:cubicBezTo>
                  <a:pt x="1643" y="334"/>
                  <a:pt x="1618" y="331"/>
                  <a:pt x="1626" y="331"/>
                </a:cubicBezTo>
                <a:cubicBezTo>
                  <a:pt x="1655" y="331"/>
                  <a:pt x="1714" y="342"/>
                  <a:pt x="1746" y="347"/>
                </a:cubicBezTo>
                <a:cubicBezTo>
                  <a:pt x="1729" y="433"/>
                  <a:pt x="1655" y="398"/>
                  <a:pt x="1818" y="411"/>
                </a:cubicBezTo>
                <a:cubicBezTo>
                  <a:pt x="1807" y="419"/>
                  <a:pt x="1797" y="427"/>
                  <a:pt x="1786" y="435"/>
                </a:cubicBezTo>
                <a:cubicBezTo>
                  <a:pt x="1778" y="441"/>
                  <a:pt x="1762" y="441"/>
                  <a:pt x="1762" y="451"/>
                </a:cubicBezTo>
                <a:cubicBezTo>
                  <a:pt x="1762" y="459"/>
                  <a:pt x="1778" y="456"/>
                  <a:pt x="1786" y="459"/>
                </a:cubicBezTo>
                <a:cubicBezTo>
                  <a:pt x="1780" y="476"/>
                  <a:pt x="1765" y="489"/>
                  <a:pt x="1762" y="507"/>
                </a:cubicBezTo>
                <a:cubicBezTo>
                  <a:pt x="1754" y="557"/>
                  <a:pt x="1820" y="565"/>
                  <a:pt x="1850" y="571"/>
                </a:cubicBezTo>
                <a:cubicBezTo>
                  <a:pt x="1740" y="589"/>
                  <a:pt x="1842" y="568"/>
                  <a:pt x="1874" y="587"/>
                </a:cubicBezTo>
                <a:cubicBezTo>
                  <a:pt x="1884" y="593"/>
                  <a:pt x="1831" y="599"/>
                  <a:pt x="1842" y="603"/>
                </a:cubicBezTo>
                <a:cubicBezTo>
                  <a:pt x="1860" y="609"/>
                  <a:pt x="1879" y="598"/>
                  <a:pt x="1898" y="595"/>
                </a:cubicBezTo>
                <a:cubicBezTo>
                  <a:pt x="1858" y="592"/>
                  <a:pt x="1816" y="600"/>
                  <a:pt x="1778" y="587"/>
                </a:cubicBezTo>
                <a:cubicBezTo>
                  <a:pt x="1768" y="583"/>
                  <a:pt x="1793" y="564"/>
                  <a:pt x="1786" y="555"/>
                </a:cubicBezTo>
                <a:cubicBezTo>
                  <a:pt x="1771" y="537"/>
                  <a:pt x="1659" y="555"/>
                  <a:pt x="1810" y="555"/>
                </a:cubicBezTo>
                <a:cubicBezTo>
                  <a:pt x="1829" y="555"/>
                  <a:pt x="1741" y="560"/>
                  <a:pt x="1754" y="547"/>
                </a:cubicBezTo>
                <a:cubicBezTo>
                  <a:pt x="1769" y="532"/>
                  <a:pt x="1797" y="547"/>
                  <a:pt x="1818" y="547"/>
                </a:cubicBezTo>
              </a:path>
            </a:pathLst>
          </a:custGeom>
          <a:noFill/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3132000" y="3789360"/>
            <a:ext cx="1086120" cy="792000"/>
          </a:xfrm>
          <a:custGeom>
            <a:avLst/>
            <a:gdLst/>
            <a:ahLst/>
            <a:rect l="l" t="t" r="r" b="b"/>
            <a:pathLst>
              <a:path w="729" h="469">
                <a:moveTo>
                  <a:pt x="10" y="469"/>
                </a:moveTo>
                <a:cubicBezTo>
                  <a:pt x="6" y="457"/>
                  <a:pt x="0" y="395"/>
                  <a:pt x="18" y="389"/>
                </a:cubicBezTo>
                <a:cubicBezTo>
                  <a:pt x="54" y="377"/>
                  <a:pt x="93" y="384"/>
                  <a:pt x="130" y="381"/>
                </a:cubicBezTo>
                <a:cubicBezTo>
                  <a:pt x="179" y="308"/>
                  <a:pt x="97" y="437"/>
                  <a:pt x="162" y="293"/>
                </a:cubicBezTo>
                <a:cubicBezTo>
                  <a:pt x="167" y="283"/>
                  <a:pt x="179" y="278"/>
                  <a:pt x="186" y="269"/>
                </a:cubicBezTo>
                <a:cubicBezTo>
                  <a:pt x="226" y="218"/>
                  <a:pt x="233" y="203"/>
                  <a:pt x="290" y="165"/>
                </a:cubicBezTo>
                <a:cubicBezTo>
                  <a:pt x="308" y="153"/>
                  <a:pt x="393" y="139"/>
                  <a:pt x="418" y="133"/>
                </a:cubicBezTo>
                <a:cubicBezTo>
                  <a:pt x="502" y="114"/>
                  <a:pt x="603" y="84"/>
                  <a:pt x="674" y="37"/>
                </a:cubicBezTo>
                <a:cubicBezTo>
                  <a:pt x="729" y="0"/>
                  <a:pt x="680" y="47"/>
                  <a:pt x="706" y="21"/>
                </a:cubicBezTo>
              </a:path>
            </a:pathLst>
          </a:custGeom>
          <a:noFill/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"/>
          <p:cNvSpPr/>
          <p:nvPr/>
        </p:nvSpPr>
        <p:spPr>
          <a:xfrm>
            <a:off x="3483000" y="2801880"/>
            <a:ext cx="1687320" cy="357120"/>
          </a:xfrm>
          <a:custGeom>
            <a:avLst/>
            <a:gdLst/>
            <a:ahLst/>
            <a:rect l="l" t="t" r="r" b="b"/>
            <a:pathLst>
              <a:path w="4689" h="993">
                <a:moveTo>
                  <a:pt x="10815" y="5358"/>
                </a:moveTo>
                <a:cubicBezTo>
                  <a:pt x="11997" y="5358"/>
                  <a:pt x="13180" y="5358"/>
                  <a:pt x="14362" y="5358"/>
                </a:cubicBezTo>
              </a:path>
              <a:path w="4689" h="993">
                <a:moveTo>
                  <a:pt x="9674" y="4465"/>
                </a:moveTo>
                <a:cubicBezTo>
                  <a:pt x="9699" y="4465"/>
                  <a:pt x="9707" y="4465"/>
                  <a:pt x="9723" y="4465"/>
                </a:cubicBezTo>
                <a:cubicBezTo>
                  <a:pt x="9758" y="4413"/>
                  <a:pt x="9787" y="4465"/>
                  <a:pt x="9847" y="4440"/>
                </a:cubicBezTo>
                <a:cubicBezTo>
                  <a:pt x="9886" y="4423"/>
                  <a:pt x="9875" y="4415"/>
                  <a:pt x="9922" y="4415"/>
                </a:cubicBezTo>
              </a:path>
              <a:path w="4689" h="993">
                <a:moveTo>
                  <a:pt x="10567" y="4490"/>
                </a:moveTo>
                <a:cubicBezTo>
                  <a:pt x="10567" y="4498"/>
                  <a:pt x="10567" y="4506"/>
                  <a:pt x="10567" y="4514"/>
                </a:cubicBezTo>
              </a:path>
              <a:path w="4689" h="993">
                <a:moveTo>
                  <a:pt x="10740" y="4762"/>
                </a:moveTo>
                <a:cubicBezTo>
                  <a:pt x="10740" y="4787"/>
                  <a:pt x="10740" y="4795"/>
                  <a:pt x="10740" y="4812"/>
                </a:cubicBezTo>
                <a:cubicBezTo>
                  <a:pt x="10781" y="4812"/>
                  <a:pt x="10823" y="4812"/>
                  <a:pt x="10864" y="4812"/>
                </a:cubicBezTo>
              </a:path>
              <a:path w="4689" h="993">
                <a:moveTo>
                  <a:pt x="10864" y="4986"/>
                </a:moveTo>
                <a:cubicBezTo>
                  <a:pt x="10864" y="4994"/>
                  <a:pt x="10864" y="5003"/>
                  <a:pt x="10864" y="5011"/>
                </a:cubicBezTo>
              </a:path>
              <a:path w="4689" h="993">
                <a:moveTo>
                  <a:pt x="10889" y="5135"/>
                </a:moveTo>
                <a:lnTo>
                  <a:pt x="10889" y="5135"/>
                </a:lnTo>
              </a:path>
              <a:path w="4689" h="993">
                <a:moveTo>
                  <a:pt x="10914" y="5283"/>
                </a:moveTo>
                <a:cubicBezTo>
                  <a:pt x="10914" y="5291"/>
                  <a:pt x="10914" y="5300"/>
                  <a:pt x="10914" y="5308"/>
                </a:cubicBezTo>
              </a:path>
              <a:path w="4689" h="993">
                <a:moveTo>
                  <a:pt x="10740" y="4812"/>
                </a:moveTo>
                <a:cubicBezTo>
                  <a:pt x="10740" y="4853"/>
                  <a:pt x="10740" y="4895"/>
                  <a:pt x="10740" y="4936"/>
                </a:cubicBezTo>
                <a:cubicBezTo>
                  <a:pt x="10778" y="4949"/>
                  <a:pt x="10765" y="4966"/>
                  <a:pt x="10765" y="5011"/>
                </a:cubicBezTo>
                <a:cubicBezTo>
                  <a:pt x="10765" y="5047"/>
                  <a:pt x="10772" y="5084"/>
                  <a:pt x="10790" y="5110"/>
                </a:cubicBezTo>
                <a:cubicBezTo>
                  <a:pt x="10813" y="5133"/>
                  <a:pt x="10817" y="5141"/>
                  <a:pt x="10840" y="5135"/>
                </a:cubicBezTo>
                <a:cubicBezTo>
                  <a:pt x="10840" y="5184"/>
                  <a:pt x="10851" y="5194"/>
                  <a:pt x="10864" y="5234"/>
                </a:cubicBezTo>
                <a:cubicBezTo>
                  <a:pt x="10881" y="5286"/>
                  <a:pt x="10848" y="5312"/>
                  <a:pt x="10889" y="5358"/>
                </a:cubicBezTo>
                <a:cubicBezTo>
                  <a:pt x="10911" y="5380"/>
                  <a:pt x="10920" y="5385"/>
                  <a:pt x="10914" y="5407"/>
                </a:cubicBezTo>
              </a:path>
            </a:pathLst>
          </a:custGeom>
          <a:noFill/>
          <a:ln cap="rnd" w="349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5268960" y="2855880"/>
            <a:ext cx="81000" cy="19080"/>
          </a:xfrm>
          <a:custGeom>
            <a:avLst/>
            <a:gdLst/>
            <a:ahLst/>
            <a:rect l="l" t="t" r="r" b="b"/>
            <a:pathLst>
              <a:path w="224" h="51">
                <a:moveTo>
                  <a:pt x="14635" y="4614"/>
                </a:moveTo>
                <a:cubicBezTo>
                  <a:pt x="14651" y="4614"/>
                  <a:pt x="14668" y="4614"/>
                  <a:pt x="14684" y="4614"/>
                </a:cubicBezTo>
              </a:path>
              <a:path w="224" h="51">
                <a:moveTo>
                  <a:pt x="14833" y="4564"/>
                </a:moveTo>
                <a:cubicBezTo>
                  <a:pt x="14841" y="4564"/>
                  <a:pt x="14850" y="4564"/>
                  <a:pt x="14858" y="4564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5276880" y="2214720"/>
            <a:ext cx="965160" cy="482400"/>
          </a:xfrm>
          <a:custGeom>
            <a:avLst/>
            <a:gdLst/>
            <a:ahLst/>
            <a:rect l="l" t="t" r="r" b="b"/>
            <a:pathLst>
              <a:path w="2679" h="1340">
                <a:moveTo>
                  <a:pt x="14734" y="6276"/>
                </a:moveTo>
                <a:cubicBezTo>
                  <a:pt x="14734" y="6400"/>
                  <a:pt x="14734" y="6524"/>
                  <a:pt x="14734" y="6648"/>
                </a:cubicBezTo>
              </a:path>
              <a:path w="2679" h="1340">
                <a:moveTo>
                  <a:pt x="14908" y="6201"/>
                </a:moveTo>
                <a:cubicBezTo>
                  <a:pt x="14908" y="6251"/>
                  <a:pt x="14897" y="6260"/>
                  <a:pt x="14883" y="6300"/>
                </a:cubicBezTo>
                <a:cubicBezTo>
                  <a:pt x="14877" y="6317"/>
                  <a:pt x="14883" y="6449"/>
                  <a:pt x="14883" y="6325"/>
                </a:cubicBezTo>
                <a:cubicBezTo>
                  <a:pt x="14883" y="6317"/>
                  <a:pt x="14883" y="6308"/>
                  <a:pt x="14883" y="6300"/>
                </a:cubicBezTo>
              </a:path>
              <a:path w="2679" h="1340">
                <a:moveTo>
                  <a:pt x="14858" y="6152"/>
                </a:moveTo>
                <a:cubicBezTo>
                  <a:pt x="14823" y="6152"/>
                  <a:pt x="14643" y="6152"/>
                  <a:pt x="14684" y="6152"/>
                </a:cubicBezTo>
              </a:path>
              <a:path w="2679" h="1340">
                <a:moveTo>
                  <a:pt x="14932" y="6921"/>
                </a:moveTo>
                <a:cubicBezTo>
                  <a:pt x="14932" y="6995"/>
                  <a:pt x="14932" y="7070"/>
                  <a:pt x="14932" y="7144"/>
                </a:cubicBezTo>
              </a:path>
              <a:path w="2679" h="1340">
                <a:moveTo>
                  <a:pt x="15329" y="7218"/>
                </a:moveTo>
                <a:cubicBezTo>
                  <a:pt x="15558" y="7218"/>
                  <a:pt x="15811" y="7236"/>
                  <a:pt x="16024" y="7193"/>
                </a:cubicBezTo>
                <a:cubicBezTo>
                  <a:pt x="16309" y="7135"/>
                  <a:pt x="16674" y="7193"/>
                  <a:pt x="16966" y="7193"/>
                </a:cubicBezTo>
              </a:path>
              <a:path w="2679" h="1340">
                <a:moveTo>
                  <a:pt x="17338" y="7317"/>
                </a:moveTo>
                <a:cubicBezTo>
                  <a:pt x="17338" y="7375"/>
                  <a:pt x="17338" y="7433"/>
                  <a:pt x="17338" y="7491"/>
                </a:cubicBezTo>
              </a:path>
            </a:pathLst>
          </a:custGeom>
          <a:noFill/>
          <a:ln cap="rnd" w="349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5830920" y="2982960"/>
            <a:ext cx="376200" cy="160200"/>
          </a:xfrm>
          <a:custGeom>
            <a:avLst/>
            <a:gdLst/>
            <a:ahLst/>
            <a:rect l="l" t="t" r="r" b="b"/>
            <a:pathLst>
              <a:path w="1043" h="448">
                <a:moveTo>
                  <a:pt x="16197" y="4961"/>
                </a:moveTo>
                <a:cubicBezTo>
                  <a:pt x="16267" y="4961"/>
                  <a:pt x="16966" y="5012"/>
                  <a:pt x="16991" y="4936"/>
                </a:cubicBezTo>
              </a:path>
              <a:path w="1043" h="448">
                <a:moveTo>
                  <a:pt x="16346" y="4539"/>
                </a:moveTo>
                <a:cubicBezTo>
                  <a:pt x="16578" y="4539"/>
                  <a:pt x="16809" y="4539"/>
                  <a:pt x="17041" y="4539"/>
                </a:cubicBezTo>
              </a:path>
              <a:path w="1043" h="448">
                <a:moveTo>
                  <a:pt x="17190" y="4589"/>
                </a:moveTo>
                <a:cubicBezTo>
                  <a:pt x="17190" y="4578"/>
                  <a:pt x="17190" y="4472"/>
                  <a:pt x="17190" y="4539"/>
                </a:cubicBezTo>
                <a:cubicBezTo>
                  <a:pt x="17190" y="4572"/>
                  <a:pt x="17190" y="4605"/>
                  <a:pt x="17190" y="4638"/>
                </a:cubicBezTo>
              </a:path>
              <a:path w="1043" h="448">
                <a:moveTo>
                  <a:pt x="17239" y="4812"/>
                </a:moveTo>
                <a:cubicBezTo>
                  <a:pt x="17239" y="4847"/>
                  <a:pt x="17252" y="4892"/>
                  <a:pt x="17214" y="4911"/>
                </a:cubicBezTo>
                <a:cubicBezTo>
                  <a:pt x="17206" y="4911"/>
                  <a:pt x="17198" y="4911"/>
                  <a:pt x="17190" y="4911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3995640" y="2222640"/>
            <a:ext cx="957240" cy="393480"/>
          </a:xfrm>
          <a:custGeom>
            <a:avLst/>
            <a:gdLst/>
            <a:ahLst/>
            <a:rect l="l" t="t" r="r" b="b"/>
            <a:pathLst>
              <a:path w="603" h="248">
                <a:moveTo>
                  <a:pt x="3" y="207"/>
                </a:moveTo>
                <a:cubicBezTo>
                  <a:pt x="6" y="194"/>
                  <a:pt x="1" y="177"/>
                  <a:pt x="11" y="167"/>
                </a:cubicBezTo>
                <a:cubicBezTo>
                  <a:pt x="17" y="161"/>
                  <a:pt x="20" y="183"/>
                  <a:pt x="19" y="191"/>
                </a:cubicBezTo>
                <a:cubicBezTo>
                  <a:pt x="17" y="208"/>
                  <a:pt x="8" y="223"/>
                  <a:pt x="3" y="239"/>
                </a:cubicBezTo>
                <a:cubicBezTo>
                  <a:pt x="0" y="248"/>
                  <a:pt x="12" y="222"/>
                  <a:pt x="19" y="215"/>
                </a:cubicBezTo>
                <a:cubicBezTo>
                  <a:pt x="26" y="208"/>
                  <a:pt x="35" y="204"/>
                  <a:pt x="43" y="199"/>
                </a:cubicBezTo>
                <a:cubicBezTo>
                  <a:pt x="89" y="130"/>
                  <a:pt x="178" y="75"/>
                  <a:pt x="259" y="55"/>
                </a:cubicBezTo>
                <a:cubicBezTo>
                  <a:pt x="342" y="0"/>
                  <a:pt x="426" y="39"/>
                  <a:pt x="531" y="47"/>
                </a:cubicBezTo>
                <a:cubicBezTo>
                  <a:pt x="600" y="70"/>
                  <a:pt x="549" y="158"/>
                  <a:pt x="539" y="215"/>
                </a:cubicBezTo>
                <a:cubicBezTo>
                  <a:pt x="581" y="226"/>
                  <a:pt x="560" y="223"/>
                  <a:pt x="603" y="22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3936960" y="2265480"/>
            <a:ext cx="457200" cy="285480"/>
          </a:xfrm>
          <a:custGeom>
            <a:avLst/>
            <a:gdLst/>
            <a:ahLst/>
            <a:rect l="l" t="t" r="r" b="b"/>
            <a:pathLst>
              <a:path w="288" h="180">
                <a:moveTo>
                  <a:pt x="0" y="172"/>
                </a:moveTo>
                <a:cubicBezTo>
                  <a:pt x="11" y="169"/>
                  <a:pt x="21" y="164"/>
                  <a:pt x="32" y="164"/>
                </a:cubicBezTo>
                <a:cubicBezTo>
                  <a:pt x="40" y="164"/>
                  <a:pt x="8" y="180"/>
                  <a:pt x="8" y="172"/>
                </a:cubicBezTo>
                <a:cubicBezTo>
                  <a:pt x="8" y="155"/>
                  <a:pt x="68" y="130"/>
                  <a:pt x="80" y="124"/>
                </a:cubicBezTo>
                <a:cubicBezTo>
                  <a:pt x="88" y="120"/>
                  <a:pt x="97" y="120"/>
                  <a:pt x="104" y="116"/>
                </a:cubicBezTo>
                <a:cubicBezTo>
                  <a:pt x="121" y="107"/>
                  <a:pt x="171" y="81"/>
                  <a:pt x="152" y="84"/>
                </a:cubicBezTo>
                <a:cubicBezTo>
                  <a:pt x="133" y="87"/>
                  <a:pt x="115" y="89"/>
                  <a:pt x="96" y="92"/>
                </a:cubicBezTo>
                <a:cubicBezTo>
                  <a:pt x="96" y="92"/>
                  <a:pt x="126" y="66"/>
                  <a:pt x="144" y="60"/>
                </a:cubicBezTo>
                <a:cubicBezTo>
                  <a:pt x="170" y="51"/>
                  <a:pt x="200" y="48"/>
                  <a:pt x="224" y="36"/>
                </a:cubicBezTo>
                <a:cubicBezTo>
                  <a:pt x="243" y="26"/>
                  <a:pt x="261" y="14"/>
                  <a:pt x="280" y="4"/>
                </a:cubicBezTo>
                <a:cubicBezTo>
                  <a:pt x="288" y="0"/>
                  <a:pt x="264" y="9"/>
                  <a:pt x="256" y="12"/>
                </a:cubicBezTo>
                <a:cubicBezTo>
                  <a:pt x="243" y="16"/>
                  <a:pt x="229" y="17"/>
                  <a:pt x="216" y="20"/>
                </a:cubicBezTo>
                <a:cubicBezTo>
                  <a:pt x="195" y="41"/>
                  <a:pt x="177" y="75"/>
                  <a:pt x="152" y="92"/>
                </a:cubicBezTo>
                <a:cubicBezTo>
                  <a:pt x="137" y="102"/>
                  <a:pt x="119" y="106"/>
                  <a:pt x="104" y="116"/>
                </a:cubicBezTo>
                <a:cubicBezTo>
                  <a:pt x="126" y="82"/>
                  <a:pt x="155" y="64"/>
                  <a:pt x="192" y="52"/>
                </a:cubicBezTo>
                <a:cubicBezTo>
                  <a:pt x="218" y="26"/>
                  <a:pt x="243" y="12"/>
                  <a:pt x="280" y="12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4178160" y="2206800"/>
            <a:ext cx="765360" cy="407880"/>
          </a:xfrm>
          <a:custGeom>
            <a:avLst/>
            <a:gdLst/>
            <a:ahLst/>
            <a:rect l="l" t="t" r="r" b="b"/>
            <a:pathLst>
              <a:path w="482" h="257">
                <a:moveTo>
                  <a:pt x="0" y="89"/>
                </a:moveTo>
                <a:cubicBezTo>
                  <a:pt x="58" y="70"/>
                  <a:pt x="118" y="60"/>
                  <a:pt x="176" y="41"/>
                </a:cubicBezTo>
                <a:cubicBezTo>
                  <a:pt x="95" y="14"/>
                  <a:pt x="233" y="64"/>
                  <a:pt x="272" y="25"/>
                </a:cubicBezTo>
                <a:cubicBezTo>
                  <a:pt x="297" y="0"/>
                  <a:pt x="133" y="17"/>
                  <a:pt x="168" y="17"/>
                </a:cubicBezTo>
                <a:cubicBezTo>
                  <a:pt x="267" y="17"/>
                  <a:pt x="365" y="22"/>
                  <a:pt x="464" y="25"/>
                </a:cubicBezTo>
                <a:cubicBezTo>
                  <a:pt x="467" y="100"/>
                  <a:pt x="466" y="175"/>
                  <a:pt x="472" y="249"/>
                </a:cubicBezTo>
                <a:cubicBezTo>
                  <a:pt x="473" y="257"/>
                  <a:pt x="480" y="233"/>
                  <a:pt x="480" y="225"/>
                </a:cubicBezTo>
                <a:cubicBezTo>
                  <a:pt x="482" y="158"/>
                  <a:pt x="480" y="92"/>
                  <a:pt x="480" y="25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4165560" y="2165400"/>
            <a:ext cx="785880" cy="309600"/>
          </a:xfrm>
          <a:custGeom>
            <a:avLst/>
            <a:gdLst/>
            <a:ahLst/>
            <a:rect l="l" t="t" r="r" b="b"/>
            <a:pathLst>
              <a:path w="495" h="195">
                <a:moveTo>
                  <a:pt x="0" y="195"/>
                </a:moveTo>
                <a:cubicBezTo>
                  <a:pt x="37" y="140"/>
                  <a:pt x="40" y="147"/>
                  <a:pt x="88" y="107"/>
                </a:cubicBezTo>
                <a:cubicBezTo>
                  <a:pt x="108" y="90"/>
                  <a:pt x="160" y="75"/>
                  <a:pt x="160" y="75"/>
                </a:cubicBezTo>
                <a:cubicBezTo>
                  <a:pt x="196" y="39"/>
                  <a:pt x="173" y="55"/>
                  <a:pt x="232" y="35"/>
                </a:cubicBezTo>
                <a:cubicBezTo>
                  <a:pt x="283" y="18"/>
                  <a:pt x="392" y="19"/>
                  <a:pt x="392" y="19"/>
                </a:cubicBezTo>
                <a:cubicBezTo>
                  <a:pt x="421" y="22"/>
                  <a:pt x="452" y="18"/>
                  <a:pt x="480" y="27"/>
                </a:cubicBezTo>
                <a:cubicBezTo>
                  <a:pt x="488" y="30"/>
                  <a:pt x="495" y="46"/>
                  <a:pt x="488" y="51"/>
                </a:cubicBezTo>
                <a:cubicBezTo>
                  <a:pt x="479" y="57"/>
                  <a:pt x="467" y="44"/>
                  <a:pt x="456" y="43"/>
                </a:cubicBezTo>
                <a:cubicBezTo>
                  <a:pt x="376" y="38"/>
                  <a:pt x="296" y="38"/>
                  <a:pt x="216" y="35"/>
                </a:cubicBezTo>
                <a:cubicBezTo>
                  <a:pt x="322" y="0"/>
                  <a:pt x="247" y="19"/>
                  <a:pt x="448" y="19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4303800" y="1446120"/>
            <a:ext cx="1054080" cy="849240"/>
          </a:xfrm>
          <a:custGeom>
            <a:avLst/>
            <a:gdLst/>
            <a:ahLst/>
            <a:rect l="l" t="t" r="r" b="b"/>
            <a:pathLst>
              <a:path w="2928" h="2358">
                <a:moveTo>
                  <a:pt x="11956" y="6375"/>
                </a:moveTo>
                <a:cubicBezTo>
                  <a:pt x="11995" y="6365"/>
                  <a:pt x="12018" y="6337"/>
                  <a:pt x="12055" y="6325"/>
                </a:cubicBezTo>
                <a:cubicBezTo>
                  <a:pt x="12087" y="6314"/>
                  <a:pt x="12124" y="6310"/>
                  <a:pt x="12154" y="6300"/>
                </a:cubicBezTo>
                <a:cubicBezTo>
                  <a:pt x="12202" y="6284"/>
                  <a:pt x="12260" y="6264"/>
                  <a:pt x="12303" y="6251"/>
                </a:cubicBezTo>
                <a:cubicBezTo>
                  <a:pt x="12311" y="6248"/>
                  <a:pt x="12399" y="6229"/>
                  <a:pt x="12402" y="6226"/>
                </a:cubicBezTo>
                <a:cubicBezTo>
                  <a:pt x="12402" y="6218"/>
                  <a:pt x="12402" y="6209"/>
                  <a:pt x="12402" y="6201"/>
                </a:cubicBezTo>
              </a:path>
              <a:path w="2928" h="2358">
                <a:moveTo>
                  <a:pt x="12750" y="6102"/>
                </a:moveTo>
                <a:cubicBezTo>
                  <a:pt x="12783" y="6102"/>
                  <a:pt x="12799" y="6102"/>
                  <a:pt x="12824" y="6102"/>
                </a:cubicBezTo>
                <a:cubicBezTo>
                  <a:pt x="12848" y="6088"/>
                  <a:pt x="12846" y="6080"/>
                  <a:pt x="12898" y="6077"/>
                </a:cubicBezTo>
                <a:cubicBezTo>
                  <a:pt x="12971" y="6073"/>
                  <a:pt x="13037" y="6064"/>
                  <a:pt x="13097" y="6052"/>
                </a:cubicBezTo>
                <a:cubicBezTo>
                  <a:pt x="13637" y="5942"/>
                  <a:pt x="14329" y="6052"/>
                  <a:pt x="14883" y="6052"/>
                </a:cubicBezTo>
              </a:path>
              <a:path w="2928" h="2358">
                <a:moveTo>
                  <a:pt x="13667" y="4465"/>
                </a:moveTo>
                <a:cubicBezTo>
                  <a:pt x="13667" y="4316"/>
                  <a:pt x="13667" y="4167"/>
                  <a:pt x="13667" y="4018"/>
                </a:cubicBezTo>
                <a:cubicBezTo>
                  <a:pt x="13667" y="4060"/>
                  <a:pt x="13677" y="4056"/>
                  <a:pt x="13643" y="4068"/>
                </a:cubicBezTo>
              </a:path>
            </a:pathLst>
          </a:custGeom>
          <a:noFill/>
          <a:ln cap="rnd" w="349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3322800" y="2463840"/>
            <a:ext cx="1630080" cy="601560"/>
          </a:xfrm>
          <a:custGeom>
            <a:avLst/>
            <a:gdLst/>
            <a:ahLst/>
            <a:rect l="l" t="t" r="r" b="b"/>
            <a:pathLst>
              <a:path w="1027" h="379">
                <a:moveTo>
                  <a:pt x="907" y="80"/>
                </a:moveTo>
                <a:cubicBezTo>
                  <a:pt x="921" y="77"/>
                  <a:pt x="954" y="72"/>
                  <a:pt x="963" y="56"/>
                </a:cubicBezTo>
                <a:cubicBezTo>
                  <a:pt x="995" y="0"/>
                  <a:pt x="966" y="17"/>
                  <a:pt x="939" y="24"/>
                </a:cubicBezTo>
                <a:cubicBezTo>
                  <a:pt x="918" y="87"/>
                  <a:pt x="909" y="62"/>
                  <a:pt x="955" y="88"/>
                </a:cubicBezTo>
                <a:cubicBezTo>
                  <a:pt x="963" y="93"/>
                  <a:pt x="971" y="99"/>
                  <a:pt x="979" y="104"/>
                </a:cubicBezTo>
                <a:cubicBezTo>
                  <a:pt x="953" y="182"/>
                  <a:pt x="897" y="379"/>
                  <a:pt x="1003" y="344"/>
                </a:cubicBezTo>
                <a:cubicBezTo>
                  <a:pt x="1000" y="331"/>
                  <a:pt x="998" y="317"/>
                  <a:pt x="995" y="304"/>
                </a:cubicBezTo>
                <a:cubicBezTo>
                  <a:pt x="993" y="296"/>
                  <a:pt x="991" y="272"/>
                  <a:pt x="987" y="280"/>
                </a:cubicBezTo>
                <a:cubicBezTo>
                  <a:pt x="943" y="369"/>
                  <a:pt x="1013" y="314"/>
                  <a:pt x="955" y="352"/>
                </a:cubicBezTo>
                <a:cubicBezTo>
                  <a:pt x="795" y="348"/>
                  <a:pt x="615" y="364"/>
                  <a:pt x="459" y="312"/>
                </a:cubicBezTo>
                <a:cubicBezTo>
                  <a:pt x="438" y="249"/>
                  <a:pt x="384" y="200"/>
                  <a:pt x="363" y="136"/>
                </a:cubicBezTo>
                <a:cubicBezTo>
                  <a:pt x="345" y="191"/>
                  <a:pt x="368" y="140"/>
                  <a:pt x="339" y="128"/>
                </a:cubicBezTo>
                <a:cubicBezTo>
                  <a:pt x="322" y="121"/>
                  <a:pt x="309" y="151"/>
                  <a:pt x="291" y="152"/>
                </a:cubicBezTo>
                <a:cubicBezTo>
                  <a:pt x="203" y="159"/>
                  <a:pt x="27" y="168"/>
                  <a:pt x="27" y="168"/>
                </a:cubicBezTo>
                <a:cubicBezTo>
                  <a:pt x="22" y="183"/>
                  <a:pt x="0" y="244"/>
                  <a:pt x="11" y="248"/>
                </a:cubicBezTo>
                <a:cubicBezTo>
                  <a:pt x="46" y="262"/>
                  <a:pt x="123" y="232"/>
                  <a:pt x="123" y="232"/>
                </a:cubicBezTo>
                <a:cubicBezTo>
                  <a:pt x="185" y="190"/>
                  <a:pt x="251" y="178"/>
                  <a:pt x="323" y="160"/>
                </a:cubicBezTo>
                <a:cubicBezTo>
                  <a:pt x="363" y="172"/>
                  <a:pt x="400" y="177"/>
                  <a:pt x="435" y="200"/>
                </a:cubicBezTo>
                <a:cubicBezTo>
                  <a:pt x="427" y="224"/>
                  <a:pt x="419" y="248"/>
                  <a:pt x="411" y="272"/>
                </a:cubicBezTo>
                <a:cubicBezTo>
                  <a:pt x="406" y="288"/>
                  <a:pt x="442" y="288"/>
                  <a:pt x="459" y="288"/>
                </a:cubicBezTo>
                <a:cubicBezTo>
                  <a:pt x="648" y="293"/>
                  <a:pt x="838" y="288"/>
                  <a:pt x="1027" y="288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4000680" y="3071880"/>
            <a:ext cx="1169640" cy="1440"/>
          </a:xfrm>
          <a:custGeom>
            <a:avLst/>
            <a:gdLst/>
            <a:ahLst/>
            <a:rect l="l" t="t" r="r" b="b"/>
            <a:pathLst>
              <a:path w="3251" h="1">
                <a:moveTo>
                  <a:pt x="11137" y="4762"/>
                </a:moveTo>
                <a:cubicBezTo>
                  <a:pt x="11179" y="4762"/>
                  <a:pt x="11170" y="4762"/>
                  <a:pt x="11212" y="4762"/>
                </a:cubicBezTo>
                <a:cubicBezTo>
                  <a:pt x="12262" y="4762"/>
                  <a:pt x="13312" y="4762"/>
                  <a:pt x="14362" y="4762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4898880" y="2197080"/>
            <a:ext cx="1479600" cy="927000"/>
          </a:xfrm>
          <a:custGeom>
            <a:avLst/>
            <a:gdLst/>
            <a:ahLst/>
            <a:rect l="l" t="t" r="r" b="b"/>
            <a:pathLst>
              <a:path w="932" h="584">
                <a:moveTo>
                  <a:pt x="42" y="16"/>
                </a:moveTo>
                <a:cubicBezTo>
                  <a:pt x="103" y="13"/>
                  <a:pt x="165" y="14"/>
                  <a:pt x="226" y="8"/>
                </a:cubicBezTo>
                <a:cubicBezTo>
                  <a:pt x="237" y="7"/>
                  <a:pt x="205" y="0"/>
                  <a:pt x="194" y="0"/>
                </a:cubicBezTo>
                <a:cubicBezTo>
                  <a:pt x="133" y="0"/>
                  <a:pt x="71" y="5"/>
                  <a:pt x="10" y="8"/>
                </a:cubicBezTo>
                <a:cubicBezTo>
                  <a:pt x="13" y="29"/>
                  <a:pt x="7" y="53"/>
                  <a:pt x="18" y="72"/>
                </a:cubicBezTo>
                <a:cubicBezTo>
                  <a:pt x="22" y="79"/>
                  <a:pt x="34" y="66"/>
                  <a:pt x="42" y="64"/>
                </a:cubicBezTo>
                <a:cubicBezTo>
                  <a:pt x="68" y="58"/>
                  <a:pt x="96" y="55"/>
                  <a:pt x="122" y="48"/>
                </a:cubicBezTo>
                <a:cubicBezTo>
                  <a:pt x="133" y="45"/>
                  <a:pt x="143" y="43"/>
                  <a:pt x="154" y="40"/>
                </a:cubicBezTo>
                <a:cubicBezTo>
                  <a:pt x="178" y="43"/>
                  <a:pt x="204" y="39"/>
                  <a:pt x="226" y="48"/>
                </a:cubicBezTo>
                <a:cubicBezTo>
                  <a:pt x="234" y="51"/>
                  <a:pt x="234" y="64"/>
                  <a:pt x="234" y="72"/>
                </a:cubicBezTo>
                <a:cubicBezTo>
                  <a:pt x="234" y="392"/>
                  <a:pt x="318" y="338"/>
                  <a:pt x="194" y="400"/>
                </a:cubicBezTo>
                <a:cubicBezTo>
                  <a:pt x="162" y="397"/>
                  <a:pt x="129" y="401"/>
                  <a:pt x="98" y="392"/>
                </a:cubicBezTo>
                <a:cubicBezTo>
                  <a:pt x="73" y="385"/>
                  <a:pt x="66" y="320"/>
                  <a:pt x="66" y="320"/>
                </a:cubicBezTo>
                <a:cubicBezTo>
                  <a:pt x="57" y="233"/>
                  <a:pt x="42" y="119"/>
                  <a:pt x="66" y="40"/>
                </a:cubicBezTo>
                <a:cubicBezTo>
                  <a:pt x="71" y="24"/>
                  <a:pt x="98" y="51"/>
                  <a:pt x="114" y="56"/>
                </a:cubicBezTo>
                <a:cubicBezTo>
                  <a:pt x="162" y="44"/>
                  <a:pt x="211" y="48"/>
                  <a:pt x="258" y="32"/>
                </a:cubicBezTo>
                <a:cubicBezTo>
                  <a:pt x="240" y="439"/>
                  <a:pt x="351" y="415"/>
                  <a:pt x="66" y="400"/>
                </a:cubicBezTo>
                <a:cubicBezTo>
                  <a:pt x="60" y="331"/>
                  <a:pt x="80" y="295"/>
                  <a:pt x="18" y="280"/>
                </a:cubicBezTo>
                <a:cubicBezTo>
                  <a:pt x="13" y="288"/>
                  <a:pt x="3" y="294"/>
                  <a:pt x="2" y="304"/>
                </a:cubicBezTo>
                <a:cubicBezTo>
                  <a:pt x="0" y="315"/>
                  <a:pt x="10" y="336"/>
                  <a:pt x="10" y="336"/>
                </a:cubicBezTo>
                <a:cubicBezTo>
                  <a:pt x="25" y="372"/>
                  <a:pt x="34" y="402"/>
                  <a:pt x="42" y="440"/>
                </a:cubicBezTo>
                <a:cubicBezTo>
                  <a:pt x="53" y="437"/>
                  <a:pt x="85" y="432"/>
                  <a:pt x="74" y="432"/>
                </a:cubicBezTo>
                <a:cubicBezTo>
                  <a:pt x="58" y="432"/>
                  <a:pt x="40" y="431"/>
                  <a:pt x="26" y="440"/>
                </a:cubicBezTo>
                <a:cubicBezTo>
                  <a:pt x="16" y="446"/>
                  <a:pt x="15" y="461"/>
                  <a:pt x="10" y="472"/>
                </a:cubicBezTo>
                <a:cubicBezTo>
                  <a:pt x="67" y="491"/>
                  <a:pt x="72" y="479"/>
                  <a:pt x="34" y="504"/>
                </a:cubicBezTo>
                <a:cubicBezTo>
                  <a:pt x="42" y="507"/>
                  <a:pt x="58" y="504"/>
                  <a:pt x="58" y="512"/>
                </a:cubicBezTo>
                <a:cubicBezTo>
                  <a:pt x="58" y="522"/>
                  <a:pt x="25" y="526"/>
                  <a:pt x="34" y="528"/>
                </a:cubicBezTo>
                <a:cubicBezTo>
                  <a:pt x="67" y="535"/>
                  <a:pt x="121" y="515"/>
                  <a:pt x="154" y="504"/>
                </a:cubicBezTo>
                <a:cubicBezTo>
                  <a:pt x="168" y="483"/>
                  <a:pt x="173" y="473"/>
                  <a:pt x="194" y="456"/>
                </a:cubicBezTo>
                <a:cubicBezTo>
                  <a:pt x="209" y="444"/>
                  <a:pt x="242" y="424"/>
                  <a:pt x="242" y="424"/>
                </a:cubicBezTo>
                <a:cubicBezTo>
                  <a:pt x="275" y="374"/>
                  <a:pt x="268" y="350"/>
                  <a:pt x="274" y="280"/>
                </a:cubicBezTo>
                <a:cubicBezTo>
                  <a:pt x="312" y="337"/>
                  <a:pt x="284" y="453"/>
                  <a:pt x="314" y="256"/>
                </a:cubicBezTo>
                <a:cubicBezTo>
                  <a:pt x="485" y="259"/>
                  <a:pt x="656" y="245"/>
                  <a:pt x="826" y="264"/>
                </a:cubicBezTo>
                <a:cubicBezTo>
                  <a:pt x="842" y="266"/>
                  <a:pt x="827" y="299"/>
                  <a:pt x="818" y="312"/>
                </a:cubicBezTo>
                <a:cubicBezTo>
                  <a:pt x="813" y="319"/>
                  <a:pt x="802" y="288"/>
                  <a:pt x="810" y="288"/>
                </a:cubicBezTo>
                <a:cubicBezTo>
                  <a:pt x="820" y="288"/>
                  <a:pt x="821" y="304"/>
                  <a:pt x="826" y="312"/>
                </a:cubicBezTo>
                <a:cubicBezTo>
                  <a:pt x="823" y="323"/>
                  <a:pt x="826" y="336"/>
                  <a:pt x="818" y="344"/>
                </a:cubicBezTo>
                <a:cubicBezTo>
                  <a:pt x="765" y="397"/>
                  <a:pt x="799" y="299"/>
                  <a:pt x="778" y="384"/>
                </a:cubicBezTo>
                <a:cubicBezTo>
                  <a:pt x="783" y="392"/>
                  <a:pt x="785" y="405"/>
                  <a:pt x="794" y="408"/>
                </a:cubicBezTo>
                <a:cubicBezTo>
                  <a:pt x="807" y="412"/>
                  <a:pt x="827" y="388"/>
                  <a:pt x="834" y="400"/>
                </a:cubicBezTo>
                <a:cubicBezTo>
                  <a:pt x="862" y="447"/>
                  <a:pt x="803" y="452"/>
                  <a:pt x="786" y="456"/>
                </a:cubicBezTo>
                <a:cubicBezTo>
                  <a:pt x="839" y="491"/>
                  <a:pt x="814" y="516"/>
                  <a:pt x="802" y="584"/>
                </a:cubicBezTo>
                <a:cubicBezTo>
                  <a:pt x="617" y="547"/>
                  <a:pt x="932" y="237"/>
                  <a:pt x="762" y="280"/>
                </a:cubicBezTo>
                <a:cubicBezTo>
                  <a:pt x="759" y="352"/>
                  <a:pt x="758" y="424"/>
                  <a:pt x="754" y="496"/>
                </a:cubicBezTo>
                <a:cubicBezTo>
                  <a:pt x="753" y="510"/>
                  <a:pt x="736" y="546"/>
                  <a:pt x="746" y="536"/>
                </a:cubicBezTo>
                <a:cubicBezTo>
                  <a:pt x="771" y="511"/>
                  <a:pt x="762" y="417"/>
                  <a:pt x="762" y="400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5392800" y="2276640"/>
            <a:ext cx="233280" cy="268200"/>
          </a:xfrm>
          <a:custGeom>
            <a:avLst/>
            <a:gdLst/>
            <a:ahLst/>
            <a:rect l="l" t="t" r="r" b="b"/>
            <a:pathLst>
              <a:path w="646" h="745">
                <a:moveTo>
                  <a:pt x="15032" y="6325"/>
                </a:moveTo>
                <a:cubicBezTo>
                  <a:pt x="15059" y="6363"/>
                  <a:pt x="15056" y="6377"/>
                  <a:pt x="15056" y="6424"/>
                </a:cubicBezTo>
                <a:cubicBezTo>
                  <a:pt x="15092" y="6424"/>
                  <a:pt x="15130" y="6431"/>
                  <a:pt x="15156" y="6449"/>
                </a:cubicBezTo>
                <a:cubicBezTo>
                  <a:pt x="15199" y="6478"/>
                  <a:pt x="15167" y="6517"/>
                  <a:pt x="15230" y="6524"/>
                </a:cubicBezTo>
                <a:cubicBezTo>
                  <a:pt x="15284" y="6530"/>
                  <a:pt x="15265" y="6568"/>
                  <a:pt x="15304" y="6573"/>
                </a:cubicBezTo>
                <a:cubicBezTo>
                  <a:pt x="15325" y="6576"/>
                  <a:pt x="15355" y="6607"/>
                  <a:pt x="15379" y="6623"/>
                </a:cubicBezTo>
                <a:cubicBezTo>
                  <a:pt x="15417" y="6648"/>
                  <a:pt x="15445" y="6654"/>
                  <a:pt x="15478" y="6672"/>
                </a:cubicBezTo>
                <a:cubicBezTo>
                  <a:pt x="15511" y="6690"/>
                  <a:pt x="15510" y="6738"/>
                  <a:pt x="15528" y="6747"/>
                </a:cubicBezTo>
                <a:cubicBezTo>
                  <a:pt x="15585" y="6776"/>
                  <a:pt x="15551" y="6774"/>
                  <a:pt x="15577" y="6821"/>
                </a:cubicBezTo>
                <a:cubicBezTo>
                  <a:pt x="15591" y="6847"/>
                  <a:pt x="15623" y="6888"/>
                  <a:pt x="15627" y="6896"/>
                </a:cubicBezTo>
                <a:cubicBezTo>
                  <a:pt x="15650" y="6943"/>
                  <a:pt x="15622" y="7031"/>
                  <a:pt x="15602" y="7045"/>
                </a:cubicBezTo>
                <a:cubicBezTo>
                  <a:pt x="15564" y="7072"/>
                  <a:pt x="15551" y="7069"/>
                  <a:pt x="15503" y="7069"/>
                </a:cubicBezTo>
                <a:cubicBezTo>
                  <a:pt x="15329" y="7069"/>
                  <a:pt x="15156" y="7069"/>
                  <a:pt x="14982" y="7069"/>
                </a:cubicBezTo>
              </a:path>
            </a:pathLst>
          </a:custGeom>
          <a:noFill/>
          <a:ln cap="rnd" w="349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3602160" y="2496960"/>
            <a:ext cx="393480" cy="571680"/>
          </a:xfrm>
          <a:custGeom>
            <a:avLst/>
            <a:gdLst/>
            <a:ahLst/>
            <a:rect l="l" t="t" r="r" b="b"/>
            <a:pathLst>
              <a:path w="1093" h="1589">
                <a:moveTo>
                  <a:pt x="11038" y="7615"/>
                </a:moveTo>
                <a:cubicBezTo>
                  <a:pt x="11038" y="7700"/>
                  <a:pt x="11048" y="7767"/>
                  <a:pt x="11063" y="7838"/>
                </a:cubicBezTo>
                <a:cubicBezTo>
                  <a:pt x="11076" y="7897"/>
                  <a:pt x="11063" y="7975"/>
                  <a:pt x="11063" y="8037"/>
                </a:cubicBezTo>
              </a:path>
              <a:path w="1093" h="1589">
                <a:moveTo>
                  <a:pt x="9971" y="7938"/>
                </a:moveTo>
                <a:cubicBezTo>
                  <a:pt x="10003" y="7912"/>
                  <a:pt x="10032" y="7897"/>
                  <a:pt x="10071" y="7888"/>
                </a:cubicBezTo>
                <a:cubicBezTo>
                  <a:pt x="10145" y="7871"/>
                  <a:pt x="10255" y="7872"/>
                  <a:pt x="10319" y="7863"/>
                </a:cubicBezTo>
                <a:cubicBezTo>
                  <a:pt x="10405" y="7851"/>
                  <a:pt x="10624" y="7835"/>
                  <a:pt x="10691" y="7888"/>
                </a:cubicBezTo>
                <a:cubicBezTo>
                  <a:pt x="10731" y="7920"/>
                  <a:pt x="10741" y="7921"/>
                  <a:pt x="10765" y="7962"/>
                </a:cubicBezTo>
                <a:cubicBezTo>
                  <a:pt x="10789" y="8003"/>
                  <a:pt x="10799" y="8042"/>
                  <a:pt x="10815" y="8086"/>
                </a:cubicBezTo>
                <a:cubicBezTo>
                  <a:pt x="10827" y="8119"/>
                  <a:pt x="10828" y="8152"/>
                  <a:pt x="10840" y="8186"/>
                </a:cubicBezTo>
                <a:cubicBezTo>
                  <a:pt x="10853" y="8223"/>
                  <a:pt x="10862" y="8243"/>
                  <a:pt x="10864" y="8285"/>
                </a:cubicBezTo>
                <a:cubicBezTo>
                  <a:pt x="10866" y="8329"/>
                  <a:pt x="10882" y="8350"/>
                  <a:pt x="10889" y="8384"/>
                </a:cubicBezTo>
                <a:cubicBezTo>
                  <a:pt x="10900" y="8439"/>
                  <a:pt x="10905" y="8511"/>
                  <a:pt x="10914" y="8558"/>
                </a:cubicBezTo>
                <a:cubicBezTo>
                  <a:pt x="10921" y="8596"/>
                  <a:pt x="10914" y="8643"/>
                  <a:pt x="10914" y="8682"/>
                </a:cubicBezTo>
              </a:path>
              <a:path w="1093" h="1589">
                <a:moveTo>
                  <a:pt x="10790" y="8086"/>
                </a:moveTo>
                <a:cubicBezTo>
                  <a:pt x="10824" y="8120"/>
                  <a:pt x="10846" y="8150"/>
                  <a:pt x="10889" y="8161"/>
                </a:cubicBezTo>
                <a:cubicBezTo>
                  <a:pt x="10889" y="8222"/>
                  <a:pt x="10873" y="8289"/>
                  <a:pt x="10914" y="8334"/>
                </a:cubicBezTo>
                <a:cubicBezTo>
                  <a:pt x="10951" y="8375"/>
                  <a:pt x="10917" y="8395"/>
                  <a:pt x="10939" y="8434"/>
                </a:cubicBezTo>
                <a:cubicBezTo>
                  <a:pt x="10957" y="8466"/>
                  <a:pt x="10990" y="8507"/>
                  <a:pt x="11013" y="8533"/>
                </a:cubicBezTo>
                <a:cubicBezTo>
                  <a:pt x="11049" y="8574"/>
                  <a:pt x="11063" y="8577"/>
                  <a:pt x="11063" y="8632"/>
                </a:cubicBezTo>
                <a:cubicBezTo>
                  <a:pt x="11063" y="8640"/>
                  <a:pt x="11063" y="8724"/>
                  <a:pt x="11063" y="8657"/>
                </a:cubicBezTo>
              </a:path>
              <a:path w="1093" h="1589">
                <a:moveTo>
                  <a:pt x="10691" y="7243"/>
                </a:moveTo>
                <a:cubicBezTo>
                  <a:pt x="10717" y="7217"/>
                  <a:pt x="10777" y="7196"/>
                  <a:pt x="10790" y="7169"/>
                </a:cubicBezTo>
                <a:cubicBezTo>
                  <a:pt x="10807" y="7136"/>
                  <a:pt x="10844" y="7135"/>
                  <a:pt x="10864" y="7094"/>
                </a:cubicBezTo>
              </a:path>
            </a:pathLst>
          </a:custGeom>
          <a:noFill/>
          <a:ln cap="rnd" w="349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4027320" y="2384280"/>
            <a:ext cx="258840" cy="250920"/>
          </a:xfrm>
          <a:custGeom>
            <a:avLst/>
            <a:gdLst/>
            <a:ahLst/>
            <a:rect l="l" t="t" r="r" b="b"/>
            <a:pathLst>
              <a:path w="720" h="695">
                <a:moveTo>
                  <a:pt x="11906" y="6623"/>
                </a:moveTo>
                <a:cubicBezTo>
                  <a:pt x="11857" y="6635"/>
                  <a:pt x="11857" y="6647"/>
                  <a:pt x="11857" y="6697"/>
                </a:cubicBezTo>
                <a:cubicBezTo>
                  <a:pt x="11857" y="6879"/>
                  <a:pt x="11868" y="7077"/>
                  <a:pt x="11832" y="7243"/>
                </a:cubicBezTo>
                <a:cubicBezTo>
                  <a:pt x="11832" y="7284"/>
                  <a:pt x="11832" y="7292"/>
                  <a:pt x="11832" y="7317"/>
                </a:cubicBezTo>
                <a:cubicBezTo>
                  <a:pt x="11832" y="7102"/>
                  <a:pt x="11832" y="6887"/>
                  <a:pt x="11832" y="6672"/>
                </a:cubicBezTo>
                <a:cubicBezTo>
                  <a:pt x="11746" y="6672"/>
                  <a:pt x="11571" y="6640"/>
                  <a:pt x="11509" y="6697"/>
                </a:cubicBezTo>
                <a:cubicBezTo>
                  <a:pt x="11484" y="6720"/>
                  <a:pt x="11462" y="6758"/>
                  <a:pt x="11435" y="6772"/>
                </a:cubicBezTo>
                <a:cubicBezTo>
                  <a:pt x="11377" y="6801"/>
                  <a:pt x="11411" y="6797"/>
                  <a:pt x="11385" y="6846"/>
                </a:cubicBezTo>
                <a:cubicBezTo>
                  <a:pt x="11361" y="6892"/>
                  <a:pt x="11332" y="6880"/>
                  <a:pt x="11311" y="6921"/>
                </a:cubicBezTo>
                <a:cubicBezTo>
                  <a:pt x="11298" y="6947"/>
                  <a:pt x="11270" y="6992"/>
                  <a:pt x="11261" y="7020"/>
                </a:cubicBezTo>
                <a:cubicBezTo>
                  <a:pt x="11247" y="7063"/>
                  <a:pt x="11205" y="7078"/>
                  <a:pt x="11187" y="7119"/>
                </a:cubicBezTo>
                <a:cubicBezTo>
                  <a:pt x="11187" y="7144"/>
                  <a:pt x="11187" y="7152"/>
                  <a:pt x="11187" y="7169"/>
                </a:cubicBezTo>
                <a:cubicBezTo>
                  <a:pt x="11225" y="7196"/>
                  <a:pt x="11239" y="7193"/>
                  <a:pt x="11286" y="7193"/>
                </a:cubicBezTo>
                <a:cubicBezTo>
                  <a:pt x="11358" y="7193"/>
                  <a:pt x="11651" y="7233"/>
                  <a:pt x="11683" y="7169"/>
                </a:cubicBezTo>
                <a:cubicBezTo>
                  <a:pt x="11745" y="7048"/>
                  <a:pt x="11612" y="6830"/>
                  <a:pt x="11708" y="6722"/>
                </a:cubicBezTo>
                <a:cubicBezTo>
                  <a:pt x="11725" y="6703"/>
                  <a:pt x="11762" y="6658"/>
                  <a:pt x="11782" y="6648"/>
                </a:cubicBezTo>
                <a:cubicBezTo>
                  <a:pt x="11846" y="6617"/>
                  <a:pt x="11775" y="6632"/>
                  <a:pt x="11757" y="6672"/>
                </a:cubicBezTo>
                <a:cubicBezTo>
                  <a:pt x="11740" y="6709"/>
                  <a:pt x="11697" y="6726"/>
                  <a:pt x="11683" y="6747"/>
                </a:cubicBezTo>
                <a:cubicBezTo>
                  <a:pt x="11671" y="6765"/>
                  <a:pt x="11641" y="6823"/>
                  <a:pt x="11633" y="6846"/>
                </a:cubicBezTo>
                <a:cubicBezTo>
                  <a:pt x="11630" y="6855"/>
                  <a:pt x="11592" y="6916"/>
                  <a:pt x="11584" y="6921"/>
                </a:cubicBezTo>
                <a:cubicBezTo>
                  <a:pt x="11560" y="6937"/>
                  <a:pt x="11537" y="6973"/>
                  <a:pt x="11509" y="6995"/>
                </a:cubicBezTo>
                <a:cubicBezTo>
                  <a:pt x="11470" y="7026"/>
                  <a:pt x="11490" y="7047"/>
                  <a:pt x="11460" y="7069"/>
                </a:cubicBezTo>
                <a:cubicBezTo>
                  <a:pt x="11424" y="7096"/>
                  <a:pt x="11420" y="7112"/>
                  <a:pt x="11385" y="7144"/>
                </a:cubicBezTo>
                <a:cubicBezTo>
                  <a:pt x="11345" y="7180"/>
                  <a:pt x="11356" y="7185"/>
                  <a:pt x="11311" y="7218"/>
                </a:cubicBezTo>
              </a:path>
            </a:pathLst>
          </a:custGeom>
          <a:noFill/>
          <a:ln cap="rnd" w="349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3990960" y="2562120"/>
            <a:ext cx="73080" cy="135000"/>
          </a:xfrm>
          <a:custGeom>
            <a:avLst/>
            <a:gdLst/>
            <a:ahLst/>
            <a:rect l="l" t="t" r="r" b="b"/>
            <a:pathLst>
              <a:path w="199" h="373">
                <a:moveTo>
                  <a:pt x="11286" y="7342"/>
                </a:moveTo>
                <a:cubicBezTo>
                  <a:pt x="11286" y="7375"/>
                  <a:pt x="11286" y="7408"/>
                  <a:pt x="11286" y="7441"/>
                </a:cubicBezTo>
                <a:cubicBezTo>
                  <a:pt x="11249" y="7450"/>
                  <a:pt x="11241" y="7462"/>
                  <a:pt x="11212" y="7491"/>
                </a:cubicBezTo>
                <a:cubicBezTo>
                  <a:pt x="11184" y="7463"/>
                  <a:pt x="11149" y="7427"/>
                  <a:pt x="11137" y="7392"/>
                </a:cubicBezTo>
                <a:cubicBezTo>
                  <a:pt x="11137" y="7367"/>
                  <a:pt x="11137" y="7359"/>
                  <a:pt x="11137" y="7342"/>
                </a:cubicBezTo>
                <a:cubicBezTo>
                  <a:pt x="11087" y="7325"/>
                  <a:pt x="11127" y="7297"/>
                  <a:pt x="11112" y="7243"/>
                </a:cubicBezTo>
                <a:cubicBezTo>
                  <a:pt x="11097" y="7190"/>
                  <a:pt x="11088" y="7174"/>
                  <a:pt x="11088" y="7119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3767040" y="2178000"/>
            <a:ext cx="1884600" cy="617760"/>
          </a:xfrm>
          <a:custGeom>
            <a:avLst/>
            <a:gdLst/>
            <a:ahLst/>
            <a:rect l="l" t="t" r="r" b="b"/>
            <a:pathLst>
              <a:path w="5235" h="1713">
                <a:moveTo>
                  <a:pt x="14808" y="7714"/>
                </a:moveTo>
                <a:cubicBezTo>
                  <a:pt x="14869" y="7674"/>
                  <a:pt x="14921" y="7662"/>
                  <a:pt x="14982" y="7640"/>
                </a:cubicBezTo>
                <a:cubicBezTo>
                  <a:pt x="15046" y="7617"/>
                  <a:pt x="15087" y="7615"/>
                  <a:pt x="15156" y="7615"/>
                </a:cubicBezTo>
                <a:cubicBezTo>
                  <a:pt x="15067" y="7593"/>
                  <a:pt x="14973" y="7554"/>
                  <a:pt x="14883" y="7541"/>
                </a:cubicBezTo>
                <a:cubicBezTo>
                  <a:pt x="14858" y="7541"/>
                  <a:pt x="14833" y="7541"/>
                  <a:pt x="14808" y="7541"/>
                </a:cubicBezTo>
              </a:path>
              <a:path w="5235" h="1713">
                <a:moveTo>
                  <a:pt x="13990" y="7764"/>
                </a:moveTo>
                <a:cubicBezTo>
                  <a:pt x="14018" y="7747"/>
                  <a:pt x="14035" y="7721"/>
                  <a:pt x="14089" y="7714"/>
                </a:cubicBezTo>
                <a:cubicBezTo>
                  <a:pt x="14185" y="7702"/>
                  <a:pt x="14290" y="7714"/>
                  <a:pt x="14387" y="7714"/>
                </a:cubicBezTo>
                <a:cubicBezTo>
                  <a:pt x="14321" y="7714"/>
                  <a:pt x="14304" y="7714"/>
                  <a:pt x="14238" y="7714"/>
                </a:cubicBezTo>
                <a:cubicBezTo>
                  <a:pt x="14164" y="7714"/>
                  <a:pt x="14089" y="7714"/>
                  <a:pt x="14015" y="7714"/>
                </a:cubicBezTo>
                <a:cubicBezTo>
                  <a:pt x="14081" y="7714"/>
                  <a:pt x="14097" y="7714"/>
                  <a:pt x="14163" y="7714"/>
                </a:cubicBezTo>
                <a:cubicBezTo>
                  <a:pt x="14270" y="7714"/>
                  <a:pt x="14371" y="7700"/>
                  <a:pt x="14461" y="7689"/>
                </a:cubicBezTo>
                <a:cubicBezTo>
                  <a:pt x="14519" y="7682"/>
                  <a:pt x="14553" y="7695"/>
                  <a:pt x="14585" y="7665"/>
                </a:cubicBezTo>
                <a:cubicBezTo>
                  <a:pt x="14614" y="7638"/>
                  <a:pt x="14603" y="7644"/>
                  <a:pt x="14610" y="7590"/>
                </a:cubicBezTo>
                <a:cubicBezTo>
                  <a:pt x="14639" y="7348"/>
                  <a:pt x="14717" y="6489"/>
                  <a:pt x="14560" y="6350"/>
                </a:cubicBezTo>
                <a:cubicBezTo>
                  <a:pt x="14520" y="6315"/>
                  <a:pt x="14465" y="6320"/>
                  <a:pt x="14412" y="6300"/>
                </a:cubicBezTo>
                <a:cubicBezTo>
                  <a:pt x="14361" y="6281"/>
                  <a:pt x="14324" y="6278"/>
                  <a:pt x="14263" y="6276"/>
                </a:cubicBezTo>
                <a:cubicBezTo>
                  <a:pt x="13628" y="6255"/>
                  <a:pt x="12988" y="6276"/>
                  <a:pt x="12353" y="6276"/>
                </a:cubicBezTo>
              </a:path>
              <a:path w="5235" h="1713">
                <a:moveTo>
                  <a:pt x="12030" y="6474"/>
                </a:moveTo>
                <a:cubicBezTo>
                  <a:pt x="11997" y="6508"/>
                  <a:pt x="11967" y="6530"/>
                  <a:pt x="11956" y="6573"/>
                </a:cubicBezTo>
                <a:cubicBezTo>
                  <a:pt x="11953" y="6574"/>
                  <a:pt x="11884" y="6594"/>
                  <a:pt x="11881" y="6598"/>
                </a:cubicBezTo>
                <a:cubicBezTo>
                  <a:pt x="11881" y="6606"/>
                  <a:pt x="11881" y="6615"/>
                  <a:pt x="11881" y="6623"/>
                </a:cubicBezTo>
              </a:path>
              <a:path w="5235" h="1713">
                <a:moveTo>
                  <a:pt x="13519" y="6300"/>
                </a:moveTo>
                <a:cubicBezTo>
                  <a:pt x="13519" y="6606"/>
                  <a:pt x="13519" y="6912"/>
                  <a:pt x="13519" y="7218"/>
                </a:cubicBezTo>
              </a:path>
              <a:path w="5235" h="1713">
                <a:moveTo>
                  <a:pt x="14858" y="6871"/>
                </a:moveTo>
                <a:cubicBezTo>
                  <a:pt x="14869" y="6927"/>
                  <a:pt x="14883" y="6961"/>
                  <a:pt x="14883" y="7020"/>
                </a:cubicBezTo>
                <a:cubicBezTo>
                  <a:pt x="14883" y="7144"/>
                  <a:pt x="14883" y="7268"/>
                  <a:pt x="14883" y="7392"/>
                </a:cubicBezTo>
              </a:path>
              <a:path w="5235" h="1713">
                <a:moveTo>
                  <a:pt x="15801" y="6772"/>
                </a:moveTo>
                <a:cubicBezTo>
                  <a:pt x="15801" y="6849"/>
                  <a:pt x="15770" y="7175"/>
                  <a:pt x="15825" y="7193"/>
                </a:cubicBezTo>
              </a:path>
              <a:path w="5235" h="1713">
                <a:moveTo>
                  <a:pt x="15875" y="7069"/>
                </a:moveTo>
                <a:cubicBezTo>
                  <a:pt x="15875" y="7110"/>
                  <a:pt x="15875" y="7152"/>
                  <a:pt x="15875" y="7193"/>
                </a:cubicBezTo>
                <a:cubicBezTo>
                  <a:pt x="15875" y="7168"/>
                  <a:pt x="15875" y="7144"/>
                  <a:pt x="15875" y="7119"/>
                </a:cubicBezTo>
                <a:cubicBezTo>
                  <a:pt x="15840" y="7107"/>
                  <a:pt x="15850" y="7112"/>
                  <a:pt x="15850" y="7069"/>
                </a:cubicBezTo>
                <a:cubicBezTo>
                  <a:pt x="15827" y="7061"/>
                  <a:pt x="15811" y="7028"/>
                  <a:pt x="15801" y="6995"/>
                </a:cubicBezTo>
                <a:cubicBezTo>
                  <a:pt x="15801" y="6970"/>
                  <a:pt x="15801" y="6962"/>
                  <a:pt x="15801" y="6945"/>
                </a:cubicBezTo>
                <a:cubicBezTo>
                  <a:pt x="15763" y="6933"/>
                  <a:pt x="15776" y="6916"/>
                  <a:pt x="15776" y="6871"/>
                </a:cubicBezTo>
                <a:cubicBezTo>
                  <a:pt x="15741" y="6859"/>
                  <a:pt x="15751" y="6864"/>
                  <a:pt x="15751" y="6821"/>
                </a:cubicBezTo>
                <a:cubicBezTo>
                  <a:pt x="15720" y="6801"/>
                  <a:pt x="15726" y="6796"/>
                  <a:pt x="15726" y="6747"/>
                </a:cubicBezTo>
              </a:path>
              <a:path w="5235" h="1713">
                <a:moveTo>
                  <a:pt x="14982" y="6400"/>
                </a:moveTo>
                <a:cubicBezTo>
                  <a:pt x="14982" y="6516"/>
                  <a:pt x="14982" y="6631"/>
                  <a:pt x="14982" y="6747"/>
                </a:cubicBezTo>
              </a:path>
              <a:path w="5235" h="1713">
                <a:moveTo>
                  <a:pt x="15032" y="6300"/>
                </a:moveTo>
                <a:cubicBezTo>
                  <a:pt x="15032" y="6348"/>
                  <a:pt x="15066" y="6306"/>
                  <a:pt x="15081" y="6350"/>
                </a:cubicBezTo>
              </a:path>
              <a:path w="5235" h="1713">
                <a:moveTo>
                  <a:pt x="15106" y="6276"/>
                </a:moveTo>
                <a:cubicBezTo>
                  <a:pt x="15140" y="6300"/>
                  <a:pt x="15166" y="6315"/>
                  <a:pt x="15205" y="6325"/>
                </a:cubicBezTo>
                <a:cubicBezTo>
                  <a:pt x="15216" y="6358"/>
                  <a:pt x="15219" y="6348"/>
                  <a:pt x="15255" y="6375"/>
                </a:cubicBezTo>
              </a:path>
              <a:path w="5235" h="1713">
                <a:moveTo>
                  <a:pt x="10716" y="7268"/>
                </a:moveTo>
                <a:cubicBezTo>
                  <a:pt x="10705" y="7268"/>
                  <a:pt x="10599" y="7268"/>
                  <a:pt x="10666" y="7268"/>
                </a:cubicBezTo>
                <a:cubicBezTo>
                  <a:pt x="10674" y="7268"/>
                  <a:pt x="10683" y="7268"/>
                  <a:pt x="10691" y="7268"/>
                </a:cubicBezTo>
              </a:path>
              <a:path w="5235" h="1713">
                <a:moveTo>
                  <a:pt x="11088" y="7045"/>
                </a:moveTo>
                <a:cubicBezTo>
                  <a:pt x="11147" y="7015"/>
                  <a:pt x="11203" y="6997"/>
                  <a:pt x="11261" y="6970"/>
                </a:cubicBezTo>
                <a:cubicBezTo>
                  <a:pt x="11302" y="6950"/>
                  <a:pt x="11322" y="6930"/>
                  <a:pt x="11361" y="6921"/>
                </a:cubicBezTo>
                <a:cubicBezTo>
                  <a:pt x="11374" y="6867"/>
                  <a:pt x="11398" y="6871"/>
                  <a:pt x="11435" y="6846"/>
                </a:cubicBezTo>
                <a:cubicBezTo>
                  <a:pt x="11462" y="6828"/>
                  <a:pt x="11486" y="6795"/>
                  <a:pt x="11509" y="6772"/>
                </a:cubicBezTo>
              </a:path>
              <a:path w="5235" h="1713">
                <a:moveTo>
                  <a:pt x="11832" y="6524"/>
                </a:moveTo>
                <a:cubicBezTo>
                  <a:pt x="11832" y="6491"/>
                  <a:pt x="11832" y="6457"/>
                  <a:pt x="11832" y="6424"/>
                </a:cubicBezTo>
                <a:cubicBezTo>
                  <a:pt x="11884" y="6407"/>
                  <a:pt x="11827" y="6377"/>
                  <a:pt x="11881" y="6350"/>
                </a:cubicBezTo>
                <a:cubicBezTo>
                  <a:pt x="11889" y="6350"/>
                  <a:pt x="11898" y="6350"/>
                  <a:pt x="11906" y="6350"/>
                </a:cubicBezTo>
                <a:cubicBezTo>
                  <a:pt x="11916" y="6309"/>
                  <a:pt x="11915" y="6310"/>
                  <a:pt x="11956" y="6300"/>
                </a:cubicBezTo>
                <a:cubicBezTo>
                  <a:pt x="11966" y="6261"/>
                  <a:pt x="11966" y="6261"/>
                  <a:pt x="12005" y="6251"/>
                </a:cubicBezTo>
                <a:cubicBezTo>
                  <a:pt x="12010" y="6235"/>
                  <a:pt x="12028" y="6189"/>
                  <a:pt x="12055" y="6176"/>
                </a:cubicBezTo>
                <a:cubicBezTo>
                  <a:pt x="12063" y="6176"/>
                  <a:pt x="12072" y="6176"/>
                  <a:pt x="12080" y="6176"/>
                </a:cubicBezTo>
              </a:path>
              <a:path w="5235" h="1713">
                <a:moveTo>
                  <a:pt x="12080" y="6251"/>
                </a:moveTo>
                <a:cubicBezTo>
                  <a:pt x="12080" y="6197"/>
                  <a:pt x="12083" y="6195"/>
                  <a:pt x="12129" y="6176"/>
                </a:cubicBezTo>
                <a:cubicBezTo>
                  <a:pt x="12172" y="6158"/>
                  <a:pt x="12225" y="6164"/>
                  <a:pt x="12254" y="6127"/>
                </a:cubicBezTo>
                <a:cubicBezTo>
                  <a:pt x="12268" y="6109"/>
                  <a:pt x="12292" y="6089"/>
                  <a:pt x="12328" y="6077"/>
                </a:cubicBezTo>
                <a:cubicBezTo>
                  <a:pt x="12356" y="6068"/>
                  <a:pt x="12448" y="6056"/>
                  <a:pt x="12477" y="6052"/>
                </a:cubicBezTo>
                <a:cubicBezTo>
                  <a:pt x="12797" y="6008"/>
                  <a:pt x="13668" y="6052"/>
                  <a:pt x="13345" y="6052"/>
                </a:cubicBezTo>
              </a:path>
              <a:path w="5235" h="1713">
                <a:moveTo>
                  <a:pt x="12154" y="6176"/>
                </a:moveTo>
                <a:cubicBezTo>
                  <a:pt x="12291" y="6176"/>
                  <a:pt x="12428" y="6176"/>
                  <a:pt x="12551" y="6152"/>
                </a:cubicBezTo>
                <a:cubicBezTo>
                  <a:pt x="12621" y="6139"/>
                  <a:pt x="12682" y="6144"/>
                  <a:pt x="12750" y="6127"/>
                </a:cubicBezTo>
                <a:cubicBezTo>
                  <a:pt x="12799" y="6115"/>
                  <a:pt x="12850" y="6105"/>
                  <a:pt x="12898" y="6102"/>
                </a:cubicBezTo>
                <a:cubicBezTo>
                  <a:pt x="13007" y="6096"/>
                  <a:pt x="13009" y="6102"/>
                  <a:pt x="12898" y="6102"/>
                </a:cubicBezTo>
                <a:cubicBezTo>
                  <a:pt x="12749" y="6102"/>
                  <a:pt x="12601" y="6102"/>
                  <a:pt x="12452" y="6102"/>
                </a:cubicBezTo>
                <a:cubicBezTo>
                  <a:pt x="12389" y="6102"/>
                  <a:pt x="12506" y="6102"/>
                  <a:pt x="12526" y="6102"/>
                </a:cubicBezTo>
                <a:cubicBezTo>
                  <a:pt x="12610" y="6102"/>
                  <a:pt x="12957" y="6102"/>
                  <a:pt x="12874" y="6102"/>
                </a:cubicBezTo>
                <a:cubicBezTo>
                  <a:pt x="12841" y="6102"/>
                  <a:pt x="12807" y="6102"/>
                  <a:pt x="12774" y="6102"/>
                </a:cubicBezTo>
              </a:path>
              <a:path w="5235" h="1713">
                <a:moveTo>
                  <a:pt x="12254" y="6102"/>
                </a:moveTo>
                <a:cubicBezTo>
                  <a:pt x="12246" y="6102"/>
                  <a:pt x="12237" y="6102"/>
                  <a:pt x="12229" y="6102"/>
                </a:cubicBezTo>
                <a:cubicBezTo>
                  <a:pt x="12242" y="6140"/>
                  <a:pt x="12258" y="6127"/>
                  <a:pt x="12303" y="6127"/>
                </a:cubicBezTo>
                <a:cubicBezTo>
                  <a:pt x="12328" y="6127"/>
                  <a:pt x="12353" y="6127"/>
                  <a:pt x="12378" y="6127"/>
                </a:cubicBezTo>
                <a:cubicBezTo>
                  <a:pt x="12395" y="6073"/>
                  <a:pt x="12409" y="6126"/>
                  <a:pt x="12452" y="6102"/>
                </a:cubicBezTo>
                <a:cubicBezTo>
                  <a:pt x="12498" y="6076"/>
                  <a:pt x="12517" y="6077"/>
                  <a:pt x="12576" y="6077"/>
                </a:cubicBezTo>
                <a:cubicBezTo>
                  <a:pt x="12650" y="6077"/>
                  <a:pt x="12725" y="6077"/>
                  <a:pt x="12799" y="6077"/>
                </a:cubicBezTo>
                <a:cubicBezTo>
                  <a:pt x="12821" y="6043"/>
                  <a:pt x="12847" y="6052"/>
                  <a:pt x="12898" y="6052"/>
                </a:cubicBezTo>
                <a:cubicBezTo>
                  <a:pt x="13064" y="6052"/>
                  <a:pt x="13229" y="6052"/>
                  <a:pt x="13395" y="6052"/>
                </a:cubicBezTo>
              </a:path>
              <a:path w="5235" h="1713">
                <a:moveTo>
                  <a:pt x="12030" y="6970"/>
                </a:moveTo>
                <a:cubicBezTo>
                  <a:pt x="12047" y="6970"/>
                  <a:pt x="12063" y="6970"/>
                  <a:pt x="12080" y="6970"/>
                </a:cubicBezTo>
                <a:cubicBezTo>
                  <a:pt x="12080" y="7042"/>
                  <a:pt x="12102" y="6990"/>
                  <a:pt x="12129" y="7045"/>
                </a:cubicBezTo>
                <a:cubicBezTo>
                  <a:pt x="12129" y="7069"/>
                  <a:pt x="12129" y="7078"/>
                  <a:pt x="12129" y="7094"/>
                </a:cubicBezTo>
                <a:cubicBezTo>
                  <a:pt x="12209" y="7094"/>
                  <a:pt x="12143" y="7116"/>
                  <a:pt x="12179" y="7144"/>
                </a:cubicBezTo>
                <a:cubicBezTo>
                  <a:pt x="12204" y="7144"/>
                  <a:pt x="12212" y="7144"/>
                  <a:pt x="12229" y="7144"/>
                </a:cubicBezTo>
                <a:cubicBezTo>
                  <a:pt x="12169" y="7144"/>
                  <a:pt x="12144" y="7133"/>
                  <a:pt x="12129" y="7193"/>
                </a:cubicBezTo>
              </a:path>
              <a:path w="5235" h="1713">
                <a:moveTo>
                  <a:pt x="12154" y="7243"/>
                </a:moveTo>
                <a:cubicBezTo>
                  <a:pt x="12213" y="7243"/>
                  <a:pt x="12230" y="7221"/>
                  <a:pt x="12278" y="7218"/>
                </a:cubicBezTo>
                <a:cubicBezTo>
                  <a:pt x="12637" y="7192"/>
                  <a:pt x="13009" y="7218"/>
                  <a:pt x="13370" y="7218"/>
                </a:cubicBezTo>
              </a:path>
              <a:path w="5235" h="1713">
                <a:moveTo>
                  <a:pt x="12005" y="6573"/>
                </a:moveTo>
                <a:cubicBezTo>
                  <a:pt x="12303" y="6573"/>
                  <a:pt x="12600" y="6573"/>
                  <a:pt x="12898" y="6573"/>
                </a:cubicBezTo>
              </a:path>
              <a:path w="5235" h="1713">
                <a:moveTo>
                  <a:pt x="13146" y="6548"/>
                </a:moveTo>
                <a:cubicBezTo>
                  <a:pt x="13220" y="6548"/>
                  <a:pt x="13274" y="6565"/>
                  <a:pt x="13345" y="6573"/>
                </a:cubicBezTo>
                <a:cubicBezTo>
                  <a:pt x="13383" y="6577"/>
                  <a:pt x="13429" y="6573"/>
                  <a:pt x="13469" y="6573"/>
                </a:cubicBezTo>
              </a:path>
              <a:path w="5235" h="1713">
                <a:moveTo>
                  <a:pt x="13246" y="6623"/>
                </a:moveTo>
                <a:cubicBezTo>
                  <a:pt x="13189" y="6623"/>
                  <a:pt x="13364" y="6623"/>
                  <a:pt x="13395" y="6623"/>
                </a:cubicBezTo>
                <a:cubicBezTo>
                  <a:pt x="13461" y="6623"/>
                  <a:pt x="13527" y="6623"/>
                  <a:pt x="13593" y="6623"/>
                </a:cubicBezTo>
                <a:cubicBezTo>
                  <a:pt x="13593" y="6570"/>
                  <a:pt x="13612" y="6463"/>
                  <a:pt x="13568" y="6424"/>
                </a:cubicBezTo>
                <a:cubicBezTo>
                  <a:pt x="13542" y="6401"/>
                  <a:pt x="13543" y="6427"/>
                  <a:pt x="13543" y="6375"/>
                </a:cubicBezTo>
              </a:path>
              <a:path w="5235" h="1713">
                <a:moveTo>
                  <a:pt x="13767" y="6424"/>
                </a:moveTo>
                <a:cubicBezTo>
                  <a:pt x="13767" y="6474"/>
                  <a:pt x="13767" y="6523"/>
                  <a:pt x="13767" y="6573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5292720" y="284148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5214960" y="2867040"/>
            <a:ext cx="642960" cy="490680"/>
          </a:xfrm>
          <a:custGeom>
            <a:avLst/>
            <a:gdLst/>
            <a:ahLst/>
            <a:rect l="l" t="t" r="r" b="b"/>
            <a:pathLst>
              <a:path w="1787" h="1365">
                <a:moveTo>
                  <a:pt x="15751" y="5383"/>
                </a:moveTo>
                <a:cubicBezTo>
                  <a:pt x="15713" y="5410"/>
                  <a:pt x="15699" y="5407"/>
                  <a:pt x="15652" y="5407"/>
                </a:cubicBezTo>
                <a:cubicBezTo>
                  <a:pt x="15543" y="5407"/>
                  <a:pt x="15455" y="5407"/>
                  <a:pt x="15354" y="5432"/>
                </a:cubicBezTo>
                <a:cubicBezTo>
                  <a:pt x="15346" y="5432"/>
                  <a:pt x="15337" y="5432"/>
                  <a:pt x="15329" y="5432"/>
                </a:cubicBezTo>
                <a:cubicBezTo>
                  <a:pt x="15393" y="5394"/>
                  <a:pt x="15455" y="5404"/>
                  <a:pt x="15528" y="5383"/>
                </a:cubicBezTo>
                <a:cubicBezTo>
                  <a:pt x="15569" y="5371"/>
                  <a:pt x="15596" y="5356"/>
                  <a:pt x="15627" y="5333"/>
                </a:cubicBezTo>
                <a:cubicBezTo>
                  <a:pt x="15462" y="5333"/>
                  <a:pt x="14999" y="5361"/>
                  <a:pt x="15156" y="5308"/>
                </a:cubicBezTo>
                <a:cubicBezTo>
                  <a:pt x="15199" y="5293"/>
                  <a:pt x="15261" y="5289"/>
                  <a:pt x="15304" y="5283"/>
                </a:cubicBezTo>
                <a:cubicBezTo>
                  <a:pt x="15220" y="5283"/>
                  <a:pt x="15203" y="5295"/>
                  <a:pt x="15131" y="5333"/>
                </a:cubicBezTo>
                <a:cubicBezTo>
                  <a:pt x="15079" y="5361"/>
                  <a:pt x="15072" y="5389"/>
                  <a:pt x="15056" y="5358"/>
                </a:cubicBezTo>
                <a:cubicBezTo>
                  <a:pt x="15255" y="5358"/>
                  <a:pt x="15453" y="5358"/>
                  <a:pt x="15652" y="5358"/>
                </a:cubicBezTo>
                <a:cubicBezTo>
                  <a:pt x="15571" y="5368"/>
                  <a:pt x="15532" y="5408"/>
                  <a:pt x="15453" y="5432"/>
                </a:cubicBezTo>
                <a:cubicBezTo>
                  <a:pt x="15344" y="5465"/>
                  <a:pt x="15229" y="5480"/>
                  <a:pt x="15131" y="5531"/>
                </a:cubicBezTo>
                <a:cubicBezTo>
                  <a:pt x="15114" y="5539"/>
                  <a:pt x="15098" y="5548"/>
                  <a:pt x="15081" y="5556"/>
                </a:cubicBezTo>
                <a:cubicBezTo>
                  <a:pt x="15147" y="5523"/>
                  <a:pt x="15228" y="5526"/>
                  <a:pt x="15304" y="5507"/>
                </a:cubicBezTo>
                <a:cubicBezTo>
                  <a:pt x="15362" y="5488"/>
                  <a:pt x="15369" y="5479"/>
                  <a:pt x="15404" y="5482"/>
                </a:cubicBezTo>
                <a:cubicBezTo>
                  <a:pt x="15239" y="5482"/>
                  <a:pt x="15073" y="5482"/>
                  <a:pt x="14908" y="5482"/>
                </a:cubicBezTo>
                <a:cubicBezTo>
                  <a:pt x="14980" y="5467"/>
                  <a:pt x="15057" y="5454"/>
                  <a:pt x="15131" y="5432"/>
                </a:cubicBezTo>
                <a:cubicBezTo>
                  <a:pt x="15237" y="5401"/>
                  <a:pt x="15353" y="5376"/>
                  <a:pt x="15453" y="5333"/>
                </a:cubicBezTo>
                <a:cubicBezTo>
                  <a:pt x="15197" y="5333"/>
                  <a:pt x="14940" y="5333"/>
                  <a:pt x="14684" y="5333"/>
                </a:cubicBezTo>
                <a:cubicBezTo>
                  <a:pt x="14622" y="5333"/>
                  <a:pt x="14781" y="5333"/>
                  <a:pt x="14808" y="5333"/>
                </a:cubicBezTo>
                <a:cubicBezTo>
                  <a:pt x="14813" y="5333"/>
                  <a:pt x="15070" y="5321"/>
                  <a:pt x="14982" y="5308"/>
                </a:cubicBezTo>
                <a:cubicBezTo>
                  <a:pt x="14974" y="5308"/>
                  <a:pt x="14965" y="5308"/>
                  <a:pt x="14957" y="5308"/>
                </a:cubicBezTo>
              </a:path>
              <a:path w="1787" h="1365">
                <a:moveTo>
                  <a:pt x="16148" y="5011"/>
                </a:moveTo>
                <a:cubicBezTo>
                  <a:pt x="16148" y="4960"/>
                  <a:pt x="16159" y="4952"/>
                  <a:pt x="16173" y="4911"/>
                </a:cubicBezTo>
                <a:cubicBezTo>
                  <a:pt x="16186" y="4872"/>
                  <a:pt x="16173" y="4802"/>
                  <a:pt x="16173" y="4762"/>
                </a:cubicBezTo>
              </a:path>
              <a:path w="1787" h="1365">
                <a:moveTo>
                  <a:pt x="14486" y="4862"/>
                </a:moveTo>
                <a:cubicBezTo>
                  <a:pt x="14486" y="4738"/>
                  <a:pt x="14486" y="4614"/>
                  <a:pt x="14486" y="4490"/>
                </a:cubicBezTo>
              </a:path>
              <a:path w="1787" h="1365">
                <a:moveTo>
                  <a:pt x="15354" y="4192"/>
                </a:moveTo>
                <a:cubicBezTo>
                  <a:pt x="15354" y="4572"/>
                  <a:pt x="15354" y="4953"/>
                  <a:pt x="15354" y="5333"/>
                </a:cubicBezTo>
              </a:path>
              <a:path w="1787" h="1365">
                <a:moveTo>
                  <a:pt x="14759" y="4713"/>
                </a:moveTo>
                <a:cubicBezTo>
                  <a:pt x="14827" y="4758"/>
                  <a:pt x="14876" y="4762"/>
                  <a:pt x="14957" y="4762"/>
                </a:cubicBezTo>
                <a:cubicBezTo>
                  <a:pt x="15263" y="4762"/>
                  <a:pt x="15569" y="4762"/>
                  <a:pt x="15875" y="4762"/>
                </a:cubicBezTo>
              </a:path>
              <a:path w="1787" h="1365">
                <a:moveTo>
                  <a:pt x="15131" y="4266"/>
                </a:moveTo>
                <a:cubicBezTo>
                  <a:pt x="15131" y="4385"/>
                  <a:pt x="15121" y="4510"/>
                  <a:pt x="15156" y="4614"/>
                </a:cubicBezTo>
                <a:cubicBezTo>
                  <a:pt x="15171" y="4659"/>
                  <a:pt x="15144" y="4672"/>
                  <a:pt x="15180" y="4713"/>
                </a:cubicBezTo>
                <a:cubicBezTo>
                  <a:pt x="15202" y="4735"/>
                  <a:pt x="15211" y="4740"/>
                  <a:pt x="15205" y="4762"/>
                </a:cubicBezTo>
                <a:cubicBezTo>
                  <a:pt x="15246" y="4772"/>
                  <a:pt x="15275" y="4791"/>
                  <a:pt x="15280" y="4837"/>
                </a:cubicBezTo>
                <a:cubicBezTo>
                  <a:pt x="15290" y="4924"/>
                  <a:pt x="15277" y="5012"/>
                  <a:pt x="15255" y="5085"/>
                </a:cubicBezTo>
                <a:cubicBezTo>
                  <a:pt x="15245" y="5117"/>
                  <a:pt x="15233" y="5153"/>
                  <a:pt x="15230" y="5184"/>
                </a:cubicBezTo>
                <a:cubicBezTo>
                  <a:pt x="15227" y="5208"/>
                  <a:pt x="15230" y="5352"/>
                  <a:pt x="15230" y="5234"/>
                </a:cubicBezTo>
              </a:path>
              <a:path w="1787" h="1365">
                <a:moveTo>
                  <a:pt x="14759" y="4539"/>
                </a:moveTo>
                <a:cubicBezTo>
                  <a:pt x="14772" y="4591"/>
                  <a:pt x="14795" y="4581"/>
                  <a:pt x="14833" y="4614"/>
                </a:cubicBezTo>
                <a:cubicBezTo>
                  <a:pt x="14871" y="4647"/>
                  <a:pt x="14922" y="4622"/>
                  <a:pt x="14957" y="4663"/>
                </a:cubicBezTo>
                <a:cubicBezTo>
                  <a:pt x="14957" y="4671"/>
                  <a:pt x="14957" y="4680"/>
                  <a:pt x="14957" y="4688"/>
                </a:cubicBezTo>
                <a:cubicBezTo>
                  <a:pt x="15035" y="4688"/>
                  <a:pt x="15084" y="4700"/>
                  <a:pt x="15156" y="4713"/>
                </a:cubicBezTo>
                <a:cubicBezTo>
                  <a:pt x="15234" y="4727"/>
                  <a:pt x="15315" y="4709"/>
                  <a:pt x="15379" y="4688"/>
                </a:cubicBezTo>
                <a:cubicBezTo>
                  <a:pt x="15413" y="4677"/>
                  <a:pt x="15449" y="4683"/>
                  <a:pt x="15478" y="4663"/>
                </a:cubicBezTo>
                <a:cubicBezTo>
                  <a:pt x="15512" y="4640"/>
                  <a:pt x="15561" y="4618"/>
                  <a:pt x="15602" y="4614"/>
                </a:cubicBezTo>
                <a:cubicBezTo>
                  <a:pt x="15656" y="4608"/>
                  <a:pt x="15680" y="4604"/>
                  <a:pt x="15726" y="4589"/>
                </a:cubicBezTo>
                <a:cubicBezTo>
                  <a:pt x="15734" y="4589"/>
                  <a:pt x="15743" y="4589"/>
                  <a:pt x="15751" y="4589"/>
                </a:cubicBezTo>
              </a:path>
              <a:path w="1787" h="1365">
                <a:moveTo>
                  <a:pt x="15304" y="4217"/>
                </a:moveTo>
                <a:cubicBezTo>
                  <a:pt x="15267" y="4239"/>
                  <a:pt x="15217" y="4247"/>
                  <a:pt x="15180" y="4266"/>
                </a:cubicBezTo>
                <a:cubicBezTo>
                  <a:pt x="15150" y="4281"/>
                  <a:pt x="15105" y="4319"/>
                  <a:pt x="15081" y="4341"/>
                </a:cubicBezTo>
                <a:cubicBezTo>
                  <a:pt x="15061" y="4359"/>
                  <a:pt x="15041" y="4363"/>
                  <a:pt x="15007" y="4390"/>
                </a:cubicBezTo>
                <a:cubicBezTo>
                  <a:pt x="14994" y="4401"/>
                  <a:pt x="14957" y="4439"/>
                  <a:pt x="14932" y="4465"/>
                </a:cubicBezTo>
                <a:cubicBezTo>
                  <a:pt x="14909" y="4489"/>
                  <a:pt x="14925" y="4504"/>
                  <a:pt x="14908" y="4539"/>
                </a:cubicBezTo>
                <a:cubicBezTo>
                  <a:pt x="14891" y="4573"/>
                  <a:pt x="14898" y="4606"/>
                  <a:pt x="14883" y="4638"/>
                </a:cubicBezTo>
                <a:cubicBezTo>
                  <a:pt x="14863" y="4681"/>
                  <a:pt x="14861" y="4687"/>
                  <a:pt x="14858" y="4738"/>
                </a:cubicBezTo>
                <a:cubicBezTo>
                  <a:pt x="14853" y="4825"/>
                  <a:pt x="14831" y="4995"/>
                  <a:pt x="14883" y="5060"/>
                </a:cubicBezTo>
                <a:cubicBezTo>
                  <a:pt x="14910" y="5094"/>
                  <a:pt x="14913" y="5114"/>
                  <a:pt x="14932" y="5135"/>
                </a:cubicBezTo>
                <a:cubicBezTo>
                  <a:pt x="14963" y="5170"/>
                  <a:pt x="15011" y="5181"/>
                  <a:pt x="15056" y="5184"/>
                </a:cubicBezTo>
                <a:cubicBezTo>
                  <a:pt x="15190" y="5192"/>
                  <a:pt x="15412" y="5206"/>
                  <a:pt x="15503" y="5159"/>
                </a:cubicBezTo>
                <a:cubicBezTo>
                  <a:pt x="15536" y="5142"/>
                  <a:pt x="15568" y="5130"/>
                  <a:pt x="15602" y="5110"/>
                </a:cubicBezTo>
                <a:cubicBezTo>
                  <a:pt x="15632" y="5092"/>
                  <a:pt x="15669" y="5080"/>
                  <a:pt x="15701" y="5060"/>
                </a:cubicBezTo>
                <a:cubicBezTo>
                  <a:pt x="15745" y="5034"/>
                  <a:pt x="15748" y="5045"/>
                  <a:pt x="15751" y="4986"/>
                </a:cubicBezTo>
                <a:cubicBezTo>
                  <a:pt x="15759" y="4854"/>
                  <a:pt x="15745" y="4682"/>
                  <a:pt x="15726" y="4589"/>
                </a:cubicBezTo>
                <a:cubicBezTo>
                  <a:pt x="15719" y="4556"/>
                  <a:pt x="15708" y="4547"/>
                  <a:pt x="15701" y="4514"/>
                </a:cubicBezTo>
                <a:cubicBezTo>
                  <a:pt x="15692" y="4470"/>
                  <a:pt x="15688" y="4460"/>
                  <a:pt x="15677" y="4440"/>
                </a:cubicBezTo>
                <a:cubicBezTo>
                  <a:pt x="15653" y="4395"/>
                  <a:pt x="15639" y="4393"/>
                  <a:pt x="15602" y="4366"/>
                </a:cubicBezTo>
                <a:cubicBezTo>
                  <a:pt x="15592" y="4359"/>
                  <a:pt x="15563" y="4326"/>
                  <a:pt x="15553" y="4316"/>
                </a:cubicBezTo>
                <a:cubicBezTo>
                  <a:pt x="15521" y="4283"/>
                  <a:pt x="15482" y="4264"/>
                  <a:pt x="15453" y="4242"/>
                </a:cubicBezTo>
                <a:cubicBezTo>
                  <a:pt x="15414" y="4212"/>
                  <a:pt x="15403" y="4220"/>
                  <a:pt x="15354" y="4217"/>
                </a:cubicBezTo>
                <a:cubicBezTo>
                  <a:pt x="15229" y="4210"/>
                  <a:pt x="15068" y="4225"/>
                  <a:pt x="14982" y="4242"/>
                </a:cubicBezTo>
                <a:cubicBezTo>
                  <a:pt x="14906" y="4257"/>
                  <a:pt x="14971" y="4255"/>
                  <a:pt x="14932" y="4291"/>
                </a:cubicBezTo>
                <a:cubicBezTo>
                  <a:pt x="14920" y="4302"/>
                  <a:pt x="14860" y="4333"/>
                  <a:pt x="14858" y="4341"/>
                </a:cubicBezTo>
                <a:cubicBezTo>
                  <a:pt x="14850" y="4367"/>
                  <a:pt x="14837" y="4420"/>
                  <a:pt x="14833" y="4440"/>
                </a:cubicBezTo>
                <a:cubicBezTo>
                  <a:pt x="14808" y="4564"/>
                  <a:pt x="14786" y="4970"/>
                  <a:pt x="14858" y="5060"/>
                </a:cubicBezTo>
                <a:cubicBezTo>
                  <a:pt x="14901" y="5113"/>
                  <a:pt x="14884" y="5082"/>
                  <a:pt x="14932" y="5110"/>
                </a:cubicBezTo>
                <a:cubicBezTo>
                  <a:pt x="14962" y="5128"/>
                  <a:pt x="15010" y="5163"/>
                  <a:pt x="15032" y="5159"/>
                </a:cubicBezTo>
                <a:cubicBezTo>
                  <a:pt x="15056" y="5159"/>
                  <a:pt x="15064" y="5159"/>
                  <a:pt x="15056" y="5135"/>
                </a:cubicBezTo>
                <a:cubicBezTo>
                  <a:pt x="15038" y="5072"/>
                  <a:pt x="15036" y="5087"/>
                  <a:pt x="14982" y="5035"/>
                </a:cubicBezTo>
                <a:cubicBezTo>
                  <a:pt x="14966" y="5020"/>
                  <a:pt x="14950" y="4985"/>
                  <a:pt x="14932" y="4961"/>
                </a:cubicBezTo>
                <a:cubicBezTo>
                  <a:pt x="14924" y="4950"/>
                  <a:pt x="14870" y="4925"/>
                  <a:pt x="14858" y="4911"/>
                </a:cubicBezTo>
                <a:cubicBezTo>
                  <a:pt x="14844" y="4895"/>
                  <a:pt x="14830" y="4859"/>
                  <a:pt x="14808" y="4837"/>
                </a:cubicBezTo>
                <a:cubicBezTo>
                  <a:pt x="14826" y="4899"/>
                  <a:pt x="14810" y="4863"/>
                  <a:pt x="14858" y="4911"/>
                </a:cubicBezTo>
                <a:cubicBezTo>
                  <a:pt x="14869" y="4921"/>
                  <a:pt x="14911" y="4998"/>
                  <a:pt x="14932" y="5011"/>
                </a:cubicBezTo>
                <a:cubicBezTo>
                  <a:pt x="14969" y="5034"/>
                  <a:pt x="15020" y="5030"/>
                  <a:pt x="15056" y="5060"/>
                </a:cubicBezTo>
                <a:cubicBezTo>
                  <a:pt x="15072" y="5074"/>
                  <a:pt x="15153" y="5134"/>
                  <a:pt x="15156" y="5135"/>
                </a:cubicBezTo>
                <a:cubicBezTo>
                  <a:pt x="15275" y="5183"/>
                  <a:pt x="15542" y="5132"/>
                  <a:pt x="15652" y="5110"/>
                </a:cubicBezTo>
                <a:cubicBezTo>
                  <a:pt x="15705" y="5099"/>
                  <a:pt x="15698" y="5108"/>
                  <a:pt x="15726" y="5085"/>
                </a:cubicBezTo>
                <a:cubicBezTo>
                  <a:pt x="15779" y="5042"/>
                  <a:pt x="15748" y="5059"/>
                  <a:pt x="15776" y="5011"/>
                </a:cubicBezTo>
                <a:cubicBezTo>
                  <a:pt x="15809" y="4955"/>
                  <a:pt x="15817" y="5006"/>
                  <a:pt x="15825" y="4936"/>
                </a:cubicBezTo>
                <a:cubicBezTo>
                  <a:pt x="15835" y="4854"/>
                  <a:pt x="15849" y="4675"/>
                  <a:pt x="15801" y="4614"/>
                </a:cubicBezTo>
                <a:cubicBezTo>
                  <a:pt x="15778" y="4585"/>
                  <a:pt x="15761" y="4575"/>
                  <a:pt x="15751" y="4539"/>
                </a:cubicBezTo>
                <a:cubicBezTo>
                  <a:pt x="15735" y="4481"/>
                  <a:pt x="15739" y="4500"/>
                  <a:pt x="15701" y="4465"/>
                </a:cubicBezTo>
                <a:cubicBezTo>
                  <a:pt x="15665" y="4431"/>
                  <a:pt x="15663" y="4425"/>
                  <a:pt x="15627" y="4390"/>
                </a:cubicBezTo>
                <a:cubicBezTo>
                  <a:pt x="15595" y="4359"/>
                  <a:pt x="15579" y="4357"/>
                  <a:pt x="15553" y="4341"/>
                </a:cubicBezTo>
                <a:cubicBezTo>
                  <a:pt x="15520" y="4321"/>
                  <a:pt x="15485" y="4320"/>
                  <a:pt x="15453" y="4291"/>
                </a:cubicBezTo>
                <a:cubicBezTo>
                  <a:pt x="15401" y="4243"/>
                  <a:pt x="15356" y="4243"/>
                  <a:pt x="15304" y="4217"/>
                </a:cubicBezTo>
                <a:cubicBezTo>
                  <a:pt x="15282" y="4206"/>
                  <a:pt x="15281" y="4195"/>
                  <a:pt x="15230" y="4192"/>
                </a:cubicBezTo>
                <a:cubicBezTo>
                  <a:pt x="15158" y="4188"/>
                  <a:pt x="15090" y="4186"/>
                  <a:pt x="15032" y="4217"/>
                </a:cubicBezTo>
                <a:cubicBezTo>
                  <a:pt x="14995" y="4237"/>
                  <a:pt x="14967" y="4256"/>
                  <a:pt x="14932" y="4291"/>
                </a:cubicBezTo>
                <a:cubicBezTo>
                  <a:pt x="14904" y="4319"/>
                  <a:pt x="14919" y="4407"/>
                  <a:pt x="14883" y="4390"/>
                </a:cubicBezTo>
                <a:cubicBezTo>
                  <a:pt x="14879" y="4388"/>
                  <a:pt x="14883" y="4322"/>
                  <a:pt x="14883" y="4316"/>
                </a:cubicBezTo>
              </a:path>
              <a:path w="1787" h="1365">
                <a:moveTo>
                  <a:pt x="16272" y="4589"/>
                </a:moveTo>
                <a:cubicBezTo>
                  <a:pt x="16272" y="4647"/>
                  <a:pt x="16272" y="4704"/>
                  <a:pt x="16272" y="4762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3419640" y="284148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3402000" y="2857680"/>
            <a:ext cx="438120" cy="420480"/>
          </a:xfrm>
          <a:custGeom>
            <a:avLst/>
            <a:gdLst/>
            <a:ahLst/>
            <a:rect l="l" t="t" r="r" b="b"/>
            <a:pathLst>
              <a:path w="1216" h="1167">
                <a:moveTo>
                  <a:pt x="10071" y="4316"/>
                </a:moveTo>
                <a:cubicBezTo>
                  <a:pt x="10066" y="4354"/>
                  <a:pt x="10065" y="4385"/>
                  <a:pt x="10046" y="4415"/>
                </a:cubicBezTo>
                <a:cubicBezTo>
                  <a:pt x="10027" y="4445"/>
                  <a:pt x="10024" y="4442"/>
                  <a:pt x="10021" y="4490"/>
                </a:cubicBezTo>
                <a:cubicBezTo>
                  <a:pt x="10006" y="4744"/>
                  <a:pt x="10021" y="5004"/>
                  <a:pt x="10021" y="5259"/>
                </a:cubicBezTo>
                <a:cubicBezTo>
                  <a:pt x="10021" y="5271"/>
                  <a:pt x="10021" y="5375"/>
                  <a:pt x="10021" y="5308"/>
                </a:cubicBezTo>
                <a:cubicBezTo>
                  <a:pt x="10021" y="5110"/>
                  <a:pt x="10021" y="4564"/>
                  <a:pt x="10021" y="4762"/>
                </a:cubicBezTo>
                <a:cubicBezTo>
                  <a:pt x="10021" y="4787"/>
                  <a:pt x="10021" y="4795"/>
                  <a:pt x="10021" y="4812"/>
                </a:cubicBezTo>
                <a:cubicBezTo>
                  <a:pt x="10021" y="4962"/>
                  <a:pt x="10021" y="5245"/>
                  <a:pt x="10021" y="5308"/>
                </a:cubicBezTo>
                <a:cubicBezTo>
                  <a:pt x="10039" y="5277"/>
                  <a:pt x="10064" y="5260"/>
                  <a:pt x="10071" y="5234"/>
                </a:cubicBezTo>
                <a:cubicBezTo>
                  <a:pt x="10109" y="5092"/>
                  <a:pt x="10032" y="4894"/>
                  <a:pt x="10096" y="4787"/>
                </a:cubicBezTo>
                <a:cubicBezTo>
                  <a:pt x="10115" y="4841"/>
                  <a:pt x="10118" y="4857"/>
                  <a:pt x="10120" y="4911"/>
                </a:cubicBezTo>
                <a:cubicBezTo>
                  <a:pt x="10122" y="4972"/>
                  <a:pt x="10098" y="5333"/>
                  <a:pt x="10145" y="5333"/>
                </a:cubicBezTo>
                <a:cubicBezTo>
                  <a:pt x="10183" y="5333"/>
                  <a:pt x="10201" y="5310"/>
                  <a:pt x="10244" y="5308"/>
                </a:cubicBezTo>
                <a:cubicBezTo>
                  <a:pt x="10302" y="5305"/>
                  <a:pt x="10360" y="5308"/>
                  <a:pt x="10418" y="5308"/>
                </a:cubicBezTo>
                <a:cubicBezTo>
                  <a:pt x="10411" y="5260"/>
                  <a:pt x="10405" y="5256"/>
                  <a:pt x="10393" y="5234"/>
                </a:cubicBezTo>
                <a:cubicBezTo>
                  <a:pt x="10374" y="5199"/>
                  <a:pt x="10362" y="5178"/>
                  <a:pt x="10344" y="5159"/>
                </a:cubicBezTo>
                <a:cubicBezTo>
                  <a:pt x="10327" y="5140"/>
                  <a:pt x="10311" y="5116"/>
                  <a:pt x="10294" y="5085"/>
                </a:cubicBezTo>
                <a:cubicBezTo>
                  <a:pt x="10273" y="5045"/>
                  <a:pt x="10260" y="5039"/>
                  <a:pt x="10244" y="5011"/>
                </a:cubicBezTo>
                <a:cubicBezTo>
                  <a:pt x="10227" y="4982"/>
                  <a:pt x="10212" y="4955"/>
                  <a:pt x="10195" y="4936"/>
                </a:cubicBezTo>
                <a:cubicBezTo>
                  <a:pt x="10172" y="4910"/>
                  <a:pt x="10188" y="4898"/>
                  <a:pt x="10170" y="4862"/>
                </a:cubicBezTo>
                <a:cubicBezTo>
                  <a:pt x="10147" y="4817"/>
                  <a:pt x="10155" y="4860"/>
                  <a:pt x="10145" y="4787"/>
                </a:cubicBezTo>
                <a:cubicBezTo>
                  <a:pt x="10169" y="4773"/>
                  <a:pt x="10167" y="4765"/>
                  <a:pt x="10220" y="4762"/>
                </a:cubicBezTo>
                <a:cubicBezTo>
                  <a:pt x="10367" y="4753"/>
                  <a:pt x="10518" y="4762"/>
                  <a:pt x="10666" y="4762"/>
                </a:cubicBezTo>
                <a:cubicBezTo>
                  <a:pt x="10530" y="4762"/>
                  <a:pt x="10169" y="4810"/>
                  <a:pt x="10120" y="4713"/>
                </a:cubicBezTo>
                <a:cubicBezTo>
                  <a:pt x="10172" y="4681"/>
                  <a:pt x="10161" y="4669"/>
                  <a:pt x="10220" y="4638"/>
                </a:cubicBezTo>
                <a:cubicBezTo>
                  <a:pt x="10250" y="4622"/>
                  <a:pt x="10314" y="4595"/>
                  <a:pt x="10344" y="4589"/>
                </a:cubicBezTo>
                <a:cubicBezTo>
                  <a:pt x="10391" y="4580"/>
                  <a:pt x="10401" y="4583"/>
                  <a:pt x="10443" y="4564"/>
                </a:cubicBezTo>
                <a:cubicBezTo>
                  <a:pt x="10477" y="4549"/>
                  <a:pt x="10501" y="4541"/>
                  <a:pt x="10542" y="4539"/>
                </a:cubicBezTo>
                <a:cubicBezTo>
                  <a:pt x="10567" y="4539"/>
                  <a:pt x="10575" y="4539"/>
                  <a:pt x="10592" y="4539"/>
                </a:cubicBezTo>
                <a:cubicBezTo>
                  <a:pt x="10574" y="4530"/>
                  <a:pt x="10517" y="4497"/>
                  <a:pt x="10468" y="4490"/>
                </a:cubicBezTo>
                <a:cubicBezTo>
                  <a:pt x="10390" y="4479"/>
                  <a:pt x="10313" y="4503"/>
                  <a:pt x="10269" y="4465"/>
                </a:cubicBezTo>
                <a:cubicBezTo>
                  <a:pt x="10229" y="4430"/>
                  <a:pt x="10174" y="4377"/>
                  <a:pt x="10145" y="4341"/>
                </a:cubicBezTo>
                <a:cubicBezTo>
                  <a:pt x="10117" y="4306"/>
                  <a:pt x="10093" y="4248"/>
                  <a:pt x="10071" y="4217"/>
                </a:cubicBezTo>
                <a:cubicBezTo>
                  <a:pt x="10046" y="4217"/>
                  <a:pt x="10038" y="4217"/>
                  <a:pt x="10046" y="4192"/>
                </a:cubicBezTo>
                <a:cubicBezTo>
                  <a:pt x="10039" y="4257"/>
                  <a:pt x="10021" y="4294"/>
                  <a:pt x="10021" y="4366"/>
                </a:cubicBezTo>
                <a:cubicBezTo>
                  <a:pt x="10021" y="4506"/>
                  <a:pt x="10021" y="4647"/>
                  <a:pt x="10021" y="4787"/>
                </a:cubicBezTo>
                <a:cubicBezTo>
                  <a:pt x="9971" y="4800"/>
                  <a:pt x="9934" y="4812"/>
                  <a:pt x="9872" y="4812"/>
                </a:cubicBezTo>
                <a:cubicBezTo>
                  <a:pt x="9744" y="4812"/>
                  <a:pt x="9535" y="4839"/>
                  <a:pt x="9451" y="4787"/>
                </a:cubicBezTo>
                <a:cubicBezTo>
                  <a:pt x="9507" y="4755"/>
                  <a:pt x="9505" y="4762"/>
                  <a:pt x="9550" y="4738"/>
                </a:cubicBezTo>
                <a:cubicBezTo>
                  <a:pt x="9571" y="4727"/>
                  <a:pt x="9599" y="4707"/>
                  <a:pt x="9624" y="4688"/>
                </a:cubicBezTo>
                <a:cubicBezTo>
                  <a:pt x="9657" y="4663"/>
                  <a:pt x="9641" y="4667"/>
                  <a:pt x="9649" y="4614"/>
                </a:cubicBezTo>
                <a:cubicBezTo>
                  <a:pt x="9653" y="4586"/>
                  <a:pt x="9655" y="4616"/>
                  <a:pt x="9699" y="4638"/>
                </a:cubicBezTo>
                <a:cubicBezTo>
                  <a:pt x="9733" y="4655"/>
                  <a:pt x="9786" y="4701"/>
                  <a:pt x="9823" y="4713"/>
                </a:cubicBezTo>
                <a:cubicBezTo>
                  <a:pt x="9855" y="4724"/>
                  <a:pt x="9916" y="4733"/>
                  <a:pt x="9947" y="4738"/>
                </a:cubicBezTo>
                <a:cubicBezTo>
                  <a:pt x="9971" y="4738"/>
                  <a:pt x="9980" y="4738"/>
                  <a:pt x="9996" y="4738"/>
                </a:cubicBezTo>
                <a:cubicBezTo>
                  <a:pt x="9961" y="4681"/>
                  <a:pt x="9909" y="4671"/>
                  <a:pt x="9872" y="4638"/>
                </a:cubicBezTo>
                <a:cubicBezTo>
                  <a:pt x="9853" y="4621"/>
                  <a:pt x="9807" y="4576"/>
                  <a:pt x="9798" y="4564"/>
                </a:cubicBezTo>
                <a:cubicBezTo>
                  <a:pt x="9775" y="4535"/>
                  <a:pt x="9751" y="4514"/>
                  <a:pt x="9723" y="4490"/>
                </a:cubicBezTo>
                <a:cubicBezTo>
                  <a:pt x="9710" y="4479"/>
                  <a:pt x="9687" y="4453"/>
                  <a:pt x="9674" y="4440"/>
                </a:cubicBezTo>
                <a:cubicBezTo>
                  <a:pt x="9658" y="4424"/>
                  <a:pt x="9599" y="4366"/>
                  <a:pt x="9599" y="4366"/>
                </a:cubicBezTo>
                <a:cubicBezTo>
                  <a:pt x="9576" y="4296"/>
                  <a:pt x="9610" y="4263"/>
                  <a:pt x="9649" y="4217"/>
                </a:cubicBezTo>
                <a:cubicBezTo>
                  <a:pt x="9653" y="4212"/>
                  <a:pt x="9705" y="4171"/>
                  <a:pt x="9723" y="4167"/>
                </a:cubicBezTo>
                <a:cubicBezTo>
                  <a:pt x="9812" y="4146"/>
                  <a:pt x="9931" y="4167"/>
                  <a:pt x="10021" y="4167"/>
                </a:cubicBezTo>
                <a:cubicBezTo>
                  <a:pt x="9989" y="4183"/>
                  <a:pt x="9955" y="4200"/>
                  <a:pt x="9922" y="4217"/>
                </a:cubicBezTo>
                <a:cubicBezTo>
                  <a:pt x="9887" y="4235"/>
                  <a:pt x="9836" y="4250"/>
                  <a:pt x="9798" y="4266"/>
                </a:cubicBezTo>
                <a:cubicBezTo>
                  <a:pt x="9767" y="4279"/>
                  <a:pt x="9735" y="4308"/>
                  <a:pt x="9723" y="4316"/>
                </a:cubicBezTo>
                <a:cubicBezTo>
                  <a:pt x="9681" y="4342"/>
                  <a:pt x="9672" y="4351"/>
                  <a:pt x="9649" y="4390"/>
                </a:cubicBezTo>
                <a:cubicBezTo>
                  <a:pt x="9628" y="4426"/>
                  <a:pt x="9607" y="4424"/>
                  <a:pt x="9599" y="4465"/>
                </a:cubicBezTo>
                <a:cubicBezTo>
                  <a:pt x="9589" y="4513"/>
                  <a:pt x="9582" y="4540"/>
                  <a:pt x="9575" y="4589"/>
                </a:cubicBezTo>
                <a:cubicBezTo>
                  <a:pt x="9555" y="4728"/>
                  <a:pt x="9583" y="4887"/>
                  <a:pt x="9599" y="5011"/>
                </a:cubicBezTo>
                <a:cubicBezTo>
                  <a:pt x="9608" y="5086"/>
                  <a:pt x="9611" y="5105"/>
                  <a:pt x="9674" y="5159"/>
                </a:cubicBezTo>
                <a:cubicBezTo>
                  <a:pt x="9718" y="5196"/>
                  <a:pt x="9730" y="5216"/>
                  <a:pt x="9773" y="5259"/>
                </a:cubicBezTo>
                <a:cubicBezTo>
                  <a:pt x="9821" y="5306"/>
                  <a:pt x="9832" y="5302"/>
                  <a:pt x="9897" y="5308"/>
                </a:cubicBezTo>
                <a:cubicBezTo>
                  <a:pt x="9952" y="5313"/>
                  <a:pt x="9992" y="5330"/>
                  <a:pt x="10046" y="5333"/>
                </a:cubicBezTo>
                <a:cubicBezTo>
                  <a:pt x="10159" y="5339"/>
                  <a:pt x="10297" y="5351"/>
                  <a:pt x="10393" y="5308"/>
                </a:cubicBezTo>
                <a:cubicBezTo>
                  <a:pt x="10427" y="5293"/>
                  <a:pt x="10457" y="5276"/>
                  <a:pt x="10492" y="5259"/>
                </a:cubicBezTo>
                <a:cubicBezTo>
                  <a:pt x="10515" y="5247"/>
                  <a:pt x="10560" y="5218"/>
                  <a:pt x="10567" y="5209"/>
                </a:cubicBezTo>
                <a:cubicBezTo>
                  <a:pt x="10590" y="5176"/>
                  <a:pt x="10655" y="5152"/>
                  <a:pt x="10666" y="5135"/>
                </a:cubicBezTo>
                <a:cubicBezTo>
                  <a:pt x="10735" y="5031"/>
                  <a:pt x="10657" y="4592"/>
                  <a:pt x="10641" y="4514"/>
                </a:cubicBezTo>
                <a:cubicBezTo>
                  <a:pt x="10628" y="4449"/>
                  <a:pt x="10617" y="4469"/>
                  <a:pt x="10567" y="4415"/>
                </a:cubicBezTo>
                <a:cubicBezTo>
                  <a:pt x="10540" y="4385"/>
                  <a:pt x="10546" y="4398"/>
                  <a:pt x="10492" y="4390"/>
                </a:cubicBezTo>
                <a:cubicBezTo>
                  <a:pt x="10492" y="4586"/>
                  <a:pt x="10544" y="4888"/>
                  <a:pt x="10468" y="5060"/>
                </a:cubicBezTo>
                <a:cubicBezTo>
                  <a:pt x="10461" y="5076"/>
                  <a:pt x="10427" y="5151"/>
                  <a:pt x="10418" y="5159"/>
                </a:cubicBezTo>
                <a:cubicBezTo>
                  <a:pt x="10389" y="5185"/>
                  <a:pt x="10331" y="5203"/>
                  <a:pt x="10294" y="5209"/>
                </a:cubicBezTo>
                <a:cubicBezTo>
                  <a:pt x="10196" y="5225"/>
                  <a:pt x="9916" y="5244"/>
                  <a:pt x="9847" y="5184"/>
                </a:cubicBezTo>
                <a:cubicBezTo>
                  <a:pt x="9819" y="5160"/>
                  <a:pt x="9795" y="5080"/>
                  <a:pt x="9773" y="5060"/>
                </a:cubicBezTo>
                <a:cubicBezTo>
                  <a:pt x="9745" y="5034"/>
                  <a:pt x="9722" y="5025"/>
                  <a:pt x="9699" y="4986"/>
                </a:cubicBezTo>
                <a:cubicBezTo>
                  <a:pt x="9680" y="4953"/>
                  <a:pt x="9665" y="4929"/>
                  <a:pt x="9649" y="4911"/>
                </a:cubicBezTo>
                <a:cubicBezTo>
                  <a:pt x="9632" y="4892"/>
                  <a:pt x="9615" y="4868"/>
                  <a:pt x="9599" y="4837"/>
                </a:cubicBezTo>
                <a:cubicBezTo>
                  <a:pt x="9583" y="4805"/>
                  <a:pt x="9586" y="4772"/>
                  <a:pt x="9575" y="4738"/>
                </a:cubicBezTo>
                <a:cubicBezTo>
                  <a:pt x="9561" y="4697"/>
                  <a:pt x="9553" y="4687"/>
                  <a:pt x="9550" y="4638"/>
                </a:cubicBezTo>
                <a:cubicBezTo>
                  <a:pt x="9545" y="4551"/>
                  <a:pt x="9533" y="4436"/>
                  <a:pt x="9575" y="4366"/>
                </a:cubicBezTo>
                <a:cubicBezTo>
                  <a:pt x="9586" y="4349"/>
                  <a:pt x="9637" y="4320"/>
                  <a:pt x="9649" y="4291"/>
                </a:cubicBezTo>
                <a:cubicBezTo>
                  <a:pt x="9683" y="4208"/>
                  <a:pt x="9584" y="4294"/>
                  <a:pt x="9723" y="4217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3314880" y="2084400"/>
            <a:ext cx="2557440" cy="1149480"/>
          </a:xfrm>
          <a:custGeom>
            <a:avLst/>
            <a:gdLst/>
            <a:ahLst/>
            <a:rect l="l" t="t" r="r" b="b"/>
            <a:pathLst>
              <a:path w="1611" h="724">
                <a:moveTo>
                  <a:pt x="152" y="519"/>
                </a:moveTo>
                <a:cubicBezTo>
                  <a:pt x="122" y="578"/>
                  <a:pt x="130" y="611"/>
                  <a:pt x="160" y="671"/>
                </a:cubicBezTo>
                <a:cubicBezTo>
                  <a:pt x="173" y="668"/>
                  <a:pt x="188" y="670"/>
                  <a:pt x="200" y="663"/>
                </a:cubicBezTo>
                <a:cubicBezTo>
                  <a:pt x="240" y="640"/>
                  <a:pt x="210" y="579"/>
                  <a:pt x="192" y="551"/>
                </a:cubicBezTo>
                <a:cubicBezTo>
                  <a:pt x="142" y="554"/>
                  <a:pt x="61" y="537"/>
                  <a:pt x="56" y="583"/>
                </a:cubicBezTo>
                <a:cubicBezTo>
                  <a:pt x="53" y="616"/>
                  <a:pt x="73" y="675"/>
                  <a:pt x="104" y="695"/>
                </a:cubicBezTo>
                <a:cubicBezTo>
                  <a:pt x="118" y="704"/>
                  <a:pt x="136" y="706"/>
                  <a:pt x="152" y="711"/>
                </a:cubicBezTo>
                <a:cubicBezTo>
                  <a:pt x="160" y="714"/>
                  <a:pt x="176" y="719"/>
                  <a:pt x="176" y="719"/>
                </a:cubicBezTo>
                <a:cubicBezTo>
                  <a:pt x="280" y="709"/>
                  <a:pt x="275" y="724"/>
                  <a:pt x="288" y="623"/>
                </a:cubicBezTo>
                <a:cubicBezTo>
                  <a:pt x="276" y="541"/>
                  <a:pt x="281" y="547"/>
                  <a:pt x="200" y="559"/>
                </a:cubicBezTo>
                <a:cubicBezTo>
                  <a:pt x="165" y="582"/>
                  <a:pt x="175" y="597"/>
                  <a:pt x="152" y="631"/>
                </a:cubicBezTo>
                <a:cubicBezTo>
                  <a:pt x="160" y="677"/>
                  <a:pt x="149" y="682"/>
                  <a:pt x="192" y="703"/>
                </a:cubicBezTo>
                <a:cubicBezTo>
                  <a:pt x="207" y="711"/>
                  <a:pt x="240" y="719"/>
                  <a:pt x="240" y="719"/>
                </a:cubicBezTo>
                <a:cubicBezTo>
                  <a:pt x="309" y="696"/>
                  <a:pt x="299" y="656"/>
                  <a:pt x="280" y="575"/>
                </a:cubicBezTo>
                <a:cubicBezTo>
                  <a:pt x="277" y="564"/>
                  <a:pt x="263" y="560"/>
                  <a:pt x="256" y="551"/>
                </a:cubicBezTo>
                <a:cubicBezTo>
                  <a:pt x="224" y="513"/>
                  <a:pt x="222" y="512"/>
                  <a:pt x="168" y="503"/>
                </a:cubicBezTo>
                <a:cubicBezTo>
                  <a:pt x="195" y="483"/>
                  <a:pt x="216" y="466"/>
                  <a:pt x="248" y="455"/>
                </a:cubicBezTo>
                <a:cubicBezTo>
                  <a:pt x="347" y="465"/>
                  <a:pt x="306" y="448"/>
                  <a:pt x="376" y="495"/>
                </a:cubicBezTo>
                <a:cubicBezTo>
                  <a:pt x="384" y="500"/>
                  <a:pt x="360" y="484"/>
                  <a:pt x="352" y="479"/>
                </a:cubicBezTo>
                <a:cubicBezTo>
                  <a:pt x="336" y="468"/>
                  <a:pt x="304" y="447"/>
                  <a:pt x="304" y="447"/>
                </a:cubicBezTo>
                <a:cubicBezTo>
                  <a:pt x="245" y="451"/>
                  <a:pt x="183" y="443"/>
                  <a:pt x="128" y="463"/>
                </a:cubicBezTo>
                <a:cubicBezTo>
                  <a:pt x="88" y="477"/>
                  <a:pt x="39" y="520"/>
                  <a:pt x="8" y="551"/>
                </a:cubicBezTo>
                <a:cubicBezTo>
                  <a:pt x="13" y="565"/>
                  <a:pt x="19" y="633"/>
                  <a:pt x="0" y="575"/>
                </a:cubicBezTo>
                <a:cubicBezTo>
                  <a:pt x="5" y="546"/>
                  <a:pt x="0" y="512"/>
                  <a:pt x="16" y="487"/>
                </a:cubicBezTo>
                <a:cubicBezTo>
                  <a:pt x="25" y="473"/>
                  <a:pt x="48" y="475"/>
                  <a:pt x="64" y="471"/>
                </a:cubicBezTo>
                <a:cubicBezTo>
                  <a:pt x="113" y="459"/>
                  <a:pt x="159" y="447"/>
                  <a:pt x="208" y="439"/>
                </a:cubicBezTo>
                <a:cubicBezTo>
                  <a:pt x="253" y="442"/>
                  <a:pt x="299" y="440"/>
                  <a:pt x="344" y="447"/>
                </a:cubicBezTo>
                <a:cubicBezTo>
                  <a:pt x="380" y="452"/>
                  <a:pt x="379" y="511"/>
                  <a:pt x="416" y="527"/>
                </a:cubicBezTo>
                <a:cubicBezTo>
                  <a:pt x="490" y="559"/>
                  <a:pt x="576" y="540"/>
                  <a:pt x="656" y="543"/>
                </a:cubicBezTo>
                <a:cubicBezTo>
                  <a:pt x="830" y="562"/>
                  <a:pt x="962" y="570"/>
                  <a:pt x="1152" y="575"/>
                </a:cubicBezTo>
                <a:cubicBezTo>
                  <a:pt x="1204" y="592"/>
                  <a:pt x="1238" y="555"/>
                  <a:pt x="1280" y="527"/>
                </a:cubicBezTo>
                <a:cubicBezTo>
                  <a:pt x="1317" y="502"/>
                  <a:pt x="1399" y="508"/>
                  <a:pt x="1440" y="503"/>
                </a:cubicBezTo>
                <a:cubicBezTo>
                  <a:pt x="1413" y="476"/>
                  <a:pt x="1395" y="475"/>
                  <a:pt x="1360" y="463"/>
                </a:cubicBezTo>
                <a:cubicBezTo>
                  <a:pt x="1325" y="466"/>
                  <a:pt x="1288" y="458"/>
                  <a:pt x="1256" y="471"/>
                </a:cubicBezTo>
                <a:cubicBezTo>
                  <a:pt x="1238" y="478"/>
                  <a:pt x="1242" y="513"/>
                  <a:pt x="1224" y="519"/>
                </a:cubicBezTo>
                <a:cubicBezTo>
                  <a:pt x="1216" y="522"/>
                  <a:pt x="1208" y="524"/>
                  <a:pt x="1200" y="527"/>
                </a:cubicBezTo>
                <a:cubicBezTo>
                  <a:pt x="1230" y="482"/>
                  <a:pt x="1279" y="479"/>
                  <a:pt x="1328" y="463"/>
                </a:cubicBezTo>
                <a:cubicBezTo>
                  <a:pt x="1376" y="466"/>
                  <a:pt x="1424" y="471"/>
                  <a:pt x="1472" y="471"/>
                </a:cubicBezTo>
                <a:cubicBezTo>
                  <a:pt x="1524" y="471"/>
                  <a:pt x="1480" y="436"/>
                  <a:pt x="1448" y="431"/>
                </a:cubicBezTo>
                <a:cubicBezTo>
                  <a:pt x="1379" y="421"/>
                  <a:pt x="1410" y="427"/>
                  <a:pt x="1352" y="415"/>
                </a:cubicBezTo>
                <a:cubicBezTo>
                  <a:pt x="1341" y="418"/>
                  <a:pt x="1323" y="412"/>
                  <a:pt x="1320" y="423"/>
                </a:cubicBezTo>
                <a:cubicBezTo>
                  <a:pt x="1315" y="444"/>
                  <a:pt x="1369" y="454"/>
                  <a:pt x="1376" y="455"/>
                </a:cubicBezTo>
                <a:cubicBezTo>
                  <a:pt x="1427" y="459"/>
                  <a:pt x="1477" y="460"/>
                  <a:pt x="1528" y="463"/>
                </a:cubicBezTo>
                <a:cubicBezTo>
                  <a:pt x="1539" y="468"/>
                  <a:pt x="1549" y="475"/>
                  <a:pt x="1560" y="479"/>
                </a:cubicBezTo>
                <a:cubicBezTo>
                  <a:pt x="1594" y="492"/>
                  <a:pt x="1611" y="482"/>
                  <a:pt x="1560" y="495"/>
                </a:cubicBezTo>
                <a:cubicBezTo>
                  <a:pt x="1551" y="522"/>
                  <a:pt x="1537" y="554"/>
                  <a:pt x="1560" y="583"/>
                </a:cubicBezTo>
                <a:cubicBezTo>
                  <a:pt x="1567" y="592"/>
                  <a:pt x="1575" y="565"/>
                  <a:pt x="1584" y="559"/>
                </a:cubicBezTo>
                <a:cubicBezTo>
                  <a:pt x="1591" y="554"/>
                  <a:pt x="1600" y="554"/>
                  <a:pt x="1608" y="551"/>
                </a:cubicBezTo>
                <a:cubicBezTo>
                  <a:pt x="1600" y="543"/>
                  <a:pt x="1595" y="527"/>
                  <a:pt x="1584" y="527"/>
                </a:cubicBezTo>
                <a:cubicBezTo>
                  <a:pt x="1576" y="527"/>
                  <a:pt x="1576" y="543"/>
                  <a:pt x="1576" y="551"/>
                </a:cubicBezTo>
                <a:cubicBezTo>
                  <a:pt x="1576" y="561"/>
                  <a:pt x="1588" y="596"/>
                  <a:pt x="1592" y="607"/>
                </a:cubicBezTo>
                <a:cubicBezTo>
                  <a:pt x="1589" y="575"/>
                  <a:pt x="1588" y="543"/>
                  <a:pt x="1584" y="511"/>
                </a:cubicBezTo>
                <a:cubicBezTo>
                  <a:pt x="1569" y="397"/>
                  <a:pt x="1398" y="398"/>
                  <a:pt x="1320" y="359"/>
                </a:cubicBezTo>
                <a:cubicBezTo>
                  <a:pt x="1306" y="316"/>
                  <a:pt x="1305" y="277"/>
                  <a:pt x="1280" y="239"/>
                </a:cubicBezTo>
                <a:cubicBezTo>
                  <a:pt x="1267" y="0"/>
                  <a:pt x="1267" y="80"/>
                  <a:pt x="968" y="71"/>
                </a:cubicBezTo>
                <a:cubicBezTo>
                  <a:pt x="947" y="66"/>
                  <a:pt x="879" y="66"/>
                  <a:pt x="936" y="47"/>
                </a:cubicBezTo>
                <a:cubicBezTo>
                  <a:pt x="1081" y="52"/>
                  <a:pt x="1148" y="33"/>
                  <a:pt x="1256" y="87"/>
                </a:cubicBezTo>
                <a:cubicBezTo>
                  <a:pt x="1261" y="95"/>
                  <a:pt x="1268" y="102"/>
                  <a:pt x="1272" y="111"/>
                </a:cubicBezTo>
                <a:cubicBezTo>
                  <a:pt x="1285" y="142"/>
                  <a:pt x="1274" y="161"/>
                  <a:pt x="1288" y="119"/>
                </a:cubicBezTo>
                <a:cubicBezTo>
                  <a:pt x="1281" y="98"/>
                  <a:pt x="1275" y="79"/>
                  <a:pt x="1248" y="79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3419640" y="4510080"/>
            <a:ext cx="431640" cy="43164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3456000" y="4437000"/>
            <a:ext cx="588960" cy="446040"/>
          </a:xfrm>
          <a:custGeom>
            <a:avLst/>
            <a:gdLst/>
            <a:ahLst/>
            <a:rect l="l" t="t" r="r" b="b"/>
            <a:pathLst>
              <a:path w="1639" h="1241">
                <a:moveTo>
                  <a:pt x="9674" y="11509"/>
                </a:moveTo>
                <a:cubicBezTo>
                  <a:pt x="9674" y="11549"/>
                  <a:pt x="9664" y="11602"/>
                  <a:pt x="9699" y="11633"/>
                </a:cubicBezTo>
                <a:cubicBezTo>
                  <a:pt x="9707" y="11633"/>
                  <a:pt x="9715" y="11633"/>
                  <a:pt x="9723" y="11633"/>
                </a:cubicBezTo>
                <a:cubicBezTo>
                  <a:pt x="9735" y="11694"/>
                  <a:pt x="9737" y="11708"/>
                  <a:pt x="9798" y="11708"/>
                </a:cubicBezTo>
              </a:path>
              <a:path w="1639" h="1241">
                <a:moveTo>
                  <a:pt x="9624" y="11336"/>
                </a:moveTo>
                <a:cubicBezTo>
                  <a:pt x="9624" y="11485"/>
                  <a:pt x="9624" y="11633"/>
                  <a:pt x="9624" y="11782"/>
                </a:cubicBezTo>
                <a:cubicBezTo>
                  <a:pt x="9687" y="11798"/>
                  <a:pt x="9664" y="11827"/>
                  <a:pt x="9699" y="11881"/>
                </a:cubicBezTo>
                <a:cubicBezTo>
                  <a:pt x="9728" y="11925"/>
                  <a:pt x="9734" y="11930"/>
                  <a:pt x="9773" y="11956"/>
                </a:cubicBezTo>
                <a:cubicBezTo>
                  <a:pt x="9854" y="12010"/>
                  <a:pt x="9908" y="11987"/>
                  <a:pt x="9996" y="12005"/>
                </a:cubicBezTo>
                <a:cubicBezTo>
                  <a:pt x="10066" y="12020"/>
                  <a:pt x="10122" y="12055"/>
                  <a:pt x="10195" y="12055"/>
                </a:cubicBezTo>
                <a:cubicBezTo>
                  <a:pt x="10203" y="12055"/>
                  <a:pt x="10212" y="12055"/>
                  <a:pt x="10220" y="12055"/>
                </a:cubicBezTo>
              </a:path>
              <a:path w="1639" h="1241">
                <a:moveTo>
                  <a:pt x="9773" y="11807"/>
                </a:moveTo>
                <a:cubicBezTo>
                  <a:pt x="9825" y="11837"/>
                  <a:pt x="9863" y="11869"/>
                  <a:pt x="9922" y="11881"/>
                </a:cubicBezTo>
                <a:cubicBezTo>
                  <a:pt x="9964" y="11889"/>
                  <a:pt x="10004" y="11900"/>
                  <a:pt x="10046" y="11906"/>
                </a:cubicBezTo>
                <a:cubicBezTo>
                  <a:pt x="10142" y="11920"/>
                  <a:pt x="10344" y="11933"/>
                  <a:pt x="10418" y="11881"/>
                </a:cubicBezTo>
                <a:cubicBezTo>
                  <a:pt x="10431" y="11872"/>
                  <a:pt x="10483" y="11839"/>
                  <a:pt x="10492" y="11807"/>
                </a:cubicBezTo>
                <a:cubicBezTo>
                  <a:pt x="10513" y="11730"/>
                  <a:pt x="10525" y="11110"/>
                  <a:pt x="10468" y="11088"/>
                </a:cubicBezTo>
                <a:cubicBezTo>
                  <a:pt x="10411" y="11066"/>
                  <a:pt x="10354" y="11080"/>
                  <a:pt x="10294" y="11063"/>
                </a:cubicBezTo>
                <a:cubicBezTo>
                  <a:pt x="10280" y="11059"/>
                  <a:pt x="10221" y="11038"/>
                  <a:pt x="10170" y="11038"/>
                </a:cubicBezTo>
                <a:cubicBezTo>
                  <a:pt x="10078" y="11038"/>
                  <a:pt x="9999" y="11048"/>
                  <a:pt x="9922" y="11063"/>
                </a:cubicBezTo>
                <a:cubicBezTo>
                  <a:pt x="9864" y="11075"/>
                  <a:pt x="9893" y="11099"/>
                  <a:pt x="9847" y="11112"/>
                </a:cubicBezTo>
                <a:cubicBezTo>
                  <a:pt x="9786" y="11129"/>
                  <a:pt x="9820" y="11115"/>
                  <a:pt x="9773" y="11162"/>
                </a:cubicBezTo>
                <a:cubicBezTo>
                  <a:pt x="9743" y="11192"/>
                  <a:pt x="9740" y="11226"/>
                  <a:pt x="9723" y="11261"/>
                </a:cubicBezTo>
                <a:cubicBezTo>
                  <a:pt x="9707" y="11294"/>
                  <a:pt x="9701" y="11321"/>
                  <a:pt x="9699" y="11361"/>
                </a:cubicBezTo>
                <a:cubicBezTo>
                  <a:pt x="9695" y="11427"/>
                  <a:pt x="9685" y="11480"/>
                  <a:pt x="9674" y="11534"/>
                </a:cubicBezTo>
                <a:cubicBezTo>
                  <a:pt x="9674" y="11576"/>
                  <a:pt x="9674" y="11584"/>
                  <a:pt x="9674" y="11609"/>
                </a:cubicBezTo>
                <a:cubicBezTo>
                  <a:pt x="9679" y="11551"/>
                  <a:pt x="9667" y="11530"/>
                  <a:pt x="9699" y="11485"/>
                </a:cubicBezTo>
                <a:cubicBezTo>
                  <a:pt x="9724" y="11450"/>
                  <a:pt x="9734" y="11404"/>
                  <a:pt x="9748" y="11385"/>
                </a:cubicBezTo>
                <a:cubicBezTo>
                  <a:pt x="9774" y="11348"/>
                  <a:pt x="9804" y="11312"/>
                  <a:pt x="9823" y="11286"/>
                </a:cubicBezTo>
                <a:cubicBezTo>
                  <a:pt x="9841" y="11262"/>
                  <a:pt x="9856" y="11228"/>
                  <a:pt x="9872" y="11212"/>
                </a:cubicBezTo>
                <a:cubicBezTo>
                  <a:pt x="9918" y="11166"/>
                  <a:pt x="9997" y="11192"/>
                  <a:pt x="10046" y="11162"/>
                </a:cubicBezTo>
                <a:cubicBezTo>
                  <a:pt x="10074" y="11145"/>
                  <a:pt x="10130" y="11108"/>
                  <a:pt x="10170" y="11088"/>
                </a:cubicBezTo>
                <a:cubicBezTo>
                  <a:pt x="10203" y="11088"/>
                  <a:pt x="10203" y="11088"/>
                  <a:pt x="10145" y="11088"/>
                </a:cubicBezTo>
                <a:cubicBezTo>
                  <a:pt x="10073" y="11088"/>
                  <a:pt x="9894" y="11051"/>
                  <a:pt x="9847" y="11112"/>
                </a:cubicBezTo>
                <a:cubicBezTo>
                  <a:pt x="9822" y="11145"/>
                  <a:pt x="9816" y="11202"/>
                  <a:pt x="9798" y="11237"/>
                </a:cubicBezTo>
                <a:cubicBezTo>
                  <a:pt x="9778" y="11277"/>
                  <a:pt x="9765" y="11324"/>
                  <a:pt x="9748" y="11361"/>
                </a:cubicBezTo>
                <a:cubicBezTo>
                  <a:pt x="9737" y="11385"/>
                  <a:pt x="9699" y="11459"/>
                  <a:pt x="9699" y="11460"/>
                </a:cubicBezTo>
                <a:cubicBezTo>
                  <a:pt x="9676" y="11563"/>
                  <a:pt x="9706" y="11693"/>
                  <a:pt x="9723" y="11782"/>
                </a:cubicBezTo>
                <a:cubicBezTo>
                  <a:pt x="9732" y="11828"/>
                  <a:pt x="9766" y="11839"/>
                  <a:pt x="9773" y="11857"/>
                </a:cubicBezTo>
                <a:cubicBezTo>
                  <a:pt x="9796" y="11913"/>
                  <a:pt x="9778" y="11894"/>
                  <a:pt x="9823" y="11956"/>
                </a:cubicBezTo>
                <a:cubicBezTo>
                  <a:pt x="9843" y="11984"/>
                  <a:pt x="9892" y="12022"/>
                  <a:pt x="9922" y="12030"/>
                </a:cubicBezTo>
                <a:cubicBezTo>
                  <a:pt x="10018" y="12056"/>
                  <a:pt x="10276" y="12054"/>
                  <a:pt x="10344" y="12005"/>
                </a:cubicBezTo>
                <a:cubicBezTo>
                  <a:pt x="10392" y="11971"/>
                  <a:pt x="10409" y="11968"/>
                  <a:pt x="10443" y="11931"/>
                </a:cubicBezTo>
                <a:cubicBezTo>
                  <a:pt x="10459" y="11914"/>
                  <a:pt x="10511" y="11828"/>
                  <a:pt x="10517" y="11807"/>
                </a:cubicBezTo>
                <a:cubicBezTo>
                  <a:pt x="10549" y="11693"/>
                  <a:pt x="10507" y="11486"/>
                  <a:pt x="10492" y="11410"/>
                </a:cubicBezTo>
                <a:cubicBezTo>
                  <a:pt x="10482" y="11362"/>
                  <a:pt x="10475" y="11335"/>
                  <a:pt x="10468" y="11286"/>
                </a:cubicBezTo>
                <a:cubicBezTo>
                  <a:pt x="10460" y="11236"/>
                  <a:pt x="10469" y="11231"/>
                  <a:pt x="10443" y="11187"/>
                </a:cubicBezTo>
                <a:cubicBezTo>
                  <a:pt x="10443" y="11162"/>
                  <a:pt x="10443" y="11154"/>
                  <a:pt x="10443" y="11187"/>
                </a:cubicBezTo>
                <a:cubicBezTo>
                  <a:pt x="10491" y="11215"/>
                  <a:pt x="10555" y="11248"/>
                  <a:pt x="10567" y="11311"/>
                </a:cubicBezTo>
                <a:cubicBezTo>
                  <a:pt x="10585" y="11410"/>
                  <a:pt x="10567" y="11532"/>
                  <a:pt x="10567" y="11633"/>
                </a:cubicBezTo>
                <a:cubicBezTo>
                  <a:pt x="10567" y="11715"/>
                  <a:pt x="10567" y="11659"/>
                  <a:pt x="10567" y="11609"/>
                </a:cubicBezTo>
                <a:cubicBezTo>
                  <a:pt x="10567" y="11554"/>
                  <a:pt x="10567" y="11554"/>
                  <a:pt x="10567" y="11609"/>
                </a:cubicBezTo>
                <a:cubicBezTo>
                  <a:pt x="10567" y="11646"/>
                  <a:pt x="10543" y="11680"/>
                  <a:pt x="10542" y="11683"/>
                </a:cubicBezTo>
                <a:cubicBezTo>
                  <a:pt x="10532" y="11733"/>
                  <a:pt x="10540" y="11737"/>
                  <a:pt x="10517" y="11782"/>
                </a:cubicBezTo>
                <a:cubicBezTo>
                  <a:pt x="10501" y="11815"/>
                  <a:pt x="10490" y="11828"/>
                  <a:pt x="10468" y="11857"/>
                </a:cubicBezTo>
                <a:cubicBezTo>
                  <a:pt x="10453" y="11877"/>
                  <a:pt x="10452" y="11909"/>
                  <a:pt x="10418" y="11931"/>
                </a:cubicBezTo>
                <a:cubicBezTo>
                  <a:pt x="10380" y="11956"/>
                  <a:pt x="10344" y="11978"/>
                  <a:pt x="10294" y="11981"/>
                </a:cubicBezTo>
                <a:cubicBezTo>
                  <a:pt x="10165" y="11989"/>
                  <a:pt x="10046" y="11970"/>
                  <a:pt x="9922" y="11956"/>
                </a:cubicBezTo>
                <a:cubicBezTo>
                  <a:pt x="9871" y="11950"/>
                  <a:pt x="9796" y="11950"/>
                  <a:pt x="9748" y="11931"/>
                </a:cubicBezTo>
                <a:cubicBezTo>
                  <a:pt x="9728" y="11923"/>
                  <a:pt x="9715" y="11858"/>
                  <a:pt x="9699" y="11832"/>
                </a:cubicBezTo>
                <a:cubicBezTo>
                  <a:pt x="9690" y="11817"/>
                  <a:pt x="9663" y="11774"/>
                  <a:pt x="9649" y="11757"/>
                </a:cubicBezTo>
                <a:cubicBezTo>
                  <a:pt x="9623" y="11725"/>
                  <a:pt x="9606" y="11672"/>
                  <a:pt x="9599" y="11633"/>
                </a:cubicBezTo>
                <a:cubicBezTo>
                  <a:pt x="9590" y="11579"/>
                  <a:pt x="9599" y="11515"/>
                  <a:pt x="9599" y="11460"/>
                </a:cubicBezTo>
              </a:path>
              <a:path w="1639" h="1241">
                <a:moveTo>
                  <a:pt x="10244" y="11137"/>
                </a:moveTo>
                <a:cubicBezTo>
                  <a:pt x="10333" y="11194"/>
                  <a:pt x="10444" y="11256"/>
                  <a:pt x="10542" y="11286"/>
                </a:cubicBezTo>
                <a:cubicBezTo>
                  <a:pt x="10611" y="11307"/>
                  <a:pt x="10612" y="11310"/>
                  <a:pt x="10616" y="11385"/>
                </a:cubicBezTo>
                <a:cubicBezTo>
                  <a:pt x="10618" y="11418"/>
                  <a:pt x="10616" y="11452"/>
                  <a:pt x="10616" y="11485"/>
                </a:cubicBezTo>
                <a:cubicBezTo>
                  <a:pt x="10570" y="11438"/>
                  <a:pt x="10523" y="11394"/>
                  <a:pt x="10468" y="11361"/>
                </a:cubicBezTo>
                <a:cubicBezTo>
                  <a:pt x="10431" y="11339"/>
                  <a:pt x="10370" y="11270"/>
                  <a:pt x="10344" y="11261"/>
                </a:cubicBezTo>
                <a:cubicBezTo>
                  <a:pt x="10289" y="11243"/>
                  <a:pt x="10278" y="11243"/>
                  <a:pt x="10220" y="11212"/>
                </a:cubicBezTo>
                <a:cubicBezTo>
                  <a:pt x="10188" y="11195"/>
                  <a:pt x="10159" y="11189"/>
                  <a:pt x="10120" y="11187"/>
                </a:cubicBezTo>
                <a:cubicBezTo>
                  <a:pt x="10071" y="11184"/>
                  <a:pt x="10020" y="11187"/>
                  <a:pt x="9971" y="11187"/>
                </a:cubicBezTo>
                <a:cubicBezTo>
                  <a:pt x="10020" y="11187"/>
                  <a:pt x="10022" y="11187"/>
                  <a:pt x="10071" y="11187"/>
                </a:cubicBezTo>
                <a:cubicBezTo>
                  <a:pt x="10184" y="11187"/>
                  <a:pt x="10204" y="11196"/>
                  <a:pt x="10294" y="11237"/>
                </a:cubicBezTo>
                <a:cubicBezTo>
                  <a:pt x="10360" y="11267"/>
                  <a:pt x="10401" y="11265"/>
                  <a:pt x="10418" y="11336"/>
                </a:cubicBezTo>
                <a:cubicBezTo>
                  <a:pt x="10447" y="11460"/>
                  <a:pt x="10437" y="11775"/>
                  <a:pt x="10393" y="11857"/>
                </a:cubicBezTo>
                <a:cubicBezTo>
                  <a:pt x="10374" y="11892"/>
                  <a:pt x="10381" y="11920"/>
                  <a:pt x="10344" y="11931"/>
                </a:cubicBezTo>
                <a:cubicBezTo>
                  <a:pt x="10295" y="11945"/>
                  <a:pt x="10273" y="11932"/>
                  <a:pt x="10220" y="11956"/>
                </a:cubicBezTo>
                <a:cubicBezTo>
                  <a:pt x="10167" y="11980"/>
                  <a:pt x="10151" y="11979"/>
                  <a:pt x="10096" y="11981"/>
                </a:cubicBezTo>
                <a:cubicBezTo>
                  <a:pt x="10038" y="11983"/>
                  <a:pt x="9980" y="11981"/>
                  <a:pt x="9922" y="11981"/>
                </a:cubicBezTo>
                <a:cubicBezTo>
                  <a:pt x="9939" y="11920"/>
                  <a:pt x="9924" y="11953"/>
                  <a:pt x="9971" y="11906"/>
                </a:cubicBezTo>
                <a:cubicBezTo>
                  <a:pt x="10015" y="11862"/>
                  <a:pt x="10014" y="11895"/>
                  <a:pt x="10021" y="11832"/>
                </a:cubicBezTo>
                <a:cubicBezTo>
                  <a:pt x="10046" y="11619"/>
                  <a:pt x="10021" y="11249"/>
                  <a:pt x="10021" y="11112"/>
                </a:cubicBezTo>
                <a:cubicBezTo>
                  <a:pt x="10047" y="11164"/>
                  <a:pt x="10046" y="11194"/>
                  <a:pt x="10046" y="11261"/>
                </a:cubicBezTo>
                <a:cubicBezTo>
                  <a:pt x="10046" y="11534"/>
                  <a:pt x="10193" y="12260"/>
                  <a:pt x="10046" y="12030"/>
                </a:cubicBezTo>
                <a:cubicBezTo>
                  <a:pt x="10025" y="11997"/>
                  <a:pt x="10004" y="11965"/>
                  <a:pt x="9971" y="11931"/>
                </a:cubicBezTo>
                <a:cubicBezTo>
                  <a:pt x="9952" y="11912"/>
                  <a:pt x="9958" y="11880"/>
                  <a:pt x="9922" y="11857"/>
                </a:cubicBezTo>
                <a:cubicBezTo>
                  <a:pt x="9885" y="11833"/>
                  <a:pt x="9883" y="11808"/>
                  <a:pt x="9847" y="11782"/>
                </a:cubicBezTo>
                <a:cubicBezTo>
                  <a:pt x="9819" y="11782"/>
                  <a:pt x="9809" y="11779"/>
                  <a:pt x="9798" y="11757"/>
                </a:cubicBezTo>
              </a:path>
              <a:path w="1639" h="1241">
                <a:moveTo>
                  <a:pt x="9699" y="11559"/>
                </a:moveTo>
                <a:cubicBezTo>
                  <a:pt x="9866" y="11559"/>
                  <a:pt x="10044" y="11557"/>
                  <a:pt x="10195" y="11534"/>
                </a:cubicBezTo>
                <a:cubicBezTo>
                  <a:pt x="10260" y="11524"/>
                  <a:pt x="10563" y="11559"/>
                  <a:pt x="10468" y="11534"/>
                </a:cubicBezTo>
                <a:cubicBezTo>
                  <a:pt x="10382" y="11511"/>
                  <a:pt x="10336" y="11487"/>
                  <a:pt x="10269" y="11435"/>
                </a:cubicBezTo>
              </a:path>
              <a:path w="1639" h="1241">
                <a:moveTo>
                  <a:pt x="10170" y="11137"/>
                </a:moveTo>
                <a:cubicBezTo>
                  <a:pt x="10170" y="11443"/>
                  <a:pt x="10170" y="11749"/>
                  <a:pt x="10170" y="12055"/>
                </a:cubicBezTo>
              </a:path>
              <a:path w="1639" h="1241">
                <a:moveTo>
                  <a:pt x="11237" y="11187"/>
                </a:moveTo>
                <a:lnTo>
                  <a:pt x="11237" y="11187"/>
                </a:lnTo>
              </a:path>
              <a:path w="1639" h="1241">
                <a:moveTo>
                  <a:pt x="11237" y="11112"/>
                </a:moveTo>
                <a:lnTo>
                  <a:pt x="11237" y="11112"/>
                </a:lnTo>
                <a:lnTo>
                  <a:pt x="11237" y="11112"/>
                </a:lnTo>
              </a:path>
              <a:path w="1639" h="1241">
                <a:moveTo>
                  <a:pt x="11212" y="11063"/>
                </a:moveTo>
                <a:cubicBezTo>
                  <a:pt x="11212" y="11055"/>
                  <a:pt x="11212" y="11046"/>
                  <a:pt x="11212" y="11038"/>
                </a:cubicBezTo>
              </a:path>
              <a:path w="1639" h="1241">
                <a:moveTo>
                  <a:pt x="11212" y="10815"/>
                </a:moveTo>
                <a:lnTo>
                  <a:pt x="11212" y="10815"/>
                </a:lnTo>
              </a:path>
              <a:path w="1639" h="1241">
                <a:moveTo>
                  <a:pt x="11137" y="10840"/>
                </a:moveTo>
                <a:cubicBezTo>
                  <a:pt x="11137" y="10864"/>
                  <a:pt x="11137" y="10873"/>
                  <a:pt x="11137" y="10889"/>
                </a:cubicBezTo>
              </a:path>
              <a:path w="1639" h="1241">
                <a:moveTo>
                  <a:pt x="11088" y="11137"/>
                </a:moveTo>
                <a:cubicBezTo>
                  <a:pt x="11088" y="11145"/>
                  <a:pt x="11088" y="11154"/>
                  <a:pt x="11088" y="11162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3106800" y="3922560"/>
            <a:ext cx="3171600" cy="901800"/>
          </a:xfrm>
          <a:custGeom>
            <a:avLst/>
            <a:gdLst/>
            <a:ahLst/>
            <a:rect l="l" t="t" r="r" b="b"/>
            <a:pathLst>
              <a:path w="1998" h="681">
                <a:moveTo>
                  <a:pt x="171" y="101"/>
                </a:moveTo>
                <a:cubicBezTo>
                  <a:pt x="145" y="118"/>
                  <a:pt x="129" y="139"/>
                  <a:pt x="99" y="149"/>
                </a:cubicBezTo>
                <a:cubicBezTo>
                  <a:pt x="92" y="159"/>
                  <a:pt x="59" y="217"/>
                  <a:pt x="67" y="229"/>
                </a:cubicBezTo>
                <a:cubicBezTo>
                  <a:pt x="72" y="236"/>
                  <a:pt x="83" y="224"/>
                  <a:pt x="91" y="221"/>
                </a:cubicBezTo>
                <a:cubicBezTo>
                  <a:pt x="95" y="213"/>
                  <a:pt x="114" y="173"/>
                  <a:pt x="123" y="165"/>
                </a:cubicBezTo>
                <a:cubicBezTo>
                  <a:pt x="130" y="160"/>
                  <a:pt x="139" y="161"/>
                  <a:pt x="147" y="157"/>
                </a:cubicBezTo>
                <a:cubicBezTo>
                  <a:pt x="156" y="153"/>
                  <a:pt x="164" y="147"/>
                  <a:pt x="171" y="141"/>
                </a:cubicBezTo>
                <a:cubicBezTo>
                  <a:pt x="202" y="115"/>
                  <a:pt x="228" y="90"/>
                  <a:pt x="267" y="77"/>
                </a:cubicBezTo>
                <a:cubicBezTo>
                  <a:pt x="728" y="80"/>
                  <a:pt x="1190" y="79"/>
                  <a:pt x="1651" y="85"/>
                </a:cubicBezTo>
                <a:cubicBezTo>
                  <a:pt x="1998" y="90"/>
                  <a:pt x="1994" y="0"/>
                  <a:pt x="1955" y="173"/>
                </a:cubicBezTo>
                <a:cubicBezTo>
                  <a:pt x="1900" y="136"/>
                  <a:pt x="1913" y="123"/>
                  <a:pt x="1899" y="165"/>
                </a:cubicBezTo>
                <a:cubicBezTo>
                  <a:pt x="1902" y="173"/>
                  <a:pt x="1901" y="183"/>
                  <a:pt x="1907" y="189"/>
                </a:cubicBezTo>
                <a:cubicBezTo>
                  <a:pt x="1915" y="197"/>
                  <a:pt x="1937" y="193"/>
                  <a:pt x="1939" y="205"/>
                </a:cubicBezTo>
                <a:cubicBezTo>
                  <a:pt x="1944" y="234"/>
                  <a:pt x="1928" y="264"/>
                  <a:pt x="1923" y="293"/>
                </a:cubicBezTo>
                <a:cubicBezTo>
                  <a:pt x="1893" y="253"/>
                  <a:pt x="1891" y="239"/>
                  <a:pt x="1883" y="189"/>
                </a:cubicBezTo>
                <a:cubicBezTo>
                  <a:pt x="1882" y="208"/>
                  <a:pt x="1822" y="449"/>
                  <a:pt x="1907" y="477"/>
                </a:cubicBezTo>
                <a:cubicBezTo>
                  <a:pt x="1931" y="548"/>
                  <a:pt x="1776" y="505"/>
                  <a:pt x="1667" y="501"/>
                </a:cubicBezTo>
                <a:cubicBezTo>
                  <a:pt x="1659" y="392"/>
                  <a:pt x="1683" y="383"/>
                  <a:pt x="1595" y="365"/>
                </a:cubicBezTo>
                <a:cubicBezTo>
                  <a:pt x="1584" y="360"/>
                  <a:pt x="1574" y="353"/>
                  <a:pt x="1563" y="349"/>
                </a:cubicBezTo>
                <a:cubicBezTo>
                  <a:pt x="1547" y="343"/>
                  <a:pt x="1515" y="333"/>
                  <a:pt x="1515" y="333"/>
                </a:cubicBezTo>
                <a:cubicBezTo>
                  <a:pt x="1445" y="339"/>
                  <a:pt x="1421" y="332"/>
                  <a:pt x="1371" y="365"/>
                </a:cubicBezTo>
                <a:cubicBezTo>
                  <a:pt x="1357" y="408"/>
                  <a:pt x="1350" y="449"/>
                  <a:pt x="1339" y="493"/>
                </a:cubicBezTo>
                <a:cubicBezTo>
                  <a:pt x="1286" y="458"/>
                  <a:pt x="1331" y="498"/>
                  <a:pt x="1331" y="397"/>
                </a:cubicBezTo>
                <a:cubicBezTo>
                  <a:pt x="1331" y="380"/>
                  <a:pt x="1320" y="429"/>
                  <a:pt x="1315" y="445"/>
                </a:cubicBezTo>
                <a:cubicBezTo>
                  <a:pt x="1306" y="473"/>
                  <a:pt x="1312" y="476"/>
                  <a:pt x="1275" y="477"/>
                </a:cubicBezTo>
                <a:cubicBezTo>
                  <a:pt x="1112" y="482"/>
                  <a:pt x="950" y="482"/>
                  <a:pt x="787" y="485"/>
                </a:cubicBezTo>
                <a:cubicBezTo>
                  <a:pt x="684" y="496"/>
                  <a:pt x="587" y="504"/>
                  <a:pt x="483" y="509"/>
                </a:cubicBezTo>
                <a:cubicBezTo>
                  <a:pt x="740" y="681"/>
                  <a:pt x="1102" y="528"/>
                  <a:pt x="1411" y="525"/>
                </a:cubicBezTo>
                <a:cubicBezTo>
                  <a:pt x="1403" y="514"/>
                  <a:pt x="1399" y="499"/>
                  <a:pt x="1387" y="493"/>
                </a:cubicBezTo>
                <a:cubicBezTo>
                  <a:pt x="1384" y="492"/>
                  <a:pt x="1290" y="473"/>
                  <a:pt x="1275" y="469"/>
                </a:cubicBezTo>
                <a:cubicBezTo>
                  <a:pt x="1251" y="445"/>
                  <a:pt x="1231" y="440"/>
                  <a:pt x="1203" y="421"/>
                </a:cubicBezTo>
                <a:cubicBezTo>
                  <a:pt x="1035" y="424"/>
                  <a:pt x="867" y="424"/>
                  <a:pt x="699" y="429"/>
                </a:cubicBezTo>
                <a:cubicBezTo>
                  <a:pt x="654" y="430"/>
                  <a:pt x="614" y="487"/>
                  <a:pt x="571" y="501"/>
                </a:cubicBezTo>
                <a:cubicBezTo>
                  <a:pt x="499" y="555"/>
                  <a:pt x="470" y="529"/>
                  <a:pt x="363" y="525"/>
                </a:cubicBezTo>
                <a:cubicBezTo>
                  <a:pt x="248" y="521"/>
                  <a:pt x="134" y="520"/>
                  <a:pt x="19" y="517"/>
                </a:cubicBezTo>
                <a:cubicBezTo>
                  <a:pt x="0" y="489"/>
                  <a:pt x="3" y="503"/>
                  <a:pt x="3" y="477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5292720" y="4510080"/>
            <a:ext cx="431640" cy="43164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5313240" y="4538520"/>
            <a:ext cx="384120" cy="385920"/>
          </a:xfrm>
          <a:custGeom>
            <a:avLst/>
            <a:gdLst/>
            <a:ahLst/>
            <a:rect l="l" t="t" r="r" b="b"/>
            <a:pathLst>
              <a:path w="1067" h="1068">
                <a:moveTo>
                  <a:pt x="15255" y="11088"/>
                </a:moveTo>
                <a:cubicBezTo>
                  <a:pt x="15194" y="11088"/>
                  <a:pt x="15128" y="11075"/>
                  <a:pt x="15081" y="11112"/>
                </a:cubicBezTo>
                <a:cubicBezTo>
                  <a:pt x="15066" y="11124"/>
                  <a:pt x="15048" y="11165"/>
                  <a:pt x="15032" y="11187"/>
                </a:cubicBezTo>
                <a:cubicBezTo>
                  <a:pt x="15025" y="11196"/>
                  <a:pt x="14986" y="11232"/>
                  <a:pt x="14982" y="11261"/>
                </a:cubicBezTo>
                <a:cubicBezTo>
                  <a:pt x="14975" y="11309"/>
                  <a:pt x="14964" y="11343"/>
                  <a:pt x="14957" y="11385"/>
                </a:cubicBezTo>
                <a:cubicBezTo>
                  <a:pt x="14937" y="11505"/>
                  <a:pt x="14929" y="11758"/>
                  <a:pt x="14982" y="11857"/>
                </a:cubicBezTo>
                <a:cubicBezTo>
                  <a:pt x="15015" y="11919"/>
                  <a:pt x="15029" y="11902"/>
                  <a:pt x="15081" y="11931"/>
                </a:cubicBezTo>
                <a:cubicBezTo>
                  <a:pt x="15112" y="11948"/>
                  <a:pt x="15141" y="11954"/>
                  <a:pt x="15180" y="11956"/>
                </a:cubicBezTo>
                <a:cubicBezTo>
                  <a:pt x="15298" y="11963"/>
                  <a:pt x="15569" y="11998"/>
                  <a:pt x="15652" y="11931"/>
                </a:cubicBezTo>
                <a:cubicBezTo>
                  <a:pt x="15663" y="11922"/>
                  <a:pt x="15717" y="11887"/>
                  <a:pt x="15726" y="11857"/>
                </a:cubicBezTo>
                <a:cubicBezTo>
                  <a:pt x="15784" y="11655"/>
                  <a:pt x="15726" y="11350"/>
                  <a:pt x="15726" y="11137"/>
                </a:cubicBezTo>
                <a:cubicBezTo>
                  <a:pt x="15654" y="11137"/>
                  <a:pt x="15608" y="11122"/>
                  <a:pt x="15553" y="11112"/>
                </a:cubicBezTo>
                <a:cubicBezTo>
                  <a:pt x="15413" y="11086"/>
                  <a:pt x="14948" y="11065"/>
                  <a:pt x="14858" y="11137"/>
                </a:cubicBezTo>
                <a:cubicBezTo>
                  <a:pt x="14818" y="11169"/>
                  <a:pt x="14805" y="11157"/>
                  <a:pt x="14784" y="11187"/>
                </a:cubicBezTo>
                <a:cubicBezTo>
                  <a:pt x="14765" y="11213"/>
                  <a:pt x="14761" y="11250"/>
                  <a:pt x="14759" y="11286"/>
                </a:cubicBezTo>
                <a:cubicBezTo>
                  <a:pt x="14756" y="11335"/>
                  <a:pt x="14759" y="11386"/>
                  <a:pt x="14759" y="11435"/>
                </a:cubicBezTo>
                <a:cubicBezTo>
                  <a:pt x="14787" y="11412"/>
                  <a:pt x="14804" y="11325"/>
                  <a:pt x="14808" y="11361"/>
                </a:cubicBezTo>
                <a:cubicBezTo>
                  <a:pt x="14818" y="11441"/>
                  <a:pt x="14808" y="11529"/>
                  <a:pt x="14808" y="11609"/>
                </a:cubicBezTo>
                <a:cubicBezTo>
                  <a:pt x="14808" y="11658"/>
                  <a:pt x="14826" y="11633"/>
                  <a:pt x="14833" y="11584"/>
                </a:cubicBezTo>
                <a:cubicBezTo>
                  <a:pt x="14843" y="11515"/>
                  <a:pt x="14833" y="11485"/>
                  <a:pt x="14833" y="11584"/>
                </a:cubicBezTo>
                <a:cubicBezTo>
                  <a:pt x="14833" y="11604"/>
                  <a:pt x="14833" y="11743"/>
                  <a:pt x="14833" y="11683"/>
                </a:cubicBezTo>
                <a:cubicBezTo>
                  <a:pt x="14833" y="11560"/>
                  <a:pt x="14881" y="11722"/>
                  <a:pt x="14883" y="11757"/>
                </a:cubicBezTo>
                <a:cubicBezTo>
                  <a:pt x="14884" y="11779"/>
                  <a:pt x="14883" y="11869"/>
                  <a:pt x="14883" y="11757"/>
                </a:cubicBezTo>
                <a:cubicBezTo>
                  <a:pt x="14883" y="11678"/>
                  <a:pt x="14865" y="11576"/>
                  <a:pt x="14858" y="11534"/>
                </a:cubicBezTo>
                <a:cubicBezTo>
                  <a:pt x="14845" y="11459"/>
                  <a:pt x="14838" y="11292"/>
                  <a:pt x="14883" y="11237"/>
                </a:cubicBezTo>
                <a:cubicBezTo>
                  <a:pt x="14912" y="11201"/>
                  <a:pt x="14921" y="11173"/>
                  <a:pt x="14957" y="11137"/>
                </a:cubicBezTo>
                <a:cubicBezTo>
                  <a:pt x="14985" y="11109"/>
                  <a:pt x="14996" y="11080"/>
                  <a:pt x="15032" y="11063"/>
                </a:cubicBezTo>
                <a:cubicBezTo>
                  <a:pt x="15084" y="11039"/>
                  <a:pt x="15099" y="11061"/>
                  <a:pt x="15131" y="11038"/>
                </a:cubicBezTo>
                <a:cubicBezTo>
                  <a:pt x="15171" y="11009"/>
                  <a:pt x="15180" y="11016"/>
                  <a:pt x="15230" y="11013"/>
                </a:cubicBezTo>
                <a:cubicBezTo>
                  <a:pt x="15362" y="11006"/>
                  <a:pt x="15445" y="11013"/>
                  <a:pt x="15577" y="11013"/>
                </a:cubicBezTo>
                <a:cubicBezTo>
                  <a:pt x="15514" y="11013"/>
                  <a:pt x="15394" y="11002"/>
                  <a:pt x="15404" y="11013"/>
                </a:cubicBezTo>
                <a:cubicBezTo>
                  <a:pt x="15510" y="11123"/>
                  <a:pt x="15444" y="10964"/>
                  <a:pt x="15404" y="11038"/>
                </a:cubicBezTo>
                <a:cubicBezTo>
                  <a:pt x="15383" y="11077"/>
                  <a:pt x="15444" y="11147"/>
                  <a:pt x="15478" y="11162"/>
                </a:cubicBezTo>
                <a:cubicBezTo>
                  <a:pt x="15486" y="11162"/>
                  <a:pt x="15495" y="11162"/>
                  <a:pt x="15503" y="11162"/>
                </a:cubicBezTo>
                <a:cubicBezTo>
                  <a:pt x="15467" y="11138"/>
                  <a:pt x="15421" y="11115"/>
                  <a:pt x="15354" y="11112"/>
                </a:cubicBezTo>
                <a:cubicBezTo>
                  <a:pt x="15275" y="11109"/>
                  <a:pt x="15195" y="11103"/>
                  <a:pt x="15131" y="11137"/>
                </a:cubicBezTo>
                <a:cubicBezTo>
                  <a:pt x="15097" y="11155"/>
                  <a:pt x="15080" y="11171"/>
                  <a:pt x="15056" y="11187"/>
                </a:cubicBezTo>
                <a:cubicBezTo>
                  <a:pt x="15034" y="11201"/>
                  <a:pt x="14991" y="11223"/>
                  <a:pt x="14982" y="11237"/>
                </a:cubicBezTo>
                <a:cubicBezTo>
                  <a:pt x="14969" y="11257"/>
                  <a:pt x="14970" y="11321"/>
                  <a:pt x="14957" y="11336"/>
                </a:cubicBezTo>
                <a:cubicBezTo>
                  <a:pt x="14949" y="11336"/>
                  <a:pt x="14940" y="11336"/>
                  <a:pt x="14932" y="11336"/>
                </a:cubicBezTo>
                <a:cubicBezTo>
                  <a:pt x="14941" y="11274"/>
                  <a:pt x="14944" y="11295"/>
                  <a:pt x="14982" y="11261"/>
                </a:cubicBezTo>
                <a:cubicBezTo>
                  <a:pt x="15018" y="11229"/>
                  <a:pt x="15048" y="11216"/>
                  <a:pt x="15081" y="11187"/>
                </a:cubicBezTo>
                <a:cubicBezTo>
                  <a:pt x="15103" y="11167"/>
                  <a:pt x="15114" y="11164"/>
                  <a:pt x="15156" y="11162"/>
                </a:cubicBezTo>
                <a:cubicBezTo>
                  <a:pt x="15222" y="11158"/>
                  <a:pt x="15288" y="11162"/>
                  <a:pt x="15354" y="11162"/>
                </a:cubicBezTo>
                <a:cubicBezTo>
                  <a:pt x="15354" y="11468"/>
                  <a:pt x="15354" y="11774"/>
                  <a:pt x="15354" y="12080"/>
                </a:cubicBezTo>
                <a:cubicBezTo>
                  <a:pt x="15346" y="12027"/>
                  <a:pt x="15358" y="12006"/>
                  <a:pt x="15329" y="11981"/>
                </a:cubicBezTo>
                <a:cubicBezTo>
                  <a:pt x="15289" y="11947"/>
                  <a:pt x="15280" y="11951"/>
                  <a:pt x="15255" y="11931"/>
                </a:cubicBezTo>
              </a:path>
              <a:path w="1067" h="1068">
                <a:moveTo>
                  <a:pt x="14858" y="11509"/>
                </a:moveTo>
                <a:cubicBezTo>
                  <a:pt x="15180" y="11509"/>
                  <a:pt x="15503" y="11509"/>
                  <a:pt x="15825" y="11509"/>
                </a:cubicBezTo>
                <a:cubicBezTo>
                  <a:pt x="15750" y="11467"/>
                  <a:pt x="15765" y="11449"/>
                  <a:pt x="15726" y="11385"/>
                </a:cubicBezTo>
                <a:cubicBezTo>
                  <a:pt x="15706" y="11352"/>
                  <a:pt x="15676" y="11313"/>
                  <a:pt x="15652" y="11286"/>
                </a:cubicBezTo>
                <a:cubicBezTo>
                  <a:pt x="15616" y="11246"/>
                  <a:pt x="15614" y="11250"/>
                  <a:pt x="15577" y="11212"/>
                </a:cubicBezTo>
                <a:cubicBezTo>
                  <a:pt x="15569" y="11204"/>
                  <a:pt x="15561" y="11195"/>
                  <a:pt x="15553" y="11187"/>
                </a:cubicBezTo>
                <a:cubicBezTo>
                  <a:pt x="15599" y="11234"/>
                  <a:pt x="15625" y="11225"/>
                  <a:pt x="15677" y="11261"/>
                </a:cubicBezTo>
                <a:cubicBezTo>
                  <a:pt x="15705" y="11280"/>
                  <a:pt x="15719" y="11332"/>
                  <a:pt x="15726" y="11361"/>
                </a:cubicBezTo>
                <a:cubicBezTo>
                  <a:pt x="15748" y="11458"/>
                  <a:pt x="15759" y="11757"/>
                  <a:pt x="15701" y="11832"/>
                </a:cubicBezTo>
                <a:cubicBezTo>
                  <a:pt x="15674" y="11866"/>
                  <a:pt x="15671" y="11885"/>
                  <a:pt x="15652" y="11906"/>
                </a:cubicBezTo>
                <a:cubicBezTo>
                  <a:pt x="15623" y="11939"/>
                  <a:pt x="15598" y="11977"/>
                  <a:pt x="15577" y="12005"/>
                </a:cubicBezTo>
                <a:cubicBezTo>
                  <a:pt x="15556" y="12034"/>
                  <a:pt x="15510" y="12048"/>
                  <a:pt x="15478" y="12055"/>
                </a:cubicBezTo>
                <a:cubicBezTo>
                  <a:pt x="15431" y="12065"/>
                  <a:pt x="15392" y="12036"/>
                  <a:pt x="15379" y="12030"/>
                </a:cubicBezTo>
                <a:cubicBezTo>
                  <a:pt x="15330" y="12008"/>
                  <a:pt x="15297" y="12005"/>
                  <a:pt x="15255" y="11981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4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ถยนต์อื่นหรือรถยนต์โดยสารเกิน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0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468360" y="1125360"/>
            <a:ext cx="1727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ick 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rmal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2987640" y="198900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3419640" y="148428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5292720" y="1484280"/>
            <a:ext cx="431640" cy="432000"/>
          </a:xfrm>
          <a:prstGeom prst="flowChartSummingJunction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3132000" y="17715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3851280" y="177156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5651640" y="17715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3089160" y="1650960"/>
            <a:ext cx="285840" cy="115920"/>
          </a:xfrm>
          <a:custGeom>
            <a:avLst/>
            <a:gdLst/>
            <a:ahLst/>
            <a:rect l="l" t="t" r="r" b="b"/>
            <a:pathLst>
              <a:path w="795" h="323">
                <a:moveTo>
                  <a:pt x="8607" y="5011"/>
                </a:moveTo>
                <a:cubicBezTo>
                  <a:pt x="8607" y="5110"/>
                  <a:pt x="8607" y="5209"/>
                  <a:pt x="8607" y="5308"/>
                </a:cubicBezTo>
                <a:cubicBezTo>
                  <a:pt x="8632" y="5308"/>
                  <a:pt x="8640" y="5308"/>
                  <a:pt x="8657" y="5308"/>
                </a:cubicBezTo>
              </a:path>
              <a:path w="795" h="323">
                <a:moveTo>
                  <a:pt x="8607" y="5011"/>
                </a:moveTo>
                <a:lnTo>
                  <a:pt x="8607" y="5011"/>
                </a:lnTo>
              </a:path>
              <a:path w="795" h="323">
                <a:moveTo>
                  <a:pt x="8607" y="5011"/>
                </a:moveTo>
                <a:cubicBezTo>
                  <a:pt x="8607" y="5019"/>
                  <a:pt x="8607" y="5027"/>
                  <a:pt x="8607" y="5035"/>
                </a:cubicBezTo>
                <a:cubicBezTo>
                  <a:pt x="8569" y="5048"/>
                  <a:pt x="8582" y="5065"/>
                  <a:pt x="8582" y="5110"/>
                </a:cubicBezTo>
                <a:cubicBezTo>
                  <a:pt x="8582" y="5156"/>
                  <a:pt x="8559" y="5284"/>
                  <a:pt x="8607" y="5308"/>
                </a:cubicBezTo>
                <a:cubicBezTo>
                  <a:pt x="8615" y="5308"/>
                  <a:pt x="8624" y="5308"/>
                  <a:pt x="8632" y="5308"/>
                </a:cubicBezTo>
              </a:path>
              <a:path w="795" h="323">
                <a:moveTo>
                  <a:pt x="8632" y="4986"/>
                </a:moveTo>
                <a:cubicBezTo>
                  <a:pt x="8640" y="4986"/>
                  <a:pt x="8649" y="4986"/>
                  <a:pt x="8657" y="4986"/>
                </a:cubicBezTo>
                <a:cubicBezTo>
                  <a:pt x="8657" y="5052"/>
                  <a:pt x="8657" y="5118"/>
                  <a:pt x="8657" y="5184"/>
                </a:cubicBezTo>
                <a:cubicBezTo>
                  <a:pt x="8695" y="5197"/>
                  <a:pt x="8682" y="5214"/>
                  <a:pt x="8682" y="5259"/>
                </a:cubicBezTo>
                <a:cubicBezTo>
                  <a:pt x="8682" y="5283"/>
                  <a:pt x="8682" y="5292"/>
                  <a:pt x="8682" y="5308"/>
                </a:cubicBezTo>
              </a:path>
              <a:path w="795" h="323">
                <a:moveTo>
                  <a:pt x="8706" y="5060"/>
                </a:moveTo>
                <a:lnTo>
                  <a:pt x="8706" y="5060"/>
                </a:lnTo>
              </a:path>
              <a:path w="795" h="323">
                <a:moveTo>
                  <a:pt x="8582" y="5011"/>
                </a:moveTo>
                <a:cubicBezTo>
                  <a:pt x="8607" y="5011"/>
                  <a:pt x="8615" y="5011"/>
                  <a:pt x="8632" y="5011"/>
                </a:cubicBezTo>
                <a:cubicBezTo>
                  <a:pt x="8645" y="5047"/>
                  <a:pt x="8662" y="5035"/>
                  <a:pt x="8706" y="5035"/>
                </a:cubicBezTo>
                <a:cubicBezTo>
                  <a:pt x="8714" y="5035"/>
                  <a:pt x="8723" y="5035"/>
                  <a:pt x="8731" y="5035"/>
                </a:cubicBezTo>
                <a:cubicBezTo>
                  <a:pt x="8744" y="5073"/>
                  <a:pt x="8761" y="5060"/>
                  <a:pt x="8806" y="5060"/>
                </a:cubicBezTo>
                <a:cubicBezTo>
                  <a:pt x="8818" y="5098"/>
                  <a:pt x="8835" y="5085"/>
                  <a:pt x="8880" y="5085"/>
                </a:cubicBezTo>
                <a:cubicBezTo>
                  <a:pt x="8888" y="5085"/>
                  <a:pt x="8897" y="5085"/>
                  <a:pt x="8905" y="5085"/>
                </a:cubicBezTo>
                <a:cubicBezTo>
                  <a:pt x="8918" y="5123"/>
                  <a:pt x="8934" y="5110"/>
                  <a:pt x="8979" y="5110"/>
                </a:cubicBezTo>
                <a:cubicBezTo>
                  <a:pt x="8987" y="5110"/>
                  <a:pt x="8996" y="5110"/>
                  <a:pt x="9004" y="5110"/>
                </a:cubicBezTo>
              </a:path>
              <a:path w="795" h="323">
                <a:moveTo>
                  <a:pt x="8657" y="5011"/>
                </a:moveTo>
                <a:cubicBezTo>
                  <a:pt x="8690" y="5011"/>
                  <a:pt x="8723" y="5011"/>
                  <a:pt x="8756" y="5011"/>
                </a:cubicBezTo>
                <a:cubicBezTo>
                  <a:pt x="8769" y="5047"/>
                  <a:pt x="8786" y="5035"/>
                  <a:pt x="8830" y="5035"/>
                </a:cubicBezTo>
                <a:cubicBezTo>
                  <a:pt x="8887" y="5035"/>
                  <a:pt x="8908" y="5045"/>
                  <a:pt x="8954" y="5060"/>
                </a:cubicBezTo>
                <a:cubicBezTo>
                  <a:pt x="9000" y="5075"/>
                  <a:pt x="9013" y="5036"/>
                  <a:pt x="9029" y="5085"/>
                </a:cubicBezTo>
              </a:path>
              <a:path w="795" h="323">
                <a:moveTo>
                  <a:pt x="8657" y="4986"/>
                </a:moveTo>
                <a:cubicBezTo>
                  <a:pt x="8690" y="4986"/>
                  <a:pt x="8723" y="4986"/>
                  <a:pt x="8756" y="4986"/>
                </a:cubicBezTo>
                <a:cubicBezTo>
                  <a:pt x="8769" y="5024"/>
                  <a:pt x="8785" y="5011"/>
                  <a:pt x="8830" y="5011"/>
                </a:cubicBezTo>
                <a:cubicBezTo>
                  <a:pt x="8838" y="5011"/>
                  <a:pt x="8847" y="5011"/>
                  <a:pt x="8855" y="5011"/>
                </a:cubicBezTo>
                <a:cubicBezTo>
                  <a:pt x="8868" y="5047"/>
                  <a:pt x="8886" y="5035"/>
                  <a:pt x="8930" y="5035"/>
                </a:cubicBezTo>
                <a:cubicBezTo>
                  <a:pt x="8977" y="5035"/>
                  <a:pt x="9016" y="5020"/>
                  <a:pt x="9029" y="5060"/>
                </a:cubicBezTo>
              </a:path>
              <a:path w="795" h="323">
                <a:moveTo>
                  <a:pt x="8682" y="5011"/>
                </a:moveTo>
                <a:cubicBezTo>
                  <a:pt x="8706" y="5011"/>
                  <a:pt x="8715" y="5011"/>
                  <a:pt x="8731" y="5011"/>
                </a:cubicBezTo>
                <a:cubicBezTo>
                  <a:pt x="8744" y="5047"/>
                  <a:pt x="8762" y="5035"/>
                  <a:pt x="8806" y="5035"/>
                </a:cubicBezTo>
                <a:cubicBezTo>
                  <a:pt x="8851" y="5035"/>
                  <a:pt x="8865" y="5056"/>
                  <a:pt x="8905" y="5060"/>
                </a:cubicBezTo>
                <a:cubicBezTo>
                  <a:pt x="8952" y="5065"/>
                  <a:pt x="8964" y="5072"/>
                  <a:pt x="9004" y="5085"/>
                </a:cubicBezTo>
                <a:cubicBezTo>
                  <a:pt x="9041" y="5097"/>
                  <a:pt x="9060" y="5110"/>
                  <a:pt x="9103" y="5110"/>
                </a:cubicBezTo>
                <a:cubicBezTo>
                  <a:pt x="9144" y="5110"/>
                  <a:pt x="9186" y="5110"/>
                  <a:pt x="9227" y="5110"/>
                </a:cubicBezTo>
              </a:path>
              <a:path w="795" h="323">
                <a:moveTo>
                  <a:pt x="8756" y="5060"/>
                </a:moveTo>
                <a:cubicBezTo>
                  <a:pt x="8789" y="5060"/>
                  <a:pt x="8822" y="5060"/>
                  <a:pt x="8855" y="5060"/>
                </a:cubicBezTo>
                <a:cubicBezTo>
                  <a:pt x="8868" y="5022"/>
                  <a:pt x="8885" y="5035"/>
                  <a:pt x="8930" y="5035"/>
                </a:cubicBezTo>
                <a:cubicBezTo>
                  <a:pt x="8954" y="5035"/>
                  <a:pt x="8963" y="5035"/>
                  <a:pt x="8979" y="5035"/>
                </a:cubicBezTo>
              </a:path>
              <a:path w="795" h="323">
                <a:moveTo>
                  <a:pt x="8682" y="5011"/>
                </a:moveTo>
                <a:cubicBezTo>
                  <a:pt x="8814" y="5011"/>
                  <a:pt x="8947" y="5011"/>
                  <a:pt x="9079" y="5011"/>
                </a:cubicBezTo>
              </a:path>
              <a:path w="795" h="323">
                <a:moveTo>
                  <a:pt x="9153" y="4986"/>
                </a:moveTo>
                <a:cubicBezTo>
                  <a:pt x="9153" y="5085"/>
                  <a:pt x="9153" y="5184"/>
                  <a:pt x="9153" y="5283"/>
                </a:cubicBezTo>
              </a:path>
              <a:path w="795" h="323">
                <a:moveTo>
                  <a:pt x="9252" y="5035"/>
                </a:moveTo>
                <a:cubicBezTo>
                  <a:pt x="9260" y="5035"/>
                  <a:pt x="9269" y="5035"/>
                  <a:pt x="9277" y="5035"/>
                </a:cubicBezTo>
                <a:cubicBezTo>
                  <a:pt x="9277" y="5087"/>
                  <a:pt x="9277" y="5264"/>
                  <a:pt x="9277" y="5234"/>
                </a:cubicBezTo>
              </a:path>
              <a:path w="795" h="323">
                <a:moveTo>
                  <a:pt x="9302" y="5011"/>
                </a:moveTo>
                <a:lnTo>
                  <a:pt x="9302" y="5011"/>
                </a:lnTo>
              </a:path>
              <a:path w="795" h="323">
                <a:moveTo>
                  <a:pt x="9302" y="5234"/>
                </a:moveTo>
                <a:cubicBezTo>
                  <a:pt x="9329" y="5234"/>
                  <a:pt x="9346" y="5261"/>
                  <a:pt x="9376" y="5283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3143160" y="1498680"/>
            <a:ext cx="71640" cy="162000"/>
          </a:xfrm>
          <a:custGeom>
            <a:avLst/>
            <a:gdLst/>
            <a:ahLst/>
            <a:rect l="l" t="t" r="r" b="b"/>
            <a:pathLst>
              <a:path w="200" h="448">
                <a:moveTo>
                  <a:pt x="8756" y="4986"/>
                </a:moveTo>
                <a:lnTo>
                  <a:pt x="8756" y="4986"/>
                </a:lnTo>
              </a:path>
              <a:path w="200" h="448">
                <a:moveTo>
                  <a:pt x="8756" y="4986"/>
                </a:moveTo>
                <a:cubicBezTo>
                  <a:pt x="8756" y="4961"/>
                  <a:pt x="8756" y="4953"/>
                  <a:pt x="8756" y="4936"/>
                </a:cubicBezTo>
              </a:path>
              <a:path w="200" h="448">
                <a:moveTo>
                  <a:pt x="8731" y="4986"/>
                </a:moveTo>
                <a:cubicBezTo>
                  <a:pt x="8754" y="4955"/>
                  <a:pt x="8777" y="4925"/>
                  <a:pt x="8781" y="4887"/>
                </a:cubicBezTo>
                <a:cubicBezTo>
                  <a:pt x="8781" y="4879"/>
                  <a:pt x="8781" y="4870"/>
                  <a:pt x="8781" y="4862"/>
                </a:cubicBezTo>
              </a:path>
              <a:path w="200" h="448">
                <a:moveTo>
                  <a:pt x="8781" y="4961"/>
                </a:moveTo>
                <a:cubicBezTo>
                  <a:pt x="8781" y="4928"/>
                  <a:pt x="8781" y="4895"/>
                  <a:pt x="8781" y="4862"/>
                </a:cubicBezTo>
              </a:path>
              <a:path w="200" h="448">
                <a:moveTo>
                  <a:pt x="8731" y="4986"/>
                </a:moveTo>
                <a:cubicBezTo>
                  <a:pt x="8731" y="4978"/>
                  <a:pt x="8731" y="4969"/>
                  <a:pt x="8731" y="4961"/>
                </a:cubicBezTo>
                <a:cubicBezTo>
                  <a:pt x="8766" y="4949"/>
                  <a:pt x="8756" y="4954"/>
                  <a:pt x="8756" y="4911"/>
                </a:cubicBezTo>
                <a:cubicBezTo>
                  <a:pt x="8794" y="4899"/>
                  <a:pt x="8781" y="4882"/>
                  <a:pt x="8781" y="4837"/>
                </a:cubicBezTo>
                <a:cubicBezTo>
                  <a:pt x="8816" y="4825"/>
                  <a:pt x="8806" y="4830"/>
                  <a:pt x="8806" y="4787"/>
                </a:cubicBezTo>
              </a:path>
              <a:path w="200" h="448">
                <a:moveTo>
                  <a:pt x="8731" y="5011"/>
                </a:moveTo>
                <a:cubicBezTo>
                  <a:pt x="8731" y="4945"/>
                  <a:pt x="8731" y="4878"/>
                  <a:pt x="8731" y="4812"/>
                </a:cubicBezTo>
              </a:path>
              <a:path w="200" h="448">
                <a:moveTo>
                  <a:pt x="8756" y="4862"/>
                </a:moveTo>
                <a:cubicBezTo>
                  <a:pt x="8756" y="4835"/>
                  <a:pt x="8784" y="4817"/>
                  <a:pt x="8806" y="4787"/>
                </a:cubicBezTo>
              </a:path>
              <a:path w="200" h="448">
                <a:moveTo>
                  <a:pt x="8830" y="4713"/>
                </a:moveTo>
                <a:cubicBezTo>
                  <a:pt x="8830" y="4670"/>
                  <a:pt x="8820" y="4675"/>
                  <a:pt x="8855" y="4663"/>
                </a:cubicBezTo>
                <a:cubicBezTo>
                  <a:pt x="8854" y="4667"/>
                  <a:pt x="8834" y="4734"/>
                  <a:pt x="8830" y="4738"/>
                </a:cubicBezTo>
                <a:cubicBezTo>
                  <a:pt x="8820" y="4747"/>
                  <a:pt x="8785" y="4779"/>
                  <a:pt x="8781" y="4787"/>
                </a:cubicBezTo>
                <a:cubicBezTo>
                  <a:pt x="8764" y="4821"/>
                  <a:pt x="8781" y="4858"/>
                  <a:pt x="8781" y="4787"/>
                </a:cubicBezTo>
                <a:cubicBezTo>
                  <a:pt x="8781" y="4736"/>
                  <a:pt x="8796" y="4734"/>
                  <a:pt x="8806" y="4713"/>
                </a:cubicBezTo>
                <a:cubicBezTo>
                  <a:pt x="8817" y="4691"/>
                  <a:pt x="8827" y="4645"/>
                  <a:pt x="8830" y="4638"/>
                </a:cubicBezTo>
                <a:cubicBezTo>
                  <a:pt x="8843" y="4612"/>
                  <a:pt x="8846" y="4593"/>
                  <a:pt x="8880" y="4589"/>
                </a:cubicBezTo>
                <a:cubicBezTo>
                  <a:pt x="8923" y="4584"/>
                  <a:pt x="8890" y="4577"/>
                  <a:pt x="8930" y="45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3851280" y="170028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3402000" y="1925640"/>
            <a:ext cx="590400" cy="63360"/>
          </a:xfrm>
          <a:custGeom>
            <a:avLst/>
            <a:gdLst/>
            <a:ahLst/>
            <a:rect l="l" t="t" r="r" b="b"/>
            <a:pathLst>
              <a:path w="1638" h="175">
                <a:moveTo>
                  <a:pt x="10368" y="8756"/>
                </a:moveTo>
                <a:cubicBezTo>
                  <a:pt x="10331" y="8743"/>
                  <a:pt x="10347" y="8731"/>
                  <a:pt x="10294" y="8731"/>
                </a:cubicBezTo>
                <a:cubicBezTo>
                  <a:pt x="10267" y="8731"/>
                  <a:pt x="10088" y="8731"/>
                  <a:pt x="10145" y="8731"/>
                </a:cubicBezTo>
                <a:cubicBezTo>
                  <a:pt x="10162" y="8731"/>
                  <a:pt x="10326" y="8732"/>
                  <a:pt x="10294" y="8756"/>
                </a:cubicBezTo>
                <a:cubicBezTo>
                  <a:pt x="10285" y="8763"/>
                  <a:pt x="10155" y="8779"/>
                  <a:pt x="10145" y="8781"/>
                </a:cubicBezTo>
                <a:cubicBezTo>
                  <a:pt x="10103" y="8790"/>
                  <a:pt x="10058" y="8802"/>
                  <a:pt x="10021" y="8806"/>
                </a:cubicBezTo>
                <a:cubicBezTo>
                  <a:pt x="10013" y="8806"/>
                  <a:pt x="10004" y="8806"/>
                  <a:pt x="9996" y="8806"/>
                </a:cubicBezTo>
                <a:cubicBezTo>
                  <a:pt x="10065" y="8806"/>
                  <a:pt x="10125" y="8827"/>
                  <a:pt x="10195" y="8830"/>
                </a:cubicBezTo>
                <a:cubicBezTo>
                  <a:pt x="10272" y="8833"/>
                  <a:pt x="10339" y="8855"/>
                  <a:pt x="10418" y="8855"/>
                </a:cubicBezTo>
                <a:cubicBezTo>
                  <a:pt x="10443" y="8855"/>
                  <a:pt x="10451" y="8855"/>
                  <a:pt x="10443" y="8880"/>
                </a:cubicBezTo>
                <a:cubicBezTo>
                  <a:pt x="10294" y="8880"/>
                  <a:pt x="10145" y="8880"/>
                  <a:pt x="9996" y="8880"/>
                </a:cubicBezTo>
                <a:cubicBezTo>
                  <a:pt x="10178" y="8880"/>
                  <a:pt x="10674" y="8880"/>
                  <a:pt x="10492" y="8880"/>
                </a:cubicBezTo>
                <a:cubicBezTo>
                  <a:pt x="10484" y="8880"/>
                  <a:pt x="10476" y="8880"/>
                  <a:pt x="10468" y="8880"/>
                </a:cubicBezTo>
                <a:cubicBezTo>
                  <a:pt x="10344" y="8880"/>
                  <a:pt x="10220" y="8880"/>
                  <a:pt x="10096" y="8880"/>
                </a:cubicBezTo>
                <a:cubicBezTo>
                  <a:pt x="10112" y="8831"/>
                  <a:pt x="10142" y="8867"/>
                  <a:pt x="10195" y="8855"/>
                </a:cubicBezTo>
                <a:cubicBezTo>
                  <a:pt x="10276" y="8836"/>
                  <a:pt x="10365" y="8850"/>
                  <a:pt x="10443" y="8830"/>
                </a:cubicBezTo>
                <a:cubicBezTo>
                  <a:pt x="10459" y="8822"/>
                  <a:pt x="10476" y="8814"/>
                  <a:pt x="10492" y="8806"/>
                </a:cubicBezTo>
                <a:cubicBezTo>
                  <a:pt x="10559" y="8806"/>
                  <a:pt x="10454" y="8806"/>
                  <a:pt x="10443" y="8806"/>
                </a:cubicBezTo>
                <a:cubicBezTo>
                  <a:pt x="10238" y="8806"/>
                  <a:pt x="9863" y="8751"/>
                  <a:pt x="9699" y="8830"/>
                </a:cubicBezTo>
                <a:cubicBezTo>
                  <a:pt x="9692" y="8834"/>
                  <a:pt x="9579" y="8830"/>
                  <a:pt x="9649" y="8830"/>
                </a:cubicBezTo>
                <a:cubicBezTo>
                  <a:pt x="9657" y="8830"/>
                  <a:pt x="9666" y="8830"/>
                  <a:pt x="9674" y="8830"/>
                </a:cubicBezTo>
                <a:cubicBezTo>
                  <a:pt x="9814" y="8830"/>
                  <a:pt x="9972" y="8813"/>
                  <a:pt x="10096" y="8855"/>
                </a:cubicBezTo>
                <a:cubicBezTo>
                  <a:pt x="10140" y="8870"/>
                  <a:pt x="10213" y="8825"/>
                  <a:pt x="10220" y="8880"/>
                </a:cubicBezTo>
                <a:cubicBezTo>
                  <a:pt x="10220" y="8905"/>
                  <a:pt x="10220" y="8913"/>
                  <a:pt x="10244" y="8905"/>
                </a:cubicBezTo>
              </a:path>
              <a:path w="1638" h="175">
                <a:moveTo>
                  <a:pt x="10492" y="8830"/>
                </a:moveTo>
                <a:cubicBezTo>
                  <a:pt x="10636" y="8830"/>
                  <a:pt x="10777" y="8838"/>
                  <a:pt x="10914" y="8855"/>
                </a:cubicBezTo>
                <a:cubicBezTo>
                  <a:pt x="10997" y="8866"/>
                  <a:pt x="10983" y="8839"/>
                  <a:pt x="11038" y="8880"/>
                </a:cubicBezTo>
              </a:path>
              <a:path w="1638" h="175">
                <a:moveTo>
                  <a:pt x="10641" y="8806"/>
                </a:moveTo>
                <a:cubicBezTo>
                  <a:pt x="10761" y="8806"/>
                  <a:pt x="10882" y="8809"/>
                  <a:pt x="10988" y="8830"/>
                </a:cubicBezTo>
                <a:cubicBezTo>
                  <a:pt x="11016" y="8836"/>
                  <a:pt x="11058" y="8830"/>
                  <a:pt x="11088" y="8830"/>
                </a:cubicBezTo>
                <a:cubicBezTo>
                  <a:pt x="10951" y="8830"/>
                  <a:pt x="10739" y="8853"/>
                  <a:pt x="10641" y="8806"/>
                </a:cubicBezTo>
                <a:cubicBezTo>
                  <a:pt x="10616" y="8794"/>
                  <a:pt x="10569" y="8788"/>
                  <a:pt x="10542" y="8781"/>
                </a:cubicBezTo>
              </a:path>
              <a:path w="1638" h="175">
                <a:moveTo>
                  <a:pt x="9451" y="8880"/>
                </a:moveTo>
                <a:lnTo>
                  <a:pt x="9451" y="888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3483000" y="1444680"/>
            <a:ext cx="1687320" cy="357120"/>
          </a:xfrm>
          <a:custGeom>
            <a:avLst/>
            <a:gdLst/>
            <a:ahLst/>
            <a:rect l="l" t="t" r="r" b="b"/>
            <a:pathLst>
              <a:path w="4689" h="993">
                <a:moveTo>
                  <a:pt x="10815" y="5358"/>
                </a:moveTo>
                <a:cubicBezTo>
                  <a:pt x="11997" y="5358"/>
                  <a:pt x="13180" y="5358"/>
                  <a:pt x="14362" y="5358"/>
                </a:cubicBezTo>
              </a:path>
              <a:path w="4689" h="993">
                <a:moveTo>
                  <a:pt x="9674" y="4465"/>
                </a:moveTo>
                <a:cubicBezTo>
                  <a:pt x="9699" y="4465"/>
                  <a:pt x="9707" y="4465"/>
                  <a:pt x="9723" y="4465"/>
                </a:cubicBezTo>
                <a:cubicBezTo>
                  <a:pt x="9758" y="4413"/>
                  <a:pt x="9787" y="4465"/>
                  <a:pt x="9847" y="4440"/>
                </a:cubicBezTo>
                <a:cubicBezTo>
                  <a:pt x="9886" y="4423"/>
                  <a:pt x="9875" y="4415"/>
                  <a:pt x="9922" y="4415"/>
                </a:cubicBezTo>
              </a:path>
              <a:path w="4689" h="993">
                <a:moveTo>
                  <a:pt x="10567" y="4490"/>
                </a:moveTo>
                <a:cubicBezTo>
                  <a:pt x="10567" y="4498"/>
                  <a:pt x="10567" y="4506"/>
                  <a:pt x="10567" y="4514"/>
                </a:cubicBezTo>
              </a:path>
              <a:path w="4689" h="993">
                <a:moveTo>
                  <a:pt x="10740" y="4762"/>
                </a:moveTo>
                <a:cubicBezTo>
                  <a:pt x="10740" y="4787"/>
                  <a:pt x="10740" y="4795"/>
                  <a:pt x="10740" y="4812"/>
                </a:cubicBezTo>
                <a:cubicBezTo>
                  <a:pt x="10781" y="4812"/>
                  <a:pt x="10823" y="4812"/>
                  <a:pt x="10864" y="4812"/>
                </a:cubicBezTo>
              </a:path>
              <a:path w="4689" h="993">
                <a:moveTo>
                  <a:pt x="10864" y="4986"/>
                </a:moveTo>
                <a:cubicBezTo>
                  <a:pt x="10864" y="4994"/>
                  <a:pt x="10864" y="5003"/>
                  <a:pt x="10864" y="5011"/>
                </a:cubicBezTo>
              </a:path>
              <a:path w="4689" h="993">
                <a:moveTo>
                  <a:pt x="10889" y="5135"/>
                </a:moveTo>
                <a:lnTo>
                  <a:pt x="10889" y="5135"/>
                </a:lnTo>
              </a:path>
              <a:path w="4689" h="993">
                <a:moveTo>
                  <a:pt x="10914" y="5283"/>
                </a:moveTo>
                <a:cubicBezTo>
                  <a:pt x="10914" y="5291"/>
                  <a:pt x="10914" y="5300"/>
                  <a:pt x="10914" y="5308"/>
                </a:cubicBezTo>
              </a:path>
              <a:path w="4689" h="993">
                <a:moveTo>
                  <a:pt x="10740" y="4812"/>
                </a:moveTo>
                <a:cubicBezTo>
                  <a:pt x="10740" y="4853"/>
                  <a:pt x="10740" y="4895"/>
                  <a:pt x="10740" y="4936"/>
                </a:cubicBezTo>
                <a:cubicBezTo>
                  <a:pt x="10778" y="4949"/>
                  <a:pt x="10765" y="4966"/>
                  <a:pt x="10765" y="5011"/>
                </a:cubicBezTo>
                <a:cubicBezTo>
                  <a:pt x="10765" y="5047"/>
                  <a:pt x="10772" y="5084"/>
                  <a:pt x="10790" y="5110"/>
                </a:cubicBezTo>
                <a:cubicBezTo>
                  <a:pt x="10813" y="5133"/>
                  <a:pt x="10817" y="5141"/>
                  <a:pt x="10840" y="5135"/>
                </a:cubicBezTo>
                <a:cubicBezTo>
                  <a:pt x="10840" y="5184"/>
                  <a:pt x="10851" y="5194"/>
                  <a:pt x="10864" y="5234"/>
                </a:cubicBezTo>
                <a:cubicBezTo>
                  <a:pt x="10881" y="5286"/>
                  <a:pt x="10848" y="5312"/>
                  <a:pt x="10889" y="5358"/>
                </a:cubicBezTo>
                <a:cubicBezTo>
                  <a:pt x="10911" y="5380"/>
                  <a:pt x="10920" y="5385"/>
                  <a:pt x="10914" y="540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3160800" y="1784520"/>
            <a:ext cx="196920" cy="1440"/>
          </a:xfrm>
          <a:custGeom>
            <a:avLst/>
            <a:gdLst/>
            <a:ahLst/>
            <a:rect l="l" t="t" r="r" b="b"/>
            <a:pathLst>
              <a:path w="547" h="1">
                <a:moveTo>
                  <a:pt x="8781" y="5358"/>
                </a:moveTo>
                <a:cubicBezTo>
                  <a:pt x="8963" y="5358"/>
                  <a:pt x="9145" y="5358"/>
                  <a:pt x="9327" y="535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5322960" y="1463760"/>
            <a:ext cx="7920" cy="7920"/>
          </a:xfrm>
          <a:custGeom>
            <a:avLst/>
            <a:gdLst/>
            <a:ahLst/>
            <a:rect l="l" t="t" r="r" b="b"/>
            <a:pathLst>
              <a:path w="25" h="26">
                <a:moveTo>
                  <a:pt x="14784" y="4490"/>
                </a:moveTo>
                <a:cubicBezTo>
                  <a:pt x="14792" y="4482"/>
                  <a:pt x="14800" y="4473"/>
                  <a:pt x="14808" y="4465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4027320" y="1658880"/>
            <a:ext cx="44640" cy="4608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11187" y="5135"/>
                </a:moveTo>
                <a:cubicBezTo>
                  <a:pt x="11187" y="5110"/>
                  <a:pt x="11187" y="5102"/>
                  <a:pt x="11187" y="5085"/>
                </a:cubicBezTo>
              </a:path>
              <a:path w="125" h="125">
                <a:moveTo>
                  <a:pt x="11286" y="5011"/>
                </a:moveTo>
                <a:cubicBezTo>
                  <a:pt x="11294" y="5011"/>
                  <a:pt x="11303" y="5011"/>
                  <a:pt x="11311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4759200" y="1676520"/>
            <a:ext cx="19080" cy="9360"/>
          </a:xfrm>
          <a:custGeom>
            <a:avLst/>
            <a:gdLst/>
            <a:ahLst/>
            <a:rect l="l" t="t" r="r" b="b"/>
            <a:pathLst>
              <a:path w="51" h="26">
                <a:moveTo>
                  <a:pt x="13221" y="5060"/>
                </a:moveTo>
                <a:cubicBezTo>
                  <a:pt x="13221" y="5093"/>
                  <a:pt x="13229" y="5102"/>
                  <a:pt x="13271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4902120" y="1695600"/>
            <a:ext cx="142920" cy="61920"/>
          </a:xfrm>
          <a:custGeom>
            <a:avLst/>
            <a:gdLst/>
            <a:ahLst/>
            <a:rect l="l" t="t" r="r" b="b"/>
            <a:pathLst>
              <a:path w="398" h="174">
                <a:moveTo>
                  <a:pt x="13618" y="5283"/>
                </a:moveTo>
                <a:cubicBezTo>
                  <a:pt x="13634" y="5283"/>
                  <a:pt x="13651" y="5283"/>
                  <a:pt x="13667" y="5283"/>
                </a:cubicBezTo>
              </a:path>
              <a:path w="398" h="174">
                <a:moveTo>
                  <a:pt x="13816" y="5283"/>
                </a:moveTo>
                <a:cubicBezTo>
                  <a:pt x="13841" y="5283"/>
                  <a:pt x="13849" y="5283"/>
                  <a:pt x="13841" y="5259"/>
                </a:cubicBezTo>
              </a:path>
              <a:path w="398" h="174">
                <a:moveTo>
                  <a:pt x="14015" y="5110"/>
                </a:moveTo>
                <a:lnTo>
                  <a:pt x="14015" y="511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5133960" y="1685880"/>
            <a:ext cx="27000" cy="19080"/>
          </a:xfrm>
          <a:custGeom>
            <a:avLst/>
            <a:gdLst/>
            <a:ahLst/>
            <a:rect l="l" t="t" r="r" b="b"/>
            <a:pathLst>
              <a:path w="75" h="51">
                <a:moveTo>
                  <a:pt x="14263" y="5135"/>
                </a:moveTo>
                <a:lnTo>
                  <a:pt x="14263" y="5135"/>
                </a:lnTo>
              </a:path>
              <a:path w="75" h="51">
                <a:moveTo>
                  <a:pt x="14288" y="5135"/>
                </a:moveTo>
                <a:cubicBezTo>
                  <a:pt x="14318" y="5135"/>
                  <a:pt x="14316" y="5113"/>
                  <a:pt x="14337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5072040" y="1606680"/>
            <a:ext cx="81000" cy="61920"/>
          </a:xfrm>
          <a:custGeom>
            <a:avLst/>
            <a:gdLst/>
            <a:ahLst/>
            <a:rect l="l" t="t" r="r" b="b"/>
            <a:pathLst>
              <a:path w="224" h="174">
                <a:moveTo>
                  <a:pt x="14288" y="4961"/>
                </a:moveTo>
                <a:lnTo>
                  <a:pt x="14288" y="4961"/>
                </a:lnTo>
              </a:path>
              <a:path w="224" h="174">
                <a:moveTo>
                  <a:pt x="14163" y="4936"/>
                </a:moveTo>
                <a:cubicBezTo>
                  <a:pt x="14163" y="4961"/>
                  <a:pt x="14163" y="4969"/>
                  <a:pt x="14163" y="4986"/>
                </a:cubicBezTo>
              </a:path>
              <a:path w="224" h="174">
                <a:moveTo>
                  <a:pt x="14089" y="5035"/>
                </a:moveTo>
                <a:cubicBezTo>
                  <a:pt x="14097" y="5035"/>
                  <a:pt x="14106" y="5035"/>
                  <a:pt x="14114" y="5035"/>
                </a:cubicBezTo>
              </a:path>
              <a:path w="224" h="174">
                <a:moveTo>
                  <a:pt x="14163" y="5035"/>
                </a:moveTo>
                <a:cubicBezTo>
                  <a:pt x="14163" y="4977"/>
                  <a:pt x="14150" y="4997"/>
                  <a:pt x="14213" y="4986"/>
                </a:cubicBezTo>
              </a:path>
              <a:path w="224" h="174">
                <a:moveTo>
                  <a:pt x="14288" y="4887"/>
                </a:moveTo>
                <a:cubicBezTo>
                  <a:pt x="14288" y="4862"/>
                  <a:pt x="14288" y="4854"/>
                  <a:pt x="14312" y="48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5268960" y="1498680"/>
            <a:ext cx="81000" cy="19080"/>
          </a:xfrm>
          <a:custGeom>
            <a:avLst/>
            <a:gdLst/>
            <a:ahLst/>
            <a:rect l="l" t="t" r="r" b="b"/>
            <a:pathLst>
              <a:path w="224" h="51">
                <a:moveTo>
                  <a:pt x="14635" y="4614"/>
                </a:moveTo>
                <a:cubicBezTo>
                  <a:pt x="14651" y="4614"/>
                  <a:pt x="14668" y="4614"/>
                  <a:pt x="14684" y="4614"/>
                </a:cubicBezTo>
              </a:path>
              <a:path w="224" h="51">
                <a:moveTo>
                  <a:pt x="14833" y="4564"/>
                </a:moveTo>
                <a:cubicBezTo>
                  <a:pt x="14841" y="4564"/>
                  <a:pt x="14850" y="4564"/>
                  <a:pt x="14858" y="456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5214960" y="1494000"/>
            <a:ext cx="642960" cy="490320"/>
          </a:xfrm>
          <a:custGeom>
            <a:avLst/>
            <a:gdLst/>
            <a:ahLst/>
            <a:rect l="l" t="t" r="r" b="b"/>
            <a:pathLst>
              <a:path w="1787" h="1365">
                <a:moveTo>
                  <a:pt x="15751" y="5383"/>
                </a:moveTo>
                <a:cubicBezTo>
                  <a:pt x="15713" y="5410"/>
                  <a:pt x="15699" y="5407"/>
                  <a:pt x="15652" y="5407"/>
                </a:cubicBezTo>
                <a:cubicBezTo>
                  <a:pt x="15543" y="5407"/>
                  <a:pt x="15455" y="5407"/>
                  <a:pt x="15354" y="5432"/>
                </a:cubicBezTo>
                <a:cubicBezTo>
                  <a:pt x="15346" y="5432"/>
                  <a:pt x="15337" y="5432"/>
                  <a:pt x="15329" y="5432"/>
                </a:cubicBezTo>
                <a:cubicBezTo>
                  <a:pt x="15393" y="5394"/>
                  <a:pt x="15455" y="5404"/>
                  <a:pt x="15528" y="5383"/>
                </a:cubicBezTo>
                <a:cubicBezTo>
                  <a:pt x="15569" y="5371"/>
                  <a:pt x="15596" y="5356"/>
                  <a:pt x="15627" y="5333"/>
                </a:cubicBezTo>
                <a:cubicBezTo>
                  <a:pt x="15462" y="5333"/>
                  <a:pt x="14999" y="5361"/>
                  <a:pt x="15156" y="5308"/>
                </a:cubicBezTo>
                <a:cubicBezTo>
                  <a:pt x="15199" y="5293"/>
                  <a:pt x="15261" y="5289"/>
                  <a:pt x="15304" y="5283"/>
                </a:cubicBezTo>
                <a:cubicBezTo>
                  <a:pt x="15220" y="5283"/>
                  <a:pt x="15203" y="5295"/>
                  <a:pt x="15131" y="5333"/>
                </a:cubicBezTo>
                <a:cubicBezTo>
                  <a:pt x="15079" y="5361"/>
                  <a:pt x="15072" y="5389"/>
                  <a:pt x="15056" y="5358"/>
                </a:cubicBezTo>
                <a:cubicBezTo>
                  <a:pt x="15255" y="5358"/>
                  <a:pt x="15453" y="5358"/>
                  <a:pt x="15652" y="5358"/>
                </a:cubicBezTo>
                <a:cubicBezTo>
                  <a:pt x="15571" y="5368"/>
                  <a:pt x="15532" y="5408"/>
                  <a:pt x="15453" y="5432"/>
                </a:cubicBezTo>
                <a:cubicBezTo>
                  <a:pt x="15344" y="5465"/>
                  <a:pt x="15229" y="5480"/>
                  <a:pt x="15131" y="5531"/>
                </a:cubicBezTo>
                <a:cubicBezTo>
                  <a:pt x="15114" y="5539"/>
                  <a:pt x="15098" y="5548"/>
                  <a:pt x="15081" y="5556"/>
                </a:cubicBezTo>
                <a:cubicBezTo>
                  <a:pt x="15147" y="5523"/>
                  <a:pt x="15228" y="5526"/>
                  <a:pt x="15304" y="5507"/>
                </a:cubicBezTo>
                <a:cubicBezTo>
                  <a:pt x="15362" y="5488"/>
                  <a:pt x="15369" y="5479"/>
                  <a:pt x="15404" y="5482"/>
                </a:cubicBezTo>
                <a:cubicBezTo>
                  <a:pt x="15239" y="5482"/>
                  <a:pt x="15073" y="5482"/>
                  <a:pt x="14908" y="5482"/>
                </a:cubicBezTo>
                <a:cubicBezTo>
                  <a:pt x="14980" y="5467"/>
                  <a:pt x="15057" y="5454"/>
                  <a:pt x="15131" y="5432"/>
                </a:cubicBezTo>
                <a:cubicBezTo>
                  <a:pt x="15237" y="5401"/>
                  <a:pt x="15353" y="5376"/>
                  <a:pt x="15453" y="5333"/>
                </a:cubicBezTo>
                <a:cubicBezTo>
                  <a:pt x="15197" y="5333"/>
                  <a:pt x="14940" y="5333"/>
                  <a:pt x="14684" y="5333"/>
                </a:cubicBezTo>
                <a:cubicBezTo>
                  <a:pt x="14622" y="5333"/>
                  <a:pt x="14781" y="5333"/>
                  <a:pt x="14808" y="5333"/>
                </a:cubicBezTo>
                <a:cubicBezTo>
                  <a:pt x="14813" y="5333"/>
                  <a:pt x="15070" y="5321"/>
                  <a:pt x="14982" y="5308"/>
                </a:cubicBezTo>
                <a:cubicBezTo>
                  <a:pt x="14974" y="5308"/>
                  <a:pt x="14965" y="5308"/>
                  <a:pt x="14957" y="5308"/>
                </a:cubicBezTo>
              </a:path>
              <a:path w="1787" h="1365">
                <a:moveTo>
                  <a:pt x="16148" y="5011"/>
                </a:moveTo>
                <a:cubicBezTo>
                  <a:pt x="16148" y="4960"/>
                  <a:pt x="16159" y="4952"/>
                  <a:pt x="16173" y="4911"/>
                </a:cubicBezTo>
                <a:cubicBezTo>
                  <a:pt x="16186" y="4872"/>
                  <a:pt x="16173" y="4802"/>
                  <a:pt x="16173" y="4762"/>
                </a:cubicBezTo>
              </a:path>
              <a:path w="1787" h="1365">
                <a:moveTo>
                  <a:pt x="14486" y="4862"/>
                </a:moveTo>
                <a:cubicBezTo>
                  <a:pt x="14486" y="4738"/>
                  <a:pt x="14486" y="4614"/>
                  <a:pt x="14486" y="4490"/>
                </a:cubicBezTo>
              </a:path>
              <a:path w="1787" h="1365">
                <a:moveTo>
                  <a:pt x="15354" y="4192"/>
                </a:moveTo>
                <a:cubicBezTo>
                  <a:pt x="15354" y="4572"/>
                  <a:pt x="15354" y="4953"/>
                  <a:pt x="15354" y="5333"/>
                </a:cubicBezTo>
              </a:path>
              <a:path w="1787" h="1365">
                <a:moveTo>
                  <a:pt x="14759" y="4713"/>
                </a:moveTo>
                <a:cubicBezTo>
                  <a:pt x="14827" y="4758"/>
                  <a:pt x="14876" y="4762"/>
                  <a:pt x="14957" y="4762"/>
                </a:cubicBezTo>
                <a:cubicBezTo>
                  <a:pt x="15263" y="4762"/>
                  <a:pt x="15569" y="4762"/>
                  <a:pt x="15875" y="4762"/>
                </a:cubicBezTo>
              </a:path>
              <a:path w="1787" h="1365">
                <a:moveTo>
                  <a:pt x="15131" y="4266"/>
                </a:moveTo>
                <a:cubicBezTo>
                  <a:pt x="15131" y="4385"/>
                  <a:pt x="15121" y="4510"/>
                  <a:pt x="15156" y="4614"/>
                </a:cubicBezTo>
                <a:cubicBezTo>
                  <a:pt x="15171" y="4659"/>
                  <a:pt x="15144" y="4672"/>
                  <a:pt x="15180" y="4713"/>
                </a:cubicBezTo>
                <a:cubicBezTo>
                  <a:pt x="15202" y="4735"/>
                  <a:pt x="15211" y="4740"/>
                  <a:pt x="15205" y="4762"/>
                </a:cubicBezTo>
                <a:cubicBezTo>
                  <a:pt x="15246" y="4772"/>
                  <a:pt x="15275" y="4791"/>
                  <a:pt x="15280" y="4837"/>
                </a:cubicBezTo>
                <a:cubicBezTo>
                  <a:pt x="15290" y="4924"/>
                  <a:pt x="15277" y="5012"/>
                  <a:pt x="15255" y="5085"/>
                </a:cubicBezTo>
                <a:cubicBezTo>
                  <a:pt x="15245" y="5117"/>
                  <a:pt x="15233" y="5153"/>
                  <a:pt x="15230" y="5184"/>
                </a:cubicBezTo>
                <a:cubicBezTo>
                  <a:pt x="15227" y="5208"/>
                  <a:pt x="15230" y="5352"/>
                  <a:pt x="15230" y="5234"/>
                </a:cubicBezTo>
              </a:path>
              <a:path w="1787" h="1365">
                <a:moveTo>
                  <a:pt x="14759" y="4539"/>
                </a:moveTo>
                <a:cubicBezTo>
                  <a:pt x="14772" y="4591"/>
                  <a:pt x="14795" y="4581"/>
                  <a:pt x="14833" y="4614"/>
                </a:cubicBezTo>
                <a:cubicBezTo>
                  <a:pt x="14871" y="4647"/>
                  <a:pt x="14922" y="4622"/>
                  <a:pt x="14957" y="4663"/>
                </a:cubicBezTo>
                <a:cubicBezTo>
                  <a:pt x="14957" y="4671"/>
                  <a:pt x="14957" y="4680"/>
                  <a:pt x="14957" y="4688"/>
                </a:cubicBezTo>
                <a:cubicBezTo>
                  <a:pt x="15035" y="4688"/>
                  <a:pt x="15084" y="4700"/>
                  <a:pt x="15156" y="4713"/>
                </a:cubicBezTo>
                <a:cubicBezTo>
                  <a:pt x="15234" y="4727"/>
                  <a:pt x="15315" y="4709"/>
                  <a:pt x="15379" y="4688"/>
                </a:cubicBezTo>
                <a:cubicBezTo>
                  <a:pt x="15413" y="4677"/>
                  <a:pt x="15449" y="4683"/>
                  <a:pt x="15478" y="4663"/>
                </a:cubicBezTo>
                <a:cubicBezTo>
                  <a:pt x="15512" y="4640"/>
                  <a:pt x="15561" y="4618"/>
                  <a:pt x="15602" y="4614"/>
                </a:cubicBezTo>
                <a:cubicBezTo>
                  <a:pt x="15656" y="4608"/>
                  <a:pt x="15680" y="4604"/>
                  <a:pt x="15726" y="4589"/>
                </a:cubicBezTo>
                <a:cubicBezTo>
                  <a:pt x="15734" y="4589"/>
                  <a:pt x="15743" y="4589"/>
                  <a:pt x="15751" y="4589"/>
                </a:cubicBezTo>
              </a:path>
              <a:path w="1787" h="1365">
                <a:moveTo>
                  <a:pt x="15304" y="4217"/>
                </a:moveTo>
                <a:cubicBezTo>
                  <a:pt x="15267" y="4239"/>
                  <a:pt x="15217" y="4247"/>
                  <a:pt x="15180" y="4266"/>
                </a:cubicBezTo>
                <a:cubicBezTo>
                  <a:pt x="15150" y="4281"/>
                  <a:pt x="15105" y="4319"/>
                  <a:pt x="15081" y="4341"/>
                </a:cubicBezTo>
                <a:cubicBezTo>
                  <a:pt x="15061" y="4359"/>
                  <a:pt x="15041" y="4363"/>
                  <a:pt x="15007" y="4390"/>
                </a:cubicBezTo>
                <a:cubicBezTo>
                  <a:pt x="14994" y="4401"/>
                  <a:pt x="14957" y="4439"/>
                  <a:pt x="14932" y="4465"/>
                </a:cubicBezTo>
                <a:cubicBezTo>
                  <a:pt x="14909" y="4489"/>
                  <a:pt x="14925" y="4504"/>
                  <a:pt x="14908" y="4539"/>
                </a:cubicBezTo>
                <a:cubicBezTo>
                  <a:pt x="14891" y="4573"/>
                  <a:pt x="14898" y="4606"/>
                  <a:pt x="14883" y="4638"/>
                </a:cubicBezTo>
                <a:cubicBezTo>
                  <a:pt x="14863" y="4681"/>
                  <a:pt x="14861" y="4687"/>
                  <a:pt x="14858" y="4738"/>
                </a:cubicBezTo>
                <a:cubicBezTo>
                  <a:pt x="14853" y="4825"/>
                  <a:pt x="14831" y="4995"/>
                  <a:pt x="14883" y="5060"/>
                </a:cubicBezTo>
                <a:cubicBezTo>
                  <a:pt x="14910" y="5094"/>
                  <a:pt x="14913" y="5114"/>
                  <a:pt x="14932" y="5135"/>
                </a:cubicBezTo>
                <a:cubicBezTo>
                  <a:pt x="14963" y="5170"/>
                  <a:pt x="15011" y="5181"/>
                  <a:pt x="15056" y="5184"/>
                </a:cubicBezTo>
                <a:cubicBezTo>
                  <a:pt x="15190" y="5192"/>
                  <a:pt x="15412" y="5206"/>
                  <a:pt x="15503" y="5159"/>
                </a:cubicBezTo>
                <a:cubicBezTo>
                  <a:pt x="15536" y="5142"/>
                  <a:pt x="15568" y="5130"/>
                  <a:pt x="15602" y="5110"/>
                </a:cubicBezTo>
                <a:cubicBezTo>
                  <a:pt x="15632" y="5092"/>
                  <a:pt x="15669" y="5080"/>
                  <a:pt x="15701" y="5060"/>
                </a:cubicBezTo>
                <a:cubicBezTo>
                  <a:pt x="15745" y="5034"/>
                  <a:pt x="15748" y="5045"/>
                  <a:pt x="15751" y="4986"/>
                </a:cubicBezTo>
                <a:cubicBezTo>
                  <a:pt x="15759" y="4854"/>
                  <a:pt x="15745" y="4682"/>
                  <a:pt x="15726" y="4589"/>
                </a:cubicBezTo>
                <a:cubicBezTo>
                  <a:pt x="15719" y="4556"/>
                  <a:pt x="15708" y="4547"/>
                  <a:pt x="15701" y="4514"/>
                </a:cubicBezTo>
                <a:cubicBezTo>
                  <a:pt x="15692" y="4470"/>
                  <a:pt x="15688" y="4460"/>
                  <a:pt x="15677" y="4440"/>
                </a:cubicBezTo>
                <a:cubicBezTo>
                  <a:pt x="15653" y="4395"/>
                  <a:pt x="15639" y="4393"/>
                  <a:pt x="15602" y="4366"/>
                </a:cubicBezTo>
                <a:cubicBezTo>
                  <a:pt x="15592" y="4359"/>
                  <a:pt x="15563" y="4326"/>
                  <a:pt x="15553" y="4316"/>
                </a:cubicBezTo>
                <a:cubicBezTo>
                  <a:pt x="15521" y="4283"/>
                  <a:pt x="15482" y="4264"/>
                  <a:pt x="15453" y="4242"/>
                </a:cubicBezTo>
                <a:cubicBezTo>
                  <a:pt x="15414" y="4212"/>
                  <a:pt x="15403" y="4220"/>
                  <a:pt x="15354" y="4217"/>
                </a:cubicBezTo>
                <a:cubicBezTo>
                  <a:pt x="15229" y="4210"/>
                  <a:pt x="15068" y="4225"/>
                  <a:pt x="14982" y="4242"/>
                </a:cubicBezTo>
                <a:cubicBezTo>
                  <a:pt x="14906" y="4257"/>
                  <a:pt x="14971" y="4255"/>
                  <a:pt x="14932" y="4291"/>
                </a:cubicBezTo>
                <a:cubicBezTo>
                  <a:pt x="14920" y="4302"/>
                  <a:pt x="14860" y="4333"/>
                  <a:pt x="14858" y="4341"/>
                </a:cubicBezTo>
                <a:cubicBezTo>
                  <a:pt x="14850" y="4367"/>
                  <a:pt x="14837" y="4420"/>
                  <a:pt x="14833" y="4440"/>
                </a:cubicBezTo>
                <a:cubicBezTo>
                  <a:pt x="14808" y="4564"/>
                  <a:pt x="14786" y="4970"/>
                  <a:pt x="14858" y="5060"/>
                </a:cubicBezTo>
                <a:cubicBezTo>
                  <a:pt x="14901" y="5113"/>
                  <a:pt x="14884" y="5082"/>
                  <a:pt x="14932" y="5110"/>
                </a:cubicBezTo>
                <a:cubicBezTo>
                  <a:pt x="14962" y="5128"/>
                  <a:pt x="15010" y="5163"/>
                  <a:pt x="15032" y="5159"/>
                </a:cubicBezTo>
                <a:cubicBezTo>
                  <a:pt x="15056" y="5159"/>
                  <a:pt x="15064" y="5159"/>
                  <a:pt x="15056" y="5135"/>
                </a:cubicBezTo>
                <a:cubicBezTo>
                  <a:pt x="15038" y="5072"/>
                  <a:pt x="15036" y="5087"/>
                  <a:pt x="14982" y="5035"/>
                </a:cubicBezTo>
                <a:cubicBezTo>
                  <a:pt x="14966" y="5020"/>
                  <a:pt x="14950" y="4985"/>
                  <a:pt x="14932" y="4961"/>
                </a:cubicBezTo>
                <a:cubicBezTo>
                  <a:pt x="14924" y="4950"/>
                  <a:pt x="14870" y="4925"/>
                  <a:pt x="14858" y="4911"/>
                </a:cubicBezTo>
                <a:cubicBezTo>
                  <a:pt x="14844" y="4895"/>
                  <a:pt x="14830" y="4859"/>
                  <a:pt x="14808" y="4837"/>
                </a:cubicBezTo>
                <a:cubicBezTo>
                  <a:pt x="14826" y="4899"/>
                  <a:pt x="14810" y="4863"/>
                  <a:pt x="14858" y="4911"/>
                </a:cubicBezTo>
                <a:cubicBezTo>
                  <a:pt x="14869" y="4921"/>
                  <a:pt x="14911" y="4998"/>
                  <a:pt x="14932" y="5011"/>
                </a:cubicBezTo>
                <a:cubicBezTo>
                  <a:pt x="14969" y="5034"/>
                  <a:pt x="15020" y="5030"/>
                  <a:pt x="15056" y="5060"/>
                </a:cubicBezTo>
                <a:cubicBezTo>
                  <a:pt x="15072" y="5074"/>
                  <a:pt x="15153" y="5134"/>
                  <a:pt x="15156" y="5135"/>
                </a:cubicBezTo>
                <a:cubicBezTo>
                  <a:pt x="15275" y="5183"/>
                  <a:pt x="15542" y="5132"/>
                  <a:pt x="15652" y="5110"/>
                </a:cubicBezTo>
                <a:cubicBezTo>
                  <a:pt x="15705" y="5099"/>
                  <a:pt x="15698" y="5108"/>
                  <a:pt x="15726" y="5085"/>
                </a:cubicBezTo>
                <a:cubicBezTo>
                  <a:pt x="15779" y="5042"/>
                  <a:pt x="15748" y="5059"/>
                  <a:pt x="15776" y="5011"/>
                </a:cubicBezTo>
                <a:cubicBezTo>
                  <a:pt x="15809" y="4955"/>
                  <a:pt x="15817" y="5006"/>
                  <a:pt x="15825" y="4936"/>
                </a:cubicBezTo>
                <a:cubicBezTo>
                  <a:pt x="15835" y="4854"/>
                  <a:pt x="15849" y="4675"/>
                  <a:pt x="15801" y="4614"/>
                </a:cubicBezTo>
                <a:cubicBezTo>
                  <a:pt x="15778" y="4585"/>
                  <a:pt x="15761" y="4575"/>
                  <a:pt x="15751" y="4539"/>
                </a:cubicBezTo>
                <a:cubicBezTo>
                  <a:pt x="15735" y="4481"/>
                  <a:pt x="15739" y="4500"/>
                  <a:pt x="15701" y="4465"/>
                </a:cubicBezTo>
                <a:cubicBezTo>
                  <a:pt x="15665" y="4431"/>
                  <a:pt x="15663" y="4425"/>
                  <a:pt x="15627" y="4390"/>
                </a:cubicBezTo>
                <a:cubicBezTo>
                  <a:pt x="15595" y="4359"/>
                  <a:pt x="15579" y="4357"/>
                  <a:pt x="15553" y="4341"/>
                </a:cubicBezTo>
                <a:cubicBezTo>
                  <a:pt x="15520" y="4321"/>
                  <a:pt x="15485" y="4320"/>
                  <a:pt x="15453" y="4291"/>
                </a:cubicBezTo>
                <a:cubicBezTo>
                  <a:pt x="15401" y="4243"/>
                  <a:pt x="15356" y="4243"/>
                  <a:pt x="15304" y="4217"/>
                </a:cubicBezTo>
                <a:cubicBezTo>
                  <a:pt x="15282" y="4206"/>
                  <a:pt x="15281" y="4195"/>
                  <a:pt x="15230" y="4192"/>
                </a:cubicBezTo>
                <a:cubicBezTo>
                  <a:pt x="15158" y="4188"/>
                  <a:pt x="15090" y="4186"/>
                  <a:pt x="15032" y="4217"/>
                </a:cubicBezTo>
                <a:cubicBezTo>
                  <a:pt x="14995" y="4237"/>
                  <a:pt x="14967" y="4256"/>
                  <a:pt x="14932" y="4291"/>
                </a:cubicBezTo>
                <a:cubicBezTo>
                  <a:pt x="14904" y="4319"/>
                  <a:pt x="14919" y="4407"/>
                  <a:pt x="14883" y="4390"/>
                </a:cubicBezTo>
                <a:cubicBezTo>
                  <a:pt x="14879" y="4388"/>
                  <a:pt x="14883" y="4322"/>
                  <a:pt x="14883" y="4316"/>
                </a:cubicBezTo>
              </a:path>
              <a:path w="1787" h="1365">
                <a:moveTo>
                  <a:pt x="16272" y="4589"/>
                </a:moveTo>
                <a:cubicBezTo>
                  <a:pt x="16272" y="4647"/>
                  <a:pt x="16272" y="4704"/>
                  <a:pt x="16272" y="47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3402000" y="1495440"/>
            <a:ext cx="438120" cy="420840"/>
          </a:xfrm>
          <a:custGeom>
            <a:avLst/>
            <a:gdLst/>
            <a:ahLst/>
            <a:rect l="l" t="t" r="r" b="b"/>
            <a:pathLst>
              <a:path w="1216" h="1167">
                <a:moveTo>
                  <a:pt x="10071" y="4316"/>
                </a:moveTo>
                <a:cubicBezTo>
                  <a:pt x="10066" y="4354"/>
                  <a:pt x="10065" y="4385"/>
                  <a:pt x="10046" y="4415"/>
                </a:cubicBezTo>
                <a:cubicBezTo>
                  <a:pt x="10027" y="4445"/>
                  <a:pt x="10024" y="4442"/>
                  <a:pt x="10021" y="4490"/>
                </a:cubicBezTo>
                <a:cubicBezTo>
                  <a:pt x="10006" y="4744"/>
                  <a:pt x="10021" y="5004"/>
                  <a:pt x="10021" y="5259"/>
                </a:cubicBezTo>
                <a:cubicBezTo>
                  <a:pt x="10021" y="5271"/>
                  <a:pt x="10021" y="5375"/>
                  <a:pt x="10021" y="5308"/>
                </a:cubicBezTo>
                <a:cubicBezTo>
                  <a:pt x="10021" y="5110"/>
                  <a:pt x="10021" y="4564"/>
                  <a:pt x="10021" y="4762"/>
                </a:cubicBezTo>
                <a:cubicBezTo>
                  <a:pt x="10021" y="4787"/>
                  <a:pt x="10021" y="4795"/>
                  <a:pt x="10021" y="4812"/>
                </a:cubicBezTo>
                <a:cubicBezTo>
                  <a:pt x="10021" y="4962"/>
                  <a:pt x="10021" y="5245"/>
                  <a:pt x="10021" y="5308"/>
                </a:cubicBezTo>
                <a:cubicBezTo>
                  <a:pt x="10039" y="5277"/>
                  <a:pt x="10064" y="5260"/>
                  <a:pt x="10071" y="5234"/>
                </a:cubicBezTo>
                <a:cubicBezTo>
                  <a:pt x="10109" y="5092"/>
                  <a:pt x="10032" y="4894"/>
                  <a:pt x="10096" y="4787"/>
                </a:cubicBezTo>
                <a:cubicBezTo>
                  <a:pt x="10115" y="4841"/>
                  <a:pt x="10118" y="4857"/>
                  <a:pt x="10120" y="4911"/>
                </a:cubicBezTo>
                <a:cubicBezTo>
                  <a:pt x="10122" y="4972"/>
                  <a:pt x="10098" y="5333"/>
                  <a:pt x="10145" y="5333"/>
                </a:cubicBezTo>
                <a:cubicBezTo>
                  <a:pt x="10183" y="5333"/>
                  <a:pt x="10201" y="5310"/>
                  <a:pt x="10244" y="5308"/>
                </a:cubicBezTo>
                <a:cubicBezTo>
                  <a:pt x="10302" y="5305"/>
                  <a:pt x="10360" y="5308"/>
                  <a:pt x="10418" y="5308"/>
                </a:cubicBezTo>
                <a:cubicBezTo>
                  <a:pt x="10411" y="5260"/>
                  <a:pt x="10405" y="5256"/>
                  <a:pt x="10393" y="5234"/>
                </a:cubicBezTo>
                <a:cubicBezTo>
                  <a:pt x="10374" y="5199"/>
                  <a:pt x="10362" y="5178"/>
                  <a:pt x="10344" y="5159"/>
                </a:cubicBezTo>
                <a:cubicBezTo>
                  <a:pt x="10327" y="5140"/>
                  <a:pt x="10311" y="5116"/>
                  <a:pt x="10294" y="5085"/>
                </a:cubicBezTo>
                <a:cubicBezTo>
                  <a:pt x="10273" y="5045"/>
                  <a:pt x="10260" y="5039"/>
                  <a:pt x="10244" y="5011"/>
                </a:cubicBezTo>
                <a:cubicBezTo>
                  <a:pt x="10227" y="4982"/>
                  <a:pt x="10212" y="4955"/>
                  <a:pt x="10195" y="4936"/>
                </a:cubicBezTo>
                <a:cubicBezTo>
                  <a:pt x="10172" y="4910"/>
                  <a:pt x="10188" y="4898"/>
                  <a:pt x="10170" y="4862"/>
                </a:cubicBezTo>
                <a:cubicBezTo>
                  <a:pt x="10147" y="4817"/>
                  <a:pt x="10155" y="4860"/>
                  <a:pt x="10145" y="4787"/>
                </a:cubicBezTo>
                <a:cubicBezTo>
                  <a:pt x="10169" y="4773"/>
                  <a:pt x="10167" y="4765"/>
                  <a:pt x="10220" y="4762"/>
                </a:cubicBezTo>
                <a:cubicBezTo>
                  <a:pt x="10367" y="4753"/>
                  <a:pt x="10518" y="4762"/>
                  <a:pt x="10666" y="4762"/>
                </a:cubicBezTo>
                <a:cubicBezTo>
                  <a:pt x="10530" y="4762"/>
                  <a:pt x="10169" y="4810"/>
                  <a:pt x="10120" y="4713"/>
                </a:cubicBezTo>
                <a:cubicBezTo>
                  <a:pt x="10172" y="4681"/>
                  <a:pt x="10161" y="4669"/>
                  <a:pt x="10220" y="4638"/>
                </a:cubicBezTo>
                <a:cubicBezTo>
                  <a:pt x="10250" y="4622"/>
                  <a:pt x="10314" y="4595"/>
                  <a:pt x="10344" y="4589"/>
                </a:cubicBezTo>
                <a:cubicBezTo>
                  <a:pt x="10391" y="4580"/>
                  <a:pt x="10401" y="4583"/>
                  <a:pt x="10443" y="4564"/>
                </a:cubicBezTo>
                <a:cubicBezTo>
                  <a:pt x="10477" y="4549"/>
                  <a:pt x="10501" y="4541"/>
                  <a:pt x="10542" y="4539"/>
                </a:cubicBezTo>
                <a:cubicBezTo>
                  <a:pt x="10567" y="4539"/>
                  <a:pt x="10575" y="4539"/>
                  <a:pt x="10592" y="4539"/>
                </a:cubicBezTo>
                <a:cubicBezTo>
                  <a:pt x="10574" y="4530"/>
                  <a:pt x="10517" y="4497"/>
                  <a:pt x="10468" y="4490"/>
                </a:cubicBezTo>
                <a:cubicBezTo>
                  <a:pt x="10390" y="4479"/>
                  <a:pt x="10313" y="4503"/>
                  <a:pt x="10269" y="4465"/>
                </a:cubicBezTo>
                <a:cubicBezTo>
                  <a:pt x="10229" y="4430"/>
                  <a:pt x="10174" y="4377"/>
                  <a:pt x="10145" y="4341"/>
                </a:cubicBezTo>
                <a:cubicBezTo>
                  <a:pt x="10117" y="4306"/>
                  <a:pt x="10093" y="4248"/>
                  <a:pt x="10071" y="4217"/>
                </a:cubicBezTo>
                <a:cubicBezTo>
                  <a:pt x="10046" y="4217"/>
                  <a:pt x="10038" y="4217"/>
                  <a:pt x="10046" y="4192"/>
                </a:cubicBezTo>
                <a:cubicBezTo>
                  <a:pt x="10039" y="4257"/>
                  <a:pt x="10021" y="4294"/>
                  <a:pt x="10021" y="4366"/>
                </a:cubicBezTo>
                <a:cubicBezTo>
                  <a:pt x="10021" y="4506"/>
                  <a:pt x="10021" y="4647"/>
                  <a:pt x="10021" y="4787"/>
                </a:cubicBezTo>
                <a:cubicBezTo>
                  <a:pt x="9971" y="4800"/>
                  <a:pt x="9934" y="4812"/>
                  <a:pt x="9872" y="4812"/>
                </a:cubicBezTo>
                <a:cubicBezTo>
                  <a:pt x="9744" y="4812"/>
                  <a:pt x="9535" y="4839"/>
                  <a:pt x="9451" y="4787"/>
                </a:cubicBezTo>
                <a:cubicBezTo>
                  <a:pt x="9507" y="4755"/>
                  <a:pt x="9505" y="4762"/>
                  <a:pt x="9550" y="4738"/>
                </a:cubicBezTo>
                <a:cubicBezTo>
                  <a:pt x="9571" y="4727"/>
                  <a:pt x="9599" y="4707"/>
                  <a:pt x="9624" y="4688"/>
                </a:cubicBezTo>
                <a:cubicBezTo>
                  <a:pt x="9657" y="4663"/>
                  <a:pt x="9641" y="4667"/>
                  <a:pt x="9649" y="4614"/>
                </a:cubicBezTo>
                <a:cubicBezTo>
                  <a:pt x="9653" y="4586"/>
                  <a:pt x="9655" y="4616"/>
                  <a:pt x="9699" y="4638"/>
                </a:cubicBezTo>
                <a:cubicBezTo>
                  <a:pt x="9733" y="4655"/>
                  <a:pt x="9786" y="4701"/>
                  <a:pt x="9823" y="4713"/>
                </a:cubicBezTo>
                <a:cubicBezTo>
                  <a:pt x="9855" y="4724"/>
                  <a:pt x="9916" y="4733"/>
                  <a:pt x="9947" y="4738"/>
                </a:cubicBezTo>
                <a:cubicBezTo>
                  <a:pt x="9971" y="4738"/>
                  <a:pt x="9980" y="4738"/>
                  <a:pt x="9996" y="4738"/>
                </a:cubicBezTo>
                <a:cubicBezTo>
                  <a:pt x="9961" y="4681"/>
                  <a:pt x="9909" y="4671"/>
                  <a:pt x="9872" y="4638"/>
                </a:cubicBezTo>
                <a:cubicBezTo>
                  <a:pt x="9853" y="4621"/>
                  <a:pt x="9807" y="4576"/>
                  <a:pt x="9798" y="4564"/>
                </a:cubicBezTo>
                <a:cubicBezTo>
                  <a:pt x="9775" y="4535"/>
                  <a:pt x="9751" y="4514"/>
                  <a:pt x="9723" y="4490"/>
                </a:cubicBezTo>
                <a:cubicBezTo>
                  <a:pt x="9710" y="4479"/>
                  <a:pt x="9687" y="4453"/>
                  <a:pt x="9674" y="4440"/>
                </a:cubicBezTo>
                <a:cubicBezTo>
                  <a:pt x="9658" y="4424"/>
                  <a:pt x="9599" y="4366"/>
                  <a:pt x="9599" y="4366"/>
                </a:cubicBezTo>
                <a:cubicBezTo>
                  <a:pt x="9576" y="4296"/>
                  <a:pt x="9610" y="4263"/>
                  <a:pt x="9649" y="4217"/>
                </a:cubicBezTo>
                <a:cubicBezTo>
                  <a:pt x="9653" y="4212"/>
                  <a:pt x="9705" y="4171"/>
                  <a:pt x="9723" y="4167"/>
                </a:cubicBezTo>
                <a:cubicBezTo>
                  <a:pt x="9812" y="4146"/>
                  <a:pt x="9931" y="4167"/>
                  <a:pt x="10021" y="4167"/>
                </a:cubicBezTo>
                <a:cubicBezTo>
                  <a:pt x="9989" y="4183"/>
                  <a:pt x="9955" y="4200"/>
                  <a:pt x="9922" y="4217"/>
                </a:cubicBezTo>
                <a:cubicBezTo>
                  <a:pt x="9887" y="4235"/>
                  <a:pt x="9836" y="4250"/>
                  <a:pt x="9798" y="4266"/>
                </a:cubicBezTo>
                <a:cubicBezTo>
                  <a:pt x="9767" y="4279"/>
                  <a:pt x="9735" y="4308"/>
                  <a:pt x="9723" y="4316"/>
                </a:cubicBezTo>
                <a:cubicBezTo>
                  <a:pt x="9681" y="4342"/>
                  <a:pt x="9672" y="4351"/>
                  <a:pt x="9649" y="4390"/>
                </a:cubicBezTo>
                <a:cubicBezTo>
                  <a:pt x="9628" y="4426"/>
                  <a:pt x="9607" y="4424"/>
                  <a:pt x="9599" y="4465"/>
                </a:cubicBezTo>
                <a:cubicBezTo>
                  <a:pt x="9589" y="4513"/>
                  <a:pt x="9582" y="4540"/>
                  <a:pt x="9575" y="4589"/>
                </a:cubicBezTo>
                <a:cubicBezTo>
                  <a:pt x="9555" y="4728"/>
                  <a:pt x="9583" y="4887"/>
                  <a:pt x="9599" y="5011"/>
                </a:cubicBezTo>
                <a:cubicBezTo>
                  <a:pt x="9608" y="5086"/>
                  <a:pt x="9611" y="5105"/>
                  <a:pt x="9674" y="5159"/>
                </a:cubicBezTo>
                <a:cubicBezTo>
                  <a:pt x="9718" y="5196"/>
                  <a:pt x="9730" y="5216"/>
                  <a:pt x="9773" y="5259"/>
                </a:cubicBezTo>
                <a:cubicBezTo>
                  <a:pt x="9821" y="5306"/>
                  <a:pt x="9832" y="5302"/>
                  <a:pt x="9897" y="5308"/>
                </a:cubicBezTo>
                <a:cubicBezTo>
                  <a:pt x="9952" y="5313"/>
                  <a:pt x="9992" y="5330"/>
                  <a:pt x="10046" y="5333"/>
                </a:cubicBezTo>
                <a:cubicBezTo>
                  <a:pt x="10159" y="5339"/>
                  <a:pt x="10297" y="5351"/>
                  <a:pt x="10393" y="5308"/>
                </a:cubicBezTo>
                <a:cubicBezTo>
                  <a:pt x="10427" y="5293"/>
                  <a:pt x="10457" y="5276"/>
                  <a:pt x="10492" y="5259"/>
                </a:cubicBezTo>
                <a:cubicBezTo>
                  <a:pt x="10515" y="5247"/>
                  <a:pt x="10560" y="5218"/>
                  <a:pt x="10567" y="5209"/>
                </a:cubicBezTo>
                <a:cubicBezTo>
                  <a:pt x="10590" y="5176"/>
                  <a:pt x="10655" y="5152"/>
                  <a:pt x="10666" y="5135"/>
                </a:cubicBezTo>
                <a:cubicBezTo>
                  <a:pt x="10735" y="5031"/>
                  <a:pt x="10657" y="4592"/>
                  <a:pt x="10641" y="4514"/>
                </a:cubicBezTo>
                <a:cubicBezTo>
                  <a:pt x="10628" y="4449"/>
                  <a:pt x="10617" y="4469"/>
                  <a:pt x="10567" y="4415"/>
                </a:cubicBezTo>
                <a:cubicBezTo>
                  <a:pt x="10540" y="4385"/>
                  <a:pt x="10546" y="4398"/>
                  <a:pt x="10492" y="4390"/>
                </a:cubicBezTo>
                <a:cubicBezTo>
                  <a:pt x="10492" y="4586"/>
                  <a:pt x="10544" y="4888"/>
                  <a:pt x="10468" y="5060"/>
                </a:cubicBezTo>
                <a:cubicBezTo>
                  <a:pt x="10461" y="5076"/>
                  <a:pt x="10427" y="5151"/>
                  <a:pt x="10418" y="5159"/>
                </a:cubicBezTo>
                <a:cubicBezTo>
                  <a:pt x="10389" y="5185"/>
                  <a:pt x="10331" y="5203"/>
                  <a:pt x="10294" y="5209"/>
                </a:cubicBezTo>
                <a:cubicBezTo>
                  <a:pt x="10196" y="5225"/>
                  <a:pt x="9916" y="5244"/>
                  <a:pt x="9847" y="5184"/>
                </a:cubicBezTo>
                <a:cubicBezTo>
                  <a:pt x="9819" y="5160"/>
                  <a:pt x="9795" y="5080"/>
                  <a:pt x="9773" y="5060"/>
                </a:cubicBezTo>
                <a:cubicBezTo>
                  <a:pt x="9745" y="5034"/>
                  <a:pt x="9722" y="5025"/>
                  <a:pt x="9699" y="4986"/>
                </a:cubicBezTo>
                <a:cubicBezTo>
                  <a:pt x="9680" y="4953"/>
                  <a:pt x="9665" y="4929"/>
                  <a:pt x="9649" y="4911"/>
                </a:cubicBezTo>
                <a:cubicBezTo>
                  <a:pt x="9632" y="4892"/>
                  <a:pt x="9615" y="4868"/>
                  <a:pt x="9599" y="4837"/>
                </a:cubicBezTo>
                <a:cubicBezTo>
                  <a:pt x="9583" y="4805"/>
                  <a:pt x="9586" y="4772"/>
                  <a:pt x="9575" y="4738"/>
                </a:cubicBezTo>
                <a:cubicBezTo>
                  <a:pt x="9561" y="4697"/>
                  <a:pt x="9553" y="4687"/>
                  <a:pt x="9550" y="4638"/>
                </a:cubicBezTo>
                <a:cubicBezTo>
                  <a:pt x="9545" y="4551"/>
                  <a:pt x="9533" y="4436"/>
                  <a:pt x="9575" y="4366"/>
                </a:cubicBezTo>
                <a:cubicBezTo>
                  <a:pt x="9586" y="4349"/>
                  <a:pt x="9637" y="4320"/>
                  <a:pt x="9649" y="4291"/>
                </a:cubicBezTo>
                <a:cubicBezTo>
                  <a:pt x="9683" y="4208"/>
                  <a:pt x="9584" y="4294"/>
                  <a:pt x="9723" y="421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995640" y="865080"/>
            <a:ext cx="957240" cy="393840"/>
          </a:xfrm>
          <a:custGeom>
            <a:avLst/>
            <a:gdLst/>
            <a:ahLst/>
            <a:rect l="l" t="t" r="r" b="b"/>
            <a:pathLst>
              <a:path w="603" h="248">
                <a:moveTo>
                  <a:pt x="3" y="207"/>
                </a:moveTo>
                <a:cubicBezTo>
                  <a:pt x="6" y="194"/>
                  <a:pt x="1" y="177"/>
                  <a:pt x="11" y="167"/>
                </a:cubicBezTo>
                <a:cubicBezTo>
                  <a:pt x="17" y="161"/>
                  <a:pt x="20" y="183"/>
                  <a:pt x="19" y="191"/>
                </a:cubicBezTo>
                <a:cubicBezTo>
                  <a:pt x="17" y="208"/>
                  <a:pt x="8" y="223"/>
                  <a:pt x="3" y="239"/>
                </a:cubicBezTo>
                <a:cubicBezTo>
                  <a:pt x="0" y="248"/>
                  <a:pt x="12" y="222"/>
                  <a:pt x="19" y="215"/>
                </a:cubicBezTo>
                <a:cubicBezTo>
                  <a:pt x="26" y="208"/>
                  <a:pt x="35" y="204"/>
                  <a:pt x="43" y="199"/>
                </a:cubicBezTo>
                <a:cubicBezTo>
                  <a:pt x="89" y="130"/>
                  <a:pt x="178" y="75"/>
                  <a:pt x="259" y="55"/>
                </a:cubicBezTo>
                <a:cubicBezTo>
                  <a:pt x="342" y="0"/>
                  <a:pt x="426" y="39"/>
                  <a:pt x="531" y="47"/>
                </a:cubicBezTo>
                <a:cubicBezTo>
                  <a:pt x="600" y="70"/>
                  <a:pt x="549" y="158"/>
                  <a:pt x="539" y="215"/>
                </a:cubicBezTo>
                <a:cubicBezTo>
                  <a:pt x="581" y="226"/>
                  <a:pt x="560" y="223"/>
                  <a:pt x="603" y="22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4211640" y="1098720"/>
            <a:ext cx="136440" cy="169560"/>
          </a:xfrm>
          <a:custGeom>
            <a:avLst/>
            <a:gdLst/>
            <a:ahLst/>
            <a:rect l="l" t="t" r="r" b="b"/>
            <a:pathLst>
              <a:path w="75" h="108">
                <a:moveTo>
                  <a:pt x="0" y="44"/>
                </a:moveTo>
                <a:cubicBezTo>
                  <a:pt x="29" y="63"/>
                  <a:pt x="29" y="80"/>
                  <a:pt x="48" y="108"/>
                </a:cubicBezTo>
                <a:cubicBezTo>
                  <a:pt x="45" y="95"/>
                  <a:pt x="44" y="81"/>
                  <a:pt x="40" y="68"/>
                </a:cubicBezTo>
                <a:cubicBezTo>
                  <a:pt x="29" y="29"/>
                  <a:pt x="5" y="0"/>
                  <a:pt x="48" y="36"/>
                </a:cubicBezTo>
                <a:cubicBezTo>
                  <a:pt x="57" y="43"/>
                  <a:pt x="64" y="52"/>
                  <a:pt x="72" y="60"/>
                </a:cubicBezTo>
                <a:cubicBezTo>
                  <a:pt x="63" y="95"/>
                  <a:pt x="75" y="92"/>
                  <a:pt x="56" y="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4140360" y="126828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829480" y="1608120"/>
            <a:ext cx="387000" cy="139680"/>
          </a:xfrm>
          <a:custGeom>
            <a:avLst/>
            <a:gdLst/>
            <a:ahLst/>
            <a:rect l="l" t="t" r="r" b="b"/>
            <a:pathLst>
              <a:path w="244" h="88">
                <a:moveTo>
                  <a:pt x="24" y="59"/>
                </a:moveTo>
                <a:cubicBezTo>
                  <a:pt x="63" y="55"/>
                  <a:pt x="142" y="42"/>
                  <a:pt x="184" y="59"/>
                </a:cubicBezTo>
                <a:cubicBezTo>
                  <a:pt x="194" y="63"/>
                  <a:pt x="163" y="64"/>
                  <a:pt x="152" y="67"/>
                </a:cubicBezTo>
                <a:cubicBezTo>
                  <a:pt x="147" y="59"/>
                  <a:pt x="134" y="52"/>
                  <a:pt x="136" y="43"/>
                </a:cubicBezTo>
                <a:cubicBezTo>
                  <a:pt x="138" y="34"/>
                  <a:pt x="170" y="28"/>
                  <a:pt x="160" y="27"/>
                </a:cubicBezTo>
                <a:cubicBezTo>
                  <a:pt x="115" y="24"/>
                  <a:pt x="69" y="32"/>
                  <a:pt x="24" y="35"/>
                </a:cubicBezTo>
                <a:cubicBezTo>
                  <a:pt x="96" y="83"/>
                  <a:pt x="0" y="11"/>
                  <a:pt x="0" y="59"/>
                </a:cubicBezTo>
                <a:cubicBezTo>
                  <a:pt x="0" y="76"/>
                  <a:pt x="48" y="75"/>
                  <a:pt x="48" y="75"/>
                </a:cubicBezTo>
                <a:cubicBezTo>
                  <a:pt x="107" y="72"/>
                  <a:pt x="169" y="88"/>
                  <a:pt x="224" y="67"/>
                </a:cubicBezTo>
                <a:cubicBezTo>
                  <a:pt x="244" y="59"/>
                  <a:pt x="227" y="24"/>
                  <a:pt x="232" y="3"/>
                </a:cubicBezTo>
                <a:cubicBezTo>
                  <a:pt x="233" y="0"/>
                  <a:pt x="237" y="3"/>
                  <a:pt x="240" y="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5830920" y="1625760"/>
            <a:ext cx="376200" cy="160200"/>
          </a:xfrm>
          <a:custGeom>
            <a:avLst/>
            <a:gdLst/>
            <a:ahLst/>
            <a:rect l="l" t="t" r="r" b="b"/>
            <a:pathLst>
              <a:path w="1043" h="448">
                <a:moveTo>
                  <a:pt x="16197" y="4961"/>
                </a:moveTo>
                <a:cubicBezTo>
                  <a:pt x="16267" y="4961"/>
                  <a:pt x="16966" y="5012"/>
                  <a:pt x="16991" y="4936"/>
                </a:cubicBezTo>
              </a:path>
              <a:path w="1043" h="448">
                <a:moveTo>
                  <a:pt x="16346" y="4539"/>
                </a:moveTo>
                <a:cubicBezTo>
                  <a:pt x="16578" y="4539"/>
                  <a:pt x="16809" y="4539"/>
                  <a:pt x="17041" y="4539"/>
                </a:cubicBezTo>
              </a:path>
              <a:path w="1043" h="448">
                <a:moveTo>
                  <a:pt x="17190" y="4589"/>
                </a:moveTo>
                <a:cubicBezTo>
                  <a:pt x="17190" y="4578"/>
                  <a:pt x="17190" y="4472"/>
                  <a:pt x="17190" y="4539"/>
                </a:cubicBezTo>
                <a:cubicBezTo>
                  <a:pt x="17190" y="4572"/>
                  <a:pt x="17190" y="4605"/>
                  <a:pt x="17190" y="4638"/>
                </a:cubicBezTo>
              </a:path>
              <a:path w="1043" h="448">
                <a:moveTo>
                  <a:pt x="17239" y="4812"/>
                </a:moveTo>
                <a:cubicBezTo>
                  <a:pt x="17239" y="4847"/>
                  <a:pt x="17252" y="4892"/>
                  <a:pt x="17214" y="4911"/>
                </a:cubicBezTo>
                <a:cubicBezTo>
                  <a:pt x="17206" y="4911"/>
                  <a:pt x="17198" y="4911"/>
                  <a:pt x="17190" y="49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3902040" y="1133640"/>
            <a:ext cx="214200" cy="169560"/>
          </a:xfrm>
          <a:custGeom>
            <a:avLst/>
            <a:gdLst/>
            <a:ahLst/>
            <a:rect l="l" t="t" r="r" b="b"/>
            <a:pathLst>
              <a:path w="596" h="472">
                <a:moveTo>
                  <a:pt x="11112" y="3473"/>
                </a:moveTo>
                <a:cubicBezTo>
                  <a:pt x="11112" y="3448"/>
                  <a:pt x="11112" y="3423"/>
                  <a:pt x="11112" y="3398"/>
                </a:cubicBezTo>
                <a:cubicBezTo>
                  <a:pt x="11232" y="3436"/>
                  <a:pt x="11326" y="3486"/>
                  <a:pt x="11435" y="3547"/>
                </a:cubicBezTo>
                <a:cubicBezTo>
                  <a:pt x="11435" y="3490"/>
                  <a:pt x="11425" y="3469"/>
                  <a:pt x="11410" y="3423"/>
                </a:cubicBezTo>
                <a:cubicBezTo>
                  <a:pt x="11399" y="3389"/>
                  <a:pt x="11370" y="3384"/>
                  <a:pt x="11361" y="3349"/>
                </a:cubicBezTo>
                <a:cubicBezTo>
                  <a:pt x="11346" y="3286"/>
                  <a:pt x="11346" y="3228"/>
                  <a:pt x="11311" y="3175"/>
                </a:cubicBezTo>
                <a:cubicBezTo>
                  <a:pt x="11303" y="3167"/>
                  <a:pt x="11294" y="3158"/>
                  <a:pt x="11286" y="3150"/>
                </a:cubicBezTo>
                <a:cubicBezTo>
                  <a:pt x="11286" y="3200"/>
                  <a:pt x="11275" y="3209"/>
                  <a:pt x="11261" y="3249"/>
                </a:cubicBezTo>
                <a:cubicBezTo>
                  <a:pt x="11258" y="3258"/>
                  <a:pt x="11220" y="3319"/>
                  <a:pt x="11212" y="3324"/>
                </a:cubicBezTo>
                <a:cubicBezTo>
                  <a:pt x="11184" y="3343"/>
                  <a:pt x="11165" y="3380"/>
                  <a:pt x="11112" y="3398"/>
                </a:cubicBezTo>
                <a:cubicBezTo>
                  <a:pt x="11039" y="3423"/>
                  <a:pt x="10954" y="3369"/>
                  <a:pt x="10914" y="3423"/>
                </a:cubicBezTo>
                <a:cubicBezTo>
                  <a:pt x="10888" y="3457"/>
                  <a:pt x="10853" y="3483"/>
                  <a:pt x="10840" y="3522"/>
                </a:cubicBezTo>
                <a:cubicBezTo>
                  <a:pt x="10831" y="3548"/>
                  <a:pt x="10840" y="3593"/>
                  <a:pt x="10840" y="3621"/>
                </a:cubicBezTo>
                <a:cubicBezTo>
                  <a:pt x="10889" y="3621"/>
                  <a:pt x="10899" y="3610"/>
                  <a:pt x="10939" y="3597"/>
                </a:cubicBezTo>
                <a:cubicBezTo>
                  <a:pt x="10947" y="3594"/>
                  <a:pt x="11008" y="3555"/>
                  <a:pt x="11013" y="3547"/>
                </a:cubicBezTo>
                <a:cubicBezTo>
                  <a:pt x="11031" y="3520"/>
                  <a:pt x="11038" y="3484"/>
                  <a:pt x="11038" y="3448"/>
                </a:cubicBezTo>
                <a:cubicBezTo>
                  <a:pt x="11038" y="3407"/>
                  <a:pt x="11038" y="3365"/>
                  <a:pt x="11038" y="3324"/>
                </a:cubicBezTo>
              </a:path>
              <a:path w="596" h="472">
                <a:moveTo>
                  <a:pt x="11212" y="3225"/>
                </a:moveTo>
                <a:cubicBezTo>
                  <a:pt x="11238" y="3172"/>
                  <a:pt x="11287" y="3185"/>
                  <a:pt x="11311" y="315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4000680" y="1714680"/>
            <a:ext cx="1169640" cy="1440"/>
          </a:xfrm>
          <a:custGeom>
            <a:avLst/>
            <a:gdLst/>
            <a:ahLst/>
            <a:rect l="l" t="t" r="r" b="b"/>
            <a:pathLst>
              <a:path w="3251" h="1">
                <a:moveTo>
                  <a:pt x="11137" y="4762"/>
                </a:moveTo>
                <a:cubicBezTo>
                  <a:pt x="11179" y="4762"/>
                  <a:pt x="11170" y="4762"/>
                  <a:pt x="11212" y="4762"/>
                </a:cubicBezTo>
                <a:cubicBezTo>
                  <a:pt x="12262" y="4762"/>
                  <a:pt x="13312" y="4762"/>
                  <a:pt x="14362" y="476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5786280" y="1724040"/>
            <a:ext cx="374760" cy="88920"/>
          </a:xfrm>
          <a:custGeom>
            <a:avLst/>
            <a:gdLst/>
            <a:ahLst/>
            <a:rect l="l" t="t" r="r" b="b"/>
            <a:pathLst>
              <a:path w="1043" h="249">
                <a:moveTo>
                  <a:pt x="16073" y="5035"/>
                </a:moveTo>
                <a:cubicBezTo>
                  <a:pt x="16123" y="5035"/>
                  <a:pt x="16182" y="5015"/>
                  <a:pt x="16197" y="5011"/>
                </a:cubicBezTo>
                <a:cubicBezTo>
                  <a:pt x="16458" y="4943"/>
                  <a:pt x="16817" y="5011"/>
                  <a:pt x="17090" y="5011"/>
                </a:cubicBezTo>
                <a:cubicBezTo>
                  <a:pt x="17090" y="4964"/>
                  <a:pt x="17107" y="4948"/>
                  <a:pt x="17115" y="4911"/>
                </a:cubicBezTo>
                <a:cubicBezTo>
                  <a:pt x="17123" y="4875"/>
                  <a:pt x="17115" y="4824"/>
                  <a:pt x="17115" y="47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179880" y="1206360"/>
            <a:ext cx="757080" cy="354240"/>
          </a:xfrm>
          <a:custGeom>
            <a:avLst/>
            <a:gdLst/>
            <a:ahLst/>
            <a:rect l="l" t="t" r="r" b="b"/>
            <a:pathLst>
              <a:path w="477" h="223">
                <a:moveTo>
                  <a:pt x="37" y="184"/>
                </a:moveTo>
                <a:cubicBezTo>
                  <a:pt x="0" y="128"/>
                  <a:pt x="45" y="135"/>
                  <a:pt x="93" y="128"/>
                </a:cubicBezTo>
                <a:cubicBezTo>
                  <a:pt x="110" y="179"/>
                  <a:pt x="106" y="141"/>
                  <a:pt x="29" y="160"/>
                </a:cubicBezTo>
                <a:cubicBezTo>
                  <a:pt x="20" y="162"/>
                  <a:pt x="13" y="171"/>
                  <a:pt x="5" y="176"/>
                </a:cubicBezTo>
                <a:cubicBezTo>
                  <a:pt x="21" y="223"/>
                  <a:pt x="40" y="196"/>
                  <a:pt x="77" y="184"/>
                </a:cubicBezTo>
                <a:cubicBezTo>
                  <a:pt x="97" y="153"/>
                  <a:pt x="124" y="136"/>
                  <a:pt x="77" y="120"/>
                </a:cubicBezTo>
                <a:cubicBezTo>
                  <a:pt x="91" y="78"/>
                  <a:pt x="148" y="57"/>
                  <a:pt x="189" y="48"/>
                </a:cubicBezTo>
                <a:cubicBezTo>
                  <a:pt x="274" y="29"/>
                  <a:pt x="362" y="28"/>
                  <a:pt x="445" y="0"/>
                </a:cubicBezTo>
                <a:cubicBezTo>
                  <a:pt x="475" y="10"/>
                  <a:pt x="465" y="0"/>
                  <a:pt x="477" y="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3936960" y="907920"/>
            <a:ext cx="457200" cy="285840"/>
          </a:xfrm>
          <a:custGeom>
            <a:avLst/>
            <a:gdLst/>
            <a:ahLst/>
            <a:rect l="l" t="t" r="r" b="b"/>
            <a:pathLst>
              <a:path w="288" h="180">
                <a:moveTo>
                  <a:pt x="0" y="172"/>
                </a:moveTo>
                <a:cubicBezTo>
                  <a:pt x="11" y="169"/>
                  <a:pt x="21" y="164"/>
                  <a:pt x="32" y="164"/>
                </a:cubicBezTo>
                <a:cubicBezTo>
                  <a:pt x="40" y="164"/>
                  <a:pt x="8" y="180"/>
                  <a:pt x="8" y="172"/>
                </a:cubicBezTo>
                <a:cubicBezTo>
                  <a:pt x="8" y="155"/>
                  <a:pt x="68" y="130"/>
                  <a:pt x="80" y="124"/>
                </a:cubicBezTo>
                <a:cubicBezTo>
                  <a:pt x="88" y="120"/>
                  <a:pt x="97" y="120"/>
                  <a:pt x="104" y="116"/>
                </a:cubicBezTo>
                <a:cubicBezTo>
                  <a:pt x="121" y="107"/>
                  <a:pt x="171" y="81"/>
                  <a:pt x="152" y="84"/>
                </a:cubicBezTo>
                <a:cubicBezTo>
                  <a:pt x="133" y="87"/>
                  <a:pt x="115" y="89"/>
                  <a:pt x="96" y="92"/>
                </a:cubicBezTo>
                <a:cubicBezTo>
                  <a:pt x="96" y="92"/>
                  <a:pt x="126" y="66"/>
                  <a:pt x="144" y="60"/>
                </a:cubicBezTo>
                <a:cubicBezTo>
                  <a:pt x="170" y="51"/>
                  <a:pt x="200" y="48"/>
                  <a:pt x="224" y="36"/>
                </a:cubicBezTo>
                <a:cubicBezTo>
                  <a:pt x="243" y="26"/>
                  <a:pt x="261" y="14"/>
                  <a:pt x="280" y="4"/>
                </a:cubicBezTo>
                <a:cubicBezTo>
                  <a:pt x="288" y="0"/>
                  <a:pt x="264" y="9"/>
                  <a:pt x="256" y="12"/>
                </a:cubicBezTo>
                <a:cubicBezTo>
                  <a:pt x="243" y="16"/>
                  <a:pt x="229" y="17"/>
                  <a:pt x="216" y="20"/>
                </a:cubicBezTo>
                <a:cubicBezTo>
                  <a:pt x="195" y="41"/>
                  <a:pt x="177" y="75"/>
                  <a:pt x="152" y="92"/>
                </a:cubicBezTo>
                <a:cubicBezTo>
                  <a:pt x="137" y="102"/>
                  <a:pt x="119" y="106"/>
                  <a:pt x="104" y="116"/>
                </a:cubicBezTo>
                <a:cubicBezTo>
                  <a:pt x="126" y="82"/>
                  <a:pt x="155" y="64"/>
                  <a:pt x="192" y="52"/>
                </a:cubicBezTo>
                <a:cubicBezTo>
                  <a:pt x="218" y="26"/>
                  <a:pt x="243" y="12"/>
                  <a:pt x="280" y="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4178160" y="849240"/>
            <a:ext cx="765360" cy="408240"/>
          </a:xfrm>
          <a:custGeom>
            <a:avLst/>
            <a:gdLst/>
            <a:ahLst/>
            <a:rect l="l" t="t" r="r" b="b"/>
            <a:pathLst>
              <a:path w="482" h="257">
                <a:moveTo>
                  <a:pt x="0" y="89"/>
                </a:moveTo>
                <a:cubicBezTo>
                  <a:pt x="58" y="70"/>
                  <a:pt x="118" y="60"/>
                  <a:pt x="176" y="41"/>
                </a:cubicBezTo>
                <a:cubicBezTo>
                  <a:pt x="95" y="14"/>
                  <a:pt x="233" y="64"/>
                  <a:pt x="272" y="25"/>
                </a:cubicBezTo>
                <a:cubicBezTo>
                  <a:pt x="297" y="0"/>
                  <a:pt x="133" y="17"/>
                  <a:pt x="168" y="17"/>
                </a:cubicBezTo>
                <a:cubicBezTo>
                  <a:pt x="267" y="17"/>
                  <a:pt x="365" y="22"/>
                  <a:pt x="464" y="25"/>
                </a:cubicBezTo>
                <a:cubicBezTo>
                  <a:pt x="467" y="100"/>
                  <a:pt x="466" y="175"/>
                  <a:pt x="472" y="249"/>
                </a:cubicBezTo>
                <a:cubicBezTo>
                  <a:pt x="473" y="257"/>
                  <a:pt x="480" y="233"/>
                  <a:pt x="480" y="225"/>
                </a:cubicBezTo>
                <a:cubicBezTo>
                  <a:pt x="482" y="158"/>
                  <a:pt x="480" y="92"/>
                  <a:pt x="480" y="2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4165560" y="808200"/>
            <a:ext cx="785880" cy="309240"/>
          </a:xfrm>
          <a:custGeom>
            <a:avLst/>
            <a:gdLst/>
            <a:ahLst/>
            <a:rect l="l" t="t" r="r" b="b"/>
            <a:pathLst>
              <a:path w="495" h="195">
                <a:moveTo>
                  <a:pt x="0" y="195"/>
                </a:moveTo>
                <a:cubicBezTo>
                  <a:pt x="37" y="140"/>
                  <a:pt x="40" y="147"/>
                  <a:pt x="88" y="107"/>
                </a:cubicBezTo>
                <a:cubicBezTo>
                  <a:pt x="108" y="90"/>
                  <a:pt x="160" y="75"/>
                  <a:pt x="160" y="75"/>
                </a:cubicBezTo>
                <a:cubicBezTo>
                  <a:pt x="196" y="39"/>
                  <a:pt x="173" y="55"/>
                  <a:pt x="232" y="35"/>
                </a:cubicBezTo>
                <a:cubicBezTo>
                  <a:pt x="283" y="18"/>
                  <a:pt x="392" y="19"/>
                  <a:pt x="392" y="19"/>
                </a:cubicBezTo>
                <a:cubicBezTo>
                  <a:pt x="421" y="22"/>
                  <a:pt x="452" y="18"/>
                  <a:pt x="480" y="27"/>
                </a:cubicBezTo>
                <a:cubicBezTo>
                  <a:pt x="488" y="30"/>
                  <a:pt x="495" y="46"/>
                  <a:pt x="488" y="51"/>
                </a:cubicBezTo>
                <a:cubicBezTo>
                  <a:pt x="479" y="57"/>
                  <a:pt x="467" y="44"/>
                  <a:pt x="456" y="43"/>
                </a:cubicBezTo>
                <a:cubicBezTo>
                  <a:pt x="376" y="38"/>
                  <a:pt x="296" y="38"/>
                  <a:pt x="216" y="35"/>
                </a:cubicBezTo>
                <a:cubicBezTo>
                  <a:pt x="322" y="0"/>
                  <a:pt x="247" y="19"/>
                  <a:pt x="448" y="1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468360" y="2482920"/>
            <a:ext cx="1727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ick u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ab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3132000" y="3284640"/>
            <a:ext cx="309564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3132000" y="31291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3851280" y="3129120"/>
            <a:ext cx="136836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5722920" y="3129120"/>
            <a:ext cx="5047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3089160" y="3008160"/>
            <a:ext cx="285840" cy="115920"/>
          </a:xfrm>
          <a:custGeom>
            <a:avLst/>
            <a:gdLst/>
            <a:ahLst/>
            <a:rect l="l" t="t" r="r" b="b"/>
            <a:pathLst>
              <a:path w="795" h="323">
                <a:moveTo>
                  <a:pt x="8607" y="5011"/>
                </a:moveTo>
                <a:cubicBezTo>
                  <a:pt x="8607" y="5110"/>
                  <a:pt x="8607" y="5209"/>
                  <a:pt x="8607" y="5308"/>
                </a:cubicBezTo>
                <a:cubicBezTo>
                  <a:pt x="8632" y="5308"/>
                  <a:pt x="8640" y="5308"/>
                  <a:pt x="8657" y="5308"/>
                </a:cubicBezTo>
              </a:path>
              <a:path w="795" h="323">
                <a:moveTo>
                  <a:pt x="8607" y="5011"/>
                </a:moveTo>
                <a:lnTo>
                  <a:pt x="8607" y="5011"/>
                </a:lnTo>
              </a:path>
              <a:path w="795" h="323">
                <a:moveTo>
                  <a:pt x="8607" y="5011"/>
                </a:moveTo>
                <a:cubicBezTo>
                  <a:pt x="8607" y="5019"/>
                  <a:pt x="8607" y="5027"/>
                  <a:pt x="8607" y="5035"/>
                </a:cubicBezTo>
                <a:cubicBezTo>
                  <a:pt x="8569" y="5048"/>
                  <a:pt x="8582" y="5065"/>
                  <a:pt x="8582" y="5110"/>
                </a:cubicBezTo>
                <a:cubicBezTo>
                  <a:pt x="8582" y="5156"/>
                  <a:pt x="8559" y="5284"/>
                  <a:pt x="8607" y="5308"/>
                </a:cubicBezTo>
                <a:cubicBezTo>
                  <a:pt x="8615" y="5308"/>
                  <a:pt x="8624" y="5308"/>
                  <a:pt x="8632" y="5308"/>
                </a:cubicBezTo>
              </a:path>
              <a:path w="795" h="323">
                <a:moveTo>
                  <a:pt x="8632" y="4986"/>
                </a:moveTo>
                <a:cubicBezTo>
                  <a:pt x="8640" y="4986"/>
                  <a:pt x="8649" y="4986"/>
                  <a:pt x="8657" y="4986"/>
                </a:cubicBezTo>
                <a:cubicBezTo>
                  <a:pt x="8657" y="5052"/>
                  <a:pt x="8657" y="5118"/>
                  <a:pt x="8657" y="5184"/>
                </a:cubicBezTo>
                <a:cubicBezTo>
                  <a:pt x="8695" y="5197"/>
                  <a:pt x="8682" y="5214"/>
                  <a:pt x="8682" y="5259"/>
                </a:cubicBezTo>
                <a:cubicBezTo>
                  <a:pt x="8682" y="5283"/>
                  <a:pt x="8682" y="5292"/>
                  <a:pt x="8682" y="5308"/>
                </a:cubicBezTo>
              </a:path>
              <a:path w="795" h="323">
                <a:moveTo>
                  <a:pt x="8706" y="5060"/>
                </a:moveTo>
                <a:lnTo>
                  <a:pt x="8706" y="5060"/>
                </a:lnTo>
              </a:path>
              <a:path w="795" h="323">
                <a:moveTo>
                  <a:pt x="8582" y="5011"/>
                </a:moveTo>
                <a:cubicBezTo>
                  <a:pt x="8607" y="5011"/>
                  <a:pt x="8615" y="5011"/>
                  <a:pt x="8632" y="5011"/>
                </a:cubicBezTo>
                <a:cubicBezTo>
                  <a:pt x="8645" y="5047"/>
                  <a:pt x="8662" y="5035"/>
                  <a:pt x="8706" y="5035"/>
                </a:cubicBezTo>
                <a:cubicBezTo>
                  <a:pt x="8714" y="5035"/>
                  <a:pt x="8723" y="5035"/>
                  <a:pt x="8731" y="5035"/>
                </a:cubicBezTo>
                <a:cubicBezTo>
                  <a:pt x="8744" y="5073"/>
                  <a:pt x="8761" y="5060"/>
                  <a:pt x="8806" y="5060"/>
                </a:cubicBezTo>
                <a:cubicBezTo>
                  <a:pt x="8818" y="5098"/>
                  <a:pt x="8835" y="5085"/>
                  <a:pt x="8880" y="5085"/>
                </a:cubicBezTo>
                <a:cubicBezTo>
                  <a:pt x="8888" y="5085"/>
                  <a:pt x="8897" y="5085"/>
                  <a:pt x="8905" y="5085"/>
                </a:cubicBezTo>
                <a:cubicBezTo>
                  <a:pt x="8918" y="5123"/>
                  <a:pt x="8934" y="5110"/>
                  <a:pt x="8979" y="5110"/>
                </a:cubicBezTo>
                <a:cubicBezTo>
                  <a:pt x="8987" y="5110"/>
                  <a:pt x="8996" y="5110"/>
                  <a:pt x="9004" y="5110"/>
                </a:cubicBezTo>
              </a:path>
              <a:path w="795" h="323">
                <a:moveTo>
                  <a:pt x="8657" y="5011"/>
                </a:moveTo>
                <a:cubicBezTo>
                  <a:pt x="8690" y="5011"/>
                  <a:pt x="8723" y="5011"/>
                  <a:pt x="8756" y="5011"/>
                </a:cubicBezTo>
                <a:cubicBezTo>
                  <a:pt x="8769" y="5047"/>
                  <a:pt x="8786" y="5035"/>
                  <a:pt x="8830" y="5035"/>
                </a:cubicBezTo>
                <a:cubicBezTo>
                  <a:pt x="8887" y="5035"/>
                  <a:pt x="8908" y="5045"/>
                  <a:pt x="8954" y="5060"/>
                </a:cubicBezTo>
                <a:cubicBezTo>
                  <a:pt x="9000" y="5075"/>
                  <a:pt x="9013" y="5036"/>
                  <a:pt x="9029" y="5085"/>
                </a:cubicBezTo>
              </a:path>
              <a:path w="795" h="323">
                <a:moveTo>
                  <a:pt x="8657" y="4986"/>
                </a:moveTo>
                <a:cubicBezTo>
                  <a:pt x="8690" y="4986"/>
                  <a:pt x="8723" y="4986"/>
                  <a:pt x="8756" y="4986"/>
                </a:cubicBezTo>
                <a:cubicBezTo>
                  <a:pt x="8769" y="5024"/>
                  <a:pt x="8785" y="5011"/>
                  <a:pt x="8830" y="5011"/>
                </a:cubicBezTo>
                <a:cubicBezTo>
                  <a:pt x="8838" y="5011"/>
                  <a:pt x="8847" y="5011"/>
                  <a:pt x="8855" y="5011"/>
                </a:cubicBezTo>
                <a:cubicBezTo>
                  <a:pt x="8868" y="5047"/>
                  <a:pt x="8886" y="5035"/>
                  <a:pt x="8930" y="5035"/>
                </a:cubicBezTo>
                <a:cubicBezTo>
                  <a:pt x="8977" y="5035"/>
                  <a:pt x="9016" y="5020"/>
                  <a:pt x="9029" y="5060"/>
                </a:cubicBezTo>
              </a:path>
              <a:path w="795" h="323">
                <a:moveTo>
                  <a:pt x="8682" y="5011"/>
                </a:moveTo>
                <a:cubicBezTo>
                  <a:pt x="8706" y="5011"/>
                  <a:pt x="8715" y="5011"/>
                  <a:pt x="8731" y="5011"/>
                </a:cubicBezTo>
                <a:cubicBezTo>
                  <a:pt x="8744" y="5047"/>
                  <a:pt x="8762" y="5035"/>
                  <a:pt x="8806" y="5035"/>
                </a:cubicBezTo>
                <a:cubicBezTo>
                  <a:pt x="8851" y="5035"/>
                  <a:pt x="8865" y="5056"/>
                  <a:pt x="8905" y="5060"/>
                </a:cubicBezTo>
                <a:cubicBezTo>
                  <a:pt x="8952" y="5065"/>
                  <a:pt x="8964" y="5072"/>
                  <a:pt x="9004" y="5085"/>
                </a:cubicBezTo>
                <a:cubicBezTo>
                  <a:pt x="9041" y="5097"/>
                  <a:pt x="9060" y="5110"/>
                  <a:pt x="9103" y="5110"/>
                </a:cubicBezTo>
                <a:cubicBezTo>
                  <a:pt x="9144" y="5110"/>
                  <a:pt x="9186" y="5110"/>
                  <a:pt x="9227" y="5110"/>
                </a:cubicBezTo>
              </a:path>
              <a:path w="795" h="323">
                <a:moveTo>
                  <a:pt x="8756" y="5060"/>
                </a:moveTo>
                <a:cubicBezTo>
                  <a:pt x="8789" y="5060"/>
                  <a:pt x="8822" y="5060"/>
                  <a:pt x="8855" y="5060"/>
                </a:cubicBezTo>
                <a:cubicBezTo>
                  <a:pt x="8868" y="5022"/>
                  <a:pt x="8885" y="5035"/>
                  <a:pt x="8930" y="5035"/>
                </a:cubicBezTo>
                <a:cubicBezTo>
                  <a:pt x="8954" y="5035"/>
                  <a:pt x="8963" y="5035"/>
                  <a:pt x="8979" y="5035"/>
                </a:cubicBezTo>
              </a:path>
              <a:path w="795" h="323">
                <a:moveTo>
                  <a:pt x="8682" y="5011"/>
                </a:moveTo>
                <a:cubicBezTo>
                  <a:pt x="8814" y="5011"/>
                  <a:pt x="8947" y="5011"/>
                  <a:pt x="9079" y="5011"/>
                </a:cubicBezTo>
              </a:path>
              <a:path w="795" h="323">
                <a:moveTo>
                  <a:pt x="9153" y="4986"/>
                </a:moveTo>
                <a:cubicBezTo>
                  <a:pt x="9153" y="5085"/>
                  <a:pt x="9153" y="5184"/>
                  <a:pt x="9153" y="5283"/>
                </a:cubicBezTo>
              </a:path>
              <a:path w="795" h="323">
                <a:moveTo>
                  <a:pt x="9252" y="5035"/>
                </a:moveTo>
                <a:cubicBezTo>
                  <a:pt x="9260" y="5035"/>
                  <a:pt x="9269" y="5035"/>
                  <a:pt x="9277" y="5035"/>
                </a:cubicBezTo>
                <a:cubicBezTo>
                  <a:pt x="9277" y="5087"/>
                  <a:pt x="9277" y="5264"/>
                  <a:pt x="9277" y="5234"/>
                </a:cubicBezTo>
              </a:path>
              <a:path w="795" h="323">
                <a:moveTo>
                  <a:pt x="9302" y="5011"/>
                </a:moveTo>
                <a:lnTo>
                  <a:pt x="9302" y="5011"/>
                </a:lnTo>
              </a:path>
              <a:path w="795" h="323">
                <a:moveTo>
                  <a:pt x="9302" y="5234"/>
                </a:moveTo>
                <a:cubicBezTo>
                  <a:pt x="9329" y="5234"/>
                  <a:pt x="9346" y="5261"/>
                  <a:pt x="9376" y="5283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3143160" y="2855880"/>
            <a:ext cx="71640" cy="162000"/>
          </a:xfrm>
          <a:custGeom>
            <a:avLst/>
            <a:gdLst/>
            <a:ahLst/>
            <a:rect l="l" t="t" r="r" b="b"/>
            <a:pathLst>
              <a:path w="200" h="448">
                <a:moveTo>
                  <a:pt x="8756" y="4986"/>
                </a:moveTo>
                <a:lnTo>
                  <a:pt x="8756" y="4986"/>
                </a:lnTo>
              </a:path>
              <a:path w="200" h="448">
                <a:moveTo>
                  <a:pt x="8756" y="4986"/>
                </a:moveTo>
                <a:cubicBezTo>
                  <a:pt x="8756" y="4961"/>
                  <a:pt x="8756" y="4953"/>
                  <a:pt x="8756" y="4936"/>
                </a:cubicBezTo>
              </a:path>
              <a:path w="200" h="448">
                <a:moveTo>
                  <a:pt x="8731" y="4986"/>
                </a:moveTo>
                <a:cubicBezTo>
                  <a:pt x="8754" y="4955"/>
                  <a:pt x="8777" y="4925"/>
                  <a:pt x="8781" y="4887"/>
                </a:cubicBezTo>
                <a:cubicBezTo>
                  <a:pt x="8781" y="4879"/>
                  <a:pt x="8781" y="4870"/>
                  <a:pt x="8781" y="4862"/>
                </a:cubicBezTo>
              </a:path>
              <a:path w="200" h="448">
                <a:moveTo>
                  <a:pt x="8781" y="4961"/>
                </a:moveTo>
                <a:cubicBezTo>
                  <a:pt x="8781" y="4928"/>
                  <a:pt x="8781" y="4895"/>
                  <a:pt x="8781" y="4862"/>
                </a:cubicBezTo>
              </a:path>
              <a:path w="200" h="448">
                <a:moveTo>
                  <a:pt x="8731" y="4986"/>
                </a:moveTo>
                <a:cubicBezTo>
                  <a:pt x="8731" y="4978"/>
                  <a:pt x="8731" y="4969"/>
                  <a:pt x="8731" y="4961"/>
                </a:cubicBezTo>
                <a:cubicBezTo>
                  <a:pt x="8766" y="4949"/>
                  <a:pt x="8756" y="4954"/>
                  <a:pt x="8756" y="4911"/>
                </a:cubicBezTo>
                <a:cubicBezTo>
                  <a:pt x="8794" y="4899"/>
                  <a:pt x="8781" y="4882"/>
                  <a:pt x="8781" y="4837"/>
                </a:cubicBezTo>
                <a:cubicBezTo>
                  <a:pt x="8816" y="4825"/>
                  <a:pt x="8806" y="4830"/>
                  <a:pt x="8806" y="4787"/>
                </a:cubicBezTo>
              </a:path>
              <a:path w="200" h="448">
                <a:moveTo>
                  <a:pt x="8731" y="5011"/>
                </a:moveTo>
                <a:cubicBezTo>
                  <a:pt x="8731" y="4945"/>
                  <a:pt x="8731" y="4878"/>
                  <a:pt x="8731" y="4812"/>
                </a:cubicBezTo>
              </a:path>
              <a:path w="200" h="448">
                <a:moveTo>
                  <a:pt x="8756" y="4862"/>
                </a:moveTo>
                <a:cubicBezTo>
                  <a:pt x="8756" y="4835"/>
                  <a:pt x="8784" y="4817"/>
                  <a:pt x="8806" y="4787"/>
                </a:cubicBezTo>
              </a:path>
              <a:path w="200" h="448">
                <a:moveTo>
                  <a:pt x="8830" y="4713"/>
                </a:moveTo>
                <a:cubicBezTo>
                  <a:pt x="8830" y="4670"/>
                  <a:pt x="8820" y="4675"/>
                  <a:pt x="8855" y="4663"/>
                </a:cubicBezTo>
                <a:cubicBezTo>
                  <a:pt x="8854" y="4667"/>
                  <a:pt x="8834" y="4734"/>
                  <a:pt x="8830" y="4738"/>
                </a:cubicBezTo>
                <a:cubicBezTo>
                  <a:pt x="8820" y="4747"/>
                  <a:pt x="8785" y="4779"/>
                  <a:pt x="8781" y="4787"/>
                </a:cubicBezTo>
                <a:cubicBezTo>
                  <a:pt x="8764" y="4821"/>
                  <a:pt x="8781" y="4858"/>
                  <a:pt x="8781" y="4787"/>
                </a:cubicBezTo>
                <a:cubicBezTo>
                  <a:pt x="8781" y="4736"/>
                  <a:pt x="8796" y="4734"/>
                  <a:pt x="8806" y="4713"/>
                </a:cubicBezTo>
                <a:cubicBezTo>
                  <a:pt x="8817" y="4691"/>
                  <a:pt x="8827" y="4645"/>
                  <a:pt x="8830" y="4638"/>
                </a:cubicBezTo>
                <a:cubicBezTo>
                  <a:pt x="8843" y="4612"/>
                  <a:pt x="8846" y="4593"/>
                  <a:pt x="8880" y="4589"/>
                </a:cubicBezTo>
                <a:cubicBezTo>
                  <a:pt x="8923" y="4584"/>
                  <a:pt x="8890" y="4577"/>
                  <a:pt x="8930" y="4564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3851280" y="3057480"/>
            <a:ext cx="136836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3402000" y="3282840"/>
            <a:ext cx="590400" cy="63720"/>
          </a:xfrm>
          <a:custGeom>
            <a:avLst/>
            <a:gdLst/>
            <a:ahLst/>
            <a:rect l="l" t="t" r="r" b="b"/>
            <a:pathLst>
              <a:path w="1638" h="175">
                <a:moveTo>
                  <a:pt x="10368" y="8756"/>
                </a:moveTo>
                <a:cubicBezTo>
                  <a:pt x="10331" y="8743"/>
                  <a:pt x="10347" y="8731"/>
                  <a:pt x="10294" y="8731"/>
                </a:cubicBezTo>
                <a:cubicBezTo>
                  <a:pt x="10267" y="8731"/>
                  <a:pt x="10088" y="8731"/>
                  <a:pt x="10145" y="8731"/>
                </a:cubicBezTo>
                <a:cubicBezTo>
                  <a:pt x="10162" y="8731"/>
                  <a:pt x="10326" y="8732"/>
                  <a:pt x="10294" y="8756"/>
                </a:cubicBezTo>
                <a:cubicBezTo>
                  <a:pt x="10285" y="8763"/>
                  <a:pt x="10155" y="8779"/>
                  <a:pt x="10145" y="8781"/>
                </a:cubicBezTo>
                <a:cubicBezTo>
                  <a:pt x="10103" y="8790"/>
                  <a:pt x="10058" y="8802"/>
                  <a:pt x="10021" y="8806"/>
                </a:cubicBezTo>
                <a:cubicBezTo>
                  <a:pt x="10013" y="8806"/>
                  <a:pt x="10004" y="8806"/>
                  <a:pt x="9996" y="8806"/>
                </a:cubicBezTo>
                <a:cubicBezTo>
                  <a:pt x="10065" y="8806"/>
                  <a:pt x="10125" y="8827"/>
                  <a:pt x="10195" y="8830"/>
                </a:cubicBezTo>
                <a:cubicBezTo>
                  <a:pt x="10272" y="8833"/>
                  <a:pt x="10339" y="8855"/>
                  <a:pt x="10418" y="8855"/>
                </a:cubicBezTo>
                <a:cubicBezTo>
                  <a:pt x="10443" y="8855"/>
                  <a:pt x="10451" y="8855"/>
                  <a:pt x="10443" y="8880"/>
                </a:cubicBezTo>
                <a:cubicBezTo>
                  <a:pt x="10294" y="8880"/>
                  <a:pt x="10145" y="8880"/>
                  <a:pt x="9996" y="8880"/>
                </a:cubicBezTo>
                <a:cubicBezTo>
                  <a:pt x="10178" y="8880"/>
                  <a:pt x="10674" y="8880"/>
                  <a:pt x="10492" y="8880"/>
                </a:cubicBezTo>
                <a:cubicBezTo>
                  <a:pt x="10484" y="8880"/>
                  <a:pt x="10476" y="8880"/>
                  <a:pt x="10468" y="8880"/>
                </a:cubicBezTo>
                <a:cubicBezTo>
                  <a:pt x="10344" y="8880"/>
                  <a:pt x="10220" y="8880"/>
                  <a:pt x="10096" y="8880"/>
                </a:cubicBezTo>
                <a:cubicBezTo>
                  <a:pt x="10112" y="8831"/>
                  <a:pt x="10142" y="8867"/>
                  <a:pt x="10195" y="8855"/>
                </a:cubicBezTo>
                <a:cubicBezTo>
                  <a:pt x="10276" y="8836"/>
                  <a:pt x="10365" y="8850"/>
                  <a:pt x="10443" y="8830"/>
                </a:cubicBezTo>
                <a:cubicBezTo>
                  <a:pt x="10459" y="8822"/>
                  <a:pt x="10476" y="8814"/>
                  <a:pt x="10492" y="8806"/>
                </a:cubicBezTo>
                <a:cubicBezTo>
                  <a:pt x="10559" y="8806"/>
                  <a:pt x="10454" y="8806"/>
                  <a:pt x="10443" y="8806"/>
                </a:cubicBezTo>
                <a:cubicBezTo>
                  <a:pt x="10238" y="8806"/>
                  <a:pt x="9863" y="8751"/>
                  <a:pt x="9699" y="8830"/>
                </a:cubicBezTo>
                <a:cubicBezTo>
                  <a:pt x="9692" y="8834"/>
                  <a:pt x="9579" y="8830"/>
                  <a:pt x="9649" y="8830"/>
                </a:cubicBezTo>
                <a:cubicBezTo>
                  <a:pt x="9657" y="8830"/>
                  <a:pt x="9666" y="8830"/>
                  <a:pt x="9674" y="8830"/>
                </a:cubicBezTo>
                <a:cubicBezTo>
                  <a:pt x="9814" y="8830"/>
                  <a:pt x="9972" y="8813"/>
                  <a:pt x="10096" y="8855"/>
                </a:cubicBezTo>
                <a:cubicBezTo>
                  <a:pt x="10140" y="8870"/>
                  <a:pt x="10213" y="8825"/>
                  <a:pt x="10220" y="8880"/>
                </a:cubicBezTo>
                <a:cubicBezTo>
                  <a:pt x="10220" y="8905"/>
                  <a:pt x="10220" y="8913"/>
                  <a:pt x="10244" y="8905"/>
                </a:cubicBezTo>
              </a:path>
              <a:path w="1638" h="175">
                <a:moveTo>
                  <a:pt x="10492" y="8830"/>
                </a:moveTo>
                <a:cubicBezTo>
                  <a:pt x="10636" y="8830"/>
                  <a:pt x="10777" y="8838"/>
                  <a:pt x="10914" y="8855"/>
                </a:cubicBezTo>
                <a:cubicBezTo>
                  <a:pt x="10997" y="8866"/>
                  <a:pt x="10983" y="8839"/>
                  <a:pt x="11038" y="8880"/>
                </a:cubicBezTo>
              </a:path>
              <a:path w="1638" h="175">
                <a:moveTo>
                  <a:pt x="10641" y="8806"/>
                </a:moveTo>
                <a:cubicBezTo>
                  <a:pt x="10761" y="8806"/>
                  <a:pt x="10882" y="8809"/>
                  <a:pt x="10988" y="8830"/>
                </a:cubicBezTo>
                <a:cubicBezTo>
                  <a:pt x="11016" y="8836"/>
                  <a:pt x="11058" y="8830"/>
                  <a:pt x="11088" y="8830"/>
                </a:cubicBezTo>
                <a:cubicBezTo>
                  <a:pt x="10951" y="8830"/>
                  <a:pt x="10739" y="8853"/>
                  <a:pt x="10641" y="8806"/>
                </a:cubicBezTo>
                <a:cubicBezTo>
                  <a:pt x="10616" y="8794"/>
                  <a:pt x="10569" y="8788"/>
                  <a:pt x="10542" y="8781"/>
                </a:cubicBezTo>
              </a:path>
              <a:path w="1638" h="175">
                <a:moveTo>
                  <a:pt x="9451" y="8880"/>
                </a:moveTo>
                <a:lnTo>
                  <a:pt x="9451" y="8880"/>
                </a:ln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3160800" y="3141720"/>
            <a:ext cx="196920" cy="1440"/>
          </a:xfrm>
          <a:custGeom>
            <a:avLst/>
            <a:gdLst/>
            <a:ahLst/>
            <a:rect l="l" t="t" r="r" b="b"/>
            <a:pathLst>
              <a:path w="547" h="1">
                <a:moveTo>
                  <a:pt x="8781" y="5358"/>
                </a:moveTo>
                <a:cubicBezTo>
                  <a:pt x="8963" y="5358"/>
                  <a:pt x="9145" y="5358"/>
                  <a:pt x="9327" y="5358"/>
                </a:cubicBezTo>
              </a:path>
            </a:pathLst>
          </a:custGeom>
          <a:noFill/>
          <a:ln cap="rnd" w="349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5322960" y="2820960"/>
            <a:ext cx="7920" cy="7920"/>
          </a:xfrm>
          <a:custGeom>
            <a:avLst/>
            <a:gdLst/>
            <a:ahLst/>
            <a:rect l="l" t="t" r="r" b="b"/>
            <a:pathLst>
              <a:path w="25" h="26">
                <a:moveTo>
                  <a:pt x="14784" y="4490"/>
                </a:moveTo>
                <a:cubicBezTo>
                  <a:pt x="14792" y="4482"/>
                  <a:pt x="14800" y="4473"/>
                  <a:pt x="14808" y="4465"/>
                </a:cubicBezTo>
              </a:path>
            </a:pathLst>
          </a:custGeom>
          <a:noFill/>
          <a:ln cap="rnd" w="349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4027320" y="3016080"/>
            <a:ext cx="44640" cy="4608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11187" y="5135"/>
                </a:moveTo>
                <a:cubicBezTo>
                  <a:pt x="11187" y="5110"/>
                  <a:pt x="11187" y="5102"/>
                  <a:pt x="11187" y="5085"/>
                </a:cubicBezTo>
              </a:path>
              <a:path w="125" h="125">
                <a:moveTo>
                  <a:pt x="11286" y="5011"/>
                </a:moveTo>
                <a:cubicBezTo>
                  <a:pt x="11294" y="5011"/>
                  <a:pt x="11303" y="5011"/>
                  <a:pt x="11311" y="501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4759200" y="3033720"/>
            <a:ext cx="19080" cy="9360"/>
          </a:xfrm>
          <a:custGeom>
            <a:avLst/>
            <a:gdLst/>
            <a:ahLst/>
            <a:rect l="l" t="t" r="r" b="b"/>
            <a:pathLst>
              <a:path w="51" h="26">
                <a:moveTo>
                  <a:pt x="13221" y="5060"/>
                </a:moveTo>
                <a:cubicBezTo>
                  <a:pt x="13221" y="5093"/>
                  <a:pt x="13229" y="5102"/>
                  <a:pt x="13271" y="5085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4902120" y="3052800"/>
            <a:ext cx="142920" cy="61920"/>
          </a:xfrm>
          <a:custGeom>
            <a:avLst/>
            <a:gdLst/>
            <a:ahLst/>
            <a:rect l="l" t="t" r="r" b="b"/>
            <a:pathLst>
              <a:path w="398" h="174">
                <a:moveTo>
                  <a:pt x="13618" y="5283"/>
                </a:moveTo>
                <a:cubicBezTo>
                  <a:pt x="13634" y="5283"/>
                  <a:pt x="13651" y="5283"/>
                  <a:pt x="13667" y="5283"/>
                </a:cubicBezTo>
              </a:path>
              <a:path w="398" h="174">
                <a:moveTo>
                  <a:pt x="13816" y="5283"/>
                </a:moveTo>
                <a:cubicBezTo>
                  <a:pt x="13841" y="5283"/>
                  <a:pt x="13849" y="5283"/>
                  <a:pt x="13841" y="5259"/>
                </a:cubicBezTo>
              </a:path>
              <a:path w="398" h="174">
                <a:moveTo>
                  <a:pt x="14015" y="5110"/>
                </a:moveTo>
                <a:lnTo>
                  <a:pt x="14015" y="5110"/>
                </a:ln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5133960" y="3043080"/>
            <a:ext cx="27000" cy="19080"/>
          </a:xfrm>
          <a:custGeom>
            <a:avLst/>
            <a:gdLst/>
            <a:ahLst/>
            <a:rect l="l" t="t" r="r" b="b"/>
            <a:pathLst>
              <a:path w="75" h="51">
                <a:moveTo>
                  <a:pt x="14263" y="5135"/>
                </a:moveTo>
                <a:lnTo>
                  <a:pt x="14263" y="5135"/>
                </a:lnTo>
              </a:path>
              <a:path w="75" h="51">
                <a:moveTo>
                  <a:pt x="14288" y="5135"/>
                </a:moveTo>
                <a:cubicBezTo>
                  <a:pt x="14318" y="5135"/>
                  <a:pt x="14316" y="5113"/>
                  <a:pt x="14337" y="508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5072040" y="2963880"/>
            <a:ext cx="81000" cy="61920"/>
          </a:xfrm>
          <a:custGeom>
            <a:avLst/>
            <a:gdLst/>
            <a:ahLst/>
            <a:rect l="l" t="t" r="r" b="b"/>
            <a:pathLst>
              <a:path w="224" h="174">
                <a:moveTo>
                  <a:pt x="14288" y="4961"/>
                </a:moveTo>
                <a:lnTo>
                  <a:pt x="14288" y="4961"/>
                </a:lnTo>
              </a:path>
              <a:path w="224" h="174">
                <a:moveTo>
                  <a:pt x="14163" y="4936"/>
                </a:moveTo>
                <a:cubicBezTo>
                  <a:pt x="14163" y="4961"/>
                  <a:pt x="14163" y="4969"/>
                  <a:pt x="14163" y="4986"/>
                </a:cubicBezTo>
              </a:path>
              <a:path w="224" h="174">
                <a:moveTo>
                  <a:pt x="14089" y="5035"/>
                </a:moveTo>
                <a:cubicBezTo>
                  <a:pt x="14097" y="5035"/>
                  <a:pt x="14106" y="5035"/>
                  <a:pt x="14114" y="5035"/>
                </a:cubicBezTo>
              </a:path>
              <a:path w="224" h="174">
                <a:moveTo>
                  <a:pt x="14163" y="5035"/>
                </a:moveTo>
                <a:cubicBezTo>
                  <a:pt x="14163" y="4977"/>
                  <a:pt x="14150" y="4997"/>
                  <a:pt x="14213" y="4986"/>
                </a:cubicBezTo>
              </a:path>
              <a:path w="224" h="174">
                <a:moveTo>
                  <a:pt x="14288" y="4887"/>
                </a:moveTo>
                <a:cubicBezTo>
                  <a:pt x="14288" y="4862"/>
                  <a:pt x="14288" y="4854"/>
                  <a:pt x="14312" y="4862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4211640" y="2455920"/>
            <a:ext cx="136440" cy="169920"/>
          </a:xfrm>
          <a:custGeom>
            <a:avLst/>
            <a:gdLst/>
            <a:ahLst/>
            <a:rect l="l" t="t" r="r" b="b"/>
            <a:pathLst>
              <a:path w="75" h="108">
                <a:moveTo>
                  <a:pt x="0" y="44"/>
                </a:moveTo>
                <a:cubicBezTo>
                  <a:pt x="29" y="63"/>
                  <a:pt x="29" y="80"/>
                  <a:pt x="48" y="108"/>
                </a:cubicBezTo>
                <a:cubicBezTo>
                  <a:pt x="45" y="95"/>
                  <a:pt x="44" y="81"/>
                  <a:pt x="40" y="68"/>
                </a:cubicBezTo>
                <a:cubicBezTo>
                  <a:pt x="29" y="29"/>
                  <a:pt x="5" y="0"/>
                  <a:pt x="48" y="36"/>
                </a:cubicBezTo>
                <a:cubicBezTo>
                  <a:pt x="57" y="43"/>
                  <a:pt x="64" y="52"/>
                  <a:pt x="72" y="60"/>
                </a:cubicBezTo>
                <a:cubicBezTo>
                  <a:pt x="63" y="95"/>
                  <a:pt x="75" y="92"/>
                  <a:pt x="56" y="92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4140360" y="2625840"/>
            <a:ext cx="71892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5829480" y="2965320"/>
            <a:ext cx="387000" cy="139680"/>
          </a:xfrm>
          <a:custGeom>
            <a:avLst/>
            <a:gdLst/>
            <a:ahLst/>
            <a:rect l="l" t="t" r="r" b="b"/>
            <a:pathLst>
              <a:path w="244" h="88">
                <a:moveTo>
                  <a:pt x="24" y="59"/>
                </a:moveTo>
                <a:cubicBezTo>
                  <a:pt x="63" y="55"/>
                  <a:pt x="142" y="42"/>
                  <a:pt x="184" y="59"/>
                </a:cubicBezTo>
                <a:cubicBezTo>
                  <a:pt x="194" y="63"/>
                  <a:pt x="163" y="64"/>
                  <a:pt x="152" y="67"/>
                </a:cubicBezTo>
                <a:cubicBezTo>
                  <a:pt x="147" y="59"/>
                  <a:pt x="134" y="52"/>
                  <a:pt x="136" y="43"/>
                </a:cubicBezTo>
                <a:cubicBezTo>
                  <a:pt x="138" y="34"/>
                  <a:pt x="170" y="28"/>
                  <a:pt x="160" y="27"/>
                </a:cubicBezTo>
                <a:cubicBezTo>
                  <a:pt x="115" y="24"/>
                  <a:pt x="69" y="32"/>
                  <a:pt x="24" y="35"/>
                </a:cubicBezTo>
                <a:cubicBezTo>
                  <a:pt x="96" y="83"/>
                  <a:pt x="0" y="11"/>
                  <a:pt x="0" y="59"/>
                </a:cubicBezTo>
                <a:cubicBezTo>
                  <a:pt x="0" y="76"/>
                  <a:pt x="48" y="75"/>
                  <a:pt x="48" y="75"/>
                </a:cubicBezTo>
                <a:cubicBezTo>
                  <a:pt x="107" y="72"/>
                  <a:pt x="169" y="88"/>
                  <a:pt x="224" y="67"/>
                </a:cubicBezTo>
                <a:cubicBezTo>
                  <a:pt x="244" y="59"/>
                  <a:pt x="227" y="24"/>
                  <a:pt x="232" y="3"/>
                </a:cubicBezTo>
                <a:cubicBezTo>
                  <a:pt x="233" y="0"/>
                  <a:pt x="237" y="3"/>
                  <a:pt x="240" y="3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3902040" y="2490840"/>
            <a:ext cx="214200" cy="169920"/>
          </a:xfrm>
          <a:custGeom>
            <a:avLst/>
            <a:gdLst/>
            <a:ahLst/>
            <a:rect l="l" t="t" r="r" b="b"/>
            <a:pathLst>
              <a:path w="596" h="472">
                <a:moveTo>
                  <a:pt x="11112" y="3473"/>
                </a:moveTo>
                <a:cubicBezTo>
                  <a:pt x="11112" y="3448"/>
                  <a:pt x="11112" y="3423"/>
                  <a:pt x="11112" y="3398"/>
                </a:cubicBezTo>
                <a:cubicBezTo>
                  <a:pt x="11232" y="3436"/>
                  <a:pt x="11326" y="3486"/>
                  <a:pt x="11435" y="3547"/>
                </a:cubicBezTo>
                <a:cubicBezTo>
                  <a:pt x="11435" y="3490"/>
                  <a:pt x="11425" y="3469"/>
                  <a:pt x="11410" y="3423"/>
                </a:cubicBezTo>
                <a:cubicBezTo>
                  <a:pt x="11399" y="3389"/>
                  <a:pt x="11370" y="3384"/>
                  <a:pt x="11361" y="3349"/>
                </a:cubicBezTo>
                <a:cubicBezTo>
                  <a:pt x="11346" y="3286"/>
                  <a:pt x="11346" y="3228"/>
                  <a:pt x="11311" y="3175"/>
                </a:cubicBezTo>
                <a:cubicBezTo>
                  <a:pt x="11303" y="3167"/>
                  <a:pt x="11294" y="3158"/>
                  <a:pt x="11286" y="3150"/>
                </a:cubicBezTo>
                <a:cubicBezTo>
                  <a:pt x="11286" y="3200"/>
                  <a:pt x="11275" y="3209"/>
                  <a:pt x="11261" y="3249"/>
                </a:cubicBezTo>
                <a:cubicBezTo>
                  <a:pt x="11258" y="3258"/>
                  <a:pt x="11220" y="3319"/>
                  <a:pt x="11212" y="3324"/>
                </a:cubicBezTo>
                <a:cubicBezTo>
                  <a:pt x="11184" y="3343"/>
                  <a:pt x="11165" y="3380"/>
                  <a:pt x="11112" y="3398"/>
                </a:cubicBezTo>
                <a:cubicBezTo>
                  <a:pt x="11039" y="3423"/>
                  <a:pt x="10954" y="3369"/>
                  <a:pt x="10914" y="3423"/>
                </a:cubicBezTo>
                <a:cubicBezTo>
                  <a:pt x="10888" y="3457"/>
                  <a:pt x="10853" y="3483"/>
                  <a:pt x="10840" y="3522"/>
                </a:cubicBezTo>
                <a:cubicBezTo>
                  <a:pt x="10831" y="3548"/>
                  <a:pt x="10840" y="3593"/>
                  <a:pt x="10840" y="3621"/>
                </a:cubicBezTo>
                <a:cubicBezTo>
                  <a:pt x="10889" y="3621"/>
                  <a:pt x="10899" y="3610"/>
                  <a:pt x="10939" y="3597"/>
                </a:cubicBezTo>
                <a:cubicBezTo>
                  <a:pt x="10947" y="3594"/>
                  <a:pt x="11008" y="3555"/>
                  <a:pt x="11013" y="3547"/>
                </a:cubicBezTo>
                <a:cubicBezTo>
                  <a:pt x="11031" y="3520"/>
                  <a:pt x="11038" y="3484"/>
                  <a:pt x="11038" y="3448"/>
                </a:cubicBezTo>
                <a:cubicBezTo>
                  <a:pt x="11038" y="3407"/>
                  <a:pt x="11038" y="3365"/>
                  <a:pt x="11038" y="3324"/>
                </a:cubicBezTo>
              </a:path>
              <a:path w="596" h="472">
                <a:moveTo>
                  <a:pt x="11212" y="3225"/>
                </a:moveTo>
                <a:cubicBezTo>
                  <a:pt x="11238" y="3172"/>
                  <a:pt x="11287" y="3185"/>
                  <a:pt x="11311" y="3150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5786280" y="3081240"/>
            <a:ext cx="374760" cy="88920"/>
          </a:xfrm>
          <a:custGeom>
            <a:avLst/>
            <a:gdLst/>
            <a:ahLst/>
            <a:rect l="l" t="t" r="r" b="b"/>
            <a:pathLst>
              <a:path w="1043" h="249">
                <a:moveTo>
                  <a:pt x="16073" y="5035"/>
                </a:moveTo>
                <a:cubicBezTo>
                  <a:pt x="16123" y="5035"/>
                  <a:pt x="16182" y="5015"/>
                  <a:pt x="16197" y="5011"/>
                </a:cubicBezTo>
                <a:cubicBezTo>
                  <a:pt x="16458" y="4943"/>
                  <a:pt x="16817" y="5011"/>
                  <a:pt x="17090" y="5011"/>
                </a:cubicBezTo>
                <a:cubicBezTo>
                  <a:pt x="17090" y="4964"/>
                  <a:pt x="17107" y="4948"/>
                  <a:pt x="17115" y="4911"/>
                </a:cubicBezTo>
                <a:cubicBezTo>
                  <a:pt x="17123" y="4875"/>
                  <a:pt x="17115" y="4824"/>
                  <a:pt x="17115" y="4787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3179880" y="2563920"/>
            <a:ext cx="757080" cy="353880"/>
          </a:xfrm>
          <a:custGeom>
            <a:avLst/>
            <a:gdLst/>
            <a:ahLst/>
            <a:rect l="l" t="t" r="r" b="b"/>
            <a:pathLst>
              <a:path w="477" h="223">
                <a:moveTo>
                  <a:pt x="37" y="184"/>
                </a:moveTo>
                <a:cubicBezTo>
                  <a:pt x="0" y="128"/>
                  <a:pt x="45" y="135"/>
                  <a:pt x="93" y="128"/>
                </a:cubicBezTo>
                <a:cubicBezTo>
                  <a:pt x="110" y="179"/>
                  <a:pt x="106" y="141"/>
                  <a:pt x="29" y="160"/>
                </a:cubicBezTo>
                <a:cubicBezTo>
                  <a:pt x="20" y="162"/>
                  <a:pt x="13" y="171"/>
                  <a:pt x="5" y="176"/>
                </a:cubicBezTo>
                <a:cubicBezTo>
                  <a:pt x="21" y="223"/>
                  <a:pt x="40" y="196"/>
                  <a:pt x="77" y="184"/>
                </a:cubicBezTo>
                <a:cubicBezTo>
                  <a:pt x="97" y="153"/>
                  <a:pt x="124" y="136"/>
                  <a:pt x="77" y="120"/>
                </a:cubicBezTo>
                <a:cubicBezTo>
                  <a:pt x="91" y="78"/>
                  <a:pt x="148" y="57"/>
                  <a:pt x="189" y="48"/>
                </a:cubicBezTo>
                <a:cubicBezTo>
                  <a:pt x="274" y="29"/>
                  <a:pt x="362" y="28"/>
                  <a:pt x="445" y="0"/>
                </a:cubicBezTo>
                <a:cubicBezTo>
                  <a:pt x="475" y="10"/>
                  <a:pt x="465" y="0"/>
                  <a:pt x="477" y="24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4694400" y="863640"/>
            <a:ext cx="1549080" cy="979560"/>
          </a:xfrm>
          <a:custGeom>
            <a:avLst/>
            <a:gdLst/>
            <a:ahLst/>
            <a:rect l="l" t="t" r="r" b="b"/>
            <a:pathLst>
              <a:path w="976" h="617">
                <a:moveTo>
                  <a:pt x="195" y="248"/>
                </a:moveTo>
                <a:cubicBezTo>
                  <a:pt x="419" y="257"/>
                  <a:pt x="690" y="308"/>
                  <a:pt x="899" y="256"/>
                </a:cubicBezTo>
                <a:cubicBezTo>
                  <a:pt x="823" y="250"/>
                  <a:pt x="725" y="242"/>
                  <a:pt x="651" y="240"/>
                </a:cubicBezTo>
                <a:cubicBezTo>
                  <a:pt x="488" y="236"/>
                  <a:pt x="0" y="232"/>
                  <a:pt x="163" y="232"/>
                </a:cubicBezTo>
                <a:cubicBezTo>
                  <a:pt x="427" y="232"/>
                  <a:pt x="691" y="237"/>
                  <a:pt x="955" y="240"/>
                </a:cubicBezTo>
                <a:cubicBezTo>
                  <a:pt x="958" y="248"/>
                  <a:pt x="955" y="264"/>
                  <a:pt x="963" y="264"/>
                </a:cubicBezTo>
                <a:cubicBezTo>
                  <a:pt x="971" y="264"/>
                  <a:pt x="971" y="232"/>
                  <a:pt x="971" y="240"/>
                </a:cubicBezTo>
                <a:cubicBezTo>
                  <a:pt x="971" y="283"/>
                  <a:pt x="966" y="325"/>
                  <a:pt x="963" y="368"/>
                </a:cubicBezTo>
                <a:cubicBezTo>
                  <a:pt x="954" y="314"/>
                  <a:pt x="967" y="301"/>
                  <a:pt x="915" y="288"/>
                </a:cubicBezTo>
                <a:cubicBezTo>
                  <a:pt x="884" y="334"/>
                  <a:pt x="899" y="296"/>
                  <a:pt x="923" y="320"/>
                </a:cubicBezTo>
                <a:cubicBezTo>
                  <a:pt x="929" y="326"/>
                  <a:pt x="928" y="336"/>
                  <a:pt x="931" y="344"/>
                </a:cubicBezTo>
                <a:cubicBezTo>
                  <a:pt x="926" y="352"/>
                  <a:pt x="913" y="359"/>
                  <a:pt x="915" y="368"/>
                </a:cubicBezTo>
                <a:cubicBezTo>
                  <a:pt x="923" y="406"/>
                  <a:pt x="955" y="373"/>
                  <a:pt x="963" y="368"/>
                </a:cubicBezTo>
                <a:cubicBezTo>
                  <a:pt x="976" y="406"/>
                  <a:pt x="967" y="420"/>
                  <a:pt x="939" y="448"/>
                </a:cubicBezTo>
                <a:cubicBezTo>
                  <a:pt x="936" y="456"/>
                  <a:pt x="939" y="472"/>
                  <a:pt x="931" y="472"/>
                </a:cubicBezTo>
                <a:cubicBezTo>
                  <a:pt x="920" y="472"/>
                  <a:pt x="913" y="457"/>
                  <a:pt x="907" y="448"/>
                </a:cubicBezTo>
                <a:cubicBezTo>
                  <a:pt x="894" y="429"/>
                  <a:pt x="882" y="398"/>
                  <a:pt x="875" y="376"/>
                </a:cubicBezTo>
                <a:cubicBezTo>
                  <a:pt x="863" y="530"/>
                  <a:pt x="883" y="502"/>
                  <a:pt x="715" y="512"/>
                </a:cubicBezTo>
                <a:cubicBezTo>
                  <a:pt x="654" y="603"/>
                  <a:pt x="696" y="562"/>
                  <a:pt x="675" y="432"/>
                </a:cubicBezTo>
                <a:cubicBezTo>
                  <a:pt x="669" y="395"/>
                  <a:pt x="618" y="378"/>
                  <a:pt x="587" y="368"/>
                </a:cubicBezTo>
                <a:cubicBezTo>
                  <a:pt x="457" y="372"/>
                  <a:pt x="369" y="322"/>
                  <a:pt x="307" y="416"/>
                </a:cubicBezTo>
                <a:cubicBezTo>
                  <a:pt x="288" y="493"/>
                  <a:pt x="307" y="410"/>
                  <a:pt x="323" y="400"/>
                </a:cubicBezTo>
                <a:cubicBezTo>
                  <a:pt x="337" y="391"/>
                  <a:pt x="355" y="389"/>
                  <a:pt x="371" y="384"/>
                </a:cubicBezTo>
                <a:cubicBezTo>
                  <a:pt x="389" y="378"/>
                  <a:pt x="323" y="416"/>
                  <a:pt x="323" y="416"/>
                </a:cubicBezTo>
                <a:cubicBezTo>
                  <a:pt x="318" y="432"/>
                  <a:pt x="312" y="448"/>
                  <a:pt x="307" y="464"/>
                </a:cubicBezTo>
                <a:cubicBezTo>
                  <a:pt x="304" y="472"/>
                  <a:pt x="312" y="448"/>
                  <a:pt x="315" y="440"/>
                </a:cubicBezTo>
                <a:cubicBezTo>
                  <a:pt x="319" y="429"/>
                  <a:pt x="330" y="423"/>
                  <a:pt x="339" y="416"/>
                </a:cubicBezTo>
                <a:cubicBezTo>
                  <a:pt x="375" y="390"/>
                  <a:pt x="403" y="397"/>
                  <a:pt x="451" y="392"/>
                </a:cubicBezTo>
                <a:cubicBezTo>
                  <a:pt x="532" y="365"/>
                  <a:pt x="482" y="375"/>
                  <a:pt x="603" y="384"/>
                </a:cubicBezTo>
                <a:cubicBezTo>
                  <a:pt x="611" y="389"/>
                  <a:pt x="618" y="396"/>
                  <a:pt x="627" y="400"/>
                </a:cubicBezTo>
                <a:cubicBezTo>
                  <a:pt x="635" y="404"/>
                  <a:pt x="646" y="401"/>
                  <a:pt x="651" y="408"/>
                </a:cubicBezTo>
                <a:cubicBezTo>
                  <a:pt x="661" y="422"/>
                  <a:pt x="667" y="456"/>
                  <a:pt x="667" y="456"/>
                </a:cubicBezTo>
                <a:cubicBezTo>
                  <a:pt x="668" y="467"/>
                  <a:pt x="661" y="617"/>
                  <a:pt x="715" y="536"/>
                </a:cubicBezTo>
                <a:cubicBezTo>
                  <a:pt x="718" y="544"/>
                  <a:pt x="715" y="564"/>
                  <a:pt x="723" y="560"/>
                </a:cubicBezTo>
                <a:cubicBezTo>
                  <a:pt x="733" y="555"/>
                  <a:pt x="731" y="539"/>
                  <a:pt x="731" y="528"/>
                </a:cubicBezTo>
                <a:cubicBezTo>
                  <a:pt x="731" y="479"/>
                  <a:pt x="716" y="419"/>
                  <a:pt x="675" y="392"/>
                </a:cubicBezTo>
                <a:cubicBezTo>
                  <a:pt x="579" y="395"/>
                  <a:pt x="483" y="390"/>
                  <a:pt x="387" y="400"/>
                </a:cubicBezTo>
                <a:cubicBezTo>
                  <a:pt x="361" y="403"/>
                  <a:pt x="370" y="450"/>
                  <a:pt x="355" y="472"/>
                </a:cubicBezTo>
                <a:cubicBezTo>
                  <a:pt x="344" y="488"/>
                  <a:pt x="341" y="514"/>
                  <a:pt x="323" y="520"/>
                </a:cubicBezTo>
                <a:cubicBezTo>
                  <a:pt x="307" y="525"/>
                  <a:pt x="275" y="536"/>
                  <a:pt x="275" y="536"/>
                </a:cubicBezTo>
                <a:cubicBezTo>
                  <a:pt x="227" y="531"/>
                  <a:pt x="159" y="559"/>
                  <a:pt x="131" y="520"/>
                </a:cubicBezTo>
                <a:cubicBezTo>
                  <a:pt x="93" y="465"/>
                  <a:pt x="170" y="367"/>
                  <a:pt x="123" y="320"/>
                </a:cubicBezTo>
                <a:cubicBezTo>
                  <a:pt x="80" y="277"/>
                  <a:pt x="118" y="443"/>
                  <a:pt x="115" y="504"/>
                </a:cubicBezTo>
                <a:cubicBezTo>
                  <a:pt x="127" y="564"/>
                  <a:pt x="126" y="550"/>
                  <a:pt x="171" y="520"/>
                </a:cubicBezTo>
                <a:cubicBezTo>
                  <a:pt x="166" y="432"/>
                  <a:pt x="174" y="342"/>
                  <a:pt x="155" y="256"/>
                </a:cubicBezTo>
                <a:cubicBezTo>
                  <a:pt x="152" y="243"/>
                  <a:pt x="125" y="254"/>
                  <a:pt x="115" y="264"/>
                </a:cubicBezTo>
                <a:cubicBezTo>
                  <a:pt x="103" y="276"/>
                  <a:pt x="138" y="292"/>
                  <a:pt x="155" y="296"/>
                </a:cubicBezTo>
                <a:cubicBezTo>
                  <a:pt x="163" y="288"/>
                  <a:pt x="177" y="283"/>
                  <a:pt x="179" y="272"/>
                </a:cubicBezTo>
                <a:cubicBezTo>
                  <a:pt x="183" y="256"/>
                  <a:pt x="171" y="240"/>
                  <a:pt x="171" y="224"/>
                </a:cubicBezTo>
                <a:cubicBezTo>
                  <a:pt x="171" y="160"/>
                  <a:pt x="176" y="96"/>
                  <a:pt x="179" y="32"/>
                </a:cubicBezTo>
                <a:cubicBezTo>
                  <a:pt x="243" y="40"/>
                  <a:pt x="250" y="39"/>
                  <a:pt x="291" y="80"/>
                </a:cubicBezTo>
                <a:cubicBezTo>
                  <a:pt x="303" y="117"/>
                  <a:pt x="311" y="155"/>
                  <a:pt x="323" y="192"/>
                </a:cubicBezTo>
                <a:cubicBezTo>
                  <a:pt x="326" y="200"/>
                  <a:pt x="339" y="196"/>
                  <a:pt x="347" y="200"/>
                </a:cubicBezTo>
                <a:cubicBezTo>
                  <a:pt x="409" y="231"/>
                  <a:pt x="335" y="204"/>
                  <a:pt x="395" y="224"/>
                </a:cubicBezTo>
                <a:cubicBezTo>
                  <a:pt x="406" y="221"/>
                  <a:pt x="422" y="226"/>
                  <a:pt x="427" y="216"/>
                </a:cubicBezTo>
                <a:cubicBezTo>
                  <a:pt x="434" y="203"/>
                  <a:pt x="391" y="179"/>
                  <a:pt x="387" y="176"/>
                </a:cubicBezTo>
                <a:cubicBezTo>
                  <a:pt x="368" y="148"/>
                  <a:pt x="368" y="131"/>
                  <a:pt x="339" y="112"/>
                </a:cubicBezTo>
                <a:cubicBezTo>
                  <a:pt x="281" y="24"/>
                  <a:pt x="267" y="0"/>
                  <a:pt x="155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3886200" y="952560"/>
            <a:ext cx="977760" cy="952560"/>
          </a:xfrm>
          <a:custGeom>
            <a:avLst/>
            <a:gdLst/>
            <a:ahLst/>
            <a:rect l="l" t="t" r="r" b="b"/>
            <a:pathLst>
              <a:path w="616" h="600">
                <a:moveTo>
                  <a:pt x="104" y="240"/>
                </a:moveTo>
                <a:cubicBezTo>
                  <a:pt x="88" y="245"/>
                  <a:pt x="72" y="251"/>
                  <a:pt x="56" y="256"/>
                </a:cubicBezTo>
                <a:cubicBezTo>
                  <a:pt x="48" y="259"/>
                  <a:pt x="32" y="240"/>
                  <a:pt x="32" y="248"/>
                </a:cubicBezTo>
                <a:cubicBezTo>
                  <a:pt x="32" y="258"/>
                  <a:pt x="48" y="259"/>
                  <a:pt x="56" y="264"/>
                </a:cubicBezTo>
                <a:cubicBezTo>
                  <a:pt x="39" y="316"/>
                  <a:pt x="0" y="296"/>
                  <a:pt x="48" y="328"/>
                </a:cubicBezTo>
                <a:cubicBezTo>
                  <a:pt x="116" y="600"/>
                  <a:pt x="39" y="424"/>
                  <a:pt x="616" y="416"/>
                </a:cubicBezTo>
                <a:cubicBezTo>
                  <a:pt x="605" y="244"/>
                  <a:pt x="600" y="211"/>
                  <a:pt x="60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3336840" y="1206360"/>
            <a:ext cx="1755720" cy="514440"/>
          </a:xfrm>
          <a:custGeom>
            <a:avLst/>
            <a:gdLst/>
            <a:ahLst/>
            <a:rect l="l" t="t" r="r" b="b"/>
            <a:pathLst>
              <a:path w="1106" h="324">
                <a:moveTo>
                  <a:pt x="10" y="280"/>
                </a:moveTo>
                <a:cubicBezTo>
                  <a:pt x="25" y="159"/>
                  <a:pt x="0" y="255"/>
                  <a:pt x="42" y="192"/>
                </a:cubicBezTo>
                <a:cubicBezTo>
                  <a:pt x="47" y="185"/>
                  <a:pt x="45" y="175"/>
                  <a:pt x="50" y="168"/>
                </a:cubicBezTo>
                <a:cubicBezTo>
                  <a:pt x="66" y="144"/>
                  <a:pt x="81" y="141"/>
                  <a:pt x="106" y="128"/>
                </a:cubicBezTo>
                <a:cubicBezTo>
                  <a:pt x="142" y="130"/>
                  <a:pt x="246" y="108"/>
                  <a:pt x="290" y="152"/>
                </a:cubicBezTo>
                <a:cubicBezTo>
                  <a:pt x="317" y="179"/>
                  <a:pt x="330" y="223"/>
                  <a:pt x="346" y="256"/>
                </a:cubicBezTo>
                <a:cubicBezTo>
                  <a:pt x="350" y="265"/>
                  <a:pt x="352" y="280"/>
                  <a:pt x="362" y="280"/>
                </a:cubicBezTo>
                <a:cubicBezTo>
                  <a:pt x="370" y="280"/>
                  <a:pt x="358" y="263"/>
                  <a:pt x="354" y="256"/>
                </a:cubicBezTo>
                <a:cubicBezTo>
                  <a:pt x="327" y="207"/>
                  <a:pt x="333" y="215"/>
                  <a:pt x="298" y="192"/>
                </a:cubicBezTo>
                <a:cubicBezTo>
                  <a:pt x="285" y="154"/>
                  <a:pt x="302" y="156"/>
                  <a:pt x="314" y="120"/>
                </a:cubicBezTo>
                <a:cubicBezTo>
                  <a:pt x="329" y="193"/>
                  <a:pt x="306" y="135"/>
                  <a:pt x="354" y="176"/>
                </a:cubicBezTo>
                <a:cubicBezTo>
                  <a:pt x="364" y="185"/>
                  <a:pt x="368" y="199"/>
                  <a:pt x="378" y="208"/>
                </a:cubicBezTo>
                <a:cubicBezTo>
                  <a:pt x="398" y="225"/>
                  <a:pt x="426" y="227"/>
                  <a:pt x="450" y="232"/>
                </a:cubicBezTo>
                <a:cubicBezTo>
                  <a:pt x="633" y="324"/>
                  <a:pt x="490" y="264"/>
                  <a:pt x="914" y="272"/>
                </a:cubicBezTo>
                <a:cubicBezTo>
                  <a:pt x="869" y="317"/>
                  <a:pt x="806" y="309"/>
                  <a:pt x="962" y="296"/>
                </a:cubicBezTo>
                <a:cubicBezTo>
                  <a:pt x="975" y="293"/>
                  <a:pt x="991" y="296"/>
                  <a:pt x="1002" y="288"/>
                </a:cubicBezTo>
                <a:cubicBezTo>
                  <a:pt x="1009" y="283"/>
                  <a:pt x="1004" y="270"/>
                  <a:pt x="1010" y="264"/>
                </a:cubicBezTo>
                <a:cubicBezTo>
                  <a:pt x="1023" y="251"/>
                  <a:pt x="1087" y="206"/>
                  <a:pt x="1106" y="200"/>
                </a:cubicBezTo>
                <a:cubicBezTo>
                  <a:pt x="994" y="163"/>
                  <a:pt x="605" y="220"/>
                  <a:pt x="762" y="168"/>
                </a:cubicBezTo>
                <a:cubicBezTo>
                  <a:pt x="773" y="160"/>
                  <a:pt x="782" y="150"/>
                  <a:pt x="794" y="144"/>
                </a:cubicBezTo>
                <a:cubicBezTo>
                  <a:pt x="804" y="139"/>
                  <a:pt x="821" y="146"/>
                  <a:pt x="826" y="136"/>
                </a:cubicBezTo>
                <a:cubicBezTo>
                  <a:pt x="830" y="127"/>
                  <a:pt x="819" y="116"/>
                  <a:pt x="810" y="112"/>
                </a:cubicBezTo>
                <a:cubicBezTo>
                  <a:pt x="790" y="104"/>
                  <a:pt x="767" y="107"/>
                  <a:pt x="746" y="104"/>
                </a:cubicBezTo>
                <a:cubicBezTo>
                  <a:pt x="706" y="114"/>
                  <a:pt x="688" y="127"/>
                  <a:pt x="650" y="144"/>
                </a:cubicBezTo>
                <a:cubicBezTo>
                  <a:pt x="650" y="144"/>
                  <a:pt x="590" y="164"/>
                  <a:pt x="578" y="168"/>
                </a:cubicBezTo>
                <a:cubicBezTo>
                  <a:pt x="568" y="171"/>
                  <a:pt x="599" y="163"/>
                  <a:pt x="610" y="160"/>
                </a:cubicBezTo>
                <a:cubicBezTo>
                  <a:pt x="615" y="152"/>
                  <a:pt x="626" y="146"/>
                  <a:pt x="626" y="136"/>
                </a:cubicBezTo>
                <a:cubicBezTo>
                  <a:pt x="626" y="105"/>
                  <a:pt x="586" y="108"/>
                  <a:pt x="570" y="104"/>
                </a:cubicBezTo>
                <a:cubicBezTo>
                  <a:pt x="559" y="102"/>
                  <a:pt x="529" y="90"/>
                  <a:pt x="538" y="96"/>
                </a:cubicBezTo>
                <a:cubicBezTo>
                  <a:pt x="555" y="107"/>
                  <a:pt x="574" y="116"/>
                  <a:pt x="594" y="120"/>
                </a:cubicBezTo>
                <a:cubicBezTo>
                  <a:pt x="625" y="127"/>
                  <a:pt x="658" y="125"/>
                  <a:pt x="690" y="128"/>
                </a:cubicBezTo>
                <a:cubicBezTo>
                  <a:pt x="601" y="98"/>
                  <a:pt x="503" y="88"/>
                  <a:pt x="410" y="72"/>
                </a:cubicBezTo>
                <a:cubicBezTo>
                  <a:pt x="413" y="64"/>
                  <a:pt x="421" y="56"/>
                  <a:pt x="418" y="48"/>
                </a:cubicBezTo>
                <a:cubicBezTo>
                  <a:pt x="412" y="30"/>
                  <a:pt x="386" y="0"/>
                  <a:pt x="386" y="0"/>
                </a:cubicBezTo>
                <a:cubicBezTo>
                  <a:pt x="334" y="9"/>
                  <a:pt x="326" y="14"/>
                  <a:pt x="298" y="56"/>
                </a:cubicBezTo>
                <a:cubicBezTo>
                  <a:pt x="303" y="64"/>
                  <a:pt x="306" y="75"/>
                  <a:pt x="314" y="80"/>
                </a:cubicBezTo>
                <a:cubicBezTo>
                  <a:pt x="328" y="89"/>
                  <a:pt x="362" y="96"/>
                  <a:pt x="362" y="96"/>
                </a:cubicBezTo>
                <a:cubicBezTo>
                  <a:pt x="387" y="90"/>
                  <a:pt x="442" y="87"/>
                  <a:pt x="378" y="32"/>
                </a:cubicBezTo>
                <a:cubicBezTo>
                  <a:pt x="368" y="23"/>
                  <a:pt x="351" y="37"/>
                  <a:pt x="338" y="40"/>
                </a:cubicBezTo>
                <a:cubicBezTo>
                  <a:pt x="335" y="56"/>
                  <a:pt x="330" y="88"/>
                  <a:pt x="330" y="8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5253120" y="2260440"/>
            <a:ext cx="169920" cy="373320"/>
          </a:xfrm>
          <a:custGeom>
            <a:avLst/>
            <a:gdLst/>
            <a:ahLst/>
            <a:rect l="l" t="t" r="r" b="b"/>
            <a:pathLst>
              <a:path w="107" h="235">
                <a:moveTo>
                  <a:pt x="67" y="0"/>
                </a:moveTo>
                <a:cubicBezTo>
                  <a:pt x="75" y="235"/>
                  <a:pt x="0" y="224"/>
                  <a:pt x="107" y="224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 flipH="1">
            <a:off x="5074920" y="2349360"/>
            <a:ext cx="144360" cy="358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5245200" y="2286000"/>
            <a:ext cx="12600" cy="558720"/>
          </a:xfrm>
          <a:custGeom>
            <a:avLst/>
            <a:gdLst/>
            <a:ahLst/>
            <a:rect l="l" t="t" r="r" b="b"/>
            <a:pathLst>
              <a:path w="8" h="352">
                <a:moveTo>
                  <a:pt x="8" y="0"/>
                </a:moveTo>
                <a:cubicBezTo>
                  <a:pt x="0" y="325"/>
                  <a:pt x="0" y="208"/>
                  <a:pt x="0" y="352"/>
                </a:cubicBezTo>
              </a:path>
            </a:pathLst>
          </a:custGeom>
          <a:noFill/>
          <a:ln w="93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5397480" y="2565360"/>
            <a:ext cx="870120" cy="546120"/>
          </a:xfrm>
          <a:custGeom>
            <a:avLst/>
            <a:gdLst/>
            <a:ahLst/>
            <a:rect l="l" t="t" r="r" b="b"/>
            <a:pathLst>
              <a:path w="548" h="344">
                <a:moveTo>
                  <a:pt x="0" y="0"/>
                </a:moveTo>
                <a:cubicBezTo>
                  <a:pt x="165" y="3"/>
                  <a:pt x="331" y="3"/>
                  <a:pt x="496" y="8"/>
                </a:cubicBezTo>
                <a:cubicBezTo>
                  <a:pt x="507" y="8"/>
                  <a:pt x="523" y="6"/>
                  <a:pt x="528" y="16"/>
                </a:cubicBezTo>
                <a:cubicBezTo>
                  <a:pt x="530" y="20"/>
                  <a:pt x="490" y="212"/>
                  <a:pt x="512" y="56"/>
                </a:cubicBezTo>
                <a:cubicBezTo>
                  <a:pt x="548" y="163"/>
                  <a:pt x="520" y="72"/>
                  <a:pt x="520" y="344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468360" y="39895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 s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2987640" y="4950000"/>
            <a:ext cx="295272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5303880" y="4950000"/>
            <a:ext cx="546120" cy="63360"/>
          </a:xfrm>
          <a:custGeom>
            <a:avLst/>
            <a:gdLst/>
            <a:ahLst/>
            <a:rect l="l" t="t" r="r" b="b"/>
            <a:pathLst>
              <a:path w="1514" h="174">
                <a:moveTo>
                  <a:pt x="15379" y="15156"/>
                </a:moveTo>
                <a:cubicBezTo>
                  <a:pt x="15459" y="15156"/>
                  <a:pt x="15725" y="15130"/>
                  <a:pt x="15701" y="15180"/>
                </a:cubicBezTo>
                <a:cubicBezTo>
                  <a:pt x="15682" y="15219"/>
                  <a:pt x="15602" y="15199"/>
                  <a:pt x="15652" y="15205"/>
                </a:cubicBezTo>
                <a:cubicBezTo>
                  <a:pt x="15674" y="15208"/>
                  <a:pt x="15793" y="15205"/>
                  <a:pt x="15677" y="15205"/>
                </a:cubicBezTo>
                <a:cubicBezTo>
                  <a:pt x="15635" y="15205"/>
                  <a:pt x="15627" y="15205"/>
                  <a:pt x="15602" y="15205"/>
                </a:cubicBezTo>
                <a:cubicBezTo>
                  <a:pt x="15519" y="15205"/>
                  <a:pt x="15413" y="15205"/>
                  <a:pt x="15577" y="15205"/>
                </a:cubicBezTo>
                <a:cubicBezTo>
                  <a:pt x="15608" y="15205"/>
                  <a:pt x="15831" y="15205"/>
                  <a:pt x="15701" y="15205"/>
                </a:cubicBezTo>
                <a:cubicBezTo>
                  <a:pt x="15536" y="15205"/>
                  <a:pt x="15090" y="15205"/>
                  <a:pt x="15255" y="15205"/>
                </a:cubicBezTo>
                <a:cubicBezTo>
                  <a:pt x="15280" y="15205"/>
                  <a:pt x="15304" y="15205"/>
                  <a:pt x="15329" y="15205"/>
                </a:cubicBezTo>
                <a:cubicBezTo>
                  <a:pt x="15372" y="15205"/>
                  <a:pt x="15649" y="15205"/>
                  <a:pt x="15528" y="15205"/>
                </a:cubicBezTo>
                <a:cubicBezTo>
                  <a:pt x="15404" y="15205"/>
                  <a:pt x="14984" y="15205"/>
                  <a:pt x="15032" y="15205"/>
                </a:cubicBezTo>
                <a:cubicBezTo>
                  <a:pt x="15098" y="15205"/>
                  <a:pt x="15197" y="15205"/>
                  <a:pt x="15131" y="15205"/>
                </a:cubicBezTo>
                <a:cubicBezTo>
                  <a:pt x="15007" y="15205"/>
                  <a:pt x="14883" y="15205"/>
                  <a:pt x="14759" y="15205"/>
                </a:cubicBezTo>
                <a:cubicBezTo>
                  <a:pt x="14817" y="15205"/>
                  <a:pt x="14825" y="15205"/>
                  <a:pt x="14883" y="15205"/>
                </a:cubicBezTo>
                <a:cubicBezTo>
                  <a:pt x="14885" y="15205"/>
                  <a:pt x="15081" y="15205"/>
                  <a:pt x="15007" y="15205"/>
                </a:cubicBezTo>
                <a:cubicBezTo>
                  <a:pt x="14896" y="15205"/>
                  <a:pt x="15044" y="15205"/>
                  <a:pt x="15081" y="15205"/>
                </a:cubicBezTo>
                <a:cubicBezTo>
                  <a:pt x="15263" y="15205"/>
                  <a:pt x="15425" y="15254"/>
                  <a:pt x="15602" y="15280"/>
                </a:cubicBezTo>
                <a:cubicBezTo>
                  <a:pt x="15726" y="15298"/>
                  <a:pt x="15558" y="15280"/>
                  <a:pt x="15528" y="15280"/>
                </a:cubicBezTo>
                <a:cubicBezTo>
                  <a:pt x="15486" y="15280"/>
                  <a:pt x="15478" y="15280"/>
                  <a:pt x="15453" y="15280"/>
                </a:cubicBezTo>
                <a:cubicBezTo>
                  <a:pt x="15551" y="15312"/>
                  <a:pt x="15646" y="15304"/>
                  <a:pt x="15751" y="15304"/>
                </a:cubicBezTo>
                <a:cubicBezTo>
                  <a:pt x="15859" y="15304"/>
                  <a:pt x="16262" y="15304"/>
                  <a:pt x="16197" y="15304"/>
                </a:cubicBezTo>
                <a:cubicBezTo>
                  <a:pt x="16181" y="15304"/>
                  <a:pt x="16164" y="15304"/>
                  <a:pt x="16148" y="15304"/>
                </a:cubicBezTo>
                <a:cubicBezTo>
                  <a:pt x="16028" y="15304"/>
                  <a:pt x="15918" y="15291"/>
                  <a:pt x="15801" y="15280"/>
                </a:cubicBezTo>
                <a:cubicBezTo>
                  <a:pt x="15769" y="15277"/>
                  <a:pt x="15480" y="15273"/>
                  <a:pt x="15503" y="15255"/>
                </a:cubicBezTo>
                <a:cubicBezTo>
                  <a:pt x="15550" y="15217"/>
                  <a:pt x="15737" y="15230"/>
                  <a:pt x="15677" y="15230"/>
                </a:cubicBezTo>
                <a:cubicBezTo>
                  <a:pt x="15603" y="15230"/>
                  <a:pt x="15552" y="15212"/>
                  <a:pt x="15478" y="15205"/>
                </a:cubicBezTo>
                <a:cubicBezTo>
                  <a:pt x="15576" y="15172"/>
                  <a:pt x="15670" y="15180"/>
                  <a:pt x="15776" y="15180"/>
                </a:cubicBezTo>
                <a:cubicBezTo>
                  <a:pt x="15971" y="15180"/>
                  <a:pt x="15742" y="15180"/>
                  <a:pt x="15726" y="15180"/>
                </a:cubicBezTo>
                <a:cubicBezTo>
                  <a:pt x="15617" y="15180"/>
                  <a:pt x="15602" y="15203"/>
                  <a:pt x="15503" y="15156"/>
                </a:cubicBezTo>
                <a:cubicBezTo>
                  <a:pt x="15399" y="15106"/>
                  <a:pt x="15130" y="15151"/>
                  <a:pt x="15007" y="15131"/>
                </a:cubicBezTo>
                <a:cubicBezTo>
                  <a:pt x="14937" y="15120"/>
                  <a:pt x="14855" y="15131"/>
                  <a:pt x="14784" y="15131"/>
                </a:cubicBezTo>
                <a:cubicBezTo>
                  <a:pt x="14652" y="15164"/>
                  <a:pt x="14899" y="15148"/>
                  <a:pt x="14932" y="15156"/>
                </a:cubicBezTo>
                <a:cubicBezTo>
                  <a:pt x="15093" y="15194"/>
                  <a:pt x="15213" y="15230"/>
                  <a:pt x="15379" y="15230"/>
                </a:cubicBezTo>
                <a:cubicBezTo>
                  <a:pt x="15449" y="15230"/>
                  <a:pt x="15296" y="15230"/>
                  <a:pt x="15280" y="15230"/>
                </a:cubicBezTo>
                <a:cubicBezTo>
                  <a:pt x="15195" y="15230"/>
                  <a:pt x="15195" y="15230"/>
                  <a:pt x="15280" y="15230"/>
                </a:cubicBezTo>
                <a:cubicBezTo>
                  <a:pt x="15286" y="15230"/>
                  <a:pt x="15393" y="15217"/>
                  <a:pt x="15354" y="15205"/>
                </a:cubicBezTo>
                <a:cubicBezTo>
                  <a:pt x="15324" y="15196"/>
                  <a:pt x="15286" y="15208"/>
                  <a:pt x="15255" y="15205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3348000" y="4950000"/>
            <a:ext cx="642960" cy="63360"/>
          </a:xfrm>
          <a:custGeom>
            <a:avLst/>
            <a:gdLst/>
            <a:ahLst/>
            <a:rect l="l" t="t" r="r" b="b"/>
            <a:pathLst>
              <a:path w="1787" h="174">
                <a:moveTo>
                  <a:pt x="10096" y="15255"/>
                </a:moveTo>
                <a:cubicBezTo>
                  <a:pt x="10179" y="15255"/>
                  <a:pt x="10261" y="15255"/>
                  <a:pt x="10344" y="15255"/>
                </a:cubicBezTo>
                <a:cubicBezTo>
                  <a:pt x="10508" y="15255"/>
                  <a:pt x="10402" y="15255"/>
                  <a:pt x="10319" y="15255"/>
                </a:cubicBezTo>
                <a:cubicBezTo>
                  <a:pt x="10269" y="15255"/>
                  <a:pt x="10114" y="15291"/>
                  <a:pt x="10220" y="15230"/>
                </a:cubicBezTo>
                <a:cubicBezTo>
                  <a:pt x="10238" y="15220"/>
                  <a:pt x="10364" y="15188"/>
                  <a:pt x="10368" y="15180"/>
                </a:cubicBezTo>
                <a:cubicBezTo>
                  <a:pt x="10443" y="15033"/>
                  <a:pt x="10037" y="15180"/>
                  <a:pt x="9872" y="15180"/>
                </a:cubicBezTo>
                <a:cubicBezTo>
                  <a:pt x="9925" y="15167"/>
                  <a:pt x="10056" y="15156"/>
                  <a:pt x="10145" y="15156"/>
                </a:cubicBezTo>
                <a:cubicBezTo>
                  <a:pt x="10178" y="15156"/>
                  <a:pt x="10211" y="15156"/>
                  <a:pt x="10244" y="15156"/>
                </a:cubicBezTo>
                <a:cubicBezTo>
                  <a:pt x="10409" y="15156"/>
                  <a:pt x="10303" y="15156"/>
                  <a:pt x="10220" y="15156"/>
                </a:cubicBezTo>
                <a:cubicBezTo>
                  <a:pt x="10166" y="15156"/>
                  <a:pt x="9828" y="15156"/>
                  <a:pt x="9947" y="15156"/>
                </a:cubicBezTo>
                <a:cubicBezTo>
                  <a:pt x="10042" y="15156"/>
                  <a:pt x="10127" y="15140"/>
                  <a:pt x="10220" y="15131"/>
                </a:cubicBezTo>
                <a:cubicBezTo>
                  <a:pt x="9963" y="15131"/>
                  <a:pt x="9293" y="15131"/>
                  <a:pt x="9550" y="15131"/>
                </a:cubicBezTo>
                <a:cubicBezTo>
                  <a:pt x="9575" y="15131"/>
                  <a:pt x="9835" y="15131"/>
                  <a:pt x="9699" y="15131"/>
                </a:cubicBezTo>
                <a:cubicBezTo>
                  <a:pt x="9575" y="15131"/>
                  <a:pt x="9451" y="15131"/>
                  <a:pt x="9327" y="15131"/>
                </a:cubicBezTo>
                <a:cubicBezTo>
                  <a:pt x="9185" y="15131"/>
                  <a:pt x="9317" y="15131"/>
                  <a:pt x="9376" y="15131"/>
                </a:cubicBezTo>
                <a:cubicBezTo>
                  <a:pt x="9492" y="15131"/>
                  <a:pt x="9607" y="15131"/>
                  <a:pt x="9723" y="15131"/>
                </a:cubicBezTo>
                <a:cubicBezTo>
                  <a:pt x="9671" y="15183"/>
                  <a:pt x="9649" y="15174"/>
                  <a:pt x="9599" y="15230"/>
                </a:cubicBezTo>
                <a:cubicBezTo>
                  <a:pt x="9556" y="15278"/>
                  <a:pt x="9532" y="15255"/>
                  <a:pt x="9649" y="15255"/>
                </a:cubicBezTo>
                <a:cubicBezTo>
                  <a:pt x="9792" y="15255"/>
                  <a:pt x="9944" y="15262"/>
                  <a:pt x="10071" y="15230"/>
                </a:cubicBezTo>
                <a:cubicBezTo>
                  <a:pt x="10079" y="15230"/>
                  <a:pt x="10088" y="15230"/>
                  <a:pt x="10096" y="15230"/>
                </a:cubicBezTo>
                <a:cubicBezTo>
                  <a:pt x="10065" y="15230"/>
                  <a:pt x="9871" y="15230"/>
                  <a:pt x="9922" y="15230"/>
                </a:cubicBezTo>
                <a:cubicBezTo>
                  <a:pt x="10085" y="15230"/>
                  <a:pt x="10245" y="15180"/>
                  <a:pt x="10418" y="15180"/>
                </a:cubicBezTo>
                <a:cubicBezTo>
                  <a:pt x="10468" y="15180"/>
                  <a:pt x="10517" y="15180"/>
                  <a:pt x="10567" y="15180"/>
                </a:cubicBezTo>
                <a:cubicBezTo>
                  <a:pt x="10498" y="15186"/>
                  <a:pt x="10436" y="15201"/>
                  <a:pt x="10368" y="15205"/>
                </a:cubicBezTo>
                <a:cubicBezTo>
                  <a:pt x="10275" y="15210"/>
                  <a:pt x="10234" y="15223"/>
                  <a:pt x="10368" y="15230"/>
                </a:cubicBezTo>
                <a:cubicBezTo>
                  <a:pt x="10508" y="15238"/>
                  <a:pt x="10650" y="15230"/>
                  <a:pt x="10790" y="15230"/>
                </a:cubicBezTo>
                <a:cubicBezTo>
                  <a:pt x="10930" y="15230"/>
                  <a:pt x="10641" y="15230"/>
                  <a:pt x="10616" y="15230"/>
                </a:cubicBezTo>
                <a:cubicBezTo>
                  <a:pt x="10533" y="15230"/>
                  <a:pt x="10499" y="15228"/>
                  <a:pt x="10443" y="15205"/>
                </a:cubicBezTo>
                <a:cubicBezTo>
                  <a:pt x="10308" y="15205"/>
                  <a:pt x="10567" y="15205"/>
                  <a:pt x="10592" y="15205"/>
                </a:cubicBezTo>
                <a:cubicBezTo>
                  <a:pt x="10655" y="15205"/>
                  <a:pt x="11032" y="15177"/>
                  <a:pt x="10914" y="15230"/>
                </a:cubicBezTo>
                <a:cubicBezTo>
                  <a:pt x="10825" y="15270"/>
                  <a:pt x="10735" y="15296"/>
                  <a:pt x="10641" y="15304"/>
                </a:cubicBezTo>
                <a:cubicBezTo>
                  <a:pt x="10519" y="15304"/>
                  <a:pt x="10708" y="15285"/>
                  <a:pt x="10740" y="15280"/>
                </a:cubicBezTo>
                <a:cubicBezTo>
                  <a:pt x="10834" y="15266"/>
                  <a:pt x="10943" y="15280"/>
                  <a:pt x="11038" y="15280"/>
                </a:cubicBezTo>
                <a:cubicBezTo>
                  <a:pt x="10641" y="15280"/>
                  <a:pt x="10244" y="15280"/>
                  <a:pt x="9847" y="15280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3313080" y="3789360"/>
            <a:ext cx="2927520" cy="1054080"/>
          </a:xfrm>
          <a:custGeom>
            <a:avLst/>
            <a:gdLst/>
            <a:ahLst/>
            <a:rect l="l" t="t" r="r" b="b"/>
            <a:pathLst>
              <a:path w="1844" h="664">
                <a:moveTo>
                  <a:pt x="129" y="232"/>
                </a:moveTo>
                <a:cubicBezTo>
                  <a:pt x="121" y="237"/>
                  <a:pt x="111" y="240"/>
                  <a:pt x="105" y="248"/>
                </a:cubicBezTo>
                <a:cubicBezTo>
                  <a:pt x="83" y="276"/>
                  <a:pt x="117" y="281"/>
                  <a:pt x="81" y="312"/>
                </a:cubicBezTo>
                <a:cubicBezTo>
                  <a:pt x="68" y="323"/>
                  <a:pt x="33" y="328"/>
                  <a:pt x="33" y="328"/>
                </a:cubicBezTo>
                <a:cubicBezTo>
                  <a:pt x="22" y="323"/>
                  <a:pt x="5" y="323"/>
                  <a:pt x="1" y="312"/>
                </a:cubicBezTo>
                <a:cubicBezTo>
                  <a:pt x="0" y="309"/>
                  <a:pt x="28" y="259"/>
                  <a:pt x="33" y="256"/>
                </a:cubicBezTo>
                <a:cubicBezTo>
                  <a:pt x="47" y="247"/>
                  <a:pt x="81" y="240"/>
                  <a:pt x="81" y="240"/>
                </a:cubicBezTo>
                <a:cubicBezTo>
                  <a:pt x="197" y="261"/>
                  <a:pt x="151" y="271"/>
                  <a:pt x="193" y="208"/>
                </a:cubicBezTo>
                <a:cubicBezTo>
                  <a:pt x="188" y="232"/>
                  <a:pt x="175" y="256"/>
                  <a:pt x="177" y="280"/>
                </a:cubicBezTo>
                <a:cubicBezTo>
                  <a:pt x="179" y="301"/>
                  <a:pt x="252" y="272"/>
                  <a:pt x="257" y="272"/>
                </a:cubicBezTo>
                <a:cubicBezTo>
                  <a:pt x="300" y="268"/>
                  <a:pt x="342" y="267"/>
                  <a:pt x="385" y="264"/>
                </a:cubicBezTo>
                <a:cubicBezTo>
                  <a:pt x="444" y="244"/>
                  <a:pt x="425" y="241"/>
                  <a:pt x="505" y="232"/>
                </a:cubicBezTo>
                <a:cubicBezTo>
                  <a:pt x="508" y="168"/>
                  <a:pt x="503" y="103"/>
                  <a:pt x="513" y="40"/>
                </a:cubicBezTo>
                <a:cubicBezTo>
                  <a:pt x="517" y="15"/>
                  <a:pt x="560" y="21"/>
                  <a:pt x="585" y="16"/>
                </a:cubicBezTo>
                <a:cubicBezTo>
                  <a:pt x="612" y="11"/>
                  <a:pt x="665" y="0"/>
                  <a:pt x="665" y="0"/>
                </a:cubicBezTo>
                <a:cubicBezTo>
                  <a:pt x="692" y="107"/>
                  <a:pt x="658" y="98"/>
                  <a:pt x="753" y="104"/>
                </a:cubicBezTo>
                <a:cubicBezTo>
                  <a:pt x="817" y="108"/>
                  <a:pt x="881" y="109"/>
                  <a:pt x="945" y="112"/>
                </a:cubicBezTo>
                <a:cubicBezTo>
                  <a:pt x="950" y="120"/>
                  <a:pt x="960" y="126"/>
                  <a:pt x="961" y="136"/>
                </a:cubicBezTo>
                <a:cubicBezTo>
                  <a:pt x="971" y="225"/>
                  <a:pt x="909" y="181"/>
                  <a:pt x="833" y="176"/>
                </a:cubicBezTo>
                <a:cubicBezTo>
                  <a:pt x="798" y="181"/>
                  <a:pt x="763" y="182"/>
                  <a:pt x="729" y="192"/>
                </a:cubicBezTo>
                <a:cubicBezTo>
                  <a:pt x="721" y="194"/>
                  <a:pt x="745" y="198"/>
                  <a:pt x="753" y="200"/>
                </a:cubicBezTo>
                <a:cubicBezTo>
                  <a:pt x="766" y="203"/>
                  <a:pt x="779" y="206"/>
                  <a:pt x="793" y="208"/>
                </a:cubicBezTo>
                <a:cubicBezTo>
                  <a:pt x="825" y="212"/>
                  <a:pt x="857" y="213"/>
                  <a:pt x="889" y="216"/>
                </a:cubicBezTo>
                <a:cubicBezTo>
                  <a:pt x="978" y="209"/>
                  <a:pt x="986" y="228"/>
                  <a:pt x="1009" y="160"/>
                </a:cubicBezTo>
                <a:cubicBezTo>
                  <a:pt x="1114" y="178"/>
                  <a:pt x="1074" y="186"/>
                  <a:pt x="1209" y="176"/>
                </a:cubicBezTo>
                <a:cubicBezTo>
                  <a:pt x="1226" y="126"/>
                  <a:pt x="1258" y="160"/>
                  <a:pt x="1297" y="176"/>
                </a:cubicBezTo>
                <a:cubicBezTo>
                  <a:pt x="1438" y="160"/>
                  <a:pt x="1571" y="166"/>
                  <a:pt x="1713" y="160"/>
                </a:cubicBezTo>
                <a:cubicBezTo>
                  <a:pt x="1744" y="114"/>
                  <a:pt x="1748" y="98"/>
                  <a:pt x="1697" y="64"/>
                </a:cubicBezTo>
                <a:cubicBezTo>
                  <a:pt x="1678" y="8"/>
                  <a:pt x="1665" y="11"/>
                  <a:pt x="1705" y="24"/>
                </a:cubicBezTo>
                <a:cubicBezTo>
                  <a:pt x="1743" y="62"/>
                  <a:pt x="1745" y="71"/>
                  <a:pt x="1753" y="128"/>
                </a:cubicBezTo>
                <a:cubicBezTo>
                  <a:pt x="1756" y="236"/>
                  <a:pt x="1695" y="592"/>
                  <a:pt x="1801" y="432"/>
                </a:cubicBezTo>
                <a:cubicBezTo>
                  <a:pt x="1773" y="404"/>
                  <a:pt x="1765" y="382"/>
                  <a:pt x="1713" y="424"/>
                </a:cubicBezTo>
                <a:cubicBezTo>
                  <a:pt x="1700" y="435"/>
                  <a:pt x="1697" y="472"/>
                  <a:pt x="1697" y="472"/>
                </a:cubicBezTo>
                <a:cubicBezTo>
                  <a:pt x="1705" y="477"/>
                  <a:pt x="1712" y="490"/>
                  <a:pt x="1721" y="488"/>
                </a:cubicBezTo>
                <a:cubicBezTo>
                  <a:pt x="1750" y="482"/>
                  <a:pt x="1732" y="442"/>
                  <a:pt x="1729" y="432"/>
                </a:cubicBezTo>
                <a:cubicBezTo>
                  <a:pt x="1676" y="440"/>
                  <a:pt x="1658" y="438"/>
                  <a:pt x="1641" y="488"/>
                </a:cubicBezTo>
                <a:cubicBezTo>
                  <a:pt x="1652" y="565"/>
                  <a:pt x="1649" y="554"/>
                  <a:pt x="1721" y="568"/>
                </a:cubicBezTo>
                <a:cubicBezTo>
                  <a:pt x="1726" y="560"/>
                  <a:pt x="1741" y="553"/>
                  <a:pt x="1737" y="544"/>
                </a:cubicBezTo>
                <a:cubicBezTo>
                  <a:pt x="1728" y="525"/>
                  <a:pt x="1661" y="547"/>
                  <a:pt x="1737" y="528"/>
                </a:cubicBezTo>
                <a:cubicBezTo>
                  <a:pt x="1750" y="531"/>
                  <a:pt x="1764" y="540"/>
                  <a:pt x="1777" y="536"/>
                </a:cubicBezTo>
                <a:cubicBezTo>
                  <a:pt x="1785" y="533"/>
                  <a:pt x="1791" y="518"/>
                  <a:pt x="1785" y="512"/>
                </a:cubicBezTo>
                <a:cubicBezTo>
                  <a:pt x="1779" y="506"/>
                  <a:pt x="1769" y="517"/>
                  <a:pt x="1761" y="520"/>
                </a:cubicBezTo>
                <a:cubicBezTo>
                  <a:pt x="1774" y="528"/>
                  <a:pt x="1790" y="533"/>
                  <a:pt x="1801" y="544"/>
                </a:cubicBezTo>
                <a:cubicBezTo>
                  <a:pt x="1804" y="547"/>
                  <a:pt x="1819" y="589"/>
                  <a:pt x="1801" y="592"/>
                </a:cubicBezTo>
                <a:cubicBezTo>
                  <a:pt x="1738" y="602"/>
                  <a:pt x="1673" y="597"/>
                  <a:pt x="1609" y="600"/>
                </a:cubicBezTo>
                <a:cubicBezTo>
                  <a:pt x="1601" y="603"/>
                  <a:pt x="1582" y="600"/>
                  <a:pt x="1585" y="608"/>
                </a:cubicBezTo>
                <a:cubicBezTo>
                  <a:pt x="1589" y="619"/>
                  <a:pt x="1627" y="618"/>
                  <a:pt x="1617" y="624"/>
                </a:cubicBezTo>
                <a:cubicBezTo>
                  <a:pt x="1596" y="636"/>
                  <a:pt x="1569" y="629"/>
                  <a:pt x="1545" y="632"/>
                </a:cubicBezTo>
                <a:cubicBezTo>
                  <a:pt x="1625" y="635"/>
                  <a:pt x="1705" y="635"/>
                  <a:pt x="1785" y="640"/>
                </a:cubicBezTo>
                <a:cubicBezTo>
                  <a:pt x="1844" y="643"/>
                  <a:pt x="1829" y="645"/>
                  <a:pt x="1801" y="664"/>
                </a:cubicBezTo>
                <a:cubicBezTo>
                  <a:pt x="1630" y="653"/>
                  <a:pt x="1716" y="656"/>
                  <a:pt x="1545" y="656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3143160" y="4424400"/>
            <a:ext cx="2063880" cy="285840"/>
          </a:xfrm>
          <a:custGeom>
            <a:avLst/>
            <a:gdLst/>
            <a:ahLst/>
            <a:rect l="l" t="t" r="r" b="b"/>
            <a:pathLst>
              <a:path w="5731" h="794">
                <a:moveTo>
                  <a:pt x="8756" y="12005"/>
                </a:moveTo>
                <a:cubicBezTo>
                  <a:pt x="8837" y="12005"/>
                  <a:pt x="8899" y="11986"/>
                  <a:pt x="8979" y="11981"/>
                </a:cubicBezTo>
                <a:cubicBezTo>
                  <a:pt x="9127" y="11972"/>
                  <a:pt x="9278" y="11981"/>
                  <a:pt x="9426" y="11981"/>
                </a:cubicBezTo>
              </a:path>
              <a:path w="5731" h="794">
                <a:moveTo>
                  <a:pt x="8731" y="11981"/>
                </a:moveTo>
                <a:cubicBezTo>
                  <a:pt x="8731" y="11906"/>
                  <a:pt x="8731" y="11832"/>
                  <a:pt x="8731" y="11757"/>
                </a:cubicBezTo>
              </a:path>
              <a:path w="5731" h="794">
                <a:moveTo>
                  <a:pt x="9401" y="11683"/>
                </a:moveTo>
                <a:cubicBezTo>
                  <a:pt x="9401" y="11609"/>
                  <a:pt x="9374" y="11462"/>
                  <a:pt x="9426" y="11410"/>
                </a:cubicBezTo>
                <a:cubicBezTo>
                  <a:pt x="9434" y="11410"/>
                  <a:pt x="9443" y="11410"/>
                  <a:pt x="9451" y="11410"/>
                </a:cubicBezTo>
                <a:cubicBezTo>
                  <a:pt x="9474" y="11386"/>
                  <a:pt x="9494" y="11379"/>
                  <a:pt x="9525" y="11361"/>
                </a:cubicBezTo>
                <a:cubicBezTo>
                  <a:pt x="9541" y="11340"/>
                  <a:pt x="9534" y="11332"/>
                  <a:pt x="9550" y="11311"/>
                </a:cubicBezTo>
                <a:cubicBezTo>
                  <a:pt x="9589" y="11296"/>
                  <a:pt x="9602" y="11292"/>
                  <a:pt x="9649" y="11286"/>
                </a:cubicBezTo>
                <a:cubicBezTo>
                  <a:pt x="9669" y="11258"/>
                  <a:pt x="9680" y="11225"/>
                  <a:pt x="9723" y="11212"/>
                </a:cubicBezTo>
                <a:cubicBezTo>
                  <a:pt x="9951" y="11145"/>
                  <a:pt x="10304" y="11212"/>
                  <a:pt x="10542" y="11212"/>
                </a:cubicBezTo>
                <a:cubicBezTo>
                  <a:pt x="10559" y="11226"/>
                  <a:pt x="10581" y="11242"/>
                  <a:pt x="10616" y="11261"/>
                </a:cubicBezTo>
                <a:cubicBezTo>
                  <a:pt x="10657" y="11282"/>
                  <a:pt x="10712" y="11304"/>
                  <a:pt x="10740" y="11336"/>
                </a:cubicBezTo>
                <a:cubicBezTo>
                  <a:pt x="10740" y="11344"/>
                  <a:pt x="10740" y="11353"/>
                  <a:pt x="10740" y="11361"/>
                </a:cubicBezTo>
                <a:cubicBezTo>
                  <a:pt x="10772" y="11382"/>
                  <a:pt x="10769" y="11379"/>
                  <a:pt x="10790" y="11410"/>
                </a:cubicBezTo>
                <a:cubicBezTo>
                  <a:pt x="10802" y="11430"/>
                  <a:pt x="10801" y="11446"/>
                  <a:pt x="10815" y="11485"/>
                </a:cubicBezTo>
                <a:cubicBezTo>
                  <a:pt x="10828" y="11522"/>
                  <a:pt x="10846" y="11568"/>
                  <a:pt x="10864" y="11609"/>
                </a:cubicBezTo>
                <a:cubicBezTo>
                  <a:pt x="10889" y="11665"/>
                  <a:pt x="10925" y="11696"/>
                  <a:pt x="10939" y="11757"/>
                </a:cubicBezTo>
                <a:cubicBezTo>
                  <a:pt x="10948" y="11795"/>
                  <a:pt x="10958" y="11822"/>
                  <a:pt x="10964" y="11857"/>
                </a:cubicBezTo>
                <a:cubicBezTo>
                  <a:pt x="10972" y="11904"/>
                  <a:pt x="10964" y="11957"/>
                  <a:pt x="10964" y="12005"/>
                </a:cubicBezTo>
                <a:cubicBezTo>
                  <a:pt x="11104" y="12005"/>
                  <a:pt x="11245" y="12005"/>
                  <a:pt x="11385" y="12005"/>
                </a:cubicBezTo>
              </a:path>
              <a:path w="5731" h="794">
                <a:moveTo>
                  <a:pt x="11485" y="11906"/>
                </a:moveTo>
                <a:cubicBezTo>
                  <a:pt x="11556" y="11902"/>
                  <a:pt x="11618" y="11889"/>
                  <a:pt x="11683" y="11881"/>
                </a:cubicBezTo>
                <a:cubicBezTo>
                  <a:pt x="11808" y="11866"/>
                  <a:pt x="11933" y="11896"/>
                  <a:pt x="12055" y="11906"/>
                </a:cubicBezTo>
                <a:cubicBezTo>
                  <a:pt x="12066" y="11907"/>
                  <a:pt x="12359" y="11906"/>
                  <a:pt x="12229" y="11906"/>
                </a:cubicBezTo>
                <a:cubicBezTo>
                  <a:pt x="12121" y="11906"/>
                  <a:pt x="11991" y="11895"/>
                  <a:pt x="11881" y="11881"/>
                </a:cubicBezTo>
                <a:cubicBezTo>
                  <a:pt x="11792" y="11870"/>
                  <a:pt x="11722" y="11835"/>
                  <a:pt x="11633" y="11832"/>
                </a:cubicBezTo>
                <a:cubicBezTo>
                  <a:pt x="11493" y="11827"/>
                  <a:pt x="11352" y="11832"/>
                  <a:pt x="11212" y="11832"/>
                </a:cubicBezTo>
                <a:cubicBezTo>
                  <a:pt x="12295" y="11832"/>
                  <a:pt x="13378" y="11832"/>
                  <a:pt x="14461" y="11832"/>
                </a:cubicBezTo>
              </a:path>
              <a:path w="5731" h="794">
                <a:moveTo>
                  <a:pt x="11609" y="11658"/>
                </a:moveTo>
                <a:cubicBezTo>
                  <a:pt x="11517" y="11658"/>
                  <a:pt x="11449" y="11670"/>
                  <a:pt x="11361" y="11683"/>
                </a:cubicBezTo>
                <a:cubicBezTo>
                  <a:pt x="11344" y="11683"/>
                  <a:pt x="11328" y="11683"/>
                  <a:pt x="11311" y="11683"/>
                </a:cubicBezTo>
                <a:cubicBezTo>
                  <a:pt x="11350" y="11683"/>
                  <a:pt x="11380" y="11699"/>
                  <a:pt x="11385" y="11658"/>
                </a:cubicBezTo>
                <a:cubicBezTo>
                  <a:pt x="11399" y="11538"/>
                  <a:pt x="11385" y="11407"/>
                  <a:pt x="11385" y="11286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4044960" y="3639960"/>
            <a:ext cx="1411200" cy="509760"/>
          </a:xfrm>
          <a:custGeom>
            <a:avLst/>
            <a:gdLst/>
            <a:ahLst/>
            <a:rect l="l" t="t" r="r" b="b"/>
            <a:pathLst>
              <a:path w="3920" h="1415">
                <a:moveTo>
                  <a:pt x="15156" y="9153"/>
                </a:moveTo>
                <a:cubicBezTo>
                  <a:pt x="15156" y="9335"/>
                  <a:pt x="15156" y="9517"/>
                  <a:pt x="15156" y="9699"/>
                </a:cubicBezTo>
                <a:cubicBezTo>
                  <a:pt x="15156" y="9628"/>
                  <a:pt x="15142" y="9589"/>
                  <a:pt x="15131" y="9525"/>
                </a:cubicBezTo>
                <a:cubicBezTo>
                  <a:pt x="15129" y="9513"/>
                  <a:pt x="15117" y="9435"/>
                  <a:pt x="15106" y="9426"/>
                </a:cubicBezTo>
                <a:cubicBezTo>
                  <a:pt x="15085" y="9409"/>
                  <a:pt x="15076" y="9361"/>
                  <a:pt x="15056" y="9351"/>
                </a:cubicBezTo>
                <a:cubicBezTo>
                  <a:pt x="15008" y="9326"/>
                  <a:pt x="15016" y="9337"/>
                  <a:pt x="14982" y="9277"/>
                </a:cubicBezTo>
              </a:path>
              <a:path w="3920" h="1415">
                <a:moveTo>
                  <a:pt x="14932" y="9153"/>
                </a:moveTo>
                <a:cubicBezTo>
                  <a:pt x="14882" y="9153"/>
                  <a:pt x="14874" y="9142"/>
                  <a:pt x="14833" y="9128"/>
                </a:cubicBezTo>
                <a:cubicBezTo>
                  <a:pt x="14733" y="9095"/>
                  <a:pt x="14567" y="9123"/>
                  <a:pt x="14461" y="9103"/>
                </a:cubicBezTo>
                <a:cubicBezTo>
                  <a:pt x="14393" y="9090"/>
                  <a:pt x="14334" y="9079"/>
                  <a:pt x="14263" y="9079"/>
                </a:cubicBezTo>
                <a:cubicBezTo>
                  <a:pt x="14185" y="9079"/>
                  <a:pt x="14021" y="9102"/>
                  <a:pt x="13990" y="9054"/>
                </a:cubicBezTo>
              </a:path>
              <a:path w="3920" h="1415">
                <a:moveTo>
                  <a:pt x="13618" y="9153"/>
                </a:moveTo>
                <a:cubicBezTo>
                  <a:pt x="13618" y="9182"/>
                  <a:pt x="13618" y="9336"/>
                  <a:pt x="13618" y="9277"/>
                </a:cubicBezTo>
                <a:cubicBezTo>
                  <a:pt x="13618" y="9260"/>
                  <a:pt x="13618" y="9244"/>
                  <a:pt x="13618" y="9227"/>
                </a:cubicBezTo>
              </a:path>
              <a:path w="3920" h="1415">
                <a:moveTo>
                  <a:pt x="12229" y="10071"/>
                </a:moveTo>
                <a:cubicBezTo>
                  <a:pt x="12453" y="10071"/>
                  <a:pt x="13001" y="9968"/>
                  <a:pt x="13171" y="10096"/>
                </a:cubicBezTo>
              </a:path>
              <a:path w="3920" h="1415">
                <a:moveTo>
                  <a:pt x="13791" y="10294"/>
                </a:moveTo>
                <a:cubicBezTo>
                  <a:pt x="13760" y="10338"/>
                  <a:pt x="13767" y="10361"/>
                  <a:pt x="13767" y="10418"/>
                </a:cubicBezTo>
                <a:cubicBezTo>
                  <a:pt x="13767" y="10443"/>
                  <a:pt x="13767" y="10451"/>
                  <a:pt x="13767" y="10468"/>
                </a:cubicBezTo>
              </a:path>
              <a:path w="3920" h="1415">
                <a:moveTo>
                  <a:pt x="11658" y="10344"/>
                </a:moveTo>
                <a:cubicBezTo>
                  <a:pt x="11658" y="10356"/>
                  <a:pt x="11658" y="10460"/>
                  <a:pt x="11658" y="10393"/>
                </a:cubicBezTo>
                <a:cubicBezTo>
                  <a:pt x="11658" y="10332"/>
                  <a:pt x="11668" y="10298"/>
                  <a:pt x="11683" y="10269"/>
                </a:cubicBezTo>
                <a:cubicBezTo>
                  <a:pt x="11683" y="10244"/>
                  <a:pt x="11683" y="10236"/>
                  <a:pt x="11683" y="10220"/>
                </a:cubicBezTo>
                <a:cubicBezTo>
                  <a:pt x="11718" y="10215"/>
                  <a:pt x="11804" y="10202"/>
                  <a:pt x="11832" y="10170"/>
                </a:cubicBezTo>
                <a:cubicBezTo>
                  <a:pt x="11860" y="10138"/>
                  <a:pt x="11832" y="10145"/>
                  <a:pt x="11906" y="10145"/>
                </a:cubicBezTo>
                <a:cubicBezTo>
                  <a:pt x="11980" y="10145"/>
                  <a:pt x="11776" y="10145"/>
                  <a:pt x="11757" y="10145"/>
                </a:cubicBezTo>
                <a:cubicBezTo>
                  <a:pt x="11691" y="10145"/>
                  <a:pt x="11625" y="10145"/>
                  <a:pt x="11559" y="10145"/>
                </a:cubicBezTo>
                <a:cubicBezTo>
                  <a:pt x="11559" y="10200"/>
                  <a:pt x="11544" y="10250"/>
                  <a:pt x="11584" y="10269"/>
                </a:cubicBezTo>
                <a:cubicBezTo>
                  <a:pt x="11624" y="10289"/>
                  <a:pt x="11640" y="10288"/>
                  <a:pt x="11633" y="10319"/>
                </a:cubicBezTo>
              </a:path>
              <a:path w="3920" h="1415">
                <a:moveTo>
                  <a:pt x="11683" y="10021"/>
                </a:moveTo>
                <a:cubicBezTo>
                  <a:pt x="11683" y="9847"/>
                  <a:pt x="11683" y="9674"/>
                  <a:pt x="11683" y="9500"/>
                </a:cubicBezTo>
              </a:path>
              <a:path w="3920" h="1415">
                <a:moveTo>
                  <a:pt x="11658" y="9054"/>
                </a:moveTo>
                <a:cubicBezTo>
                  <a:pt x="11608" y="9054"/>
                  <a:pt x="11597" y="9054"/>
                  <a:pt x="11584" y="9103"/>
                </a:cubicBezTo>
                <a:cubicBezTo>
                  <a:pt x="11468" y="9103"/>
                  <a:pt x="11353" y="9103"/>
                  <a:pt x="11237" y="9103"/>
                </a:cubicBezTo>
              </a:path>
              <a:path w="3920" h="1415">
                <a:moveTo>
                  <a:pt x="13469" y="9922"/>
                </a:moveTo>
                <a:cubicBezTo>
                  <a:pt x="13362" y="9922"/>
                  <a:pt x="13264" y="9928"/>
                  <a:pt x="13171" y="9947"/>
                </a:cubicBezTo>
                <a:cubicBezTo>
                  <a:pt x="13040" y="9973"/>
                  <a:pt x="12884" y="9947"/>
                  <a:pt x="12750" y="9947"/>
                </a:cubicBezTo>
              </a:path>
              <a:path w="3920" h="1415">
                <a:moveTo>
                  <a:pt x="13816" y="9847"/>
                </a:moveTo>
                <a:cubicBezTo>
                  <a:pt x="13940" y="9847"/>
                  <a:pt x="14064" y="9847"/>
                  <a:pt x="14188" y="9847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3170160" y="3868560"/>
            <a:ext cx="250920" cy="277920"/>
          </a:xfrm>
          <a:custGeom>
            <a:avLst/>
            <a:gdLst/>
            <a:ahLst/>
            <a:rect l="l" t="t" r="r" b="b"/>
            <a:pathLst>
              <a:path w="695" h="770">
                <a:moveTo>
                  <a:pt x="9500" y="10120"/>
                </a:moveTo>
                <a:cubicBezTo>
                  <a:pt x="9464" y="10129"/>
                  <a:pt x="9434" y="10163"/>
                  <a:pt x="9401" y="10170"/>
                </a:cubicBezTo>
                <a:cubicBezTo>
                  <a:pt x="9359" y="10179"/>
                  <a:pt x="9314" y="10191"/>
                  <a:pt x="9277" y="10195"/>
                </a:cubicBezTo>
                <a:cubicBezTo>
                  <a:pt x="9256" y="10197"/>
                  <a:pt x="9227" y="10228"/>
                  <a:pt x="9203" y="10244"/>
                </a:cubicBezTo>
                <a:cubicBezTo>
                  <a:pt x="9177" y="10262"/>
                  <a:pt x="9137" y="10314"/>
                  <a:pt x="9128" y="10319"/>
                </a:cubicBezTo>
                <a:cubicBezTo>
                  <a:pt x="9087" y="10339"/>
                  <a:pt x="9045" y="10359"/>
                  <a:pt x="9029" y="10393"/>
                </a:cubicBezTo>
                <a:cubicBezTo>
                  <a:pt x="8999" y="10458"/>
                  <a:pt x="8947" y="10433"/>
                  <a:pt x="8930" y="10468"/>
                </a:cubicBezTo>
                <a:cubicBezTo>
                  <a:pt x="8911" y="10506"/>
                  <a:pt x="8890" y="10532"/>
                  <a:pt x="8855" y="10567"/>
                </a:cubicBezTo>
                <a:cubicBezTo>
                  <a:pt x="8827" y="10595"/>
                  <a:pt x="8810" y="10653"/>
                  <a:pt x="8806" y="10691"/>
                </a:cubicBezTo>
                <a:cubicBezTo>
                  <a:pt x="8798" y="10765"/>
                  <a:pt x="8733" y="10879"/>
                  <a:pt x="8806" y="10864"/>
                </a:cubicBezTo>
                <a:cubicBezTo>
                  <a:pt x="8822" y="10864"/>
                  <a:pt x="8839" y="10864"/>
                  <a:pt x="8855" y="10864"/>
                </a:cubicBezTo>
                <a:cubicBezTo>
                  <a:pt x="8855" y="10801"/>
                  <a:pt x="8884" y="10821"/>
                  <a:pt x="8905" y="10790"/>
                </a:cubicBezTo>
                <a:cubicBezTo>
                  <a:pt x="8920" y="10767"/>
                  <a:pt x="8950" y="10756"/>
                  <a:pt x="8954" y="10716"/>
                </a:cubicBezTo>
                <a:cubicBezTo>
                  <a:pt x="8958" y="10675"/>
                  <a:pt x="8979" y="10662"/>
                  <a:pt x="8979" y="10616"/>
                </a:cubicBezTo>
                <a:cubicBezTo>
                  <a:pt x="8979" y="10575"/>
                  <a:pt x="8979" y="10533"/>
                  <a:pt x="8979" y="1049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3419640" y="3780000"/>
            <a:ext cx="80640" cy="71280"/>
          </a:xfrm>
          <a:custGeom>
            <a:avLst/>
            <a:gdLst/>
            <a:ahLst/>
            <a:rect l="l" t="t" r="r" b="b"/>
            <a:pathLst>
              <a:path w="224" h="200">
                <a:moveTo>
                  <a:pt x="9500" y="10071"/>
                </a:moveTo>
                <a:cubicBezTo>
                  <a:pt x="9510" y="10030"/>
                  <a:pt x="9509" y="10031"/>
                  <a:pt x="9550" y="10021"/>
                </a:cubicBezTo>
                <a:cubicBezTo>
                  <a:pt x="9550" y="9948"/>
                  <a:pt x="9572" y="10001"/>
                  <a:pt x="9599" y="9947"/>
                </a:cubicBezTo>
                <a:cubicBezTo>
                  <a:pt x="9616" y="9913"/>
                  <a:pt x="9631" y="9886"/>
                  <a:pt x="9674" y="9872"/>
                </a:cubicBezTo>
                <a:cubicBezTo>
                  <a:pt x="9699" y="9872"/>
                  <a:pt x="9707" y="9872"/>
                  <a:pt x="9723" y="9872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3840120" y="3430440"/>
            <a:ext cx="2116080" cy="142920"/>
          </a:xfrm>
          <a:custGeom>
            <a:avLst/>
            <a:gdLst/>
            <a:ahLst/>
            <a:rect l="l" t="t" r="r" b="b"/>
            <a:pathLst>
              <a:path w="5880" h="398">
                <a:moveTo>
                  <a:pt x="10666" y="9277"/>
                </a:moveTo>
                <a:cubicBezTo>
                  <a:pt x="10692" y="9245"/>
                  <a:pt x="10724" y="9219"/>
                  <a:pt x="10740" y="9203"/>
                </a:cubicBezTo>
                <a:cubicBezTo>
                  <a:pt x="10788" y="9155"/>
                  <a:pt x="10815" y="9161"/>
                  <a:pt x="10864" y="9128"/>
                </a:cubicBezTo>
                <a:cubicBezTo>
                  <a:pt x="10878" y="9118"/>
                  <a:pt x="10890" y="9060"/>
                  <a:pt x="10914" y="9054"/>
                </a:cubicBezTo>
                <a:cubicBezTo>
                  <a:pt x="10982" y="9036"/>
                  <a:pt x="11046" y="9050"/>
                  <a:pt x="11112" y="9029"/>
                </a:cubicBezTo>
                <a:cubicBezTo>
                  <a:pt x="11161" y="9013"/>
                  <a:pt x="11209" y="8995"/>
                  <a:pt x="11261" y="8979"/>
                </a:cubicBezTo>
                <a:cubicBezTo>
                  <a:pt x="11310" y="8964"/>
                  <a:pt x="11335" y="8940"/>
                  <a:pt x="11385" y="8930"/>
                </a:cubicBezTo>
                <a:cubicBezTo>
                  <a:pt x="11578" y="8891"/>
                  <a:pt x="11787" y="8945"/>
                  <a:pt x="11981" y="8905"/>
                </a:cubicBezTo>
                <a:cubicBezTo>
                  <a:pt x="12022" y="8897"/>
                  <a:pt x="12064" y="8884"/>
                  <a:pt x="12105" y="8880"/>
                </a:cubicBezTo>
                <a:cubicBezTo>
                  <a:pt x="13206" y="8777"/>
                  <a:pt x="14465" y="8825"/>
                  <a:pt x="15553" y="8905"/>
                </a:cubicBezTo>
                <a:cubicBezTo>
                  <a:pt x="15693" y="8915"/>
                  <a:pt x="15841" y="8920"/>
                  <a:pt x="15974" y="8930"/>
                </a:cubicBezTo>
                <a:cubicBezTo>
                  <a:pt x="16165" y="8945"/>
                  <a:pt x="16367" y="8922"/>
                  <a:pt x="16545" y="8954"/>
                </a:cubicBezTo>
              </a:path>
            </a:pathLst>
          </a:custGeom>
          <a:noFill/>
          <a:ln cap="rnd" w="190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3098880" y="3348000"/>
            <a:ext cx="3187800" cy="1160640"/>
          </a:xfrm>
          <a:custGeom>
            <a:avLst/>
            <a:gdLst/>
            <a:ahLst/>
            <a:rect l="l" t="t" r="r" b="b"/>
            <a:pathLst>
              <a:path w="2008" h="731">
                <a:moveTo>
                  <a:pt x="8" y="611"/>
                </a:moveTo>
                <a:cubicBezTo>
                  <a:pt x="12" y="568"/>
                  <a:pt x="0" y="519"/>
                  <a:pt x="24" y="483"/>
                </a:cubicBezTo>
                <a:cubicBezTo>
                  <a:pt x="39" y="461"/>
                  <a:pt x="96" y="451"/>
                  <a:pt x="96" y="451"/>
                </a:cubicBezTo>
                <a:cubicBezTo>
                  <a:pt x="114" y="363"/>
                  <a:pt x="87" y="446"/>
                  <a:pt x="128" y="395"/>
                </a:cubicBezTo>
                <a:cubicBezTo>
                  <a:pt x="133" y="388"/>
                  <a:pt x="132" y="379"/>
                  <a:pt x="136" y="371"/>
                </a:cubicBezTo>
                <a:cubicBezTo>
                  <a:pt x="150" y="343"/>
                  <a:pt x="158" y="324"/>
                  <a:pt x="184" y="307"/>
                </a:cubicBezTo>
                <a:cubicBezTo>
                  <a:pt x="199" y="284"/>
                  <a:pt x="227" y="227"/>
                  <a:pt x="256" y="211"/>
                </a:cubicBezTo>
                <a:cubicBezTo>
                  <a:pt x="635" y="0"/>
                  <a:pt x="1031" y="103"/>
                  <a:pt x="1488" y="99"/>
                </a:cubicBezTo>
                <a:cubicBezTo>
                  <a:pt x="1603" y="61"/>
                  <a:pt x="1745" y="47"/>
                  <a:pt x="1848" y="115"/>
                </a:cubicBezTo>
                <a:cubicBezTo>
                  <a:pt x="1859" y="148"/>
                  <a:pt x="1866" y="167"/>
                  <a:pt x="1896" y="187"/>
                </a:cubicBezTo>
                <a:cubicBezTo>
                  <a:pt x="1916" y="227"/>
                  <a:pt x="1931" y="221"/>
                  <a:pt x="1944" y="259"/>
                </a:cubicBezTo>
                <a:cubicBezTo>
                  <a:pt x="1946" y="287"/>
                  <a:pt x="1969" y="731"/>
                  <a:pt x="1976" y="667"/>
                </a:cubicBezTo>
                <a:cubicBezTo>
                  <a:pt x="1992" y="535"/>
                  <a:pt x="1976" y="400"/>
                  <a:pt x="1968" y="267"/>
                </a:cubicBezTo>
                <a:cubicBezTo>
                  <a:pt x="1966" y="234"/>
                  <a:pt x="1867" y="166"/>
                  <a:pt x="1848" y="147"/>
                </a:cubicBezTo>
                <a:cubicBezTo>
                  <a:pt x="1841" y="140"/>
                  <a:pt x="1836" y="132"/>
                  <a:pt x="1832" y="123"/>
                </a:cubicBezTo>
                <a:cubicBezTo>
                  <a:pt x="1828" y="115"/>
                  <a:pt x="1832" y="99"/>
                  <a:pt x="1824" y="99"/>
                </a:cubicBezTo>
                <a:cubicBezTo>
                  <a:pt x="1608" y="88"/>
                  <a:pt x="1392" y="94"/>
                  <a:pt x="1176" y="91"/>
                </a:cubicBezTo>
                <a:cubicBezTo>
                  <a:pt x="737" y="97"/>
                  <a:pt x="679" y="27"/>
                  <a:pt x="424" y="155"/>
                </a:cubicBezTo>
                <a:cubicBezTo>
                  <a:pt x="411" y="195"/>
                  <a:pt x="424" y="176"/>
                  <a:pt x="368" y="195"/>
                </a:cubicBezTo>
                <a:cubicBezTo>
                  <a:pt x="340" y="204"/>
                  <a:pt x="299" y="241"/>
                  <a:pt x="272" y="259"/>
                </a:cubicBezTo>
                <a:cubicBezTo>
                  <a:pt x="253" y="272"/>
                  <a:pt x="243" y="294"/>
                  <a:pt x="224" y="307"/>
                </a:cubicBezTo>
                <a:cubicBezTo>
                  <a:pt x="208" y="318"/>
                  <a:pt x="190" y="325"/>
                  <a:pt x="176" y="339"/>
                </a:cubicBezTo>
                <a:cubicBezTo>
                  <a:pt x="160" y="355"/>
                  <a:pt x="128" y="387"/>
                  <a:pt x="128" y="387"/>
                </a:cubicBezTo>
                <a:cubicBezTo>
                  <a:pt x="243" y="502"/>
                  <a:pt x="300" y="575"/>
                  <a:pt x="584" y="411"/>
                </a:cubicBezTo>
                <a:cubicBezTo>
                  <a:pt x="651" y="372"/>
                  <a:pt x="570" y="256"/>
                  <a:pt x="576" y="179"/>
                </a:cubicBezTo>
                <a:cubicBezTo>
                  <a:pt x="577" y="171"/>
                  <a:pt x="592" y="185"/>
                  <a:pt x="600" y="187"/>
                </a:cubicBezTo>
                <a:cubicBezTo>
                  <a:pt x="627" y="195"/>
                  <a:pt x="680" y="211"/>
                  <a:pt x="680" y="211"/>
                </a:cubicBezTo>
                <a:cubicBezTo>
                  <a:pt x="674" y="272"/>
                  <a:pt x="668" y="328"/>
                  <a:pt x="656" y="387"/>
                </a:cubicBezTo>
                <a:cubicBezTo>
                  <a:pt x="696" y="507"/>
                  <a:pt x="894" y="405"/>
                  <a:pt x="1008" y="443"/>
                </a:cubicBezTo>
                <a:cubicBezTo>
                  <a:pt x="1082" y="436"/>
                  <a:pt x="1388" y="366"/>
                  <a:pt x="1088" y="155"/>
                </a:cubicBezTo>
                <a:cubicBezTo>
                  <a:pt x="992" y="88"/>
                  <a:pt x="853" y="150"/>
                  <a:pt x="736" y="147"/>
                </a:cubicBezTo>
                <a:cubicBezTo>
                  <a:pt x="847" y="73"/>
                  <a:pt x="964" y="127"/>
                  <a:pt x="1112" y="131"/>
                </a:cubicBezTo>
                <a:cubicBezTo>
                  <a:pt x="1126" y="134"/>
                  <a:pt x="1167" y="144"/>
                  <a:pt x="1168" y="147"/>
                </a:cubicBezTo>
                <a:cubicBezTo>
                  <a:pt x="1169" y="151"/>
                  <a:pt x="1145" y="260"/>
                  <a:pt x="1144" y="267"/>
                </a:cubicBezTo>
                <a:cubicBezTo>
                  <a:pt x="1147" y="283"/>
                  <a:pt x="1144" y="301"/>
                  <a:pt x="1152" y="315"/>
                </a:cubicBezTo>
                <a:cubicBezTo>
                  <a:pt x="1156" y="322"/>
                  <a:pt x="1168" y="321"/>
                  <a:pt x="1176" y="323"/>
                </a:cubicBezTo>
                <a:cubicBezTo>
                  <a:pt x="1259" y="346"/>
                  <a:pt x="1216" y="327"/>
                  <a:pt x="1272" y="355"/>
                </a:cubicBezTo>
                <a:cubicBezTo>
                  <a:pt x="1329" y="352"/>
                  <a:pt x="1423" y="378"/>
                  <a:pt x="1440" y="323"/>
                </a:cubicBezTo>
                <a:cubicBezTo>
                  <a:pt x="1456" y="271"/>
                  <a:pt x="1472" y="163"/>
                  <a:pt x="1472" y="163"/>
                </a:cubicBezTo>
                <a:cubicBezTo>
                  <a:pt x="1581" y="172"/>
                  <a:pt x="1576" y="139"/>
                  <a:pt x="1560" y="227"/>
                </a:cubicBezTo>
                <a:cubicBezTo>
                  <a:pt x="1558" y="238"/>
                  <a:pt x="1555" y="248"/>
                  <a:pt x="1552" y="259"/>
                </a:cubicBezTo>
                <a:cubicBezTo>
                  <a:pt x="1549" y="283"/>
                  <a:pt x="1542" y="307"/>
                  <a:pt x="1544" y="331"/>
                </a:cubicBezTo>
                <a:cubicBezTo>
                  <a:pt x="1549" y="391"/>
                  <a:pt x="1689" y="391"/>
                  <a:pt x="1736" y="403"/>
                </a:cubicBezTo>
                <a:cubicBezTo>
                  <a:pt x="1811" y="396"/>
                  <a:pt x="1856" y="404"/>
                  <a:pt x="1880" y="331"/>
                </a:cubicBezTo>
                <a:cubicBezTo>
                  <a:pt x="1874" y="230"/>
                  <a:pt x="1885" y="214"/>
                  <a:pt x="1840" y="147"/>
                </a:cubicBezTo>
                <a:cubicBezTo>
                  <a:pt x="1877" y="129"/>
                  <a:pt x="1914" y="103"/>
                  <a:pt x="1960" y="139"/>
                </a:cubicBezTo>
                <a:cubicBezTo>
                  <a:pt x="1973" y="149"/>
                  <a:pt x="1917" y="228"/>
                  <a:pt x="1960" y="163"/>
                </a:cubicBezTo>
                <a:cubicBezTo>
                  <a:pt x="1918" y="135"/>
                  <a:pt x="1911" y="139"/>
                  <a:pt x="1856" y="147"/>
                </a:cubicBezTo>
                <a:cubicBezTo>
                  <a:pt x="1866" y="187"/>
                  <a:pt x="1881" y="198"/>
                  <a:pt x="1920" y="211"/>
                </a:cubicBezTo>
                <a:cubicBezTo>
                  <a:pt x="1929" y="225"/>
                  <a:pt x="1963" y="267"/>
                  <a:pt x="1928" y="267"/>
                </a:cubicBezTo>
                <a:cubicBezTo>
                  <a:pt x="1917" y="267"/>
                  <a:pt x="1922" y="246"/>
                  <a:pt x="1920" y="235"/>
                </a:cubicBezTo>
                <a:cubicBezTo>
                  <a:pt x="1910" y="183"/>
                  <a:pt x="1916" y="198"/>
                  <a:pt x="1904" y="155"/>
                </a:cubicBezTo>
                <a:cubicBezTo>
                  <a:pt x="1893" y="118"/>
                  <a:pt x="1904" y="139"/>
                  <a:pt x="1872" y="123"/>
                </a:cubicBezTo>
                <a:cubicBezTo>
                  <a:pt x="1863" y="119"/>
                  <a:pt x="1838" y="108"/>
                  <a:pt x="1848" y="107"/>
                </a:cubicBezTo>
                <a:cubicBezTo>
                  <a:pt x="1880" y="103"/>
                  <a:pt x="1912" y="112"/>
                  <a:pt x="1944" y="115"/>
                </a:cubicBezTo>
                <a:cubicBezTo>
                  <a:pt x="1944" y="115"/>
                  <a:pt x="2008" y="131"/>
                  <a:pt x="1944" y="131"/>
                </a:cubicBezTo>
                <a:cubicBezTo>
                  <a:pt x="1906" y="131"/>
                  <a:pt x="1869" y="120"/>
                  <a:pt x="1832" y="115"/>
                </a:cubicBezTo>
                <a:cubicBezTo>
                  <a:pt x="1892" y="95"/>
                  <a:pt x="1831" y="120"/>
                  <a:pt x="1824" y="99"/>
                </a:cubicBezTo>
                <a:cubicBezTo>
                  <a:pt x="1821" y="90"/>
                  <a:pt x="1840" y="88"/>
                  <a:pt x="1848" y="83"/>
                </a:cubicBezTo>
                <a:cubicBezTo>
                  <a:pt x="1883" y="91"/>
                  <a:pt x="1981" y="95"/>
                  <a:pt x="1904" y="147"/>
                </a:cubicBezTo>
                <a:cubicBezTo>
                  <a:pt x="1717" y="133"/>
                  <a:pt x="1531" y="119"/>
                  <a:pt x="1344" y="107"/>
                </a:cubicBezTo>
                <a:cubicBezTo>
                  <a:pt x="1333" y="104"/>
                  <a:pt x="1323" y="101"/>
                  <a:pt x="1312" y="99"/>
                </a:cubicBezTo>
                <a:cubicBezTo>
                  <a:pt x="1296" y="96"/>
                  <a:pt x="1248" y="91"/>
                  <a:pt x="1264" y="91"/>
                </a:cubicBezTo>
                <a:cubicBezTo>
                  <a:pt x="1416" y="91"/>
                  <a:pt x="1568" y="99"/>
                  <a:pt x="1720" y="99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3059280" y="3611520"/>
            <a:ext cx="3222360" cy="1257480"/>
          </a:xfrm>
          <a:custGeom>
            <a:avLst/>
            <a:gdLst/>
            <a:ahLst/>
            <a:rect l="l" t="t" r="r" b="b"/>
            <a:pathLst>
              <a:path w="2030" h="792">
                <a:moveTo>
                  <a:pt x="269" y="252"/>
                </a:moveTo>
                <a:cubicBezTo>
                  <a:pt x="384" y="249"/>
                  <a:pt x="516" y="305"/>
                  <a:pt x="613" y="244"/>
                </a:cubicBezTo>
                <a:cubicBezTo>
                  <a:pt x="669" y="208"/>
                  <a:pt x="647" y="88"/>
                  <a:pt x="597" y="44"/>
                </a:cubicBezTo>
                <a:cubicBezTo>
                  <a:pt x="547" y="0"/>
                  <a:pt x="464" y="49"/>
                  <a:pt x="397" y="52"/>
                </a:cubicBezTo>
                <a:cubicBezTo>
                  <a:pt x="367" y="82"/>
                  <a:pt x="335" y="106"/>
                  <a:pt x="309" y="140"/>
                </a:cubicBezTo>
                <a:cubicBezTo>
                  <a:pt x="297" y="155"/>
                  <a:pt x="293" y="177"/>
                  <a:pt x="277" y="188"/>
                </a:cubicBezTo>
                <a:cubicBezTo>
                  <a:pt x="253" y="204"/>
                  <a:pt x="248" y="205"/>
                  <a:pt x="229" y="228"/>
                </a:cubicBezTo>
                <a:cubicBezTo>
                  <a:pt x="209" y="252"/>
                  <a:pt x="207" y="279"/>
                  <a:pt x="165" y="284"/>
                </a:cubicBezTo>
                <a:cubicBezTo>
                  <a:pt x="141" y="287"/>
                  <a:pt x="117" y="289"/>
                  <a:pt x="93" y="292"/>
                </a:cubicBezTo>
                <a:cubicBezTo>
                  <a:pt x="70" y="326"/>
                  <a:pt x="43" y="339"/>
                  <a:pt x="29" y="380"/>
                </a:cubicBezTo>
                <a:cubicBezTo>
                  <a:pt x="26" y="439"/>
                  <a:pt x="0" y="501"/>
                  <a:pt x="21" y="556"/>
                </a:cubicBezTo>
                <a:cubicBezTo>
                  <a:pt x="31" y="581"/>
                  <a:pt x="81" y="554"/>
                  <a:pt x="101" y="572"/>
                </a:cubicBezTo>
                <a:cubicBezTo>
                  <a:pt x="147" y="613"/>
                  <a:pt x="49" y="641"/>
                  <a:pt x="37" y="644"/>
                </a:cubicBezTo>
                <a:cubicBezTo>
                  <a:pt x="32" y="652"/>
                  <a:pt x="17" y="659"/>
                  <a:pt x="21" y="668"/>
                </a:cubicBezTo>
                <a:cubicBezTo>
                  <a:pt x="25" y="679"/>
                  <a:pt x="41" y="683"/>
                  <a:pt x="53" y="684"/>
                </a:cubicBezTo>
                <a:cubicBezTo>
                  <a:pt x="90" y="686"/>
                  <a:pt x="128" y="679"/>
                  <a:pt x="165" y="676"/>
                </a:cubicBezTo>
                <a:cubicBezTo>
                  <a:pt x="193" y="562"/>
                  <a:pt x="240" y="519"/>
                  <a:pt x="357" y="500"/>
                </a:cubicBezTo>
                <a:cubicBezTo>
                  <a:pt x="462" y="511"/>
                  <a:pt x="502" y="493"/>
                  <a:pt x="565" y="556"/>
                </a:cubicBezTo>
                <a:cubicBezTo>
                  <a:pt x="599" y="657"/>
                  <a:pt x="542" y="495"/>
                  <a:pt x="589" y="604"/>
                </a:cubicBezTo>
                <a:cubicBezTo>
                  <a:pt x="669" y="792"/>
                  <a:pt x="484" y="681"/>
                  <a:pt x="965" y="692"/>
                </a:cubicBezTo>
                <a:cubicBezTo>
                  <a:pt x="1108" y="705"/>
                  <a:pt x="1164" y="706"/>
                  <a:pt x="1333" y="700"/>
                </a:cubicBezTo>
                <a:cubicBezTo>
                  <a:pt x="1339" y="584"/>
                  <a:pt x="1320" y="528"/>
                  <a:pt x="1429" y="492"/>
                </a:cubicBezTo>
                <a:cubicBezTo>
                  <a:pt x="1496" y="495"/>
                  <a:pt x="1562" y="495"/>
                  <a:pt x="1629" y="500"/>
                </a:cubicBezTo>
                <a:cubicBezTo>
                  <a:pt x="1729" y="507"/>
                  <a:pt x="1744" y="634"/>
                  <a:pt x="1765" y="708"/>
                </a:cubicBezTo>
                <a:cubicBezTo>
                  <a:pt x="1826" y="705"/>
                  <a:pt x="1889" y="712"/>
                  <a:pt x="1949" y="700"/>
                </a:cubicBezTo>
                <a:cubicBezTo>
                  <a:pt x="1961" y="698"/>
                  <a:pt x="1965" y="680"/>
                  <a:pt x="1965" y="668"/>
                </a:cubicBezTo>
                <a:cubicBezTo>
                  <a:pt x="1969" y="498"/>
                  <a:pt x="2030" y="359"/>
                  <a:pt x="1877" y="308"/>
                </a:cubicBezTo>
                <a:cubicBezTo>
                  <a:pt x="1790" y="314"/>
                  <a:pt x="1730" y="324"/>
                  <a:pt x="1645" y="316"/>
                </a:cubicBezTo>
                <a:cubicBezTo>
                  <a:pt x="1501" y="321"/>
                  <a:pt x="1357" y="319"/>
                  <a:pt x="1213" y="332"/>
                </a:cubicBezTo>
                <a:cubicBezTo>
                  <a:pt x="1203" y="333"/>
                  <a:pt x="1201" y="347"/>
                  <a:pt x="1197" y="356"/>
                </a:cubicBezTo>
                <a:cubicBezTo>
                  <a:pt x="1177" y="402"/>
                  <a:pt x="1165" y="451"/>
                  <a:pt x="1157" y="500"/>
                </a:cubicBezTo>
                <a:cubicBezTo>
                  <a:pt x="1192" y="742"/>
                  <a:pt x="1096" y="124"/>
                  <a:pt x="1197" y="276"/>
                </a:cubicBezTo>
                <a:cubicBezTo>
                  <a:pt x="1210" y="713"/>
                  <a:pt x="1217" y="555"/>
                  <a:pt x="1253" y="260"/>
                </a:cubicBezTo>
                <a:cubicBezTo>
                  <a:pt x="1345" y="291"/>
                  <a:pt x="1382" y="286"/>
                  <a:pt x="1501" y="292"/>
                </a:cubicBezTo>
                <a:cubicBezTo>
                  <a:pt x="1504" y="332"/>
                  <a:pt x="1487" y="379"/>
                  <a:pt x="1509" y="412"/>
                </a:cubicBezTo>
                <a:cubicBezTo>
                  <a:pt x="1527" y="439"/>
                  <a:pt x="1503" y="345"/>
                  <a:pt x="1517" y="316"/>
                </a:cubicBezTo>
                <a:cubicBezTo>
                  <a:pt x="1525" y="301"/>
                  <a:pt x="1549" y="305"/>
                  <a:pt x="1565" y="300"/>
                </a:cubicBezTo>
                <a:cubicBezTo>
                  <a:pt x="1666" y="313"/>
                  <a:pt x="1626" y="297"/>
                  <a:pt x="1581" y="356"/>
                </a:cubicBezTo>
                <a:cubicBezTo>
                  <a:pt x="1562" y="412"/>
                  <a:pt x="1524" y="314"/>
                  <a:pt x="1613" y="308"/>
                </a:cubicBezTo>
                <a:cubicBezTo>
                  <a:pt x="1650" y="305"/>
                  <a:pt x="1762" y="300"/>
                  <a:pt x="1725" y="300"/>
                </a:cubicBezTo>
                <a:cubicBezTo>
                  <a:pt x="1368" y="300"/>
                  <a:pt x="1010" y="305"/>
                  <a:pt x="653" y="308"/>
                </a:cubicBezTo>
                <a:cubicBezTo>
                  <a:pt x="629" y="345"/>
                  <a:pt x="614" y="373"/>
                  <a:pt x="597" y="412"/>
                </a:cubicBezTo>
                <a:cubicBezTo>
                  <a:pt x="590" y="427"/>
                  <a:pt x="581" y="460"/>
                  <a:pt x="581" y="460"/>
                </a:cubicBezTo>
                <a:cubicBezTo>
                  <a:pt x="586" y="407"/>
                  <a:pt x="578" y="350"/>
                  <a:pt x="597" y="300"/>
                </a:cubicBezTo>
                <a:cubicBezTo>
                  <a:pt x="602" y="287"/>
                  <a:pt x="634" y="295"/>
                  <a:pt x="637" y="308"/>
                </a:cubicBezTo>
                <a:cubicBezTo>
                  <a:pt x="668" y="450"/>
                  <a:pt x="572" y="455"/>
                  <a:pt x="669" y="436"/>
                </a:cubicBezTo>
                <a:cubicBezTo>
                  <a:pt x="678" y="410"/>
                  <a:pt x="696" y="358"/>
                  <a:pt x="693" y="340"/>
                </a:cubicBezTo>
                <a:cubicBezTo>
                  <a:pt x="691" y="329"/>
                  <a:pt x="676" y="355"/>
                  <a:pt x="669" y="364"/>
                </a:cubicBezTo>
                <a:cubicBezTo>
                  <a:pt x="663" y="371"/>
                  <a:pt x="658" y="380"/>
                  <a:pt x="653" y="388"/>
                </a:cubicBezTo>
                <a:cubicBezTo>
                  <a:pt x="627" y="433"/>
                  <a:pt x="621" y="481"/>
                  <a:pt x="613" y="532"/>
                </a:cubicBezTo>
                <a:cubicBezTo>
                  <a:pt x="619" y="611"/>
                  <a:pt x="599" y="645"/>
                  <a:pt x="661" y="676"/>
                </a:cubicBezTo>
                <a:cubicBezTo>
                  <a:pt x="685" y="671"/>
                  <a:pt x="714" y="676"/>
                  <a:pt x="733" y="660"/>
                </a:cubicBezTo>
                <a:cubicBezTo>
                  <a:pt x="750" y="646"/>
                  <a:pt x="677" y="593"/>
                  <a:pt x="669" y="588"/>
                </a:cubicBezTo>
                <a:cubicBezTo>
                  <a:pt x="697" y="546"/>
                  <a:pt x="710" y="548"/>
                  <a:pt x="661" y="524"/>
                </a:cubicBezTo>
                <a:cubicBezTo>
                  <a:pt x="593" y="547"/>
                  <a:pt x="610" y="532"/>
                  <a:pt x="653" y="684"/>
                </a:cubicBezTo>
                <a:cubicBezTo>
                  <a:pt x="656" y="695"/>
                  <a:pt x="673" y="698"/>
                  <a:pt x="685" y="700"/>
                </a:cubicBezTo>
                <a:cubicBezTo>
                  <a:pt x="735" y="707"/>
                  <a:pt x="786" y="705"/>
                  <a:pt x="837" y="708"/>
                </a:cubicBezTo>
                <a:cubicBezTo>
                  <a:pt x="691" y="757"/>
                  <a:pt x="1093" y="708"/>
                  <a:pt x="1157" y="708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027240" y="3492360"/>
            <a:ext cx="2808360" cy="1231920"/>
          </a:xfrm>
          <a:custGeom>
            <a:avLst/>
            <a:gdLst/>
            <a:ahLst/>
            <a:rect l="l" t="t" r="r" b="b"/>
            <a:pathLst>
              <a:path w="1769" h="776">
                <a:moveTo>
                  <a:pt x="77" y="643"/>
                </a:moveTo>
                <a:cubicBezTo>
                  <a:pt x="80" y="622"/>
                  <a:pt x="78" y="599"/>
                  <a:pt x="85" y="579"/>
                </a:cubicBezTo>
                <a:cubicBezTo>
                  <a:pt x="89" y="568"/>
                  <a:pt x="102" y="564"/>
                  <a:pt x="109" y="555"/>
                </a:cubicBezTo>
                <a:cubicBezTo>
                  <a:pt x="138" y="521"/>
                  <a:pt x="115" y="543"/>
                  <a:pt x="133" y="507"/>
                </a:cubicBezTo>
                <a:cubicBezTo>
                  <a:pt x="147" y="478"/>
                  <a:pt x="176" y="456"/>
                  <a:pt x="197" y="435"/>
                </a:cubicBezTo>
                <a:cubicBezTo>
                  <a:pt x="205" y="427"/>
                  <a:pt x="173" y="459"/>
                  <a:pt x="173" y="459"/>
                </a:cubicBezTo>
                <a:cubicBezTo>
                  <a:pt x="155" y="514"/>
                  <a:pt x="180" y="447"/>
                  <a:pt x="141" y="515"/>
                </a:cubicBezTo>
                <a:cubicBezTo>
                  <a:pt x="126" y="541"/>
                  <a:pt x="124" y="574"/>
                  <a:pt x="117" y="603"/>
                </a:cubicBezTo>
                <a:cubicBezTo>
                  <a:pt x="112" y="625"/>
                  <a:pt x="69" y="651"/>
                  <a:pt x="69" y="651"/>
                </a:cubicBezTo>
                <a:cubicBezTo>
                  <a:pt x="50" y="707"/>
                  <a:pt x="45" y="650"/>
                  <a:pt x="37" y="627"/>
                </a:cubicBezTo>
                <a:cubicBezTo>
                  <a:pt x="46" y="776"/>
                  <a:pt x="0" y="772"/>
                  <a:pt x="101" y="755"/>
                </a:cubicBezTo>
                <a:cubicBezTo>
                  <a:pt x="114" y="753"/>
                  <a:pt x="128" y="750"/>
                  <a:pt x="141" y="747"/>
                </a:cubicBezTo>
                <a:cubicBezTo>
                  <a:pt x="147" y="717"/>
                  <a:pt x="151" y="679"/>
                  <a:pt x="165" y="651"/>
                </a:cubicBezTo>
                <a:cubicBezTo>
                  <a:pt x="232" y="517"/>
                  <a:pt x="555" y="557"/>
                  <a:pt x="621" y="555"/>
                </a:cubicBezTo>
                <a:cubicBezTo>
                  <a:pt x="627" y="538"/>
                  <a:pt x="644" y="525"/>
                  <a:pt x="645" y="507"/>
                </a:cubicBezTo>
                <a:cubicBezTo>
                  <a:pt x="647" y="470"/>
                  <a:pt x="641" y="432"/>
                  <a:pt x="637" y="395"/>
                </a:cubicBezTo>
                <a:cubicBezTo>
                  <a:pt x="624" y="287"/>
                  <a:pt x="366" y="324"/>
                  <a:pt x="341" y="323"/>
                </a:cubicBezTo>
                <a:cubicBezTo>
                  <a:pt x="317" y="320"/>
                  <a:pt x="293" y="318"/>
                  <a:pt x="269" y="315"/>
                </a:cubicBezTo>
                <a:cubicBezTo>
                  <a:pt x="253" y="313"/>
                  <a:pt x="231" y="320"/>
                  <a:pt x="221" y="307"/>
                </a:cubicBezTo>
                <a:cubicBezTo>
                  <a:pt x="214" y="298"/>
                  <a:pt x="231" y="285"/>
                  <a:pt x="237" y="275"/>
                </a:cubicBezTo>
                <a:cubicBezTo>
                  <a:pt x="266" y="227"/>
                  <a:pt x="261" y="235"/>
                  <a:pt x="293" y="203"/>
                </a:cubicBezTo>
                <a:cubicBezTo>
                  <a:pt x="296" y="192"/>
                  <a:pt x="295" y="180"/>
                  <a:pt x="301" y="171"/>
                </a:cubicBezTo>
                <a:cubicBezTo>
                  <a:pt x="327" y="134"/>
                  <a:pt x="370" y="88"/>
                  <a:pt x="405" y="59"/>
                </a:cubicBezTo>
                <a:cubicBezTo>
                  <a:pt x="414" y="52"/>
                  <a:pt x="418" y="36"/>
                  <a:pt x="429" y="35"/>
                </a:cubicBezTo>
                <a:cubicBezTo>
                  <a:pt x="511" y="25"/>
                  <a:pt x="594" y="30"/>
                  <a:pt x="677" y="27"/>
                </a:cubicBezTo>
                <a:cubicBezTo>
                  <a:pt x="613" y="24"/>
                  <a:pt x="421" y="19"/>
                  <a:pt x="485" y="19"/>
                </a:cubicBezTo>
                <a:cubicBezTo>
                  <a:pt x="1009" y="19"/>
                  <a:pt x="997" y="17"/>
                  <a:pt x="797" y="35"/>
                </a:cubicBezTo>
                <a:cubicBezTo>
                  <a:pt x="821" y="38"/>
                  <a:pt x="845" y="40"/>
                  <a:pt x="869" y="43"/>
                </a:cubicBezTo>
                <a:cubicBezTo>
                  <a:pt x="906" y="48"/>
                  <a:pt x="981" y="59"/>
                  <a:pt x="981" y="59"/>
                </a:cubicBezTo>
                <a:cubicBezTo>
                  <a:pt x="1010" y="56"/>
                  <a:pt x="1042" y="62"/>
                  <a:pt x="1069" y="51"/>
                </a:cubicBezTo>
                <a:cubicBezTo>
                  <a:pt x="1084" y="45"/>
                  <a:pt x="1005" y="43"/>
                  <a:pt x="1021" y="43"/>
                </a:cubicBezTo>
                <a:cubicBezTo>
                  <a:pt x="1069" y="43"/>
                  <a:pt x="1117" y="48"/>
                  <a:pt x="1165" y="51"/>
                </a:cubicBezTo>
                <a:cubicBezTo>
                  <a:pt x="1314" y="81"/>
                  <a:pt x="1244" y="71"/>
                  <a:pt x="1373" y="83"/>
                </a:cubicBezTo>
                <a:cubicBezTo>
                  <a:pt x="1365" y="80"/>
                  <a:pt x="1357" y="76"/>
                  <a:pt x="1349" y="75"/>
                </a:cubicBezTo>
                <a:cubicBezTo>
                  <a:pt x="1325" y="71"/>
                  <a:pt x="1253" y="67"/>
                  <a:pt x="1277" y="67"/>
                </a:cubicBezTo>
                <a:cubicBezTo>
                  <a:pt x="1306" y="67"/>
                  <a:pt x="1336" y="72"/>
                  <a:pt x="1365" y="75"/>
                </a:cubicBezTo>
                <a:cubicBezTo>
                  <a:pt x="1402" y="70"/>
                  <a:pt x="1442" y="74"/>
                  <a:pt x="1477" y="59"/>
                </a:cubicBezTo>
                <a:cubicBezTo>
                  <a:pt x="1494" y="52"/>
                  <a:pt x="1402" y="51"/>
                  <a:pt x="1421" y="51"/>
                </a:cubicBezTo>
                <a:cubicBezTo>
                  <a:pt x="1458" y="51"/>
                  <a:pt x="1496" y="56"/>
                  <a:pt x="1533" y="59"/>
                </a:cubicBezTo>
                <a:cubicBezTo>
                  <a:pt x="1587" y="75"/>
                  <a:pt x="1580" y="74"/>
                  <a:pt x="1629" y="83"/>
                </a:cubicBezTo>
                <a:cubicBezTo>
                  <a:pt x="1716" y="99"/>
                  <a:pt x="1729" y="94"/>
                  <a:pt x="1525" y="83"/>
                </a:cubicBezTo>
                <a:cubicBezTo>
                  <a:pt x="1628" y="57"/>
                  <a:pt x="1769" y="73"/>
                  <a:pt x="1445" y="59"/>
                </a:cubicBezTo>
                <a:cubicBezTo>
                  <a:pt x="1492" y="43"/>
                  <a:pt x="1463" y="57"/>
                  <a:pt x="1421" y="43"/>
                </a:cubicBezTo>
                <a:cubicBezTo>
                  <a:pt x="1404" y="37"/>
                  <a:pt x="1390" y="23"/>
                  <a:pt x="1373" y="19"/>
                </a:cubicBezTo>
                <a:cubicBezTo>
                  <a:pt x="1336" y="10"/>
                  <a:pt x="1223" y="0"/>
                  <a:pt x="1261" y="3"/>
                </a:cubicBezTo>
                <a:cubicBezTo>
                  <a:pt x="1418" y="14"/>
                  <a:pt x="1336" y="9"/>
                  <a:pt x="1509" y="19"/>
                </a:cubicBezTo>
                <a:cubicBezTo>
                  <a:pt x="1553" y="34"/>
                  <a:pt x="1600" y="35"/>
                  <a:pt x="1645" y="43"/>
                </a:cubicBezTo>
                <a:cubicBezTo>
                  <a:pt x="1605" y="56"/>
                  <a:pt x="1564" y="62"/>
                  <a:pt x="1525" y="75"/>
                </a:cubicBezTo>
                <a:cubicBezTo>
                  <a:pt x="1522" y="83"/>
                  <a:pt x="1512" y="92"/>
                  <a:pt x="1517" y="99"/>
                </a:cubicBezTo>
                <a:cubicBezTo>
                  <a:pt x="1528" y="115"/>
                  <a:pt x="1565" y="131"/>
                  <a:pt x="1565" y="131"/>
                </a:cubicBezTo>
                <a:cubicBezTo>
                  <a:pt x="1570" y="139"/>
                  <a:pt x="1580" y="145"/>
                  <a:pt x="1581" y="155"/>
                </a:cubicBezTo>
                <a:cubicBezTo>
                  <a:pt x="1582" y="160"/>
                  <a:pt x="1568" y="203"/>
                  <a:pt x="1565" y="211"/>
                </a:cubicBezTo>
                <a:cubicBezTo>
                  <a:pt x="1543" y="263"/>
                  <a:pt x="1527" y="304"/>
                  <a:pt x="1469" y="323"/>
                </a:cubicBezTo>
                <a:cubicBezTo>
                  <a:pt x="1371" y="315"/>
                  <a:pt x="1276" y="302"/>
                  <a:pt x="1181" y="275"/>
                </a:cubicBezTo>
                <a:cubicBezTo>
                  <a:pt x="1165" y="64"/>
                  <a:pt x="1225" y="44"/>
                  <a:pt x="1109" y="83"/>
                </a:cubicBezTo>
                <a:cubicBezTo>
                  <a:pt x="1087" y="149"/>
                  <a:pt x="1141" y="80"/>
                  <a:pt x="1141" y="147"/>
                </a:cubicBezTo>
                <a:cubicBezTo>
                  <a:pt x="1141" y="157"/>
                  <a:pt x="1133" y="129"/>
                  <a:pt x="1125" y="123"/>
                </a:cubicBezTo>
                <a:cubicBezTo>
                  <a:pt x="1113" y="115"/>
                  <a:pt x="1098" y="113"/>
                  <a:pt x="1085" y="107"/>
                </a:cubicBezTo>
                <a:cubicBezTo>
                  <a:pt x="1076" y="103"/>
                  <a:pt x="1051" y="92"/>
                  <a:pt x="1061" y="91"/>
                </a:cubicBezTo>
                <a:cubicBezTo>
                  <a:pt x="1090" y="87"/>
                  <a:pt x="1120" y="96"/>
                  <a:pt x="1149" y="99"/>
                </a:cubicBezTo>
                <a:cubicBezTo>
                  <a:pt x="1144" y="107"/>
                  <a:pt x="1136" y="114"/>
                  <a:pt x="1133" y="123"/>
                </a:cubicBezTo>
                <a:cubicBezTo>
                  <a:pt x="1128" y="138"/>
                  <a:pt x="1134" y="158"/>
                  <a:pt x="1125" y="171"/>
                </a:cubicBezTo>
                <a:cubicBezTo>
                  <a:pt x="1120" y="178"/>
                  <a:pt x="1122" y="154"/>
                  <a:pt x="1117" y="147"/>
                </a:cubicBezTo>
                <a:cubicBezTo>
                  <a:pt x="1111" y="139"/>
                  <a:pt x="1101" y="136"/>
                  <a:pt x="1093" y="131"/>
                </a:cubicBezTo>
                <a:cubicBezTo>
                  <a:pt x="1054" y="109"/>
                  <a:pt x="1026" y="105"/>
                  <a:pt x="981" y="99"/>
                </a:cubicBezTo>
                <a:cubicBezTo>
                  <a:pt x="973" y="96"/>
                  <a:pt x="965" y="91"/>
                  <a:pt x="957" y="91"/>
                </a:cubicBezTo>
                <a:cubicBezTo>
                  <a:pt x="890" y="91"/>
                  <a:pt x="819" y="75"/>
                  <a:pt x="757" y="99"/>
                </a:cubicBezTo>
                <a:cubicBezTo>
                  <a:pt x="734" y="108"/>
                  <a:pt x="754" y="147"/>
                  <a:pt x="749" y="171"/>
                </a:cubicBezTo>
                <a:cubicBezTo>
                  <a:pt x="742" y="205"/>
                  <a:pt x="726" y="241"/>
                  <a:pt x="717" y="275"/>
                </a:cubicBezTo>
                <a:cubicBezTo>
                  <a:pt x="720" y="283"/>
                  <a:pt x="717" y="298"/>
                  <a:pt x="725" y="299"/>
                </a:cubicBezTo>
                <a:cubicBezTo>
                  <a:pt x="804" y="309"/>
                  <a:pt x="885" y="303"/>
                  <a:pt x="965" y="307"/>
                </a:cubicBezTo>
                <a:cubicBezTo>
                  <a:pt x="981" y="308"/>
                  <a:pt x="997" y="314"/>
                  <a:pt x="1013" y="315"/>
                </a:cubicBezTo>
                <a:cubicBezTo>
                  <a:pt x="1202" y="332"/>
                  <a:pt x="1402" y="338"/>
                  <a:pt x="1037" y="323"/>
                </a:cubicBezTo>
                <a:cubicBezTo>
                  <a:pt x="858" y="308"/>
                  <a:pt x="664" y="274"/>
                  <a:pt x="493" y="331"/>
                </a:cubicBezTo>
                <a:cubicBezTo>
                  <a:pt x="462" y="311"/>
                  <a:pt x="444" y="294"/>
                  <a:pt x="429" y="259"/>
                </a:cubicBezTo>
                <a:cubicBezTo>
                  <a:pt x="426" y="251"/>
                  <a:pt x="414" y="240"/>
                  <a:pt x="421" y="235"/>
                </a:cubicBezTo>
                <a:cubicBezTo>
                  <a:pt x="430" y="229"/>
                  <a:pt x="442" y="240"/>
                  <a:pt x="453" y="243"/>
                </a:cubicBezTo>
                <a:cubicBezTo>
                  <a:pt x="456" y="270"/>
                  <a:pt x="467" y="297"/>
                  <a:pt x="461" y="323"/>
                </a:cubicBezTo>
                <a:cubicBezTo>
                  <a:pt x="459" y="331"/>
                  <a:pt x="444" y="320"/>
                  <a:pt x="437" y="315"/>
                </a:cubicBezTo>
                <a:cubicBezTo>
                  <a:pt x="419" y="301"/>
                  <a:pt x="389" y="267"/>
                  <a:pt x="389" y="267"/>
                </a:cubicBezTo>
                <a:cubicBezTo>
                  <a:pt x="370" y="211"/>
                  <a:pt x="368" y="235"/>
                  <a:pt x="381" y="195"/>
                </a:cubicBezTo>
                <a:cubicBezTo>
                  <a:pt x="384" y="199"/>
                  <a:pt x="417" y="242"/>
                  <a:pt x="421" y="251"/>
                </a:cubicBezTo>
                <a:cubicBezTo>
                  <a:pt x="438" y="291"/>
                  <a:pt x="428" y="363"/>
                  <a:pt x="485" y="363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3492360" y="4348080"/>
            <a:ext cx="2648160" cy="304920"/>
          </a:xfrm>
          <a:custGeom>
            <a:avLst/>
            <a:gdLst/>
            <a:ahLst/>
            <a:rect l="l" t="t" r="r" b="b"/>
            <a:pathLst>
              <a:path w="1668" h="192">
                <a:moveTo>
                  <a:pt x="0" y="96"/>
                </a:moveTo>
                <a:cubicBezTo>
                  <a:pt x="45" y="93"/>
                  <a:pt x="91" y="93"/>
                  <a:pt x="136" y="88"/>
                </a:cubicBezTo>
                <a:cubicBezTo>
                  <a:pt x="160" y="85"/>
                  <a:pt x="191" y="89"/>
                  <a:pt x="208" y="72"/>
                </a:cubicBezTo>
                <a:cubicBezTo>
                  <a:pt x="218" y="62"/>
                  <a:pt x="182" y="61"/>
                  <a:pt x="168" y="56"/>
                </a:cubicBezTo>
                <a:cubicBezTo>
                  <a:pt x="133" y="44"/>
                  <a:pt x="101" y="44"/>
                  <a:pt x="64" y="40"/>
                </a:cubicBezTo>
                <a:cubicBezTo>
                  <a:pt x="53" y="37"/>
                  <a:pt x="27" y="42"/>
                  <a:pt x="32" y="32"/>
                </a:cubicBezTo>
                <a:cubicBezTo>
                  <a:pt x="38" y="20"/>
                  <a:pt x="59" y="26"/>
                  <a:pt x="72" y="24"/>
                </a:cubicBezTo>
                <a:cubicBezTo>
                  <a:pt x="134" y="13"/>
                  <a:pt x="102" y="22"/>
                  <a:pt x="144" y="8"/>
                </a:cubicBezTo>
                <a:cubicBezTo>
                  <a:pt x="261" y="11"/>
                  <a:pt x="379" y="7"/>
                  <a:pt x="496" y="16"/>
                </a:cubicBezTo>
                <a:cubicBezTo>
                  <a:pt x="510" y="17"/>
                  <a:pt x="468" y="24"/>
                  <a:pt x="456" y="32"/>
                </a:cubicBezTo>
                <a:cubicBezTo>
                  <a:pt x="446" y="38"/>
                  <a:pt x="440" y="48"/>
                  <a:pt x="432" y="56"/>
                </a:cubicBezTo>
                <a:cubicBezTo>
                  <a:pt x="502" y="79"/>
                  <a:pt x="592" y="75"/>
                  <a:pt x="664" y="80"/>
                </a:cubicBezTo>
                <a:cubicBezTo>
                  <a:pt x="631" y="96"/>
                  <a:pt x="612" y="101"/>
                  <a:pt x="600" y="136"/>
                </a:cubicBezTo>
                <a:cubicBezTo>
                  <a:pt x="681" y="149"/>
                  <a:pt x="748" y="166"/>
                  <a:pt x="832" y="144"/>
                </a:cubicBezTo>
                <a:cubicBezTo>
                  <a:pt x="840" y="142"/>
                  <a:pt x="830" y="126"/>
                  <a:pt x="824" y="120"/>
                </a:cubicBezTo>
                <a:cubicBezTo>
                  <a:pt x="801" y="97"/>
                  <a:pt x="770" y="84"/>
                  <a:pt x="744" y="64"/>
                </a:cubicBezTo>
                <a:cubicBezTo>
                  <a:pt x="757" y="61"/>
                  <a:pt x="771" y="58"/>
                  <a:pt x="784" y="56"/>
                </a:cubicBezTo>
                <a:cubicBezTo>
                  <a:pt x="800" y="53"/>
                  <a:pt x="832" y="64"/>
                  <a:pt x="832" y="48"/>
                </a:cubicBezTo>
                <a:cubicBezTo>
                  <a:pt x="832" y="31"/>
                  <a:pt x="784" y="32"/>
                  <a:pt x="784" y="32"/>
                </a:cubicBezTo>
                <a:cubicBezTo>
                  <a:pt x="773" y="24"/>
                  <a:pt x="764" y="15"/>
                  <a:pt x="752" y="8"/>
                </a:cubicBezTo>
                <a:cubicBezTo>
                  <a:pt x="745" y="4"/>
                  <a:pt x="720" y="0"/>
                  <a:pt x="728" y="0"/>
                </a:cubicBezTo>
                <a:cubicBezTo>
                  <a:pt x="840" y="0"/>
                  <a:pt x="962" y="18"/>
                  <a:pt x="1072" y="40"/>
                </a:cubicBezTo>
                <a:cubicBezTo>
                  <a:pt x="1045" y="43"/>
                  <a:pt x="1017" y="39"/>
                  <a:pt x="992" y="48"/>
                </a:cubicBezTo>
                <a:cubicBezTo>
                  <a:pt x="984" y="51"/>
                  <a:pt x="978" y="66"/>
                  <a:pt x="984" y="72"/>
                </a:cubicBezTo>
                <a:cubicBezTo>
                  <a:pt x="994" y="82"/>
                  <a:pt x="1011" y="77"/>
                  <a:pt x="1024" y="80"/>
                </a:cubicBezTo>
                <a:cubicBezTo>
                  <a:pt x="1075" y="77"/>
                  <a:pt x="1127" y="84"/>
                  <a:pt x="1176" y="72"/>
                </a:cubicBezTo>
                <a:cubicBezTo>
                  <a:pt x="1187" y="69"/>
                  <a:pt x="1150" y="59"/>
                  <a:pt x="1152" y="48"/>
                </a:cubicBezTo>
                <a:cubicBezTo>
                  <a:pt x="1154" y="36"/>
                  <a:pt x="1172" y="34"/>
                  <a:pt x="1184" y="32"/>
                </a:cubicBezTo>
                <a:cubicBezTo>
                  <a:pt x="1213" y="26"/>
                  <a:pt x="1243" y="27"/>
                  <a:pt x="1272" y="24"/>
                </a:cubicBezTo>
                <a:cubicBezTo>
                  <a:pt x="1358" y="29"/>
                  <a:pt x="1430" y="35"/>
                  <a:pt x="1512" y="56"/>
                </a:cubicBezTo>
                <a:cubicBezTo>
                  <a:pt x="1509" y="69"/>
                  <a:pt x="1510" y="84"/>
                  <a:pt x="1504" y="96"/>
                </a:cubicBezTo>
                <a:cubicBezTo>
                  <a:pt x="1499" y="106"/>
                  <a:pt x="1480" y="109"/>
                  <a:pt x="1480" y="120"/>
                </a:cubicBezTo>
                <a:cubicBezTo>
                  <a:pt x="1480" y="128"/>
                  <a:pt x="1496" y="127"/>
                  <a:pt x="1504" y="128"/>
                </a:cubicBezTo>
                <a:cubicBezTo>
                  <a:pt x="1547" y="132"/>
                  <a:pt x="1589" y="133"/>
                  <a:pt x="1632" y="136"/>
                </a:cubicBezTo>
                <a:cubicBezTo>
                  <a:pt x="1643" y="139"/>
                  <a:pt x="1662" y="133"/>
                  <a:pt x="1664" y="144"/>
                </a:cubicBezTo>
                <a:cubicBezTo>
                  <a:pt x="1668" y="166"/>
                  <a:pt x="1616" y="192"/>
                  <a:pt x="1616" y="192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3276720" y="3933720"/>
            <a:ext cx="223560" cy="196920"/>
          </a:xfrm>
          <a:custGeom>
            <a:avLst/>
            <a:gdLst/>
            <a:ahLst/>
            <a:rect l="l" t="t" r="r" b="b"/>
            <a:pathLst>
              <a:path w="621" h="546">
                <a:moveTo>
                  <a:pt x="9922" y="10939"/>
                </a:moveTo>
                <a:cubicBezTo>
                  <a:pt x="9824" y="10939"/>
                  <a:pt x="9805" y="10961"/>
                  <a:pt x="9773" y="10889"/>
                </a:cubicBezTo>
                <a:cubicBezTo>
                  <a:pt x="9752" y="10841"/>
                  <a:pt x="9695" y="10767"/>
                  <a:pt x="9649" y="10740"/>
                </a:cubicBezTo>
                <a:cubicBezTo>
                  <a:pt x="9636" y="10732"/>
                  <a:pt x="9558" y="10678"/>
                  <a:pt x="9550" y="10666"/>
                </a:cubicBezTo>
                <a:cubicBezTo>
                  <a:pt x="9536" y="10645"/>
                  <a:pt x="9497" y="10590"/>
                  <a:pt x="9451" y="10616"/>
                </a:cubicBezTo>
                <a:cubicBezTo>
                  <a:pt x="9413" y="10637"/>
                  <a:pt x="9426" y="10680"/>
                  <a:pt x="9426" y="10716"/>
                </a:cubicBezTo>
                <a:cubicBezTo>
                  <a:pt x="9426" y="10773"/>
                  <a:pt x="9416" y="10820"/>
                  <a:pt x="9451" y="10864"/>
                </a:cubicBezTo>
                <a:cubicBezTo>
                  <a:pt x="9483" y="10904"/>
                  <a:pt x="9526" y="10945"/>
                  <a:pt x="9575" y="10889"/>
                </a:cubicBezTo>
                <a:cubicBezTo>
                  <a:pt x="9598" y="10863"/>
                  <a:pt x="9619" y="10851"/>
                  <a:pt x="9674" y="10840"/>
                </a:cubicBezTo>
                <a:cubicBezTo>
                  <a:pt x="9636" y="10870"/>
                  <a:pt x="9598" y="10896"/>
                  <a:pt x="9575" y="10914"/>
                </a:cubicBezTo>
                <a:cubicBezTo>
                  <a:pt x="9528" y="10950"/>
                  <a:pt x="9479" y="10949"/>
                  <a:pt x="9426" y="10988"/>
                </a:cubicBezTo>
                <a:cubicBezTo>
                  <a:pt x="9388" y="11016"/>
                  <a:pt x="9375" y="11013"/>
                  <a:pt x="9327" y="11013"/>
                </a:cubicBezTo>
                <a:cubicBezTo>
                  <a:pt x="9319" y="11013"/>
                  <a:pt x="9310" y="11013"/>
                  <a:pt x="9302" y="11013"/>
                </a:cubicBezTo>
                <a:cubicBezTo>
                  <a:pt x="9302" y="10889"/>
                  <a:pt x="9302" y="10765"/>
                  <a:pt x="9302" y="10641"/>
                </a:cubicBezTo>
              </a:path>
              <a:path w="621" h="546">
                <a:moveTo>
                  <a:pt x="9351" y="10567"/>
                </a:moveTo>
                <a:cubicBezTo>
                  <a:pt x="9351" y="10493"/>
                  <a:pt x="9384" y="10533"/>
                  <a:pt x="9401" y="10468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5205240" y="1544760"/>
            <a:ext cx="46080" cy="241200"/>
          </a:xfrm>
          <a:custGeom>
            <a:avLst/>
            <a:gdLst/>
            <a:ahLst/>
            <a:rect l="l" t="t" r="r" b="b"/>
            <a:pathLst>
              <a:path w="125" h="671">
                <a:moveTo>
                  <a:pt x="14486" y="4961"/>
                </a:moveTo>
                <a:cubicBezTo>
                  <a:pt x="14486" y="4899"/>
                  <a:pt x="14476" y="4871"/>
                  <a:pt x="14461" y="4812"/>
                </a:cubicBezTo>
                <a:cubicBezTo>
                  <a:pt x="14461" y="4787"/>
                  <a:pt x="14461" y="4779"/>
                  <a:pt x="14461" y="4762"/>
                </a:cubicBezTo>
              </a:path>
              <a:path w="125" h="671">
                <a:moveTo>
                  <a:pt x="14486" y="4887"/>
                </a:moveTo>
                <a:cubicBezTo>
                  <a:pt x="14486" y="4789"/>
                  <a:pt x="14489" y="4697"/>
                  <a:pt x="14461" y="4614"/>
                </a:cubicBezTo>
                <a:cubicBezTo>
                  <a:pt x="14452" y="4588"/>
                  <a:pt x="14461" y="4542"/>
                  <a:pt x="14461" y="4514"/>
                </a:cubicBezTo>
              </a:path>
              <a:path w="125" h="671">
                <a:moveTo>
                  <a:pt x="14536" y="4415"/>
                </a:moveTo>
                <a:cubicBezTo>
                  <a:pt x="14536" y="4336"/>
                  <a:pt x="14521" y="4334"/>
                  <a:pt x="14585" y="429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5384880" y="2205000"/>
            <a:ext cx="312480" cy="366840"/>
          </a:xfrm>
          <a:custGeom>
            <a:avLst/>
            <a:gdLst/>
            <a:ahLst/>
            <a:rect l="l" t="t" r="r" b="b"/>
            <a:pathLst>
              <a:path w="869" h="1018">
                <a:moveTo>
                  <a:pt x="15825" y="7144"/>
                </a:moveTo>
                <a:cubicBezTo>
                  <a:pt x="15803" y="7106"/>
                  <a:pt x="15817" y="7081"/>
                  <a:pt x="15801" y="7045"/>
                </a:cubicBezTo>
                <a:cubicBezTo>
                  <a:pt x="15781" y="7002"/>
                  <a:pt x="15782" y="6995"/>
                  <a:pt x="15776" y="6945"/>
                </a:cubicBezTo>
                <a:cubicBezTo>
                  <a:pt x="15767" y="6930"/>
                  <a:pt x="15766" y="6901"/>
                  <a:pt x="15751" y="6871"/>
                </a:cubicBezTo>
                <a:cubicBezTo>
                  <a:pt x="15731" y="6832"/>
                  <a:pt x="15723" y="6783"/>
                  <a:pt x="15701" y="6747"/>
                </a:cubicBezTo>
                <a:cubicBezTo>
                  <a:pt x="15667" y="6691"/>
                  <a:pt x="15593" y="6656"/>
                  <a:pt x="15553" y="6623"/>
                </a:cubicBezTo>
                <a:cubicBezTo>
                  <a:pt x="15499" y="6579"/>
                  <a:pt x="15466" y="6532"/>
                  <a:pt x="15404" y="6499"/>
                </a:cubicBezTo>
                <a:cubicBezTo>
                  <a:pt x="15342" y="6466"/>
                  <a:pt x="15305" y="6425"/>
                  <a:pt x="15255" y="6375"/>
                </a:cubicBezTo>
                <a:cubicBezTo>
                  <a:pt x="15214" y="6334"/>
                  <a:pt x="15208" y="6332"/>
                  <a:pt x="15180" y="6276"/>
                </a:cubicBezTo>
                <a:cubicBezTo>
                  <a:pt x="15130" y="6242"/>
                  <a:pt x="15064" y="6188"/>
                  <a:pt x="15007" y="6152"/>
                </a:cubicBezTo>
                <a:cubicBezTo>
                  <a:pt x="14990" y="6144"/>
                  <a:pt x="14974" y="6135"/>
                  <a:pt x="14957" y="6127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4919760" y="2232000"/>
            <a:ext cx="63360" cy="322200"/>
          </a:xfrm>
          <a:custGeom>
            <a:avLst/>
            <a:gdLst/>
            <a:ahLst/>
            <a:rect l="l" t="t" r="r" b="b"/>
            <a:pathLst>
              <a:path w="175" h="894">
                <a:moveTo>
                  <a:pt x="13841" y="6350"/>
                </a:moveTo>
                <a:cubicBezTo>
                  <a:pt x="13819" y="6357"/>
                  <a:pt x="13776" y="6414"/>
                  <a:pt x="13767" y="6449"/>
                </a:cubicBezTo>
                <a:cubicBezTo>
                  <a:pt x="13751" y="6511"/>
                  <a:pt x="13728" y="6585"/>
                  <a:pt x="13717" y="6648"/>
                </a:cubicBezTo>
                <a:cubicBezTo>
                  <a:pt x="13707" y="6706"/>
                  <a:pt x="13696" y="6763"/>
                  <a:pt x="13692" y="6821"/>
                </a:cubicBezTo>
                <a:cubicBezTo>
                  <a:pt x="13688" y="6874"/>
                  <a:pt x="13667" y="6913"/>
                  <a:pt x="13667" y="6970"/>
                </a:cubicBezTo>
                <a:cubicBezTo>
                  <a:pt x="13667" y="6988"/>
                  <a:pt x="13667" y="7171"/>
                  <a:pt x="13667" y="7045"/>
                </a:cubicBezTo>
              </a:path>
              <a:path w="175" h="894">
                <a:moveTo>
                  <a:pt x="13667" y="6325"/>
                </a:moveTo>
                <a:cubicBezTo>
                  <a:pt x="13667" y="6275"/>
                  <a:pt x="13678" y="6267"/>
                  <a:pt x="13692" y="6226"/>
                </a:cubicBezTo>
                <a:cubicBezTo>
                  <a:pt x="13692" y="6218"/>
                  <a:pt x="13692" y="6209"/>
                  <a:pt x="13692" y="6201"/>
                </a:cubicBezTo>
              </a:path>
              <a:path w="175" h="894">
                <a:moveTo>
                  <a:pt x="13692" y="6226"/>
                </a:moveTo>
                <a:cubicBezTo>
                  <a:pt x="13692" y="6400"/>
                  <a:pt x="13692" y="6573"/>
                  <a:pt x="13692" y="6747"/>
                </a:cubicBezTo>
              </a:path>
            </a:pathLst>
          </a:custGeom>
          <a:noFill/>
          <a:ln cap="rnd" w="349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3463920" y="3573360"/>
            <a:ext cx="2733840" cy="446040"/>
          </a:xfrm>
          <a:custGeom>
            <a:avLst/>
            <a:gdLst/>
            <a:ahLst/>
            <a:rect l="l" t="t" r="r" b="b"/>
            <a:pathLst>
              <a:path w="7591" h="1242">
                <a:moveTo>
                  <a:pt x="17090" y="9599"/>
                </a:moveTo>
                <a:cubicBezTo>
                  <a:pt x="17090" y="9682"/>
                  <a:pt x="17090" y="9764"/>
                  <a:pt x="17090" y="9847"/>
                </a:cubicBezTo>
              </a:path>
              <a:path w="7591" h="1242">
                <a:moveTo>
                  <a:pt x="10691" y="9525"/>
                </a:moveTo>
                <a:cubicBezTo>
                  <a:pt x="10765" y="9482"/>
                  <a:pt x="10724" y="9478"/>
                  <a:pt x="10815" y="9475"/>
                </a:cubicBezTo>
                <a:cubicBezTo>
                  <a:pt x="11112" y="9464"/>
                  <a:pt x="11411" y="9475"/>
                  <a:pt x="11708" y="9475"/>
                </a:cubicBezTo>
                <a:cubicBezTo>
                  <a:pt x="11671" y="9497"/>
                  <a:pt x="11652" y="9507"/>
                  <a:pt x="11633" y="9525"/>
                </a:cubicBezTo>
                <a:cubicBezTo>
                  <a:pt x="11608" y="9548"/>
                  <a:pt x="11595" y="9532"/>
                  <a:pt x="11559" y="9550"/>
                </a:cubicBezTo>
                <a:cubicBezTo>
                  <a:pt x="11532" y="9563"/>
                  <a:pt x="11513" y="9650"/>
                  <a:pt x="11509" y="9674"/>
                </a:cubicBezTo>
                <a:cubicBezTo>
                  <a:pt x="11455" y="9993"/>
                  <a:pt x="11509" y="10368"/>
                  <a:pt x="11509" y="10691"/>
                </a:cubicBezTo>
              </a:path>
              <a:path w="7591" h="1242">
                <a:moveTo>
                  <a:pt x="9624" y="10716"/>
                </a:moveTo>
                <a:cubicBezTo>
                  <a:pt x="10145" y="10716"/>
                  <a:pt x="10666" y="10716"/>
                  <a:pt x="11187" y="10716"/>
                </a:cubicBezTo>
              </a:path>
              <a:path w="7591" h="1242">
                <a:moveTo>
                  <a:pt x="11733" y="10666"/>
                </a:moveTo>
                <a:cubicBezTo>
                  <a:pt x="11806" y="10666"/>
                  <a:pt x="11858" y="10644"/>
                  <a:pt x="11931" y="10641"/>
                </a:cubicBezTo>
                <a:cubicBezTo>
                  <a:pt x="12335" y="10625"/>
                  <a:pt x="12742" y="10641"/>
                  <a:pt x="13146" y="10641"/>
                </a:cubicBezTo>
              </a:path>
              <a:path w="7591" h="1242">
                <a:moveTo>
                  <a:pt x="13816" y="10691"/>
                </a:moveTo>
                <a:cubicBezTo>
                  <a:pt x="14172" y="10691"/>
                  <a:pt x="14527" y="10691"/>
                  <a:pt x="14883" y="10691"/>
                </a:cubicBezTo>
              </a:path>
              <a:path w="7591" h="1242">
                <a:moveTo>
                  <a:pt x="13965" y="10616"/>
                </a:moveTo>
                <a:cubicBezTo>
                  <a:pt x="14279" y="10616"/>
                  <a:pt x="14594" y="10616"/>
                  <a:pt x="14908" y="10616"/>
                </a:cubicBezTo>
              </a:path>
              <a:path w="7591" h="1242">
                <a:moveTo>
                  <a:pt x="11782" y="9748"/>
                </a:moveTo>
                <a:cubicBezTo>
                  <a:pt x="11786" y="9723"/>
                  <a:pt x="11788" y="9661"/>
                  <a:pt x="11807" y="9649"/>
                </a:cubicBezTo>
                <a:cubicBezTo>
                  <a:pt x="12113" y="9461"/>
                  <a:pt x="13135" y="9649"/>
                  <a:pt x="13494" y="9649"/>
                </a:cubicBezTo>
              </a:path>
              <a:path w="7591" h="1242">
                <a:moveTo>
                  <a:pt x="13667" y="9674"/>
                </a:moveTo>
                <a:cubicBezTo>
                  <a:pt x="13659" y="9674"/>
                  <a:pt x="13651" y="9674"/>
                  <a:pt x="13643" y="9674"/>
                </a:cubicBezTo>
                <a:cubicBezTo>
                  <a:pt x="13643" y="9914"/>
                  <a:pt x="13643" y="10153"/>
                  <a:pt x="13643" y="10393"/>
                </a:cubicBezTo>
              </a:path>
              <a:path w="7591" h="1242">
                <a:moveTo>
                  <a:pt x="15156" y="9773"/>
                </a:moveTo>
                <a:cubicBezTo>
                  <a:pt x="15180" y="9773"/>
                  <a:pt x="15189" y="9773"/>
                  <a:pt x="15205" y="9773"/>
                </a:cubicBezTo>
                <a:cubicBezTo>
                  <a:pt x="15205" y="9886"/>
                  <a:pt x="15207" y="9990"/>
                  <a:pt x="15180" y="10096"/>
                </a:cubicBezTo>
                <a:cubicBezTo>
                  <a:pt x="15170" y="10137"/>
                  <a:pt x="15163" y="10203"/>
                  <a:pt x="15156" y="10244"/>
                </a:cubicBezTo>
                <a:cubicBezTo>
                  <a:pt x="15144" y="10315"/>
                  <a:pt x="15156" y="10527"/>
                  <a:pt x="15156" y="10517"/>
                </a:cubicBezTo>
              </a:path>
              <a:path w="7591" h="1242">
                <a:moveTo>
                  <a:pt x="15404" y="9798"/>
                </a:moveTo>
                <a:cubicBezTo>
                  <a:pt x="15374" y="9848"/>
                  <a:pt x="15379" y="9885"/>
                  <a:pt x="15379" y="9947"/>
                </a:cubicBezTo>
                <a:cubicBezTo>
                  <a:pt x="15379" y="10096"/>
                  <a:pt x="15379" y="10244"/>
                  <a:pt x="15379" y="10393"/>
                </a:cubicBezTo>
              </a:path>
              <a:path w="7591" h="1242">
                <a:moveTo>
                  <a:pt x="15701" y="9624"/>
                </a:moveTo>
                <a:cubicBezTo>
                  <a:pt x="15745" y="9615"/>
                  <a:pt x="15779" y="9603"/>
                  <a:pt x="15825" y="9599"/>
                </a:cubicBezTo>
                <a:cubicBezTo>
                  <a:pt x="15999" y="9585"/>
                  <a:pt x="16378" y="9543"/>
                  <a:pt x="16520" y="9624"/>
                </a:cubicBezTo>
                <a:cubicBezTo>
                  <a:pt x="16561" y="9644"/>
                  <a:pt x="16577" y="9642"/>
                  <a:pt x="16570" y="9674"/>
                </a:cubicBezTo>
                <a:cubicBezTo>
                  <a:pt x="16582" y="9686"/>
                  <a:pt x="16622" y="9756"/>
                  <a:pt x="16644" y="9773"/>
                </a:cubicBezTo>
                <a:cubicBezTo>
                  <a:pt x="16652" y="9773"/>
                  <a:pt x="16661" y="9773"/>
                  <a:pt x="16669" y="9773"/>
                </a:cubicBezTo>
                <a:cubicBezTo>
                  <a:pt x="16681" y="9810"/>
                  <a:pt x="16734" y="9824"/>
                  <a:pt x="16768" y="9872"/>
                </a:cubicBezTo>
                <a:cubicBezTo>
                  <a:pt x="16803" y="9922"/>
                  <a:pt x="16808" y="9957"/>
                  <a:pt x="16867" y="9971"/>
                </a:cubicBezTo>
                <a:cubicBezTo>
                  <a:pt x="16876" y="10008"/>
                  <a:pt x="16888" y="10017"/>
                  <a:pt x="16917" y="10046"/>
                </a:cubicBezTo>
              </a:path>
              <a:path w="7591" h="1242">
                <a:moveTo>
                  <a:pt x="16867" y="9748"/>
                </a:moveTo>
                <a:cubicBezTo>
                  <a:pt x="16867" y="9824"/>
                  <a:pt x="16892" y="9815"/>
                  <a:pt x="16917" y="9872"/>
                </a:cubicBezTo>
                <a:cubicBezTo>
                  <a:pt x="16937" y="9916"/>
                  <a:pt x="16968" y="9950"/>
                  <a:pt x="16991" y="9996"/>
                </a:cubicBezTo>
                <a:cubicBezTo>
                  <a:pt x="17007" y="10028"/>
                  <a:pt x="17007" y="10045"/>
                  <a:pt x="17016" y="10071"/>
                </a:cubicBezTo>
                <a:cubicBezTo>
                  <a:pt x="17024" y="10063"/>
                  <a:pt x="17033" y="10054"/>
                  <a:pt x="17041" y="10046"/>
                </a:cubicBezTo>
              </a:path>
              <a:path w="7591" h="1242">
                <a:moveTo>
                  <a:pt x="17165" y="9872"/>
                </a:moveTo>
                <a:cubicBezTo>
                  <a:pt x="17165" y="9926"/>
                  <a:pt x="17185" y="9951"/>
                  <a:pt x="17190" y="9996"/>
                </a:cubicBezTo>
                <a:cubicBezTo>
                  <a:pt x="17196" y="10046"/>
                  <a:pt x="17170" y="10105"/>
                  <a:pt x="17214" y="10120"/>
                </a:cubicBezTo>
              </a:path>
              <a:path w="7591" h="1242">
                <a:moveTo>
                  <a:pt x="10592" y="9550"/>
                </a:moveTo>
                <a:cubicBezTo>
                  <a:pt x="10551" y="9550"/>
                  <a:pt x="10442" y="9528"/>
                  <a:pt x="10418" y="9575"/>
                </a:cubicBezTo>
                <a:cubicBezTo>
                  <a:pt x="10418" y="9583"/>
                  <a:pt x="10418" y="9591"/>
                  <a:pt x="10418" y="9599"/>
                </a:cubicBezTo>
                <a:cubicBezTo>
                  <a:pt x="10370" y="9599"/>
                  <a:pt x="10357" y="9595"/>
                  <a:pt x="10319" y="9624"/>
                </a:cubicBezTo>
              </a:path>
              <a:path w="7591" h="1242">
                <a:moveTo>
                  <a:pt x="11683" y="9872"/>
                </a:moveTo>
                <a:cubicBezTo>
                  <a:pt x="11683" y="9947"/>
                  <a:pt x="11683" y="10021"/>
                  <a:pt x="11683" y="10096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3081240" y="3965400"/>
            <a:ext cx="3089520" cy="750960"/>
          </a:xfrm>
          <a:custGeom>
            <a:avLst/>
            <a:gdLst/>
            <a:ahLst/>
            <a:rect l="l" t="t" r="r" b="b"/>
            <a:pathLst>
              <a:path w="8583" h="2085">
                <a:moveTo>
                  <a:pt x="10988" y="12650"/>
                </a:moveTo>
                <a:cubicBezTo>
                  <a:pt x="11449" y="12650"/>
                  <a:pt x="11924" y="12626"/>
                  <a:pt x="12378" y="12675"/>
                </a:cubicBezTo>
                <a:cubicBezTo>
                  <a:pt x="13088" y="12752"/>
                  <a:pt x="13845" y="12675"/>
                  <a:pt x="14560" y="12675"/>
                </a:cubicBezTo>
              </a:path>
              <a:path w="8583" h="2085">
                <a:moveTo>
                  <a:pt x="16222" y="12551"/>
                </a:moveTo>
                <a:cubicBezTo>
                  <a:pt x="16528" y="12551"/>
                  <a:pt x="17396" y="12551"/>
                  <a:pt x="17090" y="12551"/>
                </a:cubicBezTo>
              </a:path>
              <a:path w="8583" h="2085">
                <a:moveTo>
                  <a:pt x="16197" y="12650"/>
                </a:moveTo>
                <a:cubicBezTo>
                  <a:pt x="16197" y="12658"/>
                  <a:pt x="16197" y="12667"/>
                  <a:pt x="16197" y="12675"/>
                </a:cubicBezTo>
                <a:cubicBezTo>
                  <a:pt x="16466" y="12675"/>
                  <a:pt x="16765" y="12650"/>
                  <a:pt x="17016" y="12700"/>
                </a:cubicBezTo>
                <a:cubicBezTo>
                  <a:pt x="17052" y="12707"/>
                  <a:pt x="17102" y="12700"/>
                  <a:pt x="17140" y="12700"/>
                </a:cubicBezTo>
              </a:path>
              <a:path w="8583" h="2085">
                <a:moveTo>
                  <a:pt x="11013" y="12626"/>
                </a:moveTo>
                <a:cubicBezTo>
                  <a:pt x="11013" y="12618"/>
                  <a:pt x="11013" y="12609"/>
                  <a:pt x="11013" y="12601"/>
                </a:cubicBezTo>
              </a:path>
              <a:path w="8583" h="2085">
                <a:moveTo>
                  <a:pt x="9277" y="12576"/>
                </a:moveTo>
                <a:cubicBezTo>
                  <a:pt x="9277" y="12444"/>
                  <a:pt x="9277" y="12311"/>
                  <a:pt x="9277" y="12179"/>
                </a:cubicBezTo>
                <a:cubicBezTo>
                  <a:pt x="9322" y="12156"/>
                  <a:pt x="9327" y="12134"/>
                  <a:pt x="9327" y="12080"/>
                </a:cubicBezTo>
                <a:cubicBezTo>
                  <a:pt x="9327" y="12055"/>
                  <a:pt x="9327" y="12047"/>
                  <a:pt x="9327" y="12030"/>
                </a:cubicBezTo>
                <a:cubicBezTo>
                  <a:pt x="9387" y="12015"/>
                  <a:pt x="9362" y="11979"/>
                  <a:pt x="9426" y="11956"/>
                </a:cubicBezTo>
                <a:cubicBezTo>
                  <a:pt x="9436" y="11952"/>
                  <a:pt x="9565" y="11921"/>
                  <a:pt x="9525" y="11881"/>
                </a:cubicBezTo>
                <a:cubicBezTo>
                  <a:pt x="9517" y="11881"/>
                  <a:pt x="9508" y="11881"/>
                  <a:pt x="9500" y="11881"/>
                </a:cubicBezTo>
              </a:path>
              <a:path w="8583" h="2085">
                <a:moveTo>
                  <a:pt x="8682" y="12601"/>
                </a:moveTo>
                <a:cubicBezTo>
                  <a:pt x="8880" y="12601"/>
                  <a:pt x="9079" y="12601"/>
                  <a:pt x="9277" y="12601"/>
                </a:cubicBezTo>
                <a:cubicBezTo>
                  <a:pt x="9318" y="12601"/>
                  <a:pt x="9244" y="12601"/>
                  <a:pt x="9203" y="12601"/>
                </a:cubicBezTo>
              </a:path>
              <a:path w="8583" h="2085">
                <a:moveTo>
                  <a:pt x="8558" y="12526"/>
                </a:moveTo>
                <a:cubicBezTo>
                  <a:pt x="8614" y="12526"/>
                  <a:pt x="8654" y="12510"/>
                  <a:pt x="8706" y="12502"/>
                </a:cubicBezTo>
                <a:cubicBezTo>
                  <a:pt x="8838" y="12481"/>
                  <a:pt x="8993" y="12502"/>
                  <a:pt x="9128" y="12502"/>
                </a:cubicBezTo>
              </a:path>
              <a:path w="8583" h="2085">
                <a:moveTo>
                  <a:pt x="8632" y="12526"/>
                </a:moveTo>
                <a:cubicBezTo>
                  <a:pt x="8632" y="12402"/>
                  <a:pt x="8632" y="12278"/>
                  <a:pt x="8632" y="12154"/>
                </a:cubicBezTo>
              </a:path>
              <a:path w="8583" h="2085">
                <a:moveTo>
                  <a:pt x="8657" y="11832"/>
                </a:moveTo>
                <a:cubicBezTo>
                  <a:pt x="8657" y="11711"/>
                  <a:pt x="8661" y="11591"/>
                  <a:pt x="8682" y="11485"/>
                </a:cubicBezTo>
                <a:cubicBezTo>
                  <a:pt x="8693" y="11429"/>
                  <a:pt x="8697" y="11360"/>
                  <a:pt x="8706" y="11311"/>
                </a:cubicBezTo>
                <a:cubicBezTo>
                  <a:pt x="8720" y="11237"/>
                  <a:pt x="8665" y="11063"/>
                  <a:pt x="8731" y="11013"/>
                </a:cubicBezTo>
                <a:cubicBezTo>
                  <a:pt x="8753" y="10996"/>
                  <a:pt x="8817" y="10948"/>
                  <a:pt x="8830" y="10939"/>
                </a:cubicBezTo>
                <a:cubicBezTo>
                  <a:pt x="8877" y="10906"/>
                  <a:pt x="8922" y="10866"/>
                  <a:pt x="8954" y="10815"/>
                </a:cubicBezTo>
                <a:cubicBezTo>
                  <a:pt x="8978" y="10777"/>
                  <a:pt x="8997" y="10727"/>
                  <a:pt x="9029" y="10691"/>
                </a:cubicBezTo>
                <a:cubicBezTo>
                  <a:pt x="9060" y="10656"/>
                  <a:pt x="9137" y="10624"/>
                  <a:pt x="9153" y="10616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3821040" y="847800"/>
            <a:ext cx="1913040" cy="546120"/>
          </a:xfrm>
          <a:custGeom>
            <a:avLst/>
            <a:gdLst/>
            <a:ahLst/>
            <a:rect l="l" t="t" r="r" b="b"/>
            <a:pathLst>
              <a:path w="5310" h="1515">
                <a:moveTo>
                  <a:pt x="11881" y="2753"/>
                </a:moveTo>
                <a:cubicBezTo>
                  <a:pt x="11881" y="2836"/>
                  <a:pt x="11880" y="2907"/>
                  <a:pt x="11857" y="2977"/>
                </a:cubicBezTo>
                <a:cubicBezTo>
                  <a:pt x="11821" y="3087"/>
                  <a:pt x="11874" y="3241"/>
                  <a:pt x="11832" y="3324"/>
                </a:cubicBezTo>
                <a:cubicBezTo>
                  <a:pt x="11816" y="3356"/>
                  <a:pt x="11832" y="3437"/>
                  <a:pt x="11832" y="3473"/>
                </a:cubicBezTo>
                <a:cubicBezTo>
                  <a:pt x="11748" y="3500"/>
                  <a:pt x="11674" y="3497"/>
                  <a:pt x="11584" y="3497"/>
                </a:cubicBezTo>
                <a:cubicBezTo>
                  <a:pt x="11511" y="3497"/>
                  <a:pt x="11545" y="3522"/>
                  <a:pt x="11460" y="3522"/>
                </a:cubicBezTo>
                <a:cubicBezTo>
                  <a:pt x="11361" y="3522"/>
                  <a:pt x="11261" y="3522"/>
                  <a:pt x="11162" y="3522"/>
                </a:cubicBezTo>
                <a:cubicBezTo>
                  <a:pt x="11172" y="3483"/>
                  <a:pt x="11205" y="3463"/>
                  <a:pt x="11212" y="3448"/>
                </a:cubicBezTo>
                <a:cubicBezTo>
                  <a:pt x="11222" y="3427"/>
                  <a:pt x="11235" y="3371"/>
                  <a:pt x="11237" y="3349"/>
                </a:cubicBezTo>
                <a:cubicBezTo>
                  <a:pt x="11244" y="3289"/>
                  <a:pt x="11242" y="3303"/>
                  <a:pt x="11286" y="3274"/>
                </a:cubicBezTo>
                <a:cubicBezTo>
                  <a:pt x="11301" y="3264"/>
                  <a:pt x="11381" y="3204"/>
                  <a:pt x="11385" y="3200"/>
                </a:cubicBezTo>
                <a:cubicBezTo>
                  <a:pt x="11394" y="3189"/>
                  <a:pt x="11427" y="3141"/>
                  <a:pt x="11435" y="3125"/>
                </a:cubicBezTo>
                <a:cubicBezTo>
                  <a:pt x="11454" y="3089"/>
                  <a:pt x="11518" y="3075"/>
                  <a:pt x="11534" y="3051"/>
                </a:cubicBezTo>
                <a:cubicBezTo>
                  <a:pt x="11539" y="3043"/>
                  <a:pt x="11574" y="2983"/>
                  <a:pt x="11584" y="2977"/>
                </a:cubicBezTo>
                <a:cubicBezTo>
                  <a:pt x="11597" y="2969"/>
                  <a:pt x="11644" y="2924"/>
                  <a:pt x="11658" y="2902"/>
                </a:cubicBezTo>
                <a:cubicBezTo>
                  <a:pt x="11685" y="2861"/>
                  <a:pt x="11713" y="2858"/>
                  <a:pt x="11733" y="2828"/>
                </a:cubicBezTo>
                <a:cubicBezTo>
                  <a:pt x="11733" y="2960"/>
                  <a:pt x="11797" y="3425"/>
                  <a:pt x="11658" y="3448"/>
                </a:cubicBezTo>
                <a:cubicBezTo>
                  <a:pt x="11601" y="3458"/>
                  <a:pt x="11425" y="3467"/>
                  <a:pt x="11410" y="3423"/>
                </a:cubicBezTo>
              </a:path>
              <a:path w="5310" h="1515">
                <a:moveTo>
                  <a:pt x="11881" y="2753"/>
                </a:moveTo>
                <a:cubicBezTo>
                  <a:pt x="11887" y="2704"/>
                  <a:pt x="11874" y="2694"/>
                  <a:pt x="11906" y="2654"/>
                </a:cubicBezTo>
                <a:cubicBezTo>
                  <a:pt x="11929" y="2631"/>
                  <a:pt x="11937" y="2627"/>
                  <a:pt x="11931" y="2604"/>
                </a:cubicBezTo>
                <a:cubicBezTo>
                  <a:pt x="11948" y="2592"/>
                  <a:pt x="11989" y="2536"/>
                  <a:pt x="12005" y="2530"/>
                </a:cubicBezTo>
                <a:cubicBezTo>
                  <a:pt x="12039" y="2518"/>
                  <a:pt x="12072" y="2520"/>
                  <a:pt x="12105" y="2505"/>
                </a:cubicBezTo>
                <a:cubicBezTo>
                  <a:pt x="12138" y="2490"/>
                  <a:pt x="12144" y="2466"/>
                  <a:pt x="12179" y="2456"/>
                </a:cubicBezTo>
                <a:cubicBezTo>
                  <a:pt x="12621" y="2334"/>
                  <a:pt x="13255" y="2456"/>
                  <a:pt x="13717" y="2456"/>
                </a:cubicBezTo>
                <a:cubicBezTo>
                  <a:pt x="13717" y="2431"/>
                  <a:pt x="13717" y="2423"/>
                  <a:pt x="13692" y="2431"/>
                </a:cubicBezTo>
              </a:path>
              <a:path w="5310" h="1515">
                <a:moveTo>
                  <a:pt x="12502" y="2356"/>
                </a:moveTo>
                <a:cubicBezTo>
                  <a:pt x="12924" y="2356"/>
                  <a:pt x="13345" y="2356"/>
                  <a:pt x="13767" y="2356"/>
                </a:cubicBezTo>
                <a:cubicBezTo>
                  <a:pt x="13767" y="2596"/>
                  <a:pt x="13779" y="2844"/>
                  <a:pt x="13742" y="3076"/>
                </a:cubicBezTo>
                <a:cubicBezTo>
                  <a:pt x="13734" y="3127"/>
                  <a:pt x="13725" y="3177"/>
                  <a:pt x="13717" y="3225"/>
                </a:cubicBezTo>
                <a:cubicBezTo>
                  <a:pt x="13703" y="3306"/>
                  <a:pt x="13704" y="3402"/>
                  <a:pt x="13692" y="3473"/>
                </a:cubicBezTo>
                <a:cubicBezTo>
                  <a:pt x="13688" y="3497"/>
                  <a:pt x="13695" y="3523"/>
                  <a:pt x="13692" y="3547"/>
                </a:cubicBezTo>
              </a:path>
              <a:path w="5310" h="1515">
                <a:moveTo>
                  <a:pt x="12055" y="3448"/>
                </a:moveTo>
                <a:cubicBezTo>
                  <a:pt x="12110" y="3462"/>
                  <a:pt x="12146" y="3470"/>
                  <a:pt x="12204" y="3473"/>
                </a:cubicBezTo>
                <a:cubicBezTo>
                  <a:pt x="12631" y="3496"/>
                  <a:pt x="13066" y="3473"/>
                  <a:pt x="13494" y="3473"/>
                </a:cubicBezTo>
                <a:cubicBezTo>
                  <a:pt x="13494" y="3324"/>
                  <a:pt x="13494" y="3175"/>
                  <a:pt x="13494" y="3026"/>
                </a:cubicBezTo>
              </a:path>
              <a:path w="5310" h="1515">
                <a:moveTo>
                  <a:pt x="13915" y="3522"/>
                </a:moveTo>
                <a:cubicBezTo>
                  <a:pt x="13990" y="3522"/>
                  <a:pt x="14064" y="3522"/>
                  <a:pt x="14139" y="3522"/>
                </a:cubicBezTo>
              </a:path>
              <a:path w="5310" h="1515">
                <a:moveTo>
                  <a:pt x="13965" y="2480"/>
                </a:moveTo>
                <a:cubicBezTo>
                  <a:pt x="14033" y="2480"/>
                  <a:pt x="14059" y="2487"/>
                  <a:pt x="14114" y="2505"/>
                </a:cubicBezTo>
                <a:cubicBezTo>
                  <a:pt x="14154" y="2518"/>
                  <a:pt x="14201" y="2518"/>
                  <a:pt x="14238" y="2530"/>
                </a:cubicBezTo>
                <a:cubicBezTo>
                  <a:pt x="14281" y="2544"/>
                  <a:pt x="14305" y="2517"/>
                  <a:pt x="14312" y="2580"/>
                </a:cubicBezTo>
                <a:cubicBezTo>
                  <a:pt x="14317" y="2622"/>
                  <a:pt x="14326" y="2620"/>
                  <a:pt x="14362" y="2629"/>
                </a:cubicBezTo>
                <a:cubicBezTo>
                  <a:pt x="14362" y="2680"/>
                  <a:pt x="14373" y="2688"/>
                  <a:pt x="14387" y="2729"/>
                </a:cubicBezTo>
                <a:cubicBezTo>
                  <a:pt x="14400" y="2766"/>
                  <a:pt x="14365" y="2804"/>
                  <a:pt x="14412" y="2828"/>
                </a:cubicBezTo>
                <a:cubicBezTo>
                  <a:pt x="14444" y="2845"/>
                  <a:pt x="14432" y="2863"/>
                  <a:pt x="14461" y="2902"/>
                </a:cubicBezTo>
              </a:path>
              <a:path w="5310" h="1515">
                <a:moveTo>
                  <a:pt x="14362" y="2629"/>
                </a:moveTo>
                <a:cubicBezTo>
                  <a:pt x="14338" y="2641"/>
                  <a:pt x="14363" y="2669"/>
                  <a:pt x="14387" y="2704"/>
                </a:cubicBezTo>
                <a:cubicBezTo>
                  <a:pt x="14410" y="2738"/>
                  <a:pt x="14440" y="2737"/>
                  <a:pt x="14461" y="2753"/>
                </a:cubicBezTo>
                <a:cubicBezTo>
                  <a:pt x="14490" y="2775"/>
                  <a:pt x="14495" y="2795"/>
                  <a:pt x="14511" y="2828"/>
                </a:cubicBezTo>
                <a:cubicBezTo>
                  <a:pt x="14527" y="2859"/>
                  <a:pt x="14547" y="2882"/>
                  <a:pt x="14560" y="2902"/>
                </a:cubicBezTo>
                <a:cubicBezTo>
                  <a:pt x="14571" y="2919"/>
                  <a:pt x="14583" y="2964"/>
                  <a:pt x="14585" y="2977"/>
                </a:cubicBezTo>
                <a:cubicBezTo>
                  <a:pt x="14593" y="3037"/>
                  <a:pt x="14654" y="3003"/>
                  <a:pt x="14660" y="3051"/>
                </a:cubicBezTo>
                <a:cubicBezTo>
                  <a:pt x="14662" y="3066"/>
                  <a:pt x="14685" y="3113"/>
                  <a:pt x="14709" y="3125"/>
                </a:cubicBezTo>
                <a:cubicBezTo>
                  <a:pt x="14743" y="3142"/>
                  <a:pt x="14762" y="3158"/>
                  <a:pt x="14784" y="3175"/>
                </a:cubicBezTo>
                <a:cubicBezTo>
                  <a:pt x="14812" y="3196"/>
                  <a:pt x="14816" y="3241"/>
                  <a:pt x="14833" y="3249"/>
                </a:cubicBezTo>
                <a:cubicBezTo>
                  <a:pt x="14856" y="3260"/>
                  <a:pt x="14880" y="3298"/>
                  <a:pt x="14883" y="3324"/>
                </a:cubicBezTo>
                <a:cubicBezTo>
                  <a:pt x="14889" y="3372"/>
                  <a:pt x="14898" y="3377"/>
                  <a:pt x="14908" y="3398"/>
                </a:cubicBezTo>
                <a:cubicBezTo>
                  <a:pt x="14908" y="3406"/>
                  <a:pt x="14908" y="3415"/>
                  <a:pt x="14908" y="3423"/>
                </a:cubicBezTo>
                <a:cubicBezTo>
                  <a:pt x="14895" y="3461"/>
                  <a:pt x="14878" y="3448"/>
                  <a:pt x="14833" y="3448"/>
                </a:cubicBezTo>
                <a:cubicBezTo>
                  <a:pt x="14773" y="3448"/>
                  <a:pt x="14788" y="3457"/>
                  <a:pt x="14833" y="3423"/>
                </a:cubicBezTo>
                <a:cubicBezTo>
                  <a:pt x="14823" y="3393"/>
                  <a:pt x="14792" y="3381"/>
                  <a:pt x="14759" y="3349"/>
                </a:cubicBezTo>
                <a:cubicBezTo>
                  <a:pt x="14814" y="3349"/>
                  <a:pt x="14792" y="3368"/>
                  <a:pt x="14833" y="3373"/>
                </a:cubicBezTo>
                <a:cubicBezTo>
                  <a:pt x="14849" y="3375"/>
                  <a:pt x="14969" y="3373"/>
                  <a:pt x="14908" y="3373"/>
                </a:cubicBezTo>
              </a:path>
              <a:path w="5310" h="1515">
                <a:moveTo>
                  <a:pt x="14709" y="3473"/>
                </a:moveTo>
                <a:cubicBezTo>
                  <a:pt x="14654" y="3513"/>
                  <a:pt x="14657" y="3497"/>
                  <a:pt x="14734" y="3497"/>
                </a:cubicBezTo>
                <a:cubicBezTo>
                  <a:pt x="14812" y="3497"/>
                  <a:pt x="14996" y="3514"/>
                  <a:pt x="14982" y="3473"/>
                </a:cubicBezTo>
              </a:path>
              <a:path w="5310" h="1515">
                <a:moveTo>
                  <a:pt x="15404" y="3547"/>
                </a:moveTo>
                <a:cubicBezTo>
                  <a:pt x="15578" y="3547"/>
                  <a:pt x="15751" y="3547"/>
                  <a:pt x="15925" y="3547"/>
                </a:cubicBezTo>
              </a:path>
              <a:path w="5310" h="1515">
                <a:moveTo>
                  <a:pt x="10616" y="3349"/>
                </a:moveTo>
                <a:cubicBezTo>
                  <a:pt x="10674" y="3349"/>
                  <a:pt x="10732" y="3349"/>
                  <a:pt x="10790" y="3349"/>
                </a:cubicBezTo>
                <a:cubicBezTo>
                  <a:pt x="10803" y="3311"/>
                  <a:pt x="10819" y="3324"/>
                  <a:pt x="10864" y="3324"/>
                </a:cubicBezTo>
                <a:cubicBezTo>
                  <a:pt x="10872" y="3301"/>
                  <a:pt x="10907" y="3285"/>
                  <a:pt x="10939" y="3274"/>
                </a:cubicBezTo>
                <a:cubicBezTo>
                  <a:pt x="10982" y="3260"/>
                  <a:pt x="10979" y="3260"/>
                  <a:pt x="11013" y="3249"/>
                </a:cubicBezTo>
              </a:path>
              <a:path w="5310" h="1515">
                <a:moveTo>
                  <a:pt x="11807" y="2729"/>
                </a:moveTo>
                <a:cubicBezTo>
                  <a:pt x="11807" y="2721"/>
                  <a:pt x="11807" y="2712"/>
                  <a:pt x="11807" y="2704"/>
                </a:cubicBezTo>
                <a:cubicBezTo>
                  <a:pt x="11837" y="2694"/>
                  <a:pt x="11848" y="2683"/>
                  <a:pt x="11881" y="2654"/>
                </a:cubicBezTo>
                <a:cubicBezTo>
                  <a:pt x="11912" y="2626"/>
                  <a:pt x="11918" y="2613"/>
                  <a:pt x="11956" y="2604"/>
                </a:cubicBezTo>
                <a:cubicBezTo>
                  <a:pt x="11974" y="2568"/>
                  <a:pt x="11985" y="2564"/>
                  <a:pt x="12030" y="2555"/>
                </a:cubicBezTo>
                <a:cubicBezTo>
                  <a:pt x="12042" y="2520"/>
                  <a:pt x="12037" y="2530"/>
                  <a:pt x="12080" y="2530"/>
                </a:cubicBezTo>
                <a:cubicBezTo>
                  <a:pt x="12091" y="2498"/>
                  <a:pt x="12114" y="2490"/>
                  <a:pt x="12154" y="2480"/>
                </a:cubicBezTo>
              </a:path>
              <a:path w="5310" h="1515">
                <a:moveTo>
                  <a:pt x="13891" y="2629"/>
                </a:moveTo>
                <a:cubicBezTo>
                  <a:pt x="13891" y="2662"/>
                  <a:pt x="13891" y="2696"/>
                  <a:pt x="13891" y="2729"/>
                </a:cubicBezTo>
                <a:cubicBezTo>
                  <a:pt x="13853" y="2741"/>
                  <a:pt x="13866" y="2758"/>
                  <a:pt x="13866" y="2803"/>
                </a:cubicBezTo>
                <a:cubicBezTo>
                  <a:pt x="13866" y="2993"/>
                  <a:pt x="13866" y="3183"/>
                  <a:pt x="13866" y="3373"/>
                </a:cubicBezTo>
              </a:path>
              <a:path w="5310" h="1515">
                <a:moveTo>
                  <a:pt x="14114" y="3349"/>
                </a:moveTo>
                <a:cubicBezTo>
                  <a:pt x="14195" y="3349"/>
                  <a:pt x="14259" y="3360"/>
                  <a:pt x="14337" y="3373"/>
                </a:cubicBezTo>
                <a:cubicBezTo>
                  <a:pt x="14390" y="3382"/>
                  <a:pt x="14440" y="3393"/>
                  <a:pt x="14486" y="3398"/>
                </a:cubicBezTo>
                <a:cubicBezTo>
                  <a:pt x="14518" y="3402"/>
                  <a:pt x="14553" y="3398"/>
                  <a:pt x="14585" y="3398"/>
                </a:cubicBezTo>
              </a:path>
              <a:path w="5310" h="1515">
                <a:moveTo>
                  <a:pt x="14163" y="2604"/>
                </a:moveTo>
                <a:cubicBezTo>
                  <a:pt x="14163" y="2629"/>
                  <a:pt x="14163" y="2637"/>
                  <a:pt x="14163" y="2654"/>
                </a:cubicBezTo>
              </a:path>
              <a:path w="5310" h="1515">
                <a:moveTo>
                  <a:pt x="13965" y="2381"/>
                </a:moveTo>
                <a:cubicBezTo>
                  <a:pt x="14081" y="2381"/>
                  <a:pt x="14196" y="2381"/>
                  <a:pt x="14312" y="2381"/>
                </a:cubicBezTo>
                <a:cubicBezTo>
                  <a:pt x="14312" y="2454"/>
                  <a:pt x="14304" y="2520"/>
                  <a:pt x="14337" y="2580"/>
                </a:cubicBezTo>
                <a:cubicBezTo>
                  <a:pt x="14345" y="2596"/>
                  <a:pt x="14354" y="2613"/>
                  <a:pt x="14362" y="2629"/>
                </a:cubicBezTo>
                <a:cubicBezTo>
                  <a:pt x="14303" y="2622"/>
                  <a:pt x="14259" y="2613"/>
                  <a:pt x="14213" y="2580"/>
                </a:cubicBezTo>
              </a:path>
              <a:path w="5310" h="1515">
                <a:moveTo>
                  <a:pt x="14362" y="2480"/>
                </a:moveTo>
                <a:cubicBezTo>
                  <a:pt x="14372" y="2521"/>
                  <a:pt x="14371" y="2520"/>
                  <a:pt x="14412" y="2530"/>
                </a:cubicBezTo>
                <a:cubicBezTo>
                  <a:pt x="14419" y="2590"/>
                  <a:pt x="14411" y="2604"/>
                  <a:pt x="14461" y="2629"/>
                </a:cubicBezTo>
                <a:cubicBezTo>
                  <a:pt x="14461" y="2694"/>
                  <a:pt x="14443" y="2780"/>
                  <a:pt x="14486" y="2828"/>
                </a:cubicBezTo>
                <a:cubicBezTo>
                  <a:pt x="14518" y="2865"/>
                  <a:pt x="14531" y="2894"/>
                  <a:pt x="14560" y="2927"/>
                </a:cubicBezTo>
                <a:cubicBezTo>
                  <a:pt x="14583" y="2950"/>
                  <a:pt x="14591" y="2954"/>
                  <a:pt x="14585" y="2977"/>
                </a:cubicBezTo>
                <a:cubicBezTo>
                  <a:pt x="14620" y="2988"/>
                  <a:pt x="14613" y="3014"/>
                  <a:pt x="14660" y="3026"/>
                </a:cubicBezTo>
                <a:cubicBezTo>
                  <a:pt x="14660" y="3098"/>
                  <a:pt x="14703" y="3069"/>
                  <a:pt x="14734" y="3125"/>
                </a:cubicBezTo>
                <a:cubicBezTo>
                  <a:pt x="14749" y="3152"/>
                  <a:pt x="14745" y="3200"/>
                  <a:pt x="14759" y="3225"/>
                </a:cubicBezTo>
                <a:cubicBezTo>
                  <a:pt x="14791" y="3281"/>
                  <a:pt x="14808" y="3275"/>
                  <a:pt x="14808" y="3349"/>
                </a:cubicBezTo>
                <a:cubicBezTo>
                  <a:pt x="14858" y="3361"/>
                  <a:pt x="14858" y="3372"/>
                  <a:pt x="14858" y="3423"/>
                </a:cubicBezTo>
              </a:path>
              <a:path w="5310" h="1515">
                <a:moveTo>
                  <a:pt x="14015" y="2406"/>
                </a:moveTo>
                <a:cubicBezTo>
                  <a:pt x="14105" y="2406"/>
                  <a:pt x="14296" y="2372"/>
                  <a:pt x="14362" y="2431"/>
                </a:cubicBezTo>
                <a:cubicBezTo>
                  <a:pt x="14404" y="2469"/>
                  <a:pt x="14460" y="2467"/>
                  <a:pt x="14511" y="2505"/>
                </a:cubicBezTo>
                <a:cubicBezTo>
                  <a:pt x="14552" y="2535"/>
                  <a:pt x="14536" y="2584"/>
                  <a:pt x="14536" y="2629"/>
                </a:cubicBezTo>
                <a:cubicBezTo>
                  <a:pt x="14536" y="2673"/>
                  <a:pt x="14537" y="2669"/>
                  <a:pt x="14511" y="2704"/>
                </a:cubicBezTo>
              </a:path>
              <a:path w="5310" h="1515">
                <a:moveTo>
                  <a:pt x="13246" y="3746"/>
                </a:moveTo>
                <a:cubicBezTo>
                  <a:pt x="13271" y="3741"/>
                  <a:pt x="13381" y="3708"/>
                  <a:pt x="13395" y="3696"/>
                </a:cubicBezTo>
                <a:cubicBezTo>
                  <a:pt x="13395" y="3688"/>
                  <a:pt x="13395" y="3679"/>
                  <a:pt x="13395" y="3671"/>
                </a:cubicBezTo>
                <a:cubicBezTo>
                  <a:pt x="13343" y="3649"/>
                  <a:pt x="13325" y="3646"/>
                  <a:pt x="13271" y="3646"/>
                </a:cubicBezTo>
                <a:cubicBezTo>
                  <a:pt x="13246" y="3646"/>
                  <a:pt x="13238" y="3646"/>
                  <a:pt x="13221" y="3646"/>
                </a:cubicBezTo>
                <a:cubicBezTo>
                  <a:pt x="13221" y="3725"/>
                  <a:pt x="13250" y="3771"/>
                  <a:pt x="13271" y="3845"/>
                </a:cubicBezTo>
                <a:cubicBezTo>
                  <a:pt x="13271" y="3870"/>
                  <a:pt x="13271" y="3878"/>
                  <a:pt x="13295" y="3870"/>
                </a:cubicBezTo>
                <a:cubicBezTo>
                  <a:pt x="13331" y="3819"/>
                  <a:pt x="13359" y="3785"/>
                  <a:pt x="13419" y="3770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6126120" y="1268280"/>
            <a:ext cx="61920" cy="44640"/>
          </a:xfrm>
          <a:custGeom>
            <a:avLst/>
            <a:gdLst/>
            <a:ahLst/>
            <a:rect l="l" t="t" r="r" b="b"/>
            <a:pathLst>
              <a:path w="175" h="125">
                <a:moveTo>
                  <a:pt x="17066" y="3522"/>
                </a:moveTo>
                <a:cubicBezTo>
                  <a:pt x="17107" y="3522"/>
                  <a:pt x="17149" y="3522"/>
                  <a:pt x="17190" y="3522"/>
                </a:cubicBezTo>
                <a:cubicBezTo>
                  <a:pt x="17132" y="3522"/>
                  <a:pt x="17074" y="3522"/>
                  <a:pt x="17016" y="3522"/>
                </a:cubicBezTo>
                <a:cubicBezTo>
                  <a:pt x="17016" y="3554"/>
                  <a:pt x="17000" y="3633"/>
                  <a:pt x="17041" y="3646"/>
                </a:cubicBezTo>
                <a:cubicBezTo>
                  <a:pt x="17135" y="3675"/>
                  <a:pt x="17059" y="3646"/>
                  <a:pt x="17016" y="364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3259080" y="1152360"/>
            <a:ext cx="876240" cy="606600"/>
          </a:xfrm>
          <a:custGeom>
            <a:avLst/>
            <a:gdLst/>
            <a:ahLst/>
            <a:rect l="l" t="t" r="r" b="b"/>
            <a:pathLst>
              <a:path w="2432" h="1688">
                <a:moveTo>
                  <a:pt x="11162" y="4564"/>
                </a:moveTo>
                <a:cubicBezTo>
                  <a:pt x="11162" y="4514"/>
                  <a:pt x="11162" y="4465"/>
                  <a:pt x="11162" y="4415"/>
                </a:cubicBezTo>
              </a:path>
              <a:path w="2432" h="1688">
                <a:moveTo>
                  <a:pt x="9327" y="4564"/>
                </a:moveTo>
                <a:cubicBezTo>
                  <a:pt x="9369" y="4520"/>
                  <a:pt x="9369" y="4552"/>
                  <a:pt x="9376" y="4490"/>
                </a:cubicBezTo>
                <a:cubicBezTo>
                  <a:pt x="9380" y="4457"/>
                  <a:pt x="9394" y="4448"/>
                  <a:pt x="9401" y="4415"/>
                </a:cubicBezTo>
                <a:cubicBezTo>
                  <a:pt x="9414" y="4349"/>
                  <a:pt x="9382" y="4296"/>
                  <a:pt x="9426" y="4242"/>
                </a:cubicBezTo>
                <a:cubicBezTo>
                  <a:pt x="9457" y="4203"/>
                  <a:pt x="9451" y="4158"/>
                  <a:pt x="9475" y="4118"/>
                </a:cubicBezTo>
                <a:cubicBezTo>
                  <a:pt x="9483" y="4105"/>
                  <a:pt x="9519" y="4052"/>
                  <a:pt x="9550" y="4043"/>
                </a:cubicBezTo>
                <a:cubicBezTo>
                  <a:pt x="9584" y="4033"/>
                  <a:pt x="9616" y="4023"/>
                  <a:pt x="9649" y="4018"/>
                </a:cubicBezTo>
                <a:cubicBezTo>
                  <a:pt x="9692" y="4011"/>
                  <a:pt x="9738" y="4001"/>
                  <a:pt x="9773" y="3994"/>
                </a:cubicBezTo>
                <a:cubicBezTo>
                  <a:pt x="9829" y="3983"/>
                  <a:pt x="9891" y="3971"/>
                  <a:pt x="9947" y="3969"/>
                </a:cubicBezTo>
                <a:cubicBezTo>
                  <a:pt x="10000" y="3967"/>
                  <a:pt x="10026" y="3952"/>
                  <a:pt x="10071" y="3944"/>
                </a:cubicBezTo>
                <a:cubicBezTo>
                  <a:pt x="10186" y="3925"/>
                  <a:pt x="10550" y="3896"/>
                  <a:pt x="10641" y="3969"/>
                </a:cubicBezTo>
                <a:cubicBezTo>
                  <a:pt x="10684" y="4004"/>
                  <a:pt x="10693" y="3979"/>
                  <a:pt x="10740" y="3994"/>
                </a:cubicBezTo>
                <a:cubicBezTo>
                  <a:pt x="10740" y="4027"/>
                  <a:pt x="10749" y="4035"/>
                  <a:pt x="10790" y="4018"/>
                </a:cubicBezTo>
                <a:cubicBezTo>
                  <a:pt x="10717" y="4018"/>
                  <a:pt x="10652" y="4026"/>
                  <a:pt x="10592" y="3994"/>
                </a:cubicBezTo>
                <a:cubicBezTo>
                  <a:pt x="10560" y="3977"/>
                  <a:pt x="10500" y="3963"/>
                  <a:pt x="10468" y="3944"/>
                </a:cubicBezTo>
                <a:cubicBezTo>
                  <a:pt x="10460" y="3936"/>
                  <a:pt x="10451" y="3927"/>
                  <a:pt x="10443" y="3919"/>
                </a:cubicBezTo>
              </a:path>
              <a:path w="2432" h="1688">
                <a:moveTo>
                  <a:pt x="10443" y="3919"/>
                </a:moveTo>
                <a:cubicBezTo>
                  <a:pt x="10508" y="3945"/>
                  <a:pt x="10515" y="3969"/>
                  <a:pt x="10592" y="3969"/>
                </a:cubicBezTo>
                <a:cubicBezTo>
                  <a:pt x="10661" y="3969"/>
                  <a:pt x="10676" y="4019"/>
                  <a:pt x="10740" y="4043"/>
                </a:cubicBezTo>
                <a:cubicBezTo>
                  <a:pt x="10777" y="4057"/>
                  <a:pt x="10822" y="4061"/>
                  <a:pt x="10840" y="4093"/>
                </a:cubicBezTo>
                <a:cubicBezTo>
                  <a:pt x="10876" y="4157"/>
                  <a:pt x="10647" y="4070"/>
                  <a:pt x="10641" y="4068"/>
                </a:cubicBezTo>
              </a:path>
              <a:path w="2432" h="1688">
                <a:moveTo>
                  <a:pt x="10443" y="3994"/>
                </a:moveTo>
                <a:cubicBezTo>
                  <a:pt x="10500" y="3994"/>
                  <a:pt x="10520" y="4015"/>
                  <a:pt x="10567" y="4043"/>
                </a:cubicBezTo>
                <a:cubicBezTo>
                  <a:pt x="10617" y="4073"/>
                  <a:pt x="10628" y="4067"/>
                  <a:pt x="10641" y="4118"/>
                </a:cubicBezTo>
                <a:cubicBezTo>
                  <a:pt x="10747" y="4118"/>
                  <a:pt x="10671" y="4132"/>
                  <a:pt x="10740" y="4167"/>
                </a:cubicBezTo>
                <a:cubicBezTo>
                  <a:pt x="10748" y="4167"/>
                  <a:pt x="10757" y="4167"/>
                  <a:pt x="10765" y="4167"/>
                </a:cubicBezTo>
                <a:cubicBezTo>
                  <a:pt x="10781" y="4232"/>
                  <a:pt x="10833" y="4244"/>
                  <a:pt x="10864" y="4291"/>
                </a:cubicBezTo>
                <a:cubicBezTo>
                  <a:pt x="10864" y="4316"/>
                  <a:pt x="10864" y="4324"/>
                  <a:pt x="10864" y="4341"/>
                </a:cubicBezTo>
              </a:path>
              <a:path w="2432" h="1688">
                <a:moveTo>
                  <a:pt x="11013" y="4887"/>
                </a:moveTo>
                <a:cubicBezTo>
                  <a:pt x="11021" y="4887"/>
                  <a:pt x="11030" y="4887"/>
                  <a:pt x="11038" y="4887"/>
                </a:cubicBezTo>
                <a:cubicBezTo>
                  <a:pt x="11038" y="4755"/>
                  <a:pt x="11038" y="4622"/>
                  <a:pt x="11038" y="4490"/>
                </a:cubicBezTo>
              </a:path>
              <a:path w="2432" h="1688">
                <a:moveTo>
                  <a:pt x="9277" y="4862"/>
                </a:moveTo>
                <a:cubicBezTo>
                  <a:pt x="9285" y="4862"/>
                  <a:pt x="9294" y="4862"/>
                  <a:pt x="9302" y="4862"/>
                </a:cubicBezTo>
                <a:cubicBezTo>
                  <a:pt x="9302" y="4779"/>
                  <a:pt x="9302" y="4697"/>
                  <a:pt x="9302" y="4614"/>
                </a:cubicBezTo>
              </a:path>
              <a:path w="2432" h="1688">
                <a:moveTo>
                  <a:pt x="9227" y="4564"/>
                </a:moveTo>
                <a:cubicBezTo>
                  <a:pt x="9227" y="4523"/>
                  <a:pt x="9227" y="4515"/>
                  <a:pt x="9227" y="4490"/>
                </a:cubicBezTo>
              </a:path>
              <a:path w="2432" h="1688">
                <a:moveTo>
                  <a:pt x="9252" y="3894"/>
                </a:moveTo>
                <a:cubicBezTo>
                  <a:pt x="9252" y="3951"/>
                  <a:pt x="9242" y="3972"/>
                  <a:pt x="9227" y="4018"/>
                </a:cubicBezTo>
                <a:cubicBezTo>
                  <a:pt x="9214" y="4056"/>
                  <a:pt x="9188" y="4079"/>
                  <a:pt x="9178" y="4118"/>
                </a:cubicBezTo>
                <a:cubicBezTo>
                  <a:pt x="9139" y="4127"/>
                  <a:pt x="9123" y="4142"/>
                  <a:pt x="9079" y="4142"/>
                </a:cubicBezTo>
                <a:cubicBezTo>
                  <a:pt x="9079" y="4167"/>
                  <a:pt x="9079" y="4175"/>
                  <a:pt x="9054" y="4167"/>
                </a:cubicBezTo>
              </a:path>
              <a:path w="2432" h="1688">
                <a:moveTo>
                  <a:pt x="9252" y="3820"/>
                </a:moveTo>
                <a:cubicBezTo>
                  <a:pt x="9208" y="3820"/>
                  <a:pt x="9192" y="3835"/>
                  <a:pt x="9153" y="3845"/>
                </a:cubicBezTo>
                <a:cubicBezTo>
                  <a:pt x="9181" y="3807"/>
                  <a:pt x="9178" y="3794"/>
                  <a:pt x="9178" y="3746"/>
                </a:cubicBezTo>
                <a:cubicBezTo>
                  <a:pt x="9216" y="3733"/>
                  <a:pt x="9203" y="3716"/>
                  <a:pt x="9203" y="3671"/>
                </a:cubicBezTo>
              </a:path>
              <a:path w="2432" h="1688">
                <a:moveTo>
                  <a:pt x="11485" y="3200"/>
                </a:moveTo>
                <a:cubicBezTo>
                  <a:pt x="11485" y="3269"/>
                  <a:pt x="11521" y="3431"/>
                  <a:pt x="11435" y="3448"/>
                </a:cubicBezTo>
                <a:cubicBezTo>
                  <a:pt x="11344" y="3466"/>
                  <a:pt x="11230" y="3448"/>
                  <a:pt x="11137" y="3448"/>
                </a:cubicBezTo>
              </a:path>
              <a:path w="2432" h="1688">
                <a:moveTo>
                  <a:pt x="10815" y="3572"/>
                </a:moveTo>
                <a:cubicBezTo>
                  <a:pt x="10855" y="3582"/>
                  <a:pt x="10854" y="3581"/>
                  <a:pt x="10864" y="3621"/>
                </a:cubicBezTo>
                <a:cubicBezTo>
                  <a:pt x="10909" y="3632"/>
                  <a:pt x="10928" y="3651"/>
                  <a:pt x="10939" y="3696"/>
                </a:cubicBezTo>
                <a:cubicBezTo>
                  <a:pt x="10978" y="3709"/>
                  <a:pt x="10949" y="3708"/>
                  <a:pt x="10988" y="3721"/>
                </a:cubicBezTo>
              </a:path>
              <a:path w="2432" h="1688">
                <a:moveTo>
                  <a:pt x="11013" y="3820"/>
                </a:moveTo>
                <a:cubicBezTo>
                  <a:pt x="11013" y="3861"/>
                  <a:pt x="11013" y="3903"/>
                  <a:pt x="11013" y="3944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6126120" y="1330200"/>
            <a:ext cx="115920" cy="438120"/>
          </a:xfrm>
          <a:custGeom>
            <a:avLst/>
            <a:gdLst/>
            <a:ahLst/>
            <a:rect l="l" t="t" r="r" b="b"/>
            <a:pathLst>
              <a:path w="323" h="1216">
                <a:moveTo>
                  <a:pt x="17314" y="4589"/>
                </a:moveTo>
                <a:cubicBezTo>
                  <a:pt x="17350" y="4602"/>
                  <a:pt x="17338" y="4619"/>
                  <a:pt x="17338" y="4663"/>
                </a:cubicBezTo>
                <a:cubicBezTo>
                  <a:pt x="17338" y="4696"/>
                  <a:pt x="17338" y="4729"/>
                  <a:pt x="17338" y="4762"/>
                </a:cubicBezTo>
                <a:cubicBezTo>
                  <a:pt x="17264" y="4762"/>
                  <a:pt x="17251" y="4779"/>
                  <a:pt x="17214" y="4713"/>
                </a:cubicBezTo>
                <a:cubicBezTo>
                  <a:pt x="17185" y="4660"/>
                  <a:pt x="17190" y="4623"/>
                  <a:pt x="17190" y="4564"/>
                </a:cubicBezTo>
                <a:cubicBezTo>
                  <a:pt x="17190" y="4493"/>
                  <a:pt x="17172" y="4373"/>
                  <a:pt x="17214" y="4341"/>
                </a:cubicBezTo>
                <a:cubicBezTo>
                  <a:pt x="17259" y="4307"/>
                  <a:pt x="17276" y="4316"/>
                  <a:pt x="17214" y="4316"/>
                </a:cubicBezTo>
                <a:cubicBezTo>
                  <a:pt x="17181" y="4316"/>
                  <a:pt x="17148" y="4316"/>
                  <a:pt x="17115" y="4316"/>
                </a:cubicBezTo>
                <a:cubicBezTo>
                  <a:pt x="17108" y="4264"/>
                  <a:pt x="17090" y="4244"/>
                  <a:pt x="17090" y="4192"/>
                </a:cubicBezTo>
                <a:cubicBezTo>
                  <a:pt x="17090" y="4133"/>
                  <a:pt x="17081" y="4094"/>
                  <a:pt x="17115" y="4068"/>
                </a:cubicBezTo>
                <a:cubicBezTo>
                  <a:pt x="17161" y="4033"/>
                  <a:pt x="17205" y="4043"/>
                  <a:pt x="17264" y="4043"/>
                </a:cubicBezTo>
                <a:cubicBezTo>
                  <a:pt x="17289" y="4043"/>
                  <a:pt x="17297" y="4043"/>
                  <a:pt x="17314" y="4043"/>
                </a:cubicBezTo>
                <a:cubicBezTo>
                  <a:pt x="17261" y="4017"/>
                  <a:pt x="17224" y="3994"/>
                  <a:pt x="17165" y="3994"/>
                </a:cubicBezTo>
                <a:cubicBezTo>
                  <a:pt x="17126" y="3994"/>
                  <a:pt x="17145" y="3969"/>
                  <a:pt x="17090" y="3969"/>
                </a:cubicBezTo>
                <a:cubicBezTo>
                  <a:pt x="17055" y="3969"/>
                  <a:pt x="17045" y="3908"/>
                  <a:pt x="17041" y="3870"/>
                </a:cubicBezTo>
                <a:cubicBezTo>
                  <a:pt x="17035" y="3813"/>
                  <a:pt x="17041" y="3753"/>
                  <a:pt x="17041" y="3696"/>
                </a:cubicBezTo>
              </a:path>
              <a:path w="323" h="1216">
                <a:moveTo>
                  <a:pt x="17090" y="4514"/>
                </a:moveTo>
                <a:cubicBezTo>
                  <a:pt x="17079" y="4530"/>
                  <a:pt x="17071" y="4610"/>
                  <a:pt x="17066" y="4614"/>
                </a:cubicBezTo>
                <a:cubicBezTo>
                  <a:pt x="17043" y="4632"/>
                  <a:pt x="17021" y="4641"/>
                  <a:pt x="17016" y="4688"/>
                </a:cubicBezTo>
                <a:cubicBezTo>
                  <a:pt x="17016" y="4713"/>
                  <a:pt x="17016" y="4721"/>
                  <a:pt x="17016" y="4738"/>
                </a:cubicBezTo>
                <a:cubicBezTo>
                  <a:pt x="17105" y="4738"/>
                  <a:pt x="17128" y="4754"/>
                  <a:pt x="17190" y="4787"/>
                </a:cubicBezTo>
                <a:cubicBezTo>
                  <a:pt x="17267" y="4827"/>
                  <a:pt x="17272" y="4803"/>
                  <a:pt x="17289" y="4887"/>
                </a:cubicBezTo>
                <a:cubicBezTo>
                  <a:pt x="17226" y="4887"/>
                  <a:pt x="17165" y="4875"/>
                  <a:pt x="17115" y="49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3286080" y="2741760"/>
            <a:ext cx="9720" cy="9360"/>
          </a:xfrm>
          <a:custGeom>
            <a:avLst/>
            <a:gdLst/>
            <a:ahLst/>
            <a:rect l="l" t="t" r="r" b="b"/>
            <a:pathLst>
              <a:path w="26" h="26">
                <a:moveTo>
                  <a:pt x="9153" y="7615"/>
                </a:moveTo>
                <a:cubicBezTo>
                  <a:pt x="9120" y="7626"/>
                  <a:pt x="9128" y="7651"/>
                  <a:pt x="9128" y="7615"/>
                </a:cubicBezTo>
              </a:path>
            </a:pathLst>
          </a:custGeom>
          <a:noFill/>
          <a:ln cap="rnd" w="349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4867200" y="3581280"/>
            <a:ext cx="1800" cy="115920"/>
          </a:xfrm>
          <a:custGeom>
            <a:avLst/>
            <a:gdLst/>
            <a:ahLst/>
            <a:rect l="l" t="t" r="r" b="b"/>
            <a:pathLst>
              <a:path w="1" h="323">
                <a:moveTo>
                  <a:pt x="13519" y="9947"/>
                </a:moveTo>
                <a:cubicBezTo>
                  <a:pt x="13519" y="10054"/>
                  <a:pt x="13519" y="10162"/>
                  <a:pt x="13519" y="10269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5340240" y="3483000"/>
            <a:ext cx="1800" cy="44280"/>
          </a:xfrm>
          <a:custGeom>
            <a:avLst/>
            <a:gdLst/>
            <a:ahLst/>
            <a:rect l="l" t="t" r="r" b="b"/>
            <a:pathLst>
              <a:path w="1" h="125">
                <a:moveTo>
                  <a:pt x="14833" y="9674"/>
                </a:moveTo>
                <a:cubicBezTo>
                  <a:pt x="14833" y="9715"/>
                  <a:pt x="14833" y="9757"/>
                  <a:pt x="14833" y="9798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4724280" y="3894120"/>
            <a:ext cx="160560" cy="44640"/>
          </a:xfrm>
          <a:custGeom>
            <a:avLst/>
            <a:gdLst/>
            <a:ahLst/>
            <a:rect l="l" t="t" r="r" b="b"/>
            <a:pathLst>
              <a:path w="447" h="125">
                <a:moveTo>
                  <a:pt x="13568" y="10939"/>
                </a:moveTo>
                <a:cubicBezTo>
                  <a:pt x="13439" y="10887"/>
                  <a:pt x="13329" y="10887"/>
                  <a:pt x="13196" y="10864"/>
                </a:cubicBezTo>
                <a:cubicBezTo>
                  <a:pt x="13011" y="10832"/>
                  <a:pt x="13198" y="10815"/>
                  <a:pt x="13246" y="10815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4894200" y="3911760"/>
            <a:ext cx="7920" cy="98280"/>
          </a:xfrm>
          <a:custGeom>
            <a:avLst/>
            <a:gdLst/>
            <a:ahLst/>
            <a:rect l="l" t="t" r="r" b="b"/>
            <a:pathLst>
              <a:path w="26" h="274">
                <a:moveTo>
                  <a:pt x="13618" y="10864"/>
                </a:moveTo>
                <a:cubicBezTo>
                  <a:pt x="13610" y="10864"/>
                  <a:pt x="13601" y="10864"/>
                  <a:pt x="13593" y="10864"/>
                </a:cubicBezTo>
                <a:cubicBezTo>
                  <a:pt x="13593" y="10955"/>
                  <a:pt x="13593" y="11046"/>
                  <a:pt x="13593" y="11137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4680000" y="4375080"/>
            <a:ext cx="276120" cy="73080"/>
          </a:xfrm>
          <a:custGeom>
            <a:avLst/>
            <a:gdLst/>
            <a:ahLst/>
            <a:rect l="l" t="t" r="r" b="b"/>
            <a:pathLst>
              <a:path w="770" h="200">
                <a:moveTo>
                  <a:pt x="13767" y="12154"/>
                </a:moveTo>
                <a:cubicBezTo>
                  <a:pt x="13767" y="12226"/>
                  <a:pt x="13761" y="12291"/>
                  <a:pt x="13742" y="12328"/>
                </a:cubicBezTo>
                <a:cubicBezTo>
                  <a:pt x="13713" y="12385"/>
                  <a:pt x="13676" y="12331"/>
                  <a:pt x="13618" y="12328"/>
                </a:cubicBezTo>
                <a:cubicBezTo>
                  <a:pt x="13516" y="12323"/>
                  <a:pt x="13423" y="12303"/>
                  <a:pt x="13320" y="12303"/>
                </a:cubicBezTo>
                <a:cubicBezTo>
                  <a:pt x="13221" y="12303"/>
                  <a:pt x="13121" y="12303"/>
                  <a:pt x="13022" y="12303"/>
                </a:cubicBezTo>
                <a:cubicBezTo>
                  <a:pt x="12955" y="12303"/>
                  <a:pt x="13105" y="12303"/>
                  <a:pt x="13122" y="12303"/>
                </a:cubicBezTo>
                <a:cubicBezTo>
                  <a:pt x="13146" y="12303"/>
                  <a:pt x="13155" y="12303"/>
                  <a:pt x="13171" y="12303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5000760" y="4419720"/>
            <a:ext cx="115920" cy="36360"/>
          </a:xfrm>
          <a:custGeom>
            <a:avLst/>
            <a:gdLst/>
            <a:ahLst/>
            <a:rect l="l" t="t" r="r" b="b"/>
            <a:pathLst>
              <a:path w="323" h="101">
                <a:moveTo>
                  <a:pt x="13891" y="12278"/>
                </a:moveTo>
                <a:cubicBezTo>
                  <a:pt x="13891" y="12311"/>
                  <a:pt x="13891" y="12345"/>
                  <a:pt x="13891" y="12378"/>
                </a:cubicBezTo>
                <a:cubicBezTo>
                  <a:pt x="13998" y="12378"/>
                  <a:pt x="14106" y="12378"/>
                  <a:pt x="14213" y="12378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4054320" y="4330800"/>
            <a:ext cx="98640" cy="125280"/>
          </a:xfrm>
          <a:custGeom>
            <a:avLst/>
            <a:gdLst/>
            <a:ahLst/>
            <a:rect l="l" t="t" r="r" b="b"/>
            <a:pathLst>
              <a:path w="274" h="349">
                <a:moveTo>
                  <a:pt x="11534" y="12378"/>
                </a:moveTo>
                <a:cubicBezTo>
                  <a:pt x="11534" y="12282"/>
                  <a:pt x="11538" y="12163"/>
                  <a:pt x="11509" y="12105"/>
                </a:cubicBezTo>
                <a:cubicBezTo>
                  <a:pt x="11465" y="12017"/>
                  <a:pt x="11423" y="12136"/>
                  <a:pt x="11385" y="12154"/>
                </a:cubicBezTo>
                <a:cubicBezTo>
                  <a:pt x="11357" y="12167"/>
                  <a:pt x="11293" y="12154"/>
                  <a:pt x="11261" y="12154"/>
                </a:cubicBezTo>
                <a:cubicBezTo>
                  <a:pt x="11261" y="12088"/>
                  <a:pt x="11261" y="12071"/>
                  <a:pt x="11261" y="12030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4062240" y="3938760"/>
            <a:ext cx="19080" cy="53640"/>
          </a:xfrm>
          <a:custGeom>
            <a:avLst/>
            <a:gdLst/>
            <a:ahLst/>
            <a:rect l="l" t="t" r="r" b="b"/>
            <a:pathLst>
              <a:path w="51" h="150">
                <a:moveTo>
                  <a:pt x="11286" y="10939"/>
                </a:moveTo>
                <a:cubicBezTo>
                  <a:pt x="11286" y="10989"/>
                  <a:pt x="11286" y="11038"/>
                  <a:pt x="11286" y="11088"/>
                </a:cubicBezTo>
                <a:cubicBezTo>
                  <a:pt x="11324" y="11050"/>
                  <a:pt x="11336" y="11041"/>
                  <a:pt x="11336" y="10988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5545080" y="38750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404" y="10765"/>
                </a:moveTo>
                <a:lnTo>
                  <a:pt x="15404" y="10765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4125960" y="2581200"/>
            <a:ext cx="34920" cy="44640"/>
          </a:xfrm>
          <a:custGeom>
            <a:avLst/>
            <a:gdLst/>
            <a:ahLst/>
            <a:rect l="l" t="t" r="r" b="b"/>
            <a:pathLst>
              <a:path w="100" h="125">
                <a:moveTo>
                  <a:pt x="11460" y="7169"/>
                </a:moveTo>
                <a:cubicBezTo>
                  <a:pt x="11516" y="7191"/>
                  <a:pt x="11534" y="7207"/>
                  <a:pt x="11534" y="7268"/>
                </a:cubicBezTo>
                <a:cubicBezTo>
                  <a:pt x="11534" y="7296"/>
                  <a:pt x="11536" y="7302"/>
                  <a:pt x="11559" y="7268"/>
                </a:cubicBezTo>
              </a:path>
            </a:pathLst>
          </a:custGeom>
          <a:noFill/>
          <a:ln cap="rnd" w="349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5491080" y="3848040"/>
            <a:ext cx="46080" cy="19080"/>
          </a:xfrm>
          <a:custGeom>
            <a:avLst/>
            <a:gdLst/>
            <a:ahLst/>
            <a:rect l="l" t="t" r="r" b="b"/>
            <a:pathLst>
              <a:path w="125" h="50">
                <a:moveTo>
                  <a:pt x="15255" y="10740"/>
                </a:moveTo>
                <a:cubicBezTo>
                  <a:pt x="15280" y="10740"/>
                  <a:pt x="15288" y="10740"/>
                  <a:pt x="15304" y="10740"/>
                </a:cubicBezTo>
                <a:cubicBezTo>
                  <a:pt x="15322" y="10715"/>
                  <a:pt x="15341" y="10714"/>
                  <a:pt x="15379" y="10691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4973760" y="3600360"/>
            <a:ext cx="492120" cy="81000"/>
          </a:xfrm>
          <a:custGeom>
            <a:avLst/>
            <a:gdLst/>
            <a:ahLst/>
            <a:rect l="l" t="t" r="r" b="b"/>
            <a:pathLst>
              <a:path w="1365" h="225">
                <a:moveTo>
                  <a:pt x="13891" y="9624"/>
                </a:moveTo>
                <a:cubicBezTo>
                  <a:pt x="13880" y="9670"/>
                  <a:pt x="13826" y="9703"/>
                  <a:pt x="13816" y="9723"/>
                </a:cubicBezTo>
                <a:cubicBezTo>
                  <a:pt x="13788" y="9779"/>
                  <a:pt x="13813" y="9680"/>
                  <a:pt x="13816" y="9674"/>
                </a:cubicBezTo>
                <a:cubicBezTo>
                  <a:pt x="13819" y="9669"/>
                  <a:pt x="13887" y="9600"/>
                  <a:pt x="13891" y="9599"/>
                </a:cubicBezTo>
                <a:cubicBezTo>
                  <a:pt x="14105" y="9532"/>
                  <a:pt x="14630" y="9556"/>
                  <a:pt x="14833" y="9624"/>
                </a:cubicBezTo>
                <a:cubicBezTo>
                  <a:pt x="14870" y="9636"/>
                  <a:pt x="14889" y="9649"/>
                  <a:pt x="14932" y="9649"/>
                </a:cubicBezTo>
                <a:cubicBezTo>
                  <a:pt x="14978" y="9649"/>
                  <a:pt x="14997" y="9642"/>
                  <a:pt x="15032" y="9674"/>
                </a:cubicBezTo>
                <a:cubicBezTo>
                  <a:pt x="15079" y="9717"/>
                  <a:pt x="15142" y="9730"/>
                  <a:pt x="15156" y="9798"/>
                </a:cubicBezTo>
                <a:cubicBezTo>
                  <a:pt x="15156" y="9823"/>
                  <a:pt x="15156" y="9831"/>
                  <a:pt x="15180" y="9823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5546880" y="3995640"/>
            <a:ext cx="393480" cy="9720"/>
          </a:xfrm>
          <a:custGeom>
            <a:avLst/>
            <a:gdLst/>
            <a:ahLst/>
            <a:rect l="l" t="t" r="r" b="b"/>
            <a:pathLst>
              <a:path w="1092" h="25">
                <a:moveTo>
                  <a:pt x="15677" y="10592"/>
                </a:moveTo>
                <a:cubicBezTo>
                  <a:pt x="15951" y="10592"/>
                  <a:pt x="16225" y="10585"/>
                  <a:pt x="16495" y="10616"/>
                </a:cubicBezTo>
                <a:cubicBezTo>
                  <a:pt x="16550" y="10622"/>
                  <a:pt x="16753" y="10635"/>
                  <a:pt x="16768" y="10592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6089760" y="3759120"/>
            <a:ext cx="1440" cy="19080"/>
          </a:xfrm>
          <a:custGeom>
            <a:avLst/>
            <a:gdLst/>
            <a:ahLst/>
            <a:rect l="l" t="t" r="r" b="b"/>
            <a:pathLst>
              <a:path w="1" h="50">
                <a:moveTo>
                  <a:pt x="16917" y="10492"/>
                </a:moveTo>
                <a:cubicBezTo>
                  <a:pt x="16917" y="10468"/>
                  <a:pt x="16917" y="10459"/>
                  <a:pt x="16917" y="10443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3348000" y="3591000"/>
            <a:ext cx="349200" cy="331560"/>
          </a:xfrm>
          <a:custGeom>
            <a:avLst/>
            <a:gdLst/>
            <a:ahLst/>
            <a:rect l="l" t="t" r="r" b="b"/>
            <a:pathLst>
              <a:path w="968" h="918">
                <a:moveTo>
                  <a:pt x="9302" y="10492"/>
                </a:moveTo>
                <a:cubicBezTo>
                  <a:pt x="9302" y="10484"/>
                  <a:pt x="9302" y="10476"/>
                  <a:pt x="9302" y="10468"/>
                </a:cubicBezTo>
                <a:cubicBezTo>
                  <a:pt x="9330" y="10448"/>
                  <a:pt x="9364" y="10437"/>
                  <a:pt x="9376" y="10393"/>
                </a:cubicBezTo>
                <a:cubicBezTo>
                  <a:pt x="9392" y="10335"/>
                  <a:pt x="9384" y="10354"/>
                  <a:pt x="9426" y="10319"/>
                </a:cubicBezTo>
                <a:cubicBezTo>
                  <a:pt x="9446" y="10289"/>
                  <a:pt x="9445" y="10289"/>
                  <a:pt x="9475" y="10269"/>
                </a:cubicBezTo>
                <a:cubicBezTo>
                  <a:pt x="9488" y="10256"/>
                  <a:pt x="9516" y="10210"/>
                  <a:pt x="9550" y="10195"/>
                </a:cubicBezTo>
                <a:cubicBezTo>
                  <a:pt x="9558" y="10195"/>
                  <a:pt x="9567" y="10195"/>
                  <a:pt x="9575" y="10195"/>
                </a:cubicBezTo>
                <a:cubicBezTo>
                  <a:pt x="9595" y="10174"/>
                  <a:pt x="9613" y="10166"/>
                  <a:pt x="9649" y="10145"/>
                </a:cubicBezTo>
                <a:cubicBezTo>
                  <a:pt x="9675" y="10125"/>
                  <a:pt x="9648" y="10128"/>
                  <a:pt x="9699" y="10120"/>
                </a:cubicBezTo>
                <a:cubicBezTo>
                  <a:pt x="9720" y="10099"/>
                  <a:pt x="9761" y="10045"/>
                  <a:pt x="9798" y="10021"/>
                </a:cubicBezTo>
                <a:cubicBezTo>
                  <a:pt x="9829" y="10001"/>
                  <a:pt x="9826" y="10001"/>
                  <a:pt x="9847" y="9971"/>
                </a:cubicBezTo>
                <a:cubicBezTo>
                  <a:pt x="9879" y="9951"/>
                  <a:pt x="9921" y="9930"/>
                  <a:pt x="9947" y="9897"/>
                </a:cubicBezTo>
                <a:cubicBezTo>
                  <a:pt x="9984" y="9851"/>
                  <a:pt x="9939" y="9859"/>
                  <a:pt x="10021" y="9847"/>
                </a:cubicBezTo>
                <a:cubicBezTo>
                  <a:pt x="10029" y="9797"/>
                  <a:pt x="10026" y="9824"/>
                  <a:pt x="10046" y="9798"/>
                </a:cubicBezTo>
                <a:cubicBezTo>
                  <a:pt x="10072" y="9761"/>
                  <a:pt x="10083" y="9756"/>
                  <a:pt x="10120" y="9723"/>
                </a:cubicBezTo>
                <a:cubicBezTo>
                  <a:pt x="10156" y="9691"/>
                  <a:pt x="10184" y="9669"/>
                  <a:pt x="10220" y="9649"/>
                </a:cubicBezTo>
                <a:cubicBezTo>
                  <a:pt x="10236" y="9627"/>
                  <a:pt x="10228" y="9621"/>
                  <a:pt x="10244" y="9599"/>
                </a:cubicBezTo>
                <a:cubicBezTo>
                  <a:pt x="10269" y="9599"/>
                  <a:pt x="10277" y="9599"/>
                  <a:pt x="10269" y="9575"/>
                </a:cubicBezTo>
              </a:path>
            </a:pathLst>
          </a:custGeom>
          <a:noFill/>
          <a:ln cap="rnd" w="3492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4402080" y="2633760"/>
            <a:ext cx="455760" cy="28440"/>
          </a:xfrm>
          <a:custGeom>
            <a:avLst/>
            <a:gdLst/>
            <a:ahLst/>
            <a:rect l="l" t="t" r="r" b="b"/>
            <a:pathLst>
              <a:path w="1266" h="76">
                <a:moveTo>
                  <a:pt x="12229" y="7392"/>
                </a:moveTo>
                <a:cubicBezTo>
                  <a:pt x="12294" y="7353"/>
                  <a:pt x="12371" y="7367"/>
                  <a:pt x="12452" y="7367"/>
                </a:cubicBezTo>
                <a:cubicBezTo>
                  <a:pt x="12547" y="7367"/>
                  <a:pt x="12612" y="7349"/>
                  <a:pt x="12700" y="7342"/>
                </a:cubicBezTo>
                <a:cubicBezTo>
                  <a:pt x="12825" y="7332"/>
                  <a:pt x="13466" y="7402"/>
                  <a:pt x="13494" y="7317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4786200" y="2678040"/>
            <a:ext cx="81000" cy="108000"/>
          </a:xfrm>
          <a:custGeom>
            <a:avLst/>
            <a:gdLst/>
            <a:ahLst/>
            <a:rect l="l" t="t" r="r" b="b"/>
            <a:pathLst>
              <a:path w="225" h="299">
                <a:moveTo>
                  <a:pt x="13295" y="7516"/>
                </a:moveTo>
                <a:cubicBezTo>
                  <a:pt x="13315" y="7486"/>
                  <a:pt x="13366" y="7469"/>
                  <a:pt x="13419" y="7466"/>
                </a:cubicBezTo>
                <a:cubicBezTo>
                  <a:pt x="13471" y="7463"/>
                  <a:pt x="13476" y="7452"/>
                  <a:pt x="13519" y="7441"/>
                </a:cubicBezTo>
                <a:cubicBezTo>
                  <a:pt x="13497" y="7475"/>
                  <a:pt x="13467" y="7460"/>
                  <a:pt x="13444" y="7491"/>
                </a:cubicBezTo>
                <a:cubicBezTo>
                  <a:pt x="13419" y="7524"/>
                  <a:pt x="13404" y="7527"/>
                  <a:pt x="13395" y="7565"/>
                </a:cubicBezTo>
                <a:cubicBezTo>
                  <a:pt x="13456" y="7565"/>
                  <a:pt x="13465" y="7546"/>
                  <a:pt x="13469" y="7615"/>
                </a:cubicBezTo>
                <a:cubicBezTo>
                  <a:pt x="13470" y="7625"/>
                  <a:pt x="13459" y="7796"/>
                  <a:pt x="13494" y="7714"/>
                </a:cubicBezTo>
                <a:cubicBezTo>
                  <a:pt x="13494" y="7706"/>
                  <a:pt x="13494" y="7697"/>
                  <a:pt x="13494" y="7689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4214880" y="2714760"/>
            <a:ext cx="36360" cy="54000"/>
          </a:xfrm>
          <a:custGeom>
            <a:avLst/>
            <a:gdLst/>
            <a:ahLst/>
            <a:rect l="l" t="t" r="r" b="b"/>
            <a:pathLst>
              <a:path w="100" h="149">
                <a:moveTo>
                  <a:pt x="11708" y="7689"/>
                </a:moveTo>
                <a:cubicBezTo>
                  <a:pt x="11708" y="7637"/>
                  <a:pt x="11720" y="7627"/>
                  <a:pt x="11757" y="7590"/>
                </a:cubicBezTo>
                <a:cubicBezTo>
                  <a:pt x="11793" y="7554"/>
                  <a:pt x="11794" y="7579"/>
                  <a:pt x="11807" y="7541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4089240" y="2670120"/>
            <a:ext cx="19080" cy="17640"/>
          </a:xfrm>
          <a:custGeom>
            <a:avLst/>
            <a:gdLst/>
            <a:ahLst/>
            <a:rect l="l" t="t" r="r" b="b"/>
            <a:pathLst>
              <a:path w="50" h="50">
                <a:moveTo>
                  <a:pt x="11361" y="7466"/>
                </a:moveTo>
                <a:cubicBezTo>
                  <a:pt x="11400" y="7456"/>
                  <a:pt x="11400" y="7456"/>
                  <a:pt x="11410" y="7417"/>
                </a:cubicBezTo>
                <a:cubicBezTo>
                  <a:pt x="11382" y="7417"/>
                  <a:pt x="11372" y="7419"/>
                  <a:pt x="11361" y="7441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4037040" y="2724120"/>
            <a:ext cx="1440" cy="115920"/>
          </a:xfrm>
          <a:custGeom>
            <a:avLst/>
            <a:gdLst/>
            <a:ahLst/>
            <a:rect l="l" t="t" r="r" b="b"/>
            <a:pathLst>
              <a:path w="1" h="324">
                <a:moveTo>
                  <a:pt x="11212" y="7565"/>
                </a:moveTo>
                <a:cubicBezTo>
                  <a:pt x="11212" y="7673"/>
                  <a:pt x="11212" y="7780"/>
                  <a:pt x="11212" y="7888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3875040" y="2857680"/>
            <a:ext cx="108000" cy="231480"/>
          </a:xfrm>
          <a:custGeom>
            <a:avLst/>
            <a:gdLst/>
            <a:ahLst/>
            <a:rect l="l" t="t" r="r" b="b"/>
            <a:pathLst>
              <a:path w="299" h="645">
                <a:moveTo>
                  <a:pt x="10765" y="7938"/>
                </a:moveTo>
                <a:cubicBezTo>
                  <a:pt x="10815" y="7962"/>
                  <a:pt x="10865" y="8000"/>
                  <a:pt x="10914" y="8012"/>
                </a:cubicBezTo>
                <a:cubicBezTo>
                  <a:pt x="10936" y="8056"/>
                  <a:pt x="10964" y="8052"/>
                  <a:pt x="10964" y="8111"/>
                </a:cubicBezTo>
                <a:cubicBezTo>
                  <a:pt x="10964" y="8173"/>
                  <a:pt x="10983" y="8202"/>
                  <a:pt x="10988" y="8260"/>
                </a:cubicBezTo>
                <a:cubicBezTo>
                  <a:pt x="10992" y="8310"/>
                  <a:pt x="11004" y="8344"/>
                  <a:pt x="11013" y="8384"/>
                </a:cubicBezTo>
                <a:cubicBezTo>
                  <a:pt x="11025" y="8440"/>
                  <a:pt x="11047" y="8459"/>
                  <a:pt x="11063" y="8508"/>
                </a:cubicBezTo>
                <a:cubicBezTo>
                  <a:pt x="11069" y="8527"/>
                  <a:pt x="11063" y="8562"/>
                  <a:pt x="11063" y="8582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4037040" y="3062160"/>
            <a:ext cx="27000" cy="19080"/>
          </a:xfrm>
          <a:custGeom>
            <a:avLst/>
            <a:gdLst/>
            <a:ahLst/>
            <a:rect l="l" t="t" r="r" b="b"/>
            <a:pathLst>
              <a:path w="75" h="51">
                <a:moveTo>
                  <a:pt x="11212" y="8558"/>
                </a:moveTo>
                <a:cubicBezTo>
                  <a:pt x="11261" y="8525"/>
                  <a:pt x="11250" y="8520"/>
                  <a:pt x="11286" y="8508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5170320" y="3106800"/>
            <a:ext cx="54000" cy="3636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14511" y="8731"/>
                </a:moveTo>
                <a:cubicBezTo>
                  <a:pt x="14489" y="8682"/>
                  <a:pt x="14486" y="8680"/>
                  <a:pt x="14486" y="8632"/>
                </a:cubicBezTo>
                <a:cubicBezTo>
                  <a:pt x="14445" y="8632"/>
                  <a:pt x="14403" y="8632"/>
                  <a:pt x="14362" y="8632"/>
                </a:cubicBezTo>
              </a:path>
            </a:pathLst>
          </a:custGeom>
          <a:noFill/>
          <a:ln cap="rnd" w="1908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4211640" y="3645000"/>
            <a:ext cx="571320" cy="431640"/>
          </a:xfrm>
          <a:custGeom>
            <a:avLst/>
            <a:gdLst/>
            <a:ahLst/>
            <a:rect l="l" t="t" r="r" b="b"/>
            <a:pathLst>
              <a:path w="360" h="272">
                <a:moveTo>
                  <a:pt x="0" y="104"/>
                </a:moveTo>
                <a:cubicBezTo>
                  <a:pt x="5" y="112"/>
                  <a:pt x="12" y="119"/>
                  <a:pt x="16" y="128"/>
                </a:cubicBezTo>
                <a:cubicBezTo>
                  <a:pt x="20" y="138"/>
                  <a:pt x="14" y="155"/>
                  <a:pt x="24" y="160"/>
                </a:cubicBezTo>
                <a:cubicBezTo>
                  <a:pt x="32" y="164"/>
                  <a:pt x="27" y="143"/>
                  <a:pt x="32" y="136"/>
                </a:cubicBezTo>
                <a:cubicBezTo>
                  <a:pt x="38" y="128"/>
                  <a:pt x="48" y="125"/>
                  <a:pt x="56" y="120"/>
                </a:cubicBezTo>
                <a:cubicBezTo>
                  <a:pt x="77" y="109"/>
                  <a:pt x="120" y="88"/>
                  <a:pt x="120" y="88"/>
                </a:cubicBezTo>
                <a:cubicBezTo>
                  <a:pt x="77" y="77"/>
                  <a:pt x="34" y="58"/>
                  <a:pt x="16" y="112"/>
                </a:cubicBezTo>
                <a:cubicBezTo>
                  <a:pt x="19" y="141"/>
                  <a:pt x="10" y="174"/>
                  <a:pt x="24" y="200"/>
                </a:cubicBezTo>
                <a:cubicBezTo>
                  <a:pt x="32" y="215"/>
                  <a:pt x="55" y="215"/>
                  <a:pt x="72" y="216"/>
                </a:cubicBezTo>
                <a:cubicBezTo>
                  <a:pt x="104" y="219"/>
                  <a:pt x="136" y="221"/>
                  <a:pt x="168" y="224"/>
                </a:cubicBezTo>
                <a:cubicBezTo>
                  <a:pt x="90" y="250"/>
                  <a:pt x="156" y="255"/>
                  <a:pt x="40" y="232"/>
                </a:cubicBezTo>
                <a:cubicBezTo>
                  <a:pt x="33" y="202"/>
                  <a:pt x="23" y="174"/>
                  <a:pt x="16" y="144"/>
                </a:cubicBezTo>
                <a:cubicBezTo>
                  <a:pt x="30" y="48"/>
                  <a:pt x="12" y="21"/>
                  <a:pt x="96" y="0"/>
                </a:cubicBezTo>
                <a:cubicBezTo>
                  <a:pt x="187" y="5"/>
                  <a:pt x="231" y="0"/>
                  <a:pt x="304" y="24"/>
                </a:cubicBezTo>
                <a:cubicBezTo>
                  <a:pt x="309" y="184"/>
                  <a:pt x="239" y="272"/>
                  <a:pt x="360" y="272"/>
                </a:cubicBezTo>
              </a:path>
            </a:pathLst>
          </a:custGeom>
          <a:noFill/>
          <a:ln w="93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4357800" y="919080"/>
            <a:ext cx="312480" cy="36720"/>
          </a:xfrm>
          <a:custGeom>
            <a:avLst/>
            <a:gdLst/>
            <a:ahLst/>
            <a:rect l="l" t="t" r="r" b="b"/>
            <a:pathLst>
              <a:path w="869" h="100">
                <a:moveTo>
                  <a:pt x="12105" y="2654"/>
                </a:moveTo>
                <a:lnTo>
                  <a:pt x="12105" y="2654"/>
                </a:lnTo>
              </a:path>
              <a:path w="869" h="100">
                <a:moveTo>
                  <a:pt x="12278" y="2604"/>
                </a:moveTo>
                <a:cubicBezTo>
                  <a:pt x="12341" y="2596"/>
                  <a:pt x="12387" y="2580"/>
                  <a:pt x="12452" y="2580"/>
                </a:cubicBezTo>
                <a:cubicBezTo>
                  <a:pt x="12484" y="2580"/>
                  <a:pt x="12495" y="2555"/>
                  <a:pt x="12551" y="2555"/>
                </a:cubicBezTo>
                <a:cubicBezTo>
                  <a:pt x="12692" y="2555"/>
                  <a:pt x="12832" y="2555"/>
                  <a:pt x="12973" y="2555"/>
                </a:cubicBezTo>
              </a:path>
            </a:pathLst>
          </a:custGeom>
          <a:noFill/>
          <a:ln cap="rnd" w="1908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4830840" y="938160"/>
            <a:ext cx="1440" cy="7920"/>
          </a:xfrm>
          <a:custGeom>
            <a:avLst/>
            <a:gdLst/>
            <a:ahLst/>
            <a:rect l="l" t="t" r="r" b="b"/>
            <a:pathLst>
              <a:path w="1" h="26">
                <a:moveTo>
                  <a:pt x="13419" y="2604"/>
                </a:moveTo>
                <a:cubicBezTo>
                  <a:pt x="13419" y="2612"/>
                  <a:pt x="13419" y="2621"/>
                  <a:pt x="13419" y="2629"/>
                </a:cubicBezTo>
              </a:path>
            </a:pathLst>
          </a:custGeom>
          <a:noFill/>
          <a:ln cap="rnd" w="1908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5037120" y="928800"/>
            <a:ext cx="150840" cy="258480"/>
          </a:xfrm>
          <a:custGeom>
            <a:avLst/>
            <a:gdLst/>
            <a:ahLst/>
            <a:rect l="l" t="t" r="r" b="b"/>
            <a:pathLst>
              <a:path w="423" h="720">
                <a:moveTo>
                  <a:pt x="14064" y="2803"/>
                </a:moveTo>
                <a:cubicBezTo>
                  <a:pt x="14035" y="2841"/>
                  <a:pt x="14039" y="2854"/>
                  <a:pt x="14039" y="2902"/>
                </a:cubicBezTo>
                <a:cubicBezTo>
                  <a:pt x="14039" y="2935"/>
                  <a:pt x="14039" y="2968"/>
                  <a:pt x="14039" y="3001"/>
                </a:cubicBezTo>
                <a:cubicBezTo>
                  <a:pt x="14004" y="3025"/>
                  <a:pt x="14015" y="3068"/>
                  <a:pt x="14015" y="3125"/>
                </a:cubicBezTo>
                <a:cubicBezTo>
                  <a:pt x="14015" y="3171"/>
                  <a:pt x="13995" y="3184"/>
                  <a:pt x="13990" y="3225"/>
                </a:cubicBezTo>
                <a:cubicBezTo>
                  <a:pt x="13987" y="3249"/>
                  <a:pt x="13990" y="3275"/>
                  <a:pt x="13990" y="3299"/>
                </a:cubicBezTo>
              </a:path>
              <a:path w="423" h="720">
                <a:moveTo>
                  <a:pt x="14412" y="2580"/>
                </a:moveTo>
                <a:cubicBezTo>
                  <a:pt x="14412" y="2621"/>
                  <a:pt x="14412" y="2663"/>
                  <a:pt x="14412" y="2704"/>
                </a:cubicBezTo>
              </a:path>
              <a:path w="423" h="720">
                <a:moveTo>
                  <a:pt x="13990" y="2704"/>
                </a:moveTo>
                <a:cubicBezTo>
                  <a:pt x="13990" y="2853"/>
                  <a:pt x="13990" y="3001"/>
                  <a:pt x="13990" y="3150"/>
                </a:cubicBezTo>
                <a:cubicBezTo>
                  <a:pt x="14023" y="3150"/>
                  <a:pt x="14039" y="3150"/>
                  <a:pt x="14064" y="3150"/>
                </a:cubicBezTo>
              </a:path>
              <a:path w="423" h="720">
                <a:moveTo>
                  <a:pt x="14114" y="2952"/>
                </a:moveTo>
                <a:cubicBezTo>
                  <a:pt x="14114" y="3051"/>
                  <a:pt x="14114" y="3150"/>
                  <a:pt x="14114" y="3249"/>
                </a:cubicBezTo>
              </a:path>
            </a:pathLst>
          </a:custGeom>
          <a:noFill/>
          <a:ln cap="rnd" w="1908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6912000" y="4973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9199" y="13816"/>
                </a:moveTo>
                <a:lnTo>
                  <a:pt x="19199" y="13816"/>
                </a:lnTo>
              </a:path>
            </a:pathLst>
          </a:custGeom>
          <a:noFill/>
          <a:ln cap="sq" w="228600">
            <a:solidFill>
              <a:srgbClr val="ff99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 flipH="1">
            <a:off x="3995280" y="2205000"/>
            <a:ext cx="360360" cy="287280"/>
          </a:xfrm>
          <a:prstGeom prst="line">
            <a:avLst/>
          </a:prstGeom>
          <a:ln cap="rnd" w="349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3" name=""/>
          <p:cNvGraphicFramePr/>
          <p:nvPr/>
        </p:nvGraphicFramePr>
        <p:xfrm>
          <a:off x="108000" y="1252440"/>
          <a:ext cx="8964720" cy="5058000"/>
        </p:xfrm>
        <a:graphic>
          <a:graphicData uri="http://schemas.openxmlformats.org/drawingml/2006/table">
            <a:tbl>
              <a:tblPr/>
              <a:tblGrid>
                <a:gridCol w="2808360"/>
                <a:gridCol w="1368360"/>
                <a:gridCol w="2374920"/>
                <a:gridCol w="241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ขา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ให้เช่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ใช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นทุนเพื่อการคิดค่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ึกหรอและค่าเสื่อ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ค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ม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อ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ห้ถือเป็นรายจ่ายทั้งจำนว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เกิ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ล้านบาท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ที่เกินยอมให้ถือเป็นรายจ่ายได้เมื่อจำหน่าย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เกิ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ล้านบาท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ที่เกินถือเป็นรายจ่ายต้องห้ามตามพรฎ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15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่าเช่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&lt; 36,000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/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รือ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&lt;1,200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/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ซื้อสำหรับ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ถยนต์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่าอะไหล่ ค่าซ่อม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่าน้ำมั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Marlett"/>
                          <a:ea typeface="Marlett"/>
                        </a:rPr>
                        <a:t>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Marlett"/>
                          <a:ea typeface="Marlett"/>
                        </a:rPr>
                        <a:t>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Marlett"/>
                          <a:ea typeface="Marlett"/>
                        </a:rPr>
                        <a:t>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ถยนต์นั่ง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/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ถยนต์โดยสารไม่เกิน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0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ี่นั่ง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785880" y="1484280"/>
            <a:ext cx="12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3863880" y="1297080"/>
            <a:ext cx="446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6732720" y="422100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7308720" y="465300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"/>
          <p:cNvSpPr/>
          <p:nvPr/>
        </p:nvSpPr>
        <p:spPr>
          <a:xfrm>
            <a:off x="0" y="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Audit Input Ta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73080" y="836640"/>
            <a:ext cx="7738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ซื้อที่เกี่ยวเนื่องโดยตรงกับ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108000" y="2478240"/>
            <a:ext cx="630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127080" y="2133720"/>
            <a:ext cx="8712000" cy="44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ซื้อตาม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Inv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เต็มรูปที่มีข้อความครบถ้วนสมบรูณ์ ตาม 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เป็นต้นฉบับ เว้นแต่ใบแทนใบกำกับ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ใบกำกับภาษีซื้อที่ไม่มีรายการแก้ไขเปลี่ยนแปล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ออก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In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 รายกา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8.1)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ม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โดย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re-printed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อื่นจะจัดทำขึ้นโดยวิธีใดก็ได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รายกา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/ 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(8.1)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ม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ทำโดย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mputerized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อื่น ๆ ต้องจัดทำ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mputerized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ฉบับเว้นแต่รายการ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re-pri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cimals VAT  xxx.xx x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หลัก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/4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533520" y="1197000"/>
            <a:ext cx="80708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ut of VAT Scop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come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นับรวมเป็นฐานในการเฉลี่ยภาษีซื้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แต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46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 ประกาศ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"/>
          <p:cNvSpPr/>
          <p:nvPr/>
        </p:nvSpPr>
        <p:spPr>
          <a:xfrm>
            <a:off x="144000" y="122400"/>
            <a:ext cx="2433240" cy="52056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ฉลี่ยภาษีซื้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482040" y="868320"/>
            <a:ext cx="17917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Divi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3402000" y="868320"/>
            <a:ext cx="195768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่วไป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mmon U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6296760" y="878040"/>
            <a:ext cx="24181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ยกเว้น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 Divi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2771640" y="981000"/>
            <a:ext cx="0" cy="525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5940360" y="981000"/>
            <a:ext cx="0" cy="525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395280" y="1700280"/>
            <a:ext cx="208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3346560" y="1700280"/>
            <a:ext cx="208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6370560" y="1700280"/>
            <a:ext cx="208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834840" y="1741320"/>
            <a:ext cx="89244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677520" y="2386080"/>
            <a:ext cx="160884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ขอคื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2593800" y="1733400"/>
            <a:ext cx="374076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2/6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อธิบดี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:29#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7056360" y="1660680"/>
            <a:ext cx="89244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6790680" y="2316240"/>
            <a:ext cx="145800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xp , Co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3563640" y="2236680"/>
            <a:ext cx="1531080" cy="4291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ลี่ยภาษีซื้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2411280" y="292428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 flipV="1">
            <a:off x="4356000" y="27082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7524720" y="2060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1258920" y="213372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889200" y="3029040"/>
            <a:ext cx="101880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sse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6482880" y="3029040"/>
            <a:ext cx="246960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ในแผนก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1905120" y="3276720"/>
            <a:ext cx="4647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1403640" y="3495600"/>
            <a:ext cx="6516000" cy="7038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บริการ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ิดค่าใช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ภาษีขายเกิดขึ้นถือเป็นค่าใช้จ่ายของแผนก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 Di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613800" y="4308480"/>
            <a:ext cx="109656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s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3533760" y="4292640"/>
            <a:ext cx="158112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s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6811200" y="4221000"/>
            <a:ext cx="141228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s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1116000" y="472428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1116000" y="544356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4343400" y="46148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4343400" y="533412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7524720" y="462600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7524720" y="534528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1509480" y="6262560"/>
            <a:ext cx="6004080" cy="48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เฉลี่ย </a:t>
            </a:r>
            <a:r>
              <a:rPr b="0" lang="th-TH" sz="2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6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6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 กับ พื้นที่การใช้อาคาร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2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2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2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2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2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2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2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2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2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2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2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"/>
          <p:cNvSpPr/>
          <p:nvPr/>
        </p:nvSpPr>
        <p:spPr>
          <a:xfrm>
            <a:off x="1604880" y="1555920"/>
            <a:ext cx="2519280" cy="647640"/>
          </a:xfrm>
          <a:prstGeom prst="rect">
            <a:avLst/>
          </a:prstGeom>
          <a:solidFill>
            <a:srgbClr val="00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ภาษีซื้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219320" y="2743200"/>
            <a:ext cx="3047760" cy="1066680"/>
          </a:xfrm>
          <a:prstGeom prst="diamond">
            <a:avLst/>
          </a:prstGeom>
          <a:solidFill>
            <a:srgbClr val="00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ค่าก่อสร้างอาค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1295280" y="4765680"/>
            <a:ext cx="2952720" cy="720720"/>
          </a:xfrm>
          <a:prstGeom prst="rect">
            <a:avLst/>
          </a:prstGeom>
          <a:solidFill>
            <a:srgbClr val="660033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ฉลี่ยภาษีซื้อตา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ัดส่วนรายได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5867280" y="2895480"/>
            <a:ext cx="2362320" cy="762120"/>
          </a:xfrm>
          <a:prstGeom prst="rect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ฉลี่ยภาษีซื้อตา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พื้นที่การใช้อาค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2743200" y="2209680"/>
            <a:ext cx="0" cy="53352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2743200" y="3809880"/>
            <a:ext cx="0" cy="9144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4191120" y="3276720"/>
            <a:ext cx="167616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2827440" y="4038480"/>
            <a:ext cx="304560" cy="304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4740120" y="2924280"/>
            <a:ext cx="289080" cy="2919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1150560" y="442800"/>
            <a:ext cx="6130440" cy="520560"/>
          </a:xfrm>
          <a:prstGeom prst="rect">
            <a:avLst/>
          </a:prstGeom>
          <a:solidFill>
            <a:srgbClr val="00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ารเฉลี่ยภาษีซื้อ </a:t>
            </a:r>
            <a:r>
              <a:rPr b="1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Allocate Input Ta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6840" y="421920"/>
            <a:ext cx="8218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เฉลี่ยภาษีซื้อตามส่วนของรายได้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1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ทั่วไ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ของปีใด ให้ใช้เป็นฐานในการเฉลี่ยภาษีซื้อของปีนั้นๆ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ที่ใช้เป็นฐานในการเฉลี่ยภาษีซื้อ ให้ใช้รายได้ตาม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ยกเว้น เพื่อให้เกิดความสะดว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ประกอบกิจการต่อเนื่อง ให้ใช้รายได้ของปีก่อนเป็นฐานในการเฉลี่ยภาษีซื้อของปีปัจจุบั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เมื่อสิ้นปีจะเลือกปรับปรุงการเฉลี่ยภาษีซื้อให้เป็นไปตามฐานของรายได้ของปีนั้นๆ ก็ได้ แต่เมื่อได้เลือกปฏิบัติอย่างใดแล้วให้ถือปฏิบัติเช่นนั้นตลอดไป เว้นแต่จะได้รับอนุมัติจากอธิบดีกรมสรรพ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ที่รายได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รายได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ปีก่อนมีสัดส่วนไม่น้อยกว่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ยได้รวม ในปีปัจจุบันไม่ต้องเฉลี่ยภาษีซื้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เมื่อสิ้นปี ไม่ต้องปรับปรุงการเฉลี่ยภาษีซื้อให้เป็นไปตามฐานของรายได้ของปีนั้นๆ อีกแต่อย่างใ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เฉลี่ยภาษีซื้อตามส่วนของรายได้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ยกเว้น เพื่อให้เกิดความสะดวก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ปีที่เริ่มมีรายได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ปีแรก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ปีที่มีรายได้ทั้งสองประเภทไม่น้อยกว่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ภาษ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ดำเนินการดัง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าณการรายได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ปีที่เริ่มมีรายได้ แล้วใช้เป็นฐานในการเฉลี่ยภาษีซื้อไปจนกว่าจะสิ้นปีที่เริ่มมีรายได้ ไม่ว่าจะใช้ระยะเวลานานเท่าใดก็ตา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ื่อสิ้นปีที่เริ่มมีรายได้ ให้ปรับปรุงการเฉลี่ยภาษีซื้อให้เป็นไปตามฐานของรายได้ของปีที่เริ่มมีรายได้นั้น ภายในเดือนแรกของปีถัดจากปีที่เริ่มมีรายได้ ซึ่งอาจเป็นผลให้ใช้ภาษีซื้อเกินไป หรือขาดจำนวน แล้วแต่กรณี จากนั้นให้ยื่น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0.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น ว้น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เดือนถัดจากเดือนที่ทำการปรับปรุงการเฉลี่ยภาษีซื้อตามส่วนของรายได้ โดยไม่ต้องเสียเบี้ยปรับ และเงินเพิ่มใด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50560" y="141300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เพื่อเริ่มกิจการหรือเมื่อริเริ่มกิจการใหม่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เพื่อการใช้สิทธิประโยชน์ทางภาษีอาก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ภาษีอากรด้านรายได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ภาษีอากรด้านรายจ่าย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ภาษีอากรด้านทรัพย์สินและหนี้สิ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เกี่ยวกับหน้าที่ทางภาษีอาก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ภาษีอากรในประเด็นอื่นๆ ที่เกี่ยวข้อ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วางแผนภาษีอ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6840" y="348840"/>
            <a:ext cx="82184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เฉลี่ยภาษีซื้อตามส่วนของรายได้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3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ที่ใช้เป็นฐานในการเฉลี่ยภาษีซื้อตามส่วนของรายได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รายได้ตาม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รอบระยะเวลาบัญชี หรือปีภาษี โดยแบ่งออกเป็นสามกองดัง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ในส่วนของรายได้ที่ต้องเสีย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7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รายได้ที่ได้รับยกเว้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รับที่อยู่ในข่ายที่ต้องเสีย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หรือยกเว้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ต่อไปนี้ไม่ต้องนำไปรวมเป็นฐานในการเฉลี่ยภาษีซื้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ที่เกิดขึ้นจากกรณีผู้ประกอบการจดทะเบียนนำเงินไปหาประโยชน์โดยการฝากธนาคาร ซื้อพันธบัตรหรือหลักทรัพย์ หรือซื้อตั๋วเงินของสถาบันการเงินอื่น แต่ทั้งนี้ไม่ใช้บังคับสำหรับการประกอบกิจการธนาคารพาณิชย์ บริษัทเงินทุน หลักทรัพย์ และเครดิตฟองซิเอร์ และกิจการประกันชีวิต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ดอกเบี้ยที่เกิดขึ้นจากกรณีผู้ประกอบการจดทะเบียนมีการกู้ยืมเงินกันเองในระหว่างบริษัทในเครือเดียวกั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82184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เฉลี่ยภาษีซื้อตามส่วนของรายได้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4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ต่อไปนี้ไม่ต้องนำไปรวมเป็นฐานในการเฉลี่ยภาษีซื้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ดอกเบี้ยที่เกิดขึ้นจากเงินกองทุนสะสมพนักงานหรือทุนอื่นใดเพื่อพนักงาน และผู้ประกอบการที่เป็นบริษัทหรือห้างหุ้นส่วนนิติบุคคลได้นำเงินกองทุนนี้ออกให้พนักงานที่เป็นสมาชิกกู้ยืมเป็นสวัสด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ที่ไม่อยู่ในบังคับต้องเสียภาษีมูลค่าเพิ่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ตั้งแต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มา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"/>
          <p:cNvSpPr/>
          <p:nvPr/>
        </p:nvSpPr>
        <p:spPr>
          <a:xfrm>
            <a:off x="1218960" y="200160"/>
            <a:ext cx="6522120" cy="5814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ฉลี่ยภาษีซื้อตามพื้นที่การใช้อาคา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-8280" y="1268280"/>
            <a:ext cx="2398320" cy="70380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อนุมัติก่อสร้า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เริ่มก่อสร้างอาค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270000" y="4267080"/>
            <a:ext cx="2209680" cy="83844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าณการการใช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ื้นที่อาคารเป็น ตร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ชั้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515560" y="1413000"/>
            <a:ext cx="1383120" cy="39888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ริ่มใช้อาค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2588040" y="1433520"/>
            <a:ext cx="2107080" cy="3988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คารเสร็จสมบูรณ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6444360" y="2835360"/>
            <a:ext cx="819360" cy="39888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3813840" y="2835360"/>
            <a:ext cx="819360" cy="39888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805320" y="2835360"/>
            <a:ext cx="819360" cy="39888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574560" y="19051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171756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3622680" y="18288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476568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3699000" y="3429000"/>
            <a:ext cx="1066680" cy="60948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05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727200" y="3429000"/>
            <a:ext cx="1066680" cy="60948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05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H="1">
            <a:off x="421920" y="266688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422280" y="266688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3470400" y="2666880"/>
            <a:ext cx="3045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 flipH="1">
            <a:off x="3470400" y="2666880"/>
            <a:ext cx="3045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 flipH="1">
            <a:off x="6060600" y="266688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6289560" y="3429000"/>
            <a:ext cx="1067040" cy="60948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05.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6213600" y="18288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743256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118440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3622680" y="4267080"/>
            <a:ext cx="1676520" cy="8384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จ้งวันที่อาค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สร็จสมบูรณ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6060960" y="4292640"/>
            <a:ext cx="2687760" cy="81288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จ้งการใช้พื้นที่อาคารเป็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ชั้นว่า เป็นไปตา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าณการหรือไม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415620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682308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6060960" y="266688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6137640" y="5132520"/>
            <a:ext cx="3036600" cy="1313640"/>
          </a:xfrm>
          <a:prstGeom prst="rect">
            <a:avLst/>
          </a:prstGeom>
          <a:solidFill>
            <a:srgbClr val="99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รณีไม่เป็นไปตามประมา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ารให้ยื่นแบบ ภพ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0.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พื่อปรับปรุงการเฉลี่ยภาษีซื้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ป็นรายเดือนภาษ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345960" y="2819520"/>
            <a:ext cx="8458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"/>
          <p:cNvSpPr/>
          <p:nvPr/>
        </p:nvSpPr>
        <p:spPr>
          <a:xfrm>
            <a:off x="685800" y="2438280"/>
            <a:ext cx="8077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2050920" y="2111400"/>
            <a:ext cx="0" cy="57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1042920" y="1174680"/>
            <a:ext cx="936720" cy="11527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925200" y="620640"/>
            <a:ext cx="15598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7667640" y="2111400"/>
            <a:ext cx="0" cy="57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1164960" y="2830680"/>
            <a:ext cx="18709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ิ้นเดือนภาษีที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าคารเสร็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มบูรณ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4573800" y="1123920"/>
            <a:ext cx="691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 rot="5400000">
            <a:off x="4607640" y="-948600"/>
            <a:ext cx="431640" cy="5545440"/>
          </a:xfrm>
          <a:custGeom>
            <a:avLst/>
            <a:gdLst>
              <a:gd name="textAreaLeft" fmla="*/ 275760 w 431640"/>
              <a:gd name="textAreaRight" fmla="*/ 432000 w 431640"/>
              <a:gd name="textAreaTop" fmla="*/ 144360 h 5545440"/>
              <a:gd name="textAreaBottom" fmla="*/ 5401080 h 554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4800600" y="24382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3494160" y="3124080"/>
            <a:ext cx="351612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</a:t>
            </a:r>
            <a:r>
              <a:rPr b="0" lang="hi-IN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.</a:t>
            </a:r>
            <a:r>
              <a:rPr b="0" lang="hi-IN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นำออกให้เช่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.</a:t>
            </a:r>
            <a:r>
              <a:rPr b="0" lang="hi-IN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ห้ผู้อื่นมาใช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ไม่ว่าทั้งหมดหรือบางส่ว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3138840" y="4686480"/>
            <a:ext cx="51537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สำหรับอาคารเป็นภาษีซื้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้องห้ามทั้งหมด ให้นำมาปรับปรุ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ป็นต้นทุนอาค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4648320" y="2286000"/>
            <a:ext cx="3045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 flipH="1">
            <a:off x="4648320" y="2286000"/>
            <a:ext cx="3045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"/>
          <p:cNvSpPr/>
          <p:nvPr/>
        </p:nvSpPr>
        <p:spPr>
          <a:xfrm>
            <a:off x="0" y="189000"/>
            <a:ext cx="9144000" cy="64087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2411280" y="907920"/>
            <a:ext cx="4465800" cy="503280"/>
          </a:xfrm>
          <a:prstGeom prst="rect">
            <a:avLst/>
          </a:prstGeom>
          <a:solidFill>
            <a:srgbClr val="0101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ทะเบีย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2556000" y="2060640"/>
            <a:ext cx="4680000" cy="503280"/>
          </a:xfrm>
          <a:prstGeom prst="rect">
            <a:avLst/>
          </a:prstGeom>
          <a:solidFill>
            <a:srgbClr val="154e08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ในการเสีย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2340000" y="1628640"/>
            <a:ext cx="4680000" cy="503280"/>
          </a:xfrm>
          <a:prstGeom prst="rect">
            <a:avLst/>
          </a:prstGeom>
          <a:solidFill>
            <a:srgbClr val="154e08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ยสินค้าหรือการให้บริ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1835280" y="3933720"/>
            <a:ext cx="5470560" cy="505080"/>
          </a:xfrm>
          <a:prstGeom prst="rect">
            <a:avLst/>
          </a:prstGeom>
          <a:solidFill>
            <a:srgbClr val="6600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การจัดทำรายงา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2340000" y="4653000"/>
            <a:ext cx="4896000" cy="576360"/>
          </a:xfrm>
          <a:prstGeom prst="rect">
            <a:avLst/>
          </a:prstGeom>
          <a:solidFill>
            <a:srgbClr val="3333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การคำนวณ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2411280" y="5445000"/>
            <a:ext cx="4681800" cy="505080"/>
          </a:xfrm>
          <a:prstGeom prst="rect">
            <a:avLst/>
          </a:prstGeom>
          <a:solidFill>
            <a:srgbClr val="0033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ยื่นแบบและชำร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2556000" y="3213000"/>
            <a:ext cx="4608360" cy="505080"/>
          </a:xfrm>
          <a:prstGeom prst="rect">
            <a:avLst/>
          </a:prstGeom>
          <a:solidFill>
            <a:srgbClr val="6633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bit Note, Credit 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2340000" y="2781360"/>
            <a:ext cx="4537080" cy="504720"/>
          </a:xfrm>
          <a:prstGeom prst="rect">
            <a:avLst/>
          </a:prstGeom>
          <a:solidFill>
            <a:srgbClr val="6633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ใบกำกับ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1835280" y="6164280"/>
            <a:ext cx="5833800" cy="504720"/>
          </a:xfrm>
          <a:prstGeom prst="rect">
            <a:avLst/>
          </a:prstGeom>
          <a:solidFill>
            <a:srgbClr val="154e08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ห้ความร่วมมือตามกฎหมาย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1786680" y="115920"/>
            <a:ext cx="56120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ของผู้ประกอบการในระบบ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4302000" y="692280"/>
            <a:ext cx="486000" cy="210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4284720" y="1417680"/>
            <a:ext cx="485640" cy="210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4284720" y="4437000"/>
            <a:ext cx="485640" cy="211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4284720" y="3722760"/>
            <a:ext cx="485640" cy="210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4302000" y="2570040"/>
            <a:ext cx="486000" cy="211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4284720" y="5234040"/>
            <a:ext cx="485640" cy="210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4284720" y="5950080"/>
            <a:ext cx="485640" cy="210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6877080" y="2276640"/>
            <a:ext cx="662040" cy="936360"/>
          </a:xfrm>
          <a:custGeom>
            <a:avLst/>
            <a:gdLst>
              <a:gd name="textAreaLeft" fmla="*/ 88560 w 662040"/>
              <a:gd name="textAreaRight" fmla="*/ 573480 w 66204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1353960" y="981000"/>
            <a:ext cx="914400" cy="60984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539640" y="907920"/>
            <a:ext cx="914400" cy="60984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7978680" y="1019160"/>
            <a:ext cx="914400" cy="60948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7186680" y="907920"/>
            <a:ext cx="914400" cy="60984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hi-IN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7525800" y="246708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m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7311240" y="4724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h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1281240" y="5516640"/>
            <a:ext cx="914400" cy="60948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468360" y="5373720"/>
            <a:ext cx="914400" cy="60948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7309800" y="39337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ut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-28080" y="378936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ck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299880" y="160020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7/1(8)(9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6858000" y="1600200"/>
            <a:ext cx="20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7/1(10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320040" y="20574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8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8/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8/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"/>
          <p:cNvSpPr/>
          <p:nvPr/>
        </p:nvSpPr>
        <p:spPr>
          <a:xfrm>
            <a:off x="324000" y="1413000"/>
            <a:ext cx="8640720" cy="1008000"/>
          </a:xfrm>
          <a:prstGeom prst="rect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55680" indent="-3556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ิทธิที่จะออกใบกำกับภาษีสำหรับการประกอบกิจการขายสินค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ให้บริการตามมาตรา </a:t>
            </a: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86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324000" y="4508640"/>
            <a:ext cx="8569080" cy="863640"/>
          </a:xfrm>
          <a:prstGeom prst="rect">
            <a:avLst/>
          </a:prstGeom>
          <a:solidFill>
            <a:srgbClr val="0033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ิทธิที่ขอคืนภาษีซื้อ กรณีภาษีซื้อมากกว่าภาษีขาย ต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84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324000" y="3429000"/>
            <a:ext cx="8640720" cy="934920"/>
          </a:xfrm>
          <a:prstGeom prst="rect">
            <a:avLst/>
          </a:prstGeom>
          <a:solidFill>
            <a:srgbClr val="66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ิทธิที่จะนำภาษีซื้อไปหักออกจากภาษขายในการคำนวณ </a:t>
            </a: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ตามมาตรา</a:t>
            </a: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82/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1332000" y="333360"/>
            <a:ext cx="6624720" cy="1312920"/>
          </a:xfrm>
          <a:prstGeom prst="rect">
            <a:avLst/>
          </a:prstGeom>
          <a:solidFill>
            <a:srgbClr val="0000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ิทธิของผู้ประกอบการจดทะเบีย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324000" y="2638440"/>
            <a:ext cx="7561080" cy="646200"/>
          </a:xfrm>
          <a:prstGeom prst="rect">
            <a:avLst/>
          </a:prstGeom>
          <a:solidFill>
            <a:srgbClr val="154e08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ิทธิที่จะเรียกเก็บภาษีขายตามมาตรา </a:t>
            </a: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82/4 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324000" y="5516640"/>
            <a:ext cx="7920000" cy="649080"/>
          </a:xfrm>
          <a:prstGeom prst="rect">
            <a:avLst/>
          </a:prstGeom>
          <a:solidFill>
            <a:srgbClr val="80008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ิทธิที่จะเสียภาษีมูลค่าเพิ่มอัตรา </a:t>
            </a: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0%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80/1</a:t>
            </a:r>
            <a:r>
              <a:rPr b="0" lang="th-TH" sz="28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คือ หลักฐานสำคัญในระบบภาษีมูลค่าเพิ่มที่ผู้ประกอบการจดทะเบียนตลอดจนบุคคลอื่น ตามที่กฎหมายกำหนดมีหน้าที่ต้องจัดทำและส่งมอบให้แก่ผู้ซื้อสินค้าหรือผู้รับบริการ ในทันทีทุกครั้งที่ความรับผิดในการเสียภาษีมูลค่าเพิ่มจากการขายสินค้าหรือให้บริการเกิดขึ้น เพื่อแสดงว่าผู้ประกอบการจดทะเบียนดังกล่าว ได้ขายสินค้าหรือให้บริการชนิด หรือประเภทใดให้แก่บุคคลใด เมื่อใด มีจำนวนปริมาณและคิดเป็นมูลค่าเท่าใด และมีจำนวนภาษีมูลค่าเพิ่มหรือ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ข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ที่ได้เรียกเก็บหรือพึงเรียกเก็บเป็นจำนวนเท่าใ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7138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สำหรับผู้ประกอบการจดทะเบียนที่เป็นผู้ซื้อสินค้าหรือผู้รับ บริการ และผู้นำเข้า ใบกำกับภาษีเป็นหลักฐานที่พิสูจน์ว่า ผู้ประกอบการได้จ่ายหรือพึงต้องจ่ายภาษีมูลค่าเพิ่มหรือ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ไปเป็นจำนวนเท่าใด ทั้งนี้ เพื่อประโยชน์ในการคำนวณภาษีมูลค่าเพิ่มที่ต้องชำระในแต่ละเดือนภาษี และการขอคืนภาษีมูลค่าเพิ่มในกรณีที่มียอดภาษีซื้อมากกว่าภาษีข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มีสิทธิออกใบกำกับภาษ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เป็นการชั่วครา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แทนในราชอาณาจักรของผู้ประกอบการที่อยู่นอกราชอาณาจั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วแทนในราชอาณาจักรของผู้ประกอบการ ที่อยู่ในราชอาณาจักรที่รับฝากขายสินค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ขายทอดตลาดที่ไม่ใช่ส่วนราชการ ซึ่งได้ขายทอดตลาดทรัพย์สินของผู้ประกอบการจดทะเบียน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ารจดทะเบียนที่เลิกประกอบกิจการแล้ว แต่ได้รับอนุมัติจากอธิบดีกรมสรรพากร ให้ออกใบกำกับภาษีเป็นการชั่วคราวจนกว่าจะหยุดประกอบกิจ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นิดของใบกำกับภาษ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8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แบบเต็มรูปแบ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อย่างย่อ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อย่างย่อที่ออกโดยเครื่องบันทึกการเก็บเง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ห้า แห่ง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เพิ่มหนี้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ลดหนี้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เสร็จรับเงินค่าภาษีมูลค่าเพิ่มที่ส่วนราชการเป็นผู้ออ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ัตถุประสงค์การวางแผนภาษีมูลค่าเพิ่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5280" y="1699920"/>
            <a:ext cx="88394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ให้การเสียภาษีมูลค่าเพิ่มเป็นไปโดยถูกต้อง และครบถ้วนตามที่กฎหมายกำหนดบัญญัติไว้ เป็นจำนวนน้อยที่สุด โดยไม่ใช้การหลีกเลี่ยง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แก้ปัญหาเกี่ยวกับมูลค่าเพิ่มในอดีต และป้องกันปัญหาที่อาจเกิดขึ้นในทุกกรณี โดยมุ่งแก้หรือป้องกันที่สาเหตุแห่งปัญห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ประหยัดหรือลดค่าใช้จ่ายที่อาจเกิดขึ้นเนื่องจากการเสียภาษีมูลค่าเพิ่มไม่ถูกต้อง อาทิ เบี้ยปรับ เงินเพิ่มภาษี ค่าปรับทางอาญ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682200" y="57240"/>
            <a:ext cx="7777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ของใบกำกับภาษีแบบเต็มรูปกับใบกำกับภาษีอย่างย่อ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785" name=""/>
          <p:cNvGraphicFramePr/>
          <p:nvPr/>
        </p:nvGraphicFramePr>
        <p:xfrm>
          <a:off x="179280" y="1197000"/>
          <a:ext cx="8893440" cy="5321160"/>
        </p:xfrm>
        <a:graphic>
          <a:graphicData uri="http://schemas.openxmlformats.org/drawingml/2006/table">
            <a:tbl>
              <a:tblPr/>
              <a:tblGrid>
                <a:gridCol w="2808360"/>
                <a:gridCol w="2952720"/>
                <a:gridCol w="313236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บบเต็มรู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ย่างย่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ำว่า “ใบกำกับ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ีรายการครบถ้วนตาม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6/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ีคำว่า ”อย่างย่อ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ชื่อและที่อยู่ของผู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อ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แสดงให้เห็นชัดแจ้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ะแสดงเพียงชื่อสถานการค้าหรือเครื่องหมายการค้าก็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ชื่อและที่อยู่ของผู้ซื้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รือผู้รับบริ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แสดงให้เห็นชัดแจ้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ะแสดงหรือไม่ก็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ละเอียดเกี่ยวก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นค้าหรือบริ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แสดงให้เห็นชัดแจ้ง ได้แก่ ชื่อ ชนิด ประเภท ปริมาณ มูลค่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ออกด้วยเครื่องบันทึกการเก็บเงินจะใช้รหัสแทนก็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ลดการ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แสดงให้เห็นชัดแจ้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ะแสดงหรือไม่ก็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ำนว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แสดงให้เห็นชัดแจ้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ะแสดงราคารวม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โดยมีข้อความระบุไว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รณีที่ไม่ต้องออกใบกำกับภาษ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จำหน่าย จ่าย โอนสินค้าโดยไม่มีค่าตอบแทน และไม่เรียกเก็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ากผู้ซื้อสินค้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นำสินค้าไปใช้ในกิจการที่ไม่ต้องเสี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นำรถยนต์นั่งหรือรถยนต์โดยสารที่มีที่นั่ง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ไปใช้เป็นทรัพย์ส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นำสินค้าที่มีไว้เพื่อขายไปใช้กับรถยนต์นั่ง หรือรถยนต์โดยสารที่มีที่นั่ง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มีสินค้าขาดจากรายงานสินค้าและวัตถุดิ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มีสินค้าคงเหลือ และหรือทรัพย์สินทีมีไว้ในการประกอบกิจการที่ต้องเสี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ทั้งกรณีที่ต้องเสี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ที่ไม่ต้องเสี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 วันเลิกประกอบกิจการหรือ ณ วันที่ได้รับคำสั่งถอนทะเบียน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รณีที่ไม่ต้องออกใบกำกับภาษ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ให้บริการไม่มีค่าตอบแทน และไม่เรียกเก็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ากผู้รับบริ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นำบริการไปใช้ในกิจการที่ไม่ต้องเสี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นำบริการ และหรือนำสินค้าไปใช้เพื่อการรับรอง หรือเพื่อการอื่นที่มีลักษณะทำนองเดียวกั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นำบริการหรือสินค้าที่มีไว้เพื่อขายไปใช้กับรถยนต์นั่ง หรือรถยนต์โดยสารที่มีที่นั่ง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การให้บริการที่ไม่นับรวมเป็นมูลค่าของฐานภาษ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ำหนดเวลาในการออกใบกำกับภาษ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 หรือผู้ที่มีสิทธิออกใบกำกับภาษีแทนผู้ประกอบการจดทะเบียน ต้องจัดทำใบกำกับภาษีแบบเต็มรูป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และสำเนาใบกำกับภาษี สำหรับการขายสินค้าหรือการให้บริการทุกครั้ง โดยต้องจัดทำทันทีที่ความรับผิดในการเสียภาษีมูลค่าเพิ่มเกิดขึ้น พร้อมทั้งส่งมอบใบกำกับภาษีนั้นให้แก่ผู้ซื้อสินค้าหรือผู้รับบริการ สำหรับสำเนาใบกำกับภาษีผู้ประกอบการจดทะเบียนต้องเก็บรักษาไว้ ณ สถานประกอบการที่ออกใบกำกับภาษี เป็นเวลาไม่น้อยกว่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วันที่ได้ยื่นแบบแสดงรายการภาษี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0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วันทำรายงานภาษีขาย แล้วแต่กรณ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"/>
          <p:cNvSpPr/>
          <p:nvPr/>
        </p:nvSpPr>
        <p:spPr>
          <a:xfrm>
            <a:off x="720720" y="628560"/>
            <a:ext cx="2949480" cy="744480"/>
          </a:xfrm>
          <a:prstGeom prst="rect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ารออกใบกำกับ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ำหรับการขาย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611280" y="1771560"/>
            <a:ext cx="3097080" cy="86544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ับชำระราคาด้วยเงินส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่อนส่งมอบ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5292720" y="1843200"/>
            <a:ext cx="2735280" cy="720720"/>
          </a:xfrm>
          <a:prstGeom prst="rect">
            <a:avLst/>
          </a:prstGeom>
          <a:solidFill>
            <a:srgbClr val="80008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ออกใบกำกับ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มื่อได้รับชำระเงินส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3708360" y="2203560"/>
            <a:ext cx="151128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2195640" y="2637000"/>
            <a:ext cx="0" cy="4316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2286000" y="2708280"/>
            <a:ext cx="3412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4253040" y="1844640"/>
            <a:ext cx="30456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2146320" y="1373040"/>
            <a:ext cx="0" cy="39852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611280" y="3068640"/>
            <a:ext cx="3097080" cy="865080"/>
          </a:xfrm>
          <a:prstGeom prst="diamond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ับชำระราคาด้วยเช็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่อนส่งมอบ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5292720" y="3139920"/>
            <a:ext cx="2735280" cy="720720"/>
          </a:xfrm>
          <a:prstGeom prst="rect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ออกใบกำกับ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ตามวันที่ลงในเช็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3708360" y="3500280"/>
            <a:ext cx="151128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2195640" y="3932280"/>
            <a:ext cx="0" cy="4316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2286000" y="4005360"/>
            <a:ext cx="341280" cy="30456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4253040" y="3141720"/>
            <a:ext cx="304560" cy="30492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611280" y="4363920"/>
            <a:ext cx="3097080" cy="865440"/>
          </a:xfrm>
          <a:prstGeom prst="diamond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่งมอบสินค้าก่อ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ได้รับชำระราค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292720" y="4435560"/>
            <a:ext cx="2735280" cy="72072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ออกใบกำกับ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มื่อส่งมอบ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3708360" y="4795920"/>
            <a:ext cx="151128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4253040" y="4437000"/>
            <a:ext cx="30456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"/>
          <p:cNvSpPr/>
          <p:nvPr/>
        </p:nvSpPr>
        <p:spPr>
          <a:xfrm>
            <a:off x="720720" y="341280"/>
            <a:ext cx="2949480" cy="744480"/>
          </a:xfrm>
          <a:prstGeom prst="rect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ารออกใบกำกับ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ำหรับการให้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611280" y="1484280"/>
            <a:ext cx="3097080" cy="865080"/>
          </a:xfrm>
          <a:prstGeom prst="diamond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กรณีให้บริการโด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ไม่มีค่า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5292720" y="1555920"/>
            <a:ext cx="2735280" cy="720720"/>
          </a:xfrm>
          <a:prstGeom prst="rect">
            <a:avLst/>
          </a:prstGeom>
          <a:solidFill>
            <a:srgbClr val="80008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ออกใบกำกับ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มื่อมีการใช้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3708360" y="1916280"/>
            <a:ext cx="151128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2195640" y="2349360"/>
            <a:ext cx="0" cy="432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2286000" y="2421000"/>
            <a:ext cx="34128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4253040" y="1557360"/>
            <a:ext cx="30456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2146320" y="1085760"/>
            <a:ext cx="0" cy="39852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611280" y="2781360"/>
            <a:ext cx="3097080" cy="865080"/>
          </a:xfrm>
          <a:prstGeom prst="diamond">
            <a:avLst/>
          </a:prstGeom>
          <a:solidFill>
            <a:srgbClr val="8000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ับชำระราค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ป็นเงินส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5292720" y="2852640"/>
            <a:ext cx="2735280" cy="720720"/>
          </a:xfrm>
          <a:prstGeom prst="rect">
            <a:avLst/>
          </a:prstGeom>
          <a:solidFill>
            <a:srgbClr val="8000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ออกใบกำกับ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มื่อได้รับชำระราค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3708360" y="3213000"/>
            <a:ext cx="151128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2195640" y="3645000"/>
            <a:ext cx="0" cy="4316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2286000" y="3718080"/>
            <a:ext cx="341280" cy="304560"/>
          </a:xfrm>
          <a:prstGeom prst="ellipse">
            <a:avLst/>
          </a:prstGeom>
          <a:solidFill>
            <a:srgbClr val="e9320d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4253040" y="2854440"/>
            <a:ext cx="304560" cy="3045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611280" y="4076640"/>
            <a:ext cx="3097080" cy="865080"/>
          </a:xfrm>
          <a:prstGeom prst="diamond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ับชำระราคาด้วยเช็คทั้งกรณ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ลงวันที่ล่วงพ้นมาแล้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และลงวันที่ล่วงหน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5292720" y="4148280"/>
            <a:ext cx="2735280" cy="72072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ออกใบกำกับ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ตามวันที่ลงในเช็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708360" y="4508640"/>
            <a:ext cx="151128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4253040" y="4149720"/>
            <a:ext cx="30456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611280" y="5372280"/>
            <a:ext cx="3097080" cy="865080"/>
          </a:xfrm>
          <a:prstGeom prst="diamond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ับชำระราคาด้วยเช็คกรณ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ลงวั้นที่ล่วงหน้าที่ออกโดยส่วนราช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หรือมีหลักฐานการส่งมอบเช็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5292720" y="5443560"/>
            <a:ext cx="2735280" cy="720720"/>
          </a:xfrm>
          <a:prstGeom prst="rect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ออกใบกำกับ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มื่อได้รับเช็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3708360" y="5803920"/>
            <a:ext cx="151128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2195640" y="4941720"/>
            <a:ext cx="0" cy="432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2286000" y="5014800"/>
            <a:ext cx="341280" cy="304920"/>
          </a:xfrm>
          <a:prstGeom prst="ellipse">
            <a:avLst/>
          </a:prstGeom>
          <a:solidFill>
            <a:srgbClr val="e9320d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4253040" y="5445000"/>
            <a:ext cx="30456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4591080" y="563400"/>
            <a:ext cx="18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ป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1/25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ัวอย่างหนังสือรับรองของผู้ส่งมอบเช็ค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95280" y="1528920"/>
            <a:ext cx="8229600" cy="3916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 ส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ทักษ์พัฒนา จำกั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วันนี้ได้ส่งมอบเช็คธนาคารกรุงไทย จำกัด เลข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123456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ง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กฎาค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xx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แก่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 ก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ทรดดิ้ง จำกั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                   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งชื่อ  กมลา  พิทักษ์พัฒน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กฎาค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แบบเต็มรูปด้านผู้ออก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ิให้นำ “ใบกำกับภาษี” มาใช้ออกสำหรับรายการการขายสินค้าหรือการให้บริการที่ได้รับยกเว้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ว้นแต่มีรายการสินค้าหรือการให้บริการที่ต้องเสี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อยู่ด้ว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อื่นใดในใบกำกับภาษีแบบเต็มรูป ควรจัดทำให้ถูกต้องสมบูรณ์ เพื่อป้องกันการขอให้ยกเลิกแล้วออกใหม่ อันจะทำให้สิ้นเปลืองทั้งเวลาและค่าใช้จ่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ไม่ออกใบกำกับภาษีสำหรับรายการการขายสินค้าหรือการให้บริการที่ได้ออกใบกำกับภาษีไปแล้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ราะถือเป็นการออกใบกำกับภาษีโดยไม่มีสิทธิที่จะออกตามกฎหม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มีความแตกต่างเนื่องจากราคาและปริมาณ ให้ออกใบเพิ่มหนี้หรือใบลดหนี้ แล้วแต่กรณ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อกใบแทนใบกำกับภาษีเป็นหน้าที่ตามกฎหมา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มีบทลงโท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แบบเต็มรูปด้านผู้ออก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พิมพ์ใบกำกับภาษีโดยกำหนดให้รายการ “ใบกำกับภาษี” “ชื่อ ที่อยู่ และเลขประจำตัวผู้เสียภาษีอากร” และ “เอกสารออกเป็นชุด” เป็นรายการที่ต้องตีพิมพ์ขึ้น เพื่อก่อให้เกิดความสะดวกในการออกใบกำกับภาษีสำหรับรายการอื่นด้วยวิธีใด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 “ชื่อ” ทั้งกรณีผู้ออกและผู้รับใบกำกับ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ระบุชื่อผู้ประกอบ หรือชื่อสถานประกอบการ หรือชื่อการค้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ย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ที่ได้จดทะเบียนภาษีมูลค่าเพิ่มไว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บางกรณีอาจย่อคำนำหน้าชื่อผู้ประกอบการได้บ้างตามสมคว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 “ที่อยู่” ทั้งกรณีผู้ออกและผู้รับใบกำกับ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ระบุชื่อตามที่ได้จดทะเบียนภาษีมูลค่าเพิ่มไว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ระบุที่อยู่ไม่ครบถ้วนตามที่จดทะเบียนภาษีมูลค่าเพิ่ม  แต่รายการที่อยู่ที่ระบุไว้ถูกต้อง และสามารถบอกตำแหน่งที่ตั้งที่ชัดเจนได้ ถือว่าระบุครบถ้วนแล้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/>
          </p:nvPr>
        </p:nvSpPr>
        <p:spPr>
          <a:xfrm>
            <a:off x="179280" y="942840"/>
            <a:ext cx="878544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สามารถใช้คำย่อแท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 ของคำสั่งกรมสรรพากรที่ 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6/254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จำกัด     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คำย่อว่า  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..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บจ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…จำกั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หาช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คำย่อว่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มจ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หุ้นส่วนจำกัด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คำย่อว่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จ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หุ้นส่วนสามัญนิติบุคคล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คำย่อว่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ส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ระบุชื่อผู้ซื้อสินค้าหรือผู้รับบริการ โดยตัวสะกด สระ การันต์ วรรณยุกต์ ผิดพลาด แต่เป็นที่เห็นได้อย่างชัดเจน ซึ่งไม่ทำให้เกิดความเข้าใจผิดว่าเป็นผู้ประกอบการรายอื่น ให้ถือว่าได้ระบุชื่อครบถ้วนแล้ว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ที่เป็นผู้ซื้อสินค้าหรือผู้รับบริการได้รับใบกำกับภาษี ที่ระบุชื่อของตนเองผิดพลาดเล็กน้อยในส่วนที่ไม่เป็นสาระสำคัญ หากพิสูจน์จากเอกสารต่างๆ แล้วเห็นได้ว่าเป็นบุคคลเดียวกันก็อนุโลมให้หักเป็นภาษีซื้อได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แบบเต็มรู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ัตถุประสงค์การวางแผนภาษี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ูลค่าเพิ่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7640" y="1483920"/>
            <a:ext cx="89154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ใช้สิทธิประโยชน์เกี่ยวกับภาษีมูลค่าเพิ่ม อาท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ประโยชน์ทางภาษีมูลค่าเพิ่มตามประมวล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ษฎ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ประโยชน์ทางภาษีมูลค่าเพิ่มตามกฎหมายอื่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ลดขั้นตอนในการปฏิบัติงานที่ไม่จำเป็น และไม่ได้มาตรฐา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เตรียมพร้อมต่อการเรียกตรวจสอบภาษีมูลค่าเพิ่มของเจ้าพนักงานประเมินสรรพ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เสริมสร้างระบบการควบคุมภายในให้มีประสิทธิภาพ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/>
          </p:nvPr>
        </p:nvSpPr>
        <p:spPr>
          <a:xfrm>
            <a:off x="179280" y="942840"/>
            <a:ext cx="878544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 ประกอบกิจการขายสินค้าบุหรี่ หรือยาสูบที่นำเข้ามาจากต่างประเทศ ซึ่งเป็นสินค้าที่มีการกำหนดราคาขายปลีก โดยคณะกรรมการกลางกำหนดราคาสินค้า และป้องกันการผูกขาดให้ออกใบกำกับภาษีเช่นเดียวกับใบกำกับภาษีโดยทั่วไป เว้นแต่ค่าภาษีมูลค่าเพิ่มให้คำนวณจากฐานราคาขายปลีกดังกล่า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สำหรับการส่งออก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5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อาจมีรายการเช่นเดียวกับใบกำกับสินค้าซึ่งผู้ส่งออกได้ออกเป็นปกติตามประเพณีทางการค้าระหว่างประเท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แบบเต็มรู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394920" y="5688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ubstitution of Tax Invoice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7416720" cy="503280"/>
          </a:xfrm>
          <a:prstGeom prst="rect">
            <a:avLst/>
          </a:prstGeom>
          <a:noFill/>
          <a:ln w="9360">
            <a:solidFill>
              <a:srgbClr val="f4f03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ompletion Tax Invoice: use to be Credit Input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3908520" y="155736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2228400" y="1916280"/>
            <a:ext cx="4077720" cy="459720"/>
          </a:xfrm>
          <a:prstGeom prst="rect">
            <a:avLst/>
          </a:prstGeom>
          <a:solidFill>
            <a:srgbClr val="66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amage, Los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3908520" y="249228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2133720" y="2830680"/>
            <a:ext cx="4252680" cy="752040"/>
          </a:xfrm>
          <a:prstGeom prst="rect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quest to Supplier to iss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bstitution of Tax Inv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468360" y="3933720"/>
            <a:ext cx="1942920" cy="1295640"/>
          </a:xfrm>
          <a:prstGeom prst="flowChartDocumen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py Ta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v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2411280" y="4365720"/>
            <a:ext cx="79236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3203640" y="4076640"/>
            <a:ext cx="1873080" cy="82548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k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hoto 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5076720" y="4365720"/>
            <a:ext cx="86364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5938920" y="4005360"/>
            <a:ext cx="3097080" cy="2140200"/>
          </a:xfrm>
          <a:prstGeom prst="rect">
            <a:avLst/>
          </a:prstGeom>
          <a:solidFill>
            <a:srgbClr val="154e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rite down the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scri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Substitution 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Ca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Signature of Issu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2986560" y="5646600"/>
            <a:ext cx="2555280" cy="52056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t front /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7308720" y="5877000"/>
            <a:ext cx="0" cy="792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 flipH="1">
            <a:off x="1187280" y="6669000"/>
            <a:ext cx="6121440" cy="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469440" y="5661000"/>
            <a:ext cx="1406160" cy="52056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t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 flipV="1">
            <a:off x="1187280" y="6165720"/>
            <a:ext cx="0" cy="5032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 flipV="1">
            <a:off x="1187280" y="5229000"/>
            <a:ext cx="0" cy="4316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 flipV="1">
            <a:off x="4140360" y="6165720"/>
            <a:ext cx="0" cy="5032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 flipV="1">
            <a:off x="4140360" y="5013000"/>
            <a:ext cx="0" cy="64764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198000" y="3405240"/>
            <a:ext cx="1486800" cy="520560"/>
          </a:xfrm>
          <a:prstGeom prst="rect">
            <a:avLst/>
          </a:prstGeom>
          <a:noFill/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f03a"/>
                </a:solidFill>
                <a:latin typeface="Arial"/>
                <a:ea typeface="Microsoft Sans Serif"/>
              </a:rPr>
              <a:t>Suppl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2124000" y="133200"/>
            <a:ext cx="4896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แทนใบกำกับภาษี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866" name=""/>
          <p:cNvGraphicFramePr/>
          <p:nvPr/>
        </p:nvGraphicFramePr>
        <p:xfrm>
          <a:off x="179280" y="866880"/>
          <a:ext cx="8785440" cy="5833800"/>
        </p:xfrm>
        <a:graphic>
          <a:graphicData uri="http://schemas.openxmlformats.org/drawingml/2006/table">
            <a:tbl>
              <a:tblPr/>
              <a:tblGrid>
                <a:gridCol w="2163960"/>
                <a:gridCol w="6621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ละเอีย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้อกฎหม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6/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ูลเหต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บกำกับภาษีชำรุดในส่วนที่เป็นสาระสำคัญ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ูญหาย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ผู้ซื้อสินค้าหรือรับบริการต้องการใบแทนฯเพื่อนำไปใช้แทนใบกำกับภาษีฉบับเดิ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ปฏิบัติด้านผู้ซื้อสินค้าหรือผู้รับบริกา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้องขอผู้ออกใบกำกับภาษีให้ออกใบแทนใบกำกับ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ได้รับใบแทนใบกำกับภาษี ให้นำมาแทนที่หรือแนบกับใบกำกับภาษีฉบับเดิม แล้วแต่กรณ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1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ปฏิบัติด้านผู้ขายสินค้าหรือผู้ให้บริ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ได้รับการร้องขอให้ออกใบแทนใบกำกับภาษี ให้นำสำเนาใบกำกับภาษีมาถ่ายเอกสา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ันทึกข้อความต่อไปนี้ไว้ที่ด้านหน้าหรือด้านหลังของใบกำกับภาษีฉบับถ่ายเอกสา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บแทนออกให้ครั้งที่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ันที่ที่ออกใบแท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ำอธิบายสั้นๆ ถึงสาเหตุที่ออกใบแทน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ลงลายมือชื่อผู้ออกใบแทน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2124000" y="133200"/>
            <a:ext cx="4896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แทนใบกำกับภาษี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868" name=""/>
          <p:cNvGraphicFramePr/>
          <p:nvPr/>
        </p:nvGraphicFramePr>
        <p:xfrm>
          <a:off x="108000" y="866880"/>
          <a:ext cx="8964720" cy="3187440"/>
        </p:xfrm>
        <a:graphic>
          <a:graphicData uri="http://schemas.openxmlformats.org/drawingml/2006/table">
            <a:tbl>
              <a:tblPr/>
              <a:tblGrid>
                <a:gridCol w="2208240"/>
                <a:gridCol w="675648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ละเอีย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1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ปฏิบัติด้านผู้ขายสินค้าหรือผู้ให้บริการ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่อ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ันทึกข้อความทั้งสี่รายการตามข้อ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ว้ที่ด้านหลังของสำเนาใบกำกับภาษ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ายเหตุ การออกใบแทนใบกำกับภาษีในรายงานภาษีขายว่า ได้ออกใบแทนใบกำกับภาษีครั้งที่เท่าใด สำหรับใบกำกับภาษีเลขที่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ล่มที่ใด ลงวันที่ใด ให้แก่ผู้ใด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งมอบใบแทนใบกำกับภาษีให้แก่ผู้ซื้อสินค้าหรือผู้รับบริการผู้ร้องขอให้ออกใบแท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528120" y="333000"/>
            <a:ext cx="814716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ancelled &amp; Reissue Tax Invoic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142560" y="1125360"/>
            <a:ext cx="889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มีข้อบัญญัติเกี่ยวกับเรื่องการยกเลิกแล้วออกใบกำกับภาษีฉบับใหม่แทนฉบับเดิม หากแต่เป็นไปตามแนวทางปฏิบัติตามคำสั่งกรมสรรพากรที่ 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25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เหตุที่ต้องมีการยกเลิกแล้วออกใบกำกับภาษีฉบับใหม่แทนฉบับเดิ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แบบเต็มรูปฉบับเดิมมีข้อความไม่ครบถ้วนสมบูรณ์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ถือเป็นภาษีซื้อต้องห้า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3(2) (Uncompleted Tax Invoic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แบบเต็มรูปฉบับเดิมมีการแก้ไขเปลี่ยนแปลงรายการ ซึ่งถือเป็นภาษีซื้อต้องห้า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3(2) (Correction Tax Invoic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การเปลี่ยนใบกำกับภาษีอย่างย่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Invoice (ABB.)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เป็นแบบเต็มรู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/>
          </p:nvPr>
        </p:nvSpPr>
        <p:spPr>
          <a:xfrm>
            <a:off x="179280" y="942840"/>
            <a:ext cx="878544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ได้รับใบกำกับภาษีที่มีข้อความไม่ถูกต้องหรือไม่สมบูรณ์ในส่วนที่เป็นสาระสำคัญตามที่กฎหมายกำหนด ถือเป็นภาษีซื้อต้องห้าม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(3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ร้องขอให้ผู้ประกอบการจดทะเบียนที่จัดทำใบกำกับภาษียกเลิกใบกำกับภาษีฉบับเดิมและจัดทำใบกำกับภาษีฉบับใหม่ที่ถูกต้อ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เจ้าพนักงานประเมินตรวจสอบพบว่า  ผู้ประกอบการจดทะเบียนได้นำใบกำกับภาษีต้องห้า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ปถือเป็นภาษีซื้อแล้ว  ถ้าเจ้าพนักงานประเมินพิจารณาเห็นว่ามีเหตุอันสมควรให้ยกเลิกใบกำกับภาษีฉบับเดิม และนำใบกำกับภาษีฉบับใหม่ที่ถูกต้องมาให้ตรวจสอบภายในระยะเวลาที่กำหน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เกิ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มีสิทธินำใบกำกับภาษีฉบับใหม่ที่ถูกต้องไปถือเป็นภาษีซื้อในการคำนวณภาษีมูลค่าเพิ่มได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คำสั่งกรมสรรพากรที่ 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254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647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กเลิกแล้วออกใบกำกับภาษีฉบับใหม่แทนฉบับเดิม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179280" y="133200"/>
            <a:ext cx="8785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กเลิกแล้วออกใบกำกับภาษีฉบับใหม่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874" name=""/>
          <p:cNvGraphicFramePr/>
          <p:nvPr/>
        </p:nvGraphicFramePr>
        <p:xfrm>
          <a:off x="108000" y="866880"/>
          <a:ext cx="8964720" cy="5327640"/>
        </p:xfrm>
        <a:graphic>
          <a:graphicData uri="http://schemas.openxmlformats.org/drawingml/2006/table">
            <a:tbl>
              <a:tblPr/>
              <a:tblGrid>
                <a:gridCol w="2208240"/>
                <a:gridCol w="675648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ละเอีย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้อกฎหม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มีบทบัญญัติของกฎหมาย หากแต่เป็นแนวทางปฏิบัติตามคำสั่งกรมสรรพากรที่ ป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6/25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ูลเหต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บกำกับภาษีแบบเต็มรูปฉบับเดิมมีข้อความไม่ครบถ้วนสมบูรณ์ตาม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6/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บกำกับภาษีแบบเต็มรูปฉบับเดิมมีการเปลี่ยนแปลงแก้ไขรายกา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การเปลี่ยนใบกำกับภาษีอย่างย่อให้เป็นแบบเต็มรู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ปฏิบัติด้านผู้ซื้อสินค้าหรือผู้รับบริกา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้องขอผู้ออกใบกำกับภาษีให้ยกเลิกแล้วออกใบกำกับภาษีฉบับใหม่แทนฉบับเดิ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ำใบกำกับภาษีฉบับที่ต้องการให้มีการยกเลิกมาถ่ายเอกสารแล้วส่งต้นฉบับคืนให้แก่ผู้ออ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ได้รับใบกำกับภาษีฉบับใหม่ที่ถูกต้อง ให้นำมาแทนที่ โดยแนบกับสำเนาใบกำกับภาษีฉบับเดิ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5" name=""/>
          <p:cNvGraphicFramePr/>
          <p:nvPr/>
        </p:nvGraphicFramePr>
        <p:xfrm>
          <a:off x="108000" y="866880"/>
          <a:ext cx="8964720" cy="5786280"/>
        </p:xfrm>
        <a:graphic>
          <a:graphicData uri="http://schemas.openxmlformats.org/drawingml/2006/table">
            <a:tbl>
              <a:tblPr/>
              <a:tblGrid>
                <a:gridCol w="2208240"/>
                <a:gridCol w="675648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ละเอีย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2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ปฏิบัติด้านผู้ขายสินค้าหรือผู้ให้บริการ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่อ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ถูกร้องขอให้ยกเลิกแล้วออกใบกำกับภาษีฉบับใหม่แทนฉบับเดิม ให้เรียกคืนใบกำกับภาษีฉบับเดิ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กเลิกใบกำกับภาษีเฉพาะในส่วนที่เป็นต้นฉบับที่มีความประสงค์จะออกฉบับใหม่แทนฉบับเดิมเท่านั้น แล้วนำไปเก็บรวมไว้กับสำเนาใบกำกับภาษีฉบับเดิมนั้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อกใบกำกับภาษีฉบับใหม่ที่ถูกต้องโดยมีรายการที่แก้ไขเพิ่มเติมใหม่ดังนี้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ใหม่ที่ถูกแก้ไขเพิ่มเติมให้ถูกต้องสมบูรณ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ลขที่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ล่มที่ใหม่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ต่วัน เดือน ปี เดิม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้อความ “เป็นการยกเลิกและออกใบกำกับภาษีฉบับใหม่แทนฉบับ เดิมเลขที่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.. </a:t>
                      </a:r>
                      <a:r>
                        <a:rPr b="0" lang="th-TH" sz="20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ล่มที่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.."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ายเหตุการยกเลิกแล้วออกใบกำกับภาษีฯ ในรายงานภาษีขายว่า ได้ยกเลิกใบกำกับภาษีเลขที่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ล่มที่ใด ลงวันที่ใด แล้วออกฉบับใหม่เลขที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ล่มที่ใด ให้แก่ผู้ใด ไปเมื่อใด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งมอบใบกำกับภาษีที่ถูกต้องให้แก่ผู้ซื้อสินค้าหรือผู้รับบริการผู้ร้องขอ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179280" y="133200"/>
            <a:ext cx="8785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กเลิกแล้วออกใบกำกับภาษีฉบับใหม่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/>
          </p:nvPr>
        </p:nvSpPr>
        <p:spPr>
          <a:xfrm>
            <a:off x="179280" y="942840"/>
            <a:ext cx="878544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สำหรับผู้ประกอบการจดทะเบียนที่ประกอบกิจการขายสินค้าในลักษณะขายปลีก หรือให้บริการในลักษณะบริการรายย่อยแก่บุคคลจำนวนมา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ารขายสินค้าที่ผู้ขายทราบโดยชัดแจ้งว่า เป็นการขายให้แก่ผู้บริโภคโดยตรงและได้ขายในปริมาณซึ่งตามปกติวิสัยของผู้บริโภคนั้นจะนำสินค้าไปบริโภคหรือใช้สอยโดยมิได้มีวัตถุประสงค์ที่จะนำไปขายต่อไ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ในลักษณะบริการรายย่อยแก่บุคคลจำนวนมาก เช่น การให้บริการของกิจการภัตตาคาร กิจการโรงแรม กิจการซ่อมแซมทุกชนิด กิจการโรงภาพยนตร์ กิจการสถานบริการน้ำมัน เป็นต้น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ภัตตาคาร ได้แก่ กิจการขายอาหารหรือเครื่องดื่มไม่ว่าชนิดใดๆ รวมทั้งกิจการรับจ้างปรุงอาหารหรือเครื่องดื่ม  ทั้งนี้  ไม่ว่าในหรือจากสถานที่ ซึ่งจัดไว้ให้ประชาชนเข้าไปบริโภคได้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อย่างย่อ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/>
          </p:nvPr>
        </p:nvSpPr>
        <p:spPr>
          <a:xfrm>
            <a:off x="179280" y="942840"/>
            <a:ext cx="878544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อย่างย่อ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ไปถือเป็นรายจ่ายในการคำนวณกำไรหรือขาดทุนสุทธิเพื่อการเสียภาษีเงินได้นิติบุคคล ตาม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ากผู้ซื้อสินค้าหรือผู้รับบริการเรียกร้องใบกำกับภาษีแบบเต็มรูปแทนใบกำกับภาษีอย่างย่อ ผู้ประกอบการจดทะเบียนที่เป็นผู้ขายสินค้าหรือผู้ให้บริการมีหน้าที่ต้องออกให้โดยทันท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อธิบดีฯ เกี่ยวกับภาษีมูลค่าเพิ่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2)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อกใบกำกับภาษีอย่างย่อ ไม่ว่าจะออกโดยการเขียนด้วยหมึก หรือจัดทำขึ้นด้วยระบบคอมพิวเตอร์ หรือพิมพ์ดีด หรือกระทำให้ปรากฏด้วยวิธีการอื่นในลักษณะทำนองเดียวกันก็ได้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ต้องได้รับอนุมัติจากอธิบดีกรมสรรพากรแต่อย่างใ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อย่างย่อ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762120" y="1295280"/>
            <a:ext cx="7696080" cy="5105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59280" y="3860640"/>
            <a:ext cx="3809880" cy="289584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VAT Eva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Illegal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;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Penalty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Surcharge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F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&amp;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Imp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295280" y="3733920"/>
            <a:ext cx="3353040" cy="2133360"/>
          </a:xfrm>
          <a:prstGeom prst="ellipse">
            <a:avLst/>
          </a:prstGeom>
          <a:solidFill>
            <a:srgbClr val="5ef31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VAT Avo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Looph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2057400"/>
            <a:ext cx="5029200" cy="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500720" y="2057400"/>
            <a:ext cx="0" cy="1905120"/>
          </a:xfrm>
          <a:prstGeom prst="line">
            <a:avLst/>
          </a:prstGeom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11560" y="115920"/>
            <a:ext cx="769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Planning, VAT Avoidance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&amp; Tax Eva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46640" y="1395360"/>
            <a:ext cx="769716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                  </a:t>
            </a:r>
            <a:r>
              <a:rPr b="1" lang="en-US" sz="32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VAT Planning</a:t>
            </a:r>
            <a:r>
              <a:rPr b="1" i="1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               </a:t>
            </a:r>
            <a:r>
              <a:rPr b="1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Accuracy   VAT Condi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           </a:t>
            </a:r>
            <a:r>
              <a:rPr b="1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Completion     – Evidences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    </a:t>
            </a:r>
            <a:r>
              <a:rPr b="1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Economy/ Save     - Reasonable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51920" y="119700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r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1ED-2CF4-4684-B32A-71138A85478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อย่างย่อ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ผู้ประกอบการจดทะเบียนซึ่งขายสินค้าหรือให้บริการต่อเนื่องตลอ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ไม่มีกำหนดระยะเวลาสิ้นวันทำการที่ชัดเจน  เช่น  การขายสินค้าของร้านค้าสะดวกซื้อตลอ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ได้รับอนุมัติให้ออกใบกำกับภาษีอย่างย่อโดยเครื่องบันทึกการเก็บเงิน โดยทั่วไปผู้ประกอบการจดทะเบียนต้องถือเวล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.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เวลาสิ้นวันทำการเพื่อการออกใบกำกับภาษีและการจัดทำรายงานต่างๆ ในระบบภาษีมูลค่าเพิ่ม อย่างไรก็ตาม ผู้ประกอบการจดทะเบียนจดทะเบียนจะถือช่วงเวลาใดระหว่า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.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นถึ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ช่วงเวลาสิ้นวันทำการก็ได้ และหากได้เลือกปฏิบัติเป็นอย่างใดแล้ว ให้ถือปฏิบัติเป็นอย่างเดียวกันตลอดไป เว้นแต่จะได้รับอนุมัติจากอธิบดีกรมสรรพากรให้เปลี่ยนแปลงได้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สั่งกรมสรรพากรที่ ป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5/253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ตั้งแต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35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เหตุที่กำหนดให้ออกใบเพิ่มหนี้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เพิ่มราคาสินค้าที่ขาย เนื่องจากสินค้าเกินกว่าจำนวนที่ตกลงซื้อขายกั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คำนวณราคาสินค้าผิดพลาดต่ำกว่าที่เป็นจริ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เพิ่มราคาสินค้า เนื่องจากเหตุอื่นตามที่อธิบดีกรมสรรพากรกำหน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เพิ่มราคาค่าบริการเนื่องจากให้บริการเกินกว่าข้อกำหนเดที่ตกลงกั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คำนวณราคาค่าบริการผิดพลาดต่ำกว่าความเป็นจริ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เพิ่มราคาค่าบริการ เนื่องจากเหตุอื่นตามที่อธิบดีกรมสรรพากรกำหน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เพิ่มหนี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เหตุที่กำหนดให้ออกใบลดหนี้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ลดราคาสินค้าที่ขายเนื่องจากสินค้าผิดข้อกำหนดที่ตกลงกัน สินค้าชำรุดเสียหาย หรือขาดจำนวน คำนวณราคาสินค้าผิดพลาดสูงกว่าที่เป็นจริงหรือเนื่องจากเหตุอื่นตามที่อธิบดีกรมสรรพากรกำหน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ลดราคาค่าบริการเนื่องจากให้บริการผิดข้อกำหนดที่ตกลงกัน บริการขาดจำนวน คำนวณราคาค่าบริการผิดพลาดสูงกว่าที่เป็นจริง หรือเนื่องจากเหตุอื่นตามที่อธิบดีกรมสรรพากรกำหน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สินค้าที่ขายกลับคืนมาเนื่องจากสินค้าชำรุดบกพร่อง ไม่ตรงตามตัวอย่าง ไม่ตรงตามคำพรรณนา หรือเนื่องจากเหตุอื่นตามที่อธิบดีกรมสรรพากรกำหน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มีหน้าที่ต้องจ่ายเงินชดเชยหรือเงินอื่นในลักษณะทำนองเดียวกันให้แก่ผู้ซื้อสินค้าหรือผู้รับบริการตามข้อผูกพันในกฎหม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ลดหนี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เหตุที่กำหนดให้ออกใบลดหนี้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ได้มีการจ่ายคืนเงินจ่ายล่วงหน้าเงินประกัน เงินมัดจำ เงินจอง หรือเงินอื่นที่เรียกเก็บในลักษณะทำนองเดียวกันให้แก่ผู้ซื้อสินค้าหรือผู้รับบริการตามข้อตกลงทางการค้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คืนสินค้าหรือแลกเปลี่ยนสินค้าตามข้อตกลงทางการค้าระหว่างผู้ประกอบการจดทะเบียนด้วยกั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คืนสินค้าหรือแลกเปลี่ยนสินค้าตามข้อตกลงทางการค้าระหว่างผู้ประกอบการจดทะเบียนและผู้ซื้อสินค้า ทั้งนี้ เฉพาะที่กระทำภายในเวลาอันสมคว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บอกเลิกสัญญาบริการเนื่องจากการให้บริการบกพร่องหรือให้บริการผิดข้อกำหนดที่ตกลงกั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บอกเลิกสัญญาบริการเนื่องจากไม่มีการให้บริการตามสัญญ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ลดหนี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เพิ่มหนี้และใบลดหนี้ต้องมีรายการต่อไปนี้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ว่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เพิ่มหนี้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ลดหนี้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ที่ที่เห็นได้เด่นชั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 ที่อยู่ และเลขประจำตัวผู้เสียภาษีอากรของผู้ประกอบการจดทะเบียนที่ออกใบเพิ่มหนี้หรือใบลดหนี้ และในกรณีที่ตัวแทนเป็นผู้ออกใบเพิ่มหนี้หรือใบลดหนี้ในนามของผู้ประกอบการจดทะเบียนให้ระบุชื่อ ที่อยู่ และเลขประจำตัวผู้เสียภาษีอากรของตัวแทนนั้นด้ว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 ที่อยู่ ของผู้ซื้อสินค้าหรือผู้รับบริ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เดือน ปี ที่ออกใบเพิ่มหนี้หรือใบลด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เลขลำดับของใบกำกับภาษีเดิม รวมทั้งหมายเลขลำดับของเล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ม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รวมทั้งหมดของสินค้าหรือบริการที่แสดงไว้ในใบกำกับภาษีดังกล่าว มูลค่ารวมทั้งหมดที่ถูกต้องของสินค้าหรือบริการ ผลต่างของจำนวนมูลค่ารวมทั้งหมดทั้งสองและจำนวนภาษีมูลค่าเพิ่มที่เรียกเก็บเพิ่มสำหรับส่วนต่างนั้นในกรณีของใบเพิ่มหนี้ และจำนวนภาษีมูลค่า เพิ่มที่ใช้คืนสำหรับส่วนต่างนั้นในกรณีของใบลด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อธิบายสั้นๆ ถึงสาเหตุในการออกใบเพิ่มหนี้หรือใบลด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ูปแบบใบเพิ่มหนี้และใบลดหนี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เพิ่มหนี้และใบลดห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ะจัดทำขึ้นด้วยระบบคอมพิวเตอร์ ประทับด้วยตรายาง เขียนด้วยหมึก พิมพ์ดีด หรือทำให้ปรากฏขึ้นด้วยวิธีการอื่นใดในลักษณะทำนองเดียวกันก็ได้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เหตุในการออกใบเพิ่มหนี้หรือใบลดหนี้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แสดงเฉพาะสาเหตุและรายการสินค้าหรือบริการที่คลาดเคลื่อนเท่านั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มารถออกใบเพิ่มหนี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 หรือใบลดหนี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 โดยอ้างถึงใบกำกับภาษีเดิมมากกว่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ก็ได้ และรายการหมายเลขลำดับของใบกำกับภาษีเดิม รวมทั้งหมายเลขลำดับของเล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ม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รวมทั้งหมดของสินค้าหรือบริการ หรือ คำอธิบายสั้นๆ ถึงสาเหตุในการออกใบเพิ่มหนี้หรือใบลดหนี้ สามารถใช้เอกสารแนบใบเพิ่มหนี้หรือใบลดหนี้อ้างถึงใบกำกับภาษีเป็นรายใบกำกับภาษีก็ได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949560"/>
                <a:tab algn="l" pos="5295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ูปแบบใบเพิ่มหนี้และใบลดหนี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893" name=""/>
          <p:cNvCxnSpPr/>
          <p:nvPr/>
        </p:nvCxnSpPr>
        <p:spPr>
          <a:xfrm flipH="1">
            <a:off x="5903280" y="5300280"/>
            <a:ext cx="37080" cy="36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894" name=""/>
          <p:cNvSpPr/>
          <p:nvPr/>
        </p:nvSpPr>
        <p:spPr>
          <a:xfrm>
            <a:off x="0" y="2249640"/>
            <a:ext cx="914400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ปลอ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รือออกโดยไม่ชอบด้วยกฎหมา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895" name=""/>
          <p:cNvCxnSpPr/>
          <p:nvPr/>
        </p:nvCxnSpPr>
        <p:spPr>
          <a:xfrm flipH="1">
            <a:off x="5830200" y="5516280"/>
            <a:ext cx="37080" cy="36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896" name=""/>
          <p:cNvSpPr/>
          <p:nvPr/>
        </p:nvSpPr>
        <p:spPr>
          <a:xfrm>
            <a:off x="34920" y="404640"/>
            <a:ext cx="90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ออกใบกำกับภาษีที่ไม่ชอบด้วยกฎหมา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216000" y="1528920"/>
            <a:ext cx="89643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ลอมใบกำกับภาษีของผู้ประกอบการที่ค้าขายปกต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216000" y="2079720"/>
            <a:ext cx="8964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ที่มีการขายจริง แต่ขายใบกำกับภาษีที่เหลื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216000" y="2881440"/>
            <a:ext cx="8964360" cy="7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ดทะเบียนจัดตั้งบริษัท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หุ้นส่วนนิติบุคคล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ออกใบกำกับภาษีขายให้ผู้ใช้ทั่ว ๆ 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216000" y="3932280"/>
            <a:ext cx="896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ตั้งบริษัท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หุ้นส่วนนิติบุคคล เพื่อออกใบกำกับ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บริษัทในเครือโดย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01" name=""/>
          <p:cNvCxnSpPr/>
          <p:nvPr/>
        </p:nvCxnSpPr>
        <p:spPr>
          <a:xfrm flipH="1">
            <a:off x="5903280" y="5300280"/>
            <a:ext cx="37080" cy="36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902" name=""/>
          <p:cNvSpPr/>
          <p:nvPr/>
        </p:nvSpPr>
        <p:spPr>
          <a:xfrm>
            <a:off x="181080" y="30636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ประกอบการจะตรวจสอบได้อย่างไร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250920" y="1341360"/>
            <a:ext cx="846144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งเกตจากความน่าเชื่อถือของผู้ประกอบการที่เป็นคู่ค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250920" y="3716280"/>
            <a:ext cx="84614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ลือเป็นหนอ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ุจริตภายในองค์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250920" y="2060640"/>
            <a:ext cx="8569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งเกตจากประเภทธุรกิจที่มีความเสี่ยงต่อใบกำกับภาษีปลอ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250920" y="2708280"/>
            <a:ext cx="856908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ู่สัญญาขอให้แยกค่าบริการกับค่าสินค้าต่างหากจากกัน โดยขอนำใบกำกับภาษีค่าสินค้าจากผู้ขายมาให้โดยตร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250920" y="4437000"/>
            <a:ext cx="84614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ดีราคาถู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มีจริ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08" name=""/>
          <p:cNvCxnSpPr/>
          <p:nvPr/>
        </p:nvCxnSpPr>
        <p:spPr>
          <a:xfrm flipH="1">
            <a:off x="5903280" y="5300280"/>
            <a:ext cx="37080" cy="36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909" name=""/>
          <p:cNvSpPr/>
          <p:nvPr/>
        </p:nvSpPr>
        <p:spPr>
          <a:xfrm>
            <a:off x="181080" y="201600"/>
            <a:ext cx="87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้อสังเกตในการตรวจใบกำกับภาษ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ี่อาจจะออกโดยไม่ชอบด้วยกฎหมา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431640" y="1628640"/>
            <a:ext cx="58690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ภทสินค้าที่มีความเสี่ยงสู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971640" y="1989000"/>
            <a:ext cx="5616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สดุก่อสร้า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971640" y="2368440"/>
            <a:ext cx="5616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้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ลาสติ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971640" y="2781360"/>
            <a:ext cx="5616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ดา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431640" y="4149720"/>
            <a:ext cx="89647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ที่ซื้อไม่เกี่ยวข้องกับการประกอบกิจ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431640" y="4875120"/>
            <a:ext cx="8964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ื้อจากสถานที่ที่ไม่น่าจะซื้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431640" y="5373720"/>
            <a:ext cx="853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มูลค่าสู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คาสินค้าหรือบริการไม่น่าเชื่อถือ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ียนด้วยลายมือ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่ายชำระค่าสินค้าเป็นเงินส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971640" y="3160800"/>
            <a:ext cx="5616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คมีภัณฑ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971640" y="3573360"/>
            <a:ext cx="5616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ชร พลอ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324000" y="1398960"/>
            <a:ext cx="8604000" cy="39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623880" indent="-528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หลีกเลี่ยงภาษีอากร</a:t>
            </a:r>
            <a:r>
              <a:rPr b="1" lang="en-US" sz="2800" spc="-1" strike="noStrike">
                <a:solidFill>
                  <a:srgbClr val="ffcc66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ือ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จตนาหรือจงใจหลีกเลี่ยงภาษีอากรหรือหนี้ภาษีอากรโดยทุจริต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ิดกฎหม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ท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3880" indent="-5284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ตนาแจ้งข้อความเท็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ารยื่นแบบแสดงรายการเพื่อเสีย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ให้ถ้อยคำหรือตอบคำถามด้วยถ้อยคำอันเป็นเท็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นำพยานหลัก ฐานเท็จไปแสดงต่อเจ้าพนักงา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หลีกเลี่ยงการเสียภาษีอากรหรือโดยความเท็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ฉ้อโกงหรืออุบายหรือโดยวิธีอื่นใดทำนองเดียวกั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ีกเลี่ย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พยายามหลีกเลี่ยง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960640" y="471600"/>
            <a:ext cx="314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Eva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41F4-B8A2-4301-96B1-46D63EC3E59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19" name=""/>
          <p:cNvCxnSpPr/>
          <p:nvPr/>
        </p:nvCxnSpPr>
        <p:spPr>
          <a:xfrm flipH="1">
            <a:off x="5903280" y="5300280"/>
            <a:ext cx="37080" cy="36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920" name=""/>
          <p:cNvSpPr/>
          <p:nvPr/>
        </p:nvSpPr>
        <p:spPr>
          <a:xfrm>
            <a:off x="179280" y="16351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ื้อจากผู้ประกอบการรายเดียว ในวันที่ติดๆ กัน หรือใกล้กั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144360" y="2421000"/>
            <a:ext cx="89647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ซื้อที่มีการนำมาใช้ในช่วงปลายเดือน ปลายป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44360" y="2924280"/>
            <a:ext cx="89647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ภาษีไม่พิมพ์ “เล่มที่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144360" y="3573360"/>
            <a:ext cx="853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ฟอร์มใบกำกับภาษีคล้ายกัน หรือลายมือที่เขียนคล้ายกัน แต่ชื่อผู้ออกใบกำกับภาษีต่างกั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144360" y="4653000"/>
            <a:ext cx="89647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ซื้อสินค้า ไม่ได้ซื้อจา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pplier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ตรง แต่ซื้อจากเซลล์ หรือพนักงานขายสินค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81080" y="195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้อสังเกตในการตรวจใบกำกับภาษ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ี่อาจจะออกโดยไม่ชอบด้วยกฎหมาย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่อ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26" name=""/>
          <p:cNvCxnSpPr/>
          <p:nvPr/>
        </p:nvCxnSpPr>
        <p:spPr>
          <a:xfrm flipH="1">
            <a:off x="5903280" y="5519520"/>
            <a:ext cx="37080" cy="36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927" name=""/>
          <p:cNvSpPr/>
          <p:nvPr/>
        </p:nvSpPr>
        <p:spPr>
          <a:xfrm>
            <a:off x="179280" y="279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าข้อเท็จจริงว่าปลอมหรือไม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179280" y="10555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จารณาการยื่นแบบ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ผู้ออ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179280" y="16318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จารณาสถานประกอบการผู้ออ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179280" y="2225520"/>
            <a:ext cx="914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จารณารายงานสินค้าและวัตถุดิ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บันทึกรับสินค้าหรือไม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>
            <a:off x="179280" y="28749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จารณาหลักฐานใบส่งสินค้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กำกับสินค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179280" y="35226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จารณาขั้นตอนวิธีซื้อสินค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682560" y="4079880"/>
            <a:ext cx="87854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ติดต่อซื้อสินค้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ปซื้อที่ร้า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พนักงานขา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ซลล์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ิดต่อ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ทรศัพท์สั่งซื้อ ฯลฯ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682560" y="494352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ที่ติดต่อเป็นใค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682560" y="544824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มอบสินค้าด้วยวิธีใ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682560" y="600552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ชำระเงินค่าสินค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37" name=""/>
          <p:cNvCxnSpPr/>
          <p:nvPr/>
        </p:nvCxnSpPr>
        <p:spPr>
          <a:xfrm flipH="1">
            <a:off x="5903280" y="5300280"/>
            <a:ext cx="37080" cy="36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938" name=""/>
          <p:cNvSpPr/>
          <p:nvPr/>
        </p:nvSpPr>
        <p:spPr>
          <a:xfrm>
            <a:off x="181080" y="0"/>
            <a:ext cx="85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าข้อเท็จจริงว่าปลอมหรือไม่ 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่อ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08000" y="7650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วจหลักฐานการจ่ายเง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539640" y="1413000"/>
            <a:ext cx="46087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่ายเป็นเช็ค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/C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ayee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539640" y="2349360"/>
            <a:ext cx="853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่ายเช็คเงินส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็คกลับเข้าบัญชีบริษัทเอง หรือเข้าบัญชีกรรมการ หรือไม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รับเงินตามเช็คเป็นใค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539640" y="3860640"/>
            <a:ext cx="691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่ายเงินส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ื้อจากรายอื่นๆ จ่ายชำระเป็นเงินสดหรือไม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สินค้าสูงไม่น่าจะจ่ายเงินส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ash 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144360" y="60739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จารณาผู้ทำบัญชี  สำนักงานบัญช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5219640" y="1444680"/>
            <a:ext cx="432108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็คกลับเข้าบัญชีกรรมการหรือไม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5003640" y="1700280"/>
            <a:ext cx="28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"/>
          <p:cNvSpPr/>
          <p:nvPr/>
        </p:nvSpPr>
        <p:spPr>
          <a:xfrm>
            <a:off x="181080" y="5112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สอบยันผู้ออกใบกำกับภาษ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179280" y="14144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สถานประกอบ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179280" y="19447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การยื่นแบบ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179280" y="2565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รายงานภาษีข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179280" y="3213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รายงานสินค้า และวัตถุดิ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179280" y="38624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ส่งมอบสินค้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นส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79280" y="44686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ฐานการรับชำระค่าสินค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5437080" y="3995640"/>
            <a:ext cx="34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รียบเทียบกับการข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รายอื่น ๆ ทั่วไปด้ว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5219640" y="4006800"/>
            <a:ext cx="73080" cy="934920"/>
          </a:xfrm>
          <a:custGeom>
            <a:avLst/>
            <a:gdLst>
              <a:gd name="textAreaLeft" fmla="*/ 0 w 73080"/>
              <a:gd name="textAreaRight" fmla="*/ 26280 w 7308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งานในระบบภาษีมูลค่าเพิ่ม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 Book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งานภาษีขา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utput Book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งานภาษีซื้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put Book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งานสินค้าและวัตถุดิบ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tock Book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ทั่วไปใช้ระบ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erpetual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นทึกการเคลื่อนไหวของสินค้าทุกราย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ละเอียดสินค้าคงเหลือ ณ วัน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ิถุนายน แ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ันวาคม สำหรับผู้ประกอบการจดทะเบียนที่มีหน้าที่เสียภาษีเงินได้บุคคลธรรมดา เป็นแบ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eriodic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วจนับสินค้าคงเหลือเพียง ณ วันใดวันหนึ่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งานในระบบภาษีมูลค่าเพิ่ม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533520" y="981000"/>
            <a:ext cx="3809880" cy="520560"/>
          </a:xfrm>
          <a:prstGeom prst="rect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ผู้ประกอบการ </a:t>
            </a:r>
            <a:r>
              <a:rPr b="1" lang="en-US" sz="28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2432160" y="1504800"/>
            <a:ext cx="0" cy="28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 flipV="1">
            <a:off x="4248000" y="2297160"/>
            <a:ext cx="77184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4114800" y="3736800"/>
            <a:ext cx="905040" cy="1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627120" y="1792440"/>
            <a:ext cx="3639960" cy="1008000"/>
          </a:xfrm>
          <a:prstGeom prst="diamond">
            <a:avLst/>
          </a:prstGeom>
          <a:solidFill>
            <a:srgbClr val="0000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ผู้ประกอบการจดทะเบีย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ไม่ว่าประกอบกิจการใด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>
            <a:off x="2417760" y="2800440"/>
            <a:ext cx="0" cy="504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633240" y="3305160"/>
            <a:ext cx="3573720" cy="863640"/>
          </a:xfrm>
          <a:prstGeom prst="diamond">
            <a:avLst/>
          </a:prstGeom>
          <a:solidFill>
            <a:srgbClr val="0000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ประกอบกิจการขายสิน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5019840" y="1892160"/>
            <a:ext cx="3819240" cy="75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- 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รายงานภาษีข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- 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รายงานภาษีซื้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5029200" y="3400560"/>
            <a:ext cx="3733920" cy="4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- 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รายงานสินค้าและวัตถุดิบ</a:t>
            </a: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>
            <a:off x="380880" y="5589720"/>
            <a:ext cx="85345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* 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กรณีเป็นผู้ประกอบการจดทะเบียนที่มีหน้าที่เสียภาษีเงินได้บุคคลธรรมดาให้จัดทำรายละเอียดสินค้าคงเหลือ ณ วันที่ </a:t>
            </a: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30 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มิ</a:t>
            </a: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.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ย</a:t>
            </a: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. 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และ </a:t>
            </a: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31 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ธ</a:t>
            </a: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.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ค</a:t>
            </a: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. 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แท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4210200" y="173664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4205160" y="330516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2472480" y="278136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5775840" y="265104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ทำ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2411280" y="4168800"/>
            <a:ext cx="0" cy="504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2466000" y="414972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536400" y="4653000"/>
            <a:ext cx="3819600" cy="97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ประกอบกิจการให้บริการไม่ต้องจัดทำรายงานสินค้าและวัตถุดิ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5148360" y="3822840"/>
            <a:ext cx="3733560" cy="14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- 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รายงานจ่ายอะไหล่โดยไม่คิ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800"/>
                </a:solidFill>
                <a:latin typeface="Microsoft Sans Serif"/>
                <a:ea typeface="Microsoft Sans Serif"/>
              </a:rPr>
              <a:t>   </a:t>
            </a:r>
            <a:r>
              <a:rPr b="1" lang="hi-IN" sz="2400" spc="-1" strike="noStrike">
                <a:solidFill>
                  <a:srgbClr val="fef800"/>
                </a:solidFill>
                <a:latin typeface="Microsoft Sans Serif"/>
                <a:cs typeface="Microsoft Sans Serif"/>
              </a:rPr>
              <a:t>มูลค่าสำหรับสินค้าที่มีประกั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ลงรายการในรายงานภาษีขาย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179280" y="1184040"/>
            <a:ext cx="8785440" cy="54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ลงรายการสำหรับใบกำกับภาษีแบบเต็มรู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ลงรายการตามมูลค่าสินค้าหรือบริการและจำนวนภาษีมูลค่าเพิ่มที่ได้รับหรือพึงได้รับซึ่งเกิดจากใบกำกับภาษี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ใบกำกับ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พาะที่มีลักษณะเป็นใบกำกับภาษีแบบเต็มรูป เป็นรายใบกำกับภาษ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ที่มีการจัดทำใบกำกับภาษีที่มีลักษณะเป็นใบกำกับภาษีแบบเต็มรูป ในแต่วันตั้งแต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ขึ้นไป ของแต่ละสถานประกอบการ และได้จัดให้มีรายงานสรุปการขายประจำวัน ผู้ประกอบการจดทะเบียนดังกล่าวจะลงรายการเฉพาะมูลค่าสินค้า หรือบริการและจำนวนภาษีมูลค่าเพิ่มทั้งหมดต่อวันที่ได้รับหรือพึงได้รับตามรายงานสรุปการขายประจำวัน โดยไม่ต้องลงเป็นรายใบกำกับภาษีก็ได้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ลงรายการในรายงานภาษีขาย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ลงรายการสำหรับใบกำกับภาษีแบบเต็มรูป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 ต้องจัดทำรายงานสรุปการขายประจำวัน โดยมีรายการและข้อความอย่างน้อยดังต่อไปนี้ และสามารถจัดทำแยกออกเป็นแต่ละแผนกของสินค้าหรือบริการ หรือแยกเป็นแต่ละประเภท ชนิด ขนาด หรือในลักษณะทำนองเดียวกันของสินค้าหรือบริการก็ได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เดือน ป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ขที่ใบกำกับภาษี เล่ม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ครื่อง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ม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ผู้ซื้อสินค้าหรือผู้รับบริ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สินค้าหรือบริการ และจำนวนภาษีมูลค่าเพิ่มที่คำนวณจากมูลค่าสินค้าหรือบริการ โดยให้แยกออกจากมูลค่าสินค้าและหรือบริการให้ชัดแจ้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มีคามประสงค์จัดทำรายงานสรุปการขายประจำวัน โดยมีรายการและข้อความแตกต่างจากที่กำหนดไว้ดังกล่าว  ให้กระทำได้เมื่อได้รับอนุมัติจากอธิบดีกรมสรรพา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ลงรายการในรายงานภาษีขาย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6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ลงรายการสำหรับใบกำกับภาษีอย่างย่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016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ลงรายการเฉพาะมูลค่าสินค้าหรือบริการและจำนวนภาษีมูลค่าเพิ่มทั้งหมดต่อวันที่ได้รับหรือพึงได้รับ ซึ่งเกิดจากใบกำกับภาษีอย่างย่อ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ใบกำกับภาษี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ไม่มีลักษณะเป็นใบกำกับภาษีแบบเต็มรูปนั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016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งรายการภายในสามวันทำการนับแต่วันที่ระบุไว้ในใบกำกับภาษีอย่างย่อตามหลักเกณฑ์ วิธีการ และเงื่อนไขต่อไปนี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ต้องระบุชื่อผู้ซื้อสินค้าหรือผู้รับบริการ และรายการสินค้าหรือบริการ และต้องแยกจำนวนภาษีมูลค่าเพิ่มสินค้าหรือบริการ โดยต้องสัมพันธ์กับมูลค่าสินค้าหรือบริ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จัดทำใบกำกับภาษีอย่างย่อเป็นเล่ม ให้ลงรายการมูลค่าสินค้าหรือบริการที่เป็นยอดรวมแต่ละยอดตามใบกำกับอย่างย่อ โดยระบุว่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่มที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…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ขที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…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เลขที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…”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จัดทำใบกำกับภาษีอย่างย่อโดยไม่ได้ออกเป็นเล่ม ให้ลงรายการมูลค่าสินค้าหรือบริการเป็นยอดรวมแต่ละยอดตามใบกำกับภาษีอย่างย่อ โดยระบุว่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ขที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…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เลขที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…”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ลงรายการในรายงานภาษีขาย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108000" y="1054080"/>
            <a:ext cx="8964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4160" indent="-254160">
              <a:lnSpc>
                <a:spcPct val="6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ลงรายการสำหรับใบกำกับภาษีอย่างย่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923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ได้รับอนุมัติจากอธิบดีกรมสรรพากรให้ใช้เครื่องบันทึกการเก็บเงินเพื่อออกใบกำกับภาษี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เครื่องบันทึกการเก็บเงินออกรายงานสรุปการขายประจำวันแยกเป็นรายเครื่องบันทึกการเก็บเงิน ให้ลงรายการเฉพาะมูลค่าสินค้าหรือบริการและจำนวนภาษีมูลค่าเพิ่มทั้งหมดต่อวันที่ได้รับหรือพึงได้รับ ซึ่งเกิดจากการขายสินค้าหรือการให้บริการ โดยแยกออกเป็นรายเครื่องบันทึกการเก็บเงินพร้อมทั้งระบุเลขรหัสประจำเครื่องบันทึกการเก็บเงินที่อธิบดีกรมสรรพากรไว้ในรายงานภาษีขายด้วย และให้ลงรายการภายในสามวันทำการนับแต่วันที่เครื่องบันทึกการเก็บเงินออกใบกำกับภาษี เว้นแต่ กรณีผู้ประกอบการจดทะเบียนใช้เครื่องบันทึกการเก็บเงินชนิดไฟฟ้า หรือชนิดคอมพิวเตอร์ที่ใช้ต่อเชื่อเข้ากับระบบคอมพิวเตอร์หรืออุปกรอื่นเป็นระบ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OSS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oint of Sale System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ะต้องจัดทำรายงานภาษีขายโดยอัตโนมัติทุกสิ้นวันทำ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1125360"/>
            <a:ext cx="7417080" cy="4321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10199"/>
              </a:gs>
              <a:gs pos="100000">
                <a:srgbClr val="000046"/>
              </a:gs>
            </a:gsLst>
            <a:lin ang="5400000"/>
          </a:gradFill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2709720"/>
            <a:ext cx="26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79640" y="4078440"/>
            <a:ext cx="5113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6040" y="268200"/>
            <a:ext cx="665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Times New Roman"/>
                <a:cs typeface="Microsoft Sans Serif"/>
              </a:rPr>
              <a:t>กระบวนวิชาที่เกี่ยวกับภาษีอ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5445000"/>
            <a:ext cx="7417080" cy="1152720"/>
          </a:xfrm>
          <a:prstGeom prst="rect">
            <a:avLst/>
          </a:prstGeom>
          <a:gradFill rotWithShape="0">
            <a:gsLst>
              <a:gs pos="0">
                <a:srgbClr val="010199"/>
              </a:gs>
              <a:gs pos="100000">
                <a:srgbClr val="000046"/>
              </a:gs>
            </a:gsLst>
            <a:lin ang="5400000"/>
          </a:gradFill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523880"/>
            <a:ext cx="681372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ff33"/>
                </a:solidFill>
                <a:latin typeface="Microsoft Sans Serif"/>
                <a:cs typeface="Microsoft Sans Serif"/>
              </a:rPr>
              <a:t>การวางแผนภาษีอากร</a:t>
            </a:r>
            <a:r>
              <a:rPr b="0" lang="en-US" sz="3200" spc="-1" strike="noStrike">
                <a:solidFill>
                  <a:srgbClr val="99ff66"/>
                </a:solidFill>
                <a:latin typeface="Microsoft Sans Serif"/>
                <a:ea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Microsoft Sans Serif"/>
                <a:ea typeface="Microsoft Sans Serif"/>
              </a:rPr>
              <a:t>Tax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2852640"/>
            <a:ext cx="68137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บัญชีภาษีอากร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Accou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4292640"/>
            <a:ext cx="681372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ภาษีอาก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5553000"/>
            <a:ext cx="68137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ภาษีอาก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7D1-D7AD-48AA-98AF-785E487C54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289080" y="1328760"/>
            <a:ext cx="867564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623880" indent="-528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ตนาละเลยไม่ยื่นรายการที่ต้องยื่นเพื่อหลีกเลี่ยงหรือพยายามหลีกเลี่ยง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3880" indent="-528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ระบบภาษีมูลค่าเพิ่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หรือบุคคลอื่นใดโดยเจตนาหลีกเลี่ย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พยายามหลีกเลี่ยงภาษีมูลค่าเพิ่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3880" indent="-5284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เจตนาทุจริตมีแสตมป์ปลอ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ค่าแสตมป์ใช้แล้วหรือเลิกใช้แล้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613240" y="157320"/>
            <a:ext cx="383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Evasion</a:t>
            </a: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55F-07DF-4FBD-93D9-0CA5241F758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ลงรายการในรายงานภาษีขาย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10800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ที่ประกอบกิจการค้าปลีก ซึ่งมีสิทธิออกใบกำกับภาษีอย่างย่อ แต่ต้องจัดทำใบกำกับภาษีแบบเต็มรูป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ขายสินค้าหรือการให้บริการทุกครั้ง เมื่อถูกเรียกร้อง ให้ดำเนินการดังนี้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จัดทำใบกำกับภาษีอย่างย่อเป็นเล่มหรือไม่ได้ออกเป็นเล่มผู้ประกอบการจดทะเบียนต้องจัดทำใบกำกับภาษีแบบเต็มรูป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มอบให้แก่ผู้ซื้อสินค้าหรือผู้รับบริการโดยไม่ต้องจัดทำใบกำกับภาษีอย่างย่ออีก และให้ลงรายการสำหรับใบกำกับภาษีอย่างย่อตามปกต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ใช้เครื่องบันทึกเก็บเงินออกใบกำกับภาษีอย่างย่อและลงรายการแล้ว หากผู้ประกอบการจดทะเบียนต้องจัดทำใบกำกับภาษีแบบเต็มรูป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มอบให้แก่ผู้ซื้อสินค้าหรือผู้รับบริการ ให้ลงรายการตามใบกำกับภาษีแบบเต็มรูป เป็นรายใบกำกับภาษีด้วย โดยไม่ต้องระบุมูลค่าสินค้าหรือบริการและจำนวนภาษีมูลค่าเพิ่ม และหมายเหตุไว้ว่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แทนใบกำกับภาษีอย่างย่อ เลขที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… 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ลงรายการในรายงานภาษีขาย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ประกอบกิจการสถานบริการน้ำมั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ลงรายการตามหลักเกณฑ์ วิธีการ และเงื่อนไขที่กำหนดใน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้วแต่กรณี เว้นแต่การขายน้ำมันของสถานบริการน้ำมัน ซึ่งได้รับอนุมัติจากอธิบดีกรมสรรพากรให้เสียภาษีมูลค่าเพิ่มจากมิเตอร์หัวจ่าย ให้ลงรายการเฉพาะมูลค่าสินค้าแบะจำนวนภาษีมูลค่าเพิ่มทั้งหมดต่อวันที่ได้รับหรือพึงได้รับจากการขายน้ำมันเชื้อเพลิงผ่านมิเตอร์หัวจ่ายตามรายงานแดงรายละเอียดการขายน้ำมันเชื้อเพลิงแต่ละชนิ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ต้องจัดทำเป็นรายวันอยู่แล้ว และให้ลงรายการภายในสามวันทำการนับแต่วันที่จัดทำรายงานแสดงรายละเอียดการขายน้ำมันเชื้อเพลิงแต่ละชนิ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ลงรายการในรายงานภาษีขาย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9" name="PlaceHolder 2"/>
          <p:cNvSpPr>
            <a:spLocks noGrp="1"/>
          </p:cNvSpPr>
          <p:nvPr>
            <p:ph/>
          </p:nvPr>
        </p:nvSpPr>
        <p:spPr>
          <a:xfrm>
            <a:off x="108000" y="93672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ดังต่อไปนี้ ให้ลงรายการตามมูลค่าสินค้าหรือบริการและจำนวนภาษีมูลค่าเพิ่มที่ได้รับหรือพึงได้รับ โดยจัดให้มีเอกสารประกอบการลงรายงานตามประเภทความรับผิดในการเสียภาษีมูลค่าเพิ่ม ซึ่งเอกสารดังกล่าวต้องมีปริมาณและมูลค่าสินค้าหรือบริการเพื่อคำนวณภาษีมูลค่าเพิ่ม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มีความผิดต้องเสียภาษีมูลค่าเพิ่ม เมื่อมีการจำหน่าย จ่าย โอนสินค้าโดยไม่มีค่าตอบแทน 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เมื่อมีการให้บริการโดยไม่มีค่าตอบแทน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มีความรับผิดต้องเสียภาษีมูลค่าเพิ่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การใช้บริการของตนเองไม่ว่าประการใด ๆ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ส่วนราชการเป็นผู้ทอดตลาดทรัพย์สินของผู้ประกอบจดทะเบียนตา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ผู้ประกอบการจดทะเบียนลงรายงานภาษีขายตามหลักฐานใบเสร็จรับเงินของทางราชการ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ลงรายการในรายงานภาษีขาย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ทอดตลาดที่มิ่ส่วนราชการได้ขายทอดตลาดทรัพย์สินของผู้ประกอบการจดทะเบียน และได้นำส่งภาษีมูลค่าเพิ่ม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ยื่นรายการตามแบบ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ส่งภาษี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ที่เป็นเจ้าของทรัพย์สินไม่ต้องนำมูลค่าสินค้าแบะจำนวนภาษีมูลค่าเพิ่มตามสำเนาใบกำกับภาษีที่ออก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ลงรายการในรายงานภาษีข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ไม่ต้องนำค่าตอบแทนที่มีลักษณะ และเงื่อนไขตามประกาศอธิบดีกรมสรรพการเกี่ยวกับภาษีมูลค่า เพิ่ม ซึ่งออกโดยอาศัยอำนาจตามความใน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รวมคำนวณเป็นมูลค่าของฐานภาษี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ไม่ต้องนำค่าตอบแทนดังกล่าวมาลงรายในรายงานภาษีข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ลงรายการในรายงานภาษีขาย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93" name="PlaceHolder 2"/>
          <p:cNvSpPr>
            <a:spLocks noGrp="1"/>
          </p:cNvSpPr>
          <p:nvPr>
            <p:ph/>
          </p:nvPr>
        </p:nvSpPr>
        <p:spPr>
          <a:xfrm>
            <a:off x="108000" y="1007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ขายสินค้าโดยการส่งออก ให้ลงรายการตามมูลค่าสินค้าส่งออก โดยให้ใช้ราค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OB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สินค้า และให้ลงรายการภายในสามวันทำการ นับแต่วันที่กรมศุลกากรออกใบขนสินค้าขาออ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ต่อไป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่งสินค้าออกนอกราชอาณาจักรเพื่อส่งไปต่างประเทศซึ่งความรับผิดในเสียภาษีมูลค่าเพิ่มเกิดขึ้นเมื่อชำระอากรขาออก วางหลักประกันอากรขาออก หรือจัดให้มีผู้ค้ำประกันอากรขาออก ให้ลงรายการภายในสามวันทำการนับแต่วันที่ชำระอากรขาออก วางหลักประกันอากรขาออก หรือจัดให้มีผู้ค้ำประกันอากรขาออก แล้วแต่กรณ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สินค้าในราชอาณาจักรเข้าไปในเขตอุตสาหกรรมส่งออก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ซึ่งความรับผิดในการเสียภาษีมูลค่าเพิ่มเกิดขึ้นในวันที่นำสิน้าในราชอาณาจักรเข้าไปในเขตอุตสาหกรรมส่งออก  ให้ลงรายภายในสามวันทำการนับแต่วันที่นำสินค้าเข้าไปในเขตอุตสาหกรรมส่งออก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ลงรายการในรายงานภาษีขาย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ออกใบเพิ่มหนี้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ใบลดหนี้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1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ลงรายการเป็นรายใบเพิ่มหนี้และใบลดหนี้ ภายในสามวันทำการนับแต่วันที่ระบุในใบเพิ่มหนี้หรือใบลดหนี้ แล้วแต่กรณ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ดังกล่าว สามารถจัดทำรายงานภาษีขายที่ลงรายการเฉพาะรายการตามใบเพิ่มหนี้หรือใบลดหนี้ต่างหากอีกหนึ่งรายงานก็ได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ประกอบการจดทะเบียนมีหนี้สูญเกิดขึ้นจากการขายสินค้าหรือการให้บริการ และได้มีการจำหน่ายหนี้สูญดังกล่าวตามจำนวน หลักเกณฑ์ วิธีการ และเงื่อนไขที่อธิบดีกรมสรรพากรกำหนด ให้ผู้ประกอบการจดทะเบียนนำภาษีขายที่คำนวณจากส่วนของหนี้สูญมาหักออกจากภาษีขายในเดือนภาษีที่ได้มีการจำหน่ายหนี้สูญ โดยใช้เอกสารการตัดหนี้สูญทางบัญชีประกอบการลงรายการในรายงานภาษีข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ขาย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ขายเสมอ และเป็นรายการเพิ่มยอดภาษีขา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ขายสินค้าหรือการให้บริการโดยทั่วไ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แลกเปลี่ยนสินค้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arter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ับสินค้าหรือแลกเปลี่ยนกับบริการ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นำสินค้าเก่าไปชำระเป็นส่วนหนึ่งของราคาสินค้าที่ซื้อใหม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de in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ให้บริการจัดนำเที่ยวในต่างประเท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่งสินค้าให้ลูกค้าทดลองใช้ก่อนซื้อ และเมื่อลูกค้าพอใจในสินค้าดังกล่าว ได้ตกลงขายสินค้าตามที่ได้ส่งมอบให้ลูกค้าทดลองใช้นั้น โดยถือเป็นการขายตั้งแต่วันที่ได้ส่งมอบสินค้าให้ลูกค้าทดลองใช้นั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่งสินค้าที่จะขายไปให้ลูกค้าเลือกซื้อเกินกว่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และหรือผู้ประกอบการจดทะเบียนมิได้ลงรายการในรายงานสินค้าและวัตถุดิบในช่องหมายเหตุไว้ให้ชัดเจนว่า เป็นสินค้าที่ส่งไปให้ลูกค้าเลือกซื้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ขาย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ขายสินค้าหรือให้บริการที่ต้องเสียภาษีมูลค่าเพิ่มในอัตราร้อยละ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ให้บริการที่กระทำในราชอาณาจักรและได้มีการใช้บริการนั้นในต่างประเทศ โดยผู้ประกอบการจดทะเบียนต้องกระทำกิจการอันเป็นสาระสำคัญของการรับจ้างทำของในประเทศไทยและได้ส่งผลของการรับจ้างทำของนั้นไปใช้ในต่างประเทศทั้งหมด และต้องมีหลักฐานเป็นหนังสื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ขนส่งระหว่างประเทศโดยอากาศยาน หรือเรือเดินทะเ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ขายสินค้าหรือให้บริการกับกระทรวง ทบวง กรม ราชการส่งท้องถิ่น หรือรัฐวิสาหกิจ ตามโครงการเงินกู้หรือเงินช่วงเหลือจากต่างประเท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หรือการให้บริการกับองค์การสหประชาชาติ ทบวงการชำนัญพิเศษของสหประชาชาติ สถานเอกอัครราชทูต สถานทูต สถานกงสุลใหญ่ สถานกงสุล หรือองค์การะหว่างประเทศอื่น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ขาย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ขายสินค้าหรือให้บริการที่ต้องเสียภาษีมูลค่าเพิ่มในอัตราร้อยละ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หรือให้บริการระหว่างคลังสินค้าทัณฑ์บน หรือระหว่างคลังสินค้าทัณฑ์บน กับผู้ประกอบการจดทะเบียนที่ประกอบกิจการในเขต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PZ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ระหว่างผู้ประกอบการจดทะเบียน ที่ประกอบกิจการอยู่ในเขต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PZ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ว่าจะอยู่ในเขต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PZ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ียวกันหรือไม่ ตามหลักฐานสำเนาใบกำกับภาษี และใบผ่านพิธีการศุลกากรสินค้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ส่งสินค้าออกนอกราชอาณาจักรเพื่อส่งไปต่างประเทศ ตามหลักฐานสำเน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voice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ใบขนสินค้าขาออ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นำสินค้าในราชอาณาจักรเข้าไปในเขต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PZ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พาะสินค้าที่ต้องเสียอากรขาออก หรือได้รับยกเว้นอากรขาออกตามกฎหมายว่าด้วยศุลกากร ตามหลักฐานสำเนาใบกำกับภาษี และใบผ่านพิธีการศุลก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ของคลังสินค้าทัณฑ์บนประเภทร้านค้าปลอดอากร ตามกฎหมายว่าด้วยศุลกากรที่ขายให้แก่ผู้เดินทางออกไปนอกราชอาณาจักร ตามหลักฐานสำเน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voice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ใบขนสินค้าขาออ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ขาย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179280" y="1273320"/>
            <a:ext cx="878544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ที่อาจพบในรายงานภาษีขายเสมอ และเป็นรายการเพิ่มยอดภาษีขา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ส่งมอบสินค้าให้ตัวแทนเพื่อขาย กรณีที่การฝากขายสินค้าไม่เป็นไปตามหลักเกณฑ์ วิธีการ และเงื่อนไข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เพิ่มราคาสินค้าหรือค่าบริการ ตามใบเพิ่ม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นำสินค้าหรือบริการไปใช้เพื่อการอื่นใด ที่มิใช่เพื่อการประกอบกิจการที่ต้องเสียภาษีมูลค่าเพิ่ม ตามหลักฐานใบสำคัญ เพราะไม่ต้องออกใบกำกับ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รถยนต์นั่งหรือรถยนต์โดยสารที่มีที่นั่ง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และสินค้าที่เกี่ยวข้องกับรถยนต์ดังกล่าวที่มีไว้หรือการให้บริการไปใช้ใน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สินค้าขาดจากรายงานสินค้าและวัตถุดิบ ตามผลการตรวจสอ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สินค้าคงเหลือหรือทรัพย์สินที่ผู้ประกอบการจดทะเบียนมีไว้ในการประกอบกิจการ ณ วันเลิกประกอบกิจการ หรือวันที่ได้รับแจ้งคำสั่งถอนทะเบียนภาษี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5280" y="1559880"/>
            <a:ext cx="8424720" cy="33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80880" indent="-3808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หลีกเลี่ยง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รับโทษทางภาษีอากร โดยต้องเสียตามจำนวนเงินที่หลีกเลี่ย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้อมทั้งเบี้ยปรั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เงินเพิ่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เป็นบทลงโทษทางแพ่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ไม่อาจลดหย่อนผ่อนโทษลงได้แล้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ังต้องรับผิดตามบทกำหนดโทษทางอาญ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จำคุ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ค่าปรั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ีกด้ว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ผู้หลีกเลี่ยงไม่อาจนำค่าใช้จ่ายอันเกิดจากบทลงโทษดังกล่า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ปถือเป็นรายจ่ายในการคำนวณกำไรหรือขาดทุนทางภาษีอากรได้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622600" y="333360"/>
            <a:ext cx="383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Evasion</a:t>
            </a: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D58B-1968-4678-8255-5FA4FDC0D70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ขาย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179280" y="1273320"/>
            <a:ext cx="878544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ที่อาจพบในรายงานภาษีขายเสมอ และเป็นรายการเพิ่มยอดภาษีขาย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ขายสินค้าหรือการให้บริการที่ไม่ได้รับประโยชน์ หรือค่าตอบแทนที่อยู่ในข่ายต้องเสียภาษีมูลค่าเพิ่ม อาท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แจกสินค้าหรือสิ่งของไม่ว่าเพื่อการใด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แถมสินค้าที่แถมต่างหากหรือมิได้แถมไปพร้อมกับการขายสินค้า หรือการให้บริการ หรือมูลค่าของสินค้าที่แถมมีมูลค่าเกินกว่ามูลค่าของสินค้าที่ขายหรือบริการที่ให้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แจกสินค้าตัวอย่างให้แก่ผู้จัดจำหน่าย หรือการแจกสินค้าตัวอย่างที่มิใช่เป็นการแจกสินค้าตัวอย่างเพื่อการส่งเสริมการข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ให้ยืมใช้สิ้นเปลือง และการใช้คืนสินค้าที่ได้ยืมใช้สิ้นเปลือ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บริจาคสินค้าที่มิใช่การบริจาคให้แก่องค์การสาธารณกุศ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ขาย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179280" y="1273320"/>
            <a:ext cx="878544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พิเศษที่อาจพบในรายงานภาษีขายที่เป็นรายการลดยอดภาษีขาย อาท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จำหน่ายหนี้สูญ ตามหลักเกณฑ์ วิธีการ และเงื่อนที่อธิบดีกรมสรรพากรกำหนด ตามประกาศอธิบดีกรมสรรพากรเกี่ยวกับ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รับคืนสินค้าหรือบอกเลิกสัญญาบริการ ตามสำเนาใบลด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ลดราคาสินค้าหรือค่าบริการ เนื่องจากสินค้าหรือบริการผิดข้อกำหนดที่ตกลงกัน หรือสินค้าหรือบริการขาดจำนวน หรือสินค้าชำรุดเสียหาย หรือเนื่องจากคำนวณราคาผิดพลาดสูงกว่าที่เป็นจริง ตามสำเนาใบลด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ซื้อ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09" name="PlaceHolder 2"/>
          <p:cNvSpPr>
            <a:spLocks noGrp="1"/>
          </p:cNvSpPr>
          <p:nvPr>
            <p:ph/>
          </p:nvPr>
        </p:nvSpPr>
        <p:spPr>
          <a:xfrm>
            <a:off x="179280" y="1272960"/>
            <a:ext cx="878544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ซื้อ และเป็นรายการเพิ่มยอดภาษีซื้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ซื้อสินค้าและรับบริการ ตามหลักฐานใบกำกับ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นำเข้าสินค้าจากต่างประเทศ ตามหลักฐานใบเสร็จรับเงินค่าภาษีมูลค่าเพิ่มของกรมศุลกากร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จำนวนภาษีมูลค่าเพิ่มจากการนำเข้าสินค้าตามหลักฐานใบเสร็จรับเงินของกรมศุลกากรนั้น ในทางปฏิบัติกรมสรรพากรอนุโลมให้นำจำนวนภาษีมูลค่าเพิ่มจากการนำเข้าสินค้าจากต่างประเทศ ตามหลักฐานใบเสร็จรับเงินของกรมศุลกากรมาถือเป็นภาษีซื้อได้ทั้งจำนวน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ซื้อสินค้าทุน หรือทรัพย์สินในประเทศจากผู้ประกอบการจดทะเบียนตามหลักฐานใบกำกับ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เพิ่มราคาสินค้าหรือค่าบริการ ตามหลักฐานใบเพิ่ม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ซื้อ และเป็นรายการเพิ่มยอดภาษีซื้อ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นำส่งภาษีมูลค่าเพิ่ม ตามแบบแสดงรายการ 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หลักฐานใบเสร็จรับเงินของกรมสรรพากร และแบบแสดงรายการ 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นื่องจากกรณีดังต่อไปนี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ื้อสินค้าหรือรับบริการจากผู้ประกอบการที่อยู่นอกราชอาณาจักร และเข้ามา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ิจการขายสินค้าหรือให้บริการเป็นการชั่วคราวโดยไม่จดทะเบียน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่ายเงินค่าบริการให้แก่ผู้ประกอบการที่อยู่นอกราชอาณาจักรที่ได้ให้บริการ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อกราชอาณาจักรและได้มีการใช้บริการนั้นในราชอาณาจักร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นำส่งภาษีมูลค่าเพิ่มตามแบบแสดงรายการ 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นื่องจากรับโอนกรรมสิทธิ์สินค้าหรือสิทธิในบริการที่เคยเสียภาษีมูลค่าเพิ่มในอัตรา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ากองค์การสหประชาชาติ ทบวงการชำนัญพิเศษของสหประชาชาติ สถานเอกอัครราชทูต สถานทูต สถานกงสุลใหญ่ สถานกงสุล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หลักฐานใบเสร็จรับเงินของกรมสรรพากร และแบบแสดงรายการ 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ซื้อ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การที่ต้องบันทึกในรายงานภาษีซื้อ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3" name="PlaceHolder 2"/>
          <p:cNvSpPr>
            <a:spLocks noGrp="1"/>
          </p:cNvSpPr>
          <p:nvPr>
            <p:ph/>
          </p:nvPr>
        </p:nvSpPr>
        <p:spPr>
          <a:xfrm>
            <a:off x="179280" y="117936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ลดยอดภาษีซื้อในรายงานภาษีซื้อ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ส่งคืนสินค้าหรือบอกเลิกสัญญาบริการตามหลักฐานใบลดหนี้ที่ได้รับมาจากผู้ขายสินค้าหรือผู้ให้บริ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แสดงราคาสินค้าหรือค่าบริการ เนื่องจากสินค้าหรือบริการผิดข้อกำหนดที่ตกลงกัน สินค้าหรือบริการขาดจำนวน สินค้าชำรุดเสียหาย หรือเนื่องจากคำนวณราคาผิดพลาดสูงกว่าที่เป็นจริงตามใบลด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เกี่ยวกับใบลดหนี้ ให้ลงรายการให้แล้วเสร็จภายใ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ทำการนับแต่วันที่ได้รับใบลดหนี้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ปัจจุบันไม่ต้องลงรายการสำหรับใบกำกับภาษีแบบเต็มรูป ซึ่งไม่สามารถนำไปหักในการคำนวณภาษีมูลค่าเพิ่มเนื่องจากต้องห้าม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แล้ว ทั้งนี้ ตั้งแต่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ฤษภาค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มา ตามประกาศอธิบดีฯ เกี่ยวกับภาษีมูลค่าเพิ่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ประกอบการส่งออก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 type="subTitle"/>
          </p:nvPr>
        </p:nvSpPr>
        <p:spPr>
          <a:xfrm>
            <a:off x="1226880" y="2923920"/>
            <a:ext cx="680076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รุปหลักเกณฑ์การเป็นผู้ประกอบการส่งออกที่ดีของกรมสรรพากร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คำสั่งกรมสรรพากรที่ ท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96/2545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ฯ  ลงวันที่ 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 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ันวาคม พ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45</a:t>
            </a:r>
            <a:br>
              <a:rPr sz="2400"/>
            </a:b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แก้ไขเพิ่มเติมโดยคำสั่งกรมสรรพากรที่ ท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07/2548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ฯ  ลงวันที่ 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 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งหาคม พ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48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ุณสมบัติ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 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ส่งออกทั่ว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ริษัทจำกัด หรือบริษัทมหาชนจำกัด ที่เป็นผู้ประกอบการจดทะเบียน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ทุนจดทะเบียนที่ชำระแล้วตั้งแต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ขึ้น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ส่งสินค้าไปขายยังต่างประเทศในอัตราส่วนตั้งแต่ร้อย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ึ้นไป ของยอดขายรวมสำหรับระยะ เวล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  ก่อนยื่นคำขอรับการจัดระดับการส่งสินค้าไปขายยังต่างประเทศ ให้รวมถึงการขายสินค้าระหว่างผู้ประกอบการที่ประกอบกิจการในเขตอุตสาหกรรมส่งออกด้วยกัน ไม่ว่าจะอยู่ในเขตอุตสาหกรรมส่งออกเดียวกันหรือไม่ก็ต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ความมั่นคงต่อเนื่องและน่าเชื่อถือในการประกอบการ และมีกรรมสิทธิ์ในสังหาริมทรัพย์ เช่น ที่ดิน อาคาร โรงงาน ฯล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ุณสมบัติ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206280" y="141264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ทรัพย์สินสุทธิมากกว่าหนี้สินสุทธิ สำหรับรอบระยะเวลาบัญชีปีสุดท้ายก่อนยื่นคำข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) 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ประวัติการเสียภาษีที่ดี เสียภาษีสอดคล้องกับสภาพเป็นจริงของกิจการ ไม่มีพฤติการณ์หลีกเลี่ยง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7) 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สมาชิกของสมาคมหรือองค์กรเอกช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ทางการค้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่น สภาอุตสาหกรรมแห่งประเทศไทย สภาหอการค้าแห่งประเทศไทย เป็นต้น หรือ เป็นผู้ประกอบการที่อยู่ในนิคมอุตสาหกรรม 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มาคมหรือองค์กรภาคเอกชน หรือการนิคมอุตสาหกรรมแห่งประเทศไทยแล้วแต่กรณี  รับรองว่ามีการประกอบกิจการอยู่เป็นปกติ  ไม่มีข่าวสารที่แสดงถึงการขาดความน่าเชื่อถือทางการเงินและมีหนี้สินล้นพ้นตัวแต่อย่างใ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Arial"/>
              </a:rPr>
              <a:t>คุณสมบัติ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21" name="PlaceHolder 2"/>
          <p:cNvSpPr>
            <a:spLocks noGrp="1"/>
          </p:cNvSpPr>
          <p:nvPr>
            <p:ph/>
          </p:nvPr>
        </p:nvSpPr>
        <p:spPr>
          <a:xfrm>
            <a:off x="97920" y="1125360"/>
            <a:ext cx="89377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 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ส่งของออกระดับบัตรทองของกรมศุลก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ริษัทจำกัด หรือบริษัทมหาชนจำกัด ที่เป็นผู้ประกอบ การจดทะเบียนภาษีมูลค่าเพิ่มและเป็นผู้ส่งของออกระดับบัตรทองของกรมศุลก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ส่งสินค้าไปขายยังต่างประเทศ  ในอัตราส่วนตั้งแต่ร้อย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ึ้นไป ของยอดขายรวม</a:t>
            </a:r>
            <a:r>
              <a:rPr b="0" i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ระยะเวล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ก่อนยื่นคำขอรับการจัดระดับการส่งสินค้าไปขายยังต่างประเทศตามวรรคหนึ่ง  ให้รวมถึงการขายสินค้าระหว่างผู้ประกอบการที่ประกอบกิจการในเขตอุตสาหกรรมส่งออกด้วยกัน  ไม่ว่าจะอยู่ในเขตอุตสาหกรรม ส่งออกเดียวกันหรือไม่ก็ต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คุณสมบัติเช่นเดียวกับกรณีผู้ส่งออกทั่วไป ข้อ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- (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/>
          </p:nvPr>
        </p:nvSpPr>
        <p:spPr>
          <a:xfrm>
            <a:off x="250920" y="560520"/>
            <a:ext cx="88200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เงื่อนไ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  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ส่งออกที่จะได้รับการจัดระดับให้เป็นผู้ประกอบการส่งออกที่ดี จะต้องอยู่ภายใต้เงื่อนไขดังต่อไปนี้ด้ว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    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คืนภาษีมูลค่าเพิ่มโดยการนำเข้าบัญชีเงินฝากธนาค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    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มีสาขา ต้องได้รับอนุมัติให้ยื่นแบบแสดงรายการภาษีและชำระภาษีมูลค่าเพิ่มรวมกั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    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สอบบัญชีรับอนุญาตที่รับรองงบการเงินสำหรับรอบระยะเวลาบัญชีที่ยื่นคำขอ ต้องได้รับ การแต่งตั้งจากมติที่ประชุมผู้ถือหุ้น และต้องเป็นไปตามหลักเกณฑ์ เงื่อนไข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ตต แห่งประมวลรัษฎากร โดยให้แจ้งชื่อ เลขทะเบียนผู้สอบบัญชีรับอนุญาต ชื่อสำนักงานผู้สอบบัญชี และแจ้งชื่อผู้ทำบัญชี สำนักงานบัญชีด้ว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50920" y="1509840"/>
            <a:ext cx="8497800" cy="35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44600" indent="-4446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หลบหลีกภาษีอากร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ือ การนำช่องโหว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Loophole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กฎหมายภาษีอากรเปิดช่องให้กระทำได้ โดยไม่ผิดกฎหมาย มาใช้ให้เกิดประโยชน์สูงสุดในการประกอบธุรกิจ และการเสียภาษีอากร เพื่อให้จำนวนภาระภาษีอากรที่ต้องเสียลดน้อยลงไปจากการดำเนินการปกติธุรกิจทั่วไ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หลบหลีกภาษีอากรถือเป็นส่วนหนึ่งของการวางแผน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01360" y="495360"/>
            <a:ext cx="38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Avoid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0E8-715C-49DD-A801-463561580A3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สิทธิประโยชน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  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 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ยื่นแบบแสดงรายการภาษีมูลค่าเพิ่มผ่านเครือข่ายอินเทอร์เน็ต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ะได้รับคืนเงินภาษีมูลค่าเพิ่ม ภายใ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นับแต่วันที่ยื่นแบบ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  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 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ยื่นแบบแสดงรายการภาษีมูลค่าเพิ่ม ณ สำนักงานสรรพากรพื้นที่สาข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สาขา จะได้รับการคืนเงินภาษีมูลค่าเพิ่มภายใ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นับแต่วันที่ยื่นแบบฯ </a:t>
            </a:r>
            <a:r>
              <a:rPr b="0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ยกเว้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ในกรณีที่มีหลักฐานหรือข้อมูลชัดแจ้งว่า ผู้ประกอบการส่งออกที่ดียื่นแบบแสดงรายการภาษีมูลค่าเพิ่มไว้ไม่ถูกต้อง และเห็นสมควรตรวจก่อนคืน กรมสรรพากรจะแจ้ง เหตุที่ไม่สามารถคืนภาษีภายในเวลาที่กำหนดให้ผู้ประกอบการส่งออกที่ดีทราบ ทั้งนี้ สิทธิดังกล่าวมีกำหนดระยะเวล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เดือนภาษีที่อธิบดีกรมสรรพากรอนุมัติให้เป็นผู้ประกอบการส่งออกที่ดี 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/>
          </p:nvPr>
        </p:nvSpPr>
        <p:spPr>
          <a:xfrm>
            <a:off x="108000" y="187200"/>
            <a:ext cx="8964720" cy="66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การยื่นคำข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ื่นคำขอ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้อมเอกสารหลักฐานต่อหน่วยงาน ดัง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ที่อยู่ในการกำกับดูแลของสำนักบริหารภาษีธุรกิจขนาดใหญ่ ยื่นคำขอได้ที่ส่วนวางแผนและประเมินผลของสำนักบริหารภาษีธุรกิจขนาดใหญ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อื่น ให้ยื่นคำขอได้ที่สำนักงานสรรพากรพื้นที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   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สถานประกอบการซึ่งมีหน้าที่ยื่นแบบแสดงรายการภาษี มูลค่าเพิ่ม ตั้งอยู่ในท้องที่สำนักงานสรรพากรพื้นที่</a:t>
            </a:r>
            <a:r>
              <a:rPr b="0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ในเขต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ุงเทพมหานคร ให้ยื่นที่ฝ่ายภาษีหัก ณ ที่จ่ายและคืน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  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สถานประกอบการซึ่งมีหน้าที่ยื่นแบบแสดงรายการภาษีมูลค่าเพิ่ม ตั้งอยู่ในท้องที่สำนักงานสรรพากรพื้นที่</a:t>
            </a:r>
            <a:r>
              <a:rPr b="0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นอกเขต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ุงเทพ มหานคร ให้ยื่นที่ฝ่ายกรรมวิธีและคืนภาษี กรณีสิทธิประโยชน์ของผู้ประกอบการส่งออกที่ดีจะสิ้นสุดลง เนื่องจากครบกำหนดระยะเวล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หากผู้ประกอบการมีความประสงค์จะเป็นผู้ประกอบการส่งออกที่ดีต่อไป ให้ยื่นคำขอใหม่ก่อนระยะเวล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ที่สิทธิประโยชน์จะสิ้นสุดล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964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ขั้นตอนการพิจารณาอนุมัต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นักบริหารภาษีธุรกิจขนาดใหญ่ หรือสำนักงานสรรพากรพื้นที่ตรวจความน่าเชื่อถือของผู้ประกอบการ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้วเสนอความเห็นไปยังกรมสรรพ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มสรรพากรโดยคณะกรรมการพิจารณาจัดระดับผู้ประกอบ การส่งออกที่ดี สรุปความเห็น เสนออธิบดีกรมสรรพากรอนุมัต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  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นักบริหารภาษีธุรกิจขนาดใหญ่ หรือสำนักงานสรรพากรพื้นที่ แจ้งผลการพิจารณาให้ผู้ประกอบการส่งออกทรา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250920" y="3860640"/>
            <a:ext cx="87138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รายละเอียดเพิ่มเติ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ติดต่อได้ที่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นักบริหารภาษีธุรกิจขนาดใหญ่ และสำนักงานสรรพากรพื้นที่ หรือสอบถามโดยตรงที่ สำนักมาตรฐานการกำกับและตรวจสอบภาษ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ั้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มสรรพ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ท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0-2272-8035 , 0-2272-8924 , 0-2272-912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-2617-9487 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ุกวันในเวลาราชการ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91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ุณสมบัติของผู้ส่งออกขึ้นทะเบียน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93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ริษัทหรือห้างหุ้นส่วนนิติบุคคลหรือบุคคลธรรมดาที่จดทะเบียน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ประกอบกิจการมาแล้วไม่น้อยกว่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และมีการส่งสินค้าไปขายยังต่างประเทศโดยสม่ำเสมอตามสภาพธุรกิจในสัดส่วนที่ไม่น้อยกว่าร้อย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ยอดขายรวม สำหรับระยะเวล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ก่อนยื่นคำขอฯ และได้นำเงินตราต่างประเทศจากการขายนั้นเข้ามาในประเทศไทยหรือมีหลักฐานการหักกลบลบห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ความมั่นคงต่อเนื่อง น่าเชื่อถือในการประกอบกิจการ และมีกรรมสิทธิ์ในอสังหาริมทรัพย์ที่ใช้ในการประกอบกิจการ เช่น ที่ดิน อาคารโรงงาน ฯล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ทรัพย์สินสุทธิมากกว่าหนี้สินสุทธิ สำหรับรอบระยะเวลาบัญชีปีสุดท้ายก่อนยื่นคำขอฯ สำหรับบริษัทหรือห้างหุ้นส่วนนิติบุคค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4876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ุณสมบัติของผู้ส่งออกขึ้นทะเบียน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ประวัติการเสียภาษีที่ดี มีการเสียภาษีสอดคล้องกับสภาพเป็นจริงของกิจการ ไม่มีพฤติการณ์หลีกเลี่ยง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สมาชิกของสมาคมหรือองค์กรภาคเอกช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ทางการค้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่น สภาอุตสาหกรรมแห่งประเทศไทย สภาหอการค้าแห่งประเทศไทย หอการค้าไทย หอการค้าจังหวัด ฯลฯ และได้รับการรับรองฐานะการเงินว่ามีความมั่นคงและเชื่อถือได้จากสมาคมหรือองค์กรดังกล่า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อกจากนี้ ผู้ประกอบการส่งออกอาจมีระบบการจัดการและระบบ การควบคุมภายในที่ดี เช่น มีระบบการตรวจสอบภายใน การจัดทำประมาณการแผนการส่งออก มีงบการ เงินเป็นรายเดือน หรือรายไตรมาส เป็นต้น เป็นคุณสมบัติเพิ่มเติม เพื่อเป็นองค์ประกอบในการพิจารณาเป็นผู้ส่งออกขึ้นทะเบียนกรณีที่มีคุณสมบัติไม่ครบถ้วน แต่มีเหตุอันสมควร คณะกรรมการพิจารณาจัดให้เป็นผู้ส่งออกขึ้นทะเบียน อาจพิจารณายกเว้นคุณสมบัติดังกล่าวให้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ส่งออกที่จะได้รับอนุมัติให้เป็นผู้ส่งออกขึ้นทะเบียน จะต้องปฏิบัติตามเงื่อนไขดัง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คืนภาษีมูลค่าเพิ่มโดยการนำเข้าบัญชีเงินฝากธนาคาร ตามวิธีปฏิบัติในการขอให้นำเงินภาษีมูลค่าเพิ่มเข้าบัญชีเงินฝากธนาคารแนบท้ายคำสั่ง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มีสถานประกอบการหลายแห่ง ต้องได้รับอนุมัติให้ยื่นแบบแสดงรายการ และชำระภาษีมูลค่าเพิ่มรวมกัน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เป็นบริษัทหรือห้างหุ้นส่วนนิติบุคคล ผู้สอบบัญชีรับอนุญาตหรือผู้สอบบัญชีภาษีอากร ที่ตรวจสอบและรับรองบัญชีสำหรับรอบระยะเวลาบัญชีที่ยื่นคำขอ ต้องได้รับการแต่งตั้งจากมติที่ประชุมผู้ถือหุ้น และต้องเป็นไปตามหลักเกณฑ์ เงื่อนไข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ตต แห่งประมวลรัษฎากรโดยให้แจ้งชื่อ เลขทะเบียนของผู้สอบบัญชีรับอนุญาต พร้อมทั้งชื่อสำนักงานผู้สอบบัญชี และให้แจ้งชื่อผู้ทำบัญชี พร้อมทั้งสำนักงานบัญชีด้ว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ิทธิประโยชน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3" name="PlaceHolder 2"/>
          <p:cNvSpPr>
            <a:spLocks noGrp="1"/>
          </p:cNvSpPr>
          <p:nvPr>
            <p:ph/>
          </p:nvPr>
        </p:nvSpPr>
        <p:spPr>
          <a:xfrm>
            <a:off x="252000" y="1125000"/>
            <a:ext cx="8712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ะได้รับสิทธิมีกำหนดระยะเวล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เดือนภาษีที่ได้รับอนุมัติให้เป็นผู้ส่งออกขึ้นทะเบียน ดัง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ส่งออกขึ้นทะเบียน ที่ยื่นแบบแสดงรายการภาษีมูลค่าเพิ่มผ่านเครือข่ายอินเทอร์เน็ตจะได้รับการคืนเงินภาษีมูลค่าเพิ่มภายใ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นับแต่วันที่ยื่นแบบแสดงรายการ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ส่งออกขึ้นทะเบียนที่ยื่นแบบแสดงรายการภาษีมูลค่าเพิ่ม ณ สำนักงานสรรพากรพื้นที่สาขา จะได้รับการคืนเงินภาษีมูลค่าเพิ่มภายใ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นับแต่วันที่ยื่นแบบแสดงรายการ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ที่มีหลักฐานหรือข้อมูลชัดแจ้งว่าผู้ส่งออกขึ้นทะเบียน ยื่นแบบแสดงรายการภาษีมูลค่าเพิ่มไว้ไม่ถูกต้อง และเห็นสมควรตรวจก่อนคืน กรมสรรพากรจะแจ้งเหตุที่ไม่สามารถคืนภาษีภายในเวลาที่กำหนดให้ผู้ส่งออกขึ้นทะเบียนทรา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ื่นคำขอ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8934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ผู้ประกอบการส่งออก ที่มีคุณสมบัติตามข้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ได้ปฏิบัติตามเงื่อนไขของข้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มีความประสงค์จะได้รับการจัดให้เป็นผู้ส่งออกขึ้นทะเบียน ยื่นคำขอ ตามแบบแนบท้ายคำสั่งนี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้อมเอกสารหลักฐานที่ต้องใช้ในการพิจารณา โดยยื่นต่อหน่วยงานดัง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    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วางแผนและประเมินผลของสำนักบริหารภาษีธุรกิจขนาดใหญ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ญ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อยู่ ภายใต้ความรับผิดชอบของ ภญ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    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่ายภาษีหัก ณ ที่จ่ายและคืนภาษีของสำนักงานสรรพากรพื้นที่ในเขตกรุงเทพมหานคร หรือ ฝ่ายกรรมวิธีและคืนภาษีของสำนักงานสรรพากรพื้นที่นอกเขตกรุงเทพมหานคร ซึ่งเป็นที่ตั้งของสถานประกอบการที่มีหน้าที่ยื่นแบบแสดงรายกา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่อนระยะเวล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ที่สิทธิประโยชน์จะสิ้นสุดลง ถ้าผู้ส่งออกขึ้นทะเบียนมีความประสงค์จะเป็นผู้ส่งออกขึ้นทะเบียนต่อไป ให้ยื่นคำขอใหม่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มสรรพากรจะดำเนินการตรวจสภาพกิจการของผู้ประกอบการที่ยื่นคำขอเป็นผู้ส่งออกขึ้นทะเบียนเพื่อให้ทราบว่ามีการเสียภาษีสอดคล้องกับสภาพเป็นจริงของกิจการก่อนอนุมัติให้เป็นผู้ส่งออกขึ้นทะเบียน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"/>
          <p:cNvSpPr txBox="1"/>
          <p:nvPr/>
        </p:nvSpPr>
        <p:spPr>
          <a:xfrm>
            <a:off x="2124000" y="2133720"/>
            <a:ext cx="4824360" cy="162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สวัสดี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52360" y="1726920"/>
            <a:ext cx="8640720" cy="38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ั้งห้างหุ้นส่วนสามัญหรือคณะบุคคลที่มิใช่นิติบุคคล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ประกอบธุรกิจอื่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นำเงินได้พึงประเมินจากต่างประเทศเข้ามาในประเทศไทยภายในปีภาษีเดียวกับปีที่เกิดเงินได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เกี่ยวเครดิตภาษีตาม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เงินปันผล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เงินส่วนแบ่งของกำไรจากบริษัทหรือห้างหุ้นส่วนนิติบุคคลที่ตั้งขึ้นตามกฎหมายไท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807200" y="517680"/>
            <a:ext cx="548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Loophole: PIT</a:t>
            </a: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AF5-CEB7-4492-A148-07017416AE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684360" y="1382040"/>
            <a:ext cx="81356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เลือกเสียภาษีเงินได้บุคคลธรรมด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หักลดหย่อนบุต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หักลดหย่อนดอกเบี้ยเงินกู้ยืมเพื่อที่อยู่อาศั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หักลดหย่อนเบี้ยประกันชีวิต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หักลดหย่อนบุพการ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807200" y="228600"/>
            <a:ext cx="548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Loophole: PIT</a:t>
            </a: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70A-FF45-458A-9890-C58E4E0CBCD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่องโหว่ของกฎหมายภาษีเงินได้นิติบุคคลตามประมวลรัษฎากร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9036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ิดดอกเบี้ยเงินกู้ยืมที่บริษัทกู้ยืมจากผู้ถือหุ้น กรรมการ หรือผู้เป็นหุ้นส่ว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ปิดประมูล กรณีที่ไม่อาจทราบราคาตลาดที่แน่นอน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บริษัทหรือห้างหุ้นส่วนนิติบุคคลในเครือเดียวกัน เพื่อประกอบกิจ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รับทำการวิจัยและพัฒนาเทคโนโลย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297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-house Training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ฝึกอบรมและพัฒนาเฉพาะพนักงานหรือลูกจ้างของบริษัทหรือห้างหุ้นส่วนนิติบุคคลในเครือเดียวกั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284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โรงเรียนเอกชน หรือสถาบันอุดมศึกษาเอกช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ให้เช่ารถยนต์นั่ง หรือรถยนต์โดยสารที่มีที่นั่งไม่เกิ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315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เรือเดินทะเล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314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เด็นพิจารณาการคิดดอกเบี้ยสำหรับ เงินกู้ยืมจากกรรมการหรือผู้เป็นหุ้นส่ว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42920" y="1728720"/>
          <a:ext cx="8818560" cy="4437000"/>
        </p:xfrm>
        <a:graphic>
          <a:graphicData uri="http://schemas.openxmlformats.org/drawingml/2006/table">
            <a:tbl>
              <a:tblPr/>
              <a:tblGrid>
                <a:gridCol w="2500200"/>
                <a:gridCol w="3152880"/>
                <a:gridCol w="316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P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กณฑ์รับรู้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วา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ตกต่างด้านเวลา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ริษัท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้างฯรับรู้ดอกเบี้ยจ่ายตามเกณฑ์สิทธิ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=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ถือเป็นรายจ่ายได้ทันที เป็นผลให้ประหยัดภาษี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%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ปจนกว่าจะจ่ายดอกเบี้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รับรู้เงินได้ตามเกณฑ์เงินสด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=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ถือเป็นเงินได้ต่อเมื่อได้รับจริ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วามแตกต่างใ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ำนวนเม็ดเง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โดยทั่วไปอั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%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NP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ในส่วนที่เป็นเงินปันผลของผู้ถือหุ้นอีก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%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NP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วมเป็น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7%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N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ถูกหัก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WT.15%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ม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(2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ีสิทธิเลือกเสีย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PIT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ม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8(3) =Final Tax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ผลให้ประหยัดภาษีได้ ถึง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2%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่องโหว่ของกฎหมายภาษีเงินได้นิติบุคคลตามประมวลรัษฎากร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7640" y="155736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จำหน่ายหนี้สูญ สำหรับลูกหนี้ที่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,0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โดยไม่ต้องดำเนินคดีทางศาลต่อลูกหนี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ที่ไม่คุ้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ลือกใช้สิทธิทำลายสินค้า แทนการบริจาค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ลือกใช้สิทธิหักค่าสึกหรอและค่าเสื่อมราคาสำหรับเครื่องจักร และอุปกรณ์ของเครื่องจักรที่ใช้ในการทำวิจัยและพัฒนา หรือเครื่องบันทึกการเก็บเงินเพื่อการออกใบกำกับภาษีอย่างย่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วบคุมจำนวนรายจ่ายค่ารับรองที่กฎหมายยอมให้หั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หักรายจ่ายค่าบริจาคเป็นสองเท่าของจำนวนค่าใช้จ่ายแต่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กำไรสุทธ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420, 428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ารควบคุมจำนวนรายจ่ายค่าการกุศลสาธารณะ หรือรายจ่ายเพื่อการสาธารณประโยชน์ และรายจ่ายเพื่อการศึกษาหรือเพื่อการกีฬ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่องโหว่ของกฎหมายภาษีเงินได้นิติบุคคลตามประมวลรัษฎากร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7640" y="155736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นำผลขาดทุนสุทธิจากการประกอบกิจการที่ได้เข้าไปลงทุน ไปใช้เป็นรายจ่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ร้างหลักฐานในการประกอบกิจการให้ครบถ้วนสมบูรณ์ และสอดคล้องกับหลักเกณฑ์ และเงื่อนไขแห่ง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ในการลดอัตราภาษีเงินได้นิติบุคคลสำหรับบริษัทหรือห้างหุ้นส่วนนิติบุคคลที่ตั้งขึ้นตามกฎหมายไทย ที่มีทุนจดทะเบียนชำระแล้วในวันสุดท้ายของรอบระยะเวลาบัญชี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่องโหว่ของกฎหมายภาษีเงินได้นิติบุคคลตามกฎหมายอื่น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7640" y="1468440"/>
            <a:ext cx="8893080" cy="51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ประโยชน์ตามกฎหมายว่าด้วยการส่งเสริมการลงทุน กฎหมายว่าด้วยการนิคมอุตสาหกรรม กฎหมายว่าด้วยศุลก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3 – 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ศุลกากรสำหรับเครื่องจักรและวัตถุดิบที่นำเข้ามาใช้ผลิตสินค้าตามโครง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างหลักประกัน สำหรับ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เครื่องจักรและวัตถุดิบที่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เข้ามาใช้ผลิตสินค้าตามโครง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ในการหักรายจ่ายเพื่อการคำนวณภาษีเงินได้นิติบุคคลตามกฎหมายว่าด้วยการฟื้นฟูสมรรถภาพคนพิ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8400" indent="-281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การจ้างพนักงานที่เป็นคนพิกา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อกรณีที่บริษัทหรือห้างหุ้นส่วนนิติบุคคลนั้นมีพนักตั้งแต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ขึ้นไป และการจัดอุปกรณ์อำนวยความสะดวกโดยตรงแก่คนพิการในอาคาร สถานที่ ยานพาหนะ หรือบริการสาธารณะอื่นๆ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604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้อเปรียบเทียบการภาษีอากร การบัญชี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อากร และการวางแผนภาษีอ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8000" y="1341360"/>
          <a:ext cx="9004320" cy="5261040"/>
        </p:xfrm>
        <a:graphic>
          <a:graphicData uri="http://schemas.openxmlformats.org/drawingml/2006/table">
            <a:tbl>
              <a:tblPr/>
              <a:tblGrid>
                <a:gridCol w="2664000"/>
                <a:gridCol w="3044880"/>
                <a:gridCol w="3295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ภาษีอา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บัญชีภาษีอา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วางแผนภาษีอา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ึกษาความรู้เบื้องต้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กี่ยวกับภาษีอากร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วามหมายของ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ากร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การจัดเก็บ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ากร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โยบายภาษีอา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เภทภาษีอากร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ัตถุประสงค์ของภาษีอากร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ลักษณะภาษีที่ดี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Microsoft Sans Serif"/>
                        <a:buChar char="-"/>
                        <a:tabLst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งค์ประกอบกม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อากร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อากรที่จัดเก็บในประเทศไท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ึกษาเกี่ยวก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คำนวณจำนว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อากรที่ต้องชำร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ห้ถูกต้องตามหลั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กณฑ์ วิธีการและเงื่อน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ขที่กฎหมายกำหนด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าทิ การคำนวณ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ได้ ภาษีเงินได้หั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ณ ที่จ่าย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SB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จัดทำเอกส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ฐานทางบัญชีแล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างภาษีอากร แล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บันทึก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ัญชีภาษีอากร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ึกษาข้อกำหนดในการปฏิบัติการในอนาคตทั้งระยะสั้นและระยะยาวเกี่ยว กับการแก้และป้องกันปัญหาทางภาษีอากร เพื่อให้การเสียภาษีอากร และการปฏิบัติการทางภาษีอากรเป็นไปโดยถูกต้อ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รบถ้วนตามหลักเกณฑ์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ิธีการ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เงื่อนไขที่กม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ำหน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ั้งนี้ ต้องเสียเป็นจำนวนน้อยที่สุด โดยไม่ทุจริตหลีกเลี่ยงภาษีอากร และใช้สิทธิประโยชน์ทางภาษีอากร</a:t>
                      </a: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่องโหว่ของกฎหมายภาษีเงินได้นิติบุคคลตามกฎหมายอื่น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7640" y="155736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ประโยชน์ตามกฎหมายว่าด้วยศุลกากร สำหรับการประกอบกิจการในเขตปลอดอ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ree Zone: FZ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คลังสินค้าทัณฑ์บนตามกฎหมายว่าด้วยศุลกากร แ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PZ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xport Processing Zone: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ตอุตสาหกรรมส่งออ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กฎหมายว่าด้วยการนิคมอุตสาหกรร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น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หยัดต้นทุนและค่าใช้จ่ายเกี่ยวกับภาษีศุลก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63600" y="1102320"/>
            <a:ext cx="84564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ยกกิจการขายสินค้าต่างหากจากกิจการรับจ้างทำขอ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ยกกิจการขนส่งออกต่างหากจากกิจการจ้างทำขอ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ให้เช่าทรัพย์ส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ใช้ภาษีเงินได้หั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จ่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ต่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เซอร์วิสอพาร์ทเมนท์ครบวงจ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การโฆษณา แทนการให้เช่าทรัพย์ส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820880" y="372960"/>
            <a:ext cx="546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Loophole: WT</a:t>
            </a: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1825-1E86-4D1C-B941-1D13AF5A8D9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99880" y="1433520"/>
            <a:ext cx="8533080" cy="38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่ายเงินผ่านธนาคาร เพื่อลดภาระหน้าที่เกี่ยวกับภาษีเงินได้หั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จ่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ลื่อนจุดการจ่ายเงินได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ภาษีเงินได้หัก ณ ที่จ่ายเพื่อการเสียภาษีเงินได้นิติบุคคลครึ่งปี และประจำป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าณการจากจำนวนภาษีเงินได้หัก ณ ที่จ่า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820880" y="344520"/>
            <a:ext cx="546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Loophole: WT</a:t>
            </a: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A8AD-588F-4334-B21F-46CA59CF340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่องโหว่ของกฎหมายภาษีมูลค่าเพิ่มตามประมวลรัษฎากร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7640" y="155736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ปลี่ยนนโยบายส่งเสริมการขาย โดยการแจกสินค้าหรือของขวัญ ของชำร่วยให้แก่ลูกค้า มาเป็นการแถมพร้อมกับการขายหรือการให้บริการ หรือให้ส่วนลดการค้า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รางวัลแก่ลูกจ้างหรือพนักงาน หรือรางวัลในการประกวด การแข่งขัน การชิงโชคเป็น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ส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แทนการให้รางวัลเป็นสินค้าหรือเป็นสิ่งข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บริจาคเงินสด แทนการบริจาคเป็นสิ่งข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ลูกค้าไปออกของ ณ ด่านศุลกากรและชำระภาษีมูลค่าเพิ่ม สำหรับสินค้าที่นำเข้ามาเพื่อขายให้แก่ลูกค้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พนักงานใช้เครื่องแบบในการปฏิบัติงาน โดยยังถือเป็นกรรมสิทธิ์ของกิจ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่องโหว่ของกฎหมายภาษีมูลค่าเพิ่มตามประมวลรัษฎากร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7640" y="1484280"/>
            <a:ext cx="88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ลื่อนจุดความรับผิดในการเสีย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ในภาษีซื้อในอาคารที่ก่อสร้างเพื่อใช้ในกิจการที่ต้องเสียภาษีมูลค่าเพิ่มให้ครบสามป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ภาษีซื้อตามใบกำกับภาษีแบบเต็มรูปฉบับที่เป็นสำเนา หรือมีรายแก้ไข ไปถือเป็นรายจ่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ให้บริการรับจ้างทำของ โดยไม่แยกเป็นกิจการให้บริการ และกิจการขายสินค้าต่างหากจากกัน เพื่อหลีกเลี่ยงการจัดทำรายงานสินค้าและวัตถุดิบ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ให้เช่ารถยนต์นั่งหรือรถยนต์โดยสารที่มีที่นั่ง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เพื่อให้สามารถใช้ภาษีซื้อสำหรับรถยนต์ดังกล่าว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่องโหว่ของกฎหมายภาษีมูลค่าเพิ่มตามประมวลรัษฎากร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7640" y="155736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แบบแสดงรายการภาษีมูลค่าเพิ่มถูกต้องครบถ้วน และภายในกำหนดเวลาที่กฎหมายกำหน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ในเขตปลอด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ใช้สิทธิยกเว้นภาษีมูลค่าเพิ่มสำหรับการนำเข้าสินค้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ใช้สิทธิเสียภาษีมูลค่าเพิ่มอั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เกี่ยวกับการเฉลี่ยภาษีซื้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เสียภาษีมูลค่าเพิ่มอั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11280" y="1628640"/>
            <a:ext cx="1944720" cy="1203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299280" y="1628640"/>
            <a:ext cx="1944720" cy="1203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556000" y="2205000"/>
            <a:ext cx="367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372120" y="168588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Move St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123000" y="2205000"/>
            <a:ext cx="2663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Deemed S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(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763640" y="3289320"/>
            <a:ext cx="5977080" cy="26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oophole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ื่อ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A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่าโกดังจา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A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จดแจ้งสาข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จัดทำ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tock Book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สาข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ากสินค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A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ต้องจดแจ้งเพิ่มสาข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964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รุปช่องโหว่ของกฎหมายภาษีมูลค่าเพิ่ม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7640" y="13410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ประโยชน์เกี่ยวกับการขายสินค้าหรือการให้บริการที่ไม่ต้องเสียภาษีมูลค่าเพิ่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ได้รับยกเว้น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Exemption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ที่ไม่นับรวมเป็นฐาน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VAT Bas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ที่ไม่อยู่ในบังคับที่ต้องเสีย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ut of VAT Scop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เสียภาษีมูลค่าเพิ่มอั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การขจัดภาระภาษีมูลค่าเพิ่มที่แฝงรวมอยู่ในราคาสินค้าหรือ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เกี่ยวกับภาษีซื้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ภาษีซื้อโดยถูกต้องและครบถ้วน ในฐานะผู้ประกอบการจดทะเบีย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เกี่ยวกับการเฉลี่ยภาษีซื้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228600" y="1182960"/>
            <a:ext cx="8604360" cy="51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รับโอนการเป็นผู้ถือหุ้น หรือการเป็นหุ้นส่วนแทนการซื้อขายอสังหาริมทรัพย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กู้ยืมเงินแก่ “บริษัทหรือห้างหุ้นส่วนนิติบุคคลในเครือเดียวกัน” เพื่อใช้สิทธิยกเว้น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ชะลอการจดทะเบียนสิทธิหรือนิติกรรมสำหรับการขายอสังหาริมทรัพย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ลือกรับรู้รายรับเพื่อการคำนวณภาษีธุรกิจเฉพาะ ตามเกณฑ์เงินสดแทนการใช้เกณฑ์สิทธ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กู้ยืมเงินแก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ในเครือเดียวกั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ใช้สิทธิยกเว้น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ชั่วคราวโดยไม่ต้องจดทะเบีย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171520" y="214200"/>
            <a:ext cx="47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Loophole: SB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FFC7-E469-4B61-BB6B-78B860BFE77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ั้นตอนการวางแผนภาษีมูลค่าเพิ่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993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ั้นตอนการศึกษาและจัดทำแผน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ั้นตอนก่อนการวางแผน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ั้นตอนการวางแผน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ั้นตอนการนำแผนภาษีมูลค่าเพิ่มไปปฏิบัต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ั้นตอนการติดตามประเมินผลการปฏิบัติตามแผน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1844640"/>
            <a:ext cx="2179800" cy="192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25840" y="1844640"/>
            <a:ext cx="2179800" cy="192780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Gr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37280" y="1844640"/>
            <a:ext cx="2179800" cy="192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icrosoft Sans Serif"/>
              </a:rPr>
              <a:t>Wh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473280" y="1267920"/>
            <a:ext cx="2519640" cy="25210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18000" y="1413000"/>
            <a:ext cx="2374920" cy="2808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6920" y="4427640"/>
            <a:ext cx="47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bjective of Tax Planning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o eliminate “grey area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ั้นตอนก่อนการวางแผนภาษีอ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99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บุคลากรที่เกี่ยวข้องกับการวางแผน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รูปแบบการจัดองค์การ ขั้นตอนการดำเนินธุรกิจ ตลอดจนเอกสารทางธุรกิ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หลักเกณฑ์ วิธีการ และเงื่อนไขเกี่ยวกับ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ภาษีมูลค่าเพิ่มของธุรกิจที่ต้องการจัดให้มีการวางแผ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ำหนดบุคลากรที่เกี่ยวข้องกับ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วางแผนภาษีอ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21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่ายจัดการหรือผู้บริหารระดับสู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่ายบัญชีการเงินและ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่ายการตลา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่ายกฎหม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่ายอื่นที่เกี่ยวข้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เชี่ยวชาญทาง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73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2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ศึกษารูปแบบการจัดองค์การ ขั้นตอนการดำเนินธุรกิจ และเอกสารทางธุรกิจ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5993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รูปแบบการจัดองค์การ อาท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120" indent="-2667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ครงสร้างเงินทุนของกิจการ และวิธีการจัดการทางการเงิน เช่น แหล่งเงินทุน จำนวนเงินทุ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0120" indent="-2667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ูปแบบหรือลักษณะของการเป็นเจ้าของ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0120" indent="-2667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ตถุประสงค์ของกิจการ ปรัชญา วิสัยทัศน์ และภารกิ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0120" indent="-2667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ผนเชิงกลยุทธ์ การบริหารเชิงกลยุทธ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0120" indent="-2667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ัดแบ่งองค์การ และสายการบังคับบัญช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0120" indent="-2667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บริหารทรัพยากรมนุษย์ในองค์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HRM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0120" indent="-2667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บริห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ิเคราะห์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W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ิเคราะห์ ปัจจัยด้านเศรษฐกิจ และอุตสาหกรรมที่เกี่ยวข้องกับกิจการ สภาวการณ์ที่สำคัญ ซึ่งมีผลกระทบต่อธุรกิ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373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2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ศึกษารูปแบบการจัดองค์การ ขั้นตอนการดำเนินธุรกิจ และเอกสารทางธุรกิจ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ขั้นตอนการดำเนินธุรกิจเกี่ยวกับประเด็นทางภาษีอากรและการปรับระบบเอกสารทางธุรกิจให้สอดคล้องกับ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ระบบเอกสารทางธุรกิจและระบบบัญชีของกิจการ อาทิ ผังบัญชี ระบบบัญชี และการวางรูประบบบัญชี รูปแบบของเอกสารประกอบการลงบัญชี วิธีการบันทึกบัญชี และการจัดทำเอกสารหลักฐานทางธุรกิจและทางภาษีอากร งบการเงิน เอกสารสัญญาทางธุรกิ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ระบบการควบคุมภายในและการตรวจสอบภายใ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และวิเคราะห์ผลการประกอบกิจ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นโยบายขององค์กรต่อสังคมและสิ่งแวดล้อม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323640" y="1670040"/>
            <a:ext cx="805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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ครงสร้างภาษีอากรแต่ละประเภ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ของภาษีอากร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คำนวณภาษีอากร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สีย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อื่นในทาง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จัดข้อโต้แย้งทางภาษีอากร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ทาง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3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ศึกษาหลักเกณฑ์ วิธีการ และเงื่อนไขเกี่ยวกับภาษีอ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4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ัญหาภาษีมูลค่าเพิ่มทั่วไปของธุรกิจ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การปฏิบัติการต่างๆ ทางภาษีมูลค่าเพิ่มในงานปกติประจำวั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Routine Faul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ิดพลาดไม่ถูกต้อง ครบถ้วน ตามหลักเกณฑ์ วิธีการ และเงื่อนไขของกฎหม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ไม่ถูกต้องเกี่ยวกับความรับผิดในการเสีย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ไม่ถูกต้องเกี่ยวกับการออกใบกำกับภาษี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ไม่ถูกต้องเกี่ยวกับฐานภาษีและอั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ไม่ถูกต้องเกี่ยวกับการใช้แบบแสดงราย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ไม่ถูกต้องเกี่ยวกับการให้ความร่วมมือแก่เจ้าพนัก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เจ้าหน้าที่ระดับปฏิบัติในองค์กร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การปฏิบัติการในแต่ละขั้นตอนของการดำเนินธุรกิจ ตลอดจนการจัดทำสัญญาไม่สอดคล้องกับหลักเกณฑ์ วิธีการ และเงื่อนไขของกฎหมาย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จากผู้บริหารขององค์กร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4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ัญหาภาษีมูลค่าเพิ่มทั่วไปของธุรกิจ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ความแตกต่างของหลักเกณฑ์ วิธีการ และเงื่อนไขทางธุรกิจและบัญชีการเงิน กับหลักเกณฑ์ วิธีการ และเงื่อนไขทาง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ความแตกต่างเกี่ยวกับเกณฑ์การรับรู้รายได้จากการขายสินค้าหรือการให้บริ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ความแตกต่างเกี่ยวกับมูลค่าของฐานภาษ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บัญชีภาษีอากร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ปลี่ยนแปล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หลายหลา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iversification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ท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จากการเปลี่ยนแปลงลักษณะของธุรกิจหรือขยายกิจ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การเฉลี่ยภาษีซื้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การนำส่งภาษีมูลค่า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ความต้องการความเป็นมาตรฐานสาก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4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ัญหาภาษีมูลค่าเพิ่มทั่วไปของธุรกิจ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การใช้สิทธิประโยชน์ทางภาษีมูลค่าเพิ่มขององค์กรยังเป็นไปอย่างไม่เต็มที่หรือสมบูรณ์ตามที่ควรจะเป็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ช่องโหว่ด้านรายได้ อาทิ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Exemption, Non VAT Base, Out of VAT Scop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ในภาษีซื้ออย่างถูกต้องและครบถ้วน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เกี่ยวกับอัตราภาษ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วางหลักประกันภาษีมูลค่าเพิ่มสำหรับกิจการที่ได้รับการส่งเสริมการลงทุน 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สิทธิประโยชน์ตามกฎหมายศุลกากรเกี่ยวกับเขตปลอดอ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ree Zon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อื่น อาท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แตกต่างของรายได้ตาม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ั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การขอคืน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การขจัดข้อโต้แย้งทางภาษีมูลค่าเพิ่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ด้านรายได้ทางบัญชีกับ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างภาษีอ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3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ณฑ์รับรู้รายได้ตามหลักการบัญชีที่รับรองทั่วไปกับเกณฑ์รับรู้รายได้ทางภาษีอากรตามประมวลรัษฎากร อาท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รับรู้รายได้จากการขายอสังหาริมทรัพย์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รับรู้รายได้เงินปันผลหรือเงินส่วนแบ่งของกำไร ตา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ณฑ์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quity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รับรู้รายได้ของกิจการสันทนากา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รับรู้รายได้เงินประกันหรือเงินมัดจ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การรับรู้รายได้จากการโอนทรัพย์สินหรือสินค้า การให้ บริการ และการให้กู้ยืมเงินตามราคาตลาด ตาม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รายได้ที่เป็นเงินปันผลหรือเงินส่วนแบ่งของกำไ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ที่กฎหมายกำหนดให้ถือเป็นการขายสินค้าตาม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ที่ได้รับยกเว้นภาษีตามประมวลรัษฎ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ที่รับยกเว้นภาษีตามพระราชบัญญัติส่งเสริมการลงทุ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ด้านรายจ่ายทางบัญชีกับ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างภาษีอ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37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เกี่ยวกับการหักค่าสึกหรอและค่าเสื่อมราคาทรัพย์ส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เกี่ยวกับการจำหน่ายหนี้สูญ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ต้องห้ามโดยผลของกฎหมาย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ดัง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สมทบกองทุนสำรองเลี้ยงชีพ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รับรอง หรือค่าบริ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ี้ยปรับ เงินเพิ่ม ค่าปรับทางอาญา และภาษีเงินได้นิติบุคคลที่คำนวณจากฐานกำไรสุทธ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ที่พึงชำร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เดือนของผู้ถือหุ้นหรือผู้เป็นหุ้นส่วนเฉพาะส่วนที่จ่า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ินสมคว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ซึ่งควรจะได้จ่ายในรอบระยะเวลาบัญชีอื่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ลเสียหายอันอาจได้กลับคืนเนื่องจากการประกั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ญญาคุ้มกันใดๆ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856720" cy="33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น้าที่ของผู้บริหาร</a:t>
            </a:r>
            <a:r>
              <a:rPr b="0" lang="en-US" sz="2800" spc="-1" strike="noStrike">
                <a:solidFill>
                  <a:srgbClr val="ffcc66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ิดโดยแยบยลถึงปัญหา และสาเหตุของปัญหา ตลอดจนเป้าหมายหรือวัตถุประสงค์ของหน่วยงา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บรวมข้อมูลอันเกี่ยวกับปัญหา และสาเหตุของปัญห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แนวทางการแก้ปัญหา โดยวางแผนปฏิบัติงา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Action Plan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ชัดเจนด้วยแนวความคิดเชิงบว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แผนไปปฏิบัต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บคุมบังคับบัญชาให้การปฏิบัติงานเป็นไปตามแผ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21880" y="4428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Executive’s Fun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3860640"/>
            <a:ext cx="88930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ิดตามประเมินผลการปฏิบัติงานตามแผ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มาตรฐานในการทำงา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หารและจัดการงานในสำนักงาน อาทิ ปัจจั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M’s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ากรมนุษย์ เงิน วัสดุอุปกรณ์ เครื่องมือเครื่องใช้ เทคโนโลยีสารสนเทศโดยการวินิจฉัยสั่งการ การสื่อส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ิดต่อประสานงานกับหน่วยงานภายนอ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E7C-36D4-424C-B67E-305C91EB24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ด้านรายจ่ายทางบัญชีกับ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างภาษีอ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ต้องห้ามโดยผลของกฎหมาย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ดัง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ซื้อทรัพย์สินและรายจ่ายเกี่ยวกับการซื้อหรือขา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ในส่วนที่เกินปกติโดยไม่มีเหตุผลอันสมคว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ของทรัพย์สินนอกจากสินค้าที่ตีราคาต่ำลง การด้อยค่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ซึ่งพิสูจน์ไม่ได้ว่าใครเป็นผู้รั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ใดๆ ที่กำหนดจ่ายจากผลกำไรที่ได้เมื่อสิ้นสุดรอ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ะยะเวลาบัญชีแล้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ต้นทุนของรถยนต์นั่งและรถยนต์โดยสารที่มีที่นั่งไม่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พาะส่วนที่เกินหนึ่งล้านบา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และค่าเช่า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ถยนต์นั่งและรถยนต์โดยสารที่มีที่นั่ง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เฉพาะ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ที่เกิน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@ 36,000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หรือ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@ 1,200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ด้านการตีราคาทรัพย์สินและหนี้สินทางบัญชีกับทางภาษีอ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ีราคาทรัพย์สินเพิ่มขึ้น 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ีราคาเงินตรา ทรัพย์สิน และหนี้สินที่มีค่าหรือราคาเป็นเงินตราต่างประเทศ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ีราคาทรัพย์สิน ณ วันเลิกกิจการ ควบกิจการ หรือโอนกิจการ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4(1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ของรายได้ตาม ภ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ง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ด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50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ับรายได้ตาม ภ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30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ณฑ์รับรู้รายได้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ของฐานภาษี กรณีส่งออกสินค้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ของฐานภาษ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ขายทรัพย์ส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ของฐานภาษี กรณีไม่นับรวมเป็นมูลค่าของฐา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รายได้ที่ไม่อยู่ในข่ายที่ต้องเสี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ของฐานภาษี กรณีเงินมัดจำค่าบริ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ของฐานภาษี กรณีรายได้รับล่วงหน้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ของฐานภาษี กรณีรายได้ค้างรั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จากอัตราแลกเปลี่ย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กฎหมายกำหนดให้ถือเป็นการขายตาม 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กฎหมายกำหนดให้ถือเป็นการขายสินค้าหรือให้บริกา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ของรายได้ตาม ภ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ง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ด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50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ับรายได้ตาม ภ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30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79280" y="1566720"/>
          <a:ext cx="8893440" cy="4743720"/>
        </p:xfrm>
        <a:graphic>
          <a:graphicData uri="http://schemas.openxmlformats.org/drawingml/2006/table">
            <a:tbl>
              <a:tblPr/>
              <a:tblGrid>
                <a:gridCol w="2592360"/>
                <a:gridCol w="3024360"/>
                <a:gridCol w="327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7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ขายสิน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ทั่วไ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มัดจำ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ล่วงหน้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กณฑ์สิทธิ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ั้งพักเป็นเจ้าหนี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ส่งมอบสิน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ซึ่งจะกลายเป็นความแตกต่างเมื่อส่งมอ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ช่าซื้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งวดทีถึงกำหนดชำร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ช่นเดียวกั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ู ป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36/2536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กอ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ส่งออ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ทั่วไ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ค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ตราแลกเปลี่ย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รายได้เมื่อส่งมอบหรือโอนความเสี่ย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ที่ตกลงกั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ณ วันที่ส่งมอบหรือโอนความเสี่ยงในสิน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ผ่านพิธีศุลกา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FOB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9/4(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ของรายได้ตาม ภ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ง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ด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50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ับรายได้ตาม ภ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30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142920" y="1542960"/>
          <a:ext cx="8893080" cy="4765680"/>
        </p:xfrm>
        <a:graphic>
          <a:graphicData uri="http://schemas.openxmlformats.org/drawingml/2006/table">
            <a:tbl>
              <a:tblPr/>
              <a:tblGrid>
                <a:gridCol w="2665440"/>
                <a:gridCol w="2950920"/>
                <a:gridCol w="327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ฝากขายสิน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ทั่วไ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รายได้เมื่อตัวแทนขายสินค้า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8(3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กา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บับที่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ให้บริ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ทั่วไ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ค้างรับ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มัดจำ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ล่วงหน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กณฑ์สิทธิ ตามส่วนของงานที่ทำเสร็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ั้งพักเป็นเจ้าหนี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รับชำระราค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ซึ่งจะกลายเป็นความแตกต่างเมื่อรับชำระราค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งวัลจาก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งเสริมการข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นับเป็นฐาน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่าปรับ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นไห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นับเป็นฐาน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592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ของรายได้ตาม ภ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ง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ด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50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ับรายได้ตาม ภ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30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79280" y="1508040"/>
          <a:ext cx="8893440" cy="5005440"/>
        </p:xfrm>
        <a:graphic>
          <a:graphicData uri="http://schemas.openxmlformats.org/drawingml/2006/table">
            <a:tbl>
              <a:tblPr/>
              <a:tblGrid>
                <a:gridCol w="2880000"/>
                <a:gridCol w="2736720"/>
                <a:gridCol w="327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ำไรจากอัตร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กเปลี่ย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นับเป็นฐาน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ถือเป็น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ายสินค้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70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งออกอั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ายทรัพย์สินเก่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เฉพาะส่วนที่เป็นกำไ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ั้งจำนว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ริจาคสิน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ถือเป็น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างกรณี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2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จกสิน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ถือเป็น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3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ำสินค้าไปใช้ใ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Non 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ถือเป็น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ถือเป็นการขายสินค้าหรือให้บริการ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4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อกเบี้ย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ปันผ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นับเป็นฐาน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แนวทางการกระทบยอด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รับชำระเงินสดประจำงวด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12480" y="1628640"/>
            <a:ext cx="85071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ลูกหนี้ต้นงวด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 u="sng">
                <a:solidFill>
                  <a:srgbClr val="ffffff"/>
                </a:solidFill>
                <a:uFillTx/>
                <a:latin typeface="Arial"/>
                <a:cs typeface="Microsoft Sans Serif"/>
              </a:rPr>
              <a:t>บวก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รายได้ระหว่างงวด และ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งินมัดจำปลายงวด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Microsoft Sans Serif"/>
              </a:rPr>
              <a:t>xx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Microsoft Sans Serif"/>
              </a:rPr>
              <a:t>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รวมเป็น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Microsoft Sans Serif"/>
              </a:rPr>
              <a:t>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 u="sng">
                <a:solidFill>
                  <a:srgbClr val="ffffff"/>
                </a:solidFill>
                <a:uFillTx/>
                <a:latin typeface="Arial"/>
                <a:cs typeface="Microsoft Sans Serif"/>
              </a:rPr>
              <a:t>หัก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ลูกหนี้ปลายงวด และ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งินมัดจำต้นงวด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Microsoft Sans Serif"/>
              </a:rPr>
              <a:t>xx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Microsoft Sans Serif"/>
              </a:rPr>
              <a:t>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รับชำระเงินสดประจำงวด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Microsoft Sans Serif"/>
              </a:rPr>
              <a:t>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ั้นตอนการวางแผนภาษีอากร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818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ประเด็นภาษีอากรที่เกี่ยวข้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ป้าหมายของการแก้ปัญหา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ั้นตอนการแก้ปัญหา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อากรที่เกี่ยวข้องกับธุรกิจ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นิติบุคคล – </a:t>
            </a:r>
            <a:r>
              <a:rPr b="0" lang="hi-IN" sz="28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บริษัทหรือห้างฯ นิติบุคค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บุคคลธรรมดาหัก ณ ที่จ่าย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นิติบุคคลหัก ณ ที่จ่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ศุลก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สรรพสามิต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ประเภทอื่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รถยนต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โรงเรือนและที่ดิน ภาษีป้าย และภาษีบำรุงท้องที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เด็นทางภาษีอากร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ด็นทางด้านราย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venue Issues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ด็นทางด้านรายจ่า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xpenditure Issues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ด็นทางด้านทรัพย์สิน หนี้สิน และทุน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ด็นหน้าที่ทางภาษีอากรประเภทอื่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71640" y="549360"/>
            <a:ext cx="1752480" cy="1143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700360" y="2204640"/>
            <a:ext cx="1676520" cy="2133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987640" y="692280"/>
            <a:ext cx="220968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755640" y="2781360"/>
            <a:ext cx="388800" cy="2200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5564160" y="2771640"/>
            <a:ext cx="1828800" cy="1447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156000" y="404280"/>
            <a:ext cx="685800" cy="1676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356000" y="4149360"/>
            <a:ext cx="2303640" cy="219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8840" y="638280"/>
            <a:ext cx="251460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11280" y="1324080"/>
            <a:ext cx="2286000" cy="1218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2668320" y="3762000"/>
            <a:ext cx="297180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545240" y="1095480"/>
            <a:ext cx="381240" cy="2133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2400" y="2932200"/>
            <a:ext cx="1752480" cy="1143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868560" y="4150800"/>
            <a:ext cx="1676520" cy="2133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868200" y="3008160"/>
            <a:ext cx="221004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547640" y="3860640"/>
            <a:ext cx="0" cy="2362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30520" y="4379400"/>
            <a:ext cx="1870200" cy="1209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5508360" y="1700280"/>
            <a:ext cx="1942920" cy="1944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940360" y="5229000"/>
            <a:ext cx="2286000" cy="75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32000" y="1916280"/>
            <a:ext cx="251460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278000" y="2932200"/>
            <a:ext cx="2286000" cy="1218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335040" y="5370120"/>
            <a:ext cx="297180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40720" y="2421000"/>
            <a:ext cx="380880" cy="2133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1773360"/>
            <a:ext cx="1752840" cy="1143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17840" y="2758680"/>
            <a:ext cx="1676520" cy="2133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924360" y="1268280"/>
            <a:ext cx="2425680" cy="142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195640" y="3068640"/>
            <a:ext cx="0" cy="2362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779800" y="2987640"/>
            <a:ext cx="592200" cy="1736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7164000" y="549360"/>
            <a:ext cx="685800" cy="1676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789440" y="4892400"/>
            <a:ext cx="2286000" cy="75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547640" y="260280"/>
            <a:ext cx="2584800" cy="23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39640" y="2276640"/>
            <a:ext cx="2286000" cy="1218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2555640" y="4868640"/>
            <a:ext cx="297180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317080" y="836280"/>
            <a:ext cx="380880" cy="2133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08400" y="3147840"/>
            <a:ext cx="1299960" cy="1649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24360" y="3860280"/>
            <a:ext cx="1676520" cy="2133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067280" y="3500280"/>
            <a:ext cx="220968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843280" y="4365720"/>
            <a:ext cx="504720" cy="2146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5940360" y="4724280"/>
            <a:ext cx="1828800" cy="1447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7164000" y="1700280"/>
            <a:ext cx="685800" cy="1676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003640" y="5949720"/>
            <a:ext cx="2232360" cy="507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843280" y="1844280"/>
            <a:ext cx="295272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763640" y="3789000"/>
            <a:ext cx="2286000" cy="1219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563640" y="5949720"/>
            <a:ext cx="297180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8604000" y="2997360"/>
            <a:ext cx="158760" cy="2133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8820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ำเนินการวางแผนภาษีอากรโดยกำหนดเป้าหมายทางภาษีอากรให้ชัดเจน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ตุ้นให้ผู้บริหารเห็นความสำคัญ และหรือสนใจต่อสภาวะแวดล้อมทาง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ึกอบรมเจ้าหน้าที่ผู้เกี่ยวข้อง โดยเฉพาะระดับปฏิบัติการให้มีความรู้ความเข้าใจเกี่ยวกับภาษีอากรอย่างเพียงพ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อาใจใส่ต่อประเด็นปัญหาทางภาษีอากรในทุกครั้งที่จัดทำสัญญาทางธุรกิจ หรือเมื่อมีการปรับเปลี่ยนโครงสร้างหรือลักษณะของธุรกิ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ทำบัญชี และเก็บรักษาบัญชีและเอกสารหลักฐาน ให้ถูกต้องตามหลักเกณฑ์ของกฎหม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ทำคู่มือปฏิบัติงานทาง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883880" y="260280"/>
            <a:ext cx="53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Problem Solv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4190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ั้นตอนการนำแผน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อากรไปปฏิบัติ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50560" y="1787400"/>
            <a:ext cx="8599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ฏิบัติการทางด้านผู้บังคับบัญช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ฏิบัติการทางด้านผู้รับมอบหมายให้ปฏิบัติงานตามแผน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2" name=""/>
          <p:cNvGraphicFramePr/>
          <p:nvPr/>
        </p:nvGraphicFramePr>
        <p:xfrm>
          <a:off x="108000" y="909720"/>
          <a:ext cx="9036000" cy="5832360"/>
        </p:xfrm>
        <a:graphic>
          <a:graphicData uri="http://schemas.openxmlformats.org/drawingml/2006/table">
            <a:tbl>
              <a:tblPr/>
              <a:tblGrid>
                <a:gridCol w="2592360"/>
                <a:gridCol w="934920"/>
                <a:gridCol w="720720"/>
                <a:gridCol w="792360"/>
                <a:gridCol w="1079280"/>
                <a:gridCol w="865440"/>
                <a:gridCol w="792000"/>
                <a:gridCol w="1258920"/>
              </a:tblGrid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340000" y="205920"/>
            <a:ext cx="4464000" cy="63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Mapping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3635280" y="1917360"/>
            <a:ext cx="720720" cy="863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08000" y="6021000"/>
            <a:ext cx="2592360" cy="69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5280" y="220500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95280" y="234936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95280" y="249408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95280" y="263700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5280" y="33577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95280" y="364500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5280" y="350208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5280" y="378936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95280" y="39337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5280" y="407844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95280" y="422100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95280" y="43657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5280" y="451008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95280" y="508644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5280" y="206208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95280" y="49417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95280" y="522936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5280" y="53737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5280" y="551808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771640" y="609444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71640" y="63817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708360" y="609444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708360" y="63817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708360" y="623736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71640" y="623736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71640" y="652608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708360" y="652608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221440" y="6094440"/>
            <a:ext cx="21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708360" y="667080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221440" y="6526080"/>
            <a:ext cx="21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21440" y="6381720"/>
            <a:ext cx="21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221440" y="6237360"/>
            <a:ext cx="21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300720" y="609444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221440" y="6670800"/>
            <a:ext cx="21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300720" y="623736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300720" y="638172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300720" y="652608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300720" y="667080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165800" y="609444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165800" y="623736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956720" y="6094440"/>
            <a:ext cx="21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956720" y="6237360"/>
            <a:ext cx="21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5280" y="3213000"/>
            <a:ext cx="21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700360" y="1946160"/>
            <a:ext cx="50328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700360" y="2997360"/>
            <a:ext cx="503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356000" y="1917720"/>
            <a:ext cx="503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116000" y="944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623240" y="213372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613520" y="342900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08000" y="909720"/>
            <a:ext cx="259236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08000" y="12319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637080" y="1270080"/>
            <a:ext cx="1511280" cy="358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356000" y="1270080"/>
            <a:ext cx="0" cy="358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6600" y="162864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Reven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0080" y="27813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Expendi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-14400" y="454500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Assets &amp; Li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6280" y="5662440"/>
            <a:ext cx="22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Tax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832120" y="98100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42040" y="1197000"/>
            <a:ext cx="6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699000" y="1197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015440" y="83664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310360" y="98100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324840" y="98100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182720" y="981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905960" y="981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700360" y="4870440"/>
            <a:ext cx="50328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37080" y="4870440"/>
            <a:ext cx="50328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356000" y="4870440"/>
            <a:ext cx="50328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148360" y="4870440"/>
            <a:ext cx="50328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885080" y="4827600"/>
            <a:ext cx="50328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48360" y="1946160"/>
            <a:ext cx="50328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229440" y="1917720"/>
            <a:ext cx="50328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093080" y="1917720"/>
            <a:ext cx="50328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885080" y="1946160"/>
            <a:ext cx="50328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37080" y="2997360"/>
            <a:ext cx="503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56000" y="2997360"/>
            <a:ext cx="503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148360" y="2997360"/>
            <a:ext cx="503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229440" y="2997360"/>
            <a:ext cx="503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093080" y="2997360"/>
            <a:ext cx="503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885080" y="2997360"/>
            <a:ext cx="503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227640" y="4827600"/>
            <a:ext cx="50328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093080" y="4827600"/>
            <a:ext cx="503280" cy="8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FADD-F16A-46C4-AC8A-81F84FA36DA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712600" y="84240"/>
            <a:ext cx="38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 Manu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396720" y="1052280"/>
            <a:ext cx="842328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Business Background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to answer the new comers; Tax Officers, Auditor, New Executive &amp; Staff, Investor)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VAT Manual: Revenu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 Manual: Expenditur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Manual: A/S &amp; Li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They are same procedur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Manual: VAT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E38-1481-4C54-8524-6DA89A0CDB0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163880" y="372960"/>
            <a:ext cx="677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 Manual: Reven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471600" y="1413000"/>
            <a:ext cx="8061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der each Financial Trans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About GAAP: Generally Accepted A/C Princi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Content  (TAS #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A/C Ent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Supporting Doc. (Flow Char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Au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Internal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52280" y="364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1A1D-E656-45F4-B7EB-68DF92DFEE9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1163880" y="228600"/>
            <a:ext cx="677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 Manual: Reven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0563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der each Trans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About Taxation esp. V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VAT Law / Tax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VAT Reg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VAT Ru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VAT Docu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VAT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8D6-CCEC-4AF6-BF1A-2DA2B1B810F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1163880" y="444600"/>
            <a:ext cx="677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 Manual: Reven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der each Trans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The Difference of GAAP &amp; Taxation: V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W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How to adjust &amp; by whom &amp; w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Suggestions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Tax Risk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E348-8622-44A0-B0A3-36ADBF97517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682560" y="1484280"/>
            <a:ext cx="7850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จัดทำบัญชีตามกฎหมายว่าด้วยการบัญช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คำนวณภาษีเงินได้นิติบุคคล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ยื่นแบบและชำระภาษีเงินได้นิติบุคคล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พิสูจน์ความมีเหตุอันสมคว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ห้ความร่วมมือกับทางราช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977400" y="351000"/>
            <a:ext cx="719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Times New Roman"/>
                <a:cs typeface="Microsoft Sans Serif"/>
              </a:rPr>
              <a:t>หน้าที่เกี่ยวกับภาษีเงินได้นิติบุคค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คำนวณหักภาษีเงินได้ ณ ที่จ่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นำส่งภาษีหัก ณ ที่จ่าย พร้อมทั้งยื่นแบบแสดงรายการ ไม่ว่าจะได้หักไว้หรือไม่ก็ตา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ยื่นรายการสรุปการจ่ายเงินได้และการนำส่ง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ออกหนังสือรับการหักภาษี ณ ที่จ่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จัดทำบัญชีพิเศษแสดงการหัก และการนำส่งภาษ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ในการขอคืนภาษีเงินได้หัก ณ ที่จ่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ห้ความร่วมมือกับทางราช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68880" y="423720"/>
            <a:ext cx="77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Times New Roman"/>
                <a:cs typeface="Microsoft Sans Serif"/>
              </a:rPr>
              <a:t>หน้าที่เกี่ยวกับภาษีเงินได้หัก ณ ที่จ่า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642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จดทะเบียน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การจัดทำใบรับ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คำนวณ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ยื่นแบบและชำระหรือนำส่ง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ห้ความร่วมมือกับทางราช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82400" y="351000"/>
            <a:ext cx="63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Times New Roman"/>
                <a:cs typeface="Microsoft Sans Serif"/>
              </a:rPr>
              <a:t>หน้าที่เกี่ยวกับภาษีธุรกิจเฉพา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flipV="1">
            <a:off x="2195640" y="1915920"/>
            <a:ext cx="792000" cy="21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16000" y="2133720"/>
            <a:ext cx="792000" cy="230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03640" y="1699920"/>
            <a:ext cx="792000" cy="2219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79280" y="2205000"/>
            <a:ext cx="792360" cy="22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292720" y="333360"/>
            <a:ext cx="863640" cy="22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203640" y="333360"/>
            <a:ext cx="795240" cy="220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284720" y="333000"/>
            <a:ext cx="718920" cy="208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68360" y="333360"/>
            <a:ext cx="846360" cy="22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58920" y="333000"/>
            <a:ext cx="803160" cy="2282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356000" y="1341000"/>
            <a:ext cx="792360" cy="2158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651640" y="980640"/>
            <a:ext cx="790560" cy="201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524720" y="259920"/>
            <a:ext cx="801720" cy="2287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443640" y="259920"/>
            <a:ext cx="792360" cy="20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8317080" y="188640"/>
            <a:ext cx="502920" cy="1368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164360" y="333000"/>
            <a:ext cx="630360" cy="1655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4220640"/>
            <a:ext cx="662040" cy="1922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187280" y="4652640"/>
            <a:ext cx="720720" cy="180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348000" y="4005000"/>
            <a:ext cx="792360" cy="21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79280" y="3645000"/>
            <a:ext cx="792360" cy="22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508720" y="2924280"/>
            <a:ext cx="720720" cy="2017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203640" y="3284640"/>
            <a:ext cx="720720" cy="20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241880" y="3141360"/>
            <a:ext cx="834840" cy="2206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124000" y="3355560"/>
            <a:ext cx="792360" cy="2089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116000" y="3284280"/>
            <a:ext cx="863640" cy="2305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643280" y="3499920"/>
            <a:ext cx="863640" cy="2305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156360" y="2492280"/>
            <a:ext cx="863640" cy="2376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451640" y="3357360"/>
            <a:ext cx="750960" cy="2143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3213000"/>
            <a:ext cx="792360" cy="22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8423280" y="691920"/>
            <a:ext cx="720720" cy="21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380360" y="1989000"/>
            <a:ext cx="803160" cy="2283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95280" y="333000"/>
            <a:ext cx="792000" cy="208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8101080" y="3139920"/>
            <a:ext cx="718920" cy="2160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24000" y="4941360"/>
            <a:ext cx="576000" cy="1629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619280" y="5734080"/>
            <a:ext cx="360360" cy="954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708360" y="5805360"/>
            <a:ext cx="360360" cy="936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435640" y="5157360"/>
            <a:ext cx="576360" cy="1629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932360" y="5516640"/>
            <a:ext cx="360360" cy="954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588000" y="4797360"/>
            <a:ext cx="631800" cy="1673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596360" y="5589720"/>
            <a:ext cx="360360" cy="1008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244000" y="4869000"/>
            <a:ext cx="576000" cy="1628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042920" y="333360"/>
            <a:ext cx="576360" cy="1628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050920" y="333360"/>
            <a:ext cx="576360" cy="1628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059280" y="333360"/>
            <a:ext cx="457200" cy="129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067280" y="333360"/>
            <a:ext cx="431640" cy="1224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92720" y="259920"/>
            <a:ext cx="287280" cy="792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700360" y="5661000"/>
            <a:ext cx="360360" cy="954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516720" y="259920"/>
            <a:ext cx="216000" cy="531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50920" y="333360"/>
            <a:ext cx="504720" cy="129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55640" y="5805000"/>
            <a:ext cx="287280" cy="792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012000" y="5805000"/>
            <a:ext cx="287280" cy="792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7020000" y="5734080"/>
            <a:ext cx="287280" cy="79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284720" y="6021000"/>
            <a:ext cx="216000" cy="57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จดทะเบียน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การจัดทำใบกำกับภาษ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เกี่ยวกับการจัดทำรายง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คำนวณ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ยื่นแบบและชำระหรือนำส่ง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ห้ความร่วมมือกับทางราช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571760" y="423720"/>
            <a:ext cx="60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Times New Roman"/>
                <a:cs typeface="Microsoft Sans Serif"/>
              </a:rPr>
              <a:t>หน้าที่เกี่ยวกับ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แก้ปัญหาทางภาษีอากร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457200" y="1419120"/>
          <a:ext cx="8229600" cy="4681800"/>
        </p:xfrm>
        <a:graphic>
          <a:graphicData uri="http://schemas.openxmlformats.org/drawingml/2006/table">
            <a:tbl>
              <a:tblPr/>
              <a:tblGrid>
                <a:gridCol w="3394080"/>
                <a:gridCol w="483552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ัญห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ิธีการแก้ปัญห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ัญหาทางภาษีอาก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ัญหาทางภาษีอาก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ัญหาทางภาษีอาก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ิธีการทางภาษีอาก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ิธีการทางธุรกิจ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ั้งวิธีการทางภาษีอากร แล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ิธีการทางธุรกิ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ัญหาทางธุรกิ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ัญหาทางธุรกิ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ัญหาทางธุรกิ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ิธีการทางธุรกิจ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ิธีการทางภาษีอาก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ั้งวิธีการทางธุรกิจแล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ิธีการทางภาษีอาก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95280" y="442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แก้ปัญหาทางภาษีอาก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108000" y="1125360"/>
          <a:ext cx="9035640" cy="5543640"/>
        </p:xfrm>
        <a:graphic>
          <a:graphicData uri="http://schemas.openxmlformats.org/drawingml/2006/table">
            <a:tbl>
              <a:tblPr/>
              <a:tblGrid>
                <a:gridCol w="596520"/>
                <a:gridCol w="598320"/>
                <a:gridCol w="2318040"/>
                <a:gridCol w="3058200"/>
                <a:gridCol w="246456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HRM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Financ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Productiv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Effective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Efficienc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 Avoid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 Benef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 Exemption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Tax Planning &amp; Manag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Internal Contr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GAAP Practi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Tax Planning &amp; Management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 Mapp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 Manual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Tax Planning &amp; Management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 Condition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 Pay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Other Tax Fun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Tax Planning &amp; Manag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 Returns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Internet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Microsoft Sans Serif"/>
                          <a:ea typeface="Microsoft Sans Serif"/>
                        </a:rPr>
                        <a:t>Tax Planning &amp; Manag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9" name=""/>
          <p:cNvSpPr/>
          <p:nvPr/>
        </p:nvSpPr>
        <p:spPr>
          <a:xfrm rot="16200000">
            <a:off x="-62640" y="4006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16200000">
            <a:off x="-362520" y="5296680"/>
            <a:ext cx="25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ทางภาษีอ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16200000">
            <a:off x="-78120" y="30895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ทางธุรกิ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237560" y="112536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แก้ปัญห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406880" y="162864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ทางธุรกิ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62080" y="1628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ทางภาษีอ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581160" y="1557360"/>
            <a:ext cx="24332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วิธีการทางธุรกิ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ภาษีอ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ั้นตอนการประเมินผล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ผนภาษีอากร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99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เมินผลการปฏิบัติโดยรว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เมินอุปสรรค ปัญหาในการปฏิบัติตามแผน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เมินผลการปฏิบัติ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เมินความรู้ความสามารถของเจ้าหน้าที่ผู้ปฏิบัติตามแผน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363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ูปแบบขององค์กรธุรกิจ 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Organization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ือกรูปแบบธุรกิจว่า จะเป็นแบบเจ้าของคนเดียว หรือแบบหุ้นส่วน หรือแบบบริษัทจำกัด หรือ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Profitable Or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ุรกิจนั้น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ใช้ทรัพยากรบุคคลเท่าไร คุณวุฒิและประสบการณ์แบบไห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มีเครื่องมือหรืออุปกรณ์สำนักงานอะไรบ้า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ppli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ลูกค้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ustomers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ความสามารถในการกู้ยืมเงิน คือ รูปแบบองค์กรประเภทบริษัทจำกัด จะมีความสามารถในการกู้ยืมเงินจากธนาคารพาณิชย์มากกว่ากิจการประเภทเจ้าของคนเดีย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แต่ละรูปแบบองค์กร มีความเกี่ยวพันกับประเภทภาษีอากรและประเด็นทางภาษีอากรที่แตกต่างกัน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นวทางในการตัดสินใจ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ลือกรูปแบบทางธุรกิจ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พิจารณาจำนวนเงินทุ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พิจารณาจำนวนเงินได้ที่คาดว่าจะได้รับจากการประกอบ กิจ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พิจารณาจำนวนค่าใช้จ่ายและเกณฑ์การหักค่าใช้จ่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พิจารณาจากฐานภาษี และอัตราภาษ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พิจารณาจากความน่าเชื่อถือและความรับผิดต่อบุคคล ภายนอ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พิจารณากิจการที่ได้รับยกเว้นภาษีเงินได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184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โครงสร้างภาษีมูลค่าเพิ่ม</a:t>
            </a:r>
            <a:br>
              <a:rPr sz="4800"/>
            </a:br>
            <a:r>
              <a:rPr b="1" lang="th-TH" sz="4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พื่อการวางแผนภาษี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lue Added Tax</a:t>
            </a:r>
            <a:r>
              <a:rPr b="1" lang="th-TH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Structur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03680" y="3933720"/>
            <a:ext cx="364464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bj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To underst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To apply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L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To update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To create 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enef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658960" y="122400"/>
            <a:ext cx="4126320" cy="520560"/>
          </a:xfrm>
          <a:prstGeom prst="rect">
            <a:avLst/>
          </a:prstGeom>
          <a:solidFill>
            <a:srgbClr val="010199"/>
          </a:solidFill>
          <a:ln w="9360">
            <a:solidFill>
              <a:srgbClr val="0066ff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นวทางการศึกษ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50920" y="811080"/>
            <a:ext cx="3457440" cy="947160"/>
          </a:xfrm>
          <a:prstGeom prst="rect">
            <a:avLst/>
          </a:prstGeom>
          <a:solidFill>
            <a:srgbClr val="010199"/>
          </a:soli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Law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71600" y="1397160"/>
            <a:ext cx="60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VAT Principle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90680" y="190188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VAT Payers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72320" y="240516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T Computation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ารคำนวณ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92120" y="4248000"/>
            <a:ext cx="64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V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ments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วิธีการเสีย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00400" y="5703840"/>
            <a:ext cx="65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V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tion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90680" y="6222960"/>
            <a:ext cx="60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) VAT Refund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900000" y="2967120"/>
            <a:ext cx="7770960" cy="1245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Base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ฐาน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Rate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อัตรา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Amount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ำนวนภาษีมูลค่าเพิ่ม โดยวิธีเครดิต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79480" y="4797360"/>
            <a:ext cx="7796160" cy="86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รายการประเมินตนเอ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0,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เมินโดยเจ้าพนักง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250920" y="225360"/>
            <a:ext cx="3457440" cy="947160"/>
          </a:xfrm>
          <a:prstGeom prst="rect">
            <a:avLst/>
          </a:prstGeom>
          <a:solidFill>
            <a:srgbClr val="010199"/>
          </a:soli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Law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26800" y="826920"/>
            <a:ext cx="789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7) Other VAT Functions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อื่นของผู้ประกอบ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ระบบ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าษีมูลค่าเพิ่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97800" y="4781520"/>
            <a:ext cx="82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8) VAT Settlemen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จัดข้อโต้แย้งทาง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28120" y="5373720"/>
            <a:ext cx="84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9) VAT Punishment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บทกำหนดโทษในระบบ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88120" y="5791320"/>
            <a:ext cx="63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vil Punishment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บทกำหนดโทษทางแพ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971640" y="6222960"/>
            <a:ext cx="72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minal Punishment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บทกำหนดโทษทางอาญ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900000" y="1844640"/>
            <a:ext cx="7993080" cy="354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Tax Identification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น้าที่เกี่ยวกับเลขประจำตัวผู้เสี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                    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Registration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น้าที่เกี่ยวกับทะเบียน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Documents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น้าที่เกี่ยวกับการจัดทำเอกสาร แล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                    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รายงานในระบบ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Cooperation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น้าที่ในการให้ความร่วมมือแก่ทา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                   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ราช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2730600" y="122400"/>
            <a:ext cx="412632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0066ff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นวทางการศึกษ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8160" y="811080"/>
            <a:ext cx="504828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VAT Principle &amp;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43960" y="1325520"/>
            <a:ext cx="28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1) VAT Princi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19480" y="1757520"/>
            <a:ext cx="40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 VAT Activities 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77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0280" y="211788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3) Tax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27760" y="2565360"/>
            <a:ext cx="32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4) VAT Exe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77800" y="298116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5) VAT P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88960" y="341460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6) VAT 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85360" y="3846600"/>
            <a:ext cx="23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7) VAT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96440" y="4278240"/>
            <a:ext cx="361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8) VAT Com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920840" y="812880"/>
            <a:ext cx="308700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VAT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155200" y="1347840"/>
            <a:ext cx="34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VAT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194440" y="1779480"/>
            <a:ext cx="33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VAT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244480" y="2189160"/>
            <a:ext cx="24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VAT 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181120" y="2571840"/>
            <a:ext cx="361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VAT Com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199480" y="2981160"/>
            <a:ext cx="28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VAT Pa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237640" y="3414600"/>
            <a:ext cx="22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) VAT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200" y="4941720"/>
            <a:ext cx="699156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Tax Officers’ Power and Punis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1600" y="5445000"/>
            <a:ext cx="38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) Tax Officers’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49000" y="5862600"/>
            <a:ext cx="33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) Civil Punis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50080" y="6294600"/>
            <a:ext cx="39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3) Criminal Punis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995640" y="2781360"/>
            <a:ext cx="136836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16000" y="1125360"/>
            <a:ext cx="7812000" cy="5732640"/>
          </a:xfrm>
          <a:prstGeom prst="ellipse">
            <a:avLst/>
          </a:prstGeom>
          <a:solidFill>
            <a:srgbClr val="0000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533520" indent="-53352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            </a:t>
            </a:r>
            <a:r>
              <a:rPr b="1" lang="en-US" sz="3200" spc="-1" strike="noStrike">
                <a:solidFill>
                  <a:srgbClr val="ff3399"/>
                </a:solidFill>
                <a:latin typeface="Microsoft Sans Serif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Microsoft Sans Serif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           </a:t>
            </a:r>
            <a:r>
              <a:rPr b="1" lang="en-US" sz="3200" spc="-1" strike="noStrike">
                <a:solidFill>
                  <a:srgbClr val="ffcc66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crosoft Sans Serif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95640" y="1052640"/>
            <a:ext cx="2448000" cy="5760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933720"/>
            <a:ext cx="3168720" cy="719280"/>
          </a:xfrm>
          <a:prstGeom prst="rect">
            <a:avLst/>
          </a:prstGeom>
          <a:solidFill>
            <a:srgbClr val="3333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(1)+(2)+(3)=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Plan &amp; Action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4360" y="3645000"/>
            <a:ext cx="1584360" cy="431640"/>
          </a:xfrm>
          <a:prstGeom prst="rect">
            <a:avLst/>
          </a:prstGeom>
          <a:solidFill>
            <a:srgbClr val="00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Why = G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24360" y="3068640"/>
            <a:ext cx="2808360" cy="504720"/>
          </a:xfrm>
          <a:prstGeom prst="rect">
            <a:avLst/>
          </a:prstGeom>
          <a:solidFill>
            <a:srgbClr val="3333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(4) Problem Sol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19280" y="3357720"/>
            <a:ext cx="1800360" cy="50472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(2)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Ca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6360" y="2854440"/>
            <a:ext cx="1800360" cy="574560"/>
          </a:xfrm>
          <a:prstGeom prst="rect">
            <a:avLst/>
          </a:prstGeom>
          <a:solidFill>
            <a:srgbClr val="ff33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(1)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88000" y="2349360"/>
            <a:ext cx="1297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20000" y="914400"/>
            <a:ext cx="0" cy="58770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04000" y="6308640"/>
            <a:ext cx="289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419280" y="3573360"/>
            <a:ext cx="21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16720" y="4508640"/>
            <a:ext cx="647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635280" y="3357360"/>
            <a:ext cx="0" cy="21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15160" y="5300640"/>
            <a:ext cx="420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627280" y="2349360"/>
            <a:ext cx="1317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35280" y="335772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85080" y="2349360"/>
            <a:ext cx="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732720" y="33577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27280" y="2349360"/>
            <a:ext cx="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479736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51280" y="1916280"/>
            <a:ext cx="2700360" cy="865080"/>
          </a:xfrm>
          <a:prstGeom prst="diamond">
            <a:avLst/>
          </a:prstGeom>
          <a:solidFill>
            <a:srgbClr val="0101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Pos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Concept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35440" y="3645000"/>
            <a:ext cx="773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2781360"/>
            <a:ext cx="7729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88000" y="1627200"/>
            <a:ext cx="772920" cy="217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130400"/>
            <a:ext cx="1619280" cy="71892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1.Study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0" y="4869000"/>
            <a:ext cx="1655640" cy="792000"/>
          </a:xfrm>
          <a:prstGeom prst="rect">
            <a:avLst/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2.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35280" y="4941720"/>
            <a:ext cx="3168720" cy="648000"/>
          </a:xfrm>
          <a:prstGeom prst="rect">
            <a:avLst/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Plan &amp; Action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93080" y="2854440"/>
            <a:ext cx="1439640" cy="645840"/>
          </a:xfrm>
          <a:prstGeom prst="rect">
            <a:avLst/>
          </a:prstGeom>
          <a:solidFill>
            <a:srgbClr val="00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(3) Go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36000" y="5013360"/>
            <a:ext cx="1223640" cy="503280"/>
          </a:xfrm>
          <a:prstGeom prst="rect">
            <a:avLst/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G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164360" y="4221000"/>
            <a:ext cx="129528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5W 1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920" y="5877000"/>
            <a:ext cx="1657440" cy="792000"/>
          </a:xfrm>
          <a:prstGeom prst="rect">
            <a:avLst/>
          </a:prstGeom>
          <a:solidFill>
            <a:srgbClr val="00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3.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35440" y="4653000"/>
            <a:ext cx="7732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716360" y="5661000"/>
            <a:ext cx="7732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35280" y="5950080"/>
            <a:ext cx="3168720" cy="574560"/>
          </a:xfrm>
          <a:prstGeom prst="rect">
            <a:avLst/>
          </a:prstGeom>
          <a:solidFill>
            <a:srgbClr val="00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Evaluation 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Set the New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64360" y="6094440"/>
            <a:ext cx="1440000" cy="430200"/>
          </a:xfrm>
          <a:prstGeom prst="rect">
            <a:avLst/>
          </a:prstGeom>
          <a:solidFill>
            <a:srgbClr val="00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Microsoft Sans Serif"/>
              </a:rPr>
              <a:t>G1&lt; G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321300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80000" y="1268280"/>
            <a:ext cx="144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73320" y="19162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20000" y="19162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96000" y="1595520"/>
            <a:ext cx="1297080" cy="609480"/>
          </a:xfrm>
          <a:prstGeom prst="cloudCallout">
            <a:avLst>
              <a:gd name="adj1" fmla="val -45592"/>
              <a:gd name="adj2" fmla="val 7005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Microsoft Sans Serif"/>
              </a:rPr>
              <a:t>Eth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360" y="246708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-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580000" y="3860640"/>
            <a:ext cx="1656000" cy="21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74600" y="44280"/>
            <a:ext cx="702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</a:rPr>
              <a:t>Problem Solving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40" y="204480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-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37160" y="4916520"/>
            <a:ext cx="143496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Middle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Prac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48000" y="5300640"/>
            <a:ext cx="2872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52080" y="907920"/>
            <a:ext cx="143496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Middle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Prac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235640" y="1197000"/>
            <a:ext cx="360360" cy="4316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48520" y="2421000"/>
            <a:ext cx="22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Sans Serif"/>
              </a:rPr>
              <a:t>Create new Proble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08200" y="2444760"/>
            <a:ext cx="7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Sans Serif"/>
              </a:rPr>
              <a:t>Rea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56360" y="4149720"/>
            <a:ext cx="1800360" cy="287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51080" y="907920"/>
            <a:ext cx="1009800" cy="337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Sans Serif"/>
              </a:rPr>
              <a:t>Dynam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03640" y="1052640"/>
            <a:ext cx="792000" cy="144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48000" y="5300640"/>
            <a:ext cx="287280" cy="1008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348000" y="4292640"/>
            <a:ext cx="287280" cy="1008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92720" y="4797360"/>
            <a:ext cx="492120" cy="1847880"/>
          </a:xfrm>
          <a:custGeom>
            <a:avLst/>
            <a:gdLst/>
            <a:ahLst/>
            <a:rect l="l" t="t" r="r" b="b"/>
            <a:pathLst>
              <a:path w="310" h="1224">
                <a:moveTo>
                  <a:pt x="0" y="1148"/>
                </a:moveTo>
                <a:cubicBezTo>
                  <a:pt x="90" y="1186"/>
                  <a:pt x="181" y="1224"/>
                  <a:pt x="226" y="1058"/>
                </a:cubicBezTo>
                <a:cubicBezTo>
                  <a:pt x="271" y="892"/>
                  <a:pt x="310" y="302"/>
                  <a:pt x="272" y="151"/>
                </a:cubicBezTo>
                <a:cubicBezTo>
                  <a:pt x="234" y="0"/>
                  <a:pt x="45" y="151"/>
                  <a:pt x="0" y="151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92720" y="3645000"/>
            <a:ext cx="647640" cy="3097080"/>
          </a:xfrm>
          <a:custGeom>
            <a:avLst/>
            <a:gdLst/>
            <a:ahLst/>
            <a:rect l="l" t="t" r="r" b="b"/>
            <a:pathLst>
              <a:path w="310" h="1224">
                <a:moveTo>
                  <a:pt x="0" y="1148"/>
                </a:moveTo>
                <a:cubicBezTo>
                  <a:pt x="90" y="1186"/>
                  <a:pt x="181" y="1224"/>
                  <a:pt x="226" y="1058"/>
                </a:cubicBezTo>
                <a:cubicBezTo>
                  <a:pt x="271" y="892"/>
                  <a:pt x="310" y="302"/>
                  <a:pt x="272" y="151"/>
                </a:cubicBezTo>
                <a:cubicBezTo>
                  <a:pt x="234" y="0"/>
                  <a:pt x="45" y="151"/>
                  <a:pt x="0" y="151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292720" y="2708280"/>
            <a:ext cx="863640" cy="4105440"/>
          </a:xfrm>
          <a:custGeom>
            <a:avLst/>
            <a:gdLst/>
            <a:ahLst/>
            <a:rect l="l" t="t" r="r" b="b"/>
            <a:pathLst>
              <a:path w="310" h="1224">
                <a:moveTo>
                  <a:pt x="0" y="1148"/>
                </a:moveTo>
                <a:cubicBezTo>
                  <a:pt x="90" y="1186"/>
                  <a:pt x="181" y="1224"/>
                  <a:pt x="226" y="1058"/>
                </a:cubicBezTo>
                <a:cubicBezTo>
                  <a:pt x="271" y="892"/>
                  <a:pt x="310" y="302"/>
                  <a:pt x="272" y="151"/>
                </a:cubicBezTo>
                <a:cubicBezTo>
                  <a:pt x="234" y="0"/>
                  <a:pt x="45" y="151"/>
                  <a:pt x="0" y="151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92720" y="333360"/>
            <a:ext cx="1150920" cy="6624720"/>
          </a:xfrm>
          <a:custGeom>
            <a:avLst/>
            <a:gdLst/>
            <a:ahLst/>
            <a:rect l="l" t="t" r="r" b="b"/>
            <a:pathLst>
              <a:path w="310" h="1224">
                <a:moveTo>
                  <a:pt x="0" y="1148"/>
                </a:moveTo>
                <a:cubicBezTo>
                  <a:pt x="90" y="1186"/>
                  <a:pt x="181" y="1224"/>
                  <a:pt x="226" y="1058"/>
                </a:cubicBezTo>
                <a:cubicBezTo>
                  <a:pt x="271" y="892"/>
                  <a:pt x="310" y="302"/>
                  <a:pt x="272" y="151"/>
                </a:cubicBezTo>
                <a:cubicBezTo>
                  <a:pt x="234" y="0"/>
                  <a:pt x="45" y="151"/>
                  <a:pt x="0" y="151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86680" y="386064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8440" y="29019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6DB1-C320-4F22-9A1E-66370691E7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371680" y="44280"/>
            <a:ext cx="412632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0066ff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นวทางการศึกษ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(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44360" y="692280"/>
            <a:ext cx="7812360" cy="1191240"/>
          </a:xfrm>
          <a:prstGeom prst="rect">
            <a:avLst/>
          </a:prstGeom>
          <a:solidFill>
            <a:srgbClr val="0066ff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ภาษีมูลค่าเพิ่ม 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: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มูลค่าเพิ่ม  รวม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15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อากรฝ่ายสรรพากร แห่งประมวลรัษฎ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4920" y="155736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้อความทั่วไป 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7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–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7/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-124560" y="1844640"/>
            <a:ext cx="77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ับผิดในการเสียภาษีมูลค่าเพิ่ม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8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–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8/3)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4640" y="2205000"/>
            <a:ext cx="43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ฐานภาษี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9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–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9/7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-54360" y="2565360"/>
            <a:ext cx="56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ัตราภาษีมูลค่าเพิ่ม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80 –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80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-72720" y="2852640"/>
            <a:ext cx="62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5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กเว้นภาษีมูลค่าเพิ่ม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81 –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81/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-172800" y="3187800"/>
            <a:ext cx="95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 </a:t>
            </a:r>
            <a:r>
              <a:rPr b="1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มีหน้าที่เสียภาษี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cs typeface="Microsoft Sans Serif"/>
              </a:rPr>
              <a:t>การคำนวณภาษี 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e4e917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e4e917"/>
                </a:solidFill>
                <a:latin typeface="Microsoft Sans Serif"/>
                <a:ea typeface="Microsoft Sans Serif"/>
              </a:rPr>
              <a:t>82–82/2</a:t>
            </a:r>
            <a:r>
              <a:rPr b="1" lang="en-US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82/3-82/1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-21960" y="3500280"/>
            <a:ext cx="72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7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การยื่นรายการและการชำระภาษี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3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-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3/10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-50040" y="4195800"/>
            <a:ext cx="69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9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การจดทะเบียนภาษีมูลค่าเพิ่ม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5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-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5/19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-25920" y="4556160"/>
            <a:ext cx="75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10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ใบกำกับภาษี ใบเพิ่มหนี้ ใบลดหนี้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6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–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6/14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-191520" y="4916520"/>
            <a:ext cx="9149400" cy="8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11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การจัดทำรายงานและการเก็บรักษาหลักฐานและเอกสาร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7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           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87/3</a:t>
            </a:r>
            <a:r>
              <a:rPr b="1" lang="th-TH" sz="24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-103320" y="3835440"/>
            <a:ext cx="801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8 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cs typeface="Microsoft Sans Serif"/>
              </a:rPr>
              <a:t>เครดิตภาษีและการขอคืนภาษีมูลค่าเพิ่ม 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84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 - 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84/4</a:t>
            </a:r>
            <a:r>
              <a:rPr b="1" lang="th-TH" sz="2400" spc="-1" strike="noStrike">
                <a:solidFill>
                  <a:srgbClr val="78fb37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-15840" y="5587920"/>
            <a:ext cx="66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12 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อำนาจเจ้าพนักงานประเมิน 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88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 - 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88/6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-2520" y="5932440"/>
            <a:ext cx="56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13 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เบี้ยปรับ 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- 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เงินเพิ่ม 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89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 - 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89/2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8680" y="6292800"/>
            <a:ext cx="51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14 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บทกำหนดโทษ 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90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 - 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90/5</a:t>
            </a:r>
            <a:r>
              <a:rPr b="1" lang="th-TH" sz="2400" spc="-1" strike="noStrike">
                <a:solidFill>
                  <a:srgbClr val="f9a5ed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91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หลักการทั่วไปภาษีมูลค่าเพิ่ม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138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ัดเก็บจากการบริโภคสินค้าหรือบริการทั่วไ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is tax on consume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ำหรับผู้บริโภ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GST: Goods &amp; Services Tax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ช่น แคนาดา นิวซีแลนด์ สิงค์โปร์ เป็นต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onsumption Tax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อาทิ ญี่ปุ่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โดยทั่วไปจัดเป็นภาษีทางอ้อม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Indirect Tax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โดยเฉพาะสำหรับการขายสินค้าหรือการให้บริการในราชอาณาจักร และการนำเข้าสินค้าหรือบริการโดยผู้ประกอบ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แต่สำหรับการนำเข้าโดยผู้บริโภค จัดเป็นภาษีทางตรง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Direct Tax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ป็นภาษีอากรตามประมวลรัษฎ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มว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4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ลักษณ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แบ่งเป็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4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่วน ตั้งแต่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77 – 90/5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รวม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15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ัดเก็บโด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รมสรรพากร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5)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ระทรวงการคลัง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รมศุลกากรและกรมสรรพสามิต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83/10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หลักการจัดเก็บภาษีอากร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250920" y="1341360"/>
          <a:ext cx="8893080" cy="4213440"/>
        </p:xfrm>
        <a:graphic>
          <a:graphicData uri="http://schemas.openxmlformats.org/drawingml/2006/table">
            <a:tbl>
              <a:tblPr/>
              <a:tblGrid>
                <a:gridCol w="2592360"/>
                <a:gridCol w="3168720"/>
                <a:gridCol w="3132000"/>
              </a:tblGrid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ฐานในการจัดเก็บ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ประเภทภาษีอาก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ผู้เสียภาษีอาก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ผู้รับภาษี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=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ทางตร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จับจ่ายใช้สอยหรือการบริโภ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มูลค่าเพิ่ม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ธุรกิจเฉพา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สรรพสามิต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Microsoft Sans Serif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ากรศุลกา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ารสามารถผลักภาระภาษีไปยังผู้บริโภ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รัพย์ส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บำรุงท้องที่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โรงเรือนและที่ดิน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่าธรรมเนียมรถยนต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จ้าของทรัพย์ส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หลักการทั่วไปภาษีมูลค่าเพิ่ม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ป็นภาษีอากรประเมิน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77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ประกอบ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4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ซึ่งต้องนำบทบัญญัติว่าด้วยวิธีการเกี่ยวแก่ภาษีอากรประเมินตามหมวด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ั้งแต่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4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ถึงมาตร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7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ทวิ มาใช้บังคับโดยอนุโลม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ท่าที่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่มีบทบัญญัติเกี่ยวกับวิธีการเกี่ยวแก่ภาษีอากรกำหนดไว้เป็นอย่างอื่น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82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บทบัญญัติในหมวด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ที่นำมาใช้บังคับในหมว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4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ด้แก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7756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7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ารยื่นรายการประเมินตนเองโดยผู้ต้องเสียหรือนำส่ง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าษี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elf-assessment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7756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6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จ้าพนักงานประเมิ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7756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8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ทวิ การประเมินก่อนถึงกำหนดเวลายื่นราย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7756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8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รี กำหนดเวลาชำระภาษีตามหนังสือแจ้งการประเมิ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7756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8 – 34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ารอุทธรณ์การประเมิ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4f03a"/>
                </a:solidFill>
                <a:latin typeface="Arial"/>
                <a:cs typeface="Microsoft Sans Serif"/>
              </a:rPr>
              <a:t>หลักการทั่วไปภาษีมูลค่าเพิ่ม</a:t>
            </a:r>
            <a:r>
              <a:rPr b="1" lang="th-TH" sz="4400" spc="-1" strike="noStrike">
                <a:solidFill>
                  <a:srgbClr val="f4f03a"/>
                </a:solidFill>
                <a:latin typeface="Arial"/>
                <a:ea typeface="Microsoft Sans Serif"/>
              </a:rPr>
              <a:t> </a:t>
            </a:r>
            <a:r>
              <a:rPr b="0" lang="th-TH" sz="3200" spc="-1" strike="noStrike">
                <a:solidFill>
                  <a:srgbClr val="f4f03a"/>
                </a:solidFill>
                <a:latin typeface="Arial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4f03a"/>
                </a:solidFill>
                <a:latin typeface="Arial"/>
                <a:ea typeface="Microsoft Sans Serif"/>
              </a:rPr>
              <a:t>2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ัดเก็บจากมูลค่าของสินค้าหรือบริการในส่วนที่เพิ่มขึ้น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lue Added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ากการขายสินค้าหรือการให้บริการในราชอาณาจักร สำหรับผู้ประกอบ การจดทะเบีย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ำหรับการค้าระหว่างประเทศ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ัดเก็บตามหลักปลายทาง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Destination Principle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9120" indent="-3319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รณีนำเข้าสินค้าหรือบริการ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7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% 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ประเทศปลายทางของสินค้าหรือบริการเป็นผู้จัดเก็บ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9120" indent="-3319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ารส่งออกสินค้าหรือบริการ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0%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ประเทศต้นทางของสินค้าหรือบริการหาทางปลดเปลื้องภาระภาษีมูลค่าเพิ่มออกจากราคาสินค้าหรือค่าบริการ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f03a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ให้ความสำคัญกับระบบเอกสารหลักฐา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9120" indent="-331920">
              <a:lnSpc>
                <a:spcPct val="90000"/>
              </a:lnSpc>
              <a:spcBef>
                <a:spcPts val="601"/>
              </a:spcBef>
              <a:buClr>
                <a:srgbClr val="f4f03a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โดยเฉพาะ</a:t>
            </a:r>
            <a:r>
              <a:rPr b="1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ใบกำกับภาษี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Tax Invoice System: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hain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f03a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upply Chain Logistics (up stream – down stream)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7545240" y="4076640"/>
            <a:ext cx="914400" cy="609840"/>
          </a:xfrm>
          <a:prstGeom prst="flowChartDocument">
            <a:avLst/>
          </a:prstGeom>
          <a:solidFill>
            <a:srgbClr val="0101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708360" y="907920"/>
            <a:ext cx="0" cy="511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325600" y="158760"/>
            <a:ext cx="27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 Jan 19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วันที่ใช้บังคับกฎหม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&amp; S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95280" y="1484280"/>
            <a:ext cx="331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708360" y="1484280"/>
            <a:ext cx="50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11280" y="357336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708360" y="3573360"/>
            <a:ext cx="50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77640" y="99864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Excise Tax: 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95280" y="5499000"/>
            <a:ext cx="331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708360" y="5499000"/>
            <a:ext cx="50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78360" y="501336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usiness Tax: 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181560" y="5013360"/>
            <a:ext cx="2565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pecific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Tax: S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3708360" y="3573360"/>
            <a:ext cx="647640" cy="19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4356000" y="1483920"/>
            <a:ext cx="647640" cy="20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708360" y="1484280"/>
            <a:ext cx="647640" cy="20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14000" y="1862280"/>
            <a:ext cx="2078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Luxury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&amp;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287240" y="3903840"/>
            <a:ext cx="2247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General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&amp;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807960" y="3184560"/>
            <a:ext cx="2008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lue Add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Tax: 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62520" y="102708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Excise Tax: 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327040" y="33321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82160" y="3105000"/>
            <a:ext cx="1415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Dra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BT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716120" y="299736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Ap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506400" y="33321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695960" y="371628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6 Nov 199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39640" y="5589720"/>
            <a:ext cx="914400" cy="609480"/>
          </a:xfrm>
          <a:prstGeom prst="flowChartDocument">
            <a:avLst/>
          </a:prstGeom>
          <a:solidFill>
            <a:srgbClr val="0101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924360" y="5589720"/>
            <a:ext cx="914400" cy="609480"/>
          </a:xfrm>
          <a:prstGeom prst="flowChartDocument">
            <a:avLst/>
          </a:prstGeom>
          <a:solidFill>
            <a:srgbClr val="0101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ธ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877080" y="4005360"/>
            <a:ext cx="914400" cy="609480"/>
          </a:xfrm>
          <a:prstGeom prst="flowChartDocument">
            <a:avLst/>
          </a:prstGeom>
          <a:solidFill>
            <a:srgbClr val="0101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50920" y="55080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รางแสดงความสัมพันธ์ของกิจกรรมที่ต้องเสียภาษีมูลค่าเพิ่ม</a:t>
            </a:r>
            <a:br>
              <a:rPr sz="2800"/>
            </a:br>
            <a:r>
              <a:rPr b="1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มีหน้าที่เสียภาษีมูลค่าเพิ่ม และผู้รับภาระภาษีมูลค่าเพิ่ม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250920" y="1873080"/>
          <a:ext cx="8642160" cy="3787920"/>
        </p:xfrm>
        <a:graphic>
          <a:graphicData uri="http://schemas.openxmlformats.org/drawingml/2006/table">
            <a:tbl>
              <a:tblPr/>
              <a:tblGrid>
                <a:gridCol w="4033800"/>
                <a:gridCol w="1800000"/>
                <a:gridCol w="1440000"/>
                <a:gridCol w="1368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รรมที่ต้องเสีย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มีหน้าทีเสีย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รับภาระ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เภท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ขายสินค้าในทางธุรกิจหรือวิชาชีพ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บริโภ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างอ้อ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ให้บริการในทางธุรกิจหรือวิชาชีพ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บริโภ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างอ้อ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นำเข้าสินค้าหรือบริการโดยผู้ประกอบ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บริโภ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างอ้อ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นำเข้าโดยผู้บริโภ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บริโภ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บริโภ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างตร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1189080" y="1324080"/>
            <a:ext cx="6767640" cy="3744720"/>
          </a:xfrm>
          <a:prstGeom prst="triangle">
            <a:avLst>
              <a:gd name="adj" fmla="val 50000"/>
            </a:avLst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2340000" y="1324080"/>
            <a:ext cx="2233440" cy="37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413080" y="2763720"/>
            <a:ext cx="410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476360" y="3860640"/>
            <a:ext cx="648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247040" y="476280"/>
            <a:ext cx="13647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Tax R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627280" y="692280"/>
            <a:ext cx="1297080" cy="149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348000" y="1324080"/>
            <a:ext cx="1225440" cy="37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4140000" y="1324080"/>
            <a:ext cx="433080" cy="37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573440" y="1395360"/>
            <a:ext cx="287640" cy="367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573440" y="1324080"/>
            <a:ext cx="1224000" cy="37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58520" y="5322960"/>
            <a:ext cx="75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/T: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urchase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otal Sale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แบบ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73440" y="1324080"/>
            <a:ext cx="2303640" cy="37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03440" y="1860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Up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69960" y="297180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Up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52680" y="419580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own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มูลค่าเพิ่ม </a:t>
            </a:r>
            <a:r>
              <a:rPr b="0" lang="th-TH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(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Value Added: VA</a:t>
            </a:r>
            <a:r>
              <a:rPr b="0" lang="th-TH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ในทางเศรษฐศาสตร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มายถึง มูลค่าส่วนที่เพิ่มขึ้นของสินค้าหรือบริการ ประกอบด้ว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่าจ้าง และรายจ่ายในการดำเนินงา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่าเช่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ดอกเบี้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ผลกำไ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ในระบบ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ึงบัญญัติยกเว้นภาษีมูลค่าเพิ่มสำหรับรายการรายได้ในส่วนที่เป็นมูลค่าเพิ่มดังกล่าว เช่น ค่าจ้าง ค่าเช่าอสังหาริมทรัพย์ และดอกเบี้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ป็นสิ่งที่คำนวณหาได้โดยยากในทางปฏิบัต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ึงเกิดแนวคิดที่จะคำนวณหามูลค่าเพิ่มโดยรวมทั้งกิจการ ด้วยวิธีเครดิต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Credit Method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2207520" y="47628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ประกอบการจดทะเบีย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988080" y="118908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AT 7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250920" y="1784520"/>
          <a:ext cx="8569080" cy="772920"/>
        </p:xfrm>
        <a:graphic>
          <a:graphicData uri="http://schemas.openxmlformats.org/drawingml/2006/table">
            <a:tbl>
              <a:tblPr/>
              <a:tblGrid>
                <a:gridCol w="2736720"/>
                <a:gridCol w="289080"/>
                <a:gridCol w="272880"/>
                <a:gridCol w="230400"/>
                <a:gridCol w="326880"/>
                <a:gridCol w="249120"/>
                <a:gridCol w="287280"/>
                <a:gridCol w="289080"/>
                <a:gridCol w="262080"/>
                <a:gridCol w="241200"/>
                <a:gridCol w="287280"/>
                <a:gridCol w="289080"/>
                <a:gridCol w="287280"/>
                <a:gridCol w="288720"/>
                <a:gridCol w="216000"/>
                <a:gridCol w="216000"/>
                <a:gridCol w="287280"/>
                <a:gridCol w="217440"/>
                <a:gridCol w="287280"/>
                <a:gridCol w="216000"/>
                <a:gridCol w="287280"/>
                <a:gridCol w="217440"/>
                <a:gridCol w="287280"/>
              </a:tblGrid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00"/>
                          </a:solidFill>
                          <a:latin typeface="Microsoft Sans Serif"/>
                          <a:cs typeface="Microsoft Sans Serif"/>
                        </a:rPr>
                        <a:t>ภาษีขายจากการประกอบ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6" name=""/>
          <p:cNvGraphicFramePr/>
          <p:nvPr/>
        </p:nvGraphicFramePr>
        <p:xfrm>
          <a:off x="250920" y="2700360"/>
          <a:ext cx="8569080" cy="792000"/>
        </p:xfrm>
        <a:graphic>
          <a:graphicData uri="http://schemas.openxmlformats.org/drawingml/2006/table">
            <a:tbl>
              <a:tblPr/>
              <a:tblGrid>
                <a:gridCol w="2736360"/>
                <a:gridCol w="289080"/>
                <a:gridCol w="272880"/>
                <a:gridCol w="230400"/>
                <a:gridCol w="326880"/>
                <a:gridCol w="249120"/>
                <a:gridCol w="287280"/>
                <a:gridCol w="289080"/>
                <a:gridCol w="262080"/>
                <a:gridCol w="241200"/>
                <a:gridCol w="287280"/>
                <a:gridCol w="289080"/>
                <a:gridCol w="287280"/>
                <a:gridCol w="288720"/>
                <a:gridCol w="216000"/>
                <a:gridCol w="216000"/>
                <a:gridCol w="287280"/>
                <a:gridCol w="217440"/>
                <a:gridCol w="287280"/>
                <a:gridCol w="289080"/>
                <a:gridCol w="216000"/>
                <a:gridCol w="217440"/>
                <a:gridCol w="28584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00"/>
                          </a:solidFill>
                          <a:latin typeface="Microsoft Sans Serif"/>
                          <a:cs typeface="Microsoft Sans Serif"/>
                        </a:rPr>
                        <a:t>ภาษีซื้อจากการประกอบ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7" name=""/>
          <p:cNvGraphicFramePr/>
          <p:nvPr/>
        </p:nvGraphicFramePr>
        <p:xfrm>
          <a:off x="250920" y="3584520"/>
          <a:ext cx="8569080" cy="517680"/>
        </p:xfrm>
        <a:graphic>
          <a:graphicData uri="http://schemas.openxmlformats.org/drawingml/2006/table">
            <a:tbl>
              <a:tblPr/>
              <a:tblGrid>
                <a:gridCol w="2736360"/>
                <a:gridCol w="289080"/>
                <a:gridCol w="272880"/>
                <a:gridCol w="230400"/>
                <a:gridCol w="326880"/>
                <a:gridCol w="249120"/>
                <a:gridCol w="287280"/>
                <a:gridCol w="289080"/>
                <a:gridCol w="262080"/>
                <a:gridCol w="241200"/>
                <a:gridCol w="287280"/>
                <a:gridCol w="289080"/>
                <a:gridCol w="287280"/>
                <a:gridCol w="288720"/>
                <a:gridCol w="216000"/>
                <a:gridCol w="216000"/>
                <a:gridCol w="287280"/>
                <a:gridCol w="217440"/>
                <a:gridCol w="287280"/>
                <a:gridCol w="289080"/>
                <a:gridCol w="216000"/>
                <a:gridCol w="217440"/>
                <a:gridCol w="28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00"/>
                          </a:solidFill>
                          <a:latin typeface="Microsoft Sans Serif"/>
                          <a:cs typeface="Microsoft Sans Serif"/>
                        </a:rPr>
                        <a:t>ภาษีมูลค่าเพิ่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  <p:sp>
        <p:nvSpPr>
          <p:cNvPr id="808" name=""/>
          <p:cNvSpPr/>
          <p:nvPr/>
        </p:nvSpPr>
        <p:spPr>
          <a:xfrm>
            <a:off x="496080" y="4300560"/>
            <a:ext cx="819144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0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เครดิต นำมาบัญญัติเป็นกฎหมาย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แร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340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ที่ต้องเสีย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ขาย – ภาษีซื้อ ในแต่ละเดือน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340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ที่ต้องชำระ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ขาย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&gt;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เพิ่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3403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ที่มี่สิทธิขอคื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ขาย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&lt;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ล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3:31:15Z</dcterms:created>
  <dc:creator>pool</dc:creator>
  <dc:description/>
  <dc:language>en-US</dc:language>
  <cp:lastModifiedBy>Persoanal</cp:lastModifiedBy>
  <dcterms:modified xsi:type="dcterms:W3CDTF">2008-02-22T23:02:23Z</dcterms:modified>
  <cp:revision>73</cp:revision>
  <dc:subject/>
  <dc:title>Slide 1</dc:title>
</cp:coreProperties>
</file>