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notesSlide7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8960" y="4681080"/>
            <a:ext cx="54262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FC05FF-4A6D-45B4-8D4C-A8F45B32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C0EAE4-8CF9-43E8-BB54-9A752802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AB787C-F7C0-4477-87BC-A650E437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A2AD53-703B-4E2A-8F33-9EAAF497F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75F9E8-4795-4F59-962C-6F52883EE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0233E7-A76A-4799-A654-C1ED8A71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546299-4059-43F4-9094-CDF1E855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084D91-9FC1-4640-A860-14363126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FAFECD-1864-4943-B56F-A82C5E8EB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6A8151-BCB1-4202-B43F-F30532F42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161A1A-F60C-4B3D-8AB1-B8179E00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A26EEB-8D9D-425A-A01B-79E61C54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3997EF-E7DA-4A0E-998F-C740C3B3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67EE94-9BA8-4D9E-93E3-B4D1B017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4F0173-510C-48A2-8EB3-7C5DFAEF0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EF6B2E-39DA-477A-A344-7DE796161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CEB57A-FC32-474F-9010-1307BC104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ABA-DC39-4AAD-B31F-EAB25A4B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670-D4AA-4FE3-916E-E1BD300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3D2-725D-467B-B600-3EB06887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C70-2426-4439-B85D-042EEC33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771F-A93B-4588-9D62-42D774F3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B435-ECC2-4087-A01C-CA0E5F55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FAE6-68ED-49A7-9C33-6692212A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BA4B-E249-41D2-BE89-1B4CAD34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5CD-BDE4-4084-97AF-42885D1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A7BE-6D44-4406-A305-B1186632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64D1-A4DB-4DA5-9C6B-9A0691E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DF7-2F31-4858-90F5-5B56F269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9E7F-1A2E-4838-BDD8-E3D0910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8B47-3B5B-4034-BCCA-92717048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E58-95C8-419C-B1B1-EF201752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7232-5B27-41B4-81ED-474D51C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5936-7A6D-49D8-A544-73DEC8E0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DB5-531F-436F-AACA-D6C14706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7A2-7E90-4B78-8F3C-6332CA0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080-0573-48FF-AC6F-B7E92C2B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230-81A7-405C-B61A-5142E9B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02B-7EFE-451A-A1BC-4FB1AEE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242-6D98-4E66-B742-7608CF1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D51-5426-4100-99D1-DE46BA2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76DD-FC28-42C8-AACA-B91F7882C0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6053-BBED-4AFB-A9A0-258F8EDD2B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8920" y="126828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</a:t>
            </a:r>
            <a:br>
              <a:rPr sz="4800"/>
            </a:br>
            <a:r>
              <a:rPr b="1" lang="hi-IN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มวลรัษฎากร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เทพ  พงษ์พิทักษ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มาตรฐานการสอบบัญชี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thep_p@rd.go.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D232-5D33-42DB-8EBB-78E0DB34F3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12120" y="301680"/>
            <a:ext cx="844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evenue Code: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341360"/>
            <a:ext cx="864072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”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าสกับ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บรวม ในที่นี้หมาย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‘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ซึ่งรวบรวมกฎหมายลักษณะเดียวกันหลายลักษณะไว้ในกฎหมายฉบับเดียว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ษฎ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นธิกับ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จัดเก็บจากราษฎรหรือประชาช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”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ภาษีอากรที่จัดเก็บภาษี จากประชาชนหลายลักษณ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1755-6B73-471F-AB62-2F6AFFF3F2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56000" y="1057320"/>
            <a:ext cx="3995640" cy="3743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41920" y="4854600"/>
            <a:ext cx="499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อุเทนทราธิราชทรงพิ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าสัญลักษณ์ประจำกรม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54960" y="5934240"/>
            <a:ext cx="47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89000"/>
            <a:ext cx="8218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93D-ECB3-43C1-BE5A-21D9BB596E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428920" y="4941720"/>
            <a:ext cx="44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าสัญลักษณ์กระทรวงการคลังนกวายุภักษ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000-0A3E-4532-B1DE-40872E65DB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89164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บัญญัติขึ้นเมื่อ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ให้มีผลใช้บังคับเมือ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ประชาชนผู้เสียภาษีและผู้ที่เกี่ยวข้องมีการตระเตรียมตัวก่อ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เป็น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จัดเก็บภาษีทั้งในลักษณะเดิมและเพิ่มขึ้นใหม่ให้ทันสมั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กาลเวล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ดีตการจัดเก็บภาษีเงินได้บุคคลธรรมดามีความสำคัญที่สุ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ึงเน้นการจัดเก็บภาษีประเภทนี้ โดยกำหนดปีภาษีตร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สิ้นสุด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คม ของปีถัด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ภาษีได้ถูกเปลี่ยนมาเป็นปีประดิท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ท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ป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0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6D9-0CA3-449E-8187-4F45C7D320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89164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รมณ์ในการบัญญัติบทบัญญัติแห่งประมวลรัษฎากร ปรากฏตามย่อหน้าแรกของพระราชบัญญัติให้ใช้บทบัญญัติแห่งประมวลรัษฎากร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ควรตราประมวลรัษฎากรเพื่อปรับปรุงการรัษฎากร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ความเป็นธรรมแก่สังคม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ผู้ที่เกี่ยวข้องกับบทบัญญัติแห่งประมวลรัษฎากรทั้งหลายจึงต้องคำนึงถึงเจตนารมณ์ดังกล่าวตลอดเวลาที่ปรับประยุกต์ใช้ หรือตีความบทบัญญัติแห่งประมวลรัษฎากร ซึ่งถือเป็นหลักการหรือกรอบที่สำคัญของกฎหมายฉบับนี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408-8799-484A-94F8-811EBBB838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8916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แพ่งและพาณิช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วิธีพิจารณาความแพ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วิธีพิจารณาความ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ที่ด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ัญญัติบทบัญญัติประมวลกฎหมาย เนื่องจากมีกฎหมายหลายลักษณะที่มีหลักเกณฑ์ วิธีการ และเงื่อนไขทั่วไป เหมือนหรือเป็นแนวทางเดียวกัน จึงบัญญัติเป็นกฎหมายทั่วไปรวมไว้ส่วนต้นๆ ของประมวลกฎหมายนั้นๆ เพื่อความสะดวกในการศึกษา ทำความเข้าใ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8B8-F7D2-45F1-A6DA-29A4262986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พิ่มเติมบทบัญญัติแห่งประมวลรัษฎากร มีอยู่สม่ำ เสมอ ซึ่งแก้ไขเพิ่มเติมด้วย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พร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กฎหมายที่มีลำดับศักดิ์เดียวกัน เช่น ประกาศของคณะปฏิว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มารถสังเกตหรือรู้ถึงการแก้ไขเพิ่มเติมประมวลรัษฎากรได้จากเครื่องหมาย อัญประกาศคู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“...”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ีอยู่หน้าข้อความที่มีการแก้ไขเพิ่มเติม โดยมีข้อความบ่งบอกว่า แก้ไขเพิ่มเติมโดยบทบัญญัติของกฎหมายใด ใช้บังคับเมื่อ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มาตราที่มีเครื่องหมายอัญประกาศคู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“...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ฎหมายลูกก็ถือปฏิบัติเช่นเดียวกับบทบัญญั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แม่บ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E10-59F9-44F5-9379-803351AEB2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กประมวลกฎหมาย ต้องมีพระราชบัญญัติให้บทบัญญัติแห่งประมวลกฎหมายนั้นๆ เช่น ประมวลรัษฎากรมี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 เว้นแต่ประมวลกฎหมายแพ่งและพาณิชย์มีพระราชกฤษฎีกาให้ใช้บทบัญญัติแห่ง ปพ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ที่เป็นหลักเกณฑ์ วิธีการ และเงื่อนไขทั่งไปตามประมวลรัษฎากร ได้แก่ บทบัญญัติ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ซึ่งเป็นบทบัญญัติว่าด้วย วิธีการบริหารการจัดเก็บภาษีอากรประเมิน อันได้แก่ ภาษีเงินได้บุคคลธรรมดา ภาษีเงินได้นิติบุคคล ภาษีมูลค่าเพิ่ม และ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ประมวลรัษฎากรจึงมีลำคับศักดิ์เป็นพระราชบัญญัต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ะราชบัญญัติให้ใช้บทบัญญัติแห่งประมวลรัษฎากร จึงต้องแก้ไขเพิ่มเติมด้วย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พร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00F-DDF5-4075-AF08-FE80DAE6A2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120" y="98280"/>
            <a:ext cx="91098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เฉพาะของกฎหมายที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บาทสมเด็จพระเจ้าอยู่หัวทรงตราขึ้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4000" y="1484280"/>
            <a:ext cx="849600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กฎหมายต้องนำหน้าด้วย “พระราช” เสมอ เว้นแต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ฐธรรมนู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กฎหมายจะต่อท้ายด้วย ปีพุทธศักราชเสม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พระปรมาภิไธยของพระบาทสมเด็จพระเจ้าอยู่หัวใต้ชื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ข้อความแสดงให้ทราบว่าทรงตราขึ้นเมื่อวัน เดือน และ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พุทธศักราชใด ครองราชย์เป็นปีที่เท่า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เจตนารมณ์ หรือคำปรารภในการตรากฎหมาย ไว้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อนต้นก่อนเข้าสู่บทบัญญัต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ที่เป็นบทบัญญัติและแสดงไว้ตอนท้ายของกฎหม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ที่เป็นอนุบัญญัต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850A-1F5D-466F-9E80-5F00B0F090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120" y="98280"/>
            <a:ext cx="91098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เฉพาะของกฎหมายที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บาทสมเด็จพระเจ้าอยู่หัวทรงตราขึ้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1628640"/>
            <a:ext cx="8496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ซึ่งแปลว่า “ข้อ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บัญญัติชื่อกฎหมายเสม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ยกรัฐมนตรีเป็นผู้รับสนองพระบรมราชโองการ ตาม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e King can do No Wro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งสละพระราชอำนาจนิติบัญญัติ อำนาจปกครอ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อำนาจตุลา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รัฐมนตรีว่าการกระทรวงการคลังเป็นผู้รักษา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F53-4317-4BD1-88D2-17EF752AC9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733400"/>
            <a:ext cx="6602400" cy="443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60640" y="53352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i Wis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93760" y="515880"/>
            <a:ext cx="6645240" cy="5799240"/>
          </a:xfrm>
          <a:custGeom>
            <a:avLst/>
            <a:gdLst/>
            <a:ahLst/>
            <a:rect l="l" t="t" r="r" b="b"/>
            <a:pathLst>
              <a:path w="4186" h="3653">
                <a:moveTo>
                  <a:pt x="192" y="1075"/>
                </a:moveTo>
                <a:cubicBezTo>
                  <a:pt x="188" y="1365"/>
                  <a:pt x="181" y="1625"/>
                  <a:pt x="168" y="1907"/>
                </a:cubicBezTo>
                <a:cubicBezTo>
                  <a:pt x="171" y="2134"/>
                  <a:pt x="171" y="2360"/>
                  <a:pt x="176" y="2587"/>
                </a:cubicBezTo>
                <a:cubicBezTo>
                  <a:pt x="177" y="2614"/>
                  <a:pt x="216" y="2659"/>
                  <a:pt x="216" y="2659"/>
                </a:cubicBezTo>
                <a:cubicBezTo>
                  <a:pt x="305" y="2123"/>
                  <a:pt x="231" y="2583"/>
                  <a:pt x="216" y="1123"/>
                </a:cubicBezTo>
                <a:cubicBezTo>
                  <a:pt x="216" y="1115"/>
                  <a:pt x="200" y="1100"/>
                  <a:pt x="208" y="1099"/>
                </a:cubicBezTo>
                <a:cubicBezTo>
                  <a:pt x="261" y="1093"/>
                  <a:pt x="315" y="1104"/>
                  <a:pt x="368" y="1107"/>
                </a:cubicBezTo>
                <a:cubicBezTo>
                  <a:pt x="440" y="1125"/>
                  <a:pt x="503" y="1137"/>
                  <a:pt x="576" y="1147"/>
                </a:cubicBezTo>
                <a:cubicBezTo>
                  <a:pt x="631" y="1155"/>
                  <a:pt x="599" y="1152"/>
                  <a:pt x="640" y="1163"/>
                </a:cubicBezTo>
                <a:cubicBezTo>
                  <a:pt x="661" y="1169"/>
                  <a:pt x="704" y="1179"/>
                  <a:pt x="704" y="1179"/>
                </a:cubicBezTo>
                <a:cubicBezTo>
                  <a:pt x="760" y="1217"/>
                  <a:pt x="689" y="1173"/>
                  <a:pt x="768" y="1203"/>
                </a:cubicBezTo>
                <a:cubicBezTo>
                  <a:pt x="788" y="1211"/>
                  <a:pt x="804" y="1227"/>
                  <a:pt x="824" y="1235"/>
                </a:cubicBezTo>
                <a:cubicBezTo>
                  <a:pt x="850" y="1246"/>
                  <a:pt x="878" y="1256"/>
                  <a:pt x="904" y="1267"/>
                </a:cubicBezTo>
                <a:cubicBezTo>
                  <a:pt x="974" y="1297"/>
                  <a:pt x="894" y="1269"/>
                  <a:pt x="976" y="1299"/>
                </a:cubicBezTo>
                <a:cubicBezTo>
                  <a:pt x="992" y="1305"/>
                  <a:pt x="1024" y="1315"/>
                  <a:pt x="1024" y="1315"/>
                </a:cubicBezTo>
                <a:cubicBezTo>
                  <a:pt x="1060" y="1342"/>
                  <a:pt x="1076" y="1346"/>
                  <a:pt x="1120" y="1355"/>
                </a:cubicBezTo>
                <a:cubicBezTo>
                  <a:pt x="1197" y="1394"/>
                  <a:pt x="1283" y="1421"/>
                  <a:pt x="1368" y="1435"/>
                </a:cubicBezTo>
                <a:cubicBezTo>
                  <a:pt x="1392" y="1432"/>
                  <a:pt x="1428" y="1448"/>
                  <a:pt x="1440" y="1427"/>
                </a:cubicBezTo>
                <a:cubicBezTo>
                  <a:pt x="1450" y="1410"/>
                  <a:pt x="1347" y="1380"/>
                  <a:pt x="1344" y="1379"/>
                </a:cubicBezTo>
                <a:cubicBezTo>
                  <a:pt x="1244" y="1346"/>
                  <a:pt x="1143" y="1312"/>
                  <a:pt x="1040" y="1291"/>
                </a:cubicBezTo>
                <a:cubicBezTo>
                  <a:pt x="987" y="1256"/>
                  <a:pt x="909" y="1250"/>
                  <a:pt x="848" y="1235"/>
                </a:cubicBezTo>
                <a:cubicBezTo>
                  <a:pt x="753" y="1211"/>
                  <a:pt x="658" y="1183"/>
                  <a:pt x="560" y="1171"/>
                </a:cubicBezTo>
                <a:cubicBezTo>
                  <a:pt x="484" y="1146"/>
                  <a:pt x="404" y="1132"/>
                  <a:pt x="328" y="1107"/>
                </a:cubicBezTo>
                <a:cubicBezTo>
                  <a:pt x="299" y="1097"/>
                  <a:pt x="278" y="1083"/>
                  <a:pt x="248" y="1075"/>
                </a:cubicBezTo>
                <a:cubicBezTo>
                  <a:pt x="240" y="1073"/>
                  <a:pt x="216" y="1063"/>
                  <a:pt x="224" y="1067"/>
                </a:cubicBezTo>
                <a:cubicBezTo>
                  <a:pt x="288" y="1099"/>
                  <a:pt x="358" y="1109"/>
                  <a:pt x="424" y="1131"/>
                </a:cubicBezTo>
                <a:cubicBezTo>
                  <a:pt x="491" y="1153"/>
                  <a:pt x="553" y="1178"/>
                  <a:pt x="624" y="1187"/>
                </a:cubicBezTo>
                <a:cubicBezTo>
                  <a:pt x="698" y="1212"/>
                  <a:pt x="786" y="1222"/>
                  <a:pt x="864" y="1235"/>
                </a:cubicBezTo>
                <a:cubicBezTo>
                  <a:pt x="910" y="1258"/>
                  <a:pt x="965" y="1281"/>
                  <a:pt x="1016" y="1291"/>
                </a:cubicBezTo>
                <a:cubicBezTo>
                  <a:pt x="1120" y="1343"/>
                  <a:pt x="1233" y="1360"/>
                  <a:pt x="1344" y="1387"/>
                </a:cubicBezTo>
                <a:cubicBezTo>
                  <a:pt x="1822" y="1502"/>
                  <a:pt x="2310" y="1584"/>
                  <a:pt x="2776" y="1739"/>
                </a:cubicBezTo>
                <a:cubicBezTo>
                  <a:pt x="2849" y="1733"/>
                  <a:pt x="2875" y="1730"/>
                  <a:pt x="2936" y="1715"/>
                </a:cubicBezTo>
                <a:cubicBezTo>
                  <a:pt x="2963" y="1697"/>
                  <a:pt x="2987" y="1695"/>
                  <a:pt x="3016" y="1683"/>
                </a:cubicBezTo>
                <a:cubicBezTo>
                  <a:pt x="3046" y="1670"/>
                  <a:pt x="3076" y="1651"/>
                  <a:pt x="3104" y="1635"/>
                </a:cubicBezTo>
                <a:cubicBezTo>
                  <a:pt x="3157" y="1605"/>
                  <a:pt x="3092" y="1631"/>
                  <a:pt x="3176" y="1603"/>
                </a:cubicBezTo>
                <a:cubicBezTo>
                  <a:pt x="3184" y="1600"/>
                  <a:pt x="3200" y="1595"/>
                  <a:pt x="3200" y="1595"/>
                </a:cubicBezTo>
                <a:cubicBezTo>
                  <a:pt x="3230" y="1565"/>
                  <a:pt x="3267" y="1553"/>
                  <a:pt x="3304" y="1531"/>
                </a:cubicBezTo>
                <a:cubicBezTo>
                  <a:pt x="3332" y="1514"/>
                  <a:pt x="3368" y="1480"/>
                  <a:pt x="3400" y="1467"/>
                </a:cubicBezTo>
                <a:cubicBezTo>
                  <a:pt x="3430" y="1455"/>
                  <a:pt x="3467" y="1443"/>
                  <a:pt x="3496" y="1427"/>
                </a:cubicBezTo>
                <a:cubicBezTo>
                  <a:pt x="3576" y="1383"/>
                  <a:pt x="3648" y="1328"/>
                  <a:pt x="3736" y="1299"/>
                </a:cubicBezTo>
                <a:cubicBezTo>
                  <a:pt x="3790" y="1245"/>
                  <a:pt x="3728" y="1299"/>
                  <a:pt x="3792" y="1267"/>
                </a:cubicBezTo>
                <a:cubicBezTo>
                  <a:pt x="3889" y="1219"/>
                  <a:pt x="3775" y="1259"/>
                  <a:pt x="3848" y="1235"/>
                </a:cubicBezTo>
                <a:cubicBezTo>
                  <a:pt x="3856" y="1227"/>
                  <a:pt x="3865" y="1220"/>
                  <a:pt x="3872" y="1211"/>
                </a:cubicBezTo>
                <a:cubicBezTo>
                  <a:pt x="3884" y="1196"/>
                  <a:pt x="3920" y="1152"/>
                  <a:pt x="3904" y="1163"/>
                </a:cubicBezTo>
                <a:cubicBezTo>
                  <a:pt x="3868" y="1187"/>
                  <a:pt x="3829" y="1200"/>
                  <a:pt x="3792" y="1219"/>
                </a:cubicBezTo>
                <a:cubicBezTo>
                  <a:pt x="3765" y="1233"/>
                  <a:pt x="3743" y="1251"/>
                  <a:pt x="3712" y="1259"/>
                </a:cubicBezTo>
                <a:cubicBezTo>
                  <a:pt x="3618" y="1282"/>
                  <a:pt x="3727" y="1249"/>
                  <a:pt x="3632" y="1283"/>
                </a:cubicBezTo>
                <a:cubicBezTo>
                  <a:pt x="3616" y="1289"/>
                  <a:pt x="3584" y="1299"/>
                  <a:pt x="3584" y="1299"/>
                </a:cubicBezTo>
                <a:cubicBezTo>
                  <a:pt x="3527" y="1342"/>
                  <a:pt x="3451" y="1353"/>
                  <a:pt x="3392" y="1395"/>
                </a:cubicBezTo>
                <a:cubicBezTo>
                  <a:pt x="3383" y="1402"/>
                  <a:pt x="3377" y="1412"/>
                  <a:pt x="3368" y="1419"/>
                </a:cubicBezTo>
                <a:cubicBezTo>
                  <a:pt x="3304" y="1465"/>
                  <a:pt x="3234" y="1503"/>
                  <a:pt x="3168" y="1547"/>
                </a:cubicBezTo>
                <a:cubicBezTo>
                  <a:pt x="3148" y="1561"/>
                  <a:pt x="3132" y="1581"/>
                  <a:pt x="3112" y="1595"/>
                </a:cubicBezTo>
                <a:cubicBezTo>
                  <a:pt x="3086" y="1613"/>
                  <a:pt x="3052" y="1625"/>
                  <a:pt x="3024" y="1643"/>
                </a:cubicBezTo>
                <a:cubicBezTo>
                  <a:pt x="2986" y="1700"/>
                  <a:pt x="3036" y="1631"/>
                  <a:pt x="2976" y="1691"/>
                </a:cubicBezTo>
                <a:cubicBezTo>
                  <a:pt x="2969" y="1698"/>
                  <a:pt x="2970" y="1715"/>
                  <a:pt x="2960" y="1715"/>
                </a:cubicBezTo>
                <a:cubicBezTo>
                  <a:pt x="2952" y="1715"/>
                  <a:pt x="2963" y="1698"/>
                  <a:pt x="2968" y="1691"/>
                </a:cubicBezTo>
                <a:cubicBezTo>
                  <a:pt x="2984" y="1671"/>
                  <a:pt x="3016" y="1651"/>
                  <a:pt x="3040" y="1643"/>
                </a:cubicBezTo>
                <a:cubicBezTo>
                  <a:pt x="3061" y="1622"/>
                  <a:pt x="3091" y="1608"/>
                  <a:pt x="3112" y="1587"/>
                </a:cubicBezTo>
                <a:cubicBezTo>
                  <a:pt x="3125" y="1574"/>
                  <a:pt x="3137" y="1558"/>
                  <a:pt x="3152" y="1547"/>
                </a:cubicBezTo>
                <a:cubicBezTo>
                  <a:pt x="3168" y="1535"/>
                  <a:pt x="3191" y="1534"/>
                  <a:pt x="3208" y="1523"/>
                </a:cubicBezTo>
                <a:cubicBezTo>
                  <a:pt x="3222" y="1514"/>
                  <a:pt x="3233" y="1500"/>
                  <a:pt x="3248" y="1491"/>
                </a:cubicBezTo>
                <a:cubicBezTo>
                  <a:pt x="3353" y="1426"/>
                  <a:pt x="3279" y="1484"/>
                  <a:pt x="3336" y="1443"/>
                </a:cubicBezTo>
                <a:cubicBezTo>
                  <a:pt x="3381" y="1411"/>
                  <a:pt x="3427" y="1379"/>
                  <a:pt x="3472" y="1347"/>
                </a:cubicBezTo>
                <a:cubicBezTo>
                  <a:pt x="3501" y="1326"/>
                  <a:pt x="3516" y="1303"/>
                  <a:pt x="3552" y="1291"/>
                </a:cubicBezTo>
                <a:cubicBezTo>
                  <a:pt x="3609" y="1234"/>
                  <a:pt x="3683" y="1181"/>
                  <a:pt x="3760" y="1155"/>
                </a:cubicBezTo>
                <a:cubicBezTo>
                  <a:pt x="3798" y="1126"/>
                  <a:pt x="3860" y="1078"/>
                  <a:pt x="3904" y="1067"/>
                </a:cubicBezTo>
                <a:cubicBezTo>
                  <a:pt x="3951" y="1036"/>
                  <a:pt x="4003" y="989"/>
                  <a:pt x="4056" y="971"/>
                </a:cubicBezTo>
                <a:cubicBezTo>
                  <a:pt x="4057" y="1064"/>
                  <a:pt x="4026" y="1476"/>
                  <a:pt x="4096" y="1651"/>
                </a:cubicBezTo>
                <a:cubicBezTo>
                  <a:pt x="4103" y="1704"/>
                  <a:pt x="4113" y="1750"/>
                  <a:pt x="4120" y="1803"/>
                </a:cubicBezTo>
                <a:cubicBezTo>
                  <a:pt x="4125" y="1926"/>
                  <a:pt x="4134" y="2041"/>
                  <a:pt x="4144" y="2163"/>
                </a:cubicBezTo>
                <a:cubicBezTo>
                  <a:pt x="4141" y="2224"/>
                  <a:pt x="4141" y="2286"/>
                  <a:pt x="4136" y="2347"/>
                </a:cubicBezTo>
                <a:cubicBezTo>
                  <a:pt x="4133" y="2380"/>
                  <a:pt x="4105" y="2395"/>
                  <a:pt x="4088" y="2419"/>
                </a:cubicBezTo>
                <a:cubicBezTo>
                  <a:pt x="4040" y="2486"/>
                  <a:pt x="4009" y="2561"/>
                  <a:pt x="3960" y="2627"/>
                </a:cubicBezTo>
                <a:cubicBezTo>
                  <a:pt x="3944" y="2674"/>
                  <a:pt x="3963" y="2628"/>
                  <a:pt x="3928" y="2683"/>
                </a:cubicBezTo>
                <a:cubicBezTo>
                  <a:pt x="3891" y="2743"/>
                  <a:pt x="3859" y="2804"/>
                  <a:pt x="3816" y="2859"/>
                </a:cubicBezTo>
                <a:cubicBezTo>
                  <a:pt x="3780" y="2906"/>
                  <a:pt x="3734" y="2941"/>
                  <a:pt x="3696" y="2987"/>
                </a:cubicBezTo>
                <a:cubicBezTo>
                  <a:pt x="3664" y="3026"/>
                  <a:pt x="3618" y="3098"/>
                  <a:pt x="3568" y="3115"/>
                </a:cubicBezTo>
                <a:cubicBezTo>
                  <a:pt x="3522" y="3189"/>
                  <a:pt x="3551" y="3168"/>
                  <a:pt x="3496" y="3195"/>
                </a:cubicBezTo>
                <a:cubicBezTo>
                  <a:pt x="3444" y="3264"/>
                  <a:pt x="3377" y="3309"/>
                  <a:pt x="3312" y="3363"/>
                </a:cubicBezTo>
                <a:cubicBezTo>
                  <a:pt x="3273" y="3396"/>
                  <a:pt x="3248" y="3432"/>
                  <a:pt x="3200" y="3451"/>
                </a:cubicBezTo>
                <a:cubicBezTo>
                  <a:pt x="3163" y="3488"/>
                  <a:pt x="3153" y="3484"/>
                  <a:pt x="3112" y="3507"/>
                </a:cubicBezTo>
                <a:cubicBezTo>
                  <a:pt x="3054" y="3539"/>
                  <a:pt x="3007" y="3582"/>
                  <a:pt x="2944" y="3603"/>
                </a:cubicBezTo>
                <a:cubicBezTo>
                  <a:pt x="2830" y="3261"/>
                  <a:pt x="2937" y="2592"/>
                  <a:pt x="2912" y="2139"/>
                </a:cubicBezTo>
                <a:cubicBezTo>
                  <a:pt x="2912" y="2123"/>
                  <a:pt x="2888" y="1466"/>
                  <a:pt x="2936" y="1275"/>
                </a:cubicBezTo>
                <a:cubicBezTo>
                  <a:pt x="2946" y="1160"/>
                  <a:pt x="2905" y="568"/>
                  <a:pt x="2960" y="787"/>
                </a:cubicBezTo>
                <a:cubicBezTo>
                  <a:pt x="3017" y="701"/>
                  <a:pt x="2928" y="831"/>
                  <a:pt x="3000" y="739"/>
                </a:cubicBezTo>
                <a:cubicBezTo>
                  <a:pt x="3037" y="692"/>
                  <a:pt x="3036" y="662"/>
                  <a:pt x="3088" y="627"/>
                </a:cubicBezTo>
                <a:cubicBezTo>
                  <a:pt x="3064" y="773"/>
                  <a:pt x="3035" y="958"/>
                  <a:pt x="2968" y="1091"/>
                </a:cubicBezTo>
                <a:cubicBezTo>
                  <a:pt x="2960" y="1144"/>
                  <a:pt x="2939" y="1184"/>
                  <a:pt x="2928" y="1235"/>
                </a:cubicBezTo>
                <a:cubicBezTo>
                  <a:pt x="2918" y="1278"/>
                  <a:pt x="2912" y="1306"/>
                  <a:pt x="2896" y="1347"/>
                </a:cubicBezTo>
                <a:cubicBezTo>
                  <a:pt x="2882" y="1428"/>
                  <a:pt x="2862" y="1508"/>
                  <a:pt x="2840" y="1587"/>
                </a:cubicBezTo>
                <a:cubicBezTo>
                  <a:pt x="2834" y="1608"/>
                  <a:pt x="2828" y="1629"/>
                  <a:pt x="2824" y="1651"/>
                </a:cubicBezTo>
                <a:cubicBezTo>
                  <a:pt x="2821" y="1664"/>
                  <a:pt x="2810" y="1679"/>
                  <a:pt x="2816" y="1691"/>
                </a:cubicBezTo>
                <a:cubicBezTo>
                  <a:pt x="2820" y="1700"/>
                  <a:pt x="2826" y="1674"/>
                  <a:pt x="2832" y="1667"/>
                </a:cubicBezTo>
                <a:cubicBezTo>
                  <a:pt x="2839" y="1658"/>
                  <a:pt x="2849" y="1652"/>
                  <a:pt x="2856" y="1643"/>
                </a:cubicBezTo>
                <a:cubicBezTo>
                  <a:pt x="2886" y="1607"/>
                  <a:pt x="2908" y="1557"/>
                  <a:pt x="2928" y="1515"/>
                </a:cubicBezTo>
                <a:cubicBezTo>
                  <a:pt x="2959" y="1449"/>
                  <a:pt x="3003" y="1390"/>
                  <a:pt x="3032" y="1323"/>
                </a:cubicBezTo>
                <a:cubicBezTo>
                  <a:pt x="3043" y="1297"/>
                  <a:pt x="3046" y="1269"/>
                  <a:pt x="3056" y="1243"/>
                </a:cubicBezTo>
                <a:cubicBezTo>
                  <a:pt x="3076" y="1191"/>
                  <a:pt x="3102" y="1144"/>
                  <a:pt x="3120" y="1091"/>
                </a:cubicBezTo>
                <a:cubicBezTo>
                  <a:pt x="3123" y="1070"/>
                  <a:pt x="3127" y="1048"/>
                  <a:pt x="3128" y="1027"/>
                </a:cubicBezTo>
                <a:cubicBezTo>
                  <a:pt x="3133" y="896"/>
                  <a:pt x="3125" y="765"/>
                  <a:pt x="3136" y="635"/>
                </a:cubicBezTo>
                <a:cubicBezTo>
                  <a:pt x="3137" y="628"/>
                  <a:pt x="3160" y="642"/>
                  <a:pt x="3184" y="659"/>
                </a:cubicBezTo>
                <a:cubicBezTo>
                  <a:pt x="3226" y="689"/>
                  <a:pt x="3201" y="678"/>
                  <a:pt x="3240" y="691"/>
                </a:cubicBezTo>
                <a:cubicBezTo>
                  <a:pt x="3296" y="733"/>
                  <a:pt x="3366" y="773"/>
                  <a:pt x="3432" y="795"/>
                </a:cubicBezTo>
                <a:cubicBezTo>
                  <a:pt x="3464" y="819"/>
                  <a:pt x="3485" y="820"/>
                  <a:pt x="3520" y="835"/>
                </a:cubicBezTo>
                <a:cubicBezTo>
                  <a:pt x="3601" y="870"/>
                  <a:pt x="3683" y="902"/>
                  <a:pt x="3768" y="923"/>
                </a:cubicBezTo>
                <a:cubicBezTo>
                  <a:pt x="3810" y="933"/>
                  <a:pt x="3854" y="932"/>
                  <a:pt x="3896" y="939"/>
                </a:cubicBezTo>
                <a:cubicBezTo>
                  <a:pt x="3912" y="942"/>
                  <a:pt x="3928" y="944"/>
                  <a:pt x="3944" y="947"/>
                </a:cubicBezTo>
                <a:cubicBezTo>
                  <a:pt x="3947" y="948"/>
                  <a:pt x="3936" y="947"/>
                  <a:pt x="3936" y="947"/>
                </a:cubicBezTo>
                <a:cubicBezTo>
                  <a:pt x="3866" y="930"/>
                  <a:pt x="3799" y="909"/>
                  <a:pt x="3728" y="899"/>
                </a:cubicBezTo>
                <a:cubicBezTo>
                  <a:pt x="3679" y="883"/>
                  <a:pt x="3632" y="859"/>
                  <a:pt x="3584" y="843"/>
                </a:cubicBezTo>
                <a:cubicBezTo>
                  <a:pt x="3449" y="798"/>
                  <a:pt x="3311" y="760"/>
                  <a:pt x="3176" y="715"/>
                </a:cubicBezTo>
                <a:cubicBezTo>
                  <a:pt x="3106" y="692"/>
                  <a:pt x="3037" y="641"/>
                  <a:pt x="2960" y="635"/>
                </a:cubicBezTo>
                <a:cubicBezTo>
                  <a:pt x="2620" y="607"/>
                  <a:pt x="2287" y="593"/>
                  <a:pt x="1944" y="587"/>
                </a:cubicBezTo>
                <a:cubicBezTo>
                  <a:pt x="1733" y="566"/>
                  <a:pt x="1528" y="585"/>
                  <a:pt x="1320" y="611"/>
                </a:cubicBezTo>
                <a:cubicBezTo>
                  <a:pt x="1253" y="644"/>
                  <a:pt x="1186" y="687"/>
                  <a:pt x="1112" y="699"/>
                </a:cubicBezTo>
                <a:cubicBezTo>
                  <a:pt x="988" y="761"/>
                  <a:pt x="860" y="813"/>
                  <a:pt x="736" y="875"/>
                </a:cubicBezTo>
                <a:cubicBezTo>
                  <a:pt x="697" y="894"/>
                  <a:pt x="654" y="910"/>
                  <a:pt x="616" y="931"/>
                </a:cubicBezTo>
                <a:cubicBezTo>
                  <a:pt x="571" y="956"/>
                  <a:pt x="545" y="983"/>
                  <a:pt x="496" y="995"/>
                </a:cubicBezTo>
                <a:cubicBezTo>
                  <a:pt x="446" y="1028"/>
                  <a:pt x="381" y="1037"/>
                  <a:pt x="328" y="1067"/>
                </a:cubicBezTo>
                <a:cubicBezTo>
                  <a:pt x="295" y="1086"/>
                  <a:pt x="287" y="1086"/>
                  <a:pt x="248" y="1099"/>
                </a:cubicBezTo>
                <a:cubicBezTo>
                  <a:pt x="240" y="1102"/>
                  <a:pt x="224" y="1107"/>
                  <a:pt x="224" y="1107"/>
                </a:cubicBezTo>
                <a:cubicBezTo>
                  <a:pt x="229" y="1099"/>
                  <a:pt x="232" y="1088"/>
                  <a:pt x="240" y="1083"/>
                </a:cubicBezTo>
                <a:cubicBezTo>
                  <a:pt x="261" y="1070"/>
                  <a:pt x="346" y="1042"/>
                  <a:pt x="368" y="1035"/>
                </a:cubicBezTo>
                <a:cubicBezTo>
                  <a:pt x="377" y="1032"/>
                  <a:pt x="383" y="1023"/>
                  <a:pt x="392" y="1019"/>
                </a:cubicBezTo>
                <a:cubicBezTo>
                  <a:pt x="431" y="1000"/>
                  <a:pt x="471" y="977"/>
                  <a:pt x="512" y="963"/>
                </a:cubicBezTo>
                <a:cubicBezTo>
                  <a:pt x="523" y="955"/>
                  <a:pt x="532" y="946"/>
                  <a:pt x="544" y="939"/>
                </a:cubicBezTo>
                <a:cubicBezTo>
                  <a:pt x="551" y="935"/>
                  <a:pt x="561" y="936"/>
                  <a:pt x="568" y="931"/>
                </a:cubicBezTo>
                <a:cubicBezTo>
                  <a:pt x="618" y="897"/>
                  <a:pt x="661" y="847"/>
                  <a:pt x="720" y="827"/>
                </a:cubicBezTo>
                <a:cubicBezTo>
                  <a:pt x="759" y="788"/>
                  <a:pt x="816" y="774"/>
                  <a:pt x="864" y="747"/>
                </a:cubicBezTo>
                <a:cubicBezTo>
                  <a:pt x="884" y="736"/>
                  <a:pt x="900" y="718"/>
                  <a:pt x="920" y="707"/>
                </a:cubicBezTo>
                <a:cubicBezTo>
                  <a:pt x="968" y="680"/>
                  <a:pt x="1017" y="655"/>
                  <a:pt x="1064" y="627"/>
                </a:cubicBezTo>
                <a:cubicBezTo>
                  <a:pt x="1098" y="606"/>
                  <a:pt x="1155" y="576"/>
                  <a:pt x="1184" y="547"/>
                </a:cubicBezTo>
                <a:cubicBezTo>
                  <a:pt x="1218" y="513"/>
                  <a:pt x="1258" y="482"/>
                  <a:pt x="1304" y="467"/>
                </a:cubicBezTo>
                <a:cubicBezTo>
                  <a:pt x="1352" y="477"/>
                  <a:pt x="1402" y="509"/>
                  <a:pt x="1448" y="515"/>
                </a:cubicBezTo>
                <a:cubicBezTo>
                  <a:pt x="1646" y="542"/>
                  <a:pt x="1848" y="527"/>
                  <a:pt x="2048" y="531"/>
                </a:cubicBezTo>
                <a:cubicBezTo>
                  <a:pt x="2114" y="553"/>
                  <a:pt x="2256" y="555"/>
                  <a:pt x="2256" y="555"/>
                </a:cubicBezTo>
                <a:cubicBezTo>
                  <a:pt x="2316" y="570"/>
                  <a:pt x="2381" y="583"/>
                  <a:pt x="2440" y="603"/>
                </a:cubicBezTo>
                <a:cubicBezTo>
                  <a:pt x="2470" y="613"/>
                  <a:pt x="2498" y="627"/>
                  <a:pt x="2528" y="635"/>
                </a:cubicBezTo>
                <a:cubicBezTo>
                  <a:pt x="2586" y="649"/>
                  <a:pt x="2653" y="653"/>
                  <a:pt x="2712" y="659"/>
                </a:cubicBezTo>
                <a:cubicBezTo>
                  <a:pt x="2809" y="683"/>
                  <a:pt x="2900" y="695"/>
                  <a:pt x="3000" y="707"/>
                </a:cubicBezTo>
                <a:cubicBezTo>
                  <a:pt x="2946" y="689"/>
                  <a:pt x="2990" y="702"/>
                  <a:pt x="2888" y="691"/>
                </a:cubicBezTo>
                <a:cubicBezTo>
                  <a:pt x="2795" y="681"/>
                  <a:pt x="2701" y="669"/>
                  <a:pt x="2608" y="659"/>
                </a:cubicBezTo>
                <a:cubicBezTo>
                  <a:pt x="2517" y="636"/>
                  <a:pt x="2583" y="651"/>
                  <a:pt x="2392" y="635"/>
                </a:cubicBezTo>
                <a:cubicBezTo>
                  <a:pt x="2357" y="632"/>
                  <a:pt x="2288" y="627"/>
                  <a:pt x="2288" y="627"/>
                </a:cubicBezTo>
                <a:cubicBezTo>
                  <a:pt x="2143" y="603"/>
                  <a:pt x="2006" y="556"/>
                  <a:pt x="1864" y="523"/>
                </a:cubicBezTo>
                <a:cubicBezTo>
                  <a:pt x="1791" y="506"/>
                  <a:pt x="1714" y="498"/>
                  <a:pt x="1640" y="483"/>
                </a:cubicBezTo>
                <a:cubicBezTo>
                  <a:pt x="1552" y="465"/>
                  <a:pt x="1482" y="443"/>
                  <a:pt x="1392" y="435"/>
                </a:cubicBezTo>
                <a:cubicBezTo>
                  <a:pt x="1378" y="394"/>
                  <a:pt x="1355" y="371"/>
                  <a:pt x="1320" y="347"/>
                </a:cubicBezTo>
                <a:cubicBezTo>
                  <a:pt x="1301" y="319"/>
                  <a:pt x="1281" y="305"/>
                  <a:pt x="1256" y="283"/>
                </a:cubicBezTo>
                <a:cubicBezTo>
                  <a:pt x="1192" y="226"/>
                  <a:pt x="1122" y="158"/>
                  <a:pt x="1040" y="131"/>
                </a:cubicBezTo>
                <a:cubicBezTo>
                  <a:pt x="984" y="134"/>
                  <a:pt x="928" y="133"/>
                  <a:pt x="872" y="139"/>
                </a:cubicBezTo>
                <a:cubicBezTo>
                  <a:pt x="864" y="140"/>
                  <a:pt x="888" y="145"/>
                  <a:pt x="896" y="147"/>
                </a:cubicBezTo>
                <a:cubicBezTo>
                  <a:pt x="917" y="153"/>
                  <a:pt x="960" y="163"/>
                  <a:pt x="960" y="163"/>
                </a:cubicBezTo>
                <a:cubicBezTo>
                  <a:pt x="986" y="180"/>
                  <a:pt x="1014" y="194"/>
                  <a:pt x="1040" y="211"/>
                </a:cubicBezTo>
                <a:cubicBezTo>
                  <a:pt x="1080" y="270"/>
                  <a:pt x="1134" y="321"/>
                  <a:pt x="1184" y="371"/>
                </a:cubicBezTo>
                <a:cubicBezTo>
                  <a:pt x="1227" y="414"/>
                  <a:pt x="1161" y="408"/>
                  <a:pt x="1264" y="459"/>
                </a:cubicBezTo>
                <a:cubicBezTo>
                  <a:pt x="1305" y="479"/>
                  <a:pt x="1286" y="468"/>
                  <a:pt x="1320" y="491"/>
                </a:cubicBezTo>
                <a:cubicBezTo>
                  <a:pt x="1357" y="435"/>
                  <a:pt x="1311" y="391"/>
                  <a:pt x="1280" y="347"/>
                </a:cubicBezTo>
                <a:cubicBezTo>
                  <a:pt x="1227" y="273"/>
                  <a:pt x="1162" y="252"/>
                  <a:pt x="1088" y="203"/>
                </a:cubicBezTo>
                <a:cubicBezTo>
                  <a:pt x="1053" y="180"/>
                  <a:pt x="1023" y="164"/>
                  <a:pt x="984" y="147"/>
                </a:cubicBezTo>
                <a:cubicBezTo>
                  <a:pt x="964" y="138"/>
                  <a:pt x="916" y="130"/>
                  <a:pt x="936" y="123"/>
                </a:cubicBezTo>
                <a:cubicBezTo>
                  <a:pt x="951" y="118"/>
                  <a:pt x="968" y="131"/>
                  <a:pt x="984" y="131"/>
                </a:cubicBezTo>
                <a:cubicBezTo>
                  <a:pt x="1197" y="136"/>
                  <a:pt x="1411" y="136"/>
                  <a:pt x="1624" y="139"/>
                </a:cubicBezTo>
                <a:cubicBezTo>
                  <a:pt x="1813" y="160"/>
                  <a:pt x="2003" y="168"/>
                  <a:pt x="2192" y="195"/>
                </a:cubicBezTo>
                <a:cubicBezTo>
                  <a:pt x="2282" y="240"/>
                  <a:pt x="2391" y="241"/>
                  <a:pt x="2488" y="259"/>
                </a:cubicBezTo>
                <a:cubicBezTo>
                  <a:pt x="2542" y="269"/>
                  <a:pt x="2585" y="291"/>
                  <a:pt x="2640" y="299"/>
                </a:cubicBezTo>
                <a:cubicBezTo>
                  <a:pt x="2711" y="323"/>
                  <a:pt x="2599" y="285"/>
                  <a:pt x="2704" y="323"/>
                </a:cubicBezTo>
                <a:cubicBezTo>
                  <a:pt x="2720" y="329"/>
                  <a:pt x="2752" y="339"/>
                  <a:pt x="2752" y="339"/>
                </a:cubicBezTo>
                <a:cubicBezTo>
                  <a:pt x="2773" y="336"/>
                  <a:pt x="2797" y="321"/>
                  <a:pt x="2816" y="331"/>
                </a:cubicBezTo>
                <a:cubicBezTo>
                  <a:pt x="2830" y="339"/>
                  <a:pt x="2819" y="363"/>
                  <a:pt x="2824" y="379"/>
                </a:cubicBezTo>
                <a:cubicBezTo>
                  <a:pt x="2830" y="397"/>
                  <a:pt x="2845" y="419"/>
                  <a:pt x="2856" y="435"/>
                </a:cubicBezTo>
                <a:cubicBezTo>
                  <a:pt x="2869" y="486"/>
                  <a:pt x="2858" y="458"/>
                  <a:pt x="2896" y="515"/>
                </a:cubicBezTo>
                <a:lnTo>
                  <a:pt x="2896" y="515"/>
                </a:lnTo>
                <a:cubicBezTo>
                  <a:pt x="2918" y="569"/>
                  <a:pt x="2934" y="601"/>
                  <a:pt x="2976" y="643"/>
                </a:cubicBezTo>
                <a:cubicBezTo>
                  <a:pt x="2992" y="692"/>
                  <a:pt x="3001" y="735"/>
                  <a:pt x="3008" y="787"/>
                </a:cubicBezTo>
                <a:cubicBezTo>
                  <a:pt x="3027" y="730"/>
                  <a:pt x="3000" y="799"/>
                  <a:pt x="3040" y="739"/>
                </a:cubicBezTo>
                <a:cubicBezTo>
                  <a:pt x="3045" y="732"/>
                  <a:pt x="3043" y="722"/>
                  <a:pt x="3048" y="715"/>
                </a:cubicBezTo>
                <a:cubicBezTo>
                  <a:pt x="3062" y="693"/>
                  <a:pt x="3096" y="651"/>
                  <a:pt x="3096" y="651"/>
                </a:cubicBezTo>
                <a:cubicBezTo>
                  <a:pt x="3113" y="600"/>
                  <a:pt x="3091" y="655"/>
                  <a:pt x="3128" y="603"/>
                </a:cubicBezTo>
                <a:cubicBezTo>
                  <a:pt x="3153" y="568"/>
                  <a:pt x="3169" y="530"/>
                  <a:pt x="3200" y="499"/>
                </a:cubicBezTo>
                <a:cubicBezTo>
                  <a:pt x="3219" y="443"/>
                  <a:pt x="3291" y="389"/>
                  <a:pt x="3320" y="331"/>
                </a:cubicBezTo>
                <a:cubicBezTo>
                  <a:pt x="3220" y="306"/>
                  <a:pt x="3344" y="331"/>
                  <a:pt x="3264" y="331"/>
                </a:cubicBezTo>
                <a:cubicBezTo>
                  <a:pt x="3155" y="331"/>
                  <a:pt x="3045" y="326"/>
                  <a:pt x="2936" y="323"/>
                </a:cubicBezTo>
                <a:cubicBezTo>
                  <a:pt x="2813" y="308"/>
                  <a:pt x="2690" y="286"/>
                  <a:pt x="2568" y="275"/>
                </a:cubicBezTo>
                <a:cubicBezTo>
                  <a:pt x="2460" y="248"/>
                  <a:pt x="2309" y="245"/>
                  <a:pt x="2200" y="235"/>
                </a:cubicBezTo>
                <a:cubicBezTo>
                  <a:pt x="2101" y="226"/>
                  <a:pt x="2003" y="206"/>
                  <a:pt x="1904" y="195"/>
                </a:cubicBezTo>
                <a:cubicBezTo>
                  <a:pt x="1764" y="160"/>
                  <a:pt x="1616" y="168"/>
                  <a:pt x="1472" y="163"/>
                </a:cubicBezTo>
                <a:cubicBezTo>
                  <a:pt x="1355" y="151"/>
                  <a:pt x="1242" y="132"/>
                  <a:pt x="1128" y="107"/>
                </a:cubicBezTo>
                <a:cubicBezTo>
                  <a:pt x="1093" y="99"/>
                  <a:pt x="1060" y="90"/>
                  <a:pt x="1024" y="83"/>
                </a:cubicBezTo>
                <a:cubicBezTo>
                  <a:pt x="1011" y="81"/>
                  <a:pt x="970" y="75"/>
                  <a:pt x="984" y="75"/>
                </a:cubicBezTo>
                <a:cubicBezTo>
                  <a:pt x="1360" y="75"/>
                  <a:pt x="1736" y="80"/>
                  <a:pt x="2112" y="83"/>
                </a:cubicBezTo>
                <a:cubicBezTo>
                  <a:pt x="2214" y="92"/>
                  <a:pt x="2294" y="102"/>
                  <a:pt x="2400" y="107"/>
                </a:cubicBezTo>
                <a:cubicBezTo>
                  <a:pt x="2486" y="117"/>
                  <a:pt x="2570" y="142"/>
                  <a:pt x="2656" y="147"/>
                </a:cubicBezTo>
                <a:cubicBezTo>
                  <a:pt x="2979" y="167"/>
                  <a:pt x="3038" y="164"/>
                  <a:pt x="3384" y="171"/>
                </a:cubicBezTo>
                <a:cubicBezTo>
                  <a:pt x="3163" y="157"/>
                  <a:pt x="2948" y="119"/>
                  <a:pt x="2728" y="107"/>
                </a:cubicBezTo>
                <a:cubicBezTo>
                  <a:pt x="2659" y="110"/>
                  <a:pt x="2588" y="104"/>
                  <a:pt x="2520" y="115"/>
                </a:cubicBezTo>
                <a:cubicBezTo>
                  <a:pt x="2511" y="117"/>
                  <a:pt x="2528" y="133"/>
                  <a:pt x="2536" y="139"/>
                </a:cubicBezTo>
                <a:cubicBezTo>
                  <a:pt x="2543" y="144"/>
                  <a:pt x="2553" y="143"/>
                  <a:pt x="2560" y="147"/>
                </a:cubicBezTo>
                <a:cubicBezTo>
                  <a:pt x="2577" y="156"/>
                  <a:pt x="2591" y="170"/>
                  <a:pt x="2608" y="179"/>
                </a:cubicBezTo>
                <a:cubicBezTo>
                  <a:pt x="2677" y="214"/>
                  <a:pt x="2765" y="227"/>
                  <a:pt x="2840" y="235"/>
                </a:cubicBezTo>
                <a:cubicBezTo>
                  <a:pt x="3025" y="281"/>
                  <a:pt x="3178" y="271"/>
                  <a:pt x="3384" y="275"/>
                </a:cubicBezTo>
                <a:cubicBezTo>
                  <a:pt x="3379" y="283"/>
                  <a:pt x="3360" y="318"/>
                  <a:pt x="3344" y="315"/>
                </a:cubicBezTo>
                <a:cubicBezTo>
                  <a:pt x="3320" y="311"/>
                  <a:pt x="3308" y="281"/>
                  <a:pt x="3288" y="267"/>
                </a:cubicBezTo>
                <a:cubicBezTo>
                  <a:pt x="3256" y="244"/>
                  <a:pt x="3221" y="238"/>
                  <a:pt x="3184" y="227"/>
                </a:cubicBezTo>
                <a:cubicBezTo>
                  <a:pt x="2975" y="164"/>
                  <a:pt x="2712" y="160"/>
                  <a:pt x="2496" y="147"/>
                </a:cubicBezTo>
                <a:cubicBezTo>
                  <a:pt x="2368" y="126"/>
                  <a:pt x="2234" y="124"/>
                  <a:pt x="2104" y="115"/>
                </a:cubicBezTo>
                <a:cubicBezTo>
                  <a:pt x="1974" y="96"/>
                  <a:pt x="2067" y="108"/>
                  <a:pt x="1824" y="91"/>
                </a:cubicBezTo>
                <a:cubicBezTo>
                  <a:pt x="1645" y="78"/>
                  <a:pt x="1472" y="28"/>
                  <a:pt x="1296" y="3"/>
                </a:cubicBezTo>
                <a:cubicBezTo>
                  <a:pt x="1280" y="6"/>
                  <a:pt x="1259" y="0"/>
                  <a:pt x="1248" y="11"/>
                </a:cubicBezTo>
                <a:cubicBezTo>
                  <a:pt x="1232" y="27"/>
                  <a:pt x="1276" y="63"/>
                  <a:pt x="1280" y="67"/>
                </a:cubicBezTo>
                <a:cubicBezTo>
                  <a:pt x="1301" y="171"/>
                  <a:pt x="1274" y="63"/>
                  <a:pt x="1296" y="59"/>
                </a:cubicBezTo>
                <a:cubicBezTo>
                  <a:pt x="1351" y="49"/>
                  <a:pt x="1464" y="75"/>
                  <a:pt x="1464" y="75"/>
                </a:cubicBezTo>
                <a:cubicBezTo>
                  <a:pt x="1518" y="102"/>
                  <a:pt x="1574" y="96"/>
                  <a:pt x="1632" y="107"/>
                </a:cubicBezTo>
                <a:cubicBezTo>
                  <a:pt x="1757" y="130"/>
                  <a:pt x="1880" y="133"/>
                  <a:pt x="2008" y="139"/>
                </a:cubicBezTo>
                <a:cubicBezTo>
                  <a:pt x="2052" y="144"/>
                  <a:pt x="2086" y="157"/>
                  <a:pt x="2128" y="163"/>
                </a:cubicBezTo>
                <a:cubicBezTo>
                  <a:pt x="2186" y="172"/>
                  <a:pt x="2247" y="171"/>
                  <a:pt x="2304" y="187"/>
                </a:cubicBezTo>
                <a:cubicBezTo>
                  <a:pt x="2371" y="205"/>
                  <a:pt x="2382" y="212"/>
                  <a:pt x="2456" y="219"/>
                </a:cubicBezTo>
                <a:cubicBezTo>
                  <a:pt x="2540" y="261"/>
                  <a:pt x="2471" y="234"/>
                  <a:pt x="2592" y="251"/>
                </a:cubicBezTo>
                <a:cubicBezTo>
                  <a:pt x="2645" y="259"/>
                  <a:pt x="2699" y="276"/>
                  <a:pt x="2752" y="283"/>
                </a:cubicBezTo>
                <a:cubicBezTo>
                  <a:pt x="2970" y="310"/>
                  <a:pt x="3023" y="301"/>
                  <a:pt x="3296" y="307"/>
                </a:cubicBezTo>
                <a:cubicBezTo>
                  <a:pt x="3314" y="313"/>
                  <a:pt x="3332" y="314"/>
                  <a:pt x="3336" y="339"/>
                </a:cubicBezTo>
                <a:cubicBezTo>
                  <a:pt x="3340" y="365"/>
                  <a:pt x="3322" y="375"/>
                  <a:pt x="3312" y="395"/>
                </a:cubicBezTo>
                <a:cubicBezTo>
                  <a:pt x="3287" y="445"/>
                  <a:pt x="3280" y="499"/>
                  <a:pt x="3240" y="539"/>
                </a:cubicBezTo>
                <a:cubicBezTo>
                  <a:pt x="3223" y="609"/>
                  <a:pt x="3191" y="600"/>
                  <a:pt x="3136" y="635"/>
                </a:cubicBezTo>
                <a:cubicBezTo>
                  <a:pt x="3101" y="657"/>
                  <a:pt x="3067" y="684"/>
                  <a:pt x="3032" y="707"/>
                </a:cubicBezTo>
                <a:cubicBezTo>
                  <a:pt x="3023" y="713"/>
                  <a:pt x="3047" y="689"/>
                  <a:pt x="3056" y="683"/>
                </a:cubicBezTo>
                <a:cubicBezTo>
                  <a:pt x="3063" y="678"/>
                  <a:pt x="3072" y="678"/>
                  <a:pt x="3080" y="675"/>
                </a:cubicBezTo>
                <a:cubicBezTo>
                  <a:pt x="3112" y="701"/>
                  <a:pt x="3149" y="733"/>
                  <a:pt x="3184" y="755"/>
                </a:cubicBezTo>
                <a:cubicBezTo>
                  <a:pt x="3203" y="767"/>
                  <a:pt x="3280" y="789"/>
                  <a:pt x="3304" y="795"/>
                </a:cubicBezTo>
                <a:cubicBezTo>
                  <a:pt x="3331" y="813"/>
                  <a:pt x="3360" y="826"/>
                  <a:pt x="3392" y="835"/>
                </a:cubicBezTo>
                <a:cubicBezTo>
                  <a:pt x="3413" y="841"/>
                  <a:pt x="3456" y="851"/>
                  <a:pt x="3456" y="851"/>
                </a:cubicBezTo>
                <a:cubicBezTo>
                  <a:pt x="3511" y="884"/>
                  <a:pt x="3561" y="897"/>
                  <a:pt x="3624" y="907"/>
                </a:cubicBezTo>
                <a:cubicBezTo>
                  <a:pt x="3689" y="940"/>
                  <a:pt x="3830" y="976"/>
                  <a:pt x="3904" y="987"/>
                </a:cubicBezTo>
                <a:cubicBezTo>
                  <a:pt x="3950" y="1002"/>
                  <a:pt x="4098" y="991"/>
                  <a:pt x="3976" y="1011"/>
                </a:cubicBezTo>
                <a:cubicBezTo>
                  <a:pt x="3927" y="1044"/>
                  <a:pt x="3981" y="1012"/>
                  <a:pt x="3912" y="1035"/>
                </a:cubicBezTo>
                <a:cubicBezTo>
                  <a:pt x="3873" y="1048"/>
                  <a:pt x="3838" y="1068"/>
                  <a:pt x="3800" y="1083"/>
                </a:cubicBezTo>
                <a:cubicBezTo>
                  <a:pt x="3788" y="1088"/>
                  <a:pt x="3780" y="1100"/>
                  <a:pt x="3768" y="1107"/>
                </a:cubicBezTo>
                <a:cubicBezTo>
                  <a:pt x="3761" y="1111"/>
                  <a:pt x="3752" y="1112"/>
                  <a:pt x="3744" y="1115"/>
                </a:cubicBezTo>
                <a:cubicBezTo>
                  <a:pt x="3666" y="1174"/>
                  <a:pt x="3591" y="1233"/>
                  <a:pt x="3536" y="1315"/>
                </a:cubicBezTo>
                <a:cubicBezTo>
                  <a:pt x="3497" y="1276"/>
                  <a:pt x="3514" y="1275"/>
                  <a:pt x="3464" y="1235"/>
                </a:cubicBezTo>
                <a:cubicBezTo>
                  <a:pt x="3400" y="1128"/>
                  <a:pt x="3303" y="1058"/>
                  <a:pt x="3216" y="971"/>
                </a:cubicBezTo>
                <a:cubicBezTo>
                  <a:pt x="3167" y="922"/>
                  <a:pt x="3214" y="958"/>
                  <a:pt x="3176" y="907"/>
                </a:cubicBezTo>
                <a:cubicBezTo>
                  <a:pt x="3167" y="895"/>
                  <a:pt x="3154" y="886"/>
                  <a:pt x="3144" y="875"/>
                </a:cubicBezTo>
                <a:cubicBezTo>
                  <a:pt x="3125" y="853"/>
                  <a:pt x="3117" y="821"/>
                  <a:pt x="3104" y="795"/>
                </a:cubicBezTo>
                <a:cubicBezTo>
                  <a:pt x="2981" y="1001"/>
                  <a:pt x="2870" y="1692"/>
                  <a:pt x="3112" y="1531"/>
                </a:cubicBezTo>
                <a:cubicBezTo>
                  <a:pt x="3145" y="1481"/>
                  <a:pt x="3197" y="1418"/>
                  <a:pt x="3256" y="1403"/>
                </a:cubicBezTo>
                <a:cubicBezTo>
                  <a:pt x="3291" y="1368"/>
                  <a:pt x="3300" y="1388"/>
                  <a:pt x="3312" y="1339"/>
                </a:cubicBezTo>
                <a:cubicBezTo>
                  <a:pt x="3305" y="1236"/>
                  <a:pt x="3286" y="1142"/>
                  <a:pt x="3256" y="1043"/>
                </a:cubicBezTo>
                <a:cubicBezTo>
                  <a:pt x="3238" y="982"/>
                  <a:pt x="3231" y="922"/>
                  <a:pt x="3184" y="875"/>
                </a:cubicBezTo>
                <a:cubicBezTo>
                  <a:pt x="3171" y="823"/>
                  <a:pt x="3186" y="860"/>
                  <a:pt x="3152" y="819"/>
                </a:cubicBezTo>
                <a:cubicBezTo>
                  <a:pt x="3146" y="812"/>
                  <a:pt x="3140" y="804"/>
                  <a:pt x="3136" y="795"/>
                </a:cubicBezTo>
                <a:cubicBezTo>
                  <a:pt x="3132" y="787"/>
                  <a:pt x="3120" y="768"/>
                  <a:pt x="3128" y="771"/>
                </a:cubicBezTo>
                <a:cubicBezTo>
                  <a:pt x="3142" y="776"/>
                  <a:pt x="3148" y="794"/>
                  <a:pt x="3160" y="803"/>
                </a:cubicBezTo>
                <a:cubicBezTo>
                  <a:pt x="3180" y="818"/>
                  <a:pt x="3211" y="823"/>
                  <a:pt x="3232" y="835"/>
                </a:cubicBezTo>
                <a:cubicBezTo>
                  <a:pt x="3281" y="862"/>
                  <a:pt x="3352" y="920"/>
                  <a:pt x="3400" y="939"/>
                </a:cubicBezTo>
                <a:cubicBezTo>
                  <a:pt x="3448" y="958"/>
                  <a:pt x="3498" y="980"/>
                  <a:pt x="3544" y="1003"/>
                </a:cubicBezTo>
                <a:cubicBezTo>
                  <a:pt x="3567" y="1015"/>
                  <a:pt x="3592" y="1034"/>
                  <a:pt x="3616" y="1043"/>
                </a:cubicBezTo>
                <a:cubicBezTo>
                  <a:pt x="3637" y="1051"/>
                  <a:pt x="3660" y="1051"/>
                  <a:pt x="3680" y="1059"/>
                </a:cubicBezTo>
                <a:cubicBezTo>
                  <a:pt x="3693" y="1064"/>
                  <a:pt x="3707" y="1070"/>
                  <a:pt x="3720" y="1075"/>
                </a:cubicBezTo>
                <a:cubicBezTo>
                  <a:pt x="3829" y="1072"/>
                  <a:pt x="3939" y="1067"/>
                  <a:pt x="4048" y="1067"/>
                </a:cubicBezTo>
                <a:cubicBezTo>
                  <a:pt x="4056" y="1067"/>
                  <a:pt x="4066" y="1069"/>
                  <a:pt x="4072" y="1075"/>
                </a:cubicBezTo>
                <a:cubicBezTo>
                  <a:pt x="4090" y="1093"/>
                  <a:pt x="4103" y="1205"/>
                  <a:pt x="4104" y="1211"/>
                </a:cubicBezTo>
                <a:cubicBezTo>
                  <a:pt x="4107" y="1224"/>
                  <a:pt x="4112" y="1251"/>
                  <a:pt x="4112" y="1251"/>
                </a:cubicBezTo>
                <a:cubicBezTo>
                  <a:pt x="4124" y="1621"/>
                  <a:pt x="4128" y="1710"/>
                  <a:pt x="4128" y="2179"/>
                </a:cubicBezTo>
                <a:cubicBezTo>
                  <a:pt x="4128" y="2407"/>
                  <a:pt x="4186" y="2379"/>
                  <a:pt x="4056" y="2395"/>
                </a:cubicBezTo>
                <a:cubicBezTo>
                  <a:pt x="4048" y="2400"/>
                  <a:pt x="4041" y="2407"/>
                  <a:pt x="4032" y="2411"/>
                </a:cubicBezTo>
                <a:cubicBezTo>
                  <a:pt x="4024" y="2415"/>
                  <a:pt x="4014" y="2413"/>
                  <a:pt x="4008" y="2419"/>
                </a:cubicBezTo>
                <a:cubicBezTo>
                  <a:pt x="3980" y="2447"/>
                  <a:pt x="3978" y="2461"/>
                  <a:pt x="3968" y="2491"/>
                </a:cubicBezTo>
                <a:cubicBezTo>
                  <a:pt x="3961" y="2579"/>
                  <a:pt x="3962" y="2634"/>
                  <a:pt x="3888" y="2683"/>
                </a:cubicBezTo>
                <a:cubicBezTo>
                  <a:pt x="3870" y="2756"/>
                  <a:pt x="3896" y="2681"/>
                  <a:pt x="3856" y="2731"/>
                </a:cubicBezTo>
                <a:cubicBezTo>
                  <a:pt x="3812" y="2786"/>
                  <a:pt x="3893" y="2725"/>
                  <a:pt x="3824" y="2771"/>
                </a:cubicBezTo>
                <a:cubicBezTo>
                  <a:pt x="3806" y="2843"/>
                  <a:pt x="3831" y="2765"/>
                  <a:pt x="3792" y="2827"/>
                </a:cubicBezTo>
                <a:cubicBezTo>
                  <a:pt x="3774" y="2855"/>
                  <a:pt x="3759" y="2885"/>
                  <a:pt x="3744" y="2915"/>
                </a:cubicBezTo>
                <a:cubicBezTo>
                  <a:pt x="3732" y="2940"/>
                  <a:pt x="3704" y="2987"/>
                  <a:pt x="3704" y="2987"/>
                </a:cubicBezTo>
                <a:cubicBezTo>
                  <a:pt x="3694" y="3025"/>
                  <a:pt x="3680" y="3043"/>
                  <a:pt x="3656" y="3075"/>
                </a:cubicBezTo>
                <a:cubicBezTo>
                  <a:pt x="3641" y="3121"/>
                  <a:pt x="3659" y="3078"/>
                  <a:pt x="3624" y="3123"/>
                </a:cubicBezTo>
                <a:cubicBezTo>
                  <a:pt x="3574" y="3188"/>
                  <a:pt x="3614" y="3156"/>
                  <a:pt x="3568" y="3187"/>
                </a:cubicBezTo>
                <a:cubicBezTo>
                  <a:pt x="3536" y="3235"/>
                  <a:pt x="3484" y="3263"/>
                  <a:pt x="3440" y="3299"/>
                </a:cubicBezTo>
                <a:cubicBezTo>
                  <a:pt x="3405" y="3328"/>
                  <a:pt x="3377" y="3359"/>
                  <a:pt x="3336" y="3379"/>
                </a:cubicBezTo>
                <a:cubicBezTo>
                  <a:pt x="3314" y="3413"/>
                  <a:pt x="3281" y="3429"/>
                  <a:pt x="3248" y="3451"/>
                </a:cubicBezTo>
                <a:cubicBezTo>
                  <a:pt x="3198" y="3484"/>
                  <a:pt x="3162" y="3512"/>
                  <a:pt x="3104" y="3531"/>
                </a:cubicBezTo>
                <a:cubicBezTo>
                  <a:pt x="3034" y="3601"/>
                  <a:pt x="3112" y="3534"/>
                  <a:pt x="3032" y="3571"/>
                </a:cubicBezTo>
                <a:cubicBezTo>
                  <a:pt x="2988" y="3591"/>
                  <a:pt x="2958" y="3628"/>
                  <a:pt x="2912" y="3643"/>
                </a:cubicBezTo>
                <a:cubicBezTo>
                  <a:pt x="2770" y="3627"/>
                  <a:pt x="2645" y="3551"/>
                  <a:pt x="2504" y="3531"/>
                </a:cubicBezTo>
                <a:cubicBezTo>
                  <a:pt x="2450" y="3499"/>
                  <a:pt x="2397" y="3492"/>
                  <a:pt x="2336" y="3483"/>
                </a:cubicBezTo>
                <a:cubicBezTo>
                  <a:pt x="2293" y="3469"/>
                  <a:pt x="2253" y="3454"/>
                  <a:pt x="2208" y="3443"/>
                </a:cubicBezTo>
                <a:cubicBezTo>
                  <a:pt x="2187" y="3438"/>
                  <a:pt x="2164" y="3437"/>
                  <a:pt x="2144" y="3427"/>
                </a:cubicBezTo>
                <a:cubicBezTo>
                  <a:pt x="2055" y="3383"/>
                  <a:pt x="1960" y="3363"/>
                  <a:pt x="1864" y="3339"/>
                </a:cubicBezTo>
                <a:cubicBezTo>
                  <a:pt x="1817" y="3327"/>
                  <a:pt x="1775" y="3303"/>
                  <a:pt x="1728" y="3291"/>
                </a:cubicBezTo>
                <a:cubicBezTo>
                  <a:pt x="1688" y="3281"/>
                  <a:pt x="1648" y="3275"/>
                  <a:pt x="1608" y="3267"/>
                </a:cubicBezTo>
                <a:cubicBezTo>
                  <a:pt x="1551" y="3229"/>
                  <a:pt x="1491" y="3213"/>
                  <a:pt x="1424" y="3203"/>
                </a:cubicBezTo>
                <a:cubicBezTo>
                  <a:pt x="1395" y="3189"/>
                  <a:pt x="1364" y="3185"/>
                  <a:pt x="1336" y="3171"/>
                </a:cubicBezTo>
                <a:cubicBezTo>
                  <a:pt x="1302" y="3154"/>
                  <a:pt x="1273" y="3133"/>
                  <a:pt x="1240" y="3115"/>
                </a:cubicBezTo>
                <a:cubicBezTo>
                  <a:pt x="1170" y="3077"/>
                  <a:pt x="1230" y="3122"/>
                  <a:pt x="1152" y="3083"/>
                </a:cubicBezTo>
                <a:cubicBezTo>
                  <a:pt x="1071" y="3042"/>
                  <a:pt x="1171" y="3095"/>
                  <a:pt x="1088" y="3043"/>
                </a:cubicBezTo>
                <a:cubicBezTo>
                  <a:pt x="1046" y="3017"/>
                  <a:pt x="1061" y="3035"/>
                  <a:pt x="1008" y="3011"/>
                </a:cubicBezTo>
                <a:cubicBezTo>
                  <a:pt x="954" y="2986"/>
                  <a:pt x="899" y="2962"/>
                  <a:pt x="840" y="2947"/>
                </a:cubicBezTo>
                <a:cubicBezTo>
                  <a:pt x="800" y="2920"/>
                  <a:pt x="765" y="2900"/>
                  <a:pt x="720" y="2883"/>
                </a:cubicBezTo>
                <a:cubicBezTo>
                  <a:pt x="694" y="2873"/>
                  <a:pt x="630" y="2861"/>
                  <a:pt x="600" y="2843"/>
                </a:cubicBezTo>
                <a:cubicBezTo>
                  <a:pt x="571" y="2825"/>
                  <a:pt x="553" y="2812"/>
                  <a:pt x="520" y="2803"/>
                </a:cubicBezTo>
                <a:cubicBezTo>
                  <a:pt x="464" y="2788"/>
                  <a:pt x="483" y="2802"/>
                  <a:pt x="432" y="2787"/>
                </a:cubicBezTo>
                <a:cubicBezTo>
                  <a:pt x="382" y="2772"/>
                  <a:pt x="344" y="2741"/>
                  <a:pt x="296" y="2723"/>
                </a:cubicBezTo>
                <a:cubicBezTo>
                  <a:pt x="220" y="2695"/>
                  <a:pt x="141" y="2677"/>
                  <a:pt x="64" y="2651"/>
                </a:cubicBezTo>
                <a:cubicBezTo>
                  <a:pt x="99" y="2646"/>
                  <a:pt x="149" y="2664"/>
                  <a:pt x="168" y="2635"/>
                </a:cubicBezTo>
                <a:cubicBezTo>
                  <a:pt x="179" y="2618"/>
                  <a:pt x="150" y="2429"/>
                  <a:pt x="144" y="2387"/>
                </a:cubicBezTo>
                <a:cubicBezTo>
                  <a:pt x="140" y="2082"/>
                  <a:pt x="125" y="1346"/>
                  <a:pt x="144" y="1067"/>
                </a:cubicBezTo>
                <a:cubicBezTo>
                  <a:pt x="145" y="1053"/>
                  <a:pt x="171" y="1072"/>
                  <a:pt x="184" y="1075"/>
                </a:cubicBezTo>
                <a:cubicBezTo>
                  <a:pt x="232" y="1107"/>
                  <a:pt x="287" y="1108"/>
                  <a:pt x="344" y="1115"/>
                </a:cubicBezTo>
                <a:cubicBezTo>
                  <a:pt x="380" y="1127"/>
                  <a:pt x="395" y="1115"/>
                  <a:pt x="408" y="1155"/>
                </a:cubicBezTo>
                <a:cubicBezTo>
                  <a:pt x="402" y="1172"/>
                  <a:pt x="389" y="1186"/>
                  <a:pt x="384" y="1203"/>
                </a:cubicBezTo>
                <a:cubicBezTo>
                  <a:pt x="344" y="1332"/>
                  <a:pt x="337" y="1470"/>
                  <a:pt x="320" y="1603"/>
                </a:cubicBezTo>
                <a:cubicBezTo>
                  <a:pt x="301" y="2069"/>
                  <a:pt x="0" y="2675"/>
                  <a:pt x="504" y="2843"/>
                </a:cubicBezTo>
                <a:cubicBezTo>
                  <a:pt x="539" y="2820"/>
                  <a:pt x="536" y="2796"/>
                  <a:pt x="544" y="2755"/>
                </a:cubicBezTo>
                <a:cubicBezTo>
                  <a:pt x="547" y="2235"/>
                  <a:pt x="76" y="1082"/>
                  <a:pt x="584" y="1195"/>
                </a:cubicBezTo>
                <a:cubicBezTo>
                  <a:pt x="635" y="1206"/>
                  <a:pt x="680" y="1235"/>
                  <a:pt x="736" y="1243"/>
                </a:cubicBezTo>
                <a:cubicBezTo>
                  <a:pt x="791" y="1264"/>
                  <a:pt x="826" y="1259"/>
                  <a:pt x="840" y="1315"/>
                </a:cubicBezTo>
                <a:cubicBezTo>
                  <a:pt x="828" y="1350"/>
                  <a:pt x="820" y="1384"/>
                  <a:pt x="808" y="1419"/>
                </a:cubicBezTo>
                <a:cubicBezTo>
                  <a:pt x="802" y="1463"/>
                  <a:pt x="798" y="1505"/>
                  <a:pt x="784" y="1547"/>
                </a:cubicBezTo>
                <a:cubicBezTo>
                  <a:pt x="768" y="1725"/>
                  <a:pt x="753" y="1898"/>
                  <a:pt x="728" y="2075"/>
                </a:cubicBezTo>
                <a:cubicBezTo>
                  <a:pt x="718" y="2296"/>
                  <a:pt x="715" y="2518"/>
                  <a:pt x="704" y="2739"/>
                </a:cubicBezTo>
                <a:cubicBezTo>
                  <a:pt x="707" y="2803"/>
                  <a:pt x="697" y="2869"/>
                  <a:pt x="712" y="2931"/>
                </a:cubicBezTo>
                <a:cubicBezTo>
                  <a:pt x="715" y="2944"/>
                  <a:pt x="739" y="2937"/>
                  <a:pt x="752" y="2939"/>
                </a:cubicBezTo>
                <a:cubicBezTo>
                  <a:pt x="768" y="2942"/>
                  <a:pt x="784" y="2943"/>
                  <a:pt x="800" y="2947"/>
                </a:cubicBezTo>
                <a:cubicBezTo>
                  <a:pt x="855" y="2960"/>
                  <a:pt x="921" y="2980"/>
                  <a:pt x="968" y="3011"/>
                </a:cubicBezTo>
                <a:cubicBezTo>
                  <a:pt x="950" y="2814"/>
                  <a:pt x="959" y="2893"/>
                  <a:pt x="944" y="2771"/>
                </a:cubicBezTo>
                <a:cubicBezTo>
                  <a:pt x="920" y="2251"/>
                  <a:pt x="916" y="2251"/>
                  <a:pt x="968" y="1387"/>
                </a:cubicBezTo>
                <a:cubicBezTo>
                  <a:pt x="969" y="1373"/>
                  <a:pt x="995" y="1393"/>
                  <a:pt x="1008" y="1395"/>
                </a:cubicBezTo>
                <a:cubicBezTo>
                  <a:pt x="1027" y="1398"/>
                  <a:pt x="1045" y="1400"/>
                  <a:pt x="1064" y="1403"/>
                </a:cubicBezTo>
                <a:cubicBezTo>
                  <a:pt x="1188" y="1426"/>
                  <a:pt x="887" y="1400"/>
                  <a:pt x="1248" y="1419"/>
                </a:cubicBezTo>
                <a:cubicBezTo>
                  <a:pt x="1233" y="1448"/>
                  <a:pt x="1226" y="1476"/>
                  <a:pt x="1216" y="1507"/>
                </a:cubicBezTo>
                <a:cubicBezTo>
                  <a:pt x="1168" y="1940"/>
                  <a:pt x="1148" y="2377"/>
                  <a:pt x="1112" y="2811"/>
                </a:cubicBezTo>
                <a:cubicBezTo>
                  <a:pt x="1117" y="2902"/>
                  <a:pt x="1108" y="2994"/>
                  <a:pt x="1128" y="3083"/>
                </a:cubicBezTo>
                <a:cubicBezTo>
                  <a:pt x="1132" y="3099"/>
                  <a:pt x="1160" y="3094"/>
                  <a:pt x="1176" y="3099"/>
                </a:cubicBezTo>
                <a:cubicBezTo>
                  <a:pt x="1232" y="3116"/>
                  <a:pt x="1289" y="3136"/>
                  <a:pt x="1336" y="3171"/>
                </a:cubicBezTo>
                <a:cubicBezTo>
                  <a:pt x="1355" y="3095"/>
                  <a:pt x="1334" y="3008"/>
                  <a:pt x="1328" y="2931"/>
                </a:cubicBezTo>
                <a:cubicBezTo>
                  <a:pt x="1330" y="2819"/>
                  <a:pt x="1314" y="2537"/>
                  <a:pt x="1352" y="2387"/>
                </a:cubicBezTo>
                <a:cubicBezTo>
                  <a:pt x="1355" y="2107"/>
                  <a:pt x="1355" y="1827"/>
                  <a:pt x="1360" y="1547"/>
                </a:cubicBezTo>
                <a:cubicBezTo>
                  <a:pt x="1362" y="1447"/>
                  <a:pt x="1343" y="1464"/>
                  <a:pt x="1408" y="1451"/>
                </a:cubicBezTo>
                <a:cubicBezTo>
                  <a:pt x="1847" y="1597"/>
                  <a:pt x="1636" y="1106"/>
                  <a:pt x="1624" y="2147"/>
                </a:cubicBezTo>
                <a:cubicBezTo>
                  <a:pt x="1635" y="2538"/>
                  <a:pt x="1360" y="3238"/>
                  <a:pt x="1744" y="3315"/>
                </a:cubicBezTo>
                <a:cubicBezTo>
                  <a:pt x="1801" y="3353"/>
                  <a:pt x="1773" y="3342"/>
                  <a:pt x="1824" y="3355"/>
                </a:cubicBezTo>
                <a:cubicBezTo>
                  <a:pt x="1941" y="3121"/>
                  <a:pt x="1851" y="2903"/>
                  <a:pt x="1856" y="2595"/>
                </a:cubicBezTo>
                <a:cubicBezTo>
                  <a:pt x="1862" y="2250"/>
                  <a:pt x="1870" y="1907"/>
                  <a:pt x="1904" y="1563"/>
                </a:cubicBezTo>
                <a:cubicBezTo>
                  <a:pt x="1974" y="1598"/>
                  <a:pt x="2028" y="1617"/>
                  <a:pt x="2104" y="1627"/>
                </a:cubicBezTo>
                <a:cubicBezTo>
                  <a:pt x="2128" y="1635"/>
                  <a:pt x="2162" y="1630"/>
                  <a:pt x="2176" y="1651"/>
                </a:cubicBezTo>
                <a:cubicBezTo>
                  <a:pt x="2188" y="1670"/>
                  <a:pt x="2165" y="1694"/>
                  <a:pt x="2160" y="1715"/>
                </a:cubicBezTo>
                <a:cubicBezTo>
                  <a:pt x="2148" y="1763"/>
                  <a:pt x="2142" y="1810"/>
                  <a:pt x="2136" y="1859"/>
                </a:cubicBezTo>
                <a:cubicBezTo>
                  <a:pt x="2128" y="2008"/>
                  <a:pt x="2120" y="2158"/>
                  <a:pt x="2112" y="2307"/>
                </a:cubicBezTo>
                <a:cubicBezTo>
                  <a:pt x="2107" y="2398"/>
                  <a:pt x="2096" y="2579"/>
                  <a:pt x="2096" y="2579"/>
                </a:cubicBezTo>
                <a:cubicBezTo>
                  <a:pt x="2099" y="2851"/>
                  <a:pt x="2096" y="3123"/>
                  <a:pt x="2104" y="3395"/>
                </a:cubicBezTo>
                <a:cubicBezTo>
                  <a:pt x="2105" y="3424"/>
                  <a:pt x="2168" y="3459"/>
                  <a:pt x="2192" y="3467"/>
                </a:cubicBezTo>
                <a:cubicBezTo>
                  <a:pt x="2249" y="3486"/>
                  <a:pt x="2226" y="3474"/>
                  <a:pt x="2264" y="3499"/>
                </a:cubicBezTo>
                <a:cubicBezTo>
                  <a:pt x="2325" y="3408"/>
                  <a:pt x="2267" y="3223"/>
                  <a:pt x="2256" y="3107"/>
                </a:cubicBezTo>
                <a:cubicBezTo>
                  <a:pt x="2259" y="2891"/>
                  <a:pt x="2259" y="2675"/>
                  <a:pt x="2264" y="2459"/>
                </a:cubicBezTo>
                <a:cubicBezTo>
                  <a:pt x="2286" y="1446"/>
                  <a:pt x="2044" y="1631"/>
                  <a:pt x="2480" y="1667"/>
                </a:cubicBezTo>
                <a:cubicBezTo>
                  <a:pt x="2473" y="1857"/>
                  <a:pt x="2448" y="2045"/>
                  <a:pt x="2448" y="2235"/>
                </a:cubicBezTo>
                <a:cubicBezTo>
                  <a:pt x="2448" y="2536"/>
                  <a:pt x="2459" y="2838"/>
                  <a:pt x="2464" y="3139"/>
                </a:cubicBezTo>
                <a:cubicBezTo>
                  <a:pt x="2472" y="3574"/>
                  <a:pt x="2415" y="3436"/>
                  <a:pt x="2616" y="3587"/>
                </a:cubicBezTo>
                <a:cubicBezTo>
                  <a:pt x="2669" y="3508"/>
                  <a:pt x="2647" y="3558"/>
                  <a:pt x="2656" y="3427"/>
                </a:cubicBezTo>
                <a:cubicBezTo>
                  <a:pt x="2640" y="3119"/>
                  <a:pt x="2637" y="2815"/>
                  <a:pt x="2656" y="2507"/>
                </a:cubicBezTo>
                <a:cubicBezTo>
                  <a:pt x="2661" y="2275"/>
                  <a:pt x="2659" y="2043"/>
                  <a:pt x="2672" y="1811"/>
                </a:cubicBezTo>
                <a:cubicBezTo>
                  <a:pt x="2673" y="1791"/>
                  <a:pt x="2711" y="1798"/>
                  <a:pt x="2728" y="1787"/>
                </a:cubicBezTo>
                <a:cubicBezTo>
                  <a:pt x="2770" y="1761"/>
                  <a:pt x="2807" y="1727"/>
                  <a:pt x="2856" y="1715"/>
                </a:cubicBezTo>
                <a:cubicBezTo>
                  <a:pt x="2823" y="2045"/>
                  <a:pt x="2821" y="2383"/>
                  <a:pt x="2800" y="2715"/>
                </a:cubicBezTo>
                <a:cubicBezTo>
                  <a:pt x="2822" y="3532"/>
                  <a:pt x="2546" y="3598"/>
                  <a:pt x="2992" y="3635"/>
                </a:cubicBezTo>
                <a:cubicBezTo>
                  <a:pt x="3032" y="3645"/>
                  <a:pt x="3042" y="3653"/>
                  <a:pt x="3056" y="3611"/>
                </a:cubicBezTo>
                <a:cubicBezTo>
                  <a:pt x="3053" y="3163"/>
                  <a:pt x="3052" y="2715"/>
                  <a:pt x="3048" y="2267"/>
                </a:cubicBezTo>
                <a:cubicBezTo>
                  <a:pt x="3047" y="2110"/>
                  <a:pt x="3038" y="1952"/>
                  <a:pt x="3040" y="1795"/>
                </a:cubicBezTo>
                <a:cubicBezTo>
                  <a:pt x="3041" y="1745"/>
                  <a:pt x="3033" y="1661"/>
                  <a:pt x="3088" y="1643"/>
                </a:cubicBezTo>
                <a:cubicBezTo>
                  <a:pt x="3093" y="1635"/>
                  <a:pt x="3097" y="1625"/>
                  <a:pt x="3104" y="1619"/>
                </a:cubicBezTo>
                <a:cubicBezTo>
                  <a:pt x="3118" y="1606"/>
                  <a:pt x="3152" y="1587"/>
                  <a:pt x="3152" y="1587"/>
                </a:cubicBezTo>
                <a:cubicBezTo>
                  <a:pt x="3173" y="1693"/>
                  <a:pt x="3158" y="1802"/>
                  <a:pt x="3184" y="1907"/>
                </a:cubicBezTo>
                <a:cubicBezTo>
                  <a:pt x="3179" y="2469"/>
                  <a:pt x="3612" y="3508"/>
                  <a:pt x="3056" y="3587"/>
                </a:cubicBezTo>
                <a:cubicBezTo>
                  <a:pt x="3105" y="3548"/>
                  <a:pt x="3120" y="3547"/>
                  <a:pt x="3168" y="3499"/>
                </a:cubicBezTo>
                <a:cubicBezTo>
                  <a:pt x="3181" y="3486"/>
                  <a:pt x="3201" y="3485"/>
                  <a:pt x="3216" y="3475"/>
                </a:cubicBezTo>
                <a:cubicBezTo>
                  <a:pt x="3244" y="3433"/>
                  <a:pt x="3293" y="3433"/>
                  <a:pt x="3336" y="3411"/>
                </a:cubicBezTo>
                <a:cubicBezTo>
                  <a:pt x="3353" y="3378"/>
                  <a:pt x="3370" y="3350"/>
                  <a:pt x="3384" y="3315"/>
                </a:cubicBezTo>
                <a:cubicBezTo>
                  <a:pt x="3379" y="3174"/>
                  <a:pt x="3377" y="3032"/>
                  <a:pt x="3368" y="2891"/>
                </a:cubicBezTo>
                <a:cubicBezTo>
                  <a:pt x="3363" y="2805"/>
                  <a:pt x="3341" y="2722"/>
                  <a:pt x="3336" y="2635"/>
                </a:cubicBezTo>
                <a:cubicBezTo>
                  <a:pt x="3317" y="2282"/>
                  <a:pt x="3317" y="1926"/>
                  <a:pt x="3248" y="1579"/>
                </a:cubicBezTo>
                <a:cubicBezTo>
                  <a:pt x="3264" y="1516"/>
                  <a:pt x="3258" y="1509"/>
                  <a:pt x="3312" y="1491"/>
                </a:cubicBezTo>
                <a:cubicBezTo>
                  <a:pt x="3331" y="1472"/>
                  <a:pt x="3356" y="1411"/>
                  <a:pt x="3368" y="1435"/>
                </a:cubicBezTo>
                <a:cubicBezTo>
                  <a:pt x="3390" y="1479"/>
                  <a:pt x="3403" y="1524"/>
                  <a:pt x="3416" y="1571"/>
                </a:cubicBezTo>
                <a:cubicBezTo>
                  <a:pt x="3422" y="1592"/>
                  <a:pt x="3432" y="1635"/>
                  <a:pt x="3432" y="1635"/>
                </a:cubicBezTo>
                <a:cubicBezTo>
                  <a:pt x="3460" y="1945"/>
                  <a:pt x="3449" y="2262"/>
                  <a:pt x="3456" y="2571"/>
                </a:cubicBezTo>
                <a:cubicBezTo>
                  <a:pt x="3457" y="2626"/>
                  <a:pt x="3463" y="2695"/>
                  <a:pt x="3480" y="2747"/>
                </a:cubicBezTo>
                <a:cubicBezTo>
                  <a:pt x="3489" y="2820"/>
                  <a:pt x="3497" y="2901"/>
                  <a:pt x="3520" y="2971"/>
                </a:cubicBezTo>
                <a:cubicBezTo>
                  <a:pt x="3549" y="3215"/>
                  <a:pt x="3496" y="3200"/>
                  <a:pt x="3600" y="3131"/>
                </a:cubicBezTo>
                <a:cubicBezTo>
                  <a:pt x="3610" y="3116"/>
                  <a:pt x="3613" y="3097"/>
                  <a:pt x="3624" y="3083"/>
                </a:cubicBezTo>
                <a:cubicBezTo>
                  <a:pt x="3638" y="3065"/>
                  <a:pt x="3665" y="3060"/>
                  <a:pt x="3680" y="3043"/>
                </a:cubicBezTo>
                <a:cubicBezTo>
                  <a:pt x="3693" y="3029"/>
                  <a:pt x="3706" y="3013"/>
                  <a:pt x="3712" y="2995"/>
                </a:cubicBezTo>
                <a:cubicBezTo>
                  <a:pt x="3717" y="2979"/>
                  <a:pt x="3728" y="2947"/>
                  <a:pt x="3728" y="2947"/>
                </a:cubicBezTo>
                <a:cubicBezTo>
                  <a:pt x="3705" y="2657"/>
                  <a:pt x="3661" y="2353"/>
                  <a:pt x="3568" y="2075"/>
                </a:cubicBezTo>
                <a:cubicBezTo>
                  <a:pt x="3542" y="1996"/>
                  <a:pt x="3524" y="1908"/>
                  <a:pt x="3504" y="1827"/>
                </a:cubicBezTo>
                <a:cubicBezTo>
                  <a:pt x="3499" y="1806"/>
                  <a:pt x="3500" y="1784"/>
                  <a:pt x="3496" y="1763"/>
                </a:cubicBezTo>
                <a:cubicBezTo>
                  <a:pt x="3494" y="1755"/>
                  <a:pt x="3491" y="1747"/>
                  <a:pt x="3488" y="1739"/>
                </a:cubicBezTo>
                <a:cubicBezTo>
                  <a:pt x="3473" y="1637"/>
                  <a:pt x="3461" y="1549"/>
                  <a:pt x="3480" y="1443"/>
                </a:cubicBezTo>
                <a:cubicBezTo>
                  <a:pt x="3483" y="1424"/>
                  <a:pt x="3494" y="1402"/>
                  <a:pt x="3512" y="1395"/>
                </a:cubicBezTo>
                <a:cubicBezTo>
                  <a:pt x="3560" y="1376"/>
                  <a:pt x="3538" y="1384"/>
                  <a:pt x="3576" y="1371"/>
                </a:cubicBezTo>
                <a:cubicBezTo>
                  <a:pt x="3613" y="1383"/>
                  <a:pt x="3606" y="1400"/>
                  <a:pt x="3624" y="1435"/>
                </a:cubicBezTo>
                <a:cubicBezTo>
                  <a:pt x="3633" y="1496"/>
                  <a:pt x="3659" y="1544"/>
                  <a:pt x="3672" y="1603"/>
                </a:cubicBezTo>
                <a:cubicBezTo>
                  <a:pt x="3711" y="1786"/>
                  <a:pt x="3645" y="1530"/>
                  <a:pt x="3696" y="1715"/>
                </a:cubicBezTo>
                <a:cubicBezTo>
                  <a:pt x="3710" y="1766"/>
                  <a:pt x="3699" y="1729"/>
                  <a:pt x="3712" y="1787"/>
                </a:cubicBezTo>
                <a:cubicBezTo>
                  <a:pt x="3717" y="1808"/>
                  <a:pt x="3728" y="1851"/>
                  <a:pt x="3728" y="1851"/>
                </a:cubicBezTo>
                <a:cubicBezTo>
                  <a:pt x="3738" y="1984"/>
                  <a:pt x="3738" y="2118"/>
                  <a:pt x="3752" y="2251"/>
                </a:cubicBezTo>
                <a:cubicBezTo>
                  <a:pt x="3755" y="2279"/>
                  <a:pt x="3771" y="2304"/>
                  <a:pt x="3776" y="2331"/>
                </a:cubicBezTo>
                <a:cubicBezTo>
                  <a:pt x="3779" y="2366"/>
                  <a:pt x="3779" y="2401"/>
                  <a:pt x="3784" y="2435"/>
                </a:cubicBezTo>
                <a:cubicBezTo>
                  <a:pt x="3787" y="2452"/>
                  <a:pt x="3800" y="2483"/>
                  <a:pt x="3800" y="2483"/>
                </a:cubicBezTo>
                <a:cubicBezTo>
                  <a:pt x="3811" y="2585"/>
                  <a:pt x="3840" y="2682"/>
                  <a:pt x="3872" y="2779"/>
                </a:cubicBezTo>
                <a:cubicBezTo>
                  <a:pt x="3883" y="2771"/>
                  <a:pt x="3893" y="2763"/>
                  <a:pt x="3904" y="2755"/>
                </a:cubicBezTo>
                <a:cubicBezTo>
                  <a:pt x="3920" y="2744"/>
                  <a:pt x="3952" y="2723"/>
                  <a:pt x="3952" y="2723"/>
                </a:cubicBezTo>
                <a:cubicBezTo>
                  <a:pt x="3979" y="2677"/>
                  <a:pt x="4004" y="2633"/>
                  <a:pt x="4032" y="2587"/>
                </a:cubicBezTo>
                <a:cubicBezTo>
                  <a:pt x="4035" y="2576"/>
                  <a:pt x="4035" y="2565"/>
                  <a:pt x="4040" y="2555"/>
                </a:cubicBezTo>
                <a:cubicBezTo>
                  <a:pt x="4046" y="2545"/>
                  <a:pt x="4063" y="2542"/>
                  <a:pt x="4064" y="2531"/>
                </a:cubicBezTo>
                <a:cubicBezTo>
                  <a:pt x="4073" y="2456"/>
                  <a:pt x="4046" y="2405"/>
                  <a:pt x="4024" y="2339"/>
                </a:cubicBezTo>
                <a:cubicBezTo>
                  <a:pt x="4010" y="2298"/>
                  <a:pt x="4004" y="2253"/>
                  <a:pt x="3992" y="2211"/>
                </a:cubicBezTo>
                <a:cubicBezTo>
                  <a:pt x="3977" y="2159"/>
                  <a:pt x="3957" y="2112"/>
                  <a:pt x="3944" y="2059"/>
                </a:cubicBezTo>
                <a:cubicBezTo>
                  <a:pt x="3940" y="2043"/>
                  <a:pt x="3928" y="2011"/>
                  <a:pt x="3928" y="2011"/>
                </a:cubicBezTo>
                <a:cubicBezTo>
                  <a:pt x="3907" y="1867"/>
                  <a:pt x="3935" y="2029"/>
                  <a:pt x="3904" y="1915"/>
                </a:cubicBezTo>
                <a:cubicBezTo>
                  <a:pt x="3887" y="1852"/>
                  <a:pt x="3885" y="1785"/>
                  <a:pt x="3864" y="1723"/>
                </a:cubicBezTo>
                <a:cubicBezTo>
                  <a:pt x="3831" y="1623"/>
                  <a:pt x="3797" y="1523"/>
                  <a:pt x="3776" y="1419"/>
                </a:cubicBezTo>
                <a:cubicBezTo>
                  <a:pt x="3788" y="1129"/>
                  <a:pt x="3742" y="1285"/>
                  <a:pt x="3832" y="1195"/>
                </a:cubicBezTo>
                <a:cubicBezTo>
                  <a:pt x="3863" y="1216"/>
                  <a:pt x="3869" y="1246"/>
                  <a:pt x="3880" y="1283"/>
                </a:cubicBezTo>
                <a:cubicBezTo>
                  <a:pt x="3903" y="1359"/>
                  <a:pt x="3909" y="1436"/>
                  <a:pt x="3944" y="1507"/>
                </a:cubicBezTo>
                <a:cubicBezTo>
                  <a:pt x="3966" y="1615"/>
                  <a:pt x="3949" y="1739"/>
                  <a:pt x="3984" y="1843"/>
                </a:cubicBezTo>
                <a:cubicBezTo>
                  <a:pt x="3991" y="1918"/>
                  <a:pt x="4006" y="1979"/>
                  <a:pt x="4024" y="2051"/>
                </a:cubicBezTo>
                <a:cubicBezTo>
                  <a:pt x="4035" y="2093"/>
                  <a:pt x="4055" y="2127"/>
                  <a:pt x="4064" y="2171"/>
                </a:cubicBezTo>
                <a:cubicBezTo>
                  <a:pt x="4080" y="2542"/>
                  <a:pt x="4051" y="2648"/>
                  <a:pt x="4088" y="2499"/>
                </a:cubicBezTo>
                <a:cubicBezTo>
                  <a:pt x="4078" y="2374"/>
                  <a:pt x="4072" y="2248"/>
                  <a:pt x="4056" y="2123"/>
                </a:cubicBezTo>
                <a:cubicBezTo>
                  <a:pt x="4051" y="1920"/>
                  <a:pt x="4067" y="1673"/>
                  <a:pt x="4016" y="1467"/>
                </a:cubicBezTo>
                <a:cubicBezTo>
                  <a:pt x="4008" y="1395"/>
                  <a:pt x="4000" y="1323"/>
                  <a:pt x="3992" y="1251"/>
                </a:cubicBezTo>
                <a:cubicBezTo>
                  <a:pt x="3989" y="1224"/>
                  <a:pt x="3995" y="1190"/>
                  <a:pt x="3976" y="1171"/>
                </a:cubicBezTo>
                <a:cubicBezTo>
                  <a:pt x="3968" y="1163"/>
                  <a:pt x="3955" y="1160"/>
                  <a:pt x="3944" y="1155"/>
                </a:cubicBezTo>
                <a:cubicBezTo>
                  <a:pt x="3885" y="1162"/>
                  <a:pt x="3854" y="1177"/>
                  <a:pt x="3800" y="1195"/>
                </a:cubicBezTo>
                <a:cubicBezTo>
                  <a:pt x="3749" y="1233"/>
                  <a:pt x="3684" y="1246"/>
                  <a:pt x="3632" y="1283"/>
                </a:cubicBezTo>
                <a:cubicBezTo>
                  <a:pt x="3623" y="1290"/>
                  <a:pt x="3618" y="1301"/>
                  <a:pt x="3608" y="1307"/>
                </a:cubicBezTo>
                <a:cubicBezTo>
                  <a:pt x="3568" y="1332"/>
                  <a:pt x="3519" y="1345"/>
                  <a:pt x="3480" y="1371"/>
                </a:cubicBezTo>
                <a:cubicBezTo>
                  <a:pt x="3410" y="1418"/>
                  <a:pt x="3321" y="1451"/>
                  <a:pt x="3240" y="1467"/>
                </a:cubicBezTo>
                <a:cubicBezTo>
                  <a:pt x="3118" y="1528"/>
                  <a:pt x="2984" y="1571"/>
                  <a:pt x="2856" y="1619"/>
                </a:cubicBezTo>
                <a:cubicBezTo>
                  <a:pt x="2812" y="1635"/>
                  <a:pt x="2772" y="1660"/>
                  <a:pt x="2728" y="1675"/>
                </a:cubicBezTo>
                <a:cubicBezTo>
                  <a:pt x="2669" y="1719"/>
                  <a:pt x="2662" y="1729"/>
                  <a:pt x="2592" y="1739"/>
                </a:cubicBezTo>
                <a:cubicBezTo>
                  <a:pt x="2602" y="1594"/>
                  <a:pt x="2605" y="1389"/>
                  <a:pt x="2632" y="1243"/>
                </a:cubicBezTo>
                <a:cubicBezTo>
                  <a:pt x="2642" y="1190"/>
                  <a:pt x="2671" y="1134"/>
                  <a:pt x="2688" y="1083"/>
                </a:cubicBezTo>
                <a:cubicBezTo>
                  <a:pt x="2719" y="990"/>
                  <a:pt x="2730" y="902"/>
                  <a:pt x="2768" y="811"/>
                </a:cubicBezTo>
                <a:cubicBezTo>
                  <a:pt x="2809" y="504"/>
                  <a:pt x="2753" y="887"/>
                  <a:pt x="2816" y="563"/>
                </a:cubicBezTo>
                <a:cubicBezTo>
                  <a:pt x="2824" y="523"/>
                  <a:pt x="2826" y="483"/>
                  <a:pt x="2832" y="443"/>
                </a:cubicBezTo>
                <a:cubicBezTo>
                  <a:pt x="2837" y="411"/>
                  <a:pt x="2842" y="379"/>
                  <a:pt x="2848" y="347"/>
                </a:cubicBezTo>
                <a:cubicBezTo>
                  <a:pt x="2853" y="320"/>
                  <a:pt x="2859" y="294"/>
                  <a:pt x="2864" y="267"/>
                </a:cubicBezTo>
                <a:cubicBezTo>
                  <a:pt x="2867" y="248"/>
                  <a:pt x="2875" y="192"/>
                  <a:pt x="2872" y="211"/>
                </a:cubicBezTo>
                <a:cubicBezTo>
                  <a:pt x="2854" y="318"/>
                  <a:pt x="2816" y="412"/>
                  <a:pt x="2784" y="515"/>
                </a:cubicBezTo>
                <a:cubicBezTo>
                  <a:pt x="2768" y="567"/>
                  <a:pt x="2766" y="591"/>
                  <a:pt x="2736" y="635"/>
                </a:cubicBezTo>
                <a:cubicBezTo>
                  <a:pt x="2724" y="685"/>
                  <a:pt x="2696" y="724"/>
                  <a:pt x="2680" y="771"/>
                </a:cubicBezTo>
                <a:cubicBezTo>
                  <a:pt x="2677" y="752"/>
                  <a:pt x="2683" y="730"/>
                  <a:pt x="2672" y="715"/>
                </a:cubicBezTo>
                <a:cubicBezTo>
                  <a:pt x="2666" y="707"/>
                  <a:pt x="2660" y="730"/>
                  <a:pt x="2656" y="739"/>
                </a:cubicBezTo>
                <a:cubicBezTo>
                  <a:pt x="2650" y="752"/>
                  <a:pt x="2646" y="766"/>
                  <a:pt x="2640" y="779"/>
                </a:cubicBezTo>
                <a:cubicBezTo>
                  <a:pt x="2636" y="788"/>
                  <a:pt x="2628" y="794"/>
                  <a:pt x="2624" y="803"/>
                </a:cubicBezTo>
                <a:cubicBezTo>
                  <a:pt x="2618" y="816"/>
                  <a:pt x="2614" y="830"/>
                  <a:pt x="2608" y="843"/>
                </a:cubicBezTo>
                <a:cubicBezTo>
                  <a:pt x="2589" y="884"/>
                  <a:pt x="2567" y="938"/>
                  <a:pt x="2544" y="979"/>
                </a:cubicBezTo>
                <a:cubicBezTo>
                  <a:pt x="2527" y="1009"/>
                  <a:pt x="2499" y="1034"/>
                  <a:pt x="2488" y="1067"/>
                </a:cubicBezTo>
                <a:cubicBezTo>
                  <a:pt x="2460" y="1151"/>
                  <a:pt x="2488" y="1080"/>
                  <a:pt x="2440" y="1163"/>
                </a:cubicBezTo>
                <a:cubicBezTo>
                  <a:pt x="2390" y="1248"/>
                  <a:pt x="2353" y="1341"/>
                  <a:pt x="2304" y="1427"/>
                </a:cubicBezTo>
                <a:cubicBezTo>
                  <a:pt x="2293" y="1447"/>
                  <a:pt x="2289" y="1470"/>
                  <a:pt x="2280" y="1491"/>
                </a:cubicBezTo>
                <a:cubicBezTo>
                  <a:pt x="2256" y="1551"/>
                  <a:pt x="2224" y="1607"/>
                  <a:pt x="2200" y="1667"/>
                </a:cubicBezTo>
                <a:cubicBezTo>
                  <a:pt x="2180" y="1717"/>
                  <a:pt x="2176" y="1744"/>
                  <a:pt x="2144" y="1787"/>
                </a:cubicBezTo>
                <a:cubicBezTo>
                  <a:pt x="2125" y="1880"/>
                  <a:pt x="2141" y="1821"/>
                  <a:pt x="2128" y="1683"/>
                </a:cubicBezTo>
                <a:cubicBezTo>
                  <a:pt x="2127" y="1672"/>
                  <a:pt x="2128" y="1658"/>
                  <a:pt x="2120" y="1651"/>
                </a:cubicBezTo>
                <a:cubicBezTo>
                  <a:pt x="2107" y="1640"/>
                  <a:pt x="2088" y="1641"/>
                  <a:pt x="2072" y="1635"/>
                </a:cubicBezTo>
                <a:cubicBezTo>
                  <a:pt x="2025" y="1616"/>
                  <a:pt x="1977" y="1591"/>
                  <a:pt x="1928" y="1579"/>
                </a:cubicBezTo>
                <a:cubicBezTo>
                  <a:pt x="1915" y="1571"/>
                  <a:pt x="1897" y="1568"/>
                  <a:pt x="1888" y="1555"/>
                </a:cubicBezTo>
                <a:cubicBezTo>
                  <a:pt x="1883" y="1547"/>
                  <a:pt x="1911" y="1509"/>
                  <a:pt x="1920" y="1491"/>
                </a:cubicBezTo>
                <a:cubicBezTo>
                  <a:pt x="1931" y="1470"/>
                  <a:pt x="1939" y="1447"/>
                  <a:pt x="1952" y="1427"/>
                </a:cubicBezTo>
                <a:cubicBezTo>
                  <a:pt x="1963" y="1411"/>
                  <a:pt x="1974" y="1396"/>
                  <a:pt x="1984" y="1379"/>
                </a:cubicBezTo>
                <a:cubicBezTo>
                  <a:pt x="2037" y="1288"/>
                  <a:pt x="2109" y="1210"/>
                  <a:pt x="2168" y="1123"/>
                </a:cubicBezTo>
                <a:cubicBezTo>
                  <a:pt x="2241" y="1016"/>
                  <a:pt x="2300" y="887"/>
                  <a:pt x="2392" y="795"/>
                </a:cubicBezTo>
                <a:cubicBezTo>
                  <a:pt x="2410" y="740"/>
                  <a:pt x="2385" y="807"/>
                  <a:pt x="2424" y="739"/>
                </a:cubicBezTo>
                <a:cubicBezTo>
                  <a:pt x="2437" y="717"/>
                  <a:pt x="2444" y="690"/>
                  <a:pt x="2456" y="667"/>
                </a:cubicBezTo>
                <a:cubicBezTo>
                  <a:pt x="2457" y="666"/>
                  <a:pt x="2495" y="611"/>
                  <a:pt x="2488" y="611"/>
                </a:cubicBezTo>
                <a:cubicBezTo>
                  <a:pt x="2448" y="611"/>
                  <a:pt x="2414" y="641"/>
                  <a:pt x="2376" y="651"/>
                </a:cubicBezTo>
                <a:cubicBezTo>
                  <a:pt x="2285" y="724"/>
                  <a:pt x="2386" y="655"/>
                  <a:pt x="2184" y="699"/>
                </a:cubicBezTo>
                <a:cubicBezTo>
                  <a:pt x="2168" y="703"/>
                  <a:pt x="2140" y="737"/>
                  <a:pt x="2128" y="747"/>
                </a:cubicBezTo>
                <a:cubicBezTo>
                  <a:pt x="2012" y="844"/>
                  <a:pt x="1922" y="961"/>
                  <a:pt x="1816" y="1067"/>
                </a:cubicBezTo>
                <a:cubicBezTo>
                  <a:pt x="1795" y="1120"/>
                  <a:pt x="1756" y="1152"/>
                  <a:pt x="1720" y="1195"/>
                </a:cubicBezTo>
                <a:cubicBezTo>
                  <a:pt x="1704" y="1214"/>
                  <a:pt x="1697" y="1240"/>
                  <a:pt x="1680" y="1259"/>
                </a:cubicBezTo>
                <a:cubicBezTo>
                  <a:pt x="1663" y="1279"/>
                  <a:pt x="1642" y="1295"/>
                  <a:pt x="1624" y="1315"/>
                </a:cubicBezTo>
                <a:cubicBezTo>
                  <a:pt x="1624" y="1315"/>
                  <a:pt x="1564" y="1375"/>
                  <a:pt x="1552" y="1387"/>
                </a:cubicBezTo>
                <a:cubicBezTo>
                  <a:pt x="1544" y="1395"/>
                  <a:pt x="1536" y="1403"/>
                  <a:pt x="1528" y="1411"/>
                </a:cubicBezTo>
                <a:cubicBezTo>
                  <a:pt x="1520" y="1419"/>
                  <a:pt x="1504" y="1435"/>
                  <a:pt x="1504" y="1435"/>
                </a:cubicBezTo>
                <a:cubicBezTo>
                  <a:pt x="1475" y="1430"/>
                  <a:pt x="1444" y="1430"/>
                  <a:pt x="1416" y="1419"/>
                </a:cubicBezTo>
                <a:cubicBezTo>
                  <a:pt x="1408" y="1416"/>
                  <a:pt x="1411" y="1403"/>
                  <a:pt x="1408" y="1395"/>
                </a:cubicBezTo>
                <a:cubicBezTo>
                  <a:pt x="1403" y="1384"/>
                  <a:pt x="1396" y="1374"/>
                  <a:pt x="1392" y="1363"/>
                </a:cubicBezTo>
                <a:cubicBezTo>
                  <a:pt x="1386" y="1347"/>
                  <a:pt x="1376" y="1315"/>
                  <a:pt x="1376" y="1315"/>
                </a:cubicBezTo>
                <a:cubicBezTo>
                  <a:pt x="1395" y="1180"/>
                  <a:pt x="1516" y="1103"/>
                  <a:pt x="1608" y="1011"/>
                </a:cubicBezTo>
                <a:cubicBezTo>
                  <a:pt x="1682" y="937"/>
                  <a:pt x="1730" y="847"/>
                  <a:pt x="1776" y="755"/>
                </a:cubicBezTo>
                <a:cubicBezTo>
                  <a:pt x="1806" y="696"/>
                  <a:pt x="1851" y="643"/>
                  <a:pt x="1872" y="579"/>
                </a:cubicBezTo>
                <a:cubicBezTo>
                  <a:pt x="1778" y="570"/>
                  <a:pt x="1692" y="559"/>
                  <a:pt x="1600" y="547"/>
                </a:cubicBezTo>
                <a:cubicBezTo>
                  <a:pt x="1587" y="552"/>
                  <a:pt x="1571" y="554"/>
                  <a:pt x="1560" y="563"/>
                </a:cubicBezTo>
                <a:cubicBezTo>
                  <a:pt x="1548" y="573"/>
                  <a:pt x="1546" y="591"/>
                  <a:pt x="1536" y="603"/>
                </a:cubicBezTo>
                <a:cubicBezTo>
                  <a:pt x="1530" y="610"/>
                  <a:pt x="1520" y="614"/>
                  <a:pt x="1512" y="619"/>
                </a:cubicBezTo>
                <a:cubicBezTo>
                  <a:pt x="1492" y="658"/>
                  <a:pt x="1463" y="680"/>
                  <a:pt x="1440" y="715"/>
                </a:cubicBezTo>
                <a:cubicBezTo>
                  <a:pt x="1398" y="778"/>
                  <a:pt x="1375" y="855"/>
                  <a:pt x="1328" y="915"/>
                </a:cubicBezTo>
                <a:cubicBezTo>
                  <a:pt x="1316" y="930"/>
                  <a:pt x="1300" y="941"/>
                  <a:pt x="1288" y="955"/>
                </a:cubicBezTo>
                <a:cubicBezTo>
                  <a:pt x="1251" y="998"/>
                  <a:pt x="1242" y="1042"/>
                  <a:pt x="1192" y="1075"/>
                </a:cubicBezTo>
                <a:cubicBezTo>
                  <a:pt x="1176" y="1123"/>
                  <a:pt x="1131" y="1152"/>
                  <a:pt x="1096" y="1187"/>
                </a:cubicBezTo>
                <a:cubicBezTo>
                  <a:pt x="1062" y="1221"/>
                  <a:pt x="1029" y="1260"/>
                  <a:pt x="1000" y="1299"/>
                </a:cubicBezTo>
                <a:cubicBezTo>
                  <a:pt x="961" y="1280"/>
                  <a:pt x="944" y="1254"/>
                  <a:pt x="920" y="1219"/>
                </a:cubicBezTo>
                <a:cubicBezTo>
                  <a:pt x="909" y="1176"/>
                  <a:pt x="890" y="1133"/>
                  <a:pt x="944" y="1115"/>
                </a:cubicBezTo>
                <a:cubicBezTo>
                  <a:pt x="970" y="1075"/>
                  <a:pt x="996" y="1067"/>
                  <a:pt x="1032" y="1035"/>
                </a:cubicBezTo>
                <a:cubicBezTo>
                  <a:pt x="1076" y="996"/>
                  <a:pt x="1120" y="958"/>
                  <a:pt x="1160" y="915"/>
                </a:cubicBezTo>
                <a:cubicBezTo>
                  <a:pt x="1215" y="857"/>
                  <a:pt x="1249" y="799"/>
                  <a:pt x="1296" y="739"/>
                </a:cubicBezTo>
                <a:cubicBezTo>
                  <a:pt x="1334" y="690"/>
                  <a:pt x="1324" y="677"/>
                  <a:pt x="1376" y="635"/>
                </a:cubicBezTo>
                <a:cubicBezTo>
                  <a:pt x="1393" y="585"/>
                  <a:pt x="1424" y="553"/>
                  <a:pt x="1464" y="523"/>
                </a:cubicBezTo>
                <a:cubicBezTo>
                  <a:pt x="1469" y="512"/>
                  <a:pt x="1491" y="496"/>
                  <a:pt x="1480" y="491"/>
                </a:cubicBezTo>
                <a:cubicBezTo>
                  <a:pt x="1468" y="485"/>
                  <a:pt x="1459" y="507"/>
                  <a:pt x="1448" y="515"/>
                </a:cubicBezTo>
                <a:cubicBezTo>
                  <a:pt x="1440" y="521"/>
                  <a:pt x="1431" y="525"/>
                  <a:pt x="1424" y="531"/>
                </a:cubicBezTo>
                <a:cubicBezTo>
                  <a:pt x="1360" y="584"/>
                  <a:pt x="1282" y="623"/>
                  <a:pt x="1216" y="675"/>
                </a:cubicBezTo>
                <a:cubicBezTo>
                  <a:pt x="1081" y="780"/>
                  <a:pt x="939" y="894"/>
                  <a:pt x="784" y="971"/>
                </a:cubicBezTo>
                <a:cubicBezTo>
                  <a:pt x="745" y="990"/>
                  <a:pt x="713" y="1021"/>
                  <a:pt x="672" y="1035"/>
                </a:cubicBezTo>
                <a:cubicBezTo>
                  <a:pt x="593" y="1096"/>
                  <a:pt x="629" y="1081"/>
                  <a:pt x="576" y="1099"/>
                </a:cubicBezTo>
                <a:cubicBezTo>
                  <a:pt x="569" y="1106"/>
                  <a:pt x="530" y="1147"/>
                  <a:pt x="520" y="1147"/>
                </a:cubicBezTo>
                <a:cubicBezTo>
                  <a:pt x="510" y="1147"/>
                  <a:pt x="528" y="1129"/>
                  <a:pt x="536" y="1123"/>
                </a:cubicBezTo>
                <a:cubicBezTo>
                  <a:pt x="552" y="1110"/>
                  <a:pt x="573" y="1106"/>
                  <a:pt x="592" y="1099"/>
                </a:cubicBezTo>
                <a:cubicBezTo>
                  <a:pt x="645" y="1080"/>
                  <a:pt x="697" y="1059"/>
                  <a:pt x="752" y="1043"/>
                </a:cubicBezTo>
                <a:cubicBezTo>
                  <a:pt x="860" y="966"/>
                  <a:pt x="752" y="1037"/>
                  <a:pt x="880" y="971"/>
                </a:cubicBezTo>
                <a:cubicBezTo>
                  <a:pt x="1003" y="907"/>
                  <a:pt x="1037" y="883"/>
                  <a:pt x="1152" y="811"/>
                </a:cubicBezTo>
                <a:cubicBezTo>
                  <a:pt x="1184" y="791"/>
                  <a:pt x="1208" y="760"/>
                  <a:pt x="1240" y="739"/>
                </a:cubicBezTo>
                <a:cubicBezTo>
                  <a:pt x="1298" y="700"/>
                  <a:pt x="1352" y="659"/>
                  <a:pt x="1408" y="619"/>
                </a:cubicBezTo>
                <a:cubicBezTo>
                  <a:pt x="1443" y="593"/>
                  <a:pt x="1471" y="553"/>
                  <a:pt x="1512" y="539"/>
                </a:cubicBezTo>
                <a:cubicBezTo>
                  <a:pt x="1531" y="533"/>
                  <a:pt x="1552" y="527"/>
                  <a:pt x="1568" y="515"/>
                </a:cubicBezTo>
                <a:cubicBezTo>
                  <a:pt x="1612" y="482"/>
                  <a:pt x="1652" y="428"/>
                  <a:pt x="1704" y="411"/>
                </a:cubicBezTo>
                <a:cubicBezTo>
                  <a:pt x="1723" y="383"/>
                  <a:pt x="1736" y="355"/>
                  <a:pt x="1752" y="403"/>
                </a:cubicBezTo>
                <a:cubicBezTo>
                  <a:pt x="1742" y="434"/>
                  <a:pt x="1736" y="448"/>
                  <a:pt x="1704" y="459"/>
                </a:cubicBezTo>
                <a:cubicBezTo>
                  <a:pt x="1565" y="419"/>
                  <a:pt x="1528" y="367"/>
                  <a:pt x="1456" y="259"/>
                </a:cubicBezTo>
                <a:cubicBezTo>
                  <a:pt x="1453" y="248"/>
                  <a:pt x="1453" y="237"/>
                  <a:pt x="1448" y="227"/>
                </a:cubicBezTo>
                <a:cubicBezTo>
                  <a:pt x="1439" y="210"/>
                  <a:pt x="1416" y="179"/>
                  <a:pt x="1416" y="179"/>
                </a:cubicBezTo>
                <a:cubicBezTo>
                  <a:pt x="1457" y="165"/>
                  <a:pt x="1564" y="191"/>
                  <a:pt x="1608" y="195"/>
                </a:cubicBezTo>
                <a:cubicBezTo>
                  <a:pt x="1621" y="198"/>
                  <a:pt x="1640" y="192"/>
                  <a:pt x="1648" y="203"/>
                </a:cubicBezTo>
                <a:cubicBezTo>
                  <a:pt x="1666" y="230"/>
                  <a:pt x="1652" y="269"/>
                  <a:pt x="1664" y="299"/>
                </a:cubicBezTo>
                <a:cubicBezTo>
                  <a:pt x="1682" y="343"/>
                  <a:pt x="1710" y="396"/>
                  <a:pt x="1736" y="435"/>
                </a:cubicBezTo>
                <a:cubicBezTo>
                  <a:pt x="1739" y="446"/>
                  <a:pt x="1740" y="457"/>
                  <a:pt x="1744" y="467"/>
                </a:cubicBezTo>
                <a:cubicBezTo>
                  <a:pt x="1748" y="476"/>
                  <a:pt x="1757" y="482"/>
                  <a:pt x="1760" y="491"/>
                </a:cubicBezTo>
                <a:cubicBezTo>
                  <a:pt x="1790" y="570"/>
                  <a:pt x="1746" y="499"/>
                  <a:pt x="1784" y="555"/>
                </a:cubicBezTo>
                <a:cubicBezTo>
                  <a:pt x="1824" y="545"/>
                  <a:pt x="1864" y="539"/>
                  <a:pt x="1904" y="531"/>
                </a:cubicBezTo>
                <a:cubicBezTo>
                  <a:pt x="1899" y="455"/>
                  <a:pt x="1895" y="393"/>
                  <a:pt x="1872" y="323"/>
                </a:cubicBezTo>
                <a:cubicBezTo>
                  <a:pt x="1869" y="296"/>
                  <a:pt x="1856" y="269"/>
                  <a:pt x="1864" y="243"/>
                </a:cubicBezTo>
                <a:cubicBezTo>
                  <a:pt x="1871" y="220"/>
                  <a:pt x="1940" y="209"/>
                  <a:pt x="1960" y="203"/>
                </a:cubicBezTo>
                <a:cubicBezTo>
                  <a:pt x="1976" y="198"/>
                  <a:pt x="2008" y="187"/>
                  <a:pt x="2008" y="187"/>
                </a:cubicBezTo>
                <a:cubicBezTo>
                  <a:pt x="2032" y="190"/>
                  <a:pt x="2074" y="172"/>
                  <a:pt x="2080" y="195"/>
                </a:cubicBezTo>
                <a:cubicBezTo>
                  <a:pt x="2172" y="561"/>
                  <a:pt x="2027" y="631"/>
                  <a:pt x="2136" y="467"/>
                </a:cubicBezTo>
                <a:cubicBezTo>
                  <a:pt x="2136" y="466"/>
                  <a:pt x="2163" y="301"/>
                  <a:pt x="2168" y="291"/>
                </a:cubicBezTo>
                <a:cubicBezTo>
                  <a:pt x="2173" y="281"/>
                  <a:pt x="2190" y="286"/>
                  <a:pt x="2200" y="283"/>
                </a:cubicBezTo>
                <a:cubicBezTo>
                  <a:pt x="2214" y="278"/>
                  <a:pt x="2226" y="269"/>
                  <a:pt x="2240" y="267"/>
                </a:cubicBezTo>
                <a:cubicBezTo>
                  <a:pt x="2298" y="258"/>
                  <a:pt x="2357" y="256"/>
                  <a:pt x="2416" y="251"/>
                </a:cubicBezTo>
                <a:cubicBezTo>
                  <a:pt x="2533" y="266"/>
                  <a:pt x="2489" y="238"/>
                  <a:pt x="2464" y="427"/>
                </a:cubicBezTo>
                <a:cubicBezTo>
                  <a:pt x="2458" y="473"/>
                  <a:pt x="2440" y="563"/>
                  <a:pt x="2440" y="563"/>
                </a:cubicBezTo>
                <a:cubicBezTo>
                  <a:pt x="2437" y="598"/>
                  <a:pt x="2424" y="633"/>
                  <a:pt x="2432" y="667"/>
                </a:cubicBezTo>
                <a:cubicBezTo>
                  <a:pt x="2435" y="680"/>
                  <a:pt x="2447" y="645"/>
                  <a:pt x="2456" y="635"/>
                </a:cubicBezTo>
                <a:cubicBezTo>
                  <a:pt x="2503" y="583"/>
                  <a:pt x="2501" y="602"/>
                  <a:pt x="2528" y="547"/>
                </a:cubicBezTo>
                <a:cubicBezTo>
                  <a:pt x="2561" y="480"/>
                  <a:pt x="2611" y="422"/>
                  <a:pt x="2656" y="363"/>
                </a:cubicBezTo>
                <a:cubicBezTo>
                  <a:pt x="2680" y="331"/>
                  <a:pt x="2684" y="299"/>
                  <a:pt x="2720" y="275"/>
                </a:cubicBezTo>
                <a:cubicBezTo>
                  <a:pt x="2728" y="410"/>
                  <a:pt x="2736" y="513"/>
                  <a:pt x="2736" y="651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440" y="800280"/>
            <a:ext cx="6159600" cy="5378400"/>
          </a:xfrm>
          <a:custGeom>
            <a:avLst/>
            <a:gdLst/>
            <a:ahLst/>
            <a:rect l="l" t="t" r="r" b="b"/>
            <a:pathLst>
              <a:path w="3880" h="3388">
                <a:moveTo>
                  <a:pt x="2385" y="520"/>
                </a:moveTo>
                <a:cubicBezTo>
                  <a:pt x="2377" y="523"/>
                  <a:pt x="2367" y="522"/>
                  <a:pt x="2361" y="528"/>
                </a:cubicBezTo>
                <a:cubicBezTo>
                  <a:pt x="2347" y="542"/>
                  <a:pt x="2329" y="576"/>
                  <a:pt x="2329" y="576"/>
                </a:cubicBezTo>
                <a:cubicBezTo>
                  <a:pt x="2326" y="587"/>
                  <a:pt x="2326" y="598"/>
                  <a:pt x="2321" y="608"/>
                </a:cubicBezTo>
                <a:cubicBezTo>
                  <a:pt x="2315" y="618"/>
                  <a:pt x="2302" y="622"/>
                  <a:pt x="2297" y="632"/>
                </a:cubicBezTo>
                <a:cubicBezTo>
                  <a:pt x="2288" y="652"/>
                  <a:pt x="2286" y="675"/>
                  <a:pt x="2281" y="696"/>
                </a:cubicBezTo>
                <a:cubicBezTo>
                  <a:pt x="2273" y="729"/>
                  <a:pt x="2253" y="771"/>
                  <a:pt x="2233" y="800"/>
                </a:cubicBezTo>
                <a:cubicBezTo>
                  <a:pt x="2223" y="839"/>
                  <a:pt x="2192" y="877"/>
                  <a:pt x="2169" y="912"/>
                </a:cubicBezTo>
                <a:cubicBezTo>
                  <a:pt x="2158" y="955"/>
                  <a:pt x="2132" y="985"/>
                  <a:pt x="2113" y="1024"/>
                </a:cubicBezTo>
                <a:cubicBezTo>
                  <a:pt x="2078" y="1093"/>
                  <a:pt x="2052" y="1187"/>
                  <a:pt x="1985" y="1232"/>
                </a:cubicBezTo>
                <a:cubicBezTo>
                  <a:pt x="1942" y="1296"/>
                  <a:pt x="1998" y="1219"/>
                  <a:pt x="1945" y="1272"/>
                </a:cubicBezTo>
                <a:cubicBezTo>
                  <a:pt x="1923" y="1294"/>
                  <a:pt x="1912" y="1322"/>
                  <a:pt x="1881" y="1336"/>
                </a:cubicBezTo>
                <a:cubicBezTo>
                  <a:pt x="1866" y="1343"/>
                  <a:pt x="1849" y="1347"/>
                  <a:pt x="1833" y="1352"/>
                </a:cubicBezTo>
                <a:cubicBezTo>
                  <a:pt x="1825" y="1355"/>
                  <a:pt x="1809" y="1360"/>
                  <a:pt x="1809" y="1360"/>
                </a:cubicBezTo>
                <a:cubicBezTo>
                  <a:pt x="1806" y="1349"/>
                  <a:pt x="1799" y="1339"/>
                  <a:pt x="1801" y="1328"/>
                </a:cubicBezTo>
                <a:cubicBezTo>
                  <a:pt x="1802" y="1318"/>
                  <a:pt x="1813" y="1313"/>
                  <a:pt x="1817" y="1304"/>
                </a:cubicBezTo>
                <a:cubicBezTo>
                  <a:pt x="1827" y="1281"/>
                  <a:pt x="1821" y="1260"/>
                  <a:pt x="1841" y="1240"/>
                </a:cubicBezTo>
                <a:cubicBezTo>
                  <a:pt x="1849" y="1232"/>
                  <a:pt x="1862" y="1229"/>
                  <a:pt x="1873" y="1224"/>
                </a:cubicBezTo>
                <a:cubicBezTo>
                  <a:pt x="1892" y="1198"/>
                  <a:pt x="1914" y="1167"/>
                  <a:pt x="1937" y="1144"/>
                </a:cubicBezTo>
                <a:cubicBezTo>
                  <a:pt x="2000" y="1081"/>
                  <a:pt x="1919" y="1183"/>
                  <a:pt x="1985" y="1104"/>
                </a:cubicBezTo>
                <a:cubicBezTo>
                  <a:pt x="2008" y="1076"/>
                  <a:pt x="2027" y="1045"/>
                  <a:pt x="2049" y="1016"/>
                </a:cubicBezTo>
                <a:cubicBezTo>
                  <a:pt x="2078" y="978"/>
                  <a:pt x="2102" y="911"/>
                  <a:pt x="2137" y="888"/>
                </a:cubicBezTo>
                <a:cubicBezTo>
                  <a:pt x="2163" y="849"/>
                  <a:pt x="2183" y="807"/>
                  <a:pt x="2209" y="768"/>
                </a:cubicBezTo>
                <a:cubicBezTo>
                  <a:pt x="2228" y="740"/>
                  <a:pt x="2231" y="714"/>
                  <a:pt x="2257" y="688"/>
                </a:cubicBezTo>
                <a:cubicBezTo>
                  <a:pt x="2269" y="652"/>
                  <a:pt x="2284" y="615"/>
                  <a:pt x="2305" y="584"/>
                </a:cubicBezTo>
                <a:cubicBezTo>
                  <a:pt x="2308" y="573"/>
                  <a:pt x="2319" y="561"/>
                  <a:pt x="2313" y="552"/>
                </a:cubicBezTo>
                <a:cubicBezTo>
                  <a:pt x="2303" y="537"/>
                  <a:pt x="2281" y="537"/>
                  <a:pt x="2265" y="528"/>
                </a:cubicBezTo>
                <a:cubicBezTo>
                  <a:pt x="2230" y="508"/>
                  <a:pt x="2192" y="493"/>
                  <a:pt x="2153" y="480"/>
                </a:cubicBezTo>
                <a:cubicBezTo>
                  <a:pt x="2084" y="483"/>
                  <a:pt x="2014" y="483"/>
                  <a:pt x="1945" y="488"/>
                </a:cubicBezTo>
                <a:cubicBezTo>
                  <a:pt x="1888" y="492"/>
                  <a:pt x="1804" y="594"/>
                  <a:pt x="1753" y="632"/>
                </a:cubicBezTo>
                <a:cubicBezTo>
                  <a:pt x="1739" y="674"/>
                  <a:pt x="1755" y="642"/>
                  <a:pt x="1721" y="672"/>
                </a:cubicBezTo>
                <a:cubicBezTo>
                  <a:pt x="1696" y="695"/>
                  <a:pt x="1676" y="724"/>
                  <a:pt x="1649" y="744"/>
                </a:cubicBezTo>
                <a:cubicBezTo>
                  <a:pt x="1631" y="758"/>
                  <a:pt x="1609" y="768"/>
                  <a:pt x="1593" y="784"/>
                </a:cubicBezTo>
                <a:cubicBezTo>
                  <a:pt x="1564" y="813"/>
                  <a:pt x="1547" y="839"/>
                  <a:pt x="1513" y="864"/>
                </a:cubicBezTo>
                <a:cubicBezTo>
                  <a:pt x="1496" y="897"/>
                  <a:pt x="1488" y="916"/>
                  <a:pt x="1457" y="936"/>
                </a:cubicBezTo>
                <a:cubicBezTo>
                  <a:pt x="1431" y="1014"/>
                  <a:pt x="1473" y="904"/>
                  <a:pt x="1425" y="976"/>
                </a:cubicBezTo>
                <a:cubicBezTo>
                  <a:pt x="1419" y="985"/>
                  <a:pt x="1422" y="998"/>
                  <a:pt x="1417" y="1008"/>
                </a:cubicBezTo>
                <a:cubicBezTo>
                  <a:pt x="1411" y="1018"/>
                  <a:pt x="1400" y="1023"/>
                  <a:pt x="1393" y="1032"/>
                </a:cubicBezTo>
                <a:cubicBezTo>
                  <a:pt x="1374" y="1056"/>
                  <a:pt x="1356" y="1080"/>
                  <a:pt x="1337" y="1104"/>
                </a:cubicBezTo>
                <a:cubicBezTo>
                  <a:pt x="1299" y="1153"/>
                  <a:pt x="1263" y="1196"/>
                  <a:pt x="1209" y="1232"/>
                </a:cubicBezTo>
                <a:cubicBezTo>
                  <a:pt x="1227" y="1186"/>
                  <a:pt x="1248" y="1135"/>
                  <a:pt x="1289" y="1104"/>
                </a:cubicBezTo>
                <a:cubicBezTo>
                  <a:pt x="1338" y="1067"/>
                  <a:pt x="1323" y="1094"/>
                  <a:pt x="1369" y="1048"/>
                </a:cubicBezTo>
                <a:cubicBezTo>
                  <a:pt x="1378" y="1039"/>
                  <a:pt x="1383" y="1025"/>
                  <a:pt x="1393" y="1016"/>
                </a:cubicBezTo>
                <a:cubicBezTo>
                  <a:pt x="1419" y="993"/>
                  <a:pt x="1482" y="952"/>
                  <a:pt x="1513" y="936"/>
                </a:cubicBezTo>
                <a:cubicBezTo>
                  <a:pt x="1536" y="902"/>
                  <a:pt x="1564" y="869"/>
                  <a:pt x="1593" y="840"/>
                </a:cubicBezTo>
                <a:cubicBezTo>
                  <a:pt x="1596" y="832"/>
                  <a:pt x="1597" y="824"/>
                  <a:pt x="1601" y="816"/>
                </a:cubicBezTo>
                <a:cubicBezTo>
                  <a:pt x="1605" y="807"/>
                  <a:pt x="1614" y="801"/>
                  <a:pt x="1617" y="792"/>
                </a:cubicBezTo>
                <a:cubicBezTo>
                  <a:pt x="1622" y="779"/>
                  <a:pt x="1620" y="765"/>
                  <a:pt x="1625" y="752"/>
                </a:cubicBezTo>
                <a:cubicBezTo>
                  <a:pt x="1631" y="735"/>
                  <a:pt x="1642" y="720"/>
                  <a:pt x="1649" y="704"/>
                </a:cubicBezTo>
                <a:cubicBezTo>
                  <a:pt x="1651" y="699"/>
                  <a:pt x="1679" y="650"/>
                  <a:pt x="1673" y="640"/>
                </a:cubicBezTo>
                <a:cubicBezTo>
                  <a:pt x="1668" y="633"/>
                  <a:pt x="1657" y="645"/>
                  <a:pt x="1649" y="648"/>
                </a:cubicBezTo>
                <a:cubicBezTo>
                  <a:pt x="1598" y="717"/>
                  <a:pt x="1542" y="780"/>
                  <a:pt x="1473" y="832"/>
                </a:cubicBezTo>
                <a:cubicBezTo>
                  <a:pt x="1456" y="867"/>
                  <a:pt x="1389" y="940"/>
                  <a:pt x="1353" y="952"/>
                </a:cubicBezTo>
                <a:cubicBezTo>
                  <a:pt x="1328" y="977"/>
                  <a:pt x="1326" y="997"/>
                  <a:pt x="1297" y="1016"/>
                </a:cubicBezTo>
                <a:cubicBezTo>
                  <a:pt x="1278" y="1044"/>
                  <a:pt x="1253" y="1054"/>
                  <a:pt x="1233" y="1080"/>
                </a:cubicBezTo>
                <a:cubicBezTo>
                  <a:pt x="1221" y="1095"/>
                  <a:pt x="1201" y="1128"/>
                  <a:pt x="1201" y="1128"/>
                </a:cubicBezTo>
                <a:cubicBezTo>
                  <a:pt x="1204" y="1173"/>
                  <a:pt x="1199" y="1220"/>
                  <a:pt x="1209" y="1264"/>
                </a:cubicBezTo>
                <a:cubicBezTo>
                  <a:pt x="1211" y="1273"/>
                  <a:pt x="1220" y="1248"/>
                  <a:pt x="1225" y="1240"/>
                </a:cubicBezTo>
                <a:cubicBezTo>
                  <a:pt x="1231" y="1230"/>
                  <a:pt x="1234" y="1218"/>
                  <a:pt x="1241" y="1208"/>
                </a:cubicBezTo>
                <a:cubicBezTo>
                  <a:pt x="1265" y="1177"/>
                  <a:pt x="1295" y="1142"/>
                  <a:pt x="1321" y="1112"/>
                </a:cubicBezTo>
                <a:cubicBezTo>
                  <a:pt x="1381" y="1045"/>
                  <a:pt x="1355" y="1087"/>
                  <a:pt x="1401" y="1024"/>
                </a:cubicBezTo>
                <a:cubicBezTo>
                  <a:pt x="1417" y="1002"/>
                  <a:pt x="1424" y="973"/>
                  <a:pt x="1441" y="952"/>
                </a:cubicBezTo>
                <a:cubicBezTo>
                  <a:pt x="1465" y="923"/>
                  <a:pt x="1504" y="906"/>
                  <a:pt x="1521" y="872"/>
                </a:cubicBezTo>
                <a:cubicBezTo>
                  <a:pt x="1549" y="816"/>
                  <a:pt x="1596" y="757"/>
                  <a:pt x="1641" y="712"/>
                </a:cubicBezTo>
                <a:cubicBezTo>
                  <a:pt x="1650" y="686"/>
                  <a:pt x="1664" y="666"/>
                  <a:pt x="1673" y="640"/>
                </a:cubicBezTo>
                <a:cubicBezTo>
                  <a:pt x="1668" y="581"/>
                  <a:pt x="1669" y="522"/>
                  <a:pt x="1657" y="464"/>
                </a:cubicBezTo>
                <a:cubicBezTo>
                  <a:pt x="1653" y="445"/>
                  <a:pt x="1631" y="434"/>
                  <a:pt x="1625" y="416"/>
                </a:cubicBezTo>
                <a:cubicBezTo>
                  <a:pt x="1585" y="423"/>
                  <a:pt x="1559" y="435"/>
                  <a:pt x="1521" y="448"/>
                </a:cubicBezTo>
                <a:cubicBezTo>
                  <a:pt x="1510" y="459"/>
                  <a:pt x="1501" y="471"/>
                  <a:pt x="1489" y="480"/>
                </a:cubicBezTo>
                <a:cubicBezTo>
                  <a:pt x="1482" y="485"/>
                  <a:pt x="1472" y="483"/>
                  <a:pt x="1465" y="488"/>
                </a:cubicBezTo>
                <a:cubicBezTo>
                  <a:pt x="1456" y="494"/>
                  <a:pt x="1450" y="505"/>
                  <a:pt x="1441" y="512"/>
                </a:cubicBezTo>
                <a:cubicBezTo>
                  <a:pt x="1393" y="549"/>
                  <a:pt x="1331" y="597"/>
                  <a:pt x="1273" y="616"/>
                </a:cubicBezTo>
                <a:cubicBezTo>
                  <a:pt x="1268" y="624"/>
                  <a:pt x="1265" y="634"/>
                  <a:pt x="1257" y="640"/>
                </a:cubicBezTo>
                <a:cubicBezTo>
                  <a:pt x="1250" y="645"/>
                  <a:pt x="1241" y="644"/>
                  <a:pt x="1233" y="648"/>
                </a:cubicBezTo>
                <a:cubicBezTo>
                  <a:pt x="1204" y="662"/>
                  <a:pt x="1192" y="686"/>
                  <a:pt x="1161" y="696"/>
                </a:cubicBezTo>
                <a:cubicBezTo>
                  <a:pt x="1170" y="659"/>
                  <a:pt x="1201" y="614"/>
                  <a:pt x="1233" y="592"/>
                </a:cubicBezTo>
                <a:cubicBezTo>
                  <a:pt x="1265" y="545"/>
                  <a:pt x="1229" y="589"/>
                  <a:pt x="1281" y="552"/>
                </a:cubicBezTo>
                <a:cubicBezTo>
                  <a:pt x="1313" y="529"/>
                  <a:pt x="1343" y="502"/>
                  <a:pt x="1377" y="480"/>
                </a:cubicBezTo>
                <a:cubicBezTo>
                  <a:pt x="1398" y="466"/>
                  <a:pt x="1428" y="470"/>
                  <a:pt x="1449" y="456"/>
                </a:cubicBezTo>
                <a:cubicBezTo>
                  <a:pt x="1501" y="421"/>
                  <a:pt x="1555" y="404"/>
                  <a:pt x="1617" y="392"/>
                </a:cubicBezTo>
                <a:cubicBezTo>
                  <a:pt x="1554" y="434"/>
                  <a:pt x="1480" y="464"/>
                  <a:pt x="1409" y="488"/>
                </a:cubicBezTo>
                <a:cubicBezTo>
                  <a:pt x="1344" y="553"/>
                  <a:pt x="1428" y="477"/>
                  <a:pt x="1353" y="520"/>
                </a:cubicBezTo>
                <a:cubicBezTo>
                  <a:pt x="1323" y="537"/>
                  <a:pt x="1319" y="555"/>
                  <a:pt x="1281" y="568"/>
                </a:cubicBezTo>
                <a:cubicBezTo>
                  <a:pt x="1250" y="614"/>
                  <a:pt x="1231" y="649"/>
                  <a:pt x="1185" y="680"/>
                </a:cubicBezTo>
                <a:cubicBezTo>
                  <a:pt x="1157" y="721"/>
                  <a:pt x="1091" y="764"/>
                  <a:pt x="1049" y="792"/>
                </a:cubicBezTo>
                <a:cubicBezTo>
                  <a:pt x="1020" y="812"/>
                  <a:pt x="962" y="884"/>
                  <a:pt x="937" y="912"/>
                </a:cubicBezTo>
                <a:cubicBezTo>
                  <a:pt x="907" y="945"/>
                  <a:pt x="873" y="976"/>
                  <a:pt x="841" y="1008"/>
                </a:cubicBezTo>
                <a:cubicBezTo>
                  <a:pt x="833" y="1016"/>
                  <a:pt x="826" y="1026"/>
                  <a:pt x="817" y="1032"/>
                </a:cubicBezTo>
                <a:cubicBezTo>
                  <a:pt x="801" y="1043"/>
                  <a:pt x="769" y="1064"/>
                  <a:pt x="769" y="1064"/>
                </a:cubicBezTo>
                <a:cubicBezTo>
                  <a:pt x="790" y="1012"/>
                  <a:pt x="807" y="1013"/>
                  <a:pt x="849" y="976"/>
                </a:cubicBezTo>
                <a:cubicBezTo>
                  <a:pt x="892" y="938"/>
                  <a:pt x="856" y="967"/>
                  <a:pt x="889" y="928"/>
                </a:cubicBezTo>
                <a:cubicBezTo>
                  <a:pt x="918" y="894"/>
                  <a:pt x="910" y="912"/>
                  <a:pt x="945" y="880"/>
                </a:cubicBezTo>
                <a:cubicBezTo>
                  <a:pt x="1021" y="812"/>
                  <a:pt x="969" y="856"/>
                  <a:pt x="1017" y="800"/>
                </a:cubicBezTo>
                <a:cubicBezTo>
                  <a:pt x="1039" y="774"/>
                  <a:pt x="1065" y="751"/>
                  <a:pt x="1081" y="720"/>
                </a:cubicBezTo>
                <a:cubicBezTo>
                  <a:pt x="1085" y="712"/>
                  <a:pt x="1097" y="699"/>
                  <a:pt x="1089" y="696"/>
                </a:cubicBezTo>
                <a:cubicBezTo>
                  <a:pt x="1071" y="690"/>
                  <a:pt x="1042" y="729"/>
                  <a:pt x="1033" y="736"/>
                </a:cubicBezTo>
                <a:cubicBezTo>
                  <a:pt x="989" y="767"/>
                  <a:pt x="939" y="796"/>
                  <a:pt x="905" y="840"/>
                </a:cubicBezTo>
                <a:cubicBezTo>
                  <a:pt x="895" y="852"/>
                  <a:pt x="891" y="868"/>
                  <a:pt x="881" y="880"/>
                </a:cubicBezTo>
                <a:cubicBezTo>
                  <a:pt x="862" y="903"/>
                  <a:pt x="817" y="944"/>
                  <a:pt x="817" y="944"/>
                </a:cubicBezTo>
                <a:cubicBezTo>
                  <a:pt x="812" y="957"/>
                  <a:pt x="807" y="971"/>
                  <a:pt x="801" y="984"/>
                </a:cubicBezTo>
                <a:cubicBezTo>
                  <a:pt x="797" y="993"/>
                  <a:pt x="789" y="999"/>
                  <a:pt x="785" y="1008"/>
                </a:cubicBezTo>
                <a:cubicBezTo>
                  <a:pt x="747" y="1094"/>
                  <a:pt x="789" y="1026"/>
                  <a:pt x="753" y="1080"/>
                </a:cubicBezTo>
                <a:cubicBezTo>
                  <a:pt x="741" y="1126"/>
                  <a:pt x="720" y="1163"/>
                  <a:pt x="705" y="1208"/>
                </a:cubicBezTo>
                <a:cubicBezTo>
                  <a:pt x="684" y="1270"/>
                  <a:pt x="671" y="1333"/>
                  <a:pt x="641" y="1392"/>
                </a:cubicBezTo>
                <a:cubicBezTo>
                  <a:pt x="615" y="1549"/>
                  <a:pt x="581" y="1706"/>
                  <a:pt x="561" y="1864"/>
                </a:cubicBezTo>
                <a:cubicBezTo>
                  <a:pt x="564" y="2168"/>
                  <a:pt x="394" y="2561"/>
                  <a:pt x="609" y="2776"/>
                </a:cubicBezTo>
                <a:cubicBezTo>
                  <a:pt x="641" y="2744"/>
                  <a:pt x="643" y="2714"/>
                  <a:pt x="657" y="2672"/>
                </a:cubicBezTo>
                <a:cubicBezTo>
                  <a:pt x="671" y="2445"/>
                  <a:pt x="665" y="2218"/>
                  <a:pt x="697" y="1992"/>
                </a:cubicBezTo>
                <a:cubicBezTo>
                  <a:pt x="707" y="1922"/>
                  <a:pt x="736" y="1853"/>
                  <a:pt x="753" y="1784"/>
                </a:cubicBezTo>
                <a:cubicBezTo>
                  <a:pt x="774" y="1569"/>
                  <a:pt x="797" y="1346"/>
                  <a:pt x="737" y="1136"/>
                </a:cubicBezTo>
                <a:cubicBezTo>
                  <a:pt x="718" y="1155"/>
                  <a:pt x="700" y="1173"/>
                  <a:pt x="681" y="1192"/>
                </a:cubicBezTo>
                <a:cubicBezTo>
                  <a:pt x="651" y="1222"/>
                  <a:pt x="646" y="1289"/>
                  <a:pt x="633" y="1328"/>
                </a:cubicBezTo>
                <a:cubicBezTo>
                  <a:pt x="623" y="1461"/>
                  <a:pt x="627" y="1596"/>
                  <a:pt x="609" y="1728"/>
                </a:cubicBezTo>
                <a:cubicBezTo>
                  <a:pt x="596" y="1823"/>
                  <a:pt x="568" y="1915"/>
                  <a:pt x="545" y="2008"/>
                </a:cubicBezTo>
                <a:cubicBezTo>
                  <a:pt x="531" y="2063"/>
                  <a:pt x="498" y="2117"/>
                  <a:pt x="473" y="2168"/>
                </a:cubicBezTo>
                <a:cubicBezTo>
                  <a:pt x="464" y="2185"/>
                  <a:pt x="466" y="2207"/>
                  <a:pt x="457" y="2224"/>
                </a:cubicBezTo>
                <a:cubicBezTo>
                  <a:pt x="449" y="2240"/>
                  <a:pt x="442" y="2256"/>
                  <a:pt x="433" y="2272"/>
                </a:cubicBezTo>
                <a:cubicBezTo>
                  <a:pt x="424" y="2289"/>
                  <a:pt x="401" y="2320"/>
                  <a:pt x="401" y="2320"/>
                </a:cubicBezTo>
                <a:cubicBezTo>
                  <a:pt x="386" y="2378"/>
                  <a:pt x="354" y="2430"/>
                  <a:pt x="321" y="2480"/>
                </a:cubicBezTo>
                <a:cubicBezTo>
                  <a:pt x="295" y="2582"/>
                  <a:pt x="217" y="2523"/>
                  <a:pt x="137" y="2512"/>
                </a:cubicBezTo>
                <a:cubicBezTo>
                  <a:pt x="146" y="2409"/>
                  <a:pt x="153" y="2264"/>
                  <a:pt x="185" y="2168"/>
                </a:cubicBezTo>
                <a:cubicBezTo>
                  <a:pt x="197" y="2070"/>
                  <a:pt x="204" y="2027"/>
                  <a:pt x="209" y="1912"/>
                </a:cubicBezTo>
                <a:cubicBezTo>
                  <a:pt x="214" y="1640"/>
                  <a:pt x="212" y="1368"/>
                  <a:pt x="225" y="1096"/>
                </a:cubicBezTo>
                <a:cubicBezTo>
                  <a:pt x="226" y="1071"/>
                  <a:pt x="268" y="1068"/>
                  <a:pt x="281" y="1064"/>
                </a:cubicBezTo>
                <a:cubicBezTo>
                  <a:pt x="337" y="1048"/>
                  <a:pt x="394" y="1042"/>
                  <a:pt x="449" y="1024"/>
                </a:cubicBezTo>
                <a:cubicBezTo>
                  <a:pt x="453" y="1745"/>
                  <a:pt x="0" y="2571"/>
                  <a:pt x="665" y="2704"/>
                </a:cubicBezTo>
                <a:cubicBezTo>
                  <a:pt x="670" y="2711"/>
                  <a:pt x="716" y="2766"/>
                  <a:pt x="721" y="2768"/>
                </a:cubicBezTo>
                <a:cubicBezTo>
                  <a:pt x="741" y="2778"/>
                  <a:pt x="764" y="2778"/>
                  <a:pt x="785" y="2784"/>
                </a:cubicBezTo>
                <a:cubicBezTo>
                  <a:pt x="849" y="2802"/>
                  <a:pt x="914" y="2811"/>
                  <a:pt x="977" y="2832"/>
                </a:cubicBezTo>
                <a:cubicBezTo>
                  <a:pt x="985" y="2840"/>
                  <a:pt x="999" y="2867"/>
                  <a:pt x="1001" y="2856"/>
                </a:cubicBezTo>
                <a:cubicBezTo>
                  <a:pt x="1013" y="2790"/>
                  <a:pt x="1004" y="2723"/>
                  <a:pt x="1009" y="2656"/>
                </a:cubicBezTo>
                <a:cubicBezTo>
                  <a:pt x="1016" y="2555"/>
                  <a:pt x="1046" y="2453"/>
                  <a:pt x="1057" y="2352"/>
                </a:cubicBezTo>
                <a:cubicBezTo>
                  <a:pt x="1060" y="2301"/>
                  <a:pt x="1061" y="2251"/>
                  <a:pt x="1065" y="2200"/>
                </a:cubicBezTo>
                <a:cubicBezTo>
                  <a:pt x="1069" y="2139"/>
                  <a:pt x="1081" y="2016"/>
                  <a:pt x="1081" y="2016"/>
                </a:cubicBezTo>
                <a:cubicBezTo>
                  <a:pt x="1084" y="1789"/>
                  <a:pt x="1084" y="1563"/>
                  <a:pt x="1089" y="1336"/>
                </a:cubicBezTo>
                <a:cubicBezTo>
                  <a:pt x="1090" y="1270"/>
                  <a:pt x="1081" y="1432"/>
                  <a:pt x="1073" y="1456"/>
                </a:cubicBezTo>
                <a:cubicBezTo>
                  <a:pt x="1059" y="1570"/>
                  <a:pt x="1043" y="1685"/>
                  <a:pt x="1033" y="1800"/>
                </a:cubicBezTo>
                <a:cubicBezTo>
                  <a:pt x="1027" y="1874"/>
                  <a:pt x="1027" y="1951"/>
                  <a:pt x="1009" y="2024"/>
                </a:cubicBezTo>
                <a:cubicBezTo>
                  <a:pt x="1002" y="2139"/>
                  <a:pt x="1006" y="2262"/>
                  <a:pt x="977" y="2376"/>
                </a:cubicBezTo>
                <a:cubicBezTo>
                  <a:pt x="964" y="2511"/>
                  <a:pt x="940" y="2642"/>
                  <a:pt x="929" y="2776"/>
                </a:cubicBezTo>
                <a:cubicBezTo>
                  <a:pt x="940" y="2824"/>
                  <a:pt x="939" y="2876"/>
                  <a:pt x="961" y="2920"/>
                </a:cubicBezTo>
                <a:cubicBezTo>
                  <a:pt x="969" y="2935"/>
                  <a:pt x="993" y="2931"/>
                  <a:pt x="1009" y="2936"/>
                </a:cubicBezTo>
                <a:cubicBezTo>
                  <a:pt x="1030" y="2942"/>
                  <a:pt x="1073" y="2952"/>
                  <a:pt x="1073" y="2952"/>
                </a:cubicBezTo>
                <a:cubicBezTo>
                  <a:pt x="1081" y="2957"/>
                  <a:pt x="1088" y="2964"/>
                  <a:pt x="1097" y="2968"/>
                </a:cubicBezTo>
                <a:cubicBezTo>
                  <a:pt x="1105" y="2972"/>
                  <a:pt x="1121" y="2984"/>
                  <a:pt x="1121" y="2976"/>
                </a:cubicBezTo>
                <a:cubicBezTo>
                  <a:pt x="1124" y="2928"/>
                  <a:pt x="1105" y="2832"/>
                  <a:pt x="1105" y="2832"/>
                </a:cubicBezTo>
                <a:cubicBezTo>
                  <a:pt x="1109" y="2594"/>
                  <a:pt x="1113" y="2364"/>
                  <a:pt x="1129" y="2128"/>
                </a:cubicBezTo>
                <a:cubicBezTo>
                  <a:pt x="1132" y="1847"/>
                  <a:pt x="931" y="1365"/>
                  <a:pt x="1201" y="1288"/>
                </a:cubicBezTo>
                <a:cubicBezTo>
                  <a:pt x="1252" y="1304"/>
                  <a:pt x="1302" y="1320"/>
                  <a:pt x="1353" y="1336"/>
                </a:cubicBezTo>
                <a:cubicBezTo>
                  <a:pt x="1426" y="1359"/>
                  <a:pt x="1549" y="1357"/>
                  <a:pt x="1633" y="1376"/>
                </a:cubicBezTo>
                <a:cubicBezTo>
                  <a:pt x="1561" y="1736"/>
                  <a:pt x="1525" y="2101"/>
                  <a:pt x="1473" y="2464"/>
                </a:cubicBezTo>
                <a:cubicBezTo>
                  <a:pt x="1462" y="2540"/>
                  <a:pt x="1446" y="2613"/>
                  <a:pt x="1433" y="2688"/>
                </a:cubicBezTo>
                <a:cubicBezTo>
                  <a:pt x="1419" y="2773"/>
                  <a:pt x="1420" y="2862"/>
                  <a:pt x="1393" y="2944"/>
                </a:cubicBezTo>
                <a:cubicBezTo>
                  <a:pt x="1398" y="2971"/>
                  <a:pt x="1397" y="3000"/>
                  <a:pt x="1409" y="3024"/>
                </a:cubicBezTo>
                <a:cubicBezTo>
                  <a:pt x="1414" y="3035"/>
                  <a:pt x="1435" y="3030"/>
                  <a:pt x="1441" y="3040"/>
                </a:cubicBezTo>
                <a:cubicBezTo>
                  <a:pt x="1452" y="3059"/>
                  <a:pt x="1457" y="3104"/>
                  <a:pt x="1457" y="3104"/>
                </a:cubicBezTo>
                <a:cubicBezTo>
                  <a:pt x="1530" y="3068"/>
                  <a:pt x="1501" y="3085"/>
                  <a:pt x="1545" y="3056"/>
                </a:cubicBezTo>
                <a:cubicBezTo>
                  <a:pt x="1552" y="3004"/>
                  <a:pt x="1564" y="2955"/>
                  <a:pt x="1577" y="2904"/>
                </a:cubicBezTo>
                <a:cubicBezTo>
                  <a:pt x="1584" y="2878"/>
                  <a:pt x="1593" y="2824"/>
                  <a:pt x="1593" y="2824"/>
                </a:cubicBezTo>
                <a:cubicBezTo>
                  <a:pt x="1610" y="2359"/>
                  <a:pt x="1654" y="1870"/>
                  <a:pt x="1577" y="1408"/>
                </a:cubicBezTo>
                <a:cubicBezTo>
                  <a:pt x="1326" y="1575"/>
                  <a:pt x="1534" y="2010"/>
                  <a:pt x="1529" y="2312"/>
                </a:cubicBezTo>
                <a:cubicBezTo>
                  <a:pt x="1527" y="2411"/>
                  <a:pt x="1500" y="2510"/>
                  <a:pt x="1489" y="2608"/>
                </a:cubicBezTo>
                <a:cubicBezTo>
                  <a:pt x="1493" y="2707"/>
                  <a:pt x="1481" y="2808"/>
                  <a:pt x="1505" y="2904"/>
                </a:cubicBezTo>
                <a:cubicBezTo>
                  <a:pt x="1532" y="3012"/>
                  <a:pt x="1733" y="3087"/>
                  <a:pt x="1833" y="3104"/>
                </a:cubicBezTo>
                <a:cubicBezTo>
                  <a:pt x="1859" y="3124"/>
                  <a:pt x="1889" y="3138"/>
                  <a:pt x="1913" y="3160"/>
                </a:cubicBezTo>
                <a:cubicBezTo>
                  <a:pt x="1923" y="3169"/>
                  <a:pt x="1930" y="3181"/>
                  <a:pt x="1937" y="3192"/>
                </a:cubicBezTo>
                <a:cubicBezTo>
                  <a:pt x="1943" y="3202"/>
                  <a:pt x="1945" y="3216"/>
                  <a:pt x="1953" y="3224"/>
                </a:cubicBezTo>
                <a:cubicBezTo>
                  <a:pt x="1967" y="3238"/>
                  <a:pt x="2001" y="3256"/>
                  <a:pt x="2001" y="3256"/>
                </a:cubicBezTo>
                <a:cubicBezTo>
                  <a:pt x="2183" y="2711"/>
                  <a:pt x="2056" y="2084"/>
                  <a:pt x="1985" y="1512"/>
                </a:cubicBezTo>
                <a:cubicBezTo>
                  <a:pt x="1803" y="1877"/>
                  <a:pt x="2056" y="2330"/>
                  <a:pt x="1929" y="2712"/>
                </a:cubicBezTo>
                <a:cubicBezTo>
                  <a:pt x="1922" y="2774"/>
                  <a:pt x="1917" y="2837"/>
                  <a:pt x="1897" y="2896"/>
                </a:cubicBezTo>
                <a:cubicBezTo>
                  <a:pt x="1879" y="3019"/>
                  <a:pt x="1890" y="2971"/>
                  <a:pt x="1873" y="3040"/>
                </a:cubicBezTo>
                <a:cubicBezTo>
                  <a:pt x="1876" y="3091"/>
                  <a:pt x="1863" y="3145"/>
                  <a:pt x="1881" y="3192"/>
                </a:cubicBezTo>
                <a:cubicBezTo>
                  <a:pt x="1890" y="3214"/>
                  <a:pt x="1923" y="3214"/>
                  <a:pt x="1945" y="3224"/>
                </a:cubicBezTo>
                <a:cubicBezTo>
                  <a:pt x="2032" y="3265"/>
                  <a:pt x="2180" y="3270"/>
                  <a:pt x="2281" y="3280"/>
                </a:cubicBezTo>
                <a:cubicBezTo>
                  <a:pt x="2353" y="3298"/>
                  <a:pt x="2338" y="3317"/>
                  <a:pt x="2353" y="3272"/>
                </a:cubicBezTo>
                <a:cubicBezTo>
                  <a:pt x="2350" y="2762"/>
                  <a:pt x="2389" y="2248"/>
                  <a:pt x="2305" y="1744"/>
                </a:cubicBezTo>
                <a:cubicBezTo>
                  <a:pt x="2314" y="1558"/>
                  <a:pt x="2271" y="1561"/>
                  <a:pt x="2417" y="1576"/>
                </a:cubicBezTo>
                <a:cubicBezTo>
                  <a:pt x="2443" y="1585"/>
                  <a:pt x="2463" y="1599"/>
                  <a:pt x="2489" y="1608"/>
                </a:cubicBezTo>
                <a:cubicBezTo>
                  <a:pt x="2476" y="1660"/>
                  <a:pt x="2462" y="1714"/>
                  <a:pt x="2457" y="1768"/>
                </a:cubicBezTo>
                <a:cubicBezTo>
                  <a:pt x="2437" y="1971"/>
                  <a:pt x="2461" y="1892"/>
                  <a:pt x="2433" y="1976"/>
                </a:cubicBezTo>
                <a:cubicBezTo>
                  <a:pt x="2422" y="2048"/>
                  <a:pt x="2412" y="2120"/>
                  <a:pt x="2401" y="2192"/>
                </a:cubicBezTo>
                <a:cubicBezTo>
                  <a:pt x="2379" y="2343"/>
                  <a:pt x="2394" y="2502"/>
                  <a:pt x="2345" y="2648"/>
                </a:cubicBezTo>
                <a:cubicBezTo>
                  <a:pt x="2324" y="2818"/>
                  <a:pt x="2268" y="2981"/>
                  <a:pt x="2249" y="3152"/>
                </a:cubicBezTo>
                <a:cubicBezTo>
                  <a:pt x="2252" y="3173"/>
                  <a:pt x="2247" y="3197"/>
                  <a:pt x="2257" y="3216"/>
                </a:cubicBezTo>
                <a:cubicBezTo>
                  <a:pt x="2275" y="3249"/>
                  <a:pt x="2353" y="3257"/>
                  <a:pt x="2385" y="3264"/>
                </a:cubicBezTo>
                <a:cubicBezTo>
                  <a:pt x="2450" y="3279"/>
                  <a:pt x="2523" y="3302"/>
                  <a:pt x="2585" y="3328"/>
                </a:cubicBezTo>
                <a:cubicBezTo>
                  <a:pt x="2728" y="3388"/>
                  <a:pt x="2601" y="3344"/>
                  <a:pt x="2673" y="3368"/>
                </a:cubicBezTo>
                <a:cubicBezTo>
                  <a:pt x="2723" y="3219"/>
                  <a:pt x="2667" y="3049"/>
                  <a:pt x="2705" y="2896"/>
                </a:cubicBezTo>
                <a:cubicBezTo>
                  <a:pt x="2715" y="2786"/>
                  <a:pt x="2734" y="2678"/>
                  <a:pt x="2745" y="2568"/>
                </a:cubicBezTo>
                <a:cubicBezTo>
                  <a:pt x="2750" y="2039"/>
                  <a:pt x="2594" y="1775"/>
                  <a:pt x="2897" y="1472"/>
                </a:cubicBezTo>
                <a:cubicBezTo>
                  <a:pt x="2900" y="1464"/>
                  <a:pt x="2901" y="1440"/>
                  <a:pt x="2905" y="1448"/>
                </a:cubicBezTo>
                <a:cubicBezTo>
                  <a:pt x="2913" y="1465"/>
                  <a:pt x="2909" y="1486"/>
                  <a:pt x="2913" y="1504"/>
                </a:cubicBezTo>
                <a:cubicBezTo>
                  <a:pt x="2922" y="1550"/>
                  <a:pt x="2945" y="1640"/>
                  <a:pt x="2945" y="1640"/>
                </a:cubicBezTo>
                <a:cubicBezTo>
                  <a:pt x="2955" y="2165"/>
                  <a:pt x="2973" y="2692"/>
                  <a:pt x="2929" y="3216"/>
                </a:cubicBezTo>
                <a:cubicBezTo>
                  <a:pt x="2934" y="3235"/>
                  <a:pt x="2931" y="3258"/>
                  <a:pt x="2945" y="3272"/>
                </a:cubicBezTo>
                <a:cubicBezTo>
                  <a:pt x="2953" y="3280"/>
                  <a:pt x="2969" y="3271"/>
                  <a:pt x="2977" y="3264"/>
                </a:cubicBezTo>
                <a:cubicBezTo>
                  <a:pt x="3010" y="3235"/>
                  <a:pt x="3017" y="3192"/>
                  <a:pt x="3025" y="3152"/>
                </a:cubicBezTo>
                <a:cubicBezTo>
                  <a:pt x="3051" y="2678"/>
                  <a:pt x="3031" y="2202"/>
                  <a:pt x="3017" y="1728"/>
                </a:cubicBezTo>
                <a:cubicBezTo>
                  <a:pt x="3020" y="1602"/>
                  <a:pt x="2960" y="1432"/>
                  <a:pt x="3089" y="1368"/>
                </a:cubicBezTo>
                <a:cubicBezTo>
                  <a:pt x="3176" y="1390"/>
                  <a:pt x="3166" y="1390"/>
                  <a:pt x="3193" y="1472"/>
                </a:cubicBezTo>
                <a:cubicBezTo>
                  <a:pt x="3204" y="1997"/>
                  <a:pt x="3206" y="2523"/>
                  <a:pt x="3225" y="3048"/>
                </a:cubicBezTo>
                <a:cubicBezTo>
                  <a:pt x="3226" y="3067"/>
                  <a:pt x="3263" y="3039"/>
                  <a:pt x="3281" y="3032"/>
                </a:cubicBezTo>
                <a:cubicBezTo>
                  <a:pt x="3303" y="3024"/>
                  <a:pt x="3344" y="3009"/>
                  <a:pt x="3361" y="2992"/>
                </a:cubicBezTo>
                <a:cubicBezTo>
                  <a:pt x="3398" y="2955"/>
                  <a:pt x="3407" y="2912"/>
                  <a:pt x="3449" y="2880"/>
                </a:cubicBezTo>
                <a:cubicBezTo>
                  <a:pt x="3490" y="2799"/>
                  <a:pt x="3435" y="2897"/>
                  <a:pt x="3497" y="2824"/>
                </a:cubicBezTo>
                <a:cubicBezTo>
                  <a:pt x="3573" y="2735"/>
                  <a:pt x="3445" y="2852"/>
                  <a:pt x="3537" y="2760"/>
                </a:cubicBezTo>
                <a:cubicBezTo>
                  <a:pt x="3546" y="2751"/>
                  <a:pt x="3560" y="2746"/>
                  <a:pt x="3569" y="2736"/>
                </a:cubicBezTo>
                <a:cubicBezTo>
                  <a:pt x="3582" y="2722"/>
                  <a:pt x="3590" y="2704"/>
                  <a:pt x="3601" y="2688"/>
                </a:cubicBezTo>
                <a:cubicBezTo>
                  <a:pt x="3606" y="2680"/>
                  <a:pt x="3617" y="2664"/>
                  <a:pt x="3617" y="2664"/>
                </a:cubicBezTo>
                <a:cubicBezTo>
                  <a:pt x="3649" y="2536"/>
                  <a:pt x="3639" y="2601"/>
                  <a:pt x="3625" y="2384"/>
                </a:cubicBezTo>
                <a:cubicBezTo>
                  <a:pt x="3621" y="2330"/>
                  <a:pt x="3584" y="2265"/>
                  <a:pt x="3577" y="2208"/>
                </a:cubicBezTo>
                <a:cubicBezTo>
                  <a:pt x="3563" y="2095"/>
                  <a:pt x="3532" y="1974"/>
                  <a:pt x="3481" y="1872"/>
                </a:cubicBezTo>
                <a:cubicBezTo>
                  <a:pt x="3474" y="1836"/>
                  <a:pt x="3459" y="1810"/>
                  <a:pt x="3449" y="1776"/>
                </a:cubicBezTo>
                <a:cubicBezTo>
                  <a:pt x="3428" y="1704"/>
                  <a:pt x="3411" y="1628"/>
                  <a:pt x="3377" y="1560"/>
                </a:cubicBezTo>
                <a:cubicBezTo>
                  <a:pt x="3342" y="1489"/>
                  <a:pt x="3308" y="1413"/>
                  <a:pt x="3289" y="1336"/>
                </a:cubicBezTo>
                <a:cubicBezTo>
                  <a:pt x="3292" y="1312"/>
                  <a:pt x="3289" y="1287"/>
                  <a:pt x="3297" y="1264"/>
                </a:cubicBezTo>
                <a:cubicBezTo>
                  <a:pt x="3300" y="1255"/>
                  <a:pt x="3312" y="1244"/>
                  <a:pt x="3321" y="1248"/>
                </a:cubicBezTo>
                <a:cubicBezTo>
                  <a:pt x="3332" y="1252"/>
                  <a:pt x="3331" y="1270"/>
                  <a:pt x="3337" y="1280"/>
                </a:cubicBezTo>
                <a:cubicBezTo>
                  <a:pt x="3364" y="1326"/>
                  <a:pt x="3348" y="1281"/>
                  <a:pt x="3377" y="1352"/>
                </a:cubicBezTo>
                <a:cubicBezTo>
                  <a:pt x="3383" y="1368"/>
                  <a:pt x="3388" y="1384"/>
                  <a:pt x="3393" y="1400"/>
                </a:cubicBezTo>
                <a:cubicBezTo>
                  <a:pt x="3396" y="1408"/>
                  <a:pt x="3401" y="1424"/>
                  <a:pt x="3401" y="1424"/>
                </a:cubicBezTo>
                <a:cubicBezTo>
                  <a:pt x="3424" y="1740"/>
                  <a:pt x="3417" y="2058"/>
                  <a:pt x="3433" y="2376"/>
                </a:cubicBezTo>
                <a:cubicBezTo>
                  <a:pt x="3440" y="2519"/>
                  <a:pt x="3409" y="2646"/>
                  <a:pt x="3529" y="2736"/>
                </a:cubicBezTo>
                <a:cubicBezTo>
                  <a:pt x="3542" y="2733"/>
                  <a:pt x="3556" y="2732"/>
                  <a:pt x="3569" y="2728"/>
                </a:cubicBezTo>
                <a:cubicBezTo>
                  <a:pt x="3585" y="2724"/>
                  <a:pt x="3617" y="2712"/>
                  <a:pt x="3617" y="2712"/>
                </a:cubicBezTo>
                <a:cubicBezTo>
                  <a:pt x="3649" y="2688"/>
                  <a:pt x="3667" y="2665"/>
                  <a:pt x="3689" y="2632"/>
                </a:cubicBezTo>
                <a:cubicBezTo>
                  <a:pt x="3701" y="2583"/>
                  <a:pt x="3730" y="2533"/>
                  <a:pt x="3753" y="2488"/>
                </a:cubicBezTo>
                <a:cubicBezTo>
                  <a:pt x="3758" y="2477"/>
                  <a:pt x="3769" y="2456"/>
                  <a:pt x="3769" y="2456"/>
                </a:cubicBezTo>
                <a:cubicBezTo>
                  <a:pt x="3778" y="2413"/>
                  <a:pt x="3781" y="2375"/>
                  <a:pt x="3801" y="2336"/>
                </a:cubicBezTo>
                <a:cubicBezTo>
                  <a:pt x="3811" y="2288"/>
                  <a:pt x="3829" y="2247"/>
                  <a:pt x="3841" y="2200"/>
                </a:cubicBezTo>
                <a:cubicBezTo>
                  <a:pt x="3862" y="1954"/>
                  <a:pt x="3880" y="1701"/>
                  <a:pt x="3801" y="1464"/>
                </a:cubicBezTo>
                <a:cubicBezTo>
                  <a:pt x="3783" y="1410"/>
                  <a:pt x="3777" y="1352"/>
                  <a:pt x="3745" y="1304"/>
                </a:cubicBezTo>
                <a:cubicBezTo>
                  <a:pt x="3734" y="1262"/>
                  <a:pt x="3715" y="1219"/>
                  <a:pt x="3689" y="1184"/>
                </a:cubicBezTo>
                <a:cubicBezTo>
                  <a:pt x="3687" y="1178"/>
                  <a:pt x="3675" y="1136"/>
                  <a:pt x="3665" y="1136"/>
                </a:cubicBezTo>
                <a:cubicBezTo>
                  <a:pt x="3655" y="1136"/>
                  <a:pt x="3654" y="1152"/>
                  <a:pt x="3649" y="1160"/>
                </a:cubicBezTo>
                <a:cubicBezTo>
                  <a:pt x="3654" y="1269"/>
                  <a:pt x="3654" y="1381"/>
                  <a:pt x="3681" y="1488"/>
                </a:cubicBezTo>
                <a:cubicBezTo>
                  <a:pt x="3695" y="1446"/>
                  <a:pt x="3674" y="1400"/>
                  <a:pt x="3657" y="1360"/>
                </a:cubicBezTo>
                <a:cubicBezTo>
                  <a:pt x="3633" y="1303"/>
                  <a:pt x="3603" y="1275"/>
                  <a:pt x="3577" y="1224"/>
                </a:cubicBezTo>
                <a:cubicBezTo>
                  <a:pt x="3539" y="1147"/>
                  <a:pt x="3505" y="1105"/>
                  <a:pt x="3449" y="1040"/>
                </a:cubicBezTo>
                <a:cubicBezTo>
                  <a:pt x="3416" y="1001"/>
                  <a:pt x="3383" y="959"/>
                  <a:pt x="3337" y="936"/>
                </a:cubicBezTo>
                <a:cubicBezTo>
                  <a:pt x="3301" y="882"/>
                  <a:pt x="3239" y="858"/>
                  <a:pt x="3185" y="824"/>
                </a:cubicBezTo>
                <a:cubicBezTo>
                  <a:pt x="3154" y="805"/>
                  <a:pt x="3142" y="780"/>
                  <a:pt x="3113" y="760"/>
                </a:cubicBezTo>
                <a:cubicBezTo>
                  <a:pt x="3094" y="797"/>
                  <a:pt x="3092" y="834"/>
                  <a:pt x="3113" y="872"/>
                </a:cubicBezTo>
                <a:cubicBezTo>
                  <a:pt x="3174" y="984"/>
                  <a:pt x="3295" y="1020"/>
                  <a:pt x="3417" y="1032"/>
                </a:cubicBezTo>
                <a:cubicBezTo>
                  <a:pt x="3454" y="1036"/>
                  <a:pt x="3492" y="1037"/>
                  <a:pt x="3529" y="1040"/>
                </a:cubicBezTo>
                <a:cubicBezTo>
                  <a:pt x="3595" y="1062"/>
                  <a:pt x="3509" y="1016"/>
                  <a:pt x="3497" y="1008"/>
                </a:cubicBezTo>
                <a:cubicBezTo>
                  <a:pt x="3452" y="1011"/>
                  <a:pt x="3406" y="1009"/>
                  <a:pt x="3361" y="1016"/>
                </a:cubicBezTo>
                <a:cubicBezTo>
                  <a:pt x="3351" y="1017"/>
                  <a:pt x="3345" y="1027"/>
                  <a:pt x="3337" y="1032"/>
                </a:cubicBezTo>
                <a:cubicBezTo>
                  <a:pt x="3311" y="1047"/>
                  <a:pt x="3284" y="1059"/>
                  <a:pt x="3257" y="1072"/>
                </a:cubicBezTo>
                <a:cubicBezTo>
                  <a:pt x="3228" y="1087"/>
                  <a:pt x="3209" y="1109"/>
                  <a:pt x="3177" y="1120"/>
                </a:cubicBezTo>
                <a:cubicBezTo>
                  <a:pt x="3122" y="1162"/>
                  <a:pt x="3037" y="1238"/>
                  <a:pt x="2993" y="1296"/>
                </a:cubicBezTo>
                <a:cubicBezTo>
                  <a:pt x="2959" y="1244"/>
                  <a:pt x="2961" y="1172"/>
                  <a:pt x="2953" y="1112"/>
                </a:cubicBezTo>
                <a:cubicBezTo>
                  <a:pt x="2956" y="1005"/>
                  <a:pt x="2954" y="898"/>
                  <a:pt x="2961" y="792"/>
                </a:cubicBezTo>
                <a:cubicBezTo>
                  <a:pt x="2962" y="771"/>
                  <a:pt x="2968" y="835"/>
                  <a:pt x="2969" y="856"/>
                </a:cubicBezTo>
                <a:cubicBezTo>
                  <a:pt x="2977" y="969"/>
                  <a:pt x="2955" y="1151"/>
                  <a:pt x="3025" y="1256"/>
                </a:cubicBezTo>
                <a:cubicBezTo>
                  <a:pt x="3110" y="1228"/>
                  <a:pt x="3075" y="1210"/>
                  <a:pt x="3065" y="1088"/>
                </a:cubicBezTo>
                <a:cubicBezTo>
                  <a:pt x="3058" y="1005"/>
                  <a:pt x="3061" y="1069"/>
                  <a:pt x="3049" y="1016"/>
                </a:cubicBezTo>
                <a:cubicBezTo>
                  <a:pt x="3030" y="928"/>
                  <a:pt x="3024" y="818"/>
                  <a:pt x="2969" y="744"/>
                </a:cubicBezTo>
                <a:cubicBezTo>
                  <a:pt x="2959" y="713"/>
                  <a:pt x="2953" y="699"/>
                  <a:pt x="2921" y="688"/>
                </a:cubicBezTo>
                <a:cubicBezTo>
                  <a:pt x="2918" y="704"/>
                  <a:pt x="2926" y="726"/>
                  <a:pt x="2913" y="736"/>
                </a:cubicBezTo>
                <a:cubicBezTo>
                  <a:pt x="2904" y="743"/>
                  <a:pt x="2894" y="722"/>
                  <a:pt x="2889" y="712"/>
                </a:cubicBezTo>
                <a:cubicBezTo>
                  <a:pt x="2877" y="690"/>
                  <a:pt x="2872" y="657"/>
                  <a:pt x="2865" y="632"/>
                </a:cubicBezTo>
                <a:cubicBezTo>
                  <a:pt x="2860" y="616"/>
                  <a:pt x="2849" y="584"/>
                  <a:pt x="2849" y="584"/>
                </a:cubicBezTo>
                <a:cubicBezTo>
                  <a:pt x="2852" y="424"/>
                  <a:pt x="2837" y="263"/>
                  <a:pt x="2857" y="104"/>
                </a:cubicBezTo>
                <a:cubicBezTo>
                  <a:pt x="2859" y="85"/>
                  <a:pt x="2889" y="126"/>
                  <a:pt x="2905" y="136"/>
                </a:cubicBezTo>
                <a:cubicBezTo>
                  <a:pt x="2918" y="144"/>
                  <a:pt x="2945" y="160"/>
                  <a:pt x="2945" y="160"/>
                </a:cubicBezTo>
                <a:cubicBezTo>
                  <a:pt x="2974" y="204"/>
                  <a:pt x="2949" y="214"/>
                  <a:pt x="2937" y="264"/>
                </a:cubicBezTo>
                <a:cubicBezTo>
                  <a:pt x="2920" y="334"/>
                  <a:pt x="2897" y="389"/>
                  <a:pt x="2857" y="448"/>
                </a:cubicBezTo>
                <a:cubicBezTo>
                  <a:pt x="2774" y="439"/>
                  <a:pt x="2720" y="440"/>
                  <a:pt x="2649" y="416"/>
                </a:cubicBezTo>
                <a:cubicBezTo>
                  <a:pt x="2594" y="361"/>
                  <a:pt x="2482" y="352"/>
                  <a:pt x="2409" y="328"/>
                </a:cubicBezTo>
                <a:cubicBezTo>
                  <a:pt x="2142" y="337"/>
                  <a:pt x="2216" y="299"/>
                  <a:pt x="2089" y="384"/>
                </a:cubicBezTo>
                <a:cubicBezTo>
                  <a:pt x="2050" y="326"/>
                  <a:pt x="2046" y="264"/>
                  <a:pt x="2025" y="200"/>
                </a:cubicBezTo>
                <a:cubicBezTo>
                  <a:pt x="2028" y="147"/>
                  <a:pt x="2004" y="85"/>
                  <a:pt x="2033" y="40"/>
                </a:cubicBezTo>
                <a:cubicBezTo>
                  <a:pt x="2047" y="18"/>
                  <a:pt x="2075" y="73"/>
                  <a:pt x="2097" y="88"/>
                </a:cubicBezTo>
                <a:cubicBezTo>
                  <a:pt x="2118" y="102"/>
                  <a:pt x="2140" y="114"/>
                  <a:pt x="2161" y="128"/>
                </a:cubicBezTo>
                <a:cubicBezTo>
                  <a:pt x="2173" y="165"/>
                  <a:pt x="2161" y="195"/>
                  <a:pt x="2153" y="232"/>
                </a:cubicBezTo>
                <a:cubicBezTo>
                  <a:pt x="2140" y="289"/>
                  <a:pt x="2125" y="349"/>
                  <a:pt x="2097" y="400"/>
                </a:cubicBezTo>
                <a:cubicBezTo>
                  <a:pt x="2085" y="422"/>
                  <a:pt x="2071" y="443"/>
                  <a:pt x="2057" y="464"/>
                </a:cubicBezTo>
                <a:cubicBezTo>
                  <a:pt x="2052" y="472"/>
                  <a:pt x="2041" y="488"/>
                  <a:pt x="2041" y="488"/>
                </a:cubicBezTo>
                <a:cubicBezTo>
                  <a:pt x="2003" y="450"/>
                  <a:pt x="1966" y="413"/>
                  <a:pt x="1929" y="376"/>
                </a:cubicBezTo>
                <a:cubicBezTo>
                  <a:pt x="1920" y="367"/>
                  <a:pt x="1907" y="361"/>
                  <a:pt x="1897" y="352"/>
                </a:cubicBezTo>
                <a:cubicBezTo>
                  <a:pt x="1880" y="337"/>
                  <a:pt x="1849" y="304"/>
                  <a:pt x="1849" y="304"/>
                </a:cubicBezTo>
                <a:cubicBezTo>
                  <a:pt x="1839" y="274"/>
                  <a:pt x="1793" y="232"/>
                  <a:pt x="1769" y="208"/>
                </a:cubicBezTo>
                <a:cubicBezTo>
                  <a:pt x="1743" y="130"/>
                  <a:pt x="1738" y="196"/>
                  <a:pt x="1761" y="80"/>
                </a:cubicBezTo>
                <a:cubicBezTo>
                  <a:pt x="1777" y="88"/>
                  <a:pt x="1804" y="87"/>
                  <a:pt x="1809" y="104"/>
                </a:cubicBezTo>
                <a:cubicBezTo>
                  <a:pt x="1826" y="164"/>
                  <a:pt x="1783" y="343"/>
                  <a:pt x="1745" y="400"/>
                </a:cubicBezTo>
                <a:cubicBezTo>
                  <a:pt x="1638" y="382"/>
                  <a:pt x="1752" y="407"/>
                  <a:pt x="1657" y="368"/>
                </a:cubicBezTo>
                <a:cubicBezTo>
                  <a:pt x="1599" y="344"/>
                  <a:pt x="1545" y="332"/>
                  <a:pt x="1489" y="304"/>
                </a:cubicBezTo>
                <a:cubicBezTo>
                  <a:pt x="1448" y="249"/>
                  <a:pt x="1426" y="195"/>
                  <a:pt x="1417" y="128"/>
                </a:cubicBezTo>
                <a:cubicBezTo>
                  <a:pt x="1410" y="73"/>
                  <a:pt x="1417" y="32"/>
                  <a:pt x="1369" y="0"/>
                </a:cubicBezTo>
                <a:cubicBezTo>
                  <a:pt x="1353" y="65"/>
                  <a:pt x="1346" y="75"/>
                  <a:pt x="1361" y="160"/>
                </a:cubicBezTo>
                <a:cubicBezTo>
                  <a:pt x="1363" y="172"/>
                  <a:pt x="1373" y="181"/>
                  <a:pt x="1377" y="192"/>
                </a:cubicBezTo>
                <a:cubicBezTo>
                  <a:pt x="1429" y="332"/>
                  <a:pt x="1505" y="304"/>
                  <a:pt x="1657" y="312"/>
                </a:cubicBezTo>
                <a:cubicBezTo>
                  <a:pt x="1705" y="314"/>
                  <a:pt x="1753" y="317"/>
                  <a:pt x="1801" y="320"/>
                </a:cubicBezTo>
                <a:cubicBezTo>
                  <a:pt x="1879" y="346"/>
                  <a:pt x="1971" y="340"/>
                  <a:pt x="2049" y="344"/>
                </a:cubicBezTo>
                <a:cubicBezTo>
                  <a:pt x="2114" y="360"/>
                  <a:pt x="2174" y="391"/>
                  <a:pt x="2241" y="400"/>
                </a:cubicBezTo>
                <a:cubicBezTo>
                  <a:pt x="2302" y="408"/>
                  <a:pt x="2523" y="424"/>
                  <a:pt x="2529" y="424"/>
                </a:cubicBezTo>
                <a:cubicBezTo>
                  <a:pt x="2635" y="451"/>
                  <a:pt x="2698" y="465"/>
                  <a:pt x="2777" y="544"/>
                </a:cubicBezTo>
                <a:cubicBezTo>
                  <a:pt x="2789" y="605"/>
                  <a:pt x="2761" y="664"/>
                  <a:pt x="2737" y="720"/>
                </a:cubicBezTo>
                <a:cubicBezTo>
                  <a:pt x="2726" y="746"/>
                  <a:pt x="2725" y="775"/>
                  <a:pt x="2713" y="800"/>
                </a:cubicBezTo>
                <a:cubicBezTo>
                  <a:pt x="2697" y="833"/>
                  <a:pt x="2681" y="859"/>
                  <a:pt x="2657" y="888"/>
                </a:cubicBezTo>
                <a:cubicBezTo>
                  <a:pt x="2633" y="985"/>
                  <a:pt x="2566" y="1067"/>
                  <a:pt x="2529" y="1160"/>
                </a:cubicBezTo>
                <a:cubicBezTo>
                  <a:pt x="2487" y="1265"/>
                  <a:pt x="2439" y="1377"/>
                  <a:pt x="2417" y="1488"/>
                </a:cubicBezTo>
                <a:cubicBezTo>
                  <a:pt x="2420" y="1496"/>
                  <a:pt x="2417" y="1510"/>
                  <a:pt x="2425" y="1512"/>
                </a:cubicBezTo>
                <a:cubicBezTo>
                  <a:pt x="2434" y="1514"/>
                  <a:pt x="2442" y="1502"/>
                  <a:pt x="2449" y="1496"/>
                </a:cubicBezTo>
                <a:cubicBezTo>
                  <a:pt x="2511" y="1445"/>
                  <a:pt x="2437" y="1496"/>
                  <a:pt x="2497" y="1456"/>
                </a:cubicBezTo>
                <a:cubicBezTo>
                  <a:pt x="2508" y="1440"/>
                  <a:pt x="2518" y="1424"/>
                  <a:pt x="2529" y="1408"/>
                </a:cubicBezTo>
                <a:cubicBezTo>
                  <a:pt x="2534" y="1400"/>
                  <a:pt x="2545" y="1384"/>
                  <a:pt x="2545" y="1384"/>
                </a:cubicBezTo>
                <a:cubicBezTo>
                  <a:pt x="2577" y="1255"/>
                  <a:pt x="2603" y="1123"/>
                  <a:pt x="2625" y="992"/>
                </a:cubicBezTo>
                <a:cubicBezTo>
                  <a:pt x="2622" y="856"/>
                  <a:pt x="2615" y="720"/>
                  <a:pt x="2617" y="584"/>
                </a:cubicBezTo>
                <a:cubicBezTo>
                  <a:pt x="2617" y="562"/>
                  <a:pt x="2612" y="527"/>
                  <a:pt x="2633" y="520"/>
                </a:cubicBezTo>
                <a:cubicBezTo>
                  <a:pt x="2651" y="514"/>
                  <a:pt x="2654" y="552"/>
                  <a:pt x="2665" y="568"/>
                </a:cubicBezTo>
                <a:cubicBezTo>
                  <a:pt x="2673" y="581"/>
                  <a:pt x="2686" y="589"/>
                  <a:pt x="2697" y="600"/>
                </a:cubicBezTo>
                <a:cubicBezTo>
                  <a:pt x="2689" y="746"/>
                  <a:pt x="2695" y="713"/>
                  <a:pt x="2681" y="816"/>
                </a:cubicBezTo>
                <a:cubicBezTo>
                  <a:pt x="2675" y="860"/>
                  <a:pt x="2657" y="909"/>
                  <a:pt x="2657" y="952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2205000"/>
            <a:ext cx="4319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24360" y="1988640"/>
            <a:ext cx="19432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332000" y="220500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32000" y="1268280"/>
            <a:ext cx="194472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328464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EB0-AAAD-4616-8760-E4F49FED7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187200"/>
            <a:ext cx="8785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บ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ขึ้นในรัชกาล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ราขึ้นเมื่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8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ปกติต้องมีพระปรมาภิไธยของพระบาทสมเด็จพระเจ้าอยู่หัว แต่เนื่องจากทรงพระเยาว์จึงต้องมีคณะผู้สำเร็จราชการแทนพระองค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รมณ์ในการ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ับปรุงการรัษฎากรตามหลักความเป็นธรรมแก่สังค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เมื่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อดเวลาในการเตรีย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ต้องใช้บังค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8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ให้ใช้ประมวลรัษฎากรที่ตราไว้ต่อท้าย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 เป็นผลให้ประมวลรัษฎากรมีลำดับศักดิ์ของกฎหมายเป็นพระราชบัญญัติไปโดยปริยาย และกำหนดวันใช้บังคับ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397-F27B-46B3-9B76-61FBD9EC38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9280" y="187200"/>
            <a:ext cx="8785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บ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ประวัติศาสตร์การจัดเก็บภาษีอากรของไทยก่อ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8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โดยผ่าน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ck to the Fu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ฉพาะกา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การในช่วงเปลี่ยนแปล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itional Period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ัฐมนตรีว่าการกระทรวงการคลังเป็นผู้รักษาการตาม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มีเจ้าภา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จัดเก็บก่อนใช้ประมวลรัษฎากร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รัชชูปาการ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6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เก็บเงินค่านา 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การเก็บภาษีค่าที่ไร่อ้อย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ลี่ยนวิธีเก็บภาษียา 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0C0-A38E-4441-B60F-1836DB9C6D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9280" y="187200"/>
            <a:ext cx="8785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บ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จัดเก็บก่อนใช้ประมวลรัษฎากร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พระราชทาน ยกเงินอากรสวนใหญ่ค้างเก่า และเด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รวจต้นผลไม้ใหม่ สำหรับเก็บเงินอากรสวนใหญ่  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ค้า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5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ธนาคารและการประกันภัย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8A9-6E15-46EA-BC01-06128192A9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79280" y="86472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 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1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เบื้องต้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2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ฝ่ายสรรพ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5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บ็ดเสร็จทั่ว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= 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และบัญชีอัตรา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 = 11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และบัญชีอัตราอากรแสตมป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915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617-C789-4CC4-A66F-5B4B82ED17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เงินได้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 ภาษีเงินได้บุคคลธรรมด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 ภาษีเงินได้นิติบุคค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venue’s Code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หัสลับแห่งประมวลรัษฎ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F04-3BBE-449D-BE99-FF7C244458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16000" y="2997360"/>
            <a:ext cx="7201080" cy="273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290520"/>
            <a:ext cx="8713800" cy="636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476280"/>
            <a:ext cx="7991280" cy="520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1197000"/>
            <a:ext cx="7991280" cy="52984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101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58920" y="1773360"/>
            <a:ext cx="4032360" cy="477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2395440"/>
            <a:ext cx="6480000" cy="477720"/>
          </a:xfrm>
          <a:prstGeom prst="rect">
            <a:avLst/>
          </a:prstGeom>
          <a:solidFill>
            <a:srgbClr val="130c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5805360"/>
            <a:ext cx="7056360" cy="861480"/>
          </a:xfrm>
          <a:prstGeom prst="rect">
            <a:avLst/>
          </a:prstGeom>
          <a:solidFill>
            <a:srgbClr val="168f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และบัญชีอัตรา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42920" y="2997360"/>
            <a:ext cx="7416720" cy="2654280"/>
          </a:xfrm>
          <a:prstGeom prst="rect">
            <a:avLst/>
          </a:prstGeom>
          <a:gradFill rotWithShape="0">
            <a:gsLst>
              <a:gs pos="0">
                <a:srgbClr val="171775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3117960"/>
            <a:ext cx="5904000" cy="477720"/>
          </a:xfrm>
          <a:prstGeom prst="rect">
            <a:avLst/>
          </a:prstGeom>
          <a:solidFill>
            <a:srgbClr val="2b5b2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3765600"/>
            <a:ext cx="6408720" cy="861480"/>
          </a:xfrm>
          <a:prstGeom prst="rect">
            <a:avLst/>
          </a:prstGeom>
          <a:solidFill>
            <a:srgbClr val="518c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และบัญชีอัตราภาษีเงิน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4389480"/>
            <a:ext cx="4032360" cy="477720"/>
          </a:xfrm>
          <a:prstGeom prst="rect">
            <a:avLst/>
          </a:prstGeom>
          <a:solidFill>
            <a:srgbClr val="c713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58920" y="5037120"/>
            <a:ext cx="4032360" cy="477720"/>
          </a:xfrm>
          <a:prstGeom prst="rect">
            <a:avLst/>
          </a:prstGeom>
          <a:solidFill>
            <a:srgbClr val="b86f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20040" y="4603680"/>
            <a:ext cx="2552040" cy="520560"/>
          </a:xfrm>
          <a:prstGeom prst="rect">
            <a:avLst/>
          </a:prstGeom>
          <a:solidFill>
            <a:srgbClr val="130c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1280" y="4653000"/>
            <a:ext cx="431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291280" y="501336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20000" y="422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765-79EB-45D0-B3CD-C05ED47FC1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มประมวลรัษฎากรม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บำรุงท้องที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 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บำรุงท้อง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08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วยการประถมศึกษ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๘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ซื้อโภคภัณฑ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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9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ยกเลิกโดยพระราชบัญญัติแกไขเพิ่มเติ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๘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0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ซื้อขาว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6A2-FB49-4E5A-A105-286B4BB5EA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มประมวลรัษฎากรม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ซื้อน้ำตาล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9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โรงแรมภัตตาคา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9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เดิม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จัดเก็บภาษีอากรดังต่อไปนี้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 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มหรส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ป็นภาษีการค้าเมื่อป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ค้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– 9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ลี่ยนเป็น 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 มูลค่าเพิ่ม และ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C3B-62FB-4E53-B3D2-BAE5490B5F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84000" y="691920"/>
            <a:ext cx="41036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00720" y="1844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2720" y="213192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0920" y="21319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93080" y="21319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2421000"/>
            <a:ext cx="4032360" cy="350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ดั้งเดิม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lassical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32360" y="2440080"/>
            <a:ext cx="4032360" cy="29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ัยใหม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Modern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ๆ อาทิ คำสั่งกรมสรรพ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ที่ ท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/252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8E0-81A5-4134-846B-2C21DE352A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2200" y="11592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แบบดั้งเดิม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11280" y="981000"/>
          <a:ext cx="7848360" cy="5327640"/>
        </p:xfrm>
        <a:graphic>
          <a:graphicData uri="http://schemas.openxmlformats.org/drawingml/2006/table">
            <a:tbl>
              <a:tblPr/>
              <a:tblGrid>
                <a:gridCol w="2066760"/>
                <a:gridCol w="3355920"/>
                <a:gridCol w="242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่าน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ปล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ญ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ตต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ว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า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อ หรือ ฉ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ด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อง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าม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ี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็ด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ป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เอ็ด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8F4-6458-4A5D-8091-CAABE3F4FE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241280"/>
            <a:ext cx="4681440" cy="13687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601640"/>
            <a:ext cx="5472000" cy="17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167328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81764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74636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96380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2720" y="189072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03364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2720" y="2033640"/>
            <a:ext cx="5472000" cy="18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033640"/>
            <a:ext cx="547344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348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มวลรัษฎากร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Model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นมชั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560" y="1197000"/>
            <a:ext cx="4618080" cy="1341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1280" y="404280"/>
            <a:ext cx="3384360" cy="7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14640" y="404640"/>
            <a:ext cx="4464360" cy="64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73920" y="1413000"/>
            <a:ext cx="237636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560" y="2060640"/>
            <a:ext cx="547236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6000">
            <a:off x="817200" y="246816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560" y="2538360"/>
            <a:ext cx="547236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560" y="292572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560" y="3286080"/>
            <a:ext cx="547236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073920" y="1844640"/>
            <a:ext cx="237636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73920" y="2205000"/>
            <a:ext cx="237636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73920" y="2637000"/>
            <a:ext cx="2376360" cy="230472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73920" y="2925720"/>
            <a:ext cx="237636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560" y="3645000"/>
            <a:ext cx="5472360" cy="21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560" y="4122720"/>
            <a:ext cx="547236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73920" y="3357360"/>
            <a:ext cx="2376360" cy="24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73920" y="3689280"/>
            <a:ext cx="238572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60960" y="217800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268128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314360"/>
            <a:ext cx="4681440" cy="1366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386000"/>
            <a:ext cx="4681440" cy="136836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457280"/>
            <a:ext cx="4681440" cy="136836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1530360"/>
            <a:ext cx="4681440" cy="151128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1530360"/>
            <a:ext cx="4752720" cy="158256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457280"/>
            <a:ext cx="4681440" cy="1440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530360"/>
            <a:ext cx="4465800" cy="1440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224964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232236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39400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243216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70320" y="2465280"/>
            <a:ext cx="170676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253836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61000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38000">
            <a:off x="616320" y="192816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3920" y="2249640"/>
            <a:ext cx="0" cy="50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77080" y="109836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77080" y="116964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77080" y="124092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77080" y="131400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877080" y="138708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877080" y="1458720"/>
            <a:ext cx="1584360" cy="12222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77080" y="145872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4960" y="2386080"/>
            <a:ext cx="1687320" cy="731880"/>
          </a:xfrm>
          <a:custGeom>
            <a:avLst/>
            <a:gdLst/>
            <a:ahLst/>
            <a:rect l="l" t="t" r="r" b="b"/>
            <a:pathLst>
              <a:path w="4689" h="2035">
                <a:moveTo>
                  <a:pt x="14660" y="6697"/>
                </a:moveTo>
                <a:cubicBezTo>
                  <a:pt x="14697" y="6726"/>
                  <a:pt x="14711" y="6722"/>
                  <a:pt x="14759" y="6722"/>
                </a:cubicBezTo>
                <a:cubicBezTo>
                  <a:pt x="14916" y="6722"/>
                  <a:pt x="15073" y="6722"/>
                  <a:pt x="15230" y="6722"/>
                </a:cubicBezTo>
                <a:cubicBezTo>
                  <a:pt x="15243" y="6684"/>
                  <a:pt x="15259" y="6697"/>
                  <a:pt x="15304" y="6697"/>
                </a:cubicBezTo>
                <a:cubicBezTo>
                  <a:pt x="15329" y="6697"/>
                  <a:pt x="15337" y="6697"/>
                  <a:pt x="15354" y="6697"/>
                </a:cubicBezTo>
                <a:cubicBezTo>
                  <a:pt x="15367" y="6658"/>
                  <a:pt x="15366" y="6687"/>
                  <a:pt x="15379" y="6648"/>
                </a:cubicBezTo>
                <a:cubicBezTo>
                  <a:pt x="15404" y="6648"/>
                  <a:pt x="15412" y="6648"/>
                  <a:pt x="15429" y="6648"/>
                </a:cubicBezTo>
              </a:path>
              <a:path w="4689" h="2035">
                <a:moveTo>
                  <a:pt x="14759" y="7938"/>
                </a:moveTo>
                <a:cubicBezTo>
                  <a:pt x="14839" y="7938"/>
                  <a:pt x="14939" y="7922"/>
                  <a:pt x="14982" y="7913"/>
                </a:cubicBezTo>
                <a:cubicBezTo>
                  <a:pt x="15014" y="7907"/>
                  <a:pt x="15024" y="7895"/>
                  <a:pt x="15056" y="7888"/>
                </a:cubicBezTo>
                <a:cubicBezTo>
                  <a:pt x="15108" y="7877"/>
                  <a:pt x="15209" y="7867"/>
                  <a:pt x="15230" y="7863"/>
                </a:cubicBezTo>
                <a:cubicBezTo>
                  <a:pt x="15262" y="7857"/>
                  <a:pt x="15303" y="7805"/>
                  <a:pt x="15304" y="7838"/>
                </a:cubicBezTo>
                <a:cubicBezTo>
                  <a:pt x="15305" y="7856"/>
                  <a:pt x="15248" y="7854"/>
                  <a:pt x="15230" y="7863"/>
                </a:cubicBezTo>
                <a:cubicBezTo>
                  <a:pt x="15218" y="7869"/>
                  <a:pt x="15170" y="7901"/>
                  <a:pt x="15156" y="7913"/>
                </a:cubicBezTo>
                <a:cubicBezTo>
                  <a:pt x="15131" y="7933"/>
                  <a:pt x="15124" y="7935"/>
                  <a:pt x="15081" y="7938"/>
                </a:cubicBezTo>
                <a:cubicBezTo>
                  <a:pt x="15042" y="7940"/>
                  <a:pt x="14988" y="7961"/>
                  <a:pt x="14982" y="7962"/>
                </a:cubicBezTo>
                <a:cubicBezTo>
                  <a:pt x="14894" y="7979"/>
                  <a:pt x="14814" y="7957"/>
                  <a:pt x="14734" y="7987"/>
                </a:cubicBezTo>
                <a:cubicBezTo>
                  <a:pt x="14700" y="8000"/>
                  <a:pt x="14748" y="7969"/>
                  <a:pt x="14784" y="7962"/>
                </a:cubicBezTo>
                <a:cubicBezTo>
                  <a:pt x="14822" y="7955"/>
                  <a:pt x="14901" y="7939"/>
                  <a:pt x="14908" y="7938"/>
                </a:cubicBezTo>
                <a:cubicBezTo>
                  <a:pt x="14946" y="7931"/>
                  <a:pt x="15025" y="7914"/>
                  <a:pt x="15032" y="7913"/>
                </a:cubicBezTo>
                <a:cubicBezTo>
                  <a:pt x="15076" y="7904"/>
                  <a:pt x="15167" y="7891"/>
                  <a:pt x="15180" y="7888"/>
                </a:cubicBezTo>
                <a:cubicBezTo>
                  <a:pt x="15217" y="7880"/>
                  <a:pt x="15298" y="7864"/>
                  <a:pt x="15304" y="7863"/>
                </a:cubicBezTo>
                <a:cubicBezTo>
                  <a:pt x="15337" y="7856"/>
                  <a:pt x="15346" y="7845"/>
                  <a:pt x="15379" y="7838"/>
                </a:cubicBezTo>
                <a:cubicBezTo>
                  <a:pt x="15427" y="7828"/>
                  <a:pt x="15417" y="7820"/>
                  <a:pt x="15453" y="7813"/>
                </a:cubicBezTo>
                <a:cubicBezTo>
                  <a:pt x="15494" y="7805"/>
                  <a:pt x="15512" y="7797"/>
                  <a:pt x="15553" y="7789"/>
                </a:cubicBezTo>
                <a:cubicBezTo>
                  <a:pt x="15602" y="7780"/>
                  <a:pt x="15590" y="7771"/>
                  <a:pt x="15627" y="7764"/>
                </a:cubicBezTo>
                <a:cubicBezTo>
                  <a:pt x="15671" y="7755"/>
                  <a:pt x="15674" y="7761"/>
                  <a:pt x="15701" y="7739"/>
                </a:cubicBezTo>
                <a:cubicBezTo>
                  <a:pt x="15728" y="7717"/>
                  <a:pt x="15739" y="7732"/>
                  <a:pt x="15776" y="7714"/>
                </a:cubicBezTo>
                <a:cubicBezTo>
                  <a:pt x="15808" y="7698"/>
                  <a:pt x="15821" y="7687"/>
                  <a:pt x="15850" y="7665"/>
                </a:cubicBezTo>
                <a:cubicBezTo>
                  <a:pt x="15869" y="7650"/>
                  <a:pt x="15904" y="7632"/>
                  <a:pt x="15925" y="7615"/>
                </a:cubicBezTo>
                <a:cubicBezTo>
                  <a:pt x="15946" y="7598"/>
                  <a:pt x="15976" y="7583"/>
                  <a:pt x="15999" y="7565"/>
                </a:cubicBezTo>
                <a:cubicBezTo>
                  <a:pt x="16026" y="7544"/>
                  <a:pt x="16038" y="7559"/>
                  <a:pt x="16073" y="7541"/>
                </a:cubicBezTo>
                <a:cubicBezTo>
                  <a:pt x="16102" y="7526"/>
                  <a:pt x="16113" y="7534"/>
                  <a:pt x="16148" y="7516"/>
                </a:cubicBezTo>
                <a:cubicBezTo>
                  <a:pt x="16154" y="7513"/>
                  <a:pt x="16200" y="7502"/>
                  <a:pt x="16222" y="7491"/>
                </a:cubicBezTo>
                <a:cubicBezTo>
                  <a:pt x="16242" y="7481"/>
                  <a:pt x="16266" y="7447"/>
                  <a:pt x="16297" y="7441"/>
                </a:cubicBezTo>
                <a:cubicBezTo>
                  <a:pt x="16339" y="7432"/>
                  <a:pt x="16344" y="7438"/>
                  <a:pt x="16371" y="7417"/>
                </a:cubicBezTo>
                <a:cubicBezTo>
                  <a:pt x="16398" y="7395"/>
                  <a:pt x="16410" y="7410"/>
                  <a:pt x="16446" y="7392"/>
                </a:cubicBezTo>
                <a:cubicBezTo>
                  <a:pt x="16458" y="7386"/>
                  <a:pt x="16505" y="7354"/>
                  <a:pt x="16520" y="7342"/>
                </a:cubicBezTo>
                <a:cubicBezTo>
                  <a:pt x="16540" y="7326"/>
                  <a:pt x="16572" y="7311"/>
                  <a:pt x="16594" y="7293"/>
                </a:cubicBezTo>
                <a:cubicBezTo>
                  <a:pt x="16606" y="7284"/>
                  <a:pt x="16632" y="7255"/>
                  <a:pt x="16644" y="7243"/>
                </a:cubicBezTo>
                <a:cubicBezTo>
                  <a:pt x="16662" y="7225"/>
                  <a:pt x="16658" y="7214"/>
                  <a:pt x="16694" y="7193"/>
                </a:cubicBezTo>
              </a:path>
              <a:path w="4689" h="2035">
                <a:moveTo>
                  <a:pt x="17363" y="7466"/>
                </a:moveTo>
                <a:cubicBezTo>
                  <a:pt x="17375" y="7476"/>
                  <a:pt x="17405" y="7508"/>
                  <a:pt x="17438" y="7516"/>
                </a:cubicBezTo>
                <a:cubicBezTo>
                  <a:pt x="17489" y="7528"/>
                  <a:pt x="17484" y="7519"/>
                  <a:pt x="17512" y="7541"/>
                </a:cubicBezTo>
                <a:cubicBezTo>
                  <a:pt x="17537" y="7560"/>
                  <a:pt x="17544" y="7563"/>
                  <a:pt x="17587" y="7565"/>
                </a:cubicBezTo>
                <a:cubicBezTo>
                  <a:pt x="17699" y="7571"/>
                  <a:pt x="17811" y="7557"/>
                  <a:pt x="17909" y="7541"/>
                </a:cubicBezTo>
                <a:cubicBezTo>
                  <a:pt x="17942" y="7536"/>
                  <a:pt x="17951" y="7523"/>
                  <a:pt x="17983" y="7516"/>
                </a:cubicBezTo>
                <a:cubicBezTo>
                  <a:pt x="18024" y="7508"/>
                  <a:pt x="18042" y="7499"/>
                  <a:pt x="18083" y="7491"/>
                </a:cubicBezTo>
                <a:cubicBezTo>
                  <a:pt x="18126" y="7482"/>
                  <a:pt x="18130" y="7488"/>
                  <a:pt x="18157" y="7466"/>
                </a:cubicBezTo>
                <a:cubicBezTo>
                  <a:pt x="18183" y="7445"/>
                  <a:pt x="18175" y="7426"/>
                  <a:pt x="18207" y="7417"/>
                </a:cubicBezTo>
                <a:cubicBezTo>
                  <a:pt x="18249" y="7405"/>
                  <a:pt x="18253" y="7414"/>
                  <a:pt x="18281" y="7392"/>
                </a:cubicBezTo>
                <a:cubicBezTo>
                  <a:pt x="18293" y="7383"/>
                  <a:pt x="18320" y="7354"/>
                  <a:pt x="18331" y="7342"/>
                </a:cubicBezTo>
                <a:cubicBezTo>
                  <a:pt x="18349" y="7324"/>
                  <a:pt x="18377" y="7314"/>
                  <a:pt x="18405" y="7293"/>
                </a:cubicBezTo>
                <a:cubicBezTo>
                  <a:pt x="18424" y="7279"/>
                  <a:pt x="18458" y="7260"/>
                  <a:pt x="18479" y="7243"/>
                </a:cubicBezTo>
                <a:cubicBezTo>
                  <a:pt x="18500" y="7226"/>
                  <a:pt x="18531" y="7211"/>
                  <a:pt x="18554" y="7193"/>
                </a:cubicBezTo>
                <a:cubicBezTo>
                  <a:pt x="18565" y="7184"/>
                  <a:pt x="18593" y="7155"/>
                  <a:pt x="18604" y="7144"/>
                </a:cubicBezTo>
                <a:cubicBezTo>
                  <a:pt x="18627" y="7121"/>
                  <a:pt x="18652" y="7115"/>
                  <a:pt x="18678" y="7094"/>
                </a:cubicBezTo>
                <a:cubicBezTo>
                  <a:pt x="18698" y="7078"/>
                  <a:pt x="18730" y="7063"/>
                  <a:pt x="18752" y="7045"/>
                </a:cubicBezTo>
                <a:cubicBezTo>
                  <a:pt x="18779" y="7023"/>
                  <a:pt x="18790" y="7038"/>
                  <a:pt x="18827" y="7020"/>
                </a:cubicBezTo>
                <a:cubicBezTo>
                  <a:pt x="18860" y="7004"/>
                  <a:pt x="18872" y="6992"/>
                  <a:pt x="18901" y="6970"/>
                </a:cubicBezTo>
                <a:cubicBezTo>
                  <a:pt x="18914" y="6960"/>
                  <a:pt x="18948" y="6927"/>
                  <a:pt x="18976" y="6921"/>
                </a:cubicBezTo>
                <a:cubicBezTo>
                  <a:pt x="19008" y="6914"/>
                  <a:pt x="19018" y="6902"/>
                  <a:pt x="19050" y="6896"/>
                </a:cubicBezTo>
                <a:cubicBezTo>
                  <a:pt x="19094" y="6887"/>
                  <a:pt x="19097" y="6893"/>
                  <a:pt x="19124" y="6871"/>
                </a:cubicBezTo>
                <a:cubicBezTo>
                  <a:pt x="19150" y="6850"/>
                  <a:pt x="19145" y="6813"/>
                  <a:pt x="19149" y="6846"/>
                </a:cubicBezTo>
                <a:cubicBezTo>
                  <a:pt x="19154" y="6887"/>
                  <a:pt x="19141" y="6900"/>
                  <a:pt x="19124" y="6921"/>
                </a:cubicBezTo>
                <a:cubicBezTo>
                  <a:pt x="19115" y="6933"/>
                  <a:pt x="19087" y="6958"/>
                  <a:pt x="19075" y="6970"/>
                </a:cubicBezTo>
                <a:cubicBezTo>
                  <a:pt x="19062" y="6983"/>
                  <a:pt x="19038" y="6982"/>
                  <a:pt x="19025" y="6995"/>
                </a:cubicBezTo>
                <a:cubicBezTo>
                  <a:pt x="19069" y="6989"/>
                  <a:pt x="19074" y="6991"/>
                  <a:pt x="19100" y="6970"/>
                </a:cubicBezTo>
                <a:cubicBezTo>
                  <a:pt x="19112" y="6960"/>
                  <a:pt x="19136" y="6933"/>
                  <a:pt x="19149" y="6921"/>
                </a:cubicBezTo>
                <a:cubicBezTo>
                  <a:pt x="19133" y="6937"/>
                  <a:pt x="19116" y="6954"/>
                  <a:pt x="19100" y="6970"/>
                </a:cubicBezTo>
                <a:cubicBezTo>
                  <a:pt x="19092" y="6978"/>
                  <a:pt x="19054" y="7013"/>
                  <a:pt x="19050" y="7020"/>
                </a:cubicBezTo>
                <a:cubicBezTo>
                  <a:pt x="19027" y="7056"/>
                  <a:pt x="19007" y="7068"/>
                  <a:pt x="18976" y="7094"/>
                </a:cubicBezTo>
                <a:cubicBezTo>
                  <a:pt x="18955" y="7112"/>
                  <a:pt x="18924" y="7125"/>
                  <a:pt x="18901" y="7144"/>
                </a:cubicBezTo>
                <a:cubicBezTo>
                  <a:pt x="18874" y="7166"/>
                  <a:pt x="18864" y="7151"/>
                  <a:pt x="18827" y="7169"/>
                </a:cubicBezTo>
                <a:cubicBezTo>
                  <a:pt x="18799" y="7183"/>
                  <a:pt x="18786" y="7176"/>
                  <a:pt x="18752" y="7193"/>
                </a:cubicBezTo>
                <a:cubicBezTo>
                  <a:pt x="18740" y="7199"/>
                  <a:pt x="18693" y="7231"/>
                  <a:pt x="18678" y="7243"/>
                </a:cubicBezTo>
                <a:cubicBezTo>
                  <a:pt x="18657" y="7260"/>
                  <a:pt x="18627" y="7275"/>
                  <a:pt x="18604" y="7293"/>
                </a:cubicBezTo>
                <a:cubicBezTo>
                  <a:pt x="18592" y="7302"/>
                  <a:pt x="18566" y="7330"/>
                  <a:pt x="18554" y="7342"/>
                </a:cubicBezTo>
                <a:cubicBezTo>
                  <a:pt x="18537" y="7359"/>
                  <a:pt x="18521" y="7375"/>
                  <a:pt x="18504" y="7392"/>
                </a:cubicBezTo>
                <a:cubicBezTo>
                  <a:pt x="18488" y="7408"/>
                  <a:pt x="18471" y="7425"/>
                  <a:pt x="18455" y="7441"/>
                </a:cubicBezTo>
                <a:cubicBezTo>
                  <a:pt x="18430" y="7441"/>
                  <a:pt x="18422" y="7441"/>
                  <a:pt x="18430" y="7466"/>
                </a:cubicBezTo>
                <a:cubicBezTo>
                  <a:pt x="18453" y="7443"/>
                  <a:pt x="18448" y="7426"/>
                  <a:pt x="18479" y="7417"/>
                </a:cubicBezTo>
                <a:cubicBezTo>
                  <a:pt x="18522" y="7405"/>
                  <a:pt x="18526" y="7414"/>
                  <a:pt x="18554" y="7392"/>
                </a:cubicBezTo>
                <a:cubicBezTo>
                  <a:pt x="18581" y="7370"/>
                  <a:pt x="18592" y="7385"/>
                  <a:pt x="18628" y="7367"/>
                </a:cubicBezTo>
                <a:cubicBezTo>
                  <a:pt x="18629" y="7367"/>
                  <a:pt x="18673" y="7321"/>
                  <a:pt x="18678" y="7317"/>
                </a:cubicBezTo>
                <a:cubicBezTo>
                  <a:pt x="18702" y="7294"/>
                  <a:pt x="18718" y="7310"/>
                  <a:pt x="18752" y="7293"/>
                </a:cubicBezTo>
                <a:cubicBezTo>
                  <a:pt x="18764" y="7287"/>
                  <a:pt x="18812" y="7255"/>
                  <a:pt x="18827" y="7243"/>
                </a:cubicBezTo>
                <a:cubicBezTo>
                  <a:pt x="18827" y="7218"/>
                  <a:pt x="18827" y="7210"/>
                  <a:pt x="18852" y="7218"/>
                </a:cubicBezTo>
              </a:path>
              <a:path w="4689" h="2035">
                <a:moveTo>
                  <a:pt x="17239" y="6226"/>
                </a:moveTo>
                <a:cubicBezTo>
                  <a:pt x="17239" y="6258"/>
                  <a:pt x="17247" y="6292"/>
                  <a:pt x="17264" y="6300"/>
                </a:cubicBezTo>
                <a:cubicBezTo>
                  <a:pt x="17290" y="6313"/>
                  <a:pt x="17319" y="6323"/>
                  <a:pt x="17338" y="6325"/>
                </a:cubicBezTo>
                <a:cubicBezTo>
                  <a:pt x="17399" y="6333"/>
                  <a:pt x="17435" y="6333"/>
                  <a:pt x="17487" y="6350"/>
                </a:cubicBezTo>
                <a:cubicBezTo>
                  <a:pt x="17517" y="6360"/>
                  <a:pt x="17558" y="6372"/>
                  <a:pt x="17587" y="6375"/>
                </a:cubicBezTo>
                <a:cubicBezTo>
                  <a:pt x="17710" y="6389"/>
                  <a:pt x="17927" y="6391"/>
                  <a:pt x="18008" y="6350"/>
                </a:cubicBezTo>
                <a:cubicBezTo>
                  <a:pt x="18042" y="6333"/>
                  <a:pt x="18114" y="6334"/>
                  <a:pt x="18132" y="6325"/>
                </a:cubicBezTo>
                <a:cubicBezTo>
                  <a:pt x="18160" y="6311"/>
                  <a:pt x="18219" y="6306"/>
                  <a:pt x="18231" y="6300"/>
                </a:cubicBezTo>
                <a:cubicBezTo>
                  <a:pt x="18239" y="6300"/>
                  <a:pt x="18248" y="6300"/>
                  <a:pt x="18256" y="6300"/>
                </a:cubicBezTo>
                <a:cubicBezTo>
                  <a:pt x="18217" y="6310"/>
                  <a:pt x="18197" y="6343"/>
                  <a:pt x="18182" y="6350"/>
                </a:cubicBezTo>
                <a:cubicBezTo>
                  <a:pt x="18157" y="6363"/>
                  <a:pt x="18126" y="6373"/>
                  <a:pt x="18107" y="6375"/>
                </a:cubicBezTo>
                <a:cubicBezTo>
                  <a:pt x="18054" y="6382"/>
                  <a:pt x="18033" y="6388"/>
                  <a:pt x="18008" y="6400"/>
                </a:cubicBezTo>
                <a:cubicBezTo>
                  <a:pt x="17981" y="6413"/>
                  <a:pt x="17920" y="6419"/>
                  <a:pt x="17909" y="6424"/>
                </a:cubicBezTo>
                <a:cubicBezTo>
                  <a:pt x="17833" y="6461"/>
                  <a:pt x="17604" y="6420"/>
                  <a:pt x="17562" y="6400"/>
                </a:cubicBezTo>
                <a:cubicBezTo>
                  <a:pt x="17538" y="6389"/>
                  <a:pt x="17495" y="6379"/>
                  <a:pt x="17487" y="6375"/>
                </a:cubicBezTo>
                <a:cubicBezTo>
                  <a:pt x="17462" y="6362"/>
                  <a:pt x="17432" y="6352"/>
                  <a:pt x="17413" y="6350"/>
                </a:cubicBezTo>
                <a:cubicBezTo>
                  <a:pt x="17380" y="6346"/>
                  <a:pt x="17359" y="6351"/>
                  <a:pt x="17338" y="6325"/>
                </a:cubicBezTo>
                <a:cubicBezTo>
                  <a:pt x="17330" y="6316"/>
                  <a:pt x="17291" y="6280"/>
                  <a:pt x="17289" y="6276"/>
                </a:cubicBezTo>
                <a:cubicBezTo>
                  <a:pt x="17277" y="6251"/>
                  <a:pt x="17247" y="6241"/>
                  <a:pt x="17239" y="6226"/>
                </a:cubicBezTo>
                <a:cubicBezTo>
                  <a:pt x="17227" y="6202"/>
                  <a:pt x="17198" y="6191"/>
                  <a:pt x="17190" y="6176"/>
                </a:cubicBezTo>
                <a:cubicBezTo>
                  <a:pt x="17177" y="6150"/>
                  <a:pt x="17174" y="6131"/>
                  <a:pt x="17140" y="6127"/>
                </a:cubicBezTo>
                <a:cubicBezTo>
                  <a:pt x="17115" y="6127"/>
                  <a:pt x="17107" y="6127"/>
                  <a:pt x="17115" y="6102"/>
                </a:cubicBezTo>
                <a:cubicBezTo>
                  <a:pt x="17123" y="6125"/>
                  <a:pt x="17158" y="6141"/>
                  <a:pt x="17190" y="6152"/>
                </a:cubicBezTo>
                <a:cubicBezTo>
                  <a:pt x="17221" y="6162"/>
                  <a:pt x="17261" y="6167"/>
                  <a:pt x="17289" y="6176"/>
                </a:cubicBezTo>
                <a:cubicBezTo>
                  <a:pt x="17338" y="6192"/>
                  <a:pt x="17387" y="6188"/>
                  <a:pt x="17413" y="6201"/>
                </a:cubicBezTo>
                <a:cubicBezTo>
                  <a:pt x="17473" y="6231"/>
                  <a:pt x="17593" y="6204"/>
                  <a:pt x="17636" y="6226"/>
                </a:cubicBezTo>
                <a:cubicBezTo>
                  <a:pt x="17661" y="6239"/>
                  <a:pt x="17692" y="6249"/>
                  <a:pt x="17711" y="6251"/>
                </a:cubicBezTo>
                <a:cubicBezTo>
                  <a:pt x="17758" y="6257"/>
                  <a:pt x="17765" y="6266"/>
                  <a:pt x="17785" y="6276"/>
                </a:cubicBezTo>
                <a:cubicBezTo>
                  <a:pt x="17880" y="6323"/>
                  <a:pt x="18123" y="6276"/>
                  <a:pt x="18231" y="6276"/>
                </a:cubicBezTo>
                <a:cubicBezTo>
                  <a:pt x="18231" y="6222"/>
                  <a:pt x="18220" y="6294"/>
                  <a:pt x="18207" y="6300"/>
                </a:cubicBezTo>
                <a:cubicBezTo>
                  <a:pt x="18177" y="6314"/>
                  <a:pt x="18167" y="6319"/>
                  <a:pt x="18132" y="6350"/>
                </a:cubicBezTo>
                <a:cubicBezTo>
                  <a:pt x="18110" y="6369"/>
                  <a:pt x="18065" y="6420"/>
                  <a:pt x="18058" y="6424"/>
                </a:cubicBezTo>
                <a:cubicBezTo>
                  <a:pt x="18027" y="6439"/>
                  <a:pt x="18019" y="6440"/>
                  <a:pt x="18008" y="6474"/>
                </a:cubicBezTo>
              </a:path>
              <a:path w="4689" h="2035">
                <a:moveTo>
                  <a:pt x="17314" y="6970"/>
                </a:moveTo>
                <a:cubicBezTo>
                  <a:pt x="17314" y="7020"/>
                  <a:pt x="17328" y="7025"/>
                  <a:pt x="17338" y="7045"/>
                </a:cubicBezTo>
                <a:cubicBezTo>
                  <a:pt x="17355" y="7080"/>
                  <a:pt x="17359" y="7072"/>
                  <a:pt x="17388" y="7094"/>
                </a:cubicBezTo>
                <a:cubicBezTo>
                  <a:pt x="17426" y="7123"/>
                  <a:pt x="17439" y="7119"/>
                  <a:pt x="17487" y="7119"/>
                </a:cubicBezTo>
                <a:cubicBezTo>
                  <a:pt x="17538" y="7119"/>
                  <a:pt x="17541" y="7133"/>
                  <a:pt x="17562" y="7144"/>
                </a:cubicBezTo>
                <a:cubicBezTo>
                  <a:pt x="17570" y="7144"/>
                  <a:pt x="17579" y="7144"/>
                  <a:pt x="17587" y="7144"/>
                </a:cubicBezTo>
                <a:cubicBezTo>
                  <a:pt x="17565" y="7128"/>
                  <a:pt x="17517" y="7104"/>
                  <a:pt x="17512" y="7094"/>
                </a:cubicBezTo>
                <a:cubicBezTo>
                  <a:pt x="17501" y="7072"/>
                  <a:pt x="17464" y="7048"/>
                  <a:pt x="17438" y="7045"/>
                </a:cubicBezTo>
                <a:cubicBezTo>
                  <a:pt x="17422" y="7043"/>
                  <a:pt x="17385" y="7032"/>
                  <a:pt x="17363" y="7020"/>
                </a:cubicBezTo>
                <a:cubicBezTo>
                  <a:pt x="17321" y="6997"/>
                  <a:pt x="17315" y="6995"/>
                  <a:pt x="17264" y="6995"/>
                </a:cubicBezTo>
                <a:cubicBezTo>
                  <a:pt x="17225" y="6995"/>
                  <a:pt x="17245" y="6970"/>
                  <a:pt x="17190" y="6970"/>
                </a:cubicBezTo>
                <a:cubicBezTo>
                  <a:pt x="17182" y="6970"/>
                  <a:pt x="17173" y="6970"/>
                  <a:pt x="17165" y="6970"/>
                </a:cubicBezTo>
              </a:path>
              <a:path w="4689" h="2035">
                <a:moveTo>
                  <a:pt x="15429" y="6970"/>
                </a:moveTo>
                <a:cubicBezTo>
                  <a:pt x="15247" y="6970"/>
                  <a:pt x="15065" y="6970"/>
                  <a:pt x="14883" y="6970"/>
                </a:cubicBezTo>
              </a:path>
              <a:path w="4689" h="2035">
                <a:moveTo>
                  <a:pt x="16842" y="7317"/>
                </a:moveTo>
                <a:cubicBezTo>
                  <a:pt x="16850" y="7317"/>
                  <a:pt x="16859" y="7317"/>
                  <a:pt x="16867" y="7317"/>
                </a:cubicBezTo>
                <a:cubicBezTo>
                  <a:pt x="16867" y="7259"/>
                  <a:pt x="16867" y="7202"/>
                  <a:pt x="16867" y="7144"/>
                </a:cubicBezTo>
              </a:path>
              <a:path w="4689" h="2035">
                <a:moveTo>
                  <a:pt x="14858" y="8136"/>
                </a:moveTo>
                <a:cubicBezTo>
                  <a:pt x="14883" y="8136"/>
                  <a:pt x="14891" y="8136"/>
                  <a:pt x="14908" y="8136"/>
                </a:cubicBezTo>
                <a:cubicBezTo>
                  <a:pt x="14910" y="8135"/>
                  <a:pt x="14941" y="8119"/>
                  <a:pt x="14957" y="8111"/>
                </a:cubicBezTo>
                <a:cubicBezTo>
                  <a:pt x="14970" y="8107"/>
                  <a:pt x="14988" y="8088"/>
                  <a:pt x="15032" y="8086"/>
                </a:cubicBezTo>
                <a:cubicBezTo>
                  <a:pt x="15065" y="8085"/>
                  <a:pt x="15098" y="8086"/>
                  <a:pt x="15131" y="8086"/>
                </a:cubicBezTo>
                <a:cubicBezTo>
                  <a:pt x="15143" y="8082"/>
                  <a:pt x="15163" y="8064"/>
                  <a:pt x="15205" y="8062"/>
                </a:cubicBezTo>
                <a:cubicBezTo>
                  <a:pt x="15254" y="8060"/>
                  <a:pt x="15304" y="8062"/>
                  <a:pt x="15354" y="8062"/>
                </a:cubicBezTo>
                <a:cubicBezTo>
                  <a:pt x="15367" y="8058"/>
                  <a:pt x="15385" y="8039"/>
                  <a:pt x="15429" y="8037"/>
                </a:cubicBezTo>
                <a:cubicBezTo>
                  <a:pt x="15499" y="8034"/>
                  <a:pt x="15570" y="8019"/>
                  <a:pt x="15627" y="8012"/>
                </a:cubicBezTo>
                <a:cubicBezTo>
                  <a:pt x="15803" y="7990"/>
                  <a:pt x="15996" y="8012"/>
                  <a:pt x="16173" y="8012"/>
                </a:cubicBezTo>
                <a:cubicBezTo>
                  <a:pt x="16186" y="8008"/>
                  <a:pt x="16203" y="7989"/>
                  <a:pt x="16247" y="7987"/>
                </a:cubicBezTo>
                <a:cubicBezTo>
                  <a:pt x="16280" y="7986"/>
                  <a:pt x="16313" y="7987"/>
                  <a:pt x="16346" y="7987"/>
                </a:cubicBezTo>
                <a:cubicBezTo>
                  <a:pt x="16359" y="7983"/>
                  <a:pt x="16377" y="7964"/>
                  <a:pt x="16421" y="7962"/>
                </a:cubicBezTo>
                <a:cubicBezTo>
                  <a:pt x="16462" y="7960"/>
                  <a:pt x="16504" y="7962"/>
                  <a:pt x="16545" y="7962"/>
                </a:cubicBezTo>
                <a:cubicBezTo>
                  <a:pt x="16557" y="7958"/>
                  <a:pt x="16577" y="7940"/>
                  <a:pt x="16619" y="7938"/>
                </a:cubicBezTo>
                <a:cubicBezTo>
                  <a:pt x="16644" y="7937"/>
                  <a:pt x="16669" y="7938"/>
                  <a:pt x="16694" y="7938"/>
                </a:cubicBezTo>
                <a:cubicBezTo>
                  <a:pt x="16707" y="7934"/>
                  <a:pt x="16724" y="7915"/>
                  <a:pt x="16768" y="7913"/>
                </a:cubicBezTo>
                <a:cubicBezTo>
                  <a:pt x="16900" y="7907"/>
                  <a:pt x="17033" y="7913"/>
                  <a:pt x="17165" y="7913"/>
                </a:cubicBezTo>
                <a:cubicBezTo>
                  <a:pt x="17178" y="7909"/>
                  <a:pt x="17195" y="7890"/>
                  <a:pt x="17239" y="7888"/>
                </a:cubicBezTo>
                <a:cubicBezTo>
                  <a:pt x="17272" y="7887"/>
                  <a:pt x="17305" y="7888"/>
                  <a:pt x="17338" y="7888"/>
                </a:cubicBezTo>
                <a:cubicBezTo>
                  <a:pt x="17351" y="7884"/>
                  <a:pt x="17369" y="7865"/>
                  <a:pt x="17413" y="7863"/>
                </a:cubicBezTo>
                <a:cubicBezTo>
                  <a:pt x="17495" y="7860"/>
                  <a:pt x="17579" y="7863"/>
                  <a:pt x="17661" y="7863"/>
                </a:cubicBezTo>
                <a:cubicBezTo>
                  <a:pt x="17676" y="7858"/>
                  <a:pt x="17691" y="7841"/>
                  <a:pt x="17735" y="7838"/>
                </a:cubicBezTo>
                <a:cubicBezTo>
                  <a:pt x="17743" y="7838"/>
                  <a:pt x="17752" y="7838"/>
                  <a:pt x="17760" y="7838"/>
                </a:cubicBezTo>
                <a:cubicBezTo>
                  <a:pt x="17772" y="7834"/>
                  <a:pt x="17792" y="7815"/>
                  <a:pt x="17835" y="7813"/>
                </a:cubicBezTo>
                <a:cubicBezTo>
                  <a:pt x="17859" y="7813"/>
                  <a:pt x="17868" y="7813"/>
                  <a:pt x="17884" y="7813"/>
                </a:cubicBezTo>
                <a:cubicBezTo>
                  <a:pt x="17885" y="7812"/>
                  <a:pt x="17918" y="7797"/>
                  <a:pt x="17934" y="7789"/>
                </a:cubicBezTo>
                <a:cubicBezTo>
                  <a:pt x="17936" y="7788"/>
                  <a:pt x="17966" y="7772"/>
                  <a:pt x="17983" y="7764"/>
                </a:cubicBezTo>
                <a:cubicBezTo>
                  <a:pt x="17991" y="7760"/>
                  <a:pt x="18030" y="7723"/>
                  <a:pt x="18058" y="7714"/>
                </a:cubicBezTo>
                <a:cubicBezTo>
                  <a:pt x="18066" y="7714"/>
                  <a:pt x="18075" y="7714"/>
                  <a:pt x="18083" y="7714"/>
                </a:cubicBezTo>
                <a:cubicBezTo>
                  <a:pt x="18103" y="7697"/>
                  <a:pt x="18118" y="7682"/>
                  <a:pt x="18157" y="7665"/>
                </a:cubicBezTo>
                <a:cubicBezTo>
                  <a:pt x="18159" y="7664"/>
                  <a:pt x="18190" y="7648"/>
                  <a:pt x="18207" y="7640"/>
                </a:cubicBezTo>
                <a:cubicBezTo>
                  <a:pt x="18209" y="7639"/>
                  <a:pt x="18240" y="7623"/>
                  <a:pt x="18256" y="7615"/>
                </a:cubicBezTo>
                <a:cubicBezTo>
                  <a:pt x="18265" y="7609"/>
                  <a:pt x="18297" y="7571"/>
                  <a:pt x="18306" y="7565"/>
                </a:cubicBezTo>
              </a:path>
              <a:path w="4689" h="2035">
                <a:moveTo>
                  <a:pt x="15776" y="8012"/>
                </a:moveTo>
                <a:cubicBezTo>
                  <a:pt x="15784" y="8012"/>
                  <a:pt x="15793" y="8012"/>
                  <a:pt x="15801" y="8012"/>
                </a:cubicBezTo>
                <a:cubicBezTo>
                  <a:pt x="15813" y="7974"/>
                  <a:pt x="15830" y="7987"/>
                  <a:pt x="15875" y="7987"/>
                </a:cubicBezTo>
                <a:cubicBezTo>
                  <a:pt x="15900" y="7987"/>
                  <a:pt x="15908" y="7987"/>
                  <a:pt x="15925" y="7987"/>
                </a:cubicBezTo>
                <a:cubicBezTo>
                  <a:pt x="15937" y="7949"/>
                  <a:pt x="15954" y="7962"/>
                  <a:pt x="15999" y="7962"/>
                </a:cubicBezTo>
                <a:cubicBezTo>
                  <a:pt x="16007" y="7962"/>
                  <a:pt x="16016" y="7962"/>
                  <a:pt x="16024" y="7962"/>
                </a:cubicBezTo>
                <a:cubicBezTo>
                  <a:pt x="16037" y="7926"/>
                  <a:pt x="16054" y="7938"/>
                  <a:pt x="16098" y="7938"/>
                </a:cubicBezTo>
                <a:cubicBezTo>
                  <a:pt x="16110" y="7903"/>
                  <a:pt x="16105" y="7913"/>
                  <a:pt x="16148" y="7913"/>
                </a:cubicBezTo>
                <a:cubicBezTo>
                  <a:pt x="16161" y="7875"/>
                  <a:pt x="16177" y="7888"/>
                  <a:pt x="16222" y="7888"/>
                </a:cubicBezTo>
                <a:cubicBezTo>
                  <a:pt x="16230" y="7888"/>
                  <a:pt x="16239" y="7888"/>
                  <a:pt x="16247" y="7888"/>
                </a:cubicBezTo>
                <a:cubicBezTo>
                  <a:pt x="16260" y="7850"/>
                  <a:pt x="16276" y="7863"/>
                  <a:pt x="16321" y="7863"/>
                </a:cubicBezTo>
                <a:cubicBezTo>
                  <a:pt x="16329" y="7863"/>
                  <a:pt x="16338" y="7863"/>
                  <a:pt x="16346" y="7863"/>
                </a:cubicBezTo>
                <a:cubicBezTo>
                  <a:pt x="16359" y="7825"/>
                  <a:pt x="16376" y="7838"/>
                  <a:pt x="16421" y="7838"/>
                </a:cubicBezTo>
                <a:cubicBezTo>
                  <a:pt x="16433" y="7803"/>
                  <a:pt x="16428" y="7813"/>
                  <a:pt x="16470" y="7813"/>
                </a:cubicBezTo>
              </a:path>
              <a:path w="4689" h="2035">
                <a:moveTo>
                  <a:pt x="15801" y="7987"/>
                </a:moveTo>
                <a:cubicBezTo>
                  <a:pt x="15845" y="7987"/>
                  <a:pt x="15892" y="7964"/>
                  <a:pt x="15900" y="7962"/>
                </a:cubicBezTo>
                <a:cubicBezTo>
                  <a:pt x="15932" y="7956"/>
                  <a:pt x="15942" y="7944"/>
                  <a:pt x="15974" y="7938"/>
                </a:cubicBezTo>
                <a:cubicBezTo>
                  <a:pt x="16008" y="7931"/>
                  <a:pt x="16047" y="7918"/>
                  <a:pt x="16073" y="7913"/>
                </a:cubicBezTo>
                <a:cubicBezTo>
                  <a:pt x="16121" y="7903"/>
                  <a:pt x="16114" y="7906"/>
                  <a:pt x="16148" y="7888"/>
                </a:cubicBezTo>
                <a:cubicBezTo>
                  <a:pt x="16177" y="7872"/>
                  <a:pt x="16219" y="7877"/>
                  <a:pt x="16247" y="7863"/>
                </a:cubicBezTo>
                <a:cubicBezTo>
                  <a:pt x="16266" y="7853"/>
                  <a:pt x="16291" y="7819"/>
                  <a:pt x="16321" y="7813"/>
                </a:cubicBezTo>
                <a:cubicBezTo>
                  <a:pt x="16369" y="7803"/>
                  <a:pt x="16360" y="7796"/>
                  <a:pt x="16396" y="7789"/>
                </a:cubicBezTo>
                <a:cubicBezTo>
                  <a:pt x="16445" y="7780"/>
                  <a:pt x="16434" y="7771"/>
                  <a:pt x="16470" y="7764"/>
                </a:cubicBezTo>
                <a:cubicBezTo>
                  <a:pt x="16503" y="7757"/>
                  <a:pt x="16512" y="7746"/>
                  <a:pt x="16545" y="7739"/>
                </a:cubicBezTo>
                <a:cubicBezTo>
                  <a:pt x="16589" y="7730"/>
                  <a:pt x="16592" y="7736"/>
                  <a:pt x="16619" y="7714"/>
                </a:cubicBezTo>
                <a:cubicBezTo>
                  <a:pt x="16646" y="7692"/>
                  <a:pt x="16657" y="7707"/>
                  <a:pt x="16694" y="7689"/>
                </a:cubicBezTo>
                <a:cubicBezTo>
                  <a:pt x="16722" y="7675"/>
                  <a:pt x="16734" y="7682"/>
                  <a:pt x="16768" y="7665"/>
                </a:cubicBezTo>
                <a:cubicBezTo>
                  <a:pt x="16796" y="7651"/>
                  <a:pt x="16817" y="7635"/>
                  <a:pt x="16842" y="7615"/>
                </a:cubicBezTo>
                <a:cubicBezTo>
                  <a:pt x="16614" y="7798"/>
                  <a:pt x="16841" y="7614"/>
                  <a:pt x="16867" y="7590"/>
                </a:cubicBezTo>
                <a:cubicBezTo>
                  <a:pt x="16888" y="7570"/>
                  <a:pt x="16901" y="7567"/>
                  <a:pt x="16942" y="7565"/>
                </a:cubicBezTo>
                <a:cubicBezTo>
                  <a:pt x="16983" y="7563"/>
                  <a:pt x="16994" y="7573"/>
                  <a:pt x="17016" y="7590"/>
                </a:cubicBezTo>
                <a:cubicBezTo>
                  <a:pt x="17059" y="7624"/>
                  <a:pt x="17073" y="7595"/>
                  <a:pt x="17115" y="7615"/>
                </a:cubicBezTo>
                <a:cubicBezTo>
                  <a:pt x="17148" y="7631"/>
                  <a:pt x="17161" y="7643"/>
                  <a:pt x="17190" y="7665"/>
                </a:cubicBezTo>
                <a:cubicBezTo>
                  <a:pt x="17200" y="7673"/>
                  <a:pt x="17228" y="7703"/>
                  <a:pt x="17239" y="7714"/>
                </a:cubicBezTo>
                <a:cubicBezTo>
                  <a:pt x="17260" y="7735"/>
                  <a:pt x="17278" y="7735"/>
                  <a:pt x="17314" y="7764"/>
                </a:cubicBezTo>
                <a:cubicBezTo>
                  <a:pt x="17339" y="7785"/>
                  <a:pt x="17332" y="7804"/>
                  <a:pt x="17363" y="7813"/>
                </a:cubicBezTo>
                <a:cubicBezTo>
                  <a:pt x="17390" y="7821"/>
                  <a:pt x="17442" y="7834"/>
                  <a:pt x="17462" y="7838"/>
                </a:cubicBezTo>
                <a:cubicBezTo>
                  <a:pt x="17501" y="7846"/>
                  <a:pt x="17526" y="7857"/>
                  <a:pt x="17562" y="7863"/>
                </a:cubicBezTo>
                <a:cubicBezTo>
                  <a:pt x="17586" y="7867"/>
                  <a:pt x="17563" y="7863"/>
                  <a:pt x="17587" y="7863"/>
                </a:cubicBezTo>
                <a:cubicBezTo>
                  <a:pt x="17422" y="7863"/>
                  <a:pt x="17215" y="7863"/>
                  <a:pt x="17090" y="7838"/>
                </a:cubicBezTo>
                <a:cubicBezTo>
                  <a:pt x="17022" y="7824"/>
                  <a:pt x="16903" y="7820"/>
                  <a:pt x="16867" y="7813"/>
                </a:cubicBezTo>
                <a:cubicBezTo>
                  <a:pt x="16827" y="7805"/>
                  <a:pt x="16808" y="7797"/>
                  <a:pt x="16768" y="7789"/>
                </a:cubicBezTo>
                <a:cubicBezTo>
                  <a:pt x="16678" y="7772"/>
                  <a:pt x="16548" y="7798"/>
                  <a:pt x="16495" y="7813"/>
                </a:cubicBezTo>
                <a:cubicBezTo>
                  <a:pt x="16487" y="7813"/>
                  <a:pt x="16478" y="7813"/>
                  <a:pt x="16470" y="7813"/>
                </a:cubicBezTo>
                <a:cubicBezTo>
                  <a:pt x="16503" y="7809"/>
                  <a:pt x="16513" y="7795"/>
                  <a:pt x="16545" y="7789"/>
                </a:cubicBezTo>
                <a:cubicBezTo>
                  <a:pt x="16602" y="7778"/>
                  <a:pt x="16670" y="7774"/>
                  <a:pt x="16718" y="7764"/>
                </a:cubicBezTo>
                <a:cubicBezTo>
                  <a:pt x="16752" y="7757"/>
                  <a:pt x="16792" y="7744"/>
                  <a:pt x="16818" y="7739"/>
                </a:cubicBezTo>
                <a:cubicBezTo>
                  <a:pt x="16852" y="7732"/>
                  <a:pt x="16891" y="7719"/>
                  <a:pt x="16917" y="7714"/>
                </a:cubicBezTo>
                <a:cubicBezTo>
                  <a:pt x="16949" y="7707"/>
                  <a:pt x="16959" y="7695"/>
                  <a:pt x="16991" y="7689"/>
                </a:cubicBezTo>
                <a:cubicBezTo>
                  <a:pt x="17058" y="7676"/>
                  <a:pt x="17112" y="7703"/>
                  <a:pt x="17165" y="7714"/>
                </a:cubicBezTo>
                <a:cubicBezTo>
                  <a:pt x="17209" y="7723"/>
                  <a:pt x="17212" y="7717"/>
                  <a:pt x="17239" y="7739"/>
                </a:cubicBezTo>
                <a:cubicBezTo>
                  <a:pt x="17252" y="7749"/>
                  <a:pt x="17276" y="7776"/>
                  <a:pt x="17289" y="7789"/>
                </a:cubicBezTo>
                <a:cubicBezTo>
                  <a:pt x="17301" y="7801"/>
                  <a:pt x="17302" y="7826"/>
                  <a:pt x="17314" y="7838"/>
                </a:cubicBezTo>
                <a:cubicBezTo>
                  <a:pt x="17264" y="7838"/>
                  <a:pt x="17205" y="7816"/>
                  <a:pt x="17190" y="7813"/>
                </a:cubicBezTo>
                <a:cubicBezTo>
                  <a:pt x="17158" y="7806"/>
                  <a:pt x="17147" y="7795"/>
                  <a:pt x="17115" y="7789"/>
                </a:cubicBezTo>
                <a:cubicBezTo>
                  <a:pt x="17083" y="7783"/>
                  <a:pt x="17073" y="7770"/>
                  <a:pt x="17041" y="7764"/>
                </a:cubicBezTo>
                <a:cubicBezTo>
                  <a:pt x="16976" y="7751"/>
                  <a:pt x="16899" y="7764"/>
                  <a:pt x="16842" y="7789"/>
                </a:cubicBezTo>
                <a:cubicBezTo>
                  <a:pt x="16799" y="7808"/>
                  <a:pt x="16758" y="7852"/>
                  <a:pt x="16718" y="7863"/>
                </a:cubicBezTo>
                <a:cubicBezTo>
                  <a:pt x="16676" y="7874"/>
                  <a:pt x="16672" y="7866"/>
                  <a:pt x="16644" y="7888"/>
                </a:cubicBezTo>
                <a:cubicBezTo>
                  <a:pt x="16617" y="7910"/>
                  <a:pt x="16606" y="7895"/>
                  <a:pt x="16570" y="7913"/>
                </a:cubicBezTo>
                <a:cubicBezTo>
                  <a:pt x="16540" y="7928"/>
                  <a:pt x="16531" y="7920"/>
                  <a:pt x="16495" y="7938"/>
                </a:cubicBezTo>
                <a:cubicBezTo>
                  <a:pt x="16475" y="7948"/>
                  <a:pt x="16469" y="7959"/>
                  <a:pt x="16421" y="7962"/>
                </a:cubicBezTo>
                <a:cubicBezTo>
                  <a:pt x="16349" y="7966"/>
                  <a:pt x="16390" y="7979"/>
                  <a:pt x="16421" y="7962"/>
                </a:cubicBezTo>
                <a:cubicBezTo>
                  <a:pt x="16435" y="7955"/>
                  <a:pt x="16479" y="7926"/>
                  <a:pt x="16495" y="7913"/>
                </a:cubicBezTo>
                <a:cubicBezTo>
                  <a:pt x="16522" y="7891"/>
                  <a:pt x="16534" y="7906"/>
                  <a:pt x="16570" y="7888"/>
                </a:cubicBezTo>
                <a:cubicBezTo>
                  <a:pt x="16598" y="7874"/>
                  <a:pt x="16609" y="7881"/>
                  <a:pt x="16644" y="7863"/>
                </a:cubicBezTo>
                <a:cubicBezTo>
                  <a:pt x="16674" y="7848"/>
                  <a:pt x="16670" y="7837"/>
                  <a:pt x="16694" y="7813"/>
                </a:cubicBezTo>
                <a:cubicBezTo>
                  <a:pt x="16716" y="7791"/>
                  <a:pt x="16743" y="7784"/>
                  <a:pt x="16768" y="7764"/>
                </a:cubicBezTo>
                <a:cubicBezTo>
                  <a:pt x="16788" y="7748"/>
                  <a:pt x="16791" y="7726"/>
                  <a:pt x="16793" y="7689"/>
                </a:cubicBezTo>
                <a:cubicBezTo>
                  <a:pt x="16795" y="7655"/>
                  <a:pt x="16818" y="7616"/>
                  <a:pt x="16818" y="7615"/>
                </a:cubicBezTo>
                <a:cubicBezTo>
                  <a:pt x="16825" y="7578"/>
                  <a:pt x="16839" y="7525"/>
                  <a:pt x="16842" y="7516"/>
                </a:cubicBezTo>
                <a:cubicBezTo>
                  <a:pt x="16842" y="7508"/>
                  <a:pt x="16842" y="7499"/>
                  <a:pt x="16842" y="7491"/>
                </a:cubicBezTo>
                <a:cubicBezTo>
                  <a:pt x="16814" y="7502"/>
                  <a:pt x="16769" y="7503"/>
                  <a:pt x="16743" y="7516"/>
                </a:cubicBezTo>
                <a:cubicBezTo>
                  <a:pt x="16712" y="7531"/>
                  <a:pt x="16685" y="7551"/>
                  <a:pt x="16669" y="7565"/>
                </a:cubicBezTo>
                <a:cubicBezTo>
                  <a:pt x="16636" y="7595"/>
                  <a:pt x="16616" y="7595"/>
                  <a:pt x="16594" y="7615"/>
                </a:cubicBezTo>
                <a:cubicBezTo>
                  <a:pt x="16563" y="7644"/>
                  <a:pt x="16526" y="7644"/>
                  <a:pt x="16495" y="7665"/>
                </a:cubicBezTo>
                <a:cubicBezTo>
                  <a:pt x="16476" y="7678"/>
                  <a:pt x="16453" y="7673"/>
                  <a:pt x="16421" y="7689"/>
                </a:cubicBezTo>
                <a:cubicBezTo>
                  <a:pt x="16391" y="7704"/>
                  <a:pt x="16395" y="7715"/>
                  <a:pt x="16371" y="7739"/>
                </a:cubicBezTo>
                <a:cubicBezTo>
                  <a:pt x="16347" y="7763"/>
                  <a:pt x="16332" y="7747"/>
                  <a:pt x="16297" y="7764"/>
                </a:cubicBezTo>
                <a:cubicBezTo>
                  <a:pt x="16285" y="7770"/>
                  <a:pt x="16237" y="7801"/>
                  <a:pt x="16222" y="7813"/>
                </a:cubicBezTo>
                <a:cubicBezTo>
                  <a:pt x="16188" y="7840"/>
                  <a:pt x="16169" y="7844"/>
                  <a:pt x="16148" y="7863"/>
                </a:cubicBezTo>
                <a:cubicBezTo>
                  <a:pt x="16128" y="7881"/>
                  <a:pt x="16117" y="7894"/>
                  <a:pt x="16098" y="7913"/>
                </a:cubicBezTo>
                <a:cubicBezTo>
                  <a:pt x="16073" y="7913"/>
                  <a:pt x="16065" y="7913"/>
                  <a:pt x="16098" y="7913"/>
                </a:cubicBezTo>
                <a:cubicBezTo>
                  <a:pt x="16150" y="7906"/>
                  <a:pt x="16134" y="7896"/>
                  <a:pt x="16173" y="7888"/>
                </a:cubicBezTo>
                <a:cubicBezTo>
                  <a:pt x="16221" y="7878"/>
                  <a:pt x="16210" y="7870"/>
                  <a:pt x="16247" y="7863"/>
                </a:cubicBezTo>
                <a:cubicBezTo>
                  <a:pt x="16295" y="7853"/>
                  <a:pt x="16285" y="7845"/>
                  <a:pt x="16321" y="7838"/>
                </a:cubicBezTo>
                <a:cubicBezTo>
                  <a:pt x="16354" y="7831"/>
                  <a:pt x="16363" y="7820"/>
                  <a:pt x="16396" y="7813"/>
                </a:cubicBezTo>
                <a:cubicBezTo>
                  <a:pt x="16428" y="7807"/>
                  <a:pt x="16438" y="7795"/>
                  <a:pt x="16470" y="7789"/>
                </a:cubicBezTo>
                <a:cubicBezTo>
                  <a:pt x="16501" y="7783"/>
                  <a:pt x="16570" y="7764"/>
                  <a:pt x="16570" y="7764"/>
                </a:cubicBezTo>
                <a:cubicBezTo>
                  <a:pt x="16602" y="7757"/>
                  <a:pt x="16612" y="7745"/>
                  <a:pt x="16644" y="7739"/>
                </a:cubicBezTo>
                <a:cubicBezTo>
                  <a:pt x="16688" y="7730"/>
                  <a:pt x="16691" y="7736"/>
                  <a:pt x="16718" y="7714"/>
                </a:cubicBezTo>
                <a:cubicBezTo>
                  <a:pt x="16731" y="7703"/>
                  <a:pt x="16770" y="7682"/>
                  <a:pt x="16793" y="7665"/>
                </a:cubicBezTo>
                <a:cubicBezTo>
                  <a:pt x="16797" y="7662"/>
                  <a:pt x="16838" y="7592"/>
                  <a:pt x="16842" y="7590"/>
                </a:cubicBezTo>
                <a:cubicBezTo>
                  <a:pt x="16889" y="7566"/>
                  <a:pt x="16957" y="7613"/>
                  <a:pt x="16966" y="7615"/>
                </a:cubicBezTo>
                <a:cubicBezTo>
                  <a:pt x="17024" y="7627"/>
                  <a:pt x="17034" y="7614"/>
                  <a:pt x="17066" y="7640"/>
                </a:cubicBezTo>
                <a:cubicBezTo>
                  <a:pt x="17093" y="7662"/>
                  <a:pt x="17103" y="7647"/>
                  <a:pt x="17140" y="7665"/>
                </a:cubicBezTo>
                <a:cubicBezTo>
                  <a:pt x="17154" y="7672"/>
                  <a:pt x="17176" y="7705"/>
                  <a:pt x="17214" y="7714"/>
                </a:cubicBezTo>
                <a:cubicBezTo>
                  <a:pt x="17258" y="7724"/>
                  <a:pt x="17261" y="7717"/>
                  <a:pt x="17289" y="7739"/>
                </a:cubicBezTo>
                <a:cubicBezTo>
                  <a:pt x="17316" y="7761"/>
                  <a:pt x="17327" y="7746"/>
                  <a:pt x="17363" y="7764"/>
                </a:cubicBezTo>
                <a:cubicBezTo>
                  <a:pt x="17392" y="7779"/>
                  <a:pt x="17467" y="7793"/>
                  <a:pt x="17487" y="7813"/>
                </a:cubicBezTo>
                <a:cubicBezTo>
                  <a:pt x="17479" y="7813"/>
                  <a:pt x="17470" y="7813"/>
                  <a:pt x="17462" y="7813"/>
                </a:cubicBezTo>
              </a:path>
              <a:path w="4689" h="2035">
                <a:moveTo>
                  <a:pt x="16644" y="7888"/>
                </a:moveTo>
                <a:cubicBezTo>
                  <a:pt x="16598" y="7888"/>
                  <a:pt x="16586" y="7908"/>
                  <a:pt x="16545" y="7913"/>
                </a:cubicBezTo>
                <a:cubicBezTo>
                  <a:pt x="16512" y="7917"/>
                  <a:pt x="16491" y="7912"/>
                  <a:pt x="16470" y="7938"/>
                </a:cubicBezTo>
                <a:cubicBezTo>
                  <a:pt x="16447" y="7965"/>
                  <a:pt x="16448" y="7962"/>
                  <a:pt x="16396" y="7962"/>
                </a:cubicBezTo>
                <a:cubicBezTo>
                  <a:pt x="16357" y="7962"/>
                  <a:pt x="16376" y="7987"/>
                  <a:pt x="16321" y="7987"/>
                </a:cubicBezTo>
                <a:cubicBezTo>
                  <a:pt x="16283" y="7987"/>
                  <a:pt x="16301" y="8012"/>
                  <a:pt x="16247" y="8012"/>
                </a:cubicBezTo>
                <a:cubicBezTo>
                  <a:pt x="16195" y="8012"/>
                  <a:pt x="16194" y="8026"/>
                  <a:pt x="16173" y="8037"/>
                </a:cubicBezTo>
                <a:cubicBezTo>
                  <a:pt x="16126" y="8061"/>
                  <a:pt x="16003" y="8037"/>
                  <a:pt x="15949" y="8037"/>
                </a:cubicBezTo>
                <a:cubicBezTo>
                  <a:pt x="15909" y="8037"/>
                  <a:pt x="15967" y="8016"/>
                  <a:pt x="15974" y="8012"/>
                </a:cubicBezTo>
                <a:cubicBezTo>
                  <a:pt x="15999" y="7999"/>
                  <a:pt x="16030" y="7989"/>
                  <a:pt x="16049" y="7987"/>
                </a:cubicBezTo>
                <a:cubicBezTo>
                  <a:pt x="16082" y="7983"/>
                  <a:pt x="16102" y="7987"/>
                  <a:pt x="16123" y="7962"/>
                </a:cubicBezTo>
                <a:cubicBezTo>
                  <a:pt x="16142" y="7939"/>
                  <a:pt x="16135" y="7918"/>
                  <a:pt x="16173" y="7913"/>
                </a:cubicBezTo>
                <a:cubicBezTo>
                  <a:pt x="16213" y="7908"/>
                  <a:pt x="16191" y="7888"/>
                  <a:pt x="16247" y="7888"/>
                </a:cubicBezTo>
                <a:cubicBezTo>
                  <a:pt x="16280" y="7888"/>
                  <a:pt x="16301" y="7889"/>
                  <a:pt x="16321" y="7863"/>
                </a:cubicBezTo>
                <a:cubicBezTo>
                  <a:pt x="16335" y="7845"/>
                  <a:pt x="16360" y="7825"/>
                  <a:pt x="16396" y="7813"/>
                </a:cubicBezTo>
                <a:cubicBezTo>
                  <a:pt x="16439" y="7799"/>
                  <a:pt x="16431" y="7833"/>
                  <a:pt x="16446" y="7789"/>
                </a:cubicBezTo>
                <a:cubicBezTo>
                  <a:pt x="16510" y="7789"/>
                  <a:pt x="16407" y="7789"/>
                  <a:pt x="16396" y="7789"/>
                </a:cubicBezTo>
                <a:cubicBezTo>
                  <a:pt x="16340" y="7789"/>
                  <a:pt x="16318" y="7798"/>
                  <a:pt x="16272" y="7813"/>
                </a:cubicBezTo>
                <a:cubicBezTo>
                  <a:pt x="16231" y="7826"/>
                  <a:pt x="16193" y="7838"/>
                  <a:pt x="16148" y="7838"/>
                </a:cubicBezTo>
                <a:cubicBezTo>
                  <a:pt x="16092" y="7838"/>
                  <a:pt x="16074" y="7850"/>
                  <a:pt x="16049" y="7863"/>
                </a:cubicBezTo>
                <a:cubicBezTo>
                  <a:pt x="16020" y="7878"/>
                  <a:pt x="15963" y="7881"/>
                  <a:pt x="15949" y="7888"/>
                </a:cubicBezTo>
                <a:cubicBezTo>
                  <a:pt x="15925" y="7901"/>
                  <a:pt x="15893" y="7911"/>
                  <a:pt x="15875" y="7913"/>
                </a:cubicBezTo>
                <a:cubicBezTo>
                  <a:pt x="15875" y="7913"/>
                  <a:pt x="15803" y="7936"/>
                  <a:pt x="15801" y="7938"/>
                </a:cubicBezTo>
                <a:cubicBezTo>
                  <a:pt x="15781" y="7963"/>
                  <a:pt x="15762" y="7954"/>
                  <a:pt x="15751" y="7987"/>
                </a:cubicBezTo>
                <a:cubicBezTo>
                  <a:pt x="15803" y="7987"/>
                  <a:pt x="15804" y="7973"/>
                  <a:pt x="15825" y="7962"/>
                </a:cubicBezTo>
                <a:cubicBezTo>
                  <a:pt x="15864" y="7942"/>
                  <a:pt x="15951" y="7949"/>
                  <a:pt x="15974" y="7938"/>
                </a:cubicBezTo>
                <a:cubicBezTo>
                  <a:pt x="15999" y="7926"/>
                  <a:pt x="16040" y="7918"/>
                  <a:pt x="16049" y="7913"/>
                </a:cubicBezTo>
                <a:cubicBezTo>
                  <a:pt x="16070" y="7902"/>
                  <a:pt x="16117" y="7891"/>
                  <a:pt x="16123" y="7888"/>
                </a:cubicBezTo>
                <a:cubicBezTo>
                  <a:pt x="16145" y="7877"/>
                  <a:pt x="16190" y="7866"/>
                  <a:pt x="16197" y="7863"/>
                </a:cubicBezTo>
                <a:cubicBezTo>
                  <a:pt x="16226" y="7848"/>
                  <a:pt x="16283" y="7845"/>
                  <a:pt x="16297" y="7838"/>
                </a:cubicBezTo>
                <a:cubicBezTo>
                  <a:pt x="16318" y="7827"/>
                  <a:pt x="16365" y="7816"/>
                  <a:pt x="16371" y="7813"/>
                </a:cubicBezTo>
                <a:cubicBezTo>
                  <a:pt x="16398" y="7800"/>
                  <a:pt x="16459" y="7794"/>
                  <a:pt x="16470" y="7789"/>
                </a:cubicBezTo>
                <a:cubicBezTo>
                  <a:pt x="16494" y="7778"/>
                  <a:pt x="16538" y="7768"/>
                  <a:pt x="16545" y="7764"/>
                </a:cubicBezTo>
                <a:cubicBezTo>
                  <a:pt x="16570" y="7751"/>
                  <a:pt x="16600" y="7741"/>
                  <a:pt x="16619" y="7739"/>
                </a:cubicBezTo>
                <a:cubicBezTo>
                  <a:pt x="16644" y="7739"/>
                  <a:pt x="16652" y="7739"/>
                  <a:pt x="16669" y="7739"/>
                </a:cubicBezTo>
              </a:path>
              <a:path w="4689" h="2035">
                <a:moveTo>
                  <a:pt x="15280" y="8062"/>
                </a:moveTo>
                <a:cubicBezTo>
                  <a:pt x="15280" y="8054"/>
                  <a:pt x="15280" y="8045"/>
                  <a:pt x="15280" y="8037"/>
                </a:cubicBezTo>
                <a:cubicBezTo>
                  <a:pt x="15317" y="8024"/>
                  <a:pt x="15301" y="8012"/>
                  <a:pt x="15354" y="8012"/>
                </a:cubicBezTo>
                <a:cubicBezTo>
                  <a:pt x="15362" y="8012"/>
                  <a:pt x="15371" y="8012"/>
                  <a:pt x="15379" y="8012"/>
                </a:cubicBezTo>
                <a:cubicBezTo>
                  <a:pt x="15392" y="8050"/>
                  <a:pt x="15408" y="8037"/>
                  <a:pt x="15453" y="8037"/>
                </a:cubicBezTo>
                <a:cubicBezTo>
                  <a:pt x="15536" y="8037"/>
                  <a:pt x="15618" y="8037"/>
                  <a:pt x="15701" y="8037"/>
                </a:cubicBezTo>
                <a:cubicBezTo>
                  <a:pt x="15714" y="8075"/>
                  <a:pt x="15731" y="8062"/>
                  <a:pt x="15776" y="8062"/>
                </a:cubicBezTo>
                <a:cubicBezTo>
                  <a:pt x="15801" y="8062"/>
                  <a:pt x="15825" y="8062"/>
                  <a:pt x="15850" y="8062"/>
                </a:cubicBezTo>
              </a:path>
              <a:path w="4689" h="2035">
                <a:moveTo>
                  <a:pt x="15280" y="8111"/>
                </a:moveTo>
                <a:cubicBezTo>
                  <a:pt x="15304" y="8111"/>
                  <a:pt x="15313" y="8111"/>
                  <a:pt x="15329" y="8111"/>
                </a:cubicBezTo>
                <a:cubicBezTo>
                  <a:pt x="15353" y="8097"/>
                  <a:pt x="15351" y="8089"/>
                  <a:pt x="15404" y="8086"/>
                </a:cubicBezTo>
                <a:cubicBezTo>
                  <a:pt x="15461" y="8083"/>
                  <a:pt x="15520" y="8086"/>
                  <a:pt x="15577" y="8086"/>
                </a:cubicBezTo>
                <a:cubicBezTo>
                  <a:pt x="15600" y="8073"/>
                  <a:pt x="15601" y="8065"/>
                  <a:pt x="15652" y="8062"/>
                </a:cubicBezTo>
                <a:cubicBezTo>
                  <a:pt x="15701" y="8059"/>
                  <a:pt x="15738" y="8043"/>
                  <a:pt x="15776" y="8037"/>
                </a:cubicBezTo>
                <a:cubicBezTo>
                  <a:pt x="15833" y="8027"/>
                  <a:pt x="15902" y="8020"/>
                  <a:pt x="15949" y="8012"/>
                </a:cubicBezTo>
                <a:cubicBezTo>
                  <a:pt x="16190" y="7972"/>
                  <a:pt x="16463" y="8026"/>
                  <a:pt x="16694" y="7987"/>
                </a:cubicBezTo>
                <a:cubicBezTo>
                  <a:pt x="16764" y="7975"/>
                  <a:pt x="16846" y="7987"/>
                  <a:pt x="16917" y="7987"/>
                </a:cubicBezTo>
                <a:cubicBezTo>
                  <a:pt x="16941" y="7972"/>
                  <a:pt x="16939" y="7965"/>
                  <a:pt x="16991" y="7962"/>
                </a:cubicBezTo>
                <a:cubicBezTo>
                  <a:pt x="17016" y="7962"/>
                  <a:pt x="17024" y="7962"/>
                  <a:pt x="17041" y="7962"/>
                </a:cubicBezTo>
                <a:cubicBezTo>
                  <a:pt x="17064" y="7949"/>
                  <a:pt x="17065" y="7941"/>
                  <a:pt x="17115" y="7938"/>
                </a:cubicBezTo>
                <a:cubicBezTo>
                  <a:pt x="17140" y="7937"/>
                  <a:pt x="17165" y="7938"/>
                  <a:pt x="17190" y="7938"/>
                </a:cubicBezTo>
                <a:cubicBezTo>
                  <a:pt x="17215" y="7923"/>
                  <a:pt x="17211" y="7916"/>
                  <a:pt x="17264" y="7913"/>
                </a:cubicBezTo>
                <a:cubicBezTo>
                  <a:pt x="17322" y="7910"/>
                  <a:pt x="17380" y="7913"/>
                  <a:pt x="17438" y="7913"/>
                </a:cubicBezTo>
                <a:cubicBezTo>
                  <a:pt x="17463" y="7898"/>
                  <a:pt x="17459" y="7891"/>
                  <a:pt x="17512" y="7888"/>
                </a:cubicBezTo>
                <a:cubicBezTo>
                  <a:pt x="17537" y="7888"/>
                  <a:pt x="17545" y="7888"/>
                  <a:pt x="17562" y="7888"/>
                </a:cubicBezTo>
                <a:cubicBezTo>
                  <a:pt x="17586" y="7873"/>
                  <a:pt x="17584" y="7867"/>
                  <a:pt x="17636" y="7863"/>
                </a:cubicBezTo>
                <a:cubicBezTo>
                  <a:pt x="17644" y="7863"/>
                  <a:pt x="17653" y="7863"/>
                  <a:pt x="17661" y="7863"/>
                </a:cubicBezTo>
                <a:cubicBezTo>
                  <a:pt x="17685" y="7848"/>
                  <a:pt x="17685" y="7845"/>
                  <a:pt x="17735" y="7838"/>
                </a:cubicBezTo>
                <a:cubicBezTo>
                  <a:pt x="17761" y="7818"/>
                  <a:pt x="17734" y="7821"/>
                  <a:pt x="17785" y="7813"/>
                </a:cubicBezTo>
              </a:path>
              <a:path w="4689" h="2035">
                <a:moveTo>
                  <a:pt x="17537" y="7640"/>
                </a:moveTo>
                <a:cubicBezTo>
                  <a:pt x="17562" y="7640"/>
                  <a:pt x="17586" y="7640"/>
                  <a:pt x="17611" y="7640"/>
                </a:cubicBezTo>
                <a:cubicBezTo>
                  <a:pt x="17624" y="7678"/>
                  <a:pt x="17641" y="7665"/>
                  <a:pt x="17686" y="7665"/>
                </a:cubicBezTo>
                <a:cubicBezTo>
                  <a:pt x="17711" y="7665"/>
                  <a:pt x="17719" y="7665"/>
                  <a:pt x="17711" y="7689"/>
                </a:cubicBezTo>
              </a:path>
              <a:path w="4689" h="2035">
                <a:moveTo>
                  <a:pt x="14486" y="6499"/>
                </a:moveTo>
                <a:cubicBezTo>
                  <a:pt x="14486" y="6507"/>
                  <a:pt x="14486" y="6516"/>
                  <a:pt x="14486" y="6524"/>
                </a:cubicBezTo>
                <a:cubicBezTo>
                  <a:pt x="14526" y="6537"/>
                  <a:pt x="14496" y="6535"/>
                  <a:pt x="14536" y="6548"/>
                </a:cubicBezTo>
                <a:cubicBezTo>
                  <a:pt x="14547" y="6583"/>
                  <a:pt x="14543" y="6573"/>
                  <a:pt x="14585" y="6573"/>
                </a:cubicBezTo>
                <a:cubicBezTo>
                  <a:pt x="14597" y="6608"/>
                  <a:pt x="14592" y="6598"/>
                  <a:pt x="14635" y="6598"/>
                </a:cubicBezTo>
                <a:cubicBezTo>
                  <a:pt x="14648" y="6636"/>
                  <a:pt x="14664" y="6623"/>
                  <a:pt x="14709" y="6623"/>
                </a:cubicBezTo>
                <a:cubicBezTo>
                  <a:pt x="14722" y="6661"/>
                  <a:pt x="14739" y="6648"/>
                  <a:pt x="14784" y="6648"/>
                </a:cubicBezTo>
                <a:cubicBezTo>
                  <a:pt x="14797" y="6687"/>
                  <a:pt x="14795" y="6657"/>
                  <a:pt x="14808" y="6697"/>
                </a:cubicBezTo>
              </a:path>
              <a:path w="4689" h="2035">
                <a:moveTo>
                  <a:pt x="14486" y="6598"/>
                </a:moveTo>
                <a:cubicBezTo>
                  <a:pt x="14544" y="6598"/>
                  <a:pt x="14602" y="6598"/>
                  <a:pt x="14660" y="6598"/>
                </a:cubicBezTo>
              </a:path>
              <a:path w="4689" h="2035">
                <a:moveTo>
                  <a:pt x="14486" y="6548"/>
                </a:moveTo>
                <a:cubicBezTo>
                  <a:pt x="14527" y="6548"/>
                  <a:pt x="14569" y="6548"/>
                  <a:pt x="14610" y="6548"/>
                </a:cubicBezTo>
                <a:cubicBezTo>
                  <a:pt x="14623" y="6586"/>
                  <a:pt x="14639" y="6573"/>
                  <a:pt x="14684" y="6573"/>
                </a:cubicBezTo>
                <a:cubicBezTo>
                  <a:pt x="14716" y="6573"/>
                  <a:pt x="14784" y="6573"/>
                  <a:pt x="14734" y="6598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75160" y="3056040"/>
            <a:ext cx="1027080" cy="285480"/>
          </a:xfrm>
          <a:custGeom>
            <a:avLst/>
            <a:gdLst/>
            <a:ahLst/>
            <a:rect l="l" t="t" r="r" b="b"/>
            <a:pathLst>
              <a:path w="2854" h="795">
                <a:moveTo>
                  <a:pt x="15354" y="8161"/>
                </a:moveTo>
                <a:cubicBezTo>
                  <a:pt x="15302" y="8161"/>
                  <a:pt x="15301" y="8147"/>
                  <a:pt x="15280" y="8136"/>
                </a:cubicBezTo>
                <a:cubicBezTo>
                  <a:pt x="15207" y="8099"/>
                  <a:pt x="15016" y="8136"/>
                  <a:pt x="14932" y="8136"/>
                </a:cubicBezTo>
                <a:cubicBezTo>
                  <a:pt x="15007" y="8136"/>
                  <a:pt x="15081" y="8136"/>
                  <a:pt x="15156" y="8136"/>
                </a:cubicBezTo>
              </a:path>
              <a:path w="2854" h="795">
                <a:moveTo>
                  <a:pt x="15180" y="8235"/>
                </a:moveTo>
                <a:cubicBezTo>
                  <a:pt x="15560" y="8235"/>
                  <a:pt x="15941" y="8235"/>
                  <a:pt x="16321" y="8235"/>
                </a:cubicBezTo>
              </a:path>
              <a:path w="2854" h="795">
                <a:moveTo>
                  <a:pt x="15379" y="8260"/>
                </a:moveTo>
                <a:cubicBezTo>
                  <a:pt x="15462" y="8260"/>
                  <a:pt x="15544" y="8260"/>
                  <a:pt x="15627" y="8260"/>
                </a:cubicBezTo>
                <a:cubicBezTo>
                  <a:pt x="15640" y="8222"/>
                  <a:pt x="15656" y="8235"/>
                  <a:pt x="15701" y="8235"/>
                </a:cubicBezTo>
                <a:cubicBezTo>
                  <a:pt x="15750" y="8235"/>
                  <a:pt x="15812" y="8252"/>
                  <a:pt x="15825" y="8210"/>
                </a:cubicBezTo>
              </a:path>
              <a:path w="2854" h="795">
                <a:moveTo>
                  <a:pt x="15354" y="8235"/>
                </a:moveTo>
                <a:cubicBezTo>
                  <a:pt x="15362" y="8235"/>
                  <a:pt x="15371" y="8235"/>
                  <a:pt x="15379" y="8235"/>
                </a:cubicBezTo>
                <a:cubicBezTo>
                  <a:pt x="15403" y="8221"/>
                  <a:pt x="15401" y="8213"/>
                  <a:pt x="15453" y="8210"/>
                </a:cubicBezTo>
                <a:cubicBezTo>
                  <a:pt x="15593" y="8202"/>
                  <a:pt x="15735" y="8210"/>
                  <a:pt x="15875" y="8210"/>
                </a:cubicBezTo>
                <a:cubicBezTo>
                  <a:pt x="15898" y="8197"/>
                  <a:pt x="15899" y="8189"/>
                  <a:pt x="15949" y="8186"/>
                </a:cubicBezTo>
                <a:cubicBezTo>
                  <a:pt x="16113" y="8177"/>
                  <a:pt x="16281" y="8186"/>
                  <a:pt x="16446" y="8186"/>
                </a:cubicBezTo>
                <a:cubicBezTo>
                  <a:pt x="16471" y="8171"/>
                  <a:pt x="16467" y="8164"/>
                  <a:pt x="16520" y="8161"/>
                </a:cubicBezTo>
                <a:cubicBezTo>
                  <a:pt x="16545" y="8161"/>
                  <a:pt x="16553" y="8161"/>
                  <a:pt x="16570" y="8161"/>
                </a:cubicBezTo>
                <a:cubicBezTo>
                  <a:pt x="16595" y="8146"/>
                  <a:pt x="16591" y="8139"/>
                  <a:pt x="16644" y="8136"/>
                </a:cubicBezTo>
                <a:cubicBezTo>
                  <a:pt x="16709" y="8132"/>
                  <a:pt x="16776" y="8136"/>
                  <a:pt x="16842" y="8136"/>
                </a:cubicBezTo>
                <a:cubicBezTo>
                  <a:pt x="16866" y="8122"/>
                  <a:pt x="16864" y="8114"/>
                  <a:pt x="16917" y="8111"/>
                </a:cubicBezTo>
                <a:cubicBezTo>
                  <a:pt x="16950" y="8109"/>
                  <a:pt x="16983" y="8111"/>
                  <a:pt x="17016" y="8111"/>
                </a:cubicBezTo>
                <a:cubicBezTo>
                  <a:pt x="17040" y="8097"/>
                  <a:pt x="17038" y="8089"/>
                  <a:pt x="17090" y="8086"/>
                </a:cubicBezTo>
                <a:cubicBezTo>
                  <a:pt x="17131" y="8084"/>
                  <a:pt x="17173" y="8086"/>
                  <a:pt x="17214" y="8086"/>
                </a:cubicBezTo>
                <a:cubicBezTo>
                  <a:pt x="17237" y="8073"/>
                  <a:pt x="17238" y="8065"/>
                  <a:pt x="17289" y="8062"/>
                </a:cubicBezTo>
                <a:cubicBezTo>
                  <a:pt x="17355" y="8058"/>
                  <a:pt x="17421" y="8062"/>
                  <a:pt x="17487" y="8062"/>
                </a:cubicBezTo>
                <a:cubicBezTo>
                  <a:pt x="17511" y="8048"/>
                  <a:pt x="17509" y="8040"/>
                  <a:pt x="17562" y="8037"/>
                </a:cubicBezTo>
                <a:cubicBezTo>
                  <a:pt x="17587" y="8037"/>
                  <a:pt x="17595" y="8037"/>
                  <a:pt x="17611" y="8037"/>
                </a:cubicBezTo>
                <a:cubicBezTo>
                  <a:pt x="17635" y="8022"/>
                  <a:pt x="17634" y="8016"/>
                  <a:pt x="17686" y="8012"/>
                </a:cubicBezTo>
                <a:cubicBezTo>
                  <a:pt x="17694" y="8012"/>
                  <a:pt x="17703" y="8012"/>
                  <a:pt x="17711" y="8012"/>
                </a:cubicBezTo>
                <a:cubicBezTo>
                  <a:pt x="17738" y="7991"/>
                  <a:pt x="17708" y="7996"/>
                  <a:pt x="17760" y="7987"/>
                </a:cubicBezTo>
                <a:cubicBezTo>
                  <a:pt x="17760" y="7962"/>
                  <a:pt x="17760" y="7954"/>
                  <a:pt x="17785" y="7962"/>
                </a:cubicBezTo>
              </a:path>
              <a:path w="2854" h="795">
                <a:moveTo>
                  <a:pt x="15503" y="8310"/>
                </a:moveTo>
                <a:cubicBezTo>
                  <a:pt x="15644" y="8310"/>
                  <a:pt x="15784" y="8310"/>
                  <a:pt x="15925" y="8310"/>
                </a:cubicBezTo>
                <a:cubicBezTo>
                  <a:pt x="15948" y="8324"/>
                  <a:pt x="15948" y="8331"/>
                  <a:pt x="15999" y="8334"/>
                </a:cubicBezTo>
                <a:cubicBezTo>
                  <a:pt x="16327" y="8353"/>
                  <a:pt x="16662" y="8334"/>
                  <a:pt x="16991" y="8334"/>
                </a:cubicBezTo>
                <a:cubicBezTo>
                  <a:pt x="17014" y="8321"/>
                  <a:pt x="17015" y="8313"/>
                  <a:pt x="17066" y="8310"/>
                </a:cubicBezTo>
                <a:cubicBezTo>
                  <a:pt x="17099" y="8308"/>
                  <a:pt x="17132" y="8310"/>
                  <a:pt x="17165" y="8310"/>
                </a:cubicBezTo>
                <a:cubicBezTo>
                  <a:pt x="17189" y="8295"/>
                  <a:pt x="17187" y="8288"/>
                  <a:pt x="17239" y="8285"/>
                </a:cubicBezTo>
                <a:cubicBezTo>
                  <a:pt x="17272" y="8283"/>
                  <a:pt x="17305" y="8285"/>
                  <a:pt x="17338" y="8285"/>
                </a:cubicBezTo>
                <a:cubicBezTo>
                  <a:pt x="17364" y="8265"/>
                  <a:pt x="17337" y="8268"/>
                  <a:pt x="17388" y="8260"/>
                </a:cubicBezTo>
                <a:cubicBezTo>
                  <a:pt x="17412" y="8245"/>
                  <a:pt x="17412" y="8242"/>
                  <a:pt x="17462" y="8235"/>
                </a:cubicBezTo>
                <a:cubicBezTo>
                  <a:pt x="17477" y="8215"/>
                  <a:pt x="17472" y="8206"/>
                  <a:pt x="17487" y="8186"/>
                </a:cubicBezTo>
                <a:cubicBezTo>
                  <a:pt x="17538" y="8178"/>
                  <a:pt x="17511" y="8181"/>
                  <a:pt x="17537" y="8161"/>
                </a:cubicBezTo>
                <a:cubicBezTo>
                  <a:pt x="17588" y="8153"/>
                  <a:pt x="17561" y="8156"/>
                  <a:pt x="17587" y="8136"/>
                </a:cubicBezTo>
                <a:cubicBezTo>
                  <a:pt x="17610" y="8112"/>
                  <a:pt x="17588" y="8135"/>
                  <a:pt x="17611" y="8111"/>
                </a:cubicBezTo>
              </a:path>
              <a:path w="2854" h="795">
                <a:moveTo>
                  <a:pt x="16321" y="8235"/>
                </a:moveTo>
                <a:cubicBezTo>
                  <a:pt x="16392" y="8235"/>
                  <a:pt x="16761" y="8261"/>
                  <a:pt x="16768" y="8210"/>
                </a:cubicBezTo>
                <a:cubicBezTo>
                  <a:pt x="16768" y="8202"/>
                  <a:pt x="16768" y="8194"/>
                  <a:pt x="16768" y="8186"/>
                </a:cubicBezTo>
                <a:cubicBezTo>
                  <a:pt x="16806" y="8213"/>
                  <a:pt x="16820" y="8210"/>
                  <a:pt x="16867" y="8210"/>
                </a:cubicBezTo>
                <a:cubicBezTo>
                  <a:pt x="16933" y="8210"/>
                  <a:pt x="17000" y="8210"/>
                  <a:pt x="17066" y="8210"/>
                </a:cubicBezTo>
                <a:cubicBezTo>
                  <a:pt x="17078" y="8174"/>
                  <a:pt x="17096" y="8186"/>
                  <a:pt x="17140" y="8186"/>
                </a:cubicBezTo>
                <a:cubicBezTo>
                  <a:pt x="17181" y="8186"/>
                  <a:pt x="17223" y="8186"/>
                  <a:pt x="17264" y="8186"/>
                </a:cubicBezTo>
                <a:cubicBezTo>
                  <a:pt x="17277" y="8148"/>
                  <a:pt x="17293" y="8161"/>
                  <a:pt x="17338" y="8161"/>
                </a:cubicBezTo>
                <a:cubicBezTo>
                  <a:pt x="17371" y="8161"/>
                  <a:pt x="17405" y="8161"/>
                  <a:pt x="17438" y="8161"/>
                </a:cubicBezTo>
                <a:cubicBezTo>
                  <a:pt x="17450" y="8123"/>
                  <a:pt x="17467" y="8136"/>
                  <a:pt x="17512" y="8136"/>
                </a:cubicBezTo>
                <a:cubicBezTo>
                  <a:pt x="17559" y="8136"/>
                  <a:pt x="17598" y="8151"/>
                  <a:pt x="17611" y="8111"/>
                </a:cubicBezTo>
              </a:path>
              <a:path w="2854" h="795">
                <a:moveTo>
                  <a:pt x="16743" y="8260"/>
                </a:moveTo>
                <a:cubicBezTo>
                  <a:pt x="16875" y="8260"/>
                  <a:pt x="17008" y="8260"/>
                  <a:pt x="17140" y="8260"/>
                </a:cubicBezTo>
                <a:cubicBezTo>
                  <a:pt x="17153" y="8222"/>
                  <a:pt x="17169" y="8235"/>
                  <a:pt x="17214" y="8235"/>
                </a:cubicBezTo>
                <a:cubicBezTo>
                  <a:pt x="17257" y="8235"/>
                  <a:pt x="17252" y="8245"/>
                  <a:pt x="17264" y="8210"/>
                </a:cubicBezTo>
              </a:path>
              <a:path w="2854" h="795">
                <a:moveTo>
                  <a:pt x="15602" y="8384"/>
                </a:moveTo>
                <a:cubicBezTo>
                  <a:pt x="16103" y="8384"/>
                  <a:pt x="16796" y="8500"/>
                  <a:pt x="17264" y="8359"/>
                </a:cubicBezTo>
                <a:cubicBezTo>
                  <a:pt x="17272" y="8359"/>
                  <a:pt x="17281" y="8359"/>
                  <a:pt x="17289" y="8359"/>
                </a:cubicBezTo>
              </a:path>
              <a:path w="2854" h="795">
                <a:moveTo>
                  <a:pt x="15850" y="8434"/>
                </a:moveTo>
                <a:cubicBezTo>
                  <a:pt x="16057" y="8434"/>
                  <a:pt x="16263" y="8434"/>
                  <a:pt x="16470" y="8434"/>
                </a:cubicBezTo>
                <a:cubicBezTo>
                  <a:pt x="16483" y="8396"/>
                  <a:pt x="16500" y="8409"/>
                  <a:pt x="16545" y="8409"/>
                </a:cubicBezTo>
                <a:cubicBezTo>
                  <a:pt x="16586" y="8409"/>
                  <a:pt x="16628" y="8409"/>
                  <a:pt x="16669" y="8409"/>
                </a:cubicBezTo>
                <a:cubicBezTo>
                  <a:pt x="16682" y="8371"/>
                  <a:pt x="16698" y="8384"/>
                  <a:pt x="16743" y="8384"/>
                </a:cubicBezTo>
                <a:cubicBezTo>
                  <a:pt x="16875" y="8384"/>
                  <a:pt x="17008" y="8384"/>
                  <a:pt x="17140" y="8384"/>
                </a:cubicBezTo>
              </a:path>
              <a:path w="2854" h="795">
                <a:moveTo>
                  <a:pt x="16073" y="8434"/>
                </a:moveTo>
                <a:cubicBezTo>
                  <a:pt x="16495" y="8434"/>
                  <a:pt x="16916" y="8434"/>
                  <a:pt x="17338" y="8434"/>
                </a:cubicBezTo>
              </a:path>
              <a:path w="2854" h="795">
                <a:moveTo>
                  <a:pt x="15949" y="8458"/>
                </a:moveTo>
                <a:cubicBezTo>
                  <a:pt x="16181" y="8458"/>
                  <a:pt x="16412" y="8458"/>
                  <a:pt x="16644" y="8458"/>
                </a:cubicBezTo>
                <a:cubicBezTo>
                  <a:pt x="16657" y="8422"/>
                  <a:pt x="16674" y="8434"/>
                  <a:pt x="16718" y="8434"/>
                </a:cubicBezTo>
                <a:cubicBezTo>
                  <a:pt x="16842" y="8434"/>
                  <a:pt x="16966" y="8434"/>
                  <a:pt x="17090" y="8434"/>
                </a:cubicBezTo>
                <a:cubicBezTo>
                  <a:pt x="17057" y="8434"/>
                  <a:pt x="17024" y="8434"/>
                  <a:pt x="16991" y="8434"/>
                </a:cubicBezTo>
              </a:path>
              <a:path w="2854" h="795">
                <a:moveTo>
                  <a:pt x="16123" y="8458"/>
                </a:moveTo>
                <a:cubicBezTo>
                  <a:pt x="16156" y="8458"/>
                  <a:pt x="16189" y="8458"/>
                  <a:pt x="16222" y="8458"/>
                </a:cubicBezTo>
                <a:cubicBezTo>
                  <a:pt x="16235" y="8496"/>
                  <a:pt x="16252" y="8483"/>
                  <a:pt x="16297" y="8483"/>
                </a:cubicBezTo>
                <a:cubicBezTo>
                  <a:pt x="16347" y="8483"/>
                  <a:pt x="16396" y="8483"/>
                  <a:pt x="16446" y="8483"/>
                </a:cubicBezTo>
                <a:cubicBezTo>
                  <a:pt x="16458" y="8521"/>
                  <a:pt x="16475" y="8508"/>
                  <a:pt x="16520" y="8508"/>
                </a:cubicBezTo>
                <a:cubicBezTo>
                  <a:pt x="16727" y="8508"/>
                  <a:pt x="16933" y="8508"/>
                  <a:pt x="17140" y="8508"/>
                </a:cubicBezTo>
              </a:path>
              <a:path w="2854" h="795">
                <a:moveTo>
                  <a:pt x="16073" y="8533"/>
                </a:moveTo>
                <a:cubicBezTo>
                  <a:pt x="16429" y="8533"/>
                  <a:pt x="16784" y="8533"/>
                  <a:pt x="17140" y="8533"/>
                </a:cubicBezTo>
                <a:cubicBezTo>
                  <a:pt x="17132" y="8556"/>
                  <a:pt x="17089" y="8579"/>
                  <a:pt x="17066" y="8582"/>
                </a:cubicBezTo>
                <a:cubicBezTo>
                  <a:pt x="16835" y="8610"/>
                  <a:pt x="16478" y="8516"/>
                  <a:pt x="16297" y="8607"/>
                </a:cubicBezTo>
                <a:cubicBezTo>
                  <a:pt x="16289" y="8607"/>
                  <a:pt x="16280" y="8607"/>
                  <a:pt x="16272" y="8607"/>
                </a:cubicBezTo>
                <a:cubicBezTo>
                  <a:pt x="16285" y="8645"/>
                  <a:pt x="16301" y="8632"/>
                  <a:pt x="16346" y="8632"/>
                </a:cubicBezTo>
                <a:cubicBezTo>
                  <a:pt x="16392" y="8632"/>
                  <a:pt x="16405" y="8652"/>
                  <a:pt x="16446" y="8657"/>
                </a:cubicBezTo>
                <a:cubicBezTo>
                  <a:pt x="16607" y="8675"/>
                  <a:pt x="16780" y="8657"/>
                  <a:pt x="16942" y="8657"/>
                </a:cubicBezTo>
                <a:cubicBezTo>
                  <a:pt x="16934" y="8680"/>
                  <a:pt x="16900" y="8695"/>
                  <a:pt x="16867" y="8706"/>
                </a:cubicBezTo>
                <a:cubicBezTo>
                  <a:pt x="16808" y="8725"/>
                  <a:pt x="16759" y="8683"/>
                  <a:pt x="16768" y="8706"/>
                </a:cubicBezTo>
                <a:cubicBezTo>
                  <a:pt x="16779" y="8733"/>
                  <a:pt x="16816" y="8747"/>
                  <a:pt x="16842" y="8756"/>
                </a:cubicBezTo>
                <a:cubicBezTo>
                  <a:pt x="16786" y="8756"/>
                  <a:pt x="16809" y="8736"/>
                  <a:pt x="16768" y="8731"/>
                </a:cubicBezTo>
                <a:cubicBezTo>
                  <a:pt x="16717" y="8725"/>
                  <a:pt x="16731" y="8711"/>
                  <a:pt x="16694" y="8706"/>
                </a:cubicBezTo>
                <a:cubicBezTo>
                  <a:pt x="16644" y="8700"/>
                  <a:pt x="16656" y="8686"/>
                  <a:pt x="16619" y="8682"/>
                </a:cubicBezTo>
                <a:cubicBezTo>
                  <a:pt x="16566" y="8676"/>
                  <a:pt x="16545" y="8670"/>
                  <a:pt x="16520" y="8657"/>
                </a:cubicBezTo>
                <a:cubicBezTo>
                  <a:pt x="16500" y="8647"/>
                  <a:pt x="16444" y="8657"/>
                  <a:pt x="16421" y="8657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84720" y="1746000"/>
            <a:ext cx="2376720" cy="21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84720" y="1672920"/>
            <a:ext cx="2376720" cy="21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084720" y="1601640"/>
            <a:ext cx="2376720" cy="216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084720" y="1528560"/>
            <a:ext cx="2376720" cy="21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1530000"/>
            <a:ext cx="2374920" cy="20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84720" y="1530000"/>
            <a:ext cx="2374920" cy="18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084720" y="1601640"/>
            <a:ext cx="230364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084720" y="2465280"/>
            <a:ext cx="1224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1601640"/>
            <a:ext cx="5473440" cy="180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84720" y="1457280"/>
            <a:ext cx="2374920" cy="19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2465280"/>
            <a:ext cx="81000" cy="1179720"/>
          </a:xfrm>
          <a:custGeom>
            <a:avLst/>
            <a:gdLst>
              <a:gd name="textAreaLeft" fmla="*/ 0 w 81000"/>
              <a:gd name="textAreaRight" fmla="*/ 29160 w 81000"/>
              <a:gd name="textAreaTop" fmla="*/ 30600 h 1179720"/>
              <a:gd name="textAreaBottom" fmla="*/ 114912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10492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17800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2249640"/>
            <a:ext cx="5472000" cy="1944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32092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39400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46528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610000"/>
            <a:ext cx="5472000" cy="19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134000">
            <a:off x="313560" y="3015720"/>
            <a:ext cx="61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พระราชกฤษฎีกาออกตามความใน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681280"/>
            <a:ext cx="547200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2825640"/>
            <a:ext cx="547200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754360"/>
            <a:ext cx="5472000" cy="19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898720"/>
            <a:ext cx="547344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180800">
            <a:off x="539280" y="3437280"/>
            <a:ext cx="54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ฎกระทรวงออกตามความใน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297036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304164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311292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318600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325764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3905280"/>
            <a:ext cx="3673440" cy="13953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45080" y="2859120"/>
            <a:ext cx="857160" cy="347760"/>
          </a:xfrm>
          <a:custGeom>
            <a:avLst/>
            <a:gdLst/>
            <a:ahLst/>
            <a:rect l="l" t="t" r="r" b="b"/>
            <a:pathLst>
              <a:path w="2382" h="968">
                <a:moveTo>
                  <a:pt x="16743" y="7640"/>
                </a:moveTo>
                <a:cubicBezTo>
                  <a:pt x="16781" y="7653"/>
                  <a:pt x="16764" y="7665"/>
                  <a:pt x="16818" y="7665"/>
                </a:cubicBezTo>
                <a:cubicBezTo>
                  <a:pt x="16873" y="7665"/>
                  <a:pt x="16852" y="7684"/>
                  <a:pt x="16892" y="7689"/>
                </a:cubicBezTo>
                <a:cubicBezTo>
                  <a:pt x="16925" y="7693"/>
                  <a:pt x="16897" y="7679"/>
                  <a:pt x="16867" y="7665"/>
                </a:cubicBezTo>
                <a:cubicBezTo>
                  <a:pt x="16840" y="7652"/>
                  <a:pt x="16813" y="7643"/>
                  <a:pt x="16793" y="7640"/>
                </a:cubicBezTo>
                <a:cubicBezTo>
                  <a:pt x="16754" y="7635"/>
                  <a:pt x="16725" y="7614"/>
                  <a:pt x="16694" y="7590"/>
                </a:cubicBezTo>
                <a:cubicBezTo>
                  <a:pt x="16725" y="7579"/>
                  <a:pt x="16724" y="7550"/>
                  <a:pt x="16743" y="7541"/>
                </a:cubicBezTo>
                <a:cubicBezTo>
                  <a:pt x="16770" y="7528"/>
                  <a:pt x="16837" y="7541"/>
                  <a:pt x="16867" y="7541"/>
                </a:cubicBezTo>
                <a:cubicBezTo>
                  <a:pt x="16858" y="7567"/>
                  <a:pt x="16848" y="7586"/>
                  <a:pt x="16818" y="7590"/>
                </a:cubicBezTo>
                <a:cubicBezTo>
                  <a:pt x="16778" y="7595"/>
                  <a:pt x="16791" y="7629"/>
                  <a:pt x="16768" y="7640"/>
                </a:cubicBezTo>
                <a:cubicBezTo>
                  <a:pt x="16743" y="7652"/>
                  <a:pt x="16712" y="7663"/>
                  <a:pt x="16694" y="7665"/>
                </a:cubicBezTo>
                <a:cubicBezTo>
                  <a:pt x="16654" y="7670"/>
                  <a:pt x="16666" y="7703"/>
                  <a:pt x="16644" y="7714"/>
                </a:cubicBezTo>
                <a:cubicBezTo>
                  <a:pt x="16638" y="7717"/>
                  <a:pt x="16574" y="7734"/>
                  <a:pt x="16570" y="7739"/>
                </a:cubicBezTo>
                <a:cubicBezTo>
                  <a:pt x="16554" y="7759"/>
                  <a:pt x="16505" y="7771"/>
                  <a:pt x="16495" y="7789"/>
                </a:cubicBezTo>
                <a:cubicBezTo>
                  <a:pt x="16478" y="7821"/>
                  <a:pt x="16448" y="7818"/>
                  <a:pt x="16421" y="7838"/>
                </a:cubicBezTo>
                <a:cubicBezTo>
                  <a:pt x="16406" y="7850"/>
                  <a:pt x="16324" y="7908"/>
                  <a:pt x="16321" y="7913"/>
                </a:cubicBezTo>
                <a:cubicBezTo>
                  <a:pt x="16297" y="7949"/>
                  <a:pt x="16297" y="7938"/>
                  <a:pt x="16346" y="7938"/>
                </a:cubicBezTo>
                <a:cubicBezTo>
                  <a:pt x="16385" y="7938"/>
                  <a:pt x="16366" y="7913"/>
                  <a:pt x="16421" y="7913"/>
                </a:cubicBezTo>
                <a:cubicBezTo>
                  <a:pt x="16460" y="7913"/>
                  <a:pt x="16475" y="7888"/>
                  <a:pt x="16520" y="7888"/>
                </a:cubicBezTo>
                <a:cubicBezTo>
                  <a:pt x="16577" y="7888"/>
                  <a:pt x="16598" y="7878"/>
                  <a:pt x="16644" y="7863"/>
                </a:cubicBezTo>
                <a:cubicBezTo>
                  <a:pt x="16704" y="7843"/>
                  <a:pt x="16979" y="7851"/>
                  <a:pt x="16991" y="7888"/>
                </a:cubicBezTo>
                <a:cubicBezTo>
                  <a:pt x="17024" y="7877"/>
                  <a:pt x="17021" y="7848"/>
                  <a:pt x="17041" y="7838"/>
                </a:cubicBezTo>
                <a:cubicBezTo>
                  <a:pt x="17072" y="7822"/>
                  <a:pt x="17095" y="7848"/>
                  <a:pt x="17115" y="7863"/>
                </a:cubicBezTo>
              </a:path>
              <a:path w="2382" h="968">
                <a:moveTo>
                  <a:pt x="17487" y="7838"/>
                </a:moveTo>
                <a:cubicBezTo>
                  <a:pt x="17562" y="7838"/>
                  <a:pt x="17636" y="7838"/>
                  <a:pt x="17711" y="7838"/>
                </a:cubicBezTo>
                <a:cubicBezTo>
                  <a:pt x="17723" y="7876"/>
                  <a:pt x="17740" y="7863"/>
                  <a:pt x="17785" y="7863"/>
                </a:cubicBezTo>
              </a:path>
              <a:path w="2382" h="968">
                <a:moveTo>
                  <a:pt x="16272" y="7466"/>
                </a:moveTo>
                <a:cubicBezTo>
                  <a:pt x="16272" y="7474"/>
                  <a:pt x="16272" y="7483"/>
                  <a:pt x="16272" y="7491"/>
                </a:cubicBezTo>
                <a:cubicBezTo>
                  <a:pt x="16237" y="7503"/>
                  <a:pt x="16247" y="7498"/>
                  <a:pt x="16247" y="7541"/>
                </a:cubicBezTo>
                <a:cubicBezTo>
                  <a:pt x="16207" y="7554"/>
                  <a:pt x="16237" y="7552"/>
                  <a:pt x="16197" y="7565"/>
                </a:cubicBezTo>
                <a:cubicBezTo>
                  <a:pt x="16184" y="7605"/>
                  <a:pt x="16186" y="7575"/>
                  <a:pt x="16173" y="7615"/>
                </a:cubicBezTo>
                <a:cubicBezTo>
                  <a:pt x="16138" y="7627"/>
                  <a:pt x="16148" y="7622"/>
                  <a:pt x="16148" y="7665"/>
                </a:cubicBezTo>
                <a:cubicBezTo>
                  <a:pt x="16111" y="7677"/>
                  <a:pt x="16126" y="7689"/>
                  <a:pt x="16073" y="7689"/>
                </a:cubicBezTo>
                <a:cubicBezTo>
                  <a:pt x="16062" y="7724"/>
                  <a:pt x="16066" y="7714"/>
                  <a:pt x="16024" y="7714"/>
                </a:cubicBezTo>
                <a:cubicBezTo>
                  <a:pt x="16016" y="7737"/>
                  <a:pt x="15981" y="7753"/>
                  <a:pt x="15949" y="7764"/>
                </a:cubicBezTo>
                <a:cubicBezTo>
                  <a:pt x="15919" y="7774"/>
                  <a:pt x="15879" y="7786"/>
                  <a:pt x="15850" y="7789"/>
                </a:cubicBezTo>
                <a:cubicBezTo>
                  <a:pt x="15825" y="7789"/>
                  <a:pt x="15817" y="7789"/>
                  <a:pt x="15801" y="7789"/>
                </a:cubicBezTo>
                <a:cubicBezTo>
                  <a:pt x="15788" y="7825"/>
                  <a:pt x="15770" y="7813"/>
                  <a:pt x="15726" y="7813"/>
                </a:cubicBezTo>
                <a:cubicBezTo>
                  <a:pt x="15713" y="7851"/>
                  <a:pt x="15697" y="7838"/>
                  <a:pt x="15652" y="7838"/>
                </a:cubicBezTo>
                <a:cubicBezTo>
                  <a:pt x="15613" y="7838"/>
                  <a:pt x="15598" y="7863"/>
                  <a:pt x="15553" y="7863"/>
                </a:cubicBezTo>
                <a:cubicBezTo>
                  <a:pt x="15545" y="7863"/>
                  <a:pt x="15536" y="7863"/>
                  <a:pt x="15528" y="7863"/>
                </a:cubicBezTo>
              </a:path>
              <a:path w="2382" h="968">
                <a:moveTo>
                  <a:pt x="16396" y="7417"/>
                </a:moveTo>
                <a:cubicBezTo>
                  <a:pt x="16388" y="7417"/>
                  <a:pt x="16379" y="7417"/>
                  <a:pt x="16371" y="7417"/>
                </a:cubicBezTo>
                <a:cubicBezTo>
                  <a:pt x="16371" y="7459"/>
                  <a:pt x="16381" y="7454"/>
                  <a:pt x="16346" y="7466"/>
                </a:cubicBezTo>
                <a:cubicBezTo>
                  <a:pt x="16333" y="7506"/>
                  <a:pt x="16334" y="7476"/>
                  <a:pt x="16321" y="7516"/>
                </a:cubicBezTo>
                <a:cubicBezTo>
                  <a:pt x="16282" y="7529"/>
                  <a:pt x="16311" y="7528"/>
                  <a:pt x="16272" y="7541"/>
                </a:cubicBezTo>
                <a:cubicBezTo>
                  <a:pt x="16272" y="7593"/>
                  <a:pt x="16274" y="7590"/>
                  <a:pt x="16222" y="7590"/>
                </a:cubicBezTo>
                <a:cubicBezTo>
                  <a:pt x="16210" y="7625"/>
                  <a:pt x="16215" y="7615"/>
                  <a:pt x="16173" y="7615"/>
                </a:cubicBezTo>
                <a:cubicBezTo>
                  <a:pt x="16160" y="7655"/>
                  <a:pt x="16161" y="7625"/>
                  <a:pt x="16148" y="7665"/>
                </a:cubicBezTo>
                <a:cubicBezTo>
                  <a:pt x="16123" y="7665"/>
                  <a:pt x="16098" y="7665"/>
                  <a:pt x="16073" y="7665"/>
                </a:cubicBezTo>
                <a:cubicBezTo>
                  <a:pt x="16073" y="7689"/>
                  <a:pt x="16073" y="7697"/>
                  <a:pt x="16049" y="7689"/>
                </a:cubicBezTo>
              </a:path>
              <a:path w="2382" h="968">
                <a:moveTo>
                  <a:pt x="16842" y="7491"/>
                </a:moveTo>
                <a:cubicBezTo>
                  <a:pt x="16850" y="7491"/>
                  <a:pt x="16859" y="7491"/>
                  <a:pt x="16867" y="7491"/>
                </a:cubicBezTo>
                <a:cubicBezTo>
                  <a:pt x="16879" y="7526"/>
                  <a:pt x="16874" y="7516"/>
                  <a:pt x="16917" y="7516"/>
                </a:cubicBezTo>
                <a:cubicBezTo>
                  <a:pt x="16917" y="7558"/>
                  <a:pt x="16907" y="7554"/>
                  <a:pt x="16942" y="7565"/>
                </a:cubicBezTo>
                <a:cubicBezTo>
                  <a:pt x="16955" y="7605"/>
                  <a:pt x="16953" y="7575"/>
                  <a:pt x="16966" y="7615"/>
                </a:cubicBezTo>
                <a:cubicBezTo>
                  <a:pt x="17006" y="7628"/>
                  <a:pt x="16976" y="7627"/>
                  <a:pt x="17016" y="7640"/>
                </a:cubicBezTo>
                <a:cubicBezTo>
                  <a:pt x="17029" y="7679"/>
                  <a:pt x="17028" y="7650"/>
                  <a:pt x="17041" y="7689"/>
                </a:cubicBezTo>
                <a:cubicBezTo>
                  <a:pt x="17066" y="7689"/>
                  <a:pt x="17074" y="7689"/>
                  <a:pt x="17066" y="7714"/>
                </a:cubicBezTo>
              </a:path>
              <a:path w="2382" h="968">
                <a:moveTo>
                  <a:pt x="16570" y="7789"/>
                </a:moveTo>
                <a:cubicBezTo>
                  <a:pt x="16545" y="7789"/>
                  <a:pt x="16537" y="7789"/>
                  <a:pt x="16520" y="7789"/>
                </a:cubicBezTo>
              </a:path>
              <a:path w="2382" h="968">
                <a:moveTo>
                  <a:pt x="15825" y="8086"/>
                </a:moveTo>
                <a:cubicBezTo>
                  <a:pt x="15833" y="8086"/>
                  <a:pt x="15842" y="8086"/>
                  <a:pt x="15850" y="8086"/>
                </a:cubicBezTo>
                <a:cubicBezTo>
                  <a:pt x="15863" y="8050"/>
                  <a:pt x="15881" y="8062"/>
                  <a:pt x="15925" y="8062"/>
                </a:cubicBezTo>
                <a:cubicBezTo>
                  <a:pt x="15933" y="8062"/>
                  <a:pt x="15941" y="8062"/>
                  <a:pt x="15949" y="8062"/>
                </a:cubicBezTo>
                <a:cubicBezTo>
                  <a:pt x="15962" y="8024"/>
                  <a:pt x="15979" y="8037"/>
                  <a:pt x="16024" y="8037"/>
                </a:cubicBezTo>
                <a:cubicBezTo>
                  <a:pt x="16032" y="8037"/>
                  <a:pt x="16041" y="8037"/>
                  <a:pt x="16049" y="8037"/>
                </a:cubicBezTo>
                <a:cubicBezTo>
                  <a:pt x="16061" y="7999"/>
                  <a:pt x="16078" y="8012"/>
                  <a:pt x="16123" y="8012"/>
                </a:cubicBezTo>
                <a:cubicBezTo>
                  <a:pt x="16197" y="8012"/>
                  <a:pt x="16272" y="8012"/>
                  <a:pt x="16346" y="8012"/>
                </a:cubicBezTo>
                <a:cubicBezTo>
                  <a:pt x="16359" y="7974"/>
                  <a:pt x="16376" y="7987"/>
                  <a:pt x="16421" y="7987"/>
                </a:cubicBezTo>
                <a:cubicBezTo>
                  <a:pt x="16553" y="7987"/>
                  <a:pt x="16686" y="7987"/>
                  <a:pt x="16818" y="7987"/>
                </a:cubicBezTo>
                <a:cubicBezTo>
                  <a:pt x="16830" y="8025"/>
                  <a:pt x="16847" y="8012"/>
                  <a:pt x="16892" y="8012"/>
                </a:cubicBezTo>
                <a:cubicBezTo>
                  <a:pt x="16942" y="8012"/>
                  <a:pt x="17002" y="8028"/>
                  <a:pt x="17016" y="7987"/>
                </a:cubicBezTo>
              </a:path>
              <a:path w="2382" h="968">
                <a:moveTo>
                  <a:pt x="15404" y="8260"/>
                </a:moveTo>
                <a:cubicBezTo>
                  <a:pt x="15457" y="8260"/>
                  <a:pt x="15487" y="8277"/>
                  <a:pt x="15528" y="8285"/>
                </a:cubicBezTo>
                <a:cubicBezTo>
                  <a:pt x="15565" y="8293"/>
                  <a:pt x="15646" y="8309"/>
                  <a:pt x="15652" y="8310"/>
                </a:cubicBezTo>
                <a:cubicBezTo>
                  <a:pt x="15719" y="8324"/>
                  <a:pt x="15839" y="8327"/>
                  <a:pt x="15875" y="8334"/>
                </a:cubicBezTo>
                <a:cubicBezTo>
                  <a:pt x="15921" y="8343"/>
                  <a:pt x="16010" y="8356"/>
                  <a:pt x="16024" y="8359"/>
                </a:cubicBezTo>
                <a:cubicBezTo>
                  <a:pt x="16076" y="8370"/>
                  <a:pt x="16177" y="8380"/>
                  <a:pt x="16197" y="8384"/>
                </a:cubicBezTo>
                <a:cubicBezTo>
                  <a:pt x="16303" y="8405"/>
                  <a:pt x="16436" y="8384"/>
                  <a:pt x="16545" y="8384"/>
                </a:cubicBezTo>
                <a:cubicBezTo>
                  <a:pt x="16516" y="8367"/>
                  <a:pt x="16506" y="8377"/>
                  <a:pt x="16470" y="8359"/>
                </a:cubicBezTo>
                <a:cubicBezTo>
                  <a:pt x="16441" y="8344"/>
                  <a:pt x="16448" y="8351"/>
                  <a:pt x="16421" y="8334"/>
                </a:cubicBezTo>
                <a:cubicBezTo>
                  <a:pt x="16462" y="8437"/>
                  <a:pt x="16405" y="8331"/>
                  <a:pt x="16346" y="8310"/>
                </a:cubicBezTo>
                <a:cubicBezTo>
                  <a:pt x="16314" y="8299"/>
                  <a:pt x="16202" y="8286"/>
                  <a:pt x="16197" y="8285"/>
                </a:cubicBezTo>
                <a:cubicBezTo>
                  <a:pt x="16057" y="8257"/>
                  <a:pt x="15872" y="8333"/>
                  <a:pt x="15751" y="8260"/>
                </a:cubicBezTo>
                <a:cubicBezTo>
                  <a:pt x="15919" y="8260"/>
                  <a:pt x="16086" y="8265"/>
                  <a:pt x="16247" y="8285"/>
                </a:cubicBezTo>
                <a:cubicBezTo>
                  <a:pt x="16583" y="8327"/>
                  <a:pt x="17381" y="8580"/>
                  <a:pt x="17214" y="8285"/>
                </a:cubicBezTo>
                <a:cubicBezTo>
                  <a:pt x="17188" y="8239"/>
                  <a:pt x="17188" y="8284"/>
                  <a:pt x="17140" y="8260"/>
                </a:cubicBezTo>
                <a:cubicBezTo>
                  <a:pt x="17115" y="8260"/>
                  <a:pt x="17107" y="8260"/>
                  <a:pt x="17115" y="8235"/>
                </a:cubicBezTo>
              </a:path>
              <a:path w="2382" h="968">
                <a:moveTo>
                  <a:pt x="17363" y="8235"/>
                </a:moveTo>
                <a:cubicBezTo>
                  <a:pt x="17374" y="8235"/>
                  <a:pt x="17480" y="8235"/>
                  <a:pt x="17413" y="8235"/>
                </a:cubicBezTo>
                <a:cubicBezTo>
                  <a:pt x="17372" y="8235"/>
                  <a:pt x="17385" y="8274"/>
                  <a:pt x="17363" y="8285"/>
                </a:cubicBezTo>
                <a:cubicBezTo>
                  <a:pt x="17307" y="8313"/>
                  <a:pt x="17407" y="8289"/>
                  <a:pt x="17413" y="8285"/>
                </a:cubicBezTo>
                <a:cubicBezTo>
                  <a:pt x="17452" y="8263"/>
                  <a:pt x="17496" y="8247"/>
                  <a:pt x="17537" y="8235"/>
                </a:cubicBezTo>
                <a:cubicBezTo>
                  <a:pt x="17581" y="8222"/>
                  <a:pt x="17572" y="8255"/>
                  <a:pt x="17587" y="8210"/>
                </a:cubicBezTo>
                <a:cubicBezTo>
                  <a:pt x="17584" y="8211"/>
                  <a:pt x="17515" y="8231"/>
                  <a:pt x="17512" y="8235"/>
                </a:cubicBezTo>
                <a:cubicBezTo>
                  <a:pt x="17496" y="8255"/>
                  <a:pt x="17467" y="8281"/>
                  <a:pt x="17438" y="8285"/>
                </a:cubicBezTo>
                <a:cubicBezTo>
                  <a:pt x="17395" y="8290"/>
                  <a:pt x="17428" y="8297"/>
                  <a:pt x="17388" y="8310"/>
                </a:cubicBezTo>
                <a:cubicBezTo>
                  <a:pt x="17388" y="8252"/>
                  <a:pt x="17388" y="8194"/>
                  <a:pt x="17388" y="8136"/>
                </a:cubicBezTo>
                <a:cubicBezTo>
                  <a:pt x="17350" y="8149"/>
                  <a:pt x="17367" y="8161"/>
                  <a:pt x="17314" y="8161"/>
                </a:cubicBezTo>
                <a:cubicBezTo>
                  <a:pt x="17275" y="8161"/>
                  <a:pt x="17294" y="8186"/>
                  <a:pt x="17239" y="8186"/>
                </a:cubicBezTo>
                <a:cubicBezTo>
                  <a:pt x="17200" y="8186"/>
                  <a:pt x="17219" y="8210"/>
                  <a:pt x="17165" y="8210"/>
                </a:cubicBezTo>
                <a:cubicBezTo>
                  <a:pt x="17082" y="8210"/>
                  <a:pt x="17013" y="8209"/>
                  <a:pt x="16942" y="8186"/>
                </a:cubicBezTo>
                <a:cubicBezTo>
                  <a:pt x="16899" y="8172"/>
                  <a:pt x="16864" y="8172"/>
                  <a:pt x="16842" y="8161"/>
                </a:cubicBezTo>
                <a:cubicBezTo>
                  <a:pt x="16781" y="8129"/>
                  <a:pt x="16616" y="8161"/>
                  <a:pt x="16545" y="8161"/>
                </a:cubicBezTo>
                <a:cubicBezTo>
                  <a:pt x="16751" y="8161"/>
                  <a:pt x="17132" y="8215"/>
                  <a:pt x="17289" y="8136"/>
                </a:cubicBezTo>
                <a:cubicBezTo>
                  <a:pt x="17323" y="8119"/>
                  <a:pt x="17395" y="8120"/>
                  <a:pt x="17413" y="8111"/>
                </a:cubicBezTo>
                <a:cubicBezTo>
                  <a:pt x="17435" y="8100"/>
                  <a:pt x="17481" y="8089"/>
                  <a:pt x="17487" y="8086"/>
                </a:cubicBezTo>
                <a:cubicBezTo>
                  <a:pt x="17520" y="8069"/>
                  <a:pt x="17594" y="8070"/>
                  <a:pt x="17611" y="8062"/>
                </a:cubicBezTo>
                <a:cubicBezTo>
                  <a:pt x="17626" y="8055"/>
                  <a:pt x="17669" y="8062"/>
                  <a:pt x="17686" y="8062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228800">
            <a:off x="529560" y="38080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ประกาศ ระเบียบ หรือคำสั่งกฎกระทรว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30720"/>
            <a:ext cx="5472000" cy="208728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340200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347328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354636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361800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8360" y="4265640"/>
            <a:ext cx="3816360" cy="15127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368928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228800">
            <a:off x="600840" y="4265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คำวินิจฉัย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76236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2720" y="383364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978360"/>
            <a:ext cx="5472000" cy="21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390528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404964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276800">
            <a:off x="600840" y="469692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ระเบียบ คำสั่ง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426564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433872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4194000"/>
            <a:ext cx="5472000" cy="21592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441180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2720" y="448308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554360"/>
            <a:ext cx="5473440" cy="21592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560" y="4581360"/>
            <a:ext cx="5483160" cy="220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73560" y="4221000"/>
            <a:ext cx="2376360" cy="2565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84720" y="1888920"/>
            <a:ext cx="2376720" cy="2160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084720" y="1962000"/>
            <a:ext cx="237672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84720" y="2060280"/>
            <a:ext cx="2376720" cy="2160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84720" y="2104920"/>
            <a:ext cx="237672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4720" y="2178000"/>
            <a:ext cx="237672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276800">
            <a:off x="788400" y="5176800"/>
            <a:ext cx="50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ประกาศอธิบดี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084720" y="224964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84720" y="232236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084720" y="242100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84720" y="246528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84720" y="253836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084720" y="261000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084720" y="2680920"/>
            <a:ext cx="237672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083280" y="2754000"/>
            <a:ext cx="237636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084720" y="2852280"/>
            <a:ext cx="237672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084720" y="2896920"/>
            <a:ext cx="237672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84720" y="3041280"/>
            <a:ext cx="2232360" cy="223380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83280" y="2970000"/>
            <a:ext cx="2376360" cy="244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084720" y="3041640"/>
            <a:ext cx="237672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084720" y="3112920"/>
            <a:ext cx="237672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084720" y="3186000"/>
            <a:ext cx="237672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083280" y="3257640"/>
            <a:ext cx="237636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84720" y="3402000"/>
            <a:ext cx="237672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83280" y="3473280"/>
            <a:ext cx="237636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084720" y="3573360"/>
            <a:ext cx="237672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84720" y="3618000"/>
            <a:ext cx="237672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84720" y="3689280"/>
            <a:ext cx="2374920" cy="24494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84720" y="376236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84720" y="383364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84720" y="390528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084720" y="3978000"/>
            <a:ext cx="2386080" cy="254772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084720" y="404964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412272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73920" y="3357720"/>
            <a:ext cx="10800" cy="3429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59640" y="1054080"/>
            <a:ext cx="0" cy="3166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59640" y="1053720"/>
            <a:ext cx="1790640" cy="12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9120" y="2251080"/>
            <a:ext cx="11592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6942" y="5730"/>
                </a:moveTo>
                <a:lnTo>
                  <a:pt x="16942" y="5730"/>
                </a:lnTo>
              </a:path>
              <a:path w="323" h="348">
                <a:moveTo>
                  <a:pt x="16966" y="5804"/>
                </a:moveTo>
                <a:lnTo>
                  <a:pt x="16966" y="5804"/>
                </a:lnTo>
              </a:path>
              <a:path w="323" h="348">
                <a:moveTo>
                  <a:pt x="17016" y="5854"/>
                </a:moveTo>
                <a:lnTo>
                  <a:pt x="17016" y="5854"/>
                </a:lnTo>
              </a:path>
              <a:path w="323" h="348">
                <a:moveTo>
                  <a:pt x="17090" y="5928"/>
                </a:moveTo>
                <a:lnTo>
                  <a:pt x="17090" y="5928"/>
                </a:lnTo>
              </a:path>
              <a:path w="323" h="348">
                <a:moveTo>
                  <a:pt x="17066" y="5904"/>
                </a:moveTo>
                <a:lnTo>
                  <a:pt x="17066" y="5904"/>
                </a:lnTo>
              </a:path>
              <a:path w="323" h="348">
                <a:moveTo>
                  <a:pt x="17115" y="5953"/>
                </a:moveTo>
                <a:lnTo>
                  <a:pt x="17115" y="5953"/>
                </a:lnTo>
              </a:path>
              <a:path w="323" h="348">
                <a:moveTo>
                  <a:pt x="17190" y="6003"/>
                </a:moveTo>
                <a:lnTo>
                  <a:pt x="17190" y="6003"/>
                </a:lnTo>
              </a:path>
              <a:path w="323" h="348">
                <a:moveTo>
                  <a:pt x="17264" y="6077"/>
                </a:moveTo>
                <a:lnTo>
                  <a:pt x="17264" y="6077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9960" y="2394000"/>
            <a:ext cx="117360" cy="3636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7363" y="6127"/>
                </a:moveTo>
                <a:lnTo>
                  <a:pt x="17363" y="6127"/>
                </a:lnTo>
              </a:path>
              <a:path w="324" h="100">
                <a:moveTo>
                  <a:pt x="17413" y="6152"/>
                </a:moveTo>
                <a:lnTo>
                  <a:pt x="17413" y="6152"/>
                </a:lnTo>
              </a:path>
              <a:path w="324" h="100">
                <a:moveTo>
                  <a:pt x="17438" y="6176"/>
                </a:moveTo>
                <a:cubicBezTo>
                  <a:pt x="17446" y="6176"/>
                  <a:pt x="17454" y="6176"/>
                  <a:pt x="17462" y="6176"/>
                </a:cubicBezTo>
              </a:path>
              <a:path w="324" h="100">
                <a:moveTo>
                  <a:pt x="17512" y="6201"/>
                </a:moveTo>
                <a:lnTo>
                  <a:pt x="17512" y="6201"/>
                </a:lnTo>
              </a:path>
              <a:path w="324" h="100">
                <a:moveTo>
                  <a:pt x="17611" y="6201"/>
                </a:moveTo>
                <a:lnTo>
                  <a:pt x="17611" y="6201"/>
                </a:lnTo>
              </a:path>
              <a:path w="324" h="100">
                <a:moveTo>
                  <a:pt x="17686" y="6226"/>
                </a:moveTo>
                <a:lnTo>
                  <a:pt x="17686" y="622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92880" y="2322360"/>
            <a:ext cx="277920" cy="98640"/>
          </a:xfrm>
          <a:custGeom>
            <a:avLst/>
            <a:gdLst/>
            <a:ahLst/>
            <a:rect l="l" t="t" r="r" b="b"/>
            <a:pathLst>
              <a:path w="770" h="274">
                <a:moveTo>
                  <a:pt x="17760" y="6201"/>
                </a:moveTo>
                <a:lnTo>
                  <a:pt x="17760" y="6201"/>
                </a:lnTo>
              </a:path>
              <a:path w="770" h="274">
                <a:moveTo>
                  <a:pt x="17810" y="6201"/>
                </a:moveTo>
                <a:cubicBezTo>
                  <a:pt x="17818" y="6201"/>
                  <a:pt x="17827" y="6201"/>
                  <a:pt x="17835" y="6201"/>
                </a:cubicBezTo>
              </a:path>
              <a:path w="770" h="274">
                <a:moveTo>
                  <a:pt x="17909" y="6176"/>
                </a:moveTo>
                <a:lnTo>
                  <a:pt x="17909" y="6176"/>
                </a:lnTo>
              </a:path>
              <a:path w="770" h="274">
                <a:moveTo>
                  <a:pt x="18008" y="6127"/>
                </a:moveTo>
                <a:cubicBezTo>
                  <a:pt x="18016" y="6127"/>
                  <a:pt x="18025" y="6127"/>
                  <a:pt x="18033" y="6127"/>
                </a:cubicBezTo>
              </a:path>
              <a:path w="770" h="274">
                <a:moveTo>
                  <a:pt x="18132" y="6127"/>
                </a:moveTo>
                <a:lnTo>
                  <a:pt x="18132" y="6127"/>
                </a:lnTo>
              </a:path>
              <a:path w="770" h="274">
                <a:moveTo>
                  <a:pt x="18256" y="6052"/>
                </a:moveTo>
                <a:cubicBezTo>
                  <a:pt x="18264" y="6052"/>
                  <a:pt x="18273" y="6052"/>
                  <a:pt x="18281" y="6052"/>
                </a:cubicBezTo>
              </a:path>
              <a:path w="770" h="274">
                <a:moveTo>
                  <a:pt x="18182" y="6102"/>
                </a:moveTo>
                <a:cubicBezTo>
                  <a:pt x="18190" y="6102"/>
                  <a:pt x="18199" y="6102"/>
                  <a:pt x="18207" y="6102"/>
                </a:cubicBezTo>
              </a:path>
              <a:path w="770" h="274">
                <a:moveTo>
                  <a:pt x="18331" y="6003"/>
                </a:moveTo>
                <a:lnTo>
                  <a:pt x="18331" y="6003"/>
                </a:lnTo>
              </a:path>
              <a:path w="770" h="274">
                <a:moveTo>
                  <a:pt x="18430" y="5978"/>
                </a:moveTo>
                <a:lnTo>
                  <a:pt x="18430" y="5978"/>
                </a:lnTo>
              </a:path>
              <a:path w="770" h="274">
                <a:moveTo>
                  <a:pt x="18529" y="5928"/>
                </a:moveTo>
                <a:lnTo>
                  <a:pt x="18529" y="5928"/>
                </a:lnTo>
              </a:path>
              <a:path w="770" h="274">
                <a:moveTo>
                  <a:pt x="18504" y="5928"/>
                </a:moveTo>
                <a:lnTo>
                  <a:pt x="18504" y="5928"/>
                </a:lnTo>
              </a:path>
              <a:path w="770" h="274">
                <a:moveTo>
                  <a:pt x="18479" y="5953"/>
                </a:moveTo>
                <a:lnTo>
                  <a:pt x="18479" y="595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02200" y="2243160"/>
            <a:ext cx="17964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6892" y="5705"/>
                </a:moveTo>
                <a:cubicBezTo>
                  <a:pt x="16892" y="5730"/>
                  <a:pt x="16892" y="5738"/>
                  <a:pt x="16892" y="5755"/>
                </a:cubicBezTo>
              </a:path>
              <a:path w="497" h="398">
                <a:moveTo>
                  <a:pt x="16867" y="5730"/>
                </a:moveTo>
                <a:lnTo>
                  <a:pt x="16867" y="5730"/>
                </a:lnTo>
              </a:path>
              <a:path w="497" h="398">
                <a:moveTo>
                  <a:pt x="16842" y="5804"/>
                </a:moveTo>
                <a:cubicBezTo>
                  <a:pt x="16842" y="5829"/>
                  <a:pt x="16842" y="5837"/>
                  <a:pt x="16818" y="5829"/>
                </a:cubicBezTo>
              </a:path>
              <a:path w="497" h="398">
                <a:moveTo>
                  <a:pt x="16793" y="5854"/>
                </a:moveTo>
                <a:cubicBezTo>
                  <a:pt x="16768" y="5854"/>
                  <a:pt x="16760" y="5854"/>
                  <a:pt x="16768" y="5879"/>
                </a:cubicBezTo>
              </a:path>
              <a:path w="497" h="398">
                <a:moveTo>
                  <a:pt x="16669" y="5928"/>
                </a:moveTo>
                <a:lnTo>
                  <a:pt x="16669" y="5928"/>
                </a:lnTo>
              </a:path>
              <a:path w="497" h="398">
                <a:moveTo>
                  <a:pt x="16594" y="5978"/>
                </a:moveTo>
                <a:lnTo>
                  <a:pt x="16594" y="5978"/>
                </a:lnTo>
              </a:path>
              <a:path w="497" h="398">
                <a:moveTo>
                  <a:pt x="16495" y="6028"/>
                </a:moveTo>
                <a:cubicBezTo>
                  <a:pt x="16495" y="6036"/>
                  <a:pt x="16495" y="6044"/>
                  <a:pt x="16495" y="6052"/>
                </a:cubicBezTo>
              </a:path>
              <a:path w="497" h="398">
                <a:moveTo>
                  <a:pt x="16396" y="6102"/>
                </a:moveTo>
                <a:lnTo>
                  <a:pt x="16396" y="6102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3108240"/>
            <a:ext cx="223920" cy="28800"/>
          </a:xfrm>
          <a:custGeom>
            <a:avLst/>
            <a:gdLst/>
            <a:ahLst/>
            <a:rect l="l" t="t" r="r" b="b"/>
            <a:pathLst>
              <a:path w="621" h="76">
                <a:moveTo>
                  <a:pt x="14734" y="8161"/>
                </a:moveTo>
                <a:lnTo>
                  <a:pt x="14734" y="8161"/>
                </a:lnTo>
              </a:path>
              <a:path w="621" h="76">
                <a:moveTo>
                  <a:pt x="14858" y="8186"/>
                </a:moveTo>
                <a:lnTo>
                  <a:pt x="14858" y="8186"/>
                </a:lnTo>
              </a:path>
              <a:path w="621" h="76">
                <a:moveTo>
                  <a:pt x="14560" y="8111"/>
                </a:moveTo>
                <a:lnTo>
                  <a:pt x="14560" y="8111"/>
                </a:lnTo>
              </a:path>
              <a:path w="621" h="76">
                <a:moveTo>
                  <a:pt x="14709" y="8136"/>
                </a:moveTo>
                <a:lnTo>
                  <a:pt x="14709" y="8136"/>
                </a:lnTo>
              </a:path>
              <a:path w="621" h="76">
                <a:moveTo>
                  <a:pt x="15007" y="8186"/>
                </a:moveTo>
                <a:lnTo>
                  <a:pt x="15007" y="8186"/>
                </a:lnTo>
              </a:path>
              <a:path w="621" h="76">
                <a:moveTo>
                  <a:pt x="14982" y="8161"/>
                </a:moveTo>
                <a:cubicBezTo>
                  <a:pt x="14990" y="8161"/>
                  <a:pt x="14999" y="8161"/>
                  <a:pt x="15007" y="8161"/>
                </a:cubicBezTo>
              </a:path>
              <a:path w="621" h="76">
                <a:moveTo>
                  <a:pt x="15106" y="8136"/>
                </a:moveTo>
                <a:lnTo>
                  <a:pt x="15106" y="8136"/>
                </a:lnTo>
              </a:path>
              <a:path w="621" h="76">
                <a:moveTo>
                  <a:pt x="15180" y="8161"/>
                </a:moveTo>
                <a:lnTo>
                  <a:pt x="15180" y="8161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62760" y="28144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842" y="7293"/>
                </a:moveTo>
                <a:lnTo>
                  <a:pt x="16842" y="729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53160" y="2322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479" y="5928"/>
                </a:moveTo>
                <a:lnTo>
                  <a:pt x="18479" y="592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0800" y="2859120"/>
            <a:ext cx="536400" cy="250920"/>
          </a:xfrm>
          <a:custGeom>
            <a:avLst/>
            <a:gdLst/>
            <a:ahLst/>
            <a:rect l="l" t="t" r="r" b="b"/>
            <a:pathLst>
              <a:path w="1489" h="695">
                <a:moveTo>
                  <a:pt x="15280" y="8111"/>
                </a:moveTo>
                <a:lnTo>
                  <a:pt x="15280" y="8111"/>
                </a:lnTo>
              </a:path>
              <a:path w="1489" h="695">
                <a:moveTo>
                  <a:pt x="15404" y="8086"/>
                </a:moveTo>
                <a:cubicBezTo>
                  <a:pt x="15404" y="8062"/>
                  <a:pt x="15404" y="8054"/>
                  <a:pt x="15429" y="8062"/>
                </a:cubicBezTo>
              </a:path>
              <a:path w="1489" h="695">
                <a:moveTo>
                  <a:pt x="15553" y="8012"/>
                </a:moveTo>
                <a:lnTo>
                  <a:pt x="15553" y="8012"/>
                </a:lnTo>
              </a:path>
              <a:path w="1489" h="695">
                <a:moveTo>
                  <a:pt x="15701" y="7938"/>
                </a:moveTo>
                <a:cubicBezTo>
                  <a:pt x="15709" y="7938"/>
                  <a:pt x="15718" y="7938"/>
                  <a:pt x="15726" y="7938"/>
                </a:cubicBezTo>
              </a:path>
              <a:path w="1489" h="695">
                <a:moveTo>
                  <a:pt x="15875" y="7863"/>
                </a:moveTo>
                <a:cubicBezTo>
                  <a:pt x="15883" y="7863"/>
                  <a:pt x="15892" y="7863"/>
                  <a:pt x="15900" y="7863"/>
                </a:cubicBezTo>
              </a:path>
              <a:path w="1489" h="695">
                <a:moveTo>
                  <a:pt x="16049" y="7789"/>
                </a:moveTo>
                <a:lnTo>
                  <a:pt x="16049" y="7789"/>
                </a:lnTo>
              </a:path>
              <a:path w="1489" h="695">
                <a:moveTo>
                  <a:pt x="16173" y="7714"/>
                </a:moveTo>
                <a:cubicBezTo>
                  <a:pt x="16181" y="7714"/>
                  <a:pt x="16189" y="7714"/>
                  <a:pt x="16197" y="7714"/>
                </a:cubicBezTo>
              </a:path>
              <a:path w="1489" h="695">
                <a:moveTo>
                  <a:pt x="16346" y="7640"/>
                </a:moveTo>
                <a:cubicBezTo>
                  <a:pt x="16354" y="7640"/>
                  <a:pt x="16363" y="7640"/>
                  <a:pt x="16371" y="7640"/>
                </a:cubicBezTo>
              </a:path>
              <a:path w="1489" h="695">
                <a:moveTo>
                  <a:pt x="16495" y="7541"/>
                </a:moveTo>
                <a:lnTo>
                  <a:pt x="16495" y="7541"/>
                </a:lnTo>
              </a:path>
              <a:path w="1489" h="695">
                <a:moveTo>
                  <a:pt x="16619" y="7491"/>
                </a:moveTo>
                <a:cubicBezTo>
                  <a:pt x="16627" y="7491"/>
                  <a:pt x="16636" y="7491"/>
                  <a:pt x="16644" y="7491"/>
                </a:cubicBezTo>
              </a:path>
              <a:path w="1489" h="695">
                <a:moveTo>
                  <a:pt x="16743" y="7417"/>
                </a:moveTo>
                <a:cubicBezTo>
                  <a:pt x="16751" y="7417"/>
                  <a:pt x="16760" y="7417"/>
                  <a:pt x="16768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62760" y="2832120"/>
            <a:ext cx="581040" cy="152280"/>
          </a:xfrm>
          <a:custGeom>
            <a:avLst/>
            <a:gdLst/>
            <a:ahLst/>
            <a:rect l="l" t="t" r="r" b="b"/>
            <a:pathLst>
              <a:path w="1614" h="423">
                <a:moveTo>
                  <a:pt x="16842" y="7342"/>
                </a:moveTo>
                <a:lnTo>
                  <a:pt x="16842" y="7342"/>
                </a:lnTo>
              </a:path>
              <a:path w="1614" h="423">
                <a:moveTo>
                  <a:pt x="16942" y="7367"/>
                </a:moveTo>
                <a:lnTo>
                  <a:pt x="16942" y="7367"/>
                </a:lnTo>
              </a:path>
              <a:path w="1614" h="423">
                <a:moveTo>
                  <a:pt x="17016" y="7466"/>
                </a:moveTo>
                <a:lnTo>
                  <a:pt x="17016" y="7466"/>
                </a:lnTo>
              </a:path>
              <a:path w="1614" h="423">
                <a:moveTo>
                  <a:pt x="17115" y="7565"/>
                </a:moveTo>
                <a:cubicBezTo>
                  <a:pt x="17123" y="7565"/>
                  <a:pt x="17132" y="7565"/>
                  <a:pt x="17140" y="7565"/>
                </a:cubicBezTo>
              </a:path>
              <a:path w="1614" h="423">
                <a:moveTo>
                  <a:pt x="17264" y="7640"/>
                </a:moveTo>
                <a:lnTo>
                  <a:pt x="17264" y="7640"/>
                </a:lnTo>
              </a:path>
              <a:path w="1614" h="423">
                <a:moveTo>
                  <a:pt x="17413" y="7714"/>
                </a:moveTo>
                <a:lnTo>
                  <a:pt x="17413" y="7714"/>
                </a:lnTo>
              </a:path>
              <a:path w="1614" h="423">
                <a:moveTo>
                  <a:pt x="17587" y="7764"/>
                </a:moveTo>
                <a:lnTo>
                  <a:pt x="17587" y="7764"/>
                </a:lnTo>
              </a:path>
              <a:path w="1614" h="423">
                <a:moveTo>
                  <a:pt x="17711" y="7764"/>
                </a:moveTo>
                <a:lnTo>
                  <a:pt x="17711" y="7764"/>
                </a:lnTo>
              </a:path>
              <a:path w="1614" h="423">
                <a:moveTo>
                  <a:pt x="17909" y="7764"/>
                </a:moveTo>
                <a:lnTo>
                  <a:pt x="17909" y="7764"/>
                </a:lnTo>
              </a:path>
              <a:path w="1614" h="423">
                <a:moveTo>
                  <a:pt x="18058" y="7714"/>
                </a:moveTo>
                <a:lnTo>
                  <a:pt x="18058" y="7714"/>
                </a:lnTo>
              </a:path>
              <a:path w="1614" h="423">
                <a:moveTo>
                  <a:pt x="18182" y="7689"/>
                </a:moveTo>
                <a:cubicBezTo>
                  <a:pt x="18190" y="7689"/>
                  <a:pt x="18199" y="7689"/>
                  <a:pt x="18207" y="7689"/>
                </a:cubicBezTo>
              </a:path>
              <a:path w="1614" h="423">
                <a:moveTo>
                  <a:pt x="18306" y="7665"/>
                </a:moveTo>
                <a:lnTo>
                  <a:pt x="18306" y="7665"/>
                </a:lnTo>
              </a:path>
              <a:path w="1614" h="423">
                <a:moveTo>
                  <a:pt x="18455" y="7615"/>
                </a:moveTo>
                <a:lnTo>
                  <a:pt x="18455" y="761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53040" y="2509920"/>
            <a:ext cx="312840" cy="46080"/>
          </a:xfrm>
          <a:custGeom>
            <a:avLst/>
            <a:gdLst/>
            <a:ahLst/>
            <a:rect l="l" t="t" r="r" b="b"/>
            <a:pathLst>
              <a:path w="869" h="125">
                <a:moveTo>
                  <a:pt x="14312" y="6474"/>
                </a:moveTo>
                <a:cubicBezTo>
                  <a:pt x="14337" y="6474"/>
                  <a:pt x="14345" y="6474"/>
                  <a:pt x="14337" y="6449"/>
                </a:cubicBezTo>
              </a:path>
              <a:path w="869" h="125">
                <a:moveTo>
                  <a:pt x="14436" y="6524"/>
                </a:moveTo>
                <a:lnTo>
                  <a:pt x="14436" y="6524"/>
                </a:lnTo>
              </a:path>
              <a:path w="869" h="125">
                <a:moveTo>
                  <a:pt x="14486" y="6524"/>
                </a:moveTo>
                <a:lnTo>
                  <a:pt x="14486" y="6524"/>
                </a:lnTo>
              </a:path>
              <a:path w="869" h="125">
                <a:moveTo>
                  <a:pt x="14635" y="6548"/>
                </a:moveTo>
                <a:lnTo>
                  <a:pt x="14635" y="6548"/>
                </a:lnTo>
              </a:path>
              <a:path w="869" h="125">
                <a:moveTo>
                  <a:pt x="14734" y="6573"/>
                </a:moveTo>
                <a:lnTo>
                  <a:pt x="14734" y="6573"/>
                </a:lnTo>
              </a:path>
              <a:path w="869" h="125">
                <a:moveTo>
                  <a:pt x="14858" y="6573"/>
                </a:moveTo>
                <a:cubicBezTo>
                  <a:pt x="14883" y="6573"/>
                  <a:pt x="14891" y="6573"/>
                  <a:pt x="14883" y="6548"/>
                </a:cubicBezTo>
              </a:path>
              <a:path w="869" h="125">
                <a:moveTo>
                  <a:pt x="15032" y="6573"/>
                </a:moveTo>
                <a:cubicBezTo>
                  <a:pt x="15032" y="6548"/>
                  <a:pt x="15032" y="6540"/>
                  <a:pt x="15056" y="6548"/>
                </a:cubicBezTo>
              </a:path>
              <a:path w="869" h="125">
                <a:moveTo>
                  <a:pt x="15180" y="6573"/>
                </a:moveTo>
                <a:cubicBezTo>
                  <a:pt x="15180" y="6565"/>
                  <a:pt x="15180" y="6556"/>
                  <a:pt x="15180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18080" y="2394000"/>
            <a:ext cx="384120" cy="144360"/>
          </a:xfrm>
          <a:custGeom>
            <a:avLst/>
            <a:gdLst/>
            <a:ahLst/>
            <a:rect l="l" t="t" r="r" b="b"/>
            <a:pathLst>
              <a:path w="1068" h="398">
                <a:moveTo>
                  <a:pt x="15329" y="6524"/>
                </a:moveTo>
                <a:cubicBezTo>
                  <a:pt x="15337" y="6524"/>
                  <a:pt x="15346" y="6524"/>
                  <a:pt x="15354" y="6524"/>
                </a:cubicBezTo>
              </a:path>
              <a:path w="1068" h="398">
                <a:moveTo>
                  <a:pt x="15503" y="6474"/>
                </a:moveTo>
                <a:lnTo>
                  <a:pt x="15503" y="6474"/>
                </a:lnTo>
              </a:path>
              <a:path w="1068" h="398">
                <a:moveTo>
                  <a:pt x="15652" y="6424"/>
                </a:moveTo>
                <a:cubicBezTo>
                  <a:pt x="15660" y="6424"/>
                  <a:pt x="15669" y="6424"/>
                  <a:pt x="15677" y="6424"/>
                </a:cubicBezTo>
              </a:path>
              <a:path w="1068" h="398">
                <a:moveTo>
                  <a:pt x="15776" y="6375"/>
                </a:moveTo>
                <a:cubicBezTo>
                  <a:pt x="15784" y="6375"/>
                  <a:pt x="15793" y="6375"/>
                  <a:pt x="15801" y="6375"/>
                </a:cubicBezTo>
              </a:path>
              <a:path w="1068" h="398">
                <a:moveTo>
                  <a:pt x="15925" y="6325"/>
                </a:moveTo>
                <a:lnTo>
                  <a:pt x="15925" y="6325"/>
                </a:lnTo>
              </a:path>
              <a:path w="1068" h="398">
                <a:moveTo>
                  <a:pt x="16098" y="6251"/>
                </a:moveTo>
                <a:cubicBezTo>
                  <a:pt x="16106" y="6251"/>
                  <a:pt x="16115" y="6251"/>
                  <a:pt x="16123" y="6251"/>
                </a:cubicBezTo>
              </a:path>
              <a:path w="1068" h="398">
                <a:moveTo>
                  <a:pt x="16247" y="6201"/>
                </a:moveTo>
                <a:lnTo>
                  <a:pt x="16247" y="6201"/>
                </a:lnTo>
              </a:path>
              <a:path w="1068" h="398">
                <a:moveTo>
                  <a:pt x="16396" y="6127"/>
                </a:moveTo>
                <a:lnTo>
                  <a:pt x="16396" y="6127"/>
                </a:lnTo>
              </a:path>
              <a:path w="1068" h="398">
                <a:moveTo>
                  <a:pt x="15999" y="6300"/>
                </a:moveTo>
                <a:lnTo>
                  <a:pt x="15999" y="6300"/>
                </a:lnTo>
              </a:path>
              <a:path w="1068" h="398">
                <a:moveTo>
                  <a:pt x="16297" y="6176"/>
                </a:moveTo>
                <a:cubicBezTo>
                  <a:pt x="16305" y="6176"/>
                  <a:pt x="16313" y="6176"/>
                  <a:pt x="16321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3789360"/>
            <a:ext cx="215640" cy="2565360"/>
          </a:xfrm>
          <a:custGeom>
            <a:avLst/>
            <a:gdLst>
              <a:gd name="textAreaLeft" fmla="*/ 0 w 215640"/>
              <a:gd name="textAreaRight" fmla="*/ 77760 w 21564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560" y="1197000"/>
            <a:ext cx="0" cy="338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9183800">
            <a:off x="6308280" y="1843920"/>
            <a:ext cx="2239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บทบัญญ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ฎหมายแม่บ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875400">
            <a:off x="6434640" y="406404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ฎหมายลู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9042200">
            <a:off x="6629760" y="3553200"/>
            <a:ext cx="17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อนุบัญญัติ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5A1-AA13-4801-B130-0BAFAA38C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2200" y="11592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แบบดั้งเดิม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11280" y="981000"/>
          <a:ext cx="7848360" cy="5337360"/>
        </p:xfrm>
        <a:graphic>
          <a:graphicData uri="http://schemas.openxmlformats.org/drawingml/2006/table">
            <a:tbl>
              <a:tblPr/>
              <a:tblGrid>
                <a:gridCol w="2067120"/>
                <a:gridCol w="3355560"/>
                <a:gridCol w="242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่าน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ปล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า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ตุ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ณร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สฬส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ตตรส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ารส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ูนวีสติ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สต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วีสต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ส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ู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ิ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สอง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สาม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สี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ห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ห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เจ็ด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แป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เก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ี่สิบ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ี่สิบเอ็ด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5899-F6E7-491D-B104-03A2CA3CB5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2200" y="33336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แบบดั้งเดิม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6200" y="1341360"/>
            <a:ext cx="70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3798720"/>
            <a:ext cx="693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ECCD-A158-4A14-B831-0E0975BEA1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2200" y="33336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สมัยใหม่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42472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ารใส่เครื่องหม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เช่นบ้านเลขที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มีมาตราหลักเรียงลำดับอยู่แล้ว จึงไม่อาจเพิ่มเลขมาตราต่อไปได้ตามปกติ เมื่อมีความประสงค์ที่จะเพิ่มเลขมาตรา ก็เพียงแต่ใส่เครื่องหม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หลังมาตรานั้น แล้วใส่ลำดับเลขที่ทับเรียงลำดับกับไป เช่น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ด้วย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ล่เรียงไปจนจบ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ึงขึ้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478-4CBB-41F0-A746-9A3E14C5B1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eneral Law &amp; Special La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8920" y="1668240"/>
            <a:ext cx="8713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และกฎหมายพิเศษมีหลักการอย่างไ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มีลักษณะของกฎหมายทั่วไปและกฎหมายพิเศษหรือไม่ อย่างไ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055-55F9-4E8B-988C-D5613DB38E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0920" y="1052640"/>
            <a:ext cx="871380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s Genera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ี่ข้อความใช้บังคับเป็นการทั่วไป ไม่จำกัดบุคคล สถานที่ เวลาหรือเหตุการณ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s Specia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ี่ข้อความใช้บังคับบุคคล สถานที่ เวลา หรือเหตุการณ์ เป็นกรณีพิเศ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กฎหมายทั่วไป และกฎหมายพิเศษ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หว่างกฎหมายด้วยกัน กฎหมายที่บัญญัติใช้บังคับเป็นการทั่วไปเป็นกฎหมายทั่วไป ส่วนกฎหมายที่บัญญัติใช้เป็นการเฉพาะ เป็นกฎหมายพิเศษ เช่น ประมวลกฎหมายแพ่งและพาณิชย์ ประมวลกฎหมายอาญา ถือเป็นกฎหมายทั่วไป ในขณะที่ประมวลรัษฎากรมีบทบัญญัติทั้งในส่วนที่เป็นกฎหมายแพ่ง และกฎหมายอาญา ถือเป็นกฎหมายพิเศ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9160" y="11592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63F3-69C1-41D8-BF72-DD3CD9F275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21840" y="1052640"/>
            <a:ext cx="864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ฎหมายฉบับเดียว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ที่ใช้บังคับเป็นการทั่วไป โดยไม่มีข้อความแสดงให้เห็น หรือบัญญัติไว้เป็นอย่างอื่น ถือเป็นกฎหมายทั่วไป โดยชื่อบทบัญญัติจะแสดงว่าเป็นกฎหมายทั่วไป  เช่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เบื้องต้น เป็นกฎหมายทั่วไปของบทบัญญัติแห่งประมวลรัษฎากรทั้งมว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็ดเสร็จทั่วไ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ฎฐ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ของบทบัญญัติ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33BD-D4FA-4960-90E2-27EF449DB7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ทั่วไ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ทั่วไ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นิยามศัพท์ 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BDB4-4E82-4CD2-81A3-98A6997235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669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มีบทบัญญัติเรื่องเดียวกันซ้ำกัน แต่มีเนื้อความแสดงให้เห็นเป็นพิเศษ หรือบัญญัติไว้แตกต่างไปจากบทบัญญัติทั่วไป ถือเป็นกฎหมายพิเศษ เช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9160" y="324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2920" y="2205000"/>
          <a:ext cx="8893080" cy="4468680"/>
        </p:xfrm>
        <a:graphic>
          <a:graphicData uri="http://schemas.openxmlformats.org/drawingml/2006/table">
            <a:tbl>
              <a:tblPr/>
              <a:tblGrid>
                <a:gridCol w="2773440"/>
                <a:gridCol w="3168360"/>
                <a:gridCol w="295128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 “อธิบดี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=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ธิบดีกรมสรร พากรและผู้ที่ได้รับมอบ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ญจ เฉพาะอธิบดีกรมสรพ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ถานที่ยื่นรายการและชำระ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รัฐ มน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อธิบดี กรมสรรพ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ในการออกหมายเรีย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 2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ภาษ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/4: VAT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1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ก่อนถึงกำหนด เวลา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B19-46EE-4581-9B1A-8A8BFBCD1A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749160" y="324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42920" y="836640"/>
          <a:ext cx="8893080" cy="5802120"/>
        </p:xfrm>
        <a:graphic>
          <a:graphicData uri="http://schemas.openxmlformats.org/drawingml/2006/table">
            <a:tbl>
              <a:tblPr/>
              <a:tblGrid>
                <a:gridCol w="2700360"/>
                <a:gridCol w="3168720"/>
                <a:gridCol w="302400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ชำระภาษีตามหนังสือแจ้งการ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 นับแต่วันได้รับหนังสือแจ้งการประเมิน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 นับแต่วันได้รับหนังสือแจ้งฯ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ี้ยปร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ภาษ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นึ่งเท่า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ยื่นแบบแสดงราย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องเท่า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มิได้ยื่นแบบแสดง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&amp;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9, 91/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-1.5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เดือนหรือเศษของเดือ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ภาษีเงินได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มิได้มีบัญญัติเป็นอย่างอ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20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1 (2) - 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ท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 -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ท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9/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1.5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เดือนหรือเศษของเดือ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&amp;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9960-8FCF-4488-AF2E-91C427C9E8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49160" y="324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42920" y="836640"/>
          <a:ext cx="8893080" cy="5416560"/>
        </p:xfrm>
        <a:graphic>
          <a:graphicData uri="http://schemas.openxmlformats.org/drawingml/2006/table">
            <a:tbl>
              <a:tblPr/>
              <a:tblGrid>
                <a:gridCol w="2700360"/>
                <a:gridCol w="3097080"/>
                <a:gridCol w="309564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อคื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กรณีมิได้มีบัญญัติไว้เป็นอย่างอ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3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4 - 84/4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1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บัญชีพิเศ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ญชีแสดงรายได้หรือรายรับประจำว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ญชีพิเศษแสดงการหักภาษี ณ ที่จ่ายและการนำส่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บดุล บัญชีทำ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บดุล บัญชีทำ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7 - 87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งานในระบ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4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งาน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บ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กำหนดโทษทางอาญ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5 – 3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0 - 90/5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5 -16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พึง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5713-DEE6-481C-8316-D616DE2959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รวม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พรว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ทั้งมวล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 a Whole/ Total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จักรวาล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ivers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0 deg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use &amp; Effect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EB5-8B7E-4F49-96CE-0CBD70437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79280" y="1082520"/>
          <a:ext cx="8893440" cy="5326200"/>
        </p:xfrm>
        <a:graphic>
          <a:graphicData uri="http://schemas.openxmlformats.org/drawingml/2006/table">
            <a:tbl>
              <a:tblPr/>
              <a:tblGrid>
                <a:gridCol w="2737080"/>
                <a:gridCol w="2808000"/>
                <a:gridCol w="334836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รับรู้เงินได้พึง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กรณีโอนอสังหาริมทรัพ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อบระยะเวลาบัญช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1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 “ขาย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ฉพาะอสังหาริมทรัพ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1(8)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(4)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ของบุคคลใดถือเป็นของบุคคล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(4)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ของบุตรผู้เยาว์ถือเป็นของบิดาหรือมารดาผู้ใช้อำนาจปกครอ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ของภริยาถือเป็นของสาม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ญ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30CD-E67B-424D-B331-B83B05DE85D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79280" y="981000"/>
          <a:ext cx="8893440" cy="5613480"/>
        </p:xfrm>
        <a:graphic>
          <a:graphicData uri="http://schemas.openxmlformats.org/drawingml/2006/table">
            <a:tbl>
              <a:tblPr/>
              <a:tblGrid>
                <a:gridCol w="2737080"/>
                <a:gridCol w="3168360"/>
                <a:gridCol w="298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: PIT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: 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เจ้าพนัก งาน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- 2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9: PIT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1: CI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 - 88/6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1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รับผิดในการเสี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ดทะเบีย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กำหนดไว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5-85/19: 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2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DF3F-0112-4627-A0EB-46D9D88489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79280" y="1082520"/>
          <a:ext cx="11881080" cy="5178600"/>
        </p:xfrm>
        <a:graphic>
          <a:graphicData uri="http://schemas.openxmlformats.org/drawingml/2006/table">
            <a:tbl>
              <a:tblPr/>
              <a:tblGrid>
                <a:gridCol w="2774880"/>
                <a:gridCol w="3130560"/>
                <a:gridCol w="2988000"/>
                <a:gridCol w="298764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ใบกำกับภาษี ใบเพิ่มหนี้ ใบลดห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กำหนดไว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2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ตลา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9/3: 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(3)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AC3C-C625-4DFC-BD1A-3BDB1B2494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3120" y="1268280"/>
            <a:ext cx="86616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บังคับกฎหมายทั่วไป และกฎหมายพิเศ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ใช้บังคับก่อนหรือยกเว้นกฎหมายทั่วไป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มีกฎหมายพิเศษบัญญัติไว้ ให้ใช้บังคับ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สังเกตบทบัญญัติกฎหมายทั่วไปตามประมวลรัษฎากรมั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ากฏข้อความต่อไปนี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มวลรัษฎากรนี้ หรือในหมวดนี้ เว้นแต่ข้อความจะ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ให้เห็นเป็นอย่างอื่น เช่น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เช่น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CBAC-D109-4BEA-821B-24D120F588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24000" y="1290240"/>
            <a:ext cx="8640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01800"/>
                <a:tab algn="l" pos="10796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ต้บังคับ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01800"/>
                <a:tab algn="l" pos="10796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ไรก็ตาม กรณี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บัญญัติว่า “เว้นแต่กรณ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ังดูเหมือ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จะเป็นข้อยกเว้นขอ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ซึ่งจะทำให้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เป็นกฎหมายพิเศษขอ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ต่การหาเป็นเช่นนั้นไม่ เราต้องพิจารณาจาก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การทั่วไปว่า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จึงยังคงเป็นกฎหมายทั่วไปขอ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เสม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ED3B-B814-4F72-9DAB-42116CF9265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ภาษีอากร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 ประเภทภาษีอากรที่มีระบุไว้ในหมวดนั้นๆ ของ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เป็น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วิธีการบริหารการจัดเก็บไว้เป็นการเฉพาะตาม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ทั้งนี้ เว้นแต่จะมีบทบัญญัต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ภาษีอากรประเมินไว้เป็นพิเศษใน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นเป็นลักษณะเฉพาะของประมวล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เป็นผู้มีอำนาจหน้าที่ในกา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ถูกต้องของจำนวน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D85-1D17-4B2B-8825-C0CC5A0603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ประเมิน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Assessment Tax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lf-assess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uthoritative Assess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EF0-3FEF-4D0C-8470-5DE691D3EB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ภาษีอากร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1384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มิใช่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อากร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มาตราแรกของ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ได้บัญญัต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เป็นภาษีอากร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พนักงานเจ้าหน้าที่อากรแสตมป์หรือนายตรวจเป็นผู้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หน้าที่ในการดำเนินการเกี่ยวกับอากรแสตมป์ โด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หวนกลับไปใช้เจ้าพนักงานประเมิน และวิธีการเกี่ยวแก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เว้นแต่การอุทธรณ์ ซึ่ง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ให้นำ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โดยอนุโล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F60-53AE-4617-82E7-168708DC8E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5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ภาษีอากรที่จัดเก็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 - 6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บุคคลธรรมด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- 90/5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- 91/2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12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อากรแสตมป์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251-8482-46DF-B1C3-03DF3F59F1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898920" y="255600"/>
            <a:ext cx="7201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ฎหมายตาม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78920" y="112392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ความเป็นธรรม” และหลัก “ภาษีอากรที่ดี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ความสม่ำเสมอ” หรือหลัก “ความแน่นอ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กฎหมายพิเศษและกฎหมายทั่วไป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้อหาสำคัญกว่ารูปแบ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bstance over Form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กล่าวอ้าง ผู้นั้นนำสื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ปิดปา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1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ของฝ่ายหนึ่ง ต้องเป็นรายได้ของอีกฝ่ายหนึ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ฝ่ายที่จ่ายเงินได้ต้องพิสูจน์ผู้รับได้ว่าเป็นใค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8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ถ้าจัดเก็บได้ยาก ให้ยกเว้นการจัดเก็บ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ใช้หน่วยเงินตราไทยในการคำนวณภาษีอากร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กฎหมายเอกชน และกฎหมายมหาชน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F6D1-EBB9-47E2-A406-F91CAC5EF70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Over Night Grow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ack’s Bean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ถั่วของแจ็คผู้ฆ่ายักษ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t’s Concept for CEO (CEO’s Concept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e Right View &amp; Right Though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sitiv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ink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n growth over night process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ัฒนาความคิดให้เติบโตในชั่วข้ามค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4DF-B527-4C0E-B63E-8DC054AE5E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สม่ำเสมอ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stency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สม่ำเสมอ – ความมีมาตรฐ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ในหลักเกณฑ์ วิธีการ และเงื่อนไขเดียวกันตลอด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สม่ำเสมอเกี่ยวก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ั่ว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 อัตราภาษี และวิธีการคำนวณ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อัตราแลกเปลี่ยน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ภาษีเงินได้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ำนวณค่าสึกหรอและค่าเสื่อม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ตีราคาสินค้าคงเหลือตามราคาท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การคำนวณรายรับ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422-07FF-4FCD-9561-1D87BC93CC2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นื้อหาสำคัญกว่ารูปแบบ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bstance over For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วามสำคัญต่อข้อเท็จจริงมากกว่ารูปแบบของเอกสารหลักฐาน เช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ซื้อขาย เป็นรูปแบบ แต่เนื้อหากำหนดให้กรรมสิทธิ์ตกเป็นของผู้ซื้อเมื่อชำระราคาครบถ้วนแล้ว เช่นนี้ ถือเป็นสัญญาเช่าซื้อ ที่ต้องปิดอากรแสตมป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๋วสัญญาใช้เงินที่มีทั้งผู้กู้และผู้ให้กู้ลงนามร่วมกัน เช่นนี้ ถือเป็นสัญญากู้ยืมเงินที่ต้องปิดอากรแสตมป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มีบางกรณีที่กฎหมายยึดถือ หลัก “รูปแบบสำคัญกว่าเนื่อหา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ก็ให้โอกาสแก่ผู้เสียภาษีอากรที่จะใช้หลัก “เนื้อหาสำคัญกว่ารูปแบบ” อาทิ 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ว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มีชื่อในหนังสือสำคัญใดๆ แสดงว่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จ้าของทรัพย์สินอันระบุไว้ในหนังสือสำคัญ และทรัพย์สินนั้นก่อให้เกิดเงินได้พึงประเมิน หรือ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ได้รับเงินได้พึงประเมินโดยหนังสือสำคัญเช่นว่าน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มีอำนาจประเมินเรียกเก็บภาษีทั้งหมดจากผู้มีชื่อใน หนังสือสำคัญนั้นก็ได้ แต่ถ้าบุคคลนั้นต้องโอนเงินได้พึงประเมินให้แก่บุคคลอื่น บุคคลนั้นมีสิทธิหักเงินภาษีจากจำนวนเงินซึ่งต้องโอนให้แก่บุคคลอื่นตามส่ว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F02-8618-47FC-A6B3-C78E10D8298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ใดกล่าวอ้าง ผู้นั้นนำสืบ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กฎหมายพย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ที่เจ้าพนักงานประเมินมีอำนาจในการกล่าวหาว่า ผู้ต้องเสียภาษีอากรชำระภาษีอากรไม่ถูกต้องครบถ้วนตามทีกฎหมายกำหนด หรือปฏิบัติหน้าที่ทางภาษีอากรไม่ถูกต้อ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ากผู้ต้องเสียภาษีโต้แย้ง ข้อกล่าวหา โดยอ้างว่าตนเองเสีบภาษีอากรถูกต้องครบถ้วนและปฏิบัติหน้าที่ทางภาษีอากรโดยถูกต้องแล้ว ผู้ต้องเสียภาษีอากรนันๆ มีหน้าที่ต้องพิสูจน์ความถูกต้องแห่งต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สูจน์ความถูกต้องดังกล่าว ศาลฎีกาได้เคยมีแนวทางว่า “ต้องพิสูจน์โดยปราศจากข้อสงสัยของเจ้าพนักงานประเมิน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913-AA34-4665-99F8-AFA014440A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ปิดปาก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เพื่อประโยชน์ในการบริหารการจัดเก็บภาษีอากร ในอันที่จะให้เกิดความรวดเร็ว ลดขั้นตอนการปฏิบัติ ภายใต้ขอบเขตของความเป็นธรรมตามกฎหมาย เช่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ท้าย ในการส่งหมายเรียก หนังสือแจ้งให้เสียภาษีอากรหรือหนังสืออื่นซึ่งมีถึงบุคคลใดตามลักษณ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ปฏิบัติตามวิธีดังกล่าวข้างต้นแล้ว ให้ถือว่าเป็นอันได้รับแล้ว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ผู้ใดโดยหน้าที่ราชการตามลักษณะนี้ ได้รู้เรื่องกิจการของผู้เสียภาษีอากรหรือของผู้อื่นที่เกี่ยวข้อง ห้ามมิให้นำออกแจ้งแก่ผู้ใด หรือยังให้ทราบกันไปโดยวิธีใด เว้นแต่จะมีอำนาจที่จะทำได้โดยชอบด้วยกฎหม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ห้ามอุทธรณ์การประเมินของเจ้าพนักงานประเมินตาม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วินิจฉัยว่าเป็นการขายสินค้าหรือการให้บริการของอธิบดีกรมสรรพากรตาม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509-276E-4BD0-A174-5A616377069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ช้หน่วยเงินตราไทย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การคำนวณภาษีอ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9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เพื่อความเป็นธรรมและความมาตรฐานเกี่ยวกับการใช้หน่วยเงินตราไทย เช่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 ตาม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ถ้าจำเป็นต้องคำนวณเงินตราต่างประเทศเป็นเงินตราไทยเพื่อปฏิบัติการตามลักษณะนี้ ให้คิดตามอัตราแลกเปลี่ยนซึ่งกระทรวงการคลังประกาศเป็นคราว ๆ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ในการคำนวณค่าหรือราคาของเงินตรา ทรัพย์สินหรือหนี้สินซึ่งมีค่าหรือราคาเป็นเงินตราต่างประเทศ ที่เหลืออยู่ในวันสุดท้ายของรอบระยะเวลาบัญชี หรือที่ได้มาหรือจ่ายในระหว่าง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ในการคำนวณมูลค่าของฐานภาษีที่ได้รับหรือ พึงได้รับจากการขายสินค้า การให้บริการ หรือการนำเข้าเป็นเงินตราต่างประเทศ ให้คำนวณเงินตราต่างประเทศนั้น เป็นเงินตรา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AE8-7541-4465-9668-600FA96E33A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476000" y="1052280"/>
            <a:ext cx="6264360" cy="15843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ล่งแหล่งเงินได้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ิ่นที่อยู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ce Rule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ชาต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ationality Rule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4114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87640" y="2924280"/>
            <a:ext cx="3168720" cy="295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แหล่งเงิน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2924280"/>
            <a:ext cx="3168360" cy="295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ถิ่นที่อยู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ce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38560" y="146160"/>
            <a:ext cx="62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จัดเก็บภาษีเงินได้</a:t>
            </a:r>
            <a:r>
              <a:rPr b="0" lang="en-US" sz="4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2925720"/>
            <a:ext cx="3168360" cy="2951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สัญชา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ationality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908000" y="58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308720" y="58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12760" y="6059520"/>
            <a:ext cx="30945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อกหลักใดหลักหนึ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907640" y="630864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0360" y="6308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24B8-497E-4AD4-9838-12976FBD967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960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กฎหมายทั่วไปมาปรับใช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nalog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ารตีความโดยคณะกรรมการวินิจฉั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แนวทาง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ระทรวงการคลั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คำพิพากษาศาลฎีกามาปรับใช้เป็นแนวทางปฏิบ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277920"/>
            <a:ext cx="8507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อุดช่องโหว่ตาม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6F4-647F-4EED-9AC2-B012980FE90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 ไม่มีบทบัญญัติมาตราต่อไปนี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 มีการยกเลิกบทบัญญัติว่า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การจัดเก็บภาษีเงินได้จากบริษัทหรือห้างหุ้นส่วนนิติบุคคล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บุคคลธรรมด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2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3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ภาษีการค้าที่ถูกยกเลิกไป แม้จะแทนที่ด้วยภาษีมูลค่าเพิ่มตั้งแต่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ธุรกิจเฉพาะ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็ตา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ก็ไม่ครอบคลุมทั้งสองมาตราดังกล่า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4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2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ยเป็นบทบัญญัติหมวด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 ถูกยกเลิกไปโดยพระราชบัญญัติภาษีป้าย 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10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ไม่มีบทบัญญัติใดมาแทนที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0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มหรสพ และบัญชีอัตราอากรมหรสพ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ยกเลิกโดยนำไปบัญญัต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320" y="23796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ที่ไม่มีใน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2864-A15E-43B6-9077-01C5809EBFA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 ที่ไม่มีผลใช้บังคับในปัจจุบันได้แก่บทบัญญัติ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คำว่า “อำเภอ” “นายอำเภอ” “ที่ว่าการอำเภอ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ซึ่งเป็นกฎหมายทั่วไปขอ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ที่นายอำเภอเป็นผู้ประเม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คำว่า “บริษัทเงินทุน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เฉพาะในส่วนของเครดิตภาษีกรณีโรงงา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สูบเสียภาษีเงินได้แทนผู้ค้าบุหรี่ของโรงงานยาสู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ส่วนของการคำนวณเงินตราต่างประเทศเป็นเงินตราไทยเพื่อการลงรายงานภาษีขา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0080" y="115920"/>
            <a:ext cx="6749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ไม่มีผลใช้บังคั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54BB-4E50-444E-9B54-C0FDB17E5A2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 ที่ไม่มีผลใช้บังคับในปัจจุบันได้แก่บทบัญญัติ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ส่งออก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3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ขอเข้าสู่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 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6 – 82/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 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(4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ถอน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การจัดทำรายงา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80080" y="115920"/>
            <a:ext cx="6749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ไม่มีผลใช้บังคั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428A-AA38-4FE8-BAF9-CE8E6B061F4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1298160"/>
            <a:ext cx="84960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 หมายความว่าอย่าง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 บัญญัติขึ้นเมื่อ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มีผลใช้บังคับเมื่อใด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เจตนารมณ์ในการบัญญัติประมวลรัษฎากร อย่าง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ต้องบัญญัติกฎหมายในรูป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ของประมวลกฎหมายเป็นอย่างไ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มีลำดับศักดิ์ของกฎหมายอย่างไ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พิ่มเติมประมวลรัษฎากรต้องแก้ไขเพิ่มเติมด้วยกฎหมายลำดับ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ทราบได้อย่างไรว่ามีการแก้ไขเพิ่มเติ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E30-CD76-4EA5-A5B1-6CF29D4C3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 ที่ไม่มีผลใช้บังคับในปัจจุบันได้แก่บทบัญญัติ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ส่งออก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2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สำหรับผู้ประกอบการจด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ในส่วนของการปิดแสตมป์บริบูรณ์ โดยวิธีแสตมป์ดุ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0080" y="115920"/>
            <a:ext cx="6749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ไม่มีผลใช้บังคั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72BB-7CE9-4D12-9CC6-630395E96F2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ของกฎหมายภาษีอากร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aws’ Structure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General Tax Princip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ทั่วไ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Taxpayer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ax Computation: Tax Base, Tax Rate &amp; Tax amoun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ax Payment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Tax Exemption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Tax Refund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Other Tax Function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ทาง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Tax Settlemen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Tax Punishmen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Civil &amp; Criminal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พ่งและอาญ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7D5-133B-4B62-B54B-E11CC74CAA1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79280" y="1229400"/>
            <a:ext cx="88203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Government Organization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ที่มีอำนาจหน้าที่ในการจัดเก็บ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Why Tax &amp; Tax Why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ต้องจัดเก็บภาษีอากรและจัดเก็บภาษีอากรไปเพื่ออะ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ax Burden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ระ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Direct / Indirect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ax Period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ชำระ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Yearly, Monthly, Oth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Tax Type/Category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หรือประเภท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ssessment/ Non Assessment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Oth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72280" y="399960"/>
            <a:ext cx="556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eneral Tax Princ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CD2-2BF8-4A35-9FAD-3711D508624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16000" y="1557000"/>
            <a:ext cx="8604000" cy="51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Ministry of Financ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การคลั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Revenue Departmen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Revenue Cod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I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I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B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D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Petroleum Income Tax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ปิโตรเลีย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Travel Tax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เดินทางออกนอก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12320" y="198360"/>
            <a:ext cx="69746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BE0-C835-4D12-AD70-EBF97AEFC56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16000" y="1523880"/>
            <a:ext cx="853272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Excise Department (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รมสรรพาสามิต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Liquor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ุ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Tobacco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ยาสู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Card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ไพ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Excise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รรพสาม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etroleum &amp; Product of Petroleum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oft Drink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ดื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ar &amp; Motorcy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ir Condition (not over 72,000 BTU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12320" y="198360"/>
            <a:ext cx="697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9D3-09AA-48F6-8333-34F3BAC40CD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60360" y="1511280"/>
            <a:ext cx="853272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rystal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แก้วเจียรนั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Yacht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อยอช์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erfume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้ำหอมและหัวน้ำหอ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Race Horse,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นามม้าแข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olf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นามกอล์ฟ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ight Club,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บริการไนต์คล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urkish Bath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บริการอาบ อบ น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elecommunication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ทรคมนาค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ศุลก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Import Duty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ขาเข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Export Duty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ขาออ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12320" y="198360"/>
            <a:ext cx="6974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10720" y="1741320"/>
            <a:ext cx="13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EF0-A956-43E4-8016-929A530B51A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17440" y="1483920"/>
            <a:ext cx="853128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inistry of Interior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มหาดไท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Household &amp; Land Tax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โรงเรือนและที่ด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 Municipal Tax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บำรุงท้องที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3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ignboard Tax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4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 Local Tax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่วนท้องถิ่น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5 Bird Nest Duty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รังนกอีแอ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การขนส่งทางบ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รถยนต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12320" y="198360"/>
            <a:ext cx="69746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284-C995-42E5-AF93-4CDEEE1D87D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50560" y="1595160"/>
            <a:ext cx="8388360" cy="40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Ministry of Industry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อุตสาหกรร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ภาคหลวงแร่ ค่าสัมปท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Ministry of Natural Resource and Environmen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ทรัพยากรธรรมชาติและสิ่งแวดล้อ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ประม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Ministry of Commerc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พาณิชย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ธรรมเนียมชั่ง ตวง 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Ministry of Judgmen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ยุติธรร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ธรรมเนียมศา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12320" y="198360"/>
            <a:ext cx="6974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81B-2D2F-490B-8793-86C5CEA481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rdinary Person &amp; Estate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และกองมรด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Juristic Partnership &amp; Group of Person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หรือคณะบุคคลที่มิใช่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any &amp; Juristic Partnership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 Juristic Person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18320" y="287280"/>
            <a:ext cx="27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pay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A49-CC7E-4EB4-932B-6EEFCF93088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come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ราย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เงินได้บุคคลธรรมดา ภาษีเงินได้นิติบุคคล ภาษีเงินได้ปิโตรเลีย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Consumption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ฐานการบริโภ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ภาษีมูลค่าเพิ่ม ภาษีสรรพสามิต ภาษี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ทรัพย์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ภาษีบำรุงท้องที่ ภาษีโรงเรือนและที่ดิน ภาษีป้าย ภาษีรถยนต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อากรแสตมป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74480" y="28728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B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C20-1A8E-4364-BBD8-8F938A8153D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79280" y="1467000"/>
            <a:ext cx="878544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มีกี่ลักษณะ อะไรบ้า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มประมวลรัษฎากรมีกี่ลักษณะ ลักษณะที่ยกเลิกไปคือลักษณะใด ตั้งแต่มาตราใดถึงมาตรา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ใช้บังคับบทบัญญัติแห่งประมวลรัษฎากร มีการจัดเก็บภาษีอากรประเภทใดบ้าง พิจารณาจากอะ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มีกี่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ทรกบทบัญญัติในประมวลรัษฎากร มีกี่วิธี อะไรบ้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มีกี่หมวด อะไรบ้า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ความรู้ทั่วไปเกี่ยวกับประมวลรัษฎากร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262-81D3-4177-8AC2-502FD560A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Flat Rat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คง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อัตราตามอัตรา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Proportion Rate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อัตราภาษี เงินได้นิติบุคล อัตรา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Progressive Rat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อัตรา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บุคคลธรรมดา อัตราภาษีเงินได้นิติบุคคล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Regressive Rat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ถดถอ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93560" y="287280"/>
            <a:ext cx="26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F43-DC1D-4B71-9DDB-4A681B8146D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69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 ให้นำฐานภาษีคูณด้วยอัตรา ก็จะได้จำนวนภาษีที่ต้องชำร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ภาษีมูลค่าเพิ่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VAT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-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เครด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ภาษี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ำระ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มากกว่า 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ิทธ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มากกว่า ภาษีขา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31280" y="287280"/>
            <a:ext cx="45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Com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092-341A-41D1-88D0-6378B233948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ถูกหักไว้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ยื่นรายการประเมินตนเอง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Sel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ssmen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เจ้าพนักงานประเมินหรือสั่งให้เสี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uthoritative Assessmen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แทนผู้ซื้อสินค้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PIT, C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เสียภาษ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41680" y="287280"/>
            <a:ext cx="372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Pay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47A-9433-47AE-8EF8-BD08AC47A62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31640" y="1371240"/>
            <a:ext cx="8461440" cy="42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ให้แก่บุคคล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เงินได้ หรือรายได้ หรือ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ให้หักค่าลดหย่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ให้หักรายจ่ายเพิ่มขึ้น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เครดิต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จำนวนภาษี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41960" y="287280"/>
            <a:ext cx="39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xem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2BB-832D-4390-AA89-23AEA88C771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431640" y="1294920"/>
            <a:ext cx="8244000" cy="38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ืนภาษีให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ไม่มีหน้าที่ต้องเสีย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เสียภาษีเกินกว่าจำนวนที่ต้องเสีย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ื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ผู้ประกอบการและนักท่องเที่ยว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คื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ก่อนคื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ดอกเบี้ยแก่ผู้ได้รับคืนเงิ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90880" y="28728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Ref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C24-2370-4A7F-BA54-25179047D2E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ขจัดข้อโต้แย้ง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โต้แย้งการประเม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ของเจ้าพนักงานฯ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ต่อคณะกรรมการพิจารณาอุทธรณ์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คำวินิจฉัยต่อศาลภาษีอากรกลางและศาลฎีก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การอุทธ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ส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อุทธรณ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6880" y="149400"/>
            <a:ext cx="74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จัดข้อโต้แย้งทางภาษีอากร 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Settlement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97B-2C4A-4422-8C8B-5260E9CA505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86920" y="1268280"/>
            <a:ext cx="831708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ทางภาษีอากรอื่น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มีและใช้เลขประจำตัวผู้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เอกสารหลักฐาน และบัญชีพิเศษต่าง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จ้งรายการตามที่กฎหมาย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สูจน์ข้อกล่าวอ้างด้วยพยานหลักฐานและข้อเท็จจริ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ความร่วมมือแก่เจ้าพนักงาน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15120" y="326880"/>
            <a:ext cx="531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Other Tax Fun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4E4-81E1-4437-88C6-7E177083CF3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ตามกฎหมายภาษีอากร กำหนดขึ้นเพื่อให้กฎหมายมีสภาพบังค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nction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นที่จะก่อให้เกิดความศักดิ์สิทธิ์ของกฎหมาย แบ่งเป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แพ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nalty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ที่ชำระภาษีอากรไม่ถูกต้อง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ดจำนว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ภาษีอาก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rcharge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ชำระภาษีล่าช้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เวลาที่กำหนดใน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อาญา ใช้ในกรณีฝ่าฝืนบทบัญญัติของกฎหมาย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ำคุ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mprison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e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5240" y="255600"/>
            <a:ext cx="42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Punish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EFD-466A-43F0-A5D7-F03EA686C7C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2360" y="1366920"/>
            <a:ext cx="864072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หมายความว่าอย่างไ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ภาษีประเภท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ภาษีประเภท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 ไม่มีบทบัญญัติมาตราใดบ้าง เพราะเหตุ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จัดเรียงลำดับอนุบัญญัติตา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งบอกบทบัญญัติที่สำคัญ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วใ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แต่ละลักษณ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งบอกโครงสร้างของกฎหมา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1FE-D0A1-4A9F-9EBA-21225EEAB1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2360" y="1438200"/>
            <a:ext cx="864072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ตามประมวลรัษฎากรแบ่งออกเป็นกี่ประเภท อะไรบ้าง เพื่อประโยชน์ในการบริหารการจัดเก็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ภาษีอากรที่มีการจัดเก็บตามประมวลรัษฎากร มีกี่ประเภท อะไรบ้า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ลักเกณฑ์การอ่านวรรคในกฎหมายอย่างไร –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ี่วรร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ทบัญญัติของกฎหมายคืออะ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บัญญัติขึ้นเพื่ออะ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AAA-FAD5-492D-A4DF-E36B22C69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RD</cp:lastModifiedBy>
  <dcterms:modified xsi:type="dcterms:W3CDTF">2008-03-24T07:20:39Z</dcterms:modified>
  <cp:revision>94</cp:revision>
  <dc:subject/>
  <dc:title>Slide 1</dc:title>
</cp:coreProperties>
</file>