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232.xml.rels" ContentType="application/vnd.openxmlformats-package.relationships+xml"/>
  <Override PartName="/ppt/slides/_rels/slide227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231.xml.rels" ContentType="application/vnd.openxmlformats-package.relationships+xml"/>
  <Override PartName="/ppt/slides/_rels/slide226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178.xml.rels" ContentType="application/vnd.openxmlformats-package.relationships+xml"/>
  <Override PartName="/ppt/slides/_rels/slide230.xml.rels" ContentType="application/vnd.openxmlformats-package.relationships+xml"/>
  <Override PartName="/ppt/slides/_rels/slide126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10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2.xml.rels" ContentType="application/vnd.openxmlformats-package.relationships+xml"/>
  <Override PartName="/ppt/slides/_rels/slide277.xml.rels" ContentType="application/vnd.openxmlformats-package.relationships+xml"/>
  <Override PartName="/ppt/slides/_rels/slide97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1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33.xml.rels" ContentType="application/vnd.openxmlformats-package.relationships+xml"/>
  <Override PartName="/ppt/slides/_rels/slide280.xml.rels" ContentType="application/vnd.openxmlformats-package.relationships+xml"/>
  <Override PartName="/ppt/slides/_rels/slide176.xml.rels" ContentType="application/vnd.openxmlformats-package.relationships+xml"/>
  <Override PartName="/ppt/slides/_rels/slide279.xml.rels" ContentType="application/vnd.openxmlformats-package.relationships+xml"/>
  <Override PartName="/ppt/slides/_rels/slide9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34.xml.rels" ContentType="application/vnd.openxmlformats-package.relationships+xml"/>
  <Override PartName="/ppt/slides/_rels/slide125.xml.rels" ContentType="application/vnd.openxmlformats-package.relationships+xml"/>
  <Override PartName="/ppt/slides/_rels/slide86.xml.rels" ContentType="application/vnd.openxmlformats-package.relationships+xml"/>
  <Override PartName="/ppt/slides/_rels/slide91.xml.rels" ContentType="application/vnd.openxmlformats-package.relationships+xml"/>
  <Override PartName="/ppt/slides/_rels/slide119.xml.rels" ContentType="application/vnd.openxmlformats-package.relationships+xml"/>
  <Override PartName="/ppt/slides/_rels/slide124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13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6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59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1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9.xml.rels" ContentType="application/vnd.openxmlformats-package.relationships+xml"/>
  <Override PartName="/ppt/slides/_rels/slide143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41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63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64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21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4.xml.rels" ContentType="application/vnd.openxmlformats-package.relationships+xml"/>
  <Override PartName="/ppt/slides/_rels/slide15.xml.rels" ContentType="application/vnd.openxmlformats-package.relationships+xml"/>
  <Override PartName="/ppt/slides/_rels/slide122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71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33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75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136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08.xml.rels" ContentType="application/vnd.openxmlformats-package.relationships+xml"/>
  <Override PartName="/ppt/slides/_rels/slide61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4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0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62.xml.rels" ContentType="application/vnd.openxmlformats-package.relationships+xml"/>
  <Override PartName="/ppt/slides/_rels/slide212.xml.rels" ContentType="application/vnd.openxmlformats-package.relationships+xml"/>
  <Override PartName="/ppt/slides/_rels/slide130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84.xml.rels" ContentType="application/vnd.openxmlformats-package.relationships+xml"/>
  <Override PartName="/ppt/slides/_rels/slide205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8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190.xml" ContentType="application/vnd.openxmlformats-officedocument.presentationml.slide+xml"/>
  <Override PartName="/ppt/slides/slide94.xml" ContentType="application/vnd.openxmlformats-officedocument.presentationml.slide+xml"/>
  <Override PartName="/ppt/slides/slide69.xml" ContentType="application/vnd.openxmlformats-officedocument.presentationml.slide+xml"/>
  <Override PartName="/ppt/slides/slide100.xml" ContentType="application/vnd.openxmlformats-officedocument.presentationml.slide+xml"/>
  <Override PartName="/ppt/slides/slide101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13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2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60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3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277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276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272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275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168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9.xml" ContentType="application/vnd.openxmlformats-officedocument.presentationml.slide+xml"/>
  <Override PartName="/ppt/slides/slide207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AA1-5F1D-488A-A604-7D6247D0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EBB-6953-47B3-A356-A8875C70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76D-B481-4837-9282-D2AD2FC4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6C1-7093-4A10-9E45-B99BC31E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91CE-9F4B-4C84-99D2-F0B220BD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E7D4-3D2F-4D0D-A1EA-97A15D13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58A2-6B3B-400A-BBFF-3B875E9E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83D0-7B91-406E-8154-2A3C200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D17D-9237-4770-B007-A023A12B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50E-12B0-4052-BB6C-0BEC6477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B62F-3930-4246-BDE6-0477EE2D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187-065C-483D-81A1-24E1CB9A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C3B6-49F4-4B1D-ABD0-DD9E363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8D19-8AE6-4544-8198-350F05E4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8EDD-50C7-42CF-B1A7-8F360057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FC67-1E1B-4D1B-989A-0AE76E7C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8BFA-53DA-4718-9F9F-A5AAFF59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A39-FA48-4057-9443-AD52B2E0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5A6-F060-48E4-A938-6AF4431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C49-B391-4CD9-B11E-CB440B72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C42-CE65-44E3-B35F-704BC0BD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7F5-1821-4A7A-B2D3-7D7136A3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55A-AD22-495D-97C1-57D3CDF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666-60ED-4EF2-9D35-0C6CF719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790F-18D1-408C-9778-E9E0578439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FC5B-F612-45CB-AB76-6321C50E8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16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แห่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มวลรัษฎาก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7B88-F492-41B2-B4DF-E3A4823A91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55720" y="981000"/>
            <a:ext cx="4151520" cy="547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79760" y="149400"/>
            <a:ext cx="259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ทศไท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BE7-AED3-4584-B6C8-436136E3AB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71640" y="189000"/>
            <a:ext cx="727236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7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 ให้ยื่นภายในเวลาที่กำหนดไว้ในหมวดว่าด้วยภาษีอากรต่างๆ และตามแบบแสดงรายการที่อธิบดีกำหน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‘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หลักเกี่ยวกับการยื่นรายการและการเสียภาษีอากรประเมินทุกประเภท โดยวางหลักการทั่วไปว่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แบบแสดงรายการตามที่อธิบดีกรมสรรพากรกำหนดแล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ื่นแบบแสดงรายภายในเวลาที่กำหนดไว้ในแต่ละหมว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ว่าด้วยภาษีอากรประเมิน อันได้แก่ 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และ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ั้น บทบัญญัติว่าด้วยการยื่นรายการและการชำระภาษีอากรประเมินทุกประเภทจึงเป็นบทบัญญัติที่เสริ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สิ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617B-638C-4B58-B877-745533D7D6A3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4000" y="299880"/>
            <a:ext cx="86407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379520"/>
          <a:ext cx="8893440" cy="4641840"/>
        </p:xfrm>
        <a:graphic>
          <a:graphicData uri="http://schemas.openxmlformats.org/drawingml/2006/table">
            <a:tbl>
              <a:tblPr/>
              <a:tblGrid>
                <a:gridCol w="1836720"/>
                <a:gridCol w="1986120"/>
                <a:gridCol w="5070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3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ส่งภาษีเงินได้บุคคลธรรมดาหัก ณ ที่จ่าย ตามแบบแสดงรายการต่อไปนี้ 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จ่าย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เบิกหักผลักส่งภาษีเงินได้บุคคลธรรมดาหัก ณ ที่จ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บุคคลธรรมดาล่วงหน้าก่อนถึงกำหนดเวลายื่นรายการประจำปี 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1223-F3C3-4D96-B907-680879DDCCD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4000" y="33336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79280" y="1452600"/>
          <a:ext cx="8893440" cy="4281480"/>
        </p:xfrm>
        <a:graphic>
          <a:graphicData uri="http://schemas.openxmlformats.org/drawingml/2006/table">
            <a:tbl>
              <a:tblPr/>
              <a:tblGrid>
                <a:gridCol w="1836720"/>
                <a:gridCol w="1986120"/>
                <a:gridCol w="5070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6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บุคคลธรรมดาครึ่งปี ภายในเดือนกันยายนของปีภาษีนั้น 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บุคคลธรรมดาประจำปี ตามแบบแสดงรายการต่อไปนี้ ภายในเดือนมีนาคมของปีถัดไป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CA96-6998-4F08-A753-310EC6CE8AE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31752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50920" y="1469880"/>
          <a:ext cx="8713800" cy="2319480"/>
        </p:xfrm>
        <a:graphic>
          <a:graphicData uri="http://schemas.openxmlformats.org/drawingml/2006/table">
            <a:tbl>
              <a:tblPr/>
              <a:tblGrid>
                <a:gridCol w="1800000"/>
                <a:gridCol w="1944720"/>
                <a:gridCol w="496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สรุปการจ่ายเงินได้และการหักภาษี ณ ที่จ่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97C7-1A7F-4BE8-BA5D-F8CA476E8B2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24000" y="28116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ี่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79280" y="1433520"/>
          <a:ext cx="8893440" cy="4732200"/>
        </p:xfrm>
        <a:graphic>
          <a:graphicData uri="http://schemas.openxmlformats.org/drawingml/2006/table">
            <a:tbl>
              <a:tblPr/>
              <a:tblGrid>
                <a:gridCol w="1584360"/>
                <a:gridCol w="1944720"/>
                <a:gridCol w="536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0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6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และ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7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ส่งภาษีเงินได้นิติบุคคลหัก ณ ที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4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หัก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ว้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นำส่งภาษีเงินได้นิติบุคคลหัก ณ ที่จ่ายสำหรับเงินได้จากการขายอสังหาริมทรัพย์ในขณะที่จดทะเบียนสิทธิหรือนิติกรร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69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เบิกหักผลักส่งภาษีเงินได้นิติบุคคลหั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ณ ที่จ่ายในฎีกาเบิกเง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9BB7-706B-4AB2-BAD4-59CE37EDE50A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203040"/>
            <a:ext cx="86407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79280" y="1282680"/>
          <a:ext cx="8893440" cy="4883040"/>
        </p:xfrm>
        <a:graphic>
          <a:graphicData uri="http://schemas.openxmlformats.org/drawingml/2006/table">
            <a:tbl>
              <a:tblPr/>
              <a:tblGrid>
                <a:gridCol w="1584360"/>
                <a:gridCol w="1944720"/>
                <a:gridCol w="536436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8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นิติบุคคลครึ่งรอ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ยะเวลาบัญชี 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ดือนนับแต่วันสุดท้ายของรอบระยะเวล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ดือนนับแต่วันแรกของรอบระยะเวลาบัญช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8,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8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และ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ภาษีเงินได้นิติบุคคลประจำรอ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ะยะเวลาบัญชี ตามแบบแสดงรายการต่อไปนี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นับแต่วันสุดท้ายของรอบระย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วลาบัญช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ฐานกำไรสุทธ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ขนส่งระหว่าง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5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มูลนิธิหรือสมาค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3EDE-EF26-493B-8DEC-531F864A152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24000" y="297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เงินได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79280" y="1376280"/>
          <a:ext cx="8893440" cy="1908360"/>
        </p:xfrm>
        <a:graphic>
          <a:graphicData uri="http://schemas.openxmlformats.org/drawingml/2006/table">
            <a:tbl>
              <a:tblPr/>
              <a:tblGrid>
                <a:gridCol w="1584360"/>
                <a:gridCol w="1944720"/>
                <a:gridCol w="536436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7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นำส่งภาษีเงินได้นิติบุคคลจากการจำหน่ายเงินกำไรไปต่างประเทศ 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54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 ข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จำหน่ายเงินกำไ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743A-BF80-43A6-B015-5E2701CB323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79280" y="1268280"/>
          <a:ext cx="8893440" cy="4937400"/>
        </p:xfrm>
        <a:graphic>
          <a:graphicData uri="http://schemas.openxmlformats.org/drawingml/2006/table">
            <a:tbl>
              <a:tblPr/>
              <a:tblGrid>
                <a:gridCol w="1584360"/>
                <a:gridCol w="1944720"/>
                <a:gridCol w="536436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จดทะเบียนยื่น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รายเดือนภาษีพร้อมกับชำระภาษีมูลค่า เพิ่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้าม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ไป ไม่ว่าจะได้ขายสินค้าหรือให้บริการในเดือนภาษีนั้นหรือไม่ก็ตา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ำหรับผู้ประกอบการจดทะเบียนเป็นบุคคลธรรมดา ที่ประกอบกิจการบางประเภท หรือบางขนาด อาจตราพระราชกฤษฎีกากำหนดให้ยื่นแบบแสดงรายการภาษี และชำระภาษีตามช่วงเวลาภาษี โดยช่วงเวลาภาษีมีกำหนดไม่เกินสามเดือนก็ได้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0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พิ่มเติ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07C4-B128-4CCB-B6B0-75783209A4C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79280" y="1268280"/>
          <a:ext cx="8893440" cy="5359680"/>
        </p:xfrm>
        <a:graphic>
          <a:graphicData uri="http://schemas.openxmlformats.org/drawingml/2006/table">
            <a:tbl>
              <a:tblPr/>
              <a:tblGrid>
                <a:gridCol w="1440000"/>
                <a:gridCol w="1584360"/>
                <a:gridCol w="5869080"/>
              </a:tblGrid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ขายทอดตลาดทรัพย์สินของผู้ประกอบการจดทะเบียน ต้องนำส่งเงินภาษีมูลค่าเพิ่มของผู้ประกอบ การจดทะเบียนตามแบบ 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6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ขายทอดตลาด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จ่ายเงินค่าซื้อสินค้า หรือค่าบริการมีหน้าที่นำส่งเงินภาษีมูลเพิ่ม เมื่อชำระราคาสินค้าหรือ ราคาค่าบริการให้กับผู้ประกอบการดังต่อไปนี้ตามแบบ 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3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ชำระราคานั้น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ที่อยู่นอกราชอาณาจักรที่เข้ามาประกอบกิจการขายสินค้า หรือให้บริการเป็นการชั่วคราว โดยไม่ได้จดทะเบียนภาษีมูลค่า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 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ารที่ได้ให้บริการใน  ตป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ได้มีการใช้บริการนั้นในราชอาณาจั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8365-11BC-4368-85CC-71F7F852826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79280" y="1409760"/>
          <a:ext cx="8893440" cy="4611600"/>
        </p:xfrm>
        <a:graphic>
          <a:graphicData uri="http://schemas.openxmlformats.org/drawingml/2006/table">
            <a:tbl>
              <a:tblPr/>
              <a:tblGrid>
                <a:gridCol w="1440000"/>
                <a:gridCol w="1584360"/>
                <a:gridCol w="58690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รับโอนสินค้าหรือ ผู้รับโอนสิทธิในบริการ ที่เคยได้เสียภาษีมูลค่าเพิ่มอั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%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้องนำส่งเงินภาษีมูลค่าเพิ่มที่ตนมีหน้าที่ต้องเสีย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2/1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จากเดือนที่ครบกำหนดสามสิบวันนับแต่วันที่ความรับผิดในการเสียภาษีมูลค่าเพิ่มเกิด ตามแบบ 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36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2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นำเข้าที่มีหน้าที่เสียภาษีมูลค่าเพิ่มยื่นใบขนสินค้าตามแบบที่อธิบดีกรมศุลกากรกำหนดต่อเจ้าพนักงานศุลกากร ณ ด่านศุลกากรตามที่กำหนดในกฎหมายว่าด้วยศุลกากร และชำระภาษีมูลค่าเพิ่มต่อเจ้าพนักงานศุลกากร พร้อมกับการชำระอากรขาเข้าตามกฎหมายว่าด้วยศุลกากร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7F8-A617-43B9-BD2E-A238CA81B2C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85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าพระราชกฤษฎีก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เพื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หรือยกเว้นภาษี ให้เหมาะสมกับเหตุการณ์ กิจ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สภาพของท้องที่บางแห่งหรือ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แก่บุคคลหรือองค์การระหว่างประเทศตามข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กพันหรือหลักถ้อยทีถ้อยปฏิบัติต่อกัน</a:t>
            </a:r>
            <a:r>
              <a:rPr b="1" lang="th-TH" sz="4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532-4491-49C1-B998-C52F30E2A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มูลค่าเพิ่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79280" y="1409760"/>
          <a:ext cx="8893440" cy="2347920"/>
        </p:xfrm>
        <a:graphic>
          <a:graphicData uri="http://schemas.openxmlformats.org/drawingml/2006/table">
            <a:tbl>
              <a:tblPr/>
              <a:tblGrid>
                <a:gridCol w="1440000"/>
                <a:gridCol w="1584360"/>
                <a:gridCol w="586908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 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83/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นำสินค้าออกจากคลังสินค้าทัณฑ์บนหรือเขตปลอดอากร โดยมิใช่เพื่อส่งออก ให้ผู้นำเข้าที่มีหน้าที่เสียภาษีมูลค่าเพิ่มยื่นใบขนสินค้าและชำระภาษีมูลค่าเพิ่มต่อเจ้าพนักงานศุลกากร พร้อมกับการชำระอากรขาเข้าตามกฎหมายว่าด้วยศุลกาก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FD3E-E599-4C01-8FBD-C62D0069685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24000" y="189000"/>
            <a:ext cx="864072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่าด้วยการ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หรือนำส่งภาษีธุรกิจเฉพา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79280" y="1409760"/>
          <a:ext cx="8893440" cy="4209840"/>
        </p:xfrm>
        <a:graphic>
          <a:graphicData uri="http://schemas.openxmlformats.org/drawingml/2006/table">
            <a:tbl>
              <a:tblPr/>
              <a:tblGrid>
                <a:gridCol w="1440000"/>
                <a:gridCol w="1584360"/>
                <a:gridCol w="586908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ธุรกิจเฉพา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91/1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ประกอบกิจการที่มีหน้าที่เสียภาษีธุรกิจเฉพาะต้องยื่นแบบ 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4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รายเดือนภาษีพร้อมกับชำระภาษีธุรกิจเฉพาะ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้าม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วันที่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เดือนถัดไป ไม่ว่าจะได้รายรับในเดือนภาษีนั้นหรือไม่ก็ตา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ว้นแต่ กรณีประกอบกิจการขายอสังหาริมทรัพย์เป็นทางค้าหรือหากำไร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ผู้มีหน้าที่เสียภาษีธุรกิจเฉพาะ ยื่นแบบ 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4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นขณะจดทะเบียนสิทธิและนิติกรรมเกี่ยวกับอสังหาริมทรัพย์พร้อมกับชำระภาษีต่อพนักงานเจ้ าหน้าที่ผู้รับจดทะเบียนสิทธิและนิติกรรมนั้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29E4-9740-4936-95EA-614F736F4DB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9912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จ้าพนักงานประเมินและ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ำนาจเจ้าพนักงานประเม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24000" y="1484280"/>
          <a:ext cx="8640720" cy="5051520"/>
        </p:xfrm>
        <a:graphic>
          <a:graphicData uri="http://schemas.openxmlformats.org/drawingml/2006/table">
            <a:tbl>
              <a:tblPr/>
              <a:tblGrid>
                <a:gridCol w="5760720"/>
                <a:gridCol w="2880000"/>
              </a:tblGrid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พนักงาน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ก่อนถึงกำหนดเวลายื่น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ตามแบบแสดงรายการที่ยื่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, 27, 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ในการออกหมายเรีย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, 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และแจ้งการ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0, 21, 1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4, 25, 1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เบี้ยป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, 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เงิน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เรียกตรวจสอบกรณีขอคืนภาษี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C3F-A40B-44C4-98D7-9D265C30CDE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71640" y="189000"/>
            <a:ext cx="727236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6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จ้าพนักงาน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1197000"/>
            <a:ext cx="8713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"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บุคคลหรือคณะบุคคลซึ่งรัฐมนตรีแต่งตั้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ประกาศกระทรวงการคลัง ว่าด้วยการแต่งตั้งเจ้าพนักงา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, 8, 10, 11, 13, 16, 17, 19, 21, 22, 24, 33, 35, 36,37,39, 40, 4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เจ้าพนักงานประเมินตามประกาศกระทรวงการคลัง ว่าด้วยการแต่งตั้งเจ้าพนักงา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“ข้าราชการพลเรือนสามัญตั้งแต่ระด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ึ้นไป สังกัดกรมสรรพากร”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ำหนดขอบอำนาจไว้โดยชัดแจ้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บางท้องที่ข้าราชการพลเรือนสามัญที่ดำรงตำแหน่งต่ำกว่าที่กำหนดข้างต้น และลูกจ้างประจำ หรือลูกจ้างชั่วคราวสังกัดกรมสรรพากร ให้หัวหน้าส่วนราชการสังกัดกรมสรรพากรมอบหมายให้ปฏิบัติงานในหน้าที่หรือตำแหน่งดังกล่าว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710D-BBDE-4AB3-9589-7B93B444B1D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ใน</a:t>
            </a:r>
            <a:r>
              <a:rPr b="1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กรณีจำเป็นเพื่อรักษาประโยชน์ในการจัดเก็บ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จ้าพนักงานประเมิน มีอำนาจที่จะประเมินเรียกเก็บภาษีจากผู้ต้องเสียภาษี ก่อนถึงกำหนดเวลายื่นรายการได้ เมื่อได้ประเมินแล้วให้แจ้งจำนวนภาษีที่ต้องเสียไปยังผู้ต้องเสียภาษี และให้ผู้ต้องเสียภาษีชำระภาษีภายในเจ็ดวันนับแต่วันได้รับแจ้งการประเมิน ในกรณีนี้จะอุทธรณ์การประเมิน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ี่ประเมินเรียกเก็บตามความในวรรคก่อน ให้ถือเป็น เครดิตของผู้ต้องเสียภาษีในการคำนวณภาษี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  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ใช้อำนาจตามความในมาตรานี้ เจ้าพนักงานประเมินจะสั่งให้ยื่นรายการตามแบบที่อธิบดีกำหนดด้วย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รณีภาษีเงินได้บุคคลธรรมดา ประก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189000"/>
            <a:ext cx="856944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เมินก่อนถึงกำหนดเวลายื่นราย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93C8-954A-4C6A-9F5A-A43361460C3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 ม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18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ละ ม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60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8000" y="981000"/>
          <a:ext cx="8964720" cy="5477040"/>
        </p:xfrm>
        <a:graphic>
          <a:graphicData uri="http://schemas.openxmlformats.org/drawingml/2006/table">
            <a:tbl>
              <a:tblPr/>
              <a:tblGrid>
                <a:gridCol w="2519280"/>
                <a:gridCol w="3313080"/>
                <a:gridCol w="313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ประเภทภาษ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หตุที่ประเมิ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กฎหมายทั่วไป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ภาษีอากรประเมินทุกประเภท ทั้งกรณีภาษีเงินได้ ภาษีมูลค่าเพิ่ม และภาษีธุรกิจเฉพา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เป็นกรณีจำเป็นเพื่อรักษาประโยชน์แห่งรัฐ ดังนั้นหากไม่เนินการ รัฐต้องเสียประโยชน์ จนท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ึงอาจต้องรับผิดทางแพ่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กฎหมายพิเศ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เฉพาะภาษีเงินได้บุคคลธรรมด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กรณีจำเป็นเพื่อประโยชน์แห่งรัฐ แม้ไม่ดำเนินการรัฐก็ยังไม่เสียประโยชน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232-0C33-4D1B-B97D-0E8BD8A9875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01160"/>
            <a:ext cx="8218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 ม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18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ละ ม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60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08000" y="966960"/>
          <a:ext cx="8964720" cy="5701680"/>
        </p:xfrm>
        <a:graphic>
          <a:graphicData uri="http://schemas.openxmlformats.org/drawingml/2006/table">
            <a:tbl>
              <a:tblPr/>
              <a:tblGrid>
                <a:gridCol w="2519280"/>
                <a:gridCol w="3313080"/>
                <a:gridCol w="313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ชำระภาษีตามหนังสือแจ้งการประเมิ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ครดิตภาษ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แบบแสดง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ผ่อนชำร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อุทธรณ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นับแต่วันที่ได้รับหนังสือแจ้งการประเมิ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ที่ชำระถือเป็นเครดิตภาษีในการยื่นรายการ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พนักงานประเมินมีอำนาจสั่งให้ผู้ต้องเสียภาษียื่นแบบฯ ได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ได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สิทธิอุทธรณ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ยใน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นนับแต่วันที่ได้รับหนังสือแจ้งการประเมิน ตาม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พนักงานประเมินไม่มีอำนา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่อนได้ตาม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B37-44DD-4112-8D2A-6F5F64D5693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ที่ยื่นเพื่อเสียภาษีอากรนั้น ให้เจ้าพนักงานประเมินเป็นผู้ประเมินตามที่กำหนดไว้ในหมวดภาษีอากรประเมินนั้นๆ  และเมื่อได้ประเมินแล้ว ให้แจ้งจำนวนภาษีอากรที่ประเมินไปยังผู้ต้องเสียภาษีอากร ในกรณีนี้จะอุทธรณ์การประเมิน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ผู้ต้องเสียภาษีอากรถึงแก่ความตายเสียก่อนได้รับแจ้งจำนวนภาษีอากรที่ประเมิน ให้เจ้าพนักงานประเมินแจ้งจำนวนภาษีอากรที่ประเมินไปยังผู้จัดการมรดกหรือไปยังทายาทหรือผู้อื่นที่ครอบครองทรัพย์มรดก แล้วแต่กรณ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เมื่อประเมินแล้วไม่ต้องเรียกเก็บหรือเรียกคืนภาษีอากร การแจ้งจำนวนภาษีอากรเป็นอันงดไม่ต้องกระทำ แต่เจ้าพนักงานประเมินยังคงดำเนินการ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ดังกล่าวให้นำ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 โดยอนุโล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115920"/>
            <a:ext cx="85694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เมินตามแบบแสดงรายการที่ได้ยื่นไว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80" y="6078600"/>
            <a:ext cx="90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จจุบันอำเภอไม่มีอำนาจประเมินภาษีอากรตา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4BDE-129A-4E19-B440-66E6E3DF1CF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กฎหมายทั่วไป จึงใช้บังคับกับเฉพาะภาษีเงินได้บุคคลธรรมดาและภาษีเงินได้นิติบุคคลที่มิได้มีบท บัญญัติเกี่ยวกับการประเมินภาษีอากรตามแบบแสดงรายการที่ยื่นไว้เป็นอย่าง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ขณะที่ภาษีมูลค่าเพิ่มตาม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ธุรกิจเฉพาะตาม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บทบัญญัติเกี่ยวกับเรื่องนี้ไว้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8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5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แต่กรณี จึงไม่ต้องนำ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บังคับใช้ตามหลักกฎหมายพิเศษยกเว้นกฎหมายทั่วไ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ย่างไรก็ตามหากมีกรณีตามวรรคสอง ซึ่งตามบทบัญญัติภาษี มูลค่าเพิ่ม และภาษีธุรกิจเฉพาะมิได้มีบัญญัติไว้ จึงยังคงให้นำ ไปใช้บังคับโดยอนุโล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115920"/>
            <a:ext cx="85694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เมินตามแบบแสดงรายการที่ได้ยื่นไว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3A4E-34F8-4F9B-B738-30C1E9068FB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ภาษีเงินได้บุคคลธรรมดาและภาษีเงินได้นิติบุคคล เจ้าพนักงานประเมินยังคงมีอำนาจที่จะออกหมายเรียกเพื่อตรวจสอบการเสียภาษีอากรของผู้ต้องเสียภาษีอาก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เมินภาษีอาก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ประเมินภาษีอากร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ต้องเสียภาษีต้องรับผิดเสียเงินเพิ่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ั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%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เดือนหรือเศษของเดือนของเงินภาษี แต่ถ้าเมื่อประเมินแล้วไม่ต้องเรียกเก็บหรือเรียกคืนภาษีอากร การแจ้งจำนวนภาษีอากรเป็นอันงดไม่ต้องกระท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ต้องเสียภาษีชำระภาษีอากรตามหนังสือแจ้งการประเมิน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ได้รับหนังสือแจ้งดังกล่าว 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ผู้ต้องเสียภาษีมีสิทธิอุทธรณ์การประเม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115920"/>
            <a:ext cx="85694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เมินตามแบบแสดงรายการที่ได้ยื่นไว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E7CC-4A5A-45E8-9E21-FFC7912BD6B4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6760" y="936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24000" y="1023840"/>
            <a:ext cx="86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ตามประมวลรัษฎากรแก่บุคคลตามข้อผูกพันที่ประเทศไทยมีอยู่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ตามประมวลรัษฎากรให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บวงการชำนัญพิเศษขอ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หน้าที่หรือผู้เชี่ยวชาญขององค์การดังกล่า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แก่สถานเอกอัคราชทูต สถานทูต สถานกงสุลใหญ่ สถานกงสุล บุคคลในคณะทูต คณะกงสุ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เศษของบาทจากการคำนวณภาษีแก่ผู้มีหน้าที่เสียภาษี เงินได้ ภาษีมูลค่าเพิ่ม 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ยกเว้นภาษีเงินได้นิติบุคคล สำหรับเงินส่วนแบ่งของกำไรที่ได้จากกิจการร่วมค้าที่ประกอบกิจการในประเทศไท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2790-9C0D-43D3-8E5B-AE4E4B9DD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50920" y="119700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" y="212760"/>
            <a:ext cx="814716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การขอคืนภาษีอากร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7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79280" y="1341360"/>
          <a:ext cx="8893440" cy="5157720"/>
        </p:xfrm>
        <a:graphic>
          <a:graphicData uri="http://schemas.openxmlformats.org/drawingml/2006/table">
            <a:tbl>
              <a:tblPr/>
              <a:tblGrid>
                <a:gridCol w="2448000"/>
                <a:gridCol w="3408480"/>
                <a:gridCol w="3036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กฎหม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ตาม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ตามหมวด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การขอคืนภาษีเงินได้บุคคลธรรมดาและ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ใดๆ ที่มิใช่การขอคื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 อาทิ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ตามการประเมิน – การอุทธรณ์ หรือชำระไว้เก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ฉพาะการขอคื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ีนับแต่วันพ้นกำหนดเวลายื่นรายการ หรือนับแต่วันที่ได้รับคำวินิจฉัยอุทธรณ์ หรือคำพิพากษ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ีนับแต่วันสุดท้ายแห่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ีที่ถูกหักไว้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9C6-9FFB-44A9-8E28-CF92BB67A83A}" type="slidenum">
              <a:t>120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68360" y="200160"/>
            <a:ext cx="3960720" cy="53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อากรที่ชำระไว้เก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9440" y="765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981000"/>
            <a:ext cx="3889440" cy="719280"/>
          </a:xfrm>
          <a:prstGeom prst="diamond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อากรแสตมป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81800" y="979560"/>
            <a:ext cx="3166920" cy="7207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13080" y="17017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09920" y="1341360"/>
            <a:ext cx="1271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3800" y="177480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27440" y="907920"/>
            <a:ext cx="30492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3297240"/>
            <a:ext cx="3889440" cy="708120"/>
          </a:xfrm>
          <a:prstGeom prst="diamond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81800" y="3257640"/>
            <a:ext cx="3166920" cy="819000"/>
          </a:xfrm>
          <a:prstGeom prst="rect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กฎหมายพิเศ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4033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09920" y="3645000"/>
            <a:ext cx="1271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93800" y="4106880"/>
            <a:ext cx="304920" cy="299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27440" y="3341520"/>
            <a:ext cx="30492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8360" y="2120760"/>
            <a:ext cx="3889440" cy="731880"/>
          </a:xfrm>
          <a:prstGeom prst="diamond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มูลค่าเพิ่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81800" y="1989000"/>
            <a:ext cx="3166920" cy="98604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4/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พิเศ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13080" y="285264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09920" y="2494080"/>
            <a:ext cx="1271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93800" y="292572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27440" y="2165400"/>
            <a:ext cx="30492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8360" y="4476600"/>
            <a:ext cx="3889440" cy="865440"/>
          </a:xfrm>
          <a:prstGeom prst="diamond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หัก ณ ที่จ่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81800" y="4573440"/>
            <a:ext cx="3166920" cy="727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กฎหมายพิเศ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13080" y="5329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09920" y="4923000"/>
            <a:ext cx="1271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3800" y="5402160"/>
            <a:ext cx="304920" cy="300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27440" y="4521240"/>
            <a:ext cx="30492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5756400"/>
            <a:ext cx="3600360" cy="84132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คืน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กฎหมาย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320" y="5619600"/>
            <a:ext cx="4487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นิติบุคคลหัก 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ารขอคืนภาษีกรณีอื่น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845-71DB-4103-BC6E-2DCCC0B38EEB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บุคคลธรรมด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เงินได้บุคคลธรรมด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างตร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ในส่วนที่เกี่ยวกับการหักค่าใช้จ่ายตามความจำเป็นสมควร ที่กำหนด ให้นำความ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มาใช้บังคับโดยอนุโล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นำค่าภาษีเงินได้บุคคลมาถือเป็นค่าใช้จ่ายในการคำนวณเงินได้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อากร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นำวิธีการบริหารการจัดเก็บภาษีอากรประเมินตาม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มาใช้บังคับ เท่าที่ไม่บัญญัติไว้เป็นอย่างอ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เงินได้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ต้องคำนึงถึงบทบัญญัติใน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761-18A1-42FD-B3CF-BC04F7B7F4FF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บุคคลธรรมด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เงินได้บุคคลธรรมด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เป็นรายปีภาษ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จากบุคคลธรรมดาหรือหน่วยทางภาษีเงินได้บุคคลธรรมดาซึ่งเป็นหน่วยภาษีที่เล็กหรือย่อยที่สุด ดังนั้น เมื่อผู้เสียภาษีได้นำเงินได้ที่ตนได้ชำระภาษีแล้วไปจ่าย ย่อมได้รับยกเว้น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(10)(14)(16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จัดเก็บภาษีเงินได้บุคคลธรรมดาตาม 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แหล่ง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ถิ่นที่อยู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sident Rul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และสาม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263-5151-4853-8F32-44C53A1DD334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บุคคลธรรมด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ภาษีเงินได้บุคคลธรรมด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ผู้มี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ความสามารถทางภาษีอ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ยาว์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ศาลสั่งให้เป็นคนไร้ความสามารถ หรือเสมือนไร้ความสามารถ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ตั้งตัวแทนจัดการทรัพย์ส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ี่มิได้เป็นผู้อยู่ในประเทศ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ถึงแก่ความตายระหว่างปีภาษีที่ม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องมรดกที่ยังมิได้แบ่งที่ม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หรือคณะบุคคลที่มิใช่นิติบุคคลที่ม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ประกอบ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888-7DB5-45CB-BAE4-38B84F5734E4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บุคคลธรรมด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ภาษีเงินได้บุคคลธรรมดา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ผู้มีเงินได้ กรณีผู้มีความสามารถ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ที่ไม่มีคู่สมรส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ที่มีคู่สมรสแต่ความเป็นสามีภริยามิได้มีอยู่ตลอดปีภาษี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ต่างฝ่ายต่างยื่นรายการเงินได้ของตนเ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ที่มีคู่สมรสและความเป็นสามีภริยาได้มีอยู่ตลอดปีภาษี แต่มีเงินได้ฝ่ายเดียว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ที่มีคู่สมรสและความเป็นสามีภริยาได้มีอยู่ตลอดปีภาษี และต่างฝ่ายต่างม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ชีวิตตลอดปีภาษี แต่ตายก่อนที่จะได้ยื่นแบบแสดงราย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081-B8F1-4828-BD93-D639954D159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นิติบุคคล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uthep_p@rd.go.th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เงินได้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างตร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มิให้นำค่าภาษีเงินได้นิติบุคคล มาถือเป็นรายจ่ายในการคำนวณ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อากร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อากร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นำวิธีการบริหารการจัดเก็บภาษีอากรประเมินตาม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มาใช้บังคับ เท่าที่ไม่บัญญัติไว้เป็นอย่าง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เงินได้ตามส่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ตั้งแต่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บัญชีอัตรา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เป็นรายรอบระยะเวลา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76C-00A4-4763-A6D2-C322DAA62200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โครงสร้างภาษีเงินได้นิติบุคคล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uthep_p@rd.go.th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ภาษีเงินได้นิติบุคคล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จัดเก็บจากกำไรสุทธิของบริษัทหรือห้างหุ้นส่วน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กำหนดจัดเก็บสองระดับ เพื่อให้อัตราภาษีเงินได้รวมทั้งสิ้น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ทั้งนี้เพื่อให้เกิดความเป็นกลางทางเศรษฐกิ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ดับกำไรสุทธ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ดับเงินปันผลหรือเงินส่วนแบ่งของกำไร หรือเงินกำไรที่จำหน่ายไป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จัดเก็บภาษีเงินได้นิติบุคคล เป็นไป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sident Rul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ับบริษัทหรือห้างหุ้นส่วนนิติบุคคล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ับบริษัทหรือห้างหุ้นส่วนนิติบุคคลต่างประเทศ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95B-4403-46CC-B267-C4E357AC5506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ประเมินตนเ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หลัก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า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ภาษีเงินได้ครึ่งปี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เงินได้ประจำปี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ภาษีเงินได้จากการจำหน่ายกำไร ตาม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เกี่ยวกับภาษีเงินได้นิติบุคคลหัก ณ ที่จ่าย ตามมาตา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และอำนาจเจ้าพนักงาน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”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– 2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ความถูกต้องของการปฏิบัติหน้าที่ทางภาษีเงินได้นิติบุคคลและจำนวนเงิน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68C-D7BC-40BD-9496-1725E694E103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นิติบุคคลหัก ณ ที่จ่าย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ซึ่งกำหนดให้นำ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 กล่าวคือ ให้ขอคืนภายในสามปี นับแต่วันสุดท้ายของรอบระยะเวลาบัญชีที่ถูกหักไว้ ณ ที่จ่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เงินได้นิติบุคคลกรณีอื่น ให้ขอคืนตาม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กล่าวคือ ให้ขอคืนภายในสามปี นับแต่วันพ้นกำหนด เวลายื่นราย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มีและใช้เลขประจำตัวผู้เสีย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บัญชีงบดุล บัญชีทำการ และบัญชีกำไรขาดทุ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จ้งรายการต่างๆ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บัญชีพิเศษ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ความร่วมมือแก่เจ้าพนักงานประเมินและทางราช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FCD-A0D6-476F-ACB0-4CA97F3D0407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8520" y="19512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640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 ยกเว้นภาษีเงินได้นิติบุคคลให้แก่มูลนิธิหรือสมาคม เฉพาะเงินได้จากกิจการโรงเรียนเอกช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ffff"/>
                </a:solidFill>
                <a:latin typeface="Times New Roman"/>
                <a:ea typeface="AngsanaUPC"/>
              </a:rPr>
              <a:t> </a:t>
            </a:r>
            <a:r>
              <a:rPr b="0" lang="th-TH" sz="4000" spc="-1" strike="noStrike">
                <a:solidFill>
                  <a:srgbClr val="ffffff"/>
                </a:solidFill>
                <a:latin typeface="Times New Roman"/>
                <a:ea typeface="AngsanaUPC"/>
              </a:rPr>
              <a:t>	</a:t>
            </a:r>
            <a:r>
              <a:rPr b="0" lang="th-TH" sz="4000" spc="-1" strike="noStrike">
                <a:solidFill>
                  <a:srgbClr val="ffffff"/>
                </a:solidFill>
                <a:latin typeface="Times New Roman"/>
                <a:ea typeface="AngsanaUPC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ตุทศ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 ภาษีเงินได้นิติบุคคล สำหรับเงินรางวัลสลากการกุศลงวดพิเศษ ซึ่งยอมให้ผู้จ่ายเงินได้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ว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 ภาษีเงินได้นิติบุคคล สำหรับการขายหรือส่วนลดการซื้อสลา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ารส ยกเว้นภาษีเงินได้นิติบุคคลสำหรับเงินปันผลที่ได้จากการถือหุ้นในวิสาหกิจขนาดกลางและขนาดย่อ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3D03-1E4A-42AB-ABE8-257CEF2968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ต่อคณะกรรมการพิจารณาอุทธรณ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ต่อศาลภาษีอากรกลาง และศาลฎีก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แพ่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ต้องผ่านการออกหมายเรียก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ลำดั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พิ่ม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พิเศษ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1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อาญ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– 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คุก และป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761-D0B4-488B-9962-7C1F14F9BF00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มีหน้าที่เสีย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จากชื่อส่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ก็บภาษีจากบริษัทและห้างหุ้นส่วนนิติบุคคล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ก็บภาษีเงินได้ตาม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จาก “บริษัทและหรือห้างหุ้นส่วนนิติบุคคล” เท่า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นิยามศัพท์คำว่า “บริษัทหรือห้างหุ้นส่วนนิติบุคคล” ตาม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ด้ว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ของ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ดำเนินเป็นทางค้าหรือหากำไรโดยรัฐบาลต่างประเทศ องค์การของรัฐบาลต่างประเทศ หรือนิติบุคคลอื่นที่ตั้งขึ้นตามกฎหมายของ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นิธิหรือสมาคมฯ ที่มิใช่องค์การสาธารณกุศ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CE4-56F3-424F-8B45-2FF5F97DADF5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ษัทหรือห้างฯ ต่างประเทศ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Rule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 ประกอบกิจการกิจการในประเทศไทยแห่งเดียวโดยเฉพาะ เสียภาษีเงินได้จากฐานกำไรสุทธิเท่าน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ประกอบกิจการในที่อื่นรวมทั้งในไท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าข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อย่างอื่นที่มิใช่กิจการขนส่งระหว่างประเทศ ให้เสียภาษีเงินได้จากฐานกำไรสุทธิ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ขนส่งระหว่างประเทศ ให้เสียภาษีเงินได้จากฐานรายได้ก่อนหักรายจ่ายใ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ภาษีเงินได้ระดับที่ส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B03-CE65-4286-B9EB-4940E2381E64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207440" y="6400800"/>
            <a:ext cx="1511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1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7920" y="4724280"/>
            <a:ext cx="1609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1447920"/>
            <a:ext cx="781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sted 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05120" y="1447920"/>
            <a:ext cx="609480" cy="4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ar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73480" y="1447920"/>
            <a:ext cx="870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reig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1447920"/>
            <a:ext cx="768600" cy="468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 + 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1447920"/>
            <a:ext cx="685800" cy="46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n.  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1447920"/>
            <a:ext cx="83844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olding 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667640" y="1447920"/>
            <a:ext cx="576360" cy="468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t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19920" y="1447920"/>
            <a:ext cx="143352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ai Co. lt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5" name=""/>
          <p:cNvCxnSpPr/>
          <p:nvPr/>
        </p:nvCxnSpPr>
        <p:spPr>
          <a:xfrm flipV="1">
            <a:off x="1402920" y="549000"/>
            <a:ext cx="5474160" cy="862560"/>
          </a:xfrm>
          <a:prstGeom prst="bentConnector3">
            <a:avLst>
              <a:gd name="adj1" fmla="val 111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46" name=""/>
          <p:cNvCxnSpPr>
            <a:stCxn id="438" idx="0"/>
          </p:cNvCxnSpPr>
          <p:nvPr/>
        </p:nvCxnSpPr>
        <p:spPr>
          <a:xfrm flipH="1" flipV="1" rot="5400000">
            <a:off x="4093200" y="-1191960"/>
            <a:ext cx="756360" cy="45237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6019920" y="2133720"/>
            <a:ext cx="137160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et Prof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85000" y="4267080"/>
            <a:ext cx="1450800" cy="509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id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85000" y="2819520"/>
            <a:ext cx="1395360" cy="5284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85000" y="3581280"/>
            <a:ext cx="133020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tain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arn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56000" y="2995560"/>
            <a:ext cx="69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64200" y="3005280"/>
            <a:ext cx="69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43400" y="3003480"/>
            <a:ext cx="69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 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58400" y="1989000"/>
            <a:ext cx="79344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สีย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156360" y="126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300720" y="1125360"/>
            <a:ext cx="0" cy="28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43640" y="98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88000" y="836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32720" y="692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77080" y="549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20000" y="404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64360" y="404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08720" y="981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640" y="6095880"/>
            <a:ext cx="1609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11080" y="5805360"/>
            <a:ext cx="1609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25480" y="5553000"/>
            <a:ext cx="1609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04000" y="5229360"/>
            <a:ext cx="1015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</a:t>
            </a:r>
            <a:r>
              <a:rPr b="0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</a:t>
            </a:r>
            <a:r>
              <a:rPr b="0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42080" y="4941720"/>
            <a:ext cx="1015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63040" y="6354720"/>
            <a:ext cx="161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5o(2) 1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99680" y="5300640"/>
            <a:ext cx="1378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0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1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27280" y="2637000"/>
            <a:ext cx="2376360" cy="360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1" lang="hi-IN" sz="16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1447920"/>
            <a:ext cx="7621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317080" y="1454040"/>
            <a:ext cx="761760" cy="4622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07200" y="5562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748720" y="1916280"/>
            <a:ext cx="0" cy="47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05720" y="1905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32720" y="2590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32720" y="3352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32720" y="4076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511760" y="0"/>
            <a:ext cx="1260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600320" y="-76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02720" y="-619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3" name=""/>
          <p:cNvCxnSpPr>
            <a:stCxn id="472" idx="0"/>
          </p:cNvCxnSpPr>
          <p:nvPr/>
        </p:nvCxnSpPr>
        <p:spPr>
          <a:xfrm flipH="1" flipV="1" rot="5400000">
            <a:off x="3288240" y="-2274120"/>
            <a:ext cx="1043640" cy="64015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84" name=""/>
          <p:cNvCxnSpPr>
            <a:stCxn id="441" idx="0"/>
          </p:cNvCxnSpPr>
          <p:nvPr/>
        </p:nvCxnSpPr>
        <p:spPr>
          <a:xfrm flipH="1" flipV="1" rot="5400000">
            <a:off x="4454640" y="-685440"/>
            <a:ext cx="612000" cy="36550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85" name=""/>
          <p:cNvCxnSpPr>
            <a:stCxn id="442" idx="0"/>
          </p:cNvCxnSpPr>
          <p:nvPr/>
        </p:nvCxnSpPr>
        <p:spPr>
          <a:xfrm flipH="1" flipV="1" rot="5400000">
            <a:off x="4873680" y="-121680"/>
            <a:ext cx="467640" cy="26719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486" name=""/>
          <p:cNvCxnSpPr/>
          <p:nvPr/>
        </p:nvCxnSpPr>
        <p:spPr>
          <a:xfrm>
            <a:off x="7314840" y="990720"/>
            <a:ext cx="610200" cy="4579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7" name=""/>
          <p:cNvSpPr/>
          <p:nvPr/>
        </p:nvSpPr>
        <p:spPr>
          <a:xfrm flipH="1" flipV="1">
            <a:off x="609120" y="1904760"/>
            <a:ext cx="1800" cy="476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643280" y="1916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643280" y="5229360"/>
            <a:ext cx="208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43280" y="2997360"/>
            <a:ext cx="0" cy="22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732720" y="57340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508720" y="5013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508720" y="1915920"/>
            <a:ext cx="0" cy="30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195280" y="6093000"/>
            <a:ext cx="453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195640" y="191628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403280" y="6381720"/>
            <a:ext cx="532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403280" y="1916280"/>
            <a:ext cx="0" cy="44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611280" y="6669000"/>
            <a:ext cx="813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780000" y="1916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3780000" y="55166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780000" y="299736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916360" y="1916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916000" y="5805360"/>
            <a:ext cx="38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16360" y="2997360"/>
            <a:ext cx="0" cy="280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956720" y="1915920"/>
            <a:ext cx="0" cy="3817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732720" y="479736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4360" y="404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748720" y="40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32840" y="549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508720" y="126828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1268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643280" y="1125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3280" y="112536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D13-8879-4874-80F8-345E2D50658E}" type="slidenum">
              <a:t>133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892080" y="1608120"/>
            <a:ext cx="7621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roup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ers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48080" y="1606680"/>
            <a:ext cx="761760" cy="865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hai Co  Pa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27280" y="1606680"/>
            <a:ext cx="71892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 &amp;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26040" y="1700280"/>
            <a:ext cx="1138320" cy="4111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6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89400" y="1606680"/>
            <a:ext cx="1112760" cy="5047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.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92360" y="3263760"/>
            <a:ext cx="971640" cy="4525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92360" y="4056120"/>
            <a:ext cx="987480" cy="452520"/>
          </a:xfrm>
          <a:prstGeom prst="rect">
            <a:avLst/>
          </a:prstGeom>
          <a:solidFill>
            <a:srgbClr val="8d17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92360" y="4848120"/>
            <a:ext cx="1008360" cy="452520"/>
          </a:xfrm>
          <a:prstGeom prst="rect">
            <a:avLst/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/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527280" y="13906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670200" y="11746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14920" y="9604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59280" y="728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17" idx="0"/>
            <a:endCxn id="527" idx="0"/>
          </p:cNvCxnSpPr>
          <p:nvPr/>
        </p:nvCxnSpPr>
        <p:spPr>
          <a:xfrm rot="5400000">
            <a:off x="5966640" y="1073160"/>
            <a:ext cx="2160" cy="125640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1295280" y="613872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(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07880" y="555156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10% 3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86960" y="521964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97440" y="21114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83040" y="1700280"/>
            <a:ext cx="912960" cy="41328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ran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63960" y="2496960"/>
            <a:ext cx="960840" cy="5202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ner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3" name=""/>
          <p:cNvCxnSpPr/>
          <p:nvPr/>
        </p:nvCxnSpPr>
        <p:spPr>
          <a:xfrm flipH="1" rot="16200000">
            <a:off x="5872680" y="1479240"/>
            <a:ext cx="11880" cy="1173960"/>
          </a:xfrm>
          <a:prstGeom prst="bentConnector3">
            <a:avLst>
              <a:gd name="adj1" fmla="val 205625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4894200" y="3284640"/>
            <a:ext cx="865080" cy="4348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98880" y="4056120"/>
            <a:ext cx="932040" cy="452520"/>
          </a:xfrm>
          <a:prstGeom prst="rect">
            <a:avLst/>
          </a:prstGeom>
          <a:solidFill>
            <a:srgbClr val="8d171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9280" y="4848120"/>
            <a:ext cx="936720" cy="432000"/>
          </a:xfrm>
          <a:prstGeom prst="rect">
            <a:avLst/>
          </a:prstGeom>
          <a:solidFill>
            <a:srgbClr val="33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/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7" name=""/>
          <p:cNvCxnSpPr/>
          <p:nvPr/>
        </p:nvCxnSpPr>
        <p:spPr>
          <a:xfrm flipV="1">
            <a:off x="5292720" y="2275920"/>
            <a:ext cx="5421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940360" y="2276640"/>
            <a:ext cx="68256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292720" y="29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29080" y="37688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27640" y="4560840"/>
            <a:ext cx="1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418520" y="1608120"/>
            <a:ext cx="788760" cy="50472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354880" y="1608120"/>
            <a:ext cx="789120" cy="504720"/>
          </a:xfrm>
          <a:prstGeom prst="rect">
            <a:avLst/>
          </a:prstGeom>
          <a:solidFill>
            <a:srgbClr val="5046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(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75280" y="74448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2" idx="0"/>
          </p:cNvCxnSpPr>
          <p:nvPr/>
        </p:nvCxnSpPr>
        <p:spPr>
          <a:xfrm flipV="1" rot="16200000">
            <a:off x="6570000" y="363960"/>
            <a:ext cx="505440" cy="198324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5830920" y="110340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319640" y="13921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19640" y="139212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38560" y="13921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97040" y="585612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10%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(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06960" y="2651040"/>
            <a:ext cx="1096560" cy="690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40360" y="2637000"/>
            <a:ext cx="647640" cy="690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89680" y="4724280"/>
            <a:ext cx="8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 Ta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8440" y="5284800"/>
            <a:ext cx="27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4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62680" y="5716440"/>
            <a:ext cx="26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 10%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4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</a:t>
            </a:r>
            <a:r>
              <a:rPr b="0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0" y="1595520"/>
            <a:ext cx="78912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97440" y="377676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997440" y="4538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29920" y="537372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 W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80360" y="260280"/>
            <a:ext cx="0" cy="645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40360" y="2492280"/>
            <a:ext cx="1368360" cy="988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ternation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11400" y="1159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49400" y="115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085840" y="11761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87640" y="1176480"/>
            <a:ext cx="1582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8783640" y="2111040"/>
            <a:ext cx="0" cy="3909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30560" y="6021360"/>
            <a:ext cx="47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03280" y="2111040"/>
            <a:ext cx="0" cy="43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280" y="6432480"/>
            <a:ext cx="35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293840" y="2471760"/>
            <a:ext cx="0" cy="36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95280" y="6145200"/>
            <a:ext cx="273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85840" y="585612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085840" y="2111400"/>
            <a:ext cx="0" cy="37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951280" y="13921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951280" y="13921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293840" y="9601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93840" y="960480"/>
            <a:ext cx="252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03280" y="7441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3280" y="74448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75280" y="744480"/>
            <a:ext cx="46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783640" y="74448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951280" y="2471400"/>
            <a:ext cx="0" cy="30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65964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659640" y="5013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667640" y="213336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327640" y="528012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27640" y="5568840"/>
            <a:ext cx="26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991640" y="2111400"/>
            <a:ext cx="0" cy="34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030560" y="535320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030560" y="5734080"/>
            <a:ext cx="61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643280" y="2707920"/>
            <a:ext cx="0" cy="302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643280" y="2708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588000" y="189000"/>
          <a:ext cx="64800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89000"/>
                    <a:ext cx="6480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6227640" y="3284640"/>
            <a:ext cx="865440" cy="4345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ro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32680" y="4056120"/>
            <a:ext cx="931680" cy="45252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26160" y="29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662880" y="37688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916360" y="558972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169-22B4-4636-ABD8-18E437886134}" type="slidenum">
              <a:t>134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ฐาน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กำไรสุทธิ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ทาง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ไมกฎหมายยอมให้หักผลขาดทุนสุทธิยกมา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 ตามมา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รายได้ก่อนหักรายจ่ายใด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1(1) (3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นิธิหรือสมาค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เงินได้พึง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บ็ดเสร็จเด็ดขา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การจำหน่ายกำไรออกจากประเทศไทย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5FB-F476-4674-8B2E-B3048C153985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ไรสุทธิทางภาษีอาก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52280" y="1221120"/>
            <a:ext cx="876312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66ffff"/>
                </a:solidFill>
                <a:latin typeface="Microsoft Sans Serif"/>
                <a:cs typeface="Microsoft Sans Serif"/>
              </a:rPr>
              <a:t>กำไรสุทธิหรือขาดทุนสุทธิทาง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มายถึง กำไรสุทธิหรือขาดทุนสุทธิที่คำนวณได้จากรายได้จากกิจการ หรือรายได้เนื่อง จากกิจการที่ได้กระทำในรอบระยะเวลาบัญชี ซึ่งรับรู้ตามเกณฑ์สิทธ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crual Basi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กณฑ์อื่นตามคำสั่งกรมสรรพากรที่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/252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ด้วยรายจ่ายทั้งสิ้นที่เกี่ยวกับราย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tching Princip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เป็นไป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แห่งประมวลรัษฎากร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3640" y="5362560"/>
            <a:ext cx="86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ทวิ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=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กฎหมาย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จัตวา มาตร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70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ตรี 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74 = 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กฎหมายพิเศ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838-3B03-452F-BA78-7CEE305E54F1}" type="slidenum">
              <a:t>13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362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าย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ัก   ต้นทุนสินค้าที่ข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ำไรขั้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วก  รายได้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ัก    ค่าใช้จ่ายในการขายและบริห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 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ำไร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40360" y="1362240"/>
            <a:ext cx="152280" cy="1274760"/>
          </a:xfrm>
          <a:custGeom>
            <a:avLst/>
            <a:gdLst>
              <a:gd name="textAreaLeft" fmla="*/ 0 w 152280"/>
              <a:gd name="textAreaRight" fmla="*/ 55080 w 152280"/>
              <a:gd name="textAreaTop" fmla="*/ 33120 h 1274760"/>
              <a:gd name="textAreaBottom" fmla="*/ 124164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351320" y="1506600"/>
            <a:ext cx="46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ทำ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de Accoun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868-77A0-4D8A-95FC-96EB55EF4FD1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9280" y="836640"/>
            <a:ext cx="8640720" cy="5977080"/>
          </a:xfrm>
          <a:custGeom>
            <a:avLst/>
            <a:gdLst/>
            <a:ahLst/>
            <a:rect l="l" t="t" r="r" b="b"/>
            <a:pathLst>
              <a:path w="4588" h="3338">
                <a:moveTo>
                  <a:pt x="1845" y="474"/>
                </a:moveTo>
                <a:cubicBezTo>
                  <a:pt x="1828" y="348"/>
                  <a:pt x="1835" y="393"/>
                  <a:pt x="1776" y="304"/>
                </a:cubicBezTo>
                <a:cubicBezTo>
                  <a:pt x="1765" y="288"/>
                  <a:pt x="1744" y="283"/>
                  <a:pt x="1728" y="272"/>
                </a:cubicBezTo>
                <a:cubicBezTo>
                  <a:pt x="1710" y="260"/>
                  <a:pt x="1664" y="256"/>
                  <a:pt x="1664" y="256"/>
                </a:cubicBezTo>
                <a:cubicBezTo>
                  <a:pt x="1626" y="218"/>
                  <a:pt x="1564" y="210"/>
                  <a:pt x="1512" y="200"/>
                </a:cubicBezTo>
                <a:cubicBezTo>
                  <a:pt x="1442" y="165"/>
                  <a:pt x="1365" y="141"/>
                  <a:pt x="1288" y="128"/>
                </a:cubicBezTo>
                <a:cubicBezTo>
                  <a:pt x="1144" y="131"/>
                  <a:pt x="1000" y="131"/>
                  <a:pt x="856" y="136"/>
                </a:cubicBezTo>
                <a:cubicBezTo>
                  <a:pt x="774" y="139"/>
                  <a:pt x="707" y="174"/>
                  <a:pt x="640" y="216"/>
                </a:cubicBezTo>
                <a:cubicBezTo>
                  <a:pt x="578" y="255"/>
                  <a:pt x="493" y="267"/>
                  <a:pt x="440" y="320"/>
                </a:cubicBezTo>
                <a:cubicBezTo>
                  <a:pt x="381" y="379"/>
                  <a:pt x="322" y="437"/>
                  <a:pt x="272" y="504"/>
                </a:cubicBezTo>
                <a:cubicBezTo>
                  <a:pt x="234" y="555"/>
                  <a:pt x="211" y="619"/>
                  <a:pt x="176" y="672"/>
                </a:cubicBezTo>
                <a:cubicBezTo>
                  <a:pt x="160" y="736"/>
                  <a:pt x="121" y="792"/>
                  <a:pt x="104" y="856"/>
                </a:cubicBezTo>
                <a:cubicBezTo>
                  <a:pt x="80" y="944"/>
                  <a:pt x="61" y="1033"/>
                  <a:pt x="32" y="1120"/>
                </a:cubicBezTo>
                <a:cubicBezTo>
                  <a:pt x="22" y="1189"/>
                  <a:pt x="10" y="1259"/>
                  <a:pt x="0" y="1328"/>
                </a:cubicBezTo>
                <a:cubicBezTo>
                  <a:pt x="5" y="1419"/>
                  <a:pt x="7" y="1510"/>
                  <a:pt x="16" y="1600"/>
                </a:cubicBezTo>
                <a:cubicBezTo>
                  <a:pt x="23" y="1666"/>
                  <a:pt x="73" y="1731"/>
                  <a:pt x="96" y="1792"/>
                </a:cubicBezTo>
                <a:cubicBezTo>
                  <a:pt x="139" y="1906"/>
                  <a:pt x="102" y="1862"/>
                  <a:pt x="152" y="1912"/>
                </a:cubicBezTo>
                <a:cubicBezTo>
                  <a:pt x="157" y="1928"/>
                  <a:pt x="160" y="1945"/>
                  <a:pt x="168" y="1960"/>
                </a:cubicBezTo>
                <a:cubicBezTo>
                  <a:pt x="173" y="1970"/>
                  <a:pt x="187" y="1974"/>
                  <a:pt x="192" y="1984"/>
                </a:cubicBezTo>
                <a:cubicBezTo>
                  <a:pt x="198" y="1996"/>
                  <a:pt x="196" y="2011"/>
                  <a:pt x="200" y="2024"/>
                </a:cubicBezTo>
                <a:cubicBezTo>
                  <a:pt x="204" y="2038"/>
                  <a:pt x="209" y="2051"/>
                  <a:pt x="216" y="2064"/>
                </a:cubicBezTo>
                <a:cubicBezTo>
                  <a:pt x="234" y="2097"/>
                  <a:pt x="241" y="2090"/>
                  <a:pt x="256" y="2120"/>
                </a:cubicBezTo>
                <a:cubicBezTo>
                  <a:pt x="289" y="2187"/>
                  <a:pt x="330" y="2258"/>
                  <a:pt x="384" y="2312"/>
                </a:cubicBezTo>
                <a:cubicBezTo>
                  <a:pt x="410" y="2338"/>
                  <a:pt x="465" y="2411"/>
                  <a:pt x="504" y="2424"/>
                </a:cubicBezTo>
                <a:cubicBezTo>
                  <a:pt x="533" y="2463"/>
                  <a:pt x="576" y="2501"/>
                  <a:pt x="616" y="2528"/>
                </a:cubicBezTo>
                <a:cubicBezTo>
                  <a:pt x="623" y="2533"/>
                  <a:pt x="632" y="2533"/>
                  <a:pt x="640" y="2536"/>
                </a:cubicBezTo>
                <a:cubicBezTo>
                  <a:pt x="651" y="2541"/>
                  <a:pt x="662" y="2545"/>
                  <a:pt x="672" y="2552"/>
                </a:cubicBezTo>
                <a:cubicBezTo>
                  <a:pt x="721" y="2587"/>
                  <a:pt x="793" y="2662"/>
                  <a:pt x="848" y="2680"/>
                </a:cubicBezTo>
                <a:cubicBezTo>
                  <a:pt x="934" y="2744"/>
                  <a:pt x="1047" y="2838"/>
                  <a:pt x="1152" y="2864"/>
                </a:cubicBezTo>
                <a:cubicBezTo>
                  <a:pt x="1199" y="2896"/>
                  <a:pt x="1218" y="2898"/>
                  <a:pt x="1272" y="2912"/>
                </a:cubicBezTo>
                <a:cubicBezTo>
                  <a:pt x="1313" y="2943"/>
                  <a:pt x="1361" y="2955"/>
                  <a:pt x="1408" y="2976"/>
                </a:cubicBezTo>
                <a:cubicBezTo>
                  <a:pt x="1523" y="3027"/>
                  <a:pt x="1647" y="3074"/>
                  <a:pt x="1752" y="3144"/>
                </a:cubicBezTo>
                <a:cubicBezTo>
                  <a:pt x="1806" y="3180"/>
                  <a:pt x="1870" y="3203"/>
                  <a:pt x="1928" y="3232"/>
                </a:cubicBezTo>
                <a:cubicBezTo>
                  <a:pt x="1957" y="3246"/>
                  <a:pt x="2000" y="3296"/>
                  <a:pt x="2000" y="3296"/>
                </a:cubicBezTo>
                <a:cubicBezTo>
                  <a:pt x="2013" y="3335"/>
                  <a:pt x="2005" y="3338"/>
                  <a:pt x="2072" y="3304"/>
                </a:cubicBezTo>
                <a:cubicBezTo>
                  <a:pt x="2135" y="3272"/>
                  <a:pt x="2203" y="3241"/>
                  <a:pt x="2272" y="3224"/>
                </a:cubicBezTo>
                <a:cubicBezTo>
                  <a:pt x="2296" y="3206"/>
                  <a:pt x="2327" y="3174"/>
                  <a:pt x="2352" y="3160"/>
                </a:cubicBezTo>
                <a:cubicBezTo>
                  <a:pt x="2369" y="3150"/>
                  <a:pt x="2391" y="3153"/>
                  <a:pt x="2408" y="3144"/>
                </a:cubicBezTo>
                <a:cubicBezTo>
                  <a:pt x="2473" y="3112"/>
                  <a:pt x="2559" y="3098"/>
                  <a:pt x="2632" y="3088"/>
                </a:cubicBezTo>
                <a:cubicBezTo>
                  <a:pt x="2678" y="3073"/>
                  <a:pt x="2721" y="3057"/>
                  <a:pt x="2768" y="3048"/>
                </a:cubicBezTo>
                <a:cubicBezTo>
                  <a:pt x="2833" y="3015"/>
                  <a:pt x="2898" y="2991"/>
                  <a:pt x="2968" y="2968"/>
                </a:cubicBezTo>
                <a:cubicBezTo>
                  <a:pt x="3002" y="2957"/>
                  <a:pt x="3052" y="2947"/>
                  <a:pt x="3080" y="2928"/>
                </a:cubicBezTo>
                <a:cubicBezTo>
                  <a:pt x="3137" y="2890"/>
                  <a:pt x="3109" y="2901"/>
                  <a:pt x="3160" y="2888"/>
                </a:cubicBezTo>
                <a:cubicBezTo>
                  <a:pt x="3210" y="2855"/>
                  <a:pt x="3263" y="2826"/>
                  <a:pt x="3312" y="2792"/>
                </a:cubicBezTo>
                <a:cubicBezTo>
                  <a:pt x="3371" y="2751"/>
                  <a:pt x="3427" y="2695"/>
                  <a:pt x="3496" y="2672"/>
                </a:cubicBezTo>
                <a:cubicBezTo>
                  <a:pt x="3560" y="2608"/>
                  <a:pt x="3471" y="2694"/>
                  <a:pt x="3560" y="2624"/>
                </a:cubicBezTo>
                <a:cubicBezTo>
                  <a:pt x="3592" y="2599"/>
                  <a:pt x="3602" y="2581"/>
                  <a:pt x="3640" y="2568"/>
                </a:cubicBezTo>
                <a:cubicBezTo>
                  <a:pt x="3672" y="2536"/>
                  <a:pt x="3701" y="2510"/>
                  <a:pt x="3744" y="2496"/>
                </a:cubicBezTo>
                <a:cubicBezTo>
                  <a:pt x="3771" y="2456"/>
                  <a:pt x="3814" y="2434"/>
                  <a:pt x="3848" y="2400"/>
                </a:cubicBezTo>
                <a:cubicBezTo>
                  <a:pt x="3898" y="2350"/>
                  <a:pt x="3950" y="2298"/>
                  <a:pt x="4000" y="2248"/>
                </a:cubicBezTo>
                <a:cubicBezTo>
                  <a:pt x="4034" y="2214"/>
                  <a:pt x="4066" y="2159"/>
                  <a:pt x="4112" y="2144"/>
                </a:cubicBezTo>
                <a:cubicBezTo>
                  <a:pt x="4161" y="2071"/>
                  <a:pt x="4079" y="2188"/>
                  <a:pt x="4168" y="2088"/>
                </a:cubicBezTo>
                <a:cubicBezTo>
                  <a:pt x="4178" y="2076"/>
                  <a:pt x="4182" y="2060"/>
                  <a:pt x="4192" y="2048"/>
                </a:cubicBezTo>
                <a:cubicBezTo>
                  <a:pt x="4198" y="2041"/>
                  <a:pt x="4209" y="2039"/>
                  <a:pt x="4216" y="2032"/>
                </a:cubicBezTo>
                <a:cubicBezTo>
                  <a:pt x="4245" y="2003"/>
                  <a:pt x="4233" y="2003"/>
                  <a:pt x="4256" y="1976"/>
                </a:cubicBezTo>
                <a:cubicBezTo>
                  <a:pt x="4304" y="1918"/>
                  <a:pt x="4366" y="1852"/>
                  <a:pt x="4400" y="1784"/>
                </a:cubicBezTo>
                <a:cubicBezTo>
                  <a:pt x="4421" y="1742"/>
                  <a:pt x="4446" y="1698"/>
                  <a:pt x="4464" y="1656"/>
                </a:cubicBezTo>
                <a:cubicBezTo>
                  <a:pt x="4495" y="1582"/>
                  <a:pt x="4509" y="1501"/>
                  <a:pt x="4528" y="1424"/>
                </a:cubicBezTo>
                <a:cubicBezTo>
                  <a:pt x="4523" y="968"/>
                  <a:pt x="4588" y="828"/>
                  <a:pt x="4472" y="520"/>
                </a:cubicBezTo>
                <a:cubicBezTo>
                  <a:pt x="4454" y="471"/>
                  <a:pt x="4439" y="423"/>
                  <a:pt x="4400" y="384"/>
                </a:cubicBezTo>
                <a:cubicBezTo>
                  <a:pt x="4360" y="344"/>
                  <a:pt x="4300" y="321"/>
                  <a:pt x="4248" y="304"/>
                </a:cubicBezTo>
                <a:cubicBezTo>
                  <a:pt x="4194" y="264"/>
                  <a:pt x="4131" y="246"/>
                  <a:pt x="4072" y="216"/>
                </a:cubicBezTo>
                <a:cubicBezTo>
                  <a:pt x="4027" y="193"/>
                  <a:pt x="3982" y="164"/>
                  <a:pt x="3936" y="144"/>
                </a:cubicBezTo>
                <a:cubicBezTo>
                  <a:pt x="3907" y="131"/>
                  <a:pt x="3877" y="125"/>
                  <a:pt x="3848" y="112"/>
                </a:cubicBezTo>
                <a:cubicBezTo>
                  <a:pt x="3822" y="101"/>
                  <a:pt x="3794" y="81"/>
                  <a:pt x="3768" y="72"/>
                </a:cubicBezTo>
                <a:cubicBezTo>
                  <a:pt x="3747" y="64"/>
                  <a:pt x="3725" y="63"/>
                  <a:pt x="3704" y="56"/>
                </a:cubicBezTo>
                <a:cubicBezTo>
                  <a:pt x="3675" y="46"/>
                  <a:pt x="3646" y="30"/>
                  <a:pt x="3616" y="24"/>
                </a:cubicBezTo>
                <a:cubicBezTo>
                  <a:pt x="3573" y="15"/>
                  <a:pt x="3530" y="14"/>
                  <a:pt x="3488" y="0"/>
                </a:cubicBezTo>
                <a:cubicBezTo>
                  <a:pt x="3232" y="3"/>
                  <a:pt x="2976" y="3"/>
                  <a:pt x="2720" y="8"/>
                </a:cubicBezTo>
                <a:cubicBezTo>
                  <a:pt x="2594" y="10"/>
                  <a:pt x="2487" y="80"/>
                  <a:pt x="2368" y="104"/>
                </a:cubicBezTo>
                <a:cubicBezTo>
                  <a:pt x="2307" y="134"/>
                  <a:pt x="2254" y="167"/>
                  <a:pt x="2200" y="208"/>
                </a:cubicBezTo>
                <a:cubicBezTo>
                  <a:pt x="2196" y="211"/>
                  <a:pt x="2154" y="244"/>
                  <a:pt x="2144" y="248"/>
                </a:cubicBezTo>
                <a:cubicBezTo>
                  <a:pt x="2129" y="255"/>
                  <a:pt x="2096" y="264"/>
                  <a:pt x="2096" y="264"/>
                </a:cubicBezTo>
                <a:cubicBezTo>
                  <a:pt x="2067" y="293"/>
                  <a:pt x="2034" y="321"/>
                  <a:pt x="2000" y="344"/>
                </a:cubicBezTo>
                <a:cubicBezTo>
                  <a:pt x="1971" y="401"/>
                  <a:pt x="1950" y="412"/>
                  <a:pt x="1896" y="448"/>
                </a:cubicBezTo>
                <a:cubicBezTo>
                  <a:pt x="1887" y="454"/>
                  <a:pt x="1853" y="490"/>
                  <a:pt x="1845" y="474"/>
                </a:cubicBezTo>
                <a:close/>
              </a:path>
            </a:pathLst>
          </a:custGeom>
          <a:solidFill>
            <a:srgbClr val="0101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สัมพันธ์ของกำไรสุทธิทางบัญชีกับกำไรสุทธิทางภาษีอากร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1371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65760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4670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3962520"/>
            <a:ext cx="0" cy="25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531504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657600" y="6041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52280" y="817560"/>
            <a:ext cx="350532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AA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enerally Accepted Accounting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030920" y="814320"/>
            <a:ext cx="49842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นทึกรายการทางการเงินที่เกิดขึ้นใน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ทุกรายการตามหลัก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คู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uble Entry A/C System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80" y="2209680"/>
            <a:ext cx="3505320" cy="115416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บดุล งบกำไรขาดทุ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หรือขาดทุนสุทธิทางบัญช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งิ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15800" y="2228760"/>
            <a:ext cx="5016240" cy="115452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และรับรองบัญชีโด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PA/ 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สนอต่อผู้เป็นเจ้าของ สาธารณชนโด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่านกระทรวงพาณิชย์ และ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4227480"/>
            <a:ext cx="4800600" cy="1410120"/>
          </a:xfrm>
          <a:prstGeom prst="rect">
            <a:avLst/>
          </a:prstGeom>
          <a:gradFill rotWithShape="0">
            <a:gsLst>
              <a:gs pos="0">
                <a:srgbClr val="280607"/>
              </a:gs>
              <a:gs pos="100000">
                <a:srgbClr val="580e1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ได้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ในการตีราคา 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และหนี้สิน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051800" y="5645160"/>
            <a:ext cx="49568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คำนวณภาษีเงินได้นิติบุคคล เพื่อย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2280" y="4213080"/>
            <a:ext cx="3505320" cy="1081080"/>
          </a:xfrm>
          <a:prstGeom prst="rect">
            <a:avLst/>
          </a:prstGeom>
          <a:gradFill rotWithShape="0">
            <a:gsLst>
              <a:gs pos="0">
                <a:srgbClr val="280607"/>
              </a:gs>
              <a:gs pos="100000">
                <a:srgbClr val="580e1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ทางภาษีอาการ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2280" y="5635800"/>
            <a:ext cx="35053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หรือขาดทุนสุทธิทางภาษีอ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905120" y="3352680"/>
            <a:ext cx="0" cy="2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65360" y="35528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ับปรุงให้เป็นไป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11160" y="374796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508720" y="256536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04000" y="256536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020000" y="32860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722840" y="5112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Trans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211-87DF-48D4-A865-B7CEBA7771DC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 รายจ่ายทางบัญชี 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 รายจ่ายทางภาษีอ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08000" y="1251000"/>
          <a:ext cx="8964720" cy="5284800"/>
        </p:xfrm>
        <a:graphic>
          <a:graphicData uri="http://schemas.openxmlformats.org/drawingml/2006/table">
            <a:tbl>
              <a:tblPr/>
              <a:tblGrid>
                <a:gridCol w="647640"/>
                <a:gridCol w="1295280"/>
                <a:gridCol w="3457800"/>
                <a:gridCol w="3564000"/>
              </a:tblGrid>
              <a:tr h="49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2f"/>
                        </a:gs>
                        <a:gs pos="100000">
                          <a:srgbClr val="0066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ทั้งรายได้และ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รับรู้ทั้งรายได้และ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10199"/>
                        </a:gs>
                        <a:gs pos="50000">
                          <a:srgbClr val="000046"/>
                        </a:gs>
                        <a:gs pos="100000">
                          <a:srgbClr val="010199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ทั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  <a:tr h="82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หักออ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บวกกลับ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รับรู้ทั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</a:tr>
              <a:tr h="82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บวกเพิ่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✕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  <a:tr h="11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หักออ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✕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✕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34" name=""/>
          <p:cNvSpPr/>
          <p:nvPr/>
        </p:nvSpPr>
        <p:spPr>
          <a:xfrm rot="16200000">
            <a:off x="-1024920" y="4155480"/>
            <a:ext cx="28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anci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699-17A5-4802-8827-61047D7084ED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50560" y="950400"/>
            <a:ext cx="87138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ารส ยกเว้นภาษีเงินได้นิติบุคคลสำหรับเงินปันผลที่ได้จากการถือหุ้นในวิสาหกิจขนาดกลางและขนาดย่อ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ูนวีสติ ยกเว้นภาษีเงินได้นิติบุคคล สำหรับเงินปันผลที่ได้จากการถือหุ้นในกิจ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C: Venture Ca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อากรแสตมป์</a:t>
            </a:r>
            <a:r>
              <a:rPr b="0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อากรตามประมวลรัษฎากรแก่บุคคลตามสัญญาว่าด้วยการเว้นการเก็บภาษีซ้อนที่รัฐบาลไทยได้ทำหรือจะได้ท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อากรแสตมป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ก่ผู้มีเงินได้จากการเป็นสมาชิกสหกรณ์ สำหรับเงินปันผลหรือเงินเฉลี่ยคื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280" y="936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7BB6-A167-4FF1-A9AD-E62B9B8BF3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ได้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63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รายได้  รายได้จาก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เนื่องจาก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ับรู้ราย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/2528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/253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1/2539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3/2541)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ตอบแทนจากการดำเนินกิจการดังต่อไป นี้ต้องเป็นไปตามราคาตลา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อนทรัพย์ส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สินค้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กู้ยืมเง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จำกัด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ที่อยู่ในบังคับที่ต้องถูกหักภาษี ณ ที่จ่ายตามกฎหมายว่าด้วยภาษีเงินได้ปิโตรเลีย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E02-CCA7-4901-B8D1-81F945B1C9A2}" type="slidenum">
              <a:t>140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ได้</a:t>
            </a:r>
            <a:r>
              <a:rPr b="0" lang="en-US" sz="4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28600" y="1198440"/>
            <a:ext cx="8763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ที่อยู่ในบังคับที่ต้องถูกหักภาษี ณ ที่จ่ายตามกฎหมายว่าด้วยภาษีเงินได้ปิโตรเลีย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ไม่ใช่รายได้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ครดิตภาษีที่ได้จากโรงงานยาสูบ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กรณีที่กฎหมายกำหนดให้ถือเป็นการ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การส่งสินค้าออกไปต่างประเทศ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เลิก ควบ หรือโอนกิจ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762-D50A-4DDA-B552-72201588F912}" type="slidenum">
              <a:t>141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ได้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ราย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่วนแบ่งของกำไรจากกิจการร่วมค้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รางวัลสลากการกุศลงวดพิเศษ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ตุท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6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จากกองทุนรวมที่ตั้งขึ้นตามกฎหมายว่าด้วยหลักทรัพย์และตลาดหลักทรัพย์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8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จากกิจการโรงเรียนเอกชน สถาบันอุดมศึกษาเอกชน และ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1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จากกิจการเรือเดินทะเล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65B-6960-4688-94C9-6AAEC741F929}" type="slidenum">
              <a:t>142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จ่า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ของราย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อันมีลักษณะเป็นการลงทุ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7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ดำเนิน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สึกหรอและค่าเลื่อมราคาทรัพย์ส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45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85)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9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/252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ทุนของสินค้าที่ส่งเข้ามาจาก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nti Transfer Pricin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ทุนของสินค้าที่เป็นเงินตรา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ันทึกราคาซื้อสินค้าที่นำเข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ำหน่ายหนี้สูญออกจากบัญชีลูกห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69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ฎกระทรวง 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5C6-2BE9-4F0A-9FDC-B75D26CBA81B}" type="slidenum">
              <a:t>143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รายจ่าย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79280" y="1036800"/>
            <a:ext cx="889344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– (2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เลิก ควบ หรือโอนกิจการ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ขาดทุนสุทธิยกมาไม่เก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Public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In-house Trainin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ึกอบรมอาชีพแก่บุคคลภายนอ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97)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&amp;D Fe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ฟื้นฟูสมรรถภาพคนพิก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เสริมการลงทุน – ค่าขนส่ง และค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fra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465-BB19-4D7C-9234-BAD5F9AA9AEC}" type="slidenum">
              <a:t>144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52280" y="326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ในการตีราคาทรัพย์สินและหนี้ส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52280" y="1317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สินค้าอย่างอื่นที่ไม่ใช่เงินตราต่างประเทศและสินค้าคงเหลือ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เงินตรา ทรัพย์สิน หรือหนี้สินที่มีค่าหรือราคาเป็นเงินตรา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ียง ณ วันสุดท้ายของรอบระยะเวลาบัญช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ที่ได้มาหรือจ่ายไประหว่าง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สินค้าคงเหลือ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4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ีราคาทรัพย์สินเพื่อการคำนวณกำไร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เลิก ควบ หรือโอนกิจการ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E40-3D6B-499A-8CE7-9CF2A05B0E1E}" type="slidenum">
              <a:t>145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179280" y="1052640"/>
          <a:ext cx="8785440" cy="5681520"/>
        </p:xfrm>
        <a:graphic>
          <a:graphicData uri="http://schemas.openxmlformats.org/drawingml/2006/table">
            <a:tbl>
              <a:tblPr/>
              <a:tblGrid>
                <a:gridCol w="5977080"/>
                <a:gridCol w="863640"/>
                <a:gridCol w="877680"/>
                <a:gridCol w="106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01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65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65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)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–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(20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ต้องห้า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)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่าสึกหรอและค่าเสื่อมราคาทรัพย์สิ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3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ตีราคาทรัพย์สินอย่างอื่นที่มิใช่สินค้าคงเหลื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4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รับรู้รายได้ตามราคาตลาด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5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ีราคาเงินตรา ทรัพย์สิน หนี้สินที่มีค่าหรือราค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เงินตรา ตป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6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ตีราคาสินค้าคงเหลือ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7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ทุนของสินค้าที่ส่งเข้ามาจาก ตป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8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คาทุนของสินค้าที่เข้ามาจาก ตปท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9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จำหน่ายหนี้สูญจากบัญชีลูกหนี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0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ปันผลหรือเงินส่วนแบ่งของกำไรสำห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ไท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701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ในการคำนวณกำไรสุทธิ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944960" y="4718160"/>
            <a:ext cx="24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Anti Transfer Pric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00560" y="117144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ตาม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36160" y="9810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96240" y="13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85360" y="13874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841160" y="1413000"/>
            <a:ext cx="120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ี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DF5-0593-42FB-99A3-495A722E5C92}" type="slidenum">
              <a:t>14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179280" y="1052640"/>
          <a:ext cx="8785440" cy="5321160"/>
        </p:xfrm>
        <a:graphic>
          <a:graphicData uri="http://schemas.openxmlformats.org/drawingml/2006/table">
            <a:tbl>
              <a:tblPr/>
              <a:tblGrid>
                <a:gridCol w="5977080"/>
                <a:gridCol w="863640"/>
                <a:gridCol w="877680"/>
                <a:gridCol w="106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30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1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ที่อยู่ในบังคับที่ต้องหักภาษี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ก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ปิโตรเลีย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2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ปันผลที่อยู่ในบังคับที่ต้องหักภาษี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ก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ปิโตรเลีย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3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ของมูลนิธิหรือสมาคม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4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ขายไม่ใช่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104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เครดิตภาษีจากการซื้อบุหรี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โรงงานยาสู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 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ที่ก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ถือเป็นการข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11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4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คำนวณกำไรขาดทุน กรณีเลิกกิจ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บกิจการ หรือโอนกิจ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80e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ในการคำนวณกำไรสุทธิ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0560" y="117144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ตามมาตรา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536160" y="9810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96240" y="138744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85360" y="13874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874280" y="1413000"/>
            <a:ext cx="120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ีราค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59640" y="505620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e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40A-283A-4761-9DDC-BCE975863713}" type="slidenum">
              <a:t>147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เป็นไปตาม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ภาษีเงินได้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หรือห้างหุ้นส่วนนิติบุคค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หรือห้างหุ้นส่วนนิติบุคคลต่างประเทศที่ประกอบกิจการขนส่งระหว่างประเท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ดอัตราภาษีเงินได้นิติบุคคล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ำโดยการตราพระราชกฤษฎีกาฯ ซึ่งออกตามความใ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CBF-9574-48D5-9BFA-1E48CA47D03F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35760" y="404640"/>
            <a:ext cx="38534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56000" y="12366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523880"/>
            <a:ext cx="4032360" cy="100836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นจดทะเบียนชำระ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สุดท้ายของ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≤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500720" y="2028960"/>
            <a:ext cx="7920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00640" y="1482840"/>
            <a:ext cx="3519360" cy="106956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ก้าวหน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95480" y="1589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56000" y="25322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01440" y="2460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00640" y="2317680"/>
            <a:ext cx="78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93000" y="21016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84720" y="2101680"/>
            <a:ext cx="136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459560" y="18860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51640" y="18860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667480" y="227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91280" y="2101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07120" y="1992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16720" y="1776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827840" y="15606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39640" y="2965320"/>
            <a:ext cx="4032360" cy="863640"/>
          </a:xfrm>
          <a:prstGeom prst="diamond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00720" y="33973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92720" y="2997360"/>
            <a:ext cx="3527280" cy="825480"/>
          </a:xfrm>
          <a:prstGeom prst="rect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ลดอัตร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8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95480" y="2965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556000" y="38289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01440" y="38289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82000" y="641520"/>
            <a:ext cx="320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ฏ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4260960"/>
            <a:ext cx="4032360" cy="86364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house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00720" y="46926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2720" y="4292640"/>
            <a:ext cx="3527280" cy="82548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ยกเว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NP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95480" y="4260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56000" y="512460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701440" y="5124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6920" y="5557680"/>
            <a:ext cx="345780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EDE-4EC1-4CDA-A21E-97E087C4CD48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78920" y="1147320"/>
            <a:ext cx="871380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นิ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แก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การค้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ยกเว้นภาษีเงินได้บุคคลธรรมดาแก่กองทุนหมู่บ้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ก่ผู้มีเงินได้จากการขายอสังหาริมทรัพ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สำหรับเงินได้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(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มูลนิธ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มาค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ลงเหลื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แก่กิจการวิเทศธนกิ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8520" y="19512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EBF4-8215-40F1-A6D2-9D6197B9D1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ปรียบเทียบจำนวน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08000" y="1424160"/>
          <a:ext cx="9001080" cy="3805200"/>
        </p:xfrm>
        <a:graphic>
          <a:graphicData uri="http://schemas.openxmlformats.org/drawingml/2006/table">
            <a:tbl>
              <a:tblPr/>
              <a:tblGrid>
                <a:gridCol w="3024000"/>
                <a:gridCol w="576360"/>
                <a:gridCol w="1584360"/>
                <a:gridCol w="576360"/>
                <a:gridCol w="1584360"/>
                <a:gridCol w="165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่วงกำไรสุทธ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-1,0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000,001-3,0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,000,001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00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% Divid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5,00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8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1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"/>
          <p:cNvSpPr/>
          <p:nvPr/>
        </p:nvSpPr>
        <p:spPr>
          <a:xfrm>
            <a:off x="3778200" y="1459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78560" y="1459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09B-8E75-405D-85F7-55684759BDD4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331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ปรียบเทียบจำนว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: SMEs vs PI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34920" y="1484280"/>
          <a:ext cx="9109080" cy="3816360"/>
        </p:xfrm>
        <a:graphic>
          <a:graphicData uri="http://schemas.openxmlformats.org/drawingml/2006/table">
            <a:tbl>
              <a:tblPr/>
              <a:tblGrid>
                <a:gridCol w="2367000"/>
                <a:gridCol w="465120"/>
                <a:gridCol w="1077840"/>
                <a:gridCol w="1131840"/>
                <a:gridCol w="1224000"/>
                <a:gridCol w="503280"/>
                <a:gridCol w="1152720"/>
                <a:gridCol w="118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ou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% Divide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 Amou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-     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,001-    50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0,001- 1,0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000,001- 3,0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,000,001- 4,0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5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,5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4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2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4,000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17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0,000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4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7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5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25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4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,000,001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5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25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40,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3780000" y="1413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154560" y="1413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54320" y="17668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่วงกำไรสุทธ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883640" y="17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DE8-E429-4267-A316-73B5F3D697D3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สีย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ถูกหักไว้ ณ ที่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งินได้พึงประเมิน กรณีได้รับรายได้จากทางราชการ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บิกหักผลักส่งไว้ในฎีก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ายได้จากการขายอสังหาริมทรัพย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/2528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 ณ ที่จ่าย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al Ta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ประเมินตนเ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เจ้าพนักงานประเมินเรียกเก็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เงินได้แทนผู้ค้าบุหรี่โดยโรงงานยาสู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เสีย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ตุทศ แห่ง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BED-7372-4DC1-AABE-30FB31BC8741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61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ภาษีเงินได้นิติบุคค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ที่ได้รับยกเว้น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ิได้ถูกกำหนดให้เป็นบริษัทหรือห้างหุ้นส่วนนิติบุคคล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ได้รับยกเว้น โดยกฎหมายพิเศษ เช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BOI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โรงเรียนเอกชน หรืออุดมศึกษาเอกชน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84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ขนสินค้าระหว่างประเทศทางทะเล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14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รายได้จากการประกอบกิจการ เช่น เงินปันผลหรือเงินส่วนแบ่งของกำไร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BOI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โรงเรียนเอกชน หรืออุดมศึกษาเอกชน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84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ขนสินค้าระหว่างประเทศทางทะเล 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14</a:t>
            </a:r>
            <a:r>
              <a:rPr b="0" lang="th-TH" sz="2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26F-539F-4323-8E89-62C59A9DB9D1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240" y="115920"/>
            <a:ext cx="8915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–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ี่ยวก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ของ “กำไรสุทธิหรือขาดทุนสุทธิทางภาษีอากร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รายได้ทางภาษีอ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72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จากกิจการ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723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เนื่องจาก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ณฑ์รับรู้รายได้ – รายจ่ายทางภาษีอากร –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/25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หลักเกณฑ์ และเงื่อนไขในการคำนวณกำไรสุทธิทาง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จ่า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ในการตีราคาทรัพย์สินและหนี้สิ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160-2805-4E3E-9776-DD9126ED2A2D}" type="slidenum">
              <a:t>154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880" y="115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เป็นบทขยายความ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โดยแท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โดยผลของกฎหมา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กฎหมายยอมให้ถือเป็นรายจ่ายได้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จัตวา การเสียภาษีเงินได้แทนผู้ค้าบุหรี่โดย โรงงานยาสูบ กระทรวงการคลั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ฎกระทรวง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กฎกระทรวง 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6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จัดเก็บภาษีเงินได้นิติบุคค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ource Income in Thailand – Foreign Co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orldwide Income – Thai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B08-18F7-4A80-938A-BD4B442AA336}" type="slidenum">
              <a:t>155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0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เงินได้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บัญชีอั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บริษัทหรือห้างหุ้นส่วนนิติบุคคลที่ตั้งขึ้นตามก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ต่างประเทศ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 ที่ประกอบกิจการขนส่งระหว่างประเทศ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7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เงินได้นิติบุคคลครึ่งป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เหตุอันสมควรตามคำสั่งกรมสรรพากรที่ 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/253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7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พิ่มภาษี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ารเสียภาษีเงินได้นิติบุคคลครึ่งป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ารลดเงินเพิ่มตาม 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1/2542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8, 68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ละ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เงินได้นิติบุคคลประจำรอบระยะเวลาบัญช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ยื่นแบบและชำระภาษีเงินได้นิติบุคคลประจำรอบระยะเวลาบัญชี ภายใ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สุดท้ายของรอบระยะเวลา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D5A-463C-45D3-A555-62B091362D18}" type="slidenum">
              <a:t>15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0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8, 68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ละ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9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สียภาษีเงินได้นิติบุคคลประจำรอบระยะเวลาบัญช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สดงรายการตามที่อธิบดีกรมสรรพากรกำหน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ฐาน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ขนส่งระหว่างประเทศตาม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นิธิหรือสมาค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ที่ต้องจัดทำ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นอกเหนือ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งบดุล บัญชีทำการ และบัญชีกำไรขาดทุนสำหร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ฐา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รายได้ก่อนหักรายจ่ายใดๆ สำหรับบริษัทขนส่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หว่างประเทศตาม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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การยื่นรายการให้แนบบัญชีตาม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041-8922-4446-B27F-E1C288D76A5F}" type="slidenum">
              <a:t>157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1280" y="1447920"/>
            <a:ext cx="89647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9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ภาษีเงินได้นิติบุคคลหัก ณ ที่จ่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ต้บังคับ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ส่วนราชการเป็นผู้จ่าย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9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ภาษีเงินได้นิติบุคคลหัก ณ ที่จ่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งินได้จากการขายอสังหาริมทรัพย์ – หัก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1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0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เงินได้นิติบุคคล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่ายเงินได้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(2)(3)(4)(5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บริษัทหรือห้างหุ้นส่วนนิติบุคลที่ตั้งขึ้นตามกฎหมายของต่าง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เบ็ดเสร็จเด็ดขา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Final Tax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ารนำส่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3/6 –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0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การจำหน่ายเงินกำไรไปต่างประเท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เงินกำไรที่จำหน่าย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EE3-5A61-48F0-B1A4-F094127D0582}" type="slidenum">
              <a:t>158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0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กฎหมายกำหนดถือเป็นการข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emed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al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ประกอบ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1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ำนาจเจ้าพนักงานประเมินกรณีพิเศษ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คำสั่งกรม สรรพากรที่ 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8/254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เลิกกิจ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การเลิก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มิฉะนั้นอาจต้องเสียเงิน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สุดท้า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ท้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ยาย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วบกิจการ หรือโอน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หรือขาดทุนสุทธ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หรือห้างหุ้นส่วนนิติบุคคลเลิก ควบ หรือโอน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8C0-12CE-4830-9D2B-AAF0E29AFE88}" type="slidenum">
              <a:t>159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250560" y="90756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ยกเว้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ได้บุคคลธรรมดาสำหรับเงินส่วนแบ่งของกำไรที่ได้จากกองทุนรวมตาม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ทรัพย์ฯ กรณีที่ยอมให้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ยกเว้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ได้นิติบุคคลสำหรับเงินส่วนแบ่งของกำไรที่ได้จากกองทุนรวมตาม 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ทรัพย์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สำหรับการนำเข้าวัตถูดิบที่ใช้ในการผลิตปุ๋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บุคคลธรรมดาและภาษีเงินได้นิติบุคคลสำหรับดอกเบี้ยที่ได้จากกิจการวิเทศธน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ละภาษีเงินได้นิติบุคคลสำหรับการบริจาคให้แก่กองทุนเพื่อโครงการอาหารกลางวัน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AA63-A329-4226-979E-A637B45C33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2824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ภาษีเงินได้นิติบุคคลตาม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73612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5 – 7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 – การจัดเก็บ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บริษัทหรือห้างฯ นิติบุคคลที่มีผู้ถือหุ้นหรือผู้เป็นหุ้นส่วนเกิน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การเข้ามาประกอบกิจการในประเทศไทยของบริษัทหรือห้างหุ้นส่วนนิติบุคคลที่ตั้งขึ้นตามกฎหมายของ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ัญชีอัตราภาษีเงินได้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หรือห้างหุ้นส่ว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044-BFFE-4A95-B0A1-D18B071559E7}" type="slidenum">
              <a:t>160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97000"/>
            <a:ext cx="8697960" cy="528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03320" y="1125360"/>
            <a:ext cx="8964360" cy="50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การยื่นแบบและชำระภาษีเงินได้นิติบุคคลประจำรอบระยะเวลาบัญชี คื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1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สุดท้ายของรอบระยะเวลา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สดงรายการที่อธิบดีกรมสรรพากร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ฐาน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ขนส่งระหว่างประเทศ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มูลนิธิหรือสมาค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บัญชีที่ต้องจัดทำ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งบดุล บัญชีทำการ และบัญชีกำไรขาดทุนสำหร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ากฐา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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รายรับก่อนหักรายจ่ายเกี่ยวกับค่าโดยสารหรือค่าระวา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บริษัทขนส่งระหว่างประเทศ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115920"/>
            <a:ext cx="9144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จำรอบระยะเวลาบัญช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5EAC-7B95-4774-9F9A-5005AC813D09}" type="slidenum">
              <a:t>161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250920" y="1052640"/>
            <a:ext cx="8713800" cy="42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การยื่น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นบบัญชีดังต่อไป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งบดุล ที่มีผู้สอบบัญชี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ตรวจสอบและรับรองใ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ดังกล่าว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ทำการ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กำไรขาดทุน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การ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นบบัญชีบัญชีรายรับก่อนหั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Angsana New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ยกเว้นเศษของบาทจากการคำนวณภาษีเงินได้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7239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115920"/>
            <a:ext cx="91440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จำรอบระยะเวลาบัญช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BCD1-166F-4C39-8F82-25206157013B}" type="slidenum">
              <a:t>162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  <p:grpSp>
        <p:nvGrpSpPr>
          <p:cNvPr id="731" name=""/>
          <p:cNvGrpSpPr/>
          <p:nvPr/>
        </p:nvGrpSpPr>
        <p:grpSpPr>
          <a:xfrm>
            <a:off x="684360" y="1413000"/>
            <a:ext cx="8094600" cy="4181760"/>
            <a:chOff x="684360" y="1413000"/>
            <a:chExt cx="8094600" cy="4181760"/>
          </a:xfrm>
        </p:grpSpPr>
        <p:sp>
          <p:nvSpPr>
            <p:cNvPr id="732" name=""/>
            <p:cNvSpPr/>
            <p:nvPr/>
          </p:nvSpPr>
          <p:spPr>
            <a:xfrm>
              <a:off x="5724360" y="1508040"/>
              <a:ext cx="3054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มกราคม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1   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ธันวาคม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4360" y="1413000"/>
              <a:ext cx="4464000" cy="27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                          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 1 0 1 0  5 1 0 1 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บริษัท  เจริญกิจ  จำกัด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        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7/46              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โชคชัย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ลาดพร้าว                        ลาดพร้าว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ลาดพร้าว                        กรุงเทพ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0 2  3 0              0 – 2 5 3 9 – 6 4 9 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5343480" y="2037960"/>
              <a:ext cx="164880" cy="190800"/>
              <a:chOff x="5343480" y="2037960"/>
              <a:chExt cx="164880" cy="190800"/>
            </a:xfrm>
          </p:grpSpPr>
          <p:sp>
            <p:nvSpPr>
              <p:cNvPr id="735" name=""/>
              <p:cNvSpPr/>
              <p:nvPr/>
            </p:nvSpPr>
            <p:spPr>
              <a:xfrm>
                <a:off x="5343480" y="217440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409360" y="203796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826920" y="3406320"/>
              <a:ext cx="164880" cy="190800"/>
              <a:chOff x="826920" y="3406320"/>
              <a:chExt cx="164880" cy="190800"/>
            </a:xfrm>
          </p:grpSpPr>
          <p:sp>
            <p:nvSpPr>
              <p:cNvPr id="738" name=""/>
              <p:cNvSpPr/>
              <p:nvPr/>
            </p:nvSpPr>
            <p:spPr>
              <a:xfrm>
                <a:off x="826920" y="354276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892800" y="340632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5943600" y="501336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ขายอะไหล่รถยนต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35640" y="2805120"/>
              <a:ext cx="30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0 – 2 1  5   4  5 4   7 9  8 1  1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A252-9780-43F9-9B4F-1CDAAB0A68DC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อบระยะเวลาบัญชี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: Taxab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ที่เกี่ยวข้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พิเศษของ ”ปีภาษี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ปกต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ิ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แรก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ที่ได้รับอนุมัติให้เปลี่ยนแปลงวันสุดท้ายของรอบ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ให้มีขึ้นเพื่อประโยชน์ของทางราชการในการบริหารการจัดเก็บภาษีเงินได้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ครึ่งปี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นิติบุคคลประจำปี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2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CE0-8224-49EE-B4A4-2EF209A17AC8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5724360" y="17002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724360" y="4363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724360" y="3571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142920" y="1168560"/>
          <a:ext cx="8893080" cy="3844800"/>
        </p:xfrm>
        <a:graphic>
          <a:graphicData uri="http://schemas.openxmlformats.org/drawingml/2006/table">
            <a:tbl>
              <a:tblPr/>
              <a:tblGrid>
                <a:gridCol w="5081400"/>
                <a:gridCol w="1344600"/>
                <a:gridCol w="1271880"/>
                <a:gridCol w="1195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&lt;1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1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&gt;12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ริ่มประกอบกิจ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ี่ดำเนินกิจการเป็นปกติ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ด้รับอนุมัติให้เปลี่ยนแปลงวันสุดท้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องรอบระยะเวลาบัญช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ลิกกิจ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2)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วบโอนกิจกา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ด้รับอนุมัติให้ขยายรอบระยะเวลาบัญช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"/>
          <p:cNvSpPr/>
          <p:nvPr/>
        </p:nvSpPr>
        <p:spPr>
          <a:xfrm>
            <a:off x="324000" y="515628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6960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รอบระยะเวลาบัญช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77480" y="5229360"/>
            <a:ext cx="8930520" cy="16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ที่ไม่ต้อง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ท้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Wingdings"/>
                <a:ea typeface="Wingdings"/>
              </a:rPr>
              <a:t></a:t>
            </a:r>
            <a:r>
              <a:rPr b="1" lang="en-US" sz="2400" spc="-1" strike="noStrike">
                <a:solidFill>
                  <a:srgbClr val="3399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ที่ต้อง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?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ที่ต้องยื่น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ในกรณีที่ม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เกิน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แร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8F9-6162-42E3-91D3-F1ACD2564452}" type="slidenum">
              <a:t>165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รอบระยะเวลาบัญช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79280" y="1179360"/>
          <a:ext cx="8856720" cy="4284720"/>
        </p:xfrm>
        <a:graphic>
          <a:graphicData uri="http://schemas.openxmlformats.org/drawingml/2006/table">
            <a:tbl>
              <a:tblPr/>
              <a:tblGrid>
                <a:gridCol w="2160720"/>
                <a:gridCol w="3456000"/>
                <a:gridCol w="324000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บัญช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ไปตามพระราชบัญญัติ การบัญชี พ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ศ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25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ไปตามประมวลรัษฎากร 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พื่อวัดผลการดำเนินงานตามมาตรฐานการบัญชี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GAAP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Assumption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แม่บทการบัญช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พื่อการบริหารการจัดเก็บภาษีเงินได้นิติบุคคล โดย เฉพาะการยื่นรายการและการเสีย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ใช้บังค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ผู้ทำบัญชีทุกประเภท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ช้กับผู้มีหน้าที่เสียภาษีเงินได้นิติบุคคลเท่านั้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2482920" y="558972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รียบเทียบ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mparativ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ขื่อมโย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nkag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สัมพันธ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lativ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คิดริเริ่มสร้างสรรค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reative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9920" y="5734080"/>
            <a:ext cx="22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คิดรวบยอ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ceptu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BE8-2F9A-4E68-A86A-4829A56B3EBA}" type="slidenum">
              <a:t>16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569440" cy="6215040"/>
          </a:xfrm>
          <a:prstGeom prst="rect">
            <a:avLst/>
          </a:prstGeom>
          <a:ln w="0">
            <a:noFill/>
          </a:ln>
        </p:spPr>
      </p:pic>
      <p:grpSp>
        <p:nvGrpSpPr>
          <p:cNvPr id="756" name=""/>
          <p:cNvGrpSpPr/>
          <p:nvPr/>
        </p:nvGrpSpPr>
        <p:grpSpPr>
          <a:xfrm>
            <a:off x="585720" y="765000"/>
            <a:ext cx="8029800" cy="5790600"/>
            <a:chOff x="585720" y="765000"/>
            <a:chExt cx="8029800" cy="5790600"/>
          </a:xfrm>
        </p:grpSpPr>
        <p:sp>
          <p:nvSpPr>
            <p:cNvPr id="757" name=""/>
            <p:cNvSpPr/>
            <p:nvPr/>
          </p:nvSpPr>
          <p:spPr>
            <a:xfrm>
              <a:off x="2484360" y="765000"/>
              <a:ext cx="19512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759,440     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5720" y="4941720"/>
              <a:ext cx="2617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10 0 0  00 0 31  3 7  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56240" y="4941720"/>
              <a:ext cx="20876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3 4 5 6 7 8 9 0 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56240" y="5877000"/>
              <a:ext cx="2159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  1 0 8 5 7 4 4 5  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68360" y="3237480"/>
              <a:ext cx="3054600" cy="100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39" y="3471"/>
                  </a:moveTo>
                  <a:lnTo>
                    <a:pt x="23598" y="3471"/>
                  </a:lnTo>
                  <a:lnTo>
                    <a:pt x="23598" y="35148"/>
                  </a:lnTo>
                  <a:lnTo>
                    <a:pt x="20801" y="3698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ถ้าเป็นผู้สอบบัญชีภาษีอากร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ให้ขึ้นต้นด้วย </a:t>
              </a:r>
              <a:r>
                <a:rPr b="1" lang="en-US" sz="2000" spc="-1" strike="noStrike">
                  <a:solidFill>
                    <a:srgbClr val="009999"/>
                  </a:solidFill>
                  <a:latin typeface="Angsana New"/>
                </a:rPr>
                <a:t>TA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เช่น </a:t>
              </a:r>
              <a:r>
                <a:rPr b="1" lang="en-US" sz="2000" spc="-1" strike="noStrike">
                  <a:solidFill>
                    <a:srgbClr val="009999"/>
                  </a:solidFill>
                  <a:latin typeface="Angsana New"/>
                </a:rPr>
                <a:t>TA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 0004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32360" y="494172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0 0 0 09 9 1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32360" y="5877000"/>
              <a:ext cx="1654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0 0 0 0 17 2 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57360" y="5877000"/>
              <a:ext cx="25207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10 0 6 0 1 8 13  0 5 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70720" y="2577960"/>
              <a:ext cx="2862000" cy="30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เจริญ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ายเจริญ  ชมภูนุ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กรรมการ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ส้มจีน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างส้มจีน  ชมภูนุ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     </a:t>
              </a:r>
              <a:r>
                <a:rPr b="1" i="1" lang="th-TH" sz="24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กรรมการ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2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พฤษภาคม 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5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98960" y="494172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ายศักดิ์  เรืองสิน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25880" y="587700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.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ส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.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สมัย ส่องแสง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EB7-E81C-4F72-9949-1E808E81018E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ตรวจสอบและรับรองตาม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179280" y="1268280"/>
          <a:ext cx="8964720" cy="4870440"/>
        </p:xfrm>
        <a:graphic>
          <a:graphicData uri="http://schemas.openxmlformats.org/drawingml/2006/table">
            <a:tbl>
              <a:tblPr/>
              <a:tblGrid>
                <a:gridCol w="2952720"/>
                <a:gridCol w="2519640"/>
                <a:gridCol w="1657080"/>
                <a:gridCol w="1835280"/>
              </a:tblGrid>
              <a:tr h="752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ที่ต้องจัดให้มีการตรวจสอบและรับรอง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่อนรอบระยะเวลาบัญชีที่เริ่ม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ง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กราคม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ั้งแต่รอบระยะเวลาบัญชีที่เริ่มใน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/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25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บัญช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211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หรือห้างฯ นิติบุคคลไทยที่มิใช่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MEs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ิติบุคคลต่างประเทศ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ร่วมค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TA: Certified Public Tax Accoun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้างฯ นิติบุคคลไทยที่เป็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MEs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 / C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ขนส่งตาม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TA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อื่นใ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PTA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5002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81C-6B87-411E-818A-F814D254AB9F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659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ผู้มีหน้าที่เสียภาษีเงินได้นิติบุคคล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จากฐานกำไรสุทธิ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ไทย ไม่ว่าจะประกอบกิจการประเภทใด หรือ ณ ที่ใ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ของต่าง  ประเทศ และเข้ามาประกอบกิจการในไทย ในกิจการที่มิใช่การขนส่งระหว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ดำเนินเป็นทางค้าหรือหากำไรโดยรัฐบาลต่างประเทศ องค์การของรัฐบาลต่างประเทศ หรือนิติบุคคลอื่นที่ตั้งขึ้นตามกฎหมายของต่างประเทศ และเข้ามาประกอบกิจการในไทย ในกิจการอื่นใดที่มิใช่การขนส่งระหว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oint Ven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ิจ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ortium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A3B-5555-4EF7-85B7-A3360B051C21}" type="slidenum">
              <a:t>169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ประกอบกิจการโรงเรียนเอกชน หรือสถาบันอุดมศึกษาเอกช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ประกอบกิจ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พนักงานของตนเองและบริษัทในเครือเดียวก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ภาษีธุรกิจเฉพาะ และอากรแสตมป์ แก่สภาตำบลและองค์การบริหารส่วนตำบ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และภาษีธุรกิจเฉพาะ สำหรับการเวนคืนอสังหาริมทรัพย์ กรณีไม่ขอรับเงินค่าทดแท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1FAE-8D4B-406B-816E-6C8D9DB0CA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br>
              <a:rPr sz="4000"/>
            </a:b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ไทย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นิติบุคคลที่ตั้งขึ้นตามประมวลกฎหมายแพ่งและพาณิชย์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จำกั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uristic Limited Partnershi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นิติบุคคล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uristic Partnershi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ประมวลกฎหมายแพ่งและพาณิชย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ำกัด – บริษัทเอกช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rivate Company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mited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พระราชบัญญัติบริษัทมหาชนจำกั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5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มหาชนจำกัด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blic Company Limited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ม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ดทะเบียนตามพระราชบัญญัติหลักทรัพย์และตลาดหลักทรัพย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5)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Liste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62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ET: Stock Exchange of Thail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62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I: Market for Alterative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C90-995F-4B94-80B7-D02A895262F3}" type="slidenum">
              <a:t>170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179280" y="1069560"/>
            <a:ext cx="889344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ional Operating Headquarter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กฎหมายไทยเพื่อประกอบกิจการให้บริการด้านการบริหารหรือด้านเทคนิค หรือการให้บริการสนับสนุนแก่วิสาหกิจในเครือหรือสาขาของตน ไม่ว่าจะตั้งอยู่ในประเทศไทยหรือในต่างประเทศ อีกอย่างน้อ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 ตามพระราชกฤษฎีกาออกตามความในประมวลรัษฎากร ว่าด้วยการลดอัตราและยกเว้น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บุคคลธรรมดาซึ่งไม่มีสัญชาติ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วบคุ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การควบคุมตามหลักเกณฑ์ของมาตรฐานทางบัญชีที่ยอมรับโดย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" y="20628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655-62D4-4204-9832-CAAF9F662C2E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89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สนับสนุ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การให้บริการสนับสนุนในเรื่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หารงานทั่วไป การวางแผนทางธุรกิจ และการประสานงานทางธุรกิ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หาวัตถุดิบและชิ้นส่ว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จัยและพัฒนาผลิตภัณฑ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นับสนุนด้านเทคนิ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เสริมด้านการตลาดและการข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บริหารด้านงานบุคคลและการฝึกอบรมในภูมิภา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คำปรึกษาด้านการเง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และวิจัยด้านเศรษฐกิจและการลงทุ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การและควบคุมสินเชื่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สนับสนุนอื่นๆ ตามที่อธิบดีกรมสรรพากรประกาศกำหนด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BFD-D8E1-4B7A-BA65-B089E27490A5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สาหกิจในเครือ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บริษัทหรือห้างหุ้นส่วนนิติบุคคลซึ่งมีความสัมพันธ์กับสำนักงานปฏิบัติการภูมิภาค ในลักษณะดังต่อไปนี้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ถือหุ้นในสำนักงานปฏิบัติการภูมิภาคไม่น้อยกว่าร้อยละยี่สิบห้าของทุนทั้งหม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สำนักงานปฏิบัติการภูมิภาคถือหุ้นหรือเป็นหุ้นส่วนไม่น้อยกว่าร้อยละยี่สิบห้าของทุนทั้งหม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บริษัทหรือห้างหุ้นส่วนนิติบุคคล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 หุ้นหรือเป็นหุ้นส่วนไม่น้อยกว่าร้อยละยี่สิบห้าของทุนทั้งหม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มีอำนาจควบคุมกิจการหรือกำกับดูแลการดำเนินงานและการบริหารงานของสำนักงานปฏิบัติการภูมิภาค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 ซึ่งสำนักงานปฏิบัติการภูมิภาคมีอำนาจควบคุมกิจการหรือกำกับดูแลการดำเนินงานและการบริหาร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บริษัทหรือห้างหุ้นส่วนนิติบุคคล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อำนาจควบคุมกิจการหรือกำกับดูแลการดำเนินงานและการบริหาร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647-7359-4D34-8725-D71E4AE89DE0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142560" y="1052640"/>
            <a:ext cx="8893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เหลือร้อย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สำหรับรายได้ดังต่อไป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จากการให้บริการ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วิสาหกิจในเครือ หรือสาขาต่างประเทศ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ที่ได้รับจากวิสาหกิจในเครือ หรือสาขาต่างประเทศ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เฉพาะดอกเบี้ยจากเงินกู้ยืมที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กู้มาเพื่อให้กู้ยืมต่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สิทธิที่ได้รับจากวิสาหกิจในเครือ หรือสาขาต่างประเทศ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จากบริษัทหรือห้างหุ้นส่วนนิติบุคคลที่เกี่ยวข้อง ทั้งนี้ เฉพาะค่าสิทธิที่เกิดจากผลการวิจัยและพัฒนาเทคโนโลยี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กระทำขึ้นใน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เกี่ยวข้อง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บริษัทหรือห้างหุ้นส่วนนิติบุคคลที่นำผลการวิจัยและพัฒนาเทคโนโลยี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ใช้ในการผลิตสินค้าหรือให้บริการแก่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สาหกิจในเครือ หรือสาขาต่างประเทศ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ทธิประโยชน์ของ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02A-20C8-4FCB-B322-05CBE30CBE3B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142560" y="1052640"/>
            <a:ext cx="8893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นิติบุคคลให้แก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ได้พึงประเมินที่เป็นเงินปันผลที่ได้รับจากวิสาหกิจในเครือที่ตั้งขึ้นตามกฎหมายไทยหรือที่ตั้งขึ้นตามกฎหมายของต่างประเท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ะได้รับสิทธิ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คุณสมบัติ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ทุนที่ชำระแล้วในวันสุดท้ายของแต่ละรอบระยะเวลาบัญชีตั้งแต่สิบล้านบาทขึ้น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การให้บริการแก่วิสาหกิจในเครือในต่างประเทศ หรือสาขาของตนในต่างประเทศอย่างน้อยสามประเท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ิทธิประโยชน์ของ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AF2-3AC8-4E4B-B80D-5AD1A925F0A7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89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ะได้รับสิทธิ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คุณสมบัติดังนี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รายได้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จากหรือในต่างประเทศรวมกันไม่น้อยกว่าร้อยละห้าสิบของรายได้ทั้งหมด เว้นแต่ภายในเวลาสามรอบระยะเวลาบัญชีแรกนับแต่รอบระยะเวลาบัญชีที่จดแจ้งการเป็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จมีรายได้ดังกล่าวไม่ถึงร้อยละห้าสิบก็ได้ แต่ต้องไม่น้อยกว่าหนึ่งในสามของรายได้ทั้งหมด กรณีมีเหตุสุดวิสัยอันมิใช่ความผิด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ีเหตุจำเป็นอย่างยิ่ง ให้อธิบดีกรมสรรพากรมีอำนาจพิจารณาผ่อนผันให้น้อยกว่าอัตราร้อยละที่กำหนดดังกล่าวได้ แต่ให้ผ่อนผันได้เพียงหนึ่ง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จดแจ้งการเป็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ฏิบัติตามหลักเกณฑ์ วิธีการ และเงื่อนไขอื่นตาม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E25-4D13-4BBA-968A-B01AC429C637}" type="slidenum">
              <a:t>1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893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แจ้งการจัดตั้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อธิบดีกรมสรรพากร ตามแบบแจ้งการจัดตั้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ต้องมีข้อความอย่างน้อยตามแบบที่อธิบดีกำหนด โดยให้ยื่น ณ สำนักบริหารภาษีธุรกิจขนาดใหญ่ กรมสรรพากร หรือยื่น ณ สำนักงานสรรพากรพื้นที่ ในเขตท้องที่ที่บริษัทซึ่ง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ถานประกอบการตั้งอยู่ ในกรณีมีสถานประกอบการหลายแห่ง ให้ยื่น ณ สำนักงานสรรพากรพื้นที่ ในเขตท้องที่ที่สำนักงานใหญ่ของบริษัทซึ่งประกอบ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อยู่ ก็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และขาดทุนสุทธิ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ไปตามหลักเกณฑ์และเงื่อนไข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ประกอบกิจการทั้ง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ิจการอื่น ให้บริษัทดังกล่าวคำนวณกำไรสุทธิและขาดทุนสุทธิของแต่ละกิจการแยกต่างหากจากกัน  หากรายจ่ายใดไม่สามารถแยกกันได้โดยชัดแจ้งว่าส่วนใดเป็นรายจ่ายของกิจการใด ให้บริษัทเฉลี่ยรายจ่ายดังกล่าวตามส่วนของรายได้ระหว่างรายได้จากการประกอบ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รายได้จากกิจการอ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92D-ECEB-40FA-B47B-6F99B180D5F6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89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ซึ่งประกอบกิจการทั้ง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ิจการอื่น หาก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ขาดทุนสุทธิให้คงผลขาดทุนสุทธิดังกล่าวไว้ใน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9200" indent="-2721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ษัทซึ่ง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แบบแสดงรายการภาษีเงินได้ของบริษัท พร้อมทั้งบัญชีงบดุล บัญชีทำการ และบัญชีกำไรขาดทุน ภายใ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สุดท้ายของรอบระยะเวลาบัญชี 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ชำระ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ยื่นแบบแสดงรายการภาษีเงินได้ของบริษัทภายในสองเดือนนับแต่วันสุดท้ายของรอบระยะเวลาหกเดือนนับแต่วันแรกของรอบระยะเวลาบัญชี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ชำระ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6D9-BABF-4C6B-A05A-2190E42B7A3E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142560" y="98064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ซึ่งประกอบกิจการทั้ง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ิจการอื่น ให้บริษัทดังกล่าวแยกยื่นแบบแสดงรายการภาษีเงินได้ของบริษัท พร้อมทั้งบัญชีทำการ และบัญชีกำไรขาดทุนของแต่ละกิจการออกเป็นคนละชุด สำหรับบัญชีงบดุลของบริษัทดังกล่าวให้ยื่นพร้อมแบบแสดงรายการภาษีเงินได้ของบริษัทในกิจการใดกิจการหนึ่งก็ได้ โดยในการยื่นแบบแสดงรายการภาษีเงินได้ของบริษัทดังกล่าวให้ใช้เลขประจำตัวผู้เสียภาษีอากรเดียวกั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ซึ่ง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จ้งการจัดตั้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รอบระยะ เวลาบัญชีใด ให้ได้รับสิทธิลดอัตราและยกเว้นภาษีเงินได้นิติบุคคลตาม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รอบระยะเวลาบัญชีนั้นเป็นต้นไป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57200" y="115920"/>
            <a:ext cx="8218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ปฏิบัติการภูมิภาค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ROH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0D7-B99C-4DD9-A117-784AB1FEA4A1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50560" y="105228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โดยให้หักรายจ่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ค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&amp;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โดยให้เครดิตภาษีสำหรับค่าภาษีเงินได้นิติบุคคลที่จ่ายให้แก่รัฐบาล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 สำหรับดอกเบี้ยเงินฝากประจำพิเศ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สำหรับค่าธรรมเนียมแก่กิจการวิเทศธนกิ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สำหรับการนำเข้าวัตถูดิบที่ใช้ในการผลิตสารหรือยาที่ใช้ในการกำจัดวัชพืช</a:t>
            </a:r>
            <a:r>
              <a:rPr b="0" lang="th-TH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731E-79EE-4D5C-8442-53B109C5AC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gional Multinational Representation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ประกาศกรมสรรพากร  เรื่อง  ภาษีเงินได้และภาษีมูลค่า เพิ่มสำหรับสำนักงานภูมิภาคของบริษัทข้ามชาติที่กระทำกิจการในประเทศไทย ลง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งห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ตั้งขึ้นตามระเบียบสำนักนายกรัฐมนตรี ว่าด้วยการขอตั้งสำนักงานภูมิภาคของบริษัทข้ามชาติ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253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ประกอบของสำนักงานภูมิภาคของบริษัทข้ามชา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งานภูมิภาคที่บริษัทข้ามชาติตั้งขึ้นในประเทศไทย โดยไม่ต้องจดทะเบียนเป็นนิติบุคคลตามกฎหมายของประเทศ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หน้าที่ติดต่อประสานงาน  และกำกับการดำเนินงานของสาขาและหรือบริษัทในเครือที่ตั้งอยู่ในภูมิภาคเดียวกัน แทนสำนักงานใหญ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รายได้จากการ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อำนาจรับคำสั่งซื้อหรือเสนอขายหรือเจรจาทำธุรกิจกับบุคคลหรือนิติบุคคลในประเทศที่เข้าไปตั้ง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เงินค่าใช้จ่ายในสำนักงานภูมิภาคที่ได้รับจากสำนักงานใหญ่เท่า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" y="18900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ภูมิภาคของบริษัทข้ามชาติ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08A-A4D7-4AE4-AE5C-38987B6348A2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จัดซื้อสินค้าและส่งออกไปต่างประเทศเฉพาะให้แก่สำนักงานใหญ่ ของสำนักงานภูมิภาคที่กระทำกิจการในประเทศไท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สำนักงานใหญ่ของสำนักงานภูมิภาคที่กระทำกิจการในประเทศไทยมีถิ่นที่อยู่ในประเทศที่มีความตกลงว่าด้วยการเว้นการเก็บภาษีซ้อนฯ กับประเทศไทย ก็ไม่ถือว่าสำนักงานภูมิภาคที่กระทำกิจการในประเทศไทยเป็นสถานประกอบการถาวรของบริษัทหรือห้างหุ้นส่วนนิติบุคคลที่ตั้งขึ้นตามกฎหมายของต่างประเทศใน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งานภูมิภาคที่กระทำกิจการในประเทศไทยจึงไม่มีหน้าที่เสียภาษีเงินได้นิติบุคคลตามประมวลรัษฎากร  ทั้งนี้  โดยนัยความตกลงว่าด้วยการเว้นการเก็บภาษีซ้อนฯ ระหว่างประเทศไทยกับต่างประเทศ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ภูมิภาคของบริษัทข้ามชาติ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156-38AA-4D98-9CB2-0E7147D2DF48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ที่ทำงานในสำนักงานภูมิภาคที่กระทำกิจการในประเทศไทย โดยได้รับเงินเดือนหรือค่าจ้าง ไม่ว่าเงินนั้นจะจ่ายในหรือนอกประเทศไท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นั้นมีหน้าที่ต้องเสียภาษีเงินได้บุคคลธรรมดาในประเทศไทย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หนึ่ง แห่งประมวลรัษฎากร ตามระยะเวลาที่ทำงานในประเทศไทย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นักงานภูมิภาคที่กระทำกิจการในประเทศไทยผู้จ่ายเงินได้มีหน้าที่ต้องหักภาษีเงินได้ ณ ที่จ่าย และนำส่ง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สิ้นเดือนของเดือนที่จ่ายเงินได้ตามนัย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งานภูมิภาคของบริษัทข้ามชาติ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32D-93CD-4B01-8C35-30DF48812977}" type="slidenum">
              <a:t>1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br>
              <a:rPr sz="4000"/>
            </a:b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ของต่างประเทศ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ประกอบกิจการอื่นใดที่มิใช่การขนส่งระหว่างประเทศผ่านประเทศไทย ดังนี้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ตั้งสาขา โดยประกอบกิจการในประเทศไทยแห่งเดียวโดย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ตั้งสาขา โดยประกอบกิจการทั้งในประเทศอื่นและในประเทศไทย ซึ่งกฎหมายกำหนดให้เสียภาษิเงินได้นิติบุคคลจากฐานกำไรสุทธิเฉพาะรายได้จากการประกอบกิจการในประเทศไทย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ลูกจ้าง ผู้ทำการแทน หรือผู้ทำการติดต่อในการประกอบกิจการในประเทศไทย ซึ่งเป็นเหตุให้ได้รับเงินได้หรือผลกำไรในประเทศ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B47-A020-4B09-839B-CA86DE2C5EC8}" type="slidenum">
              <a:t>183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ซึ่งตั้งขึ้นตามกฎหมายของต่างประ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ลูกจ้าง หรือผู้ทำการแทน หรือผู้ทำการติดต่อในการประกอบกิจการในประเทศไทย ซึ่งเป็นเหตุให้ได้รับเงินได้หรือผลกำไรใน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ถือว่าบริษัทหรือห้างหุ้นส่วนนิติบุคคลนั้น ประกอบกิจการในประเทศไทย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ถือว่าบุคคลผู้เป็นลูกจ้าง หรือผู้ทำการแทน หรือผู้ทำการติดต่อเช่นว่านั้น ไม่ว่าจะเป็นบุคคลธรรมดา หรือนิติบุคคลเป็นตัวแทนของบริษัทหรือห้างหุ้นส่วนนิติบุคคล ซึ่งตั้งขึ้นตามกฎหมายของต่างประเทศ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ุคคลนั้นมีหน้าที่ และความรับผิดในการยื่นรายการและเสียภาษีตามบทบัญญัติในส่วนนี้ เฉพาะที่เกี่ยวกับเงินได้หรือผลกำไรที่กล่าวแล้ว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แรก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E33-5545-4460-B2E6-5D820F096AE2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ลูกจ้าง หรือผู้ทำการแทน หรือผู้ทำการติดต่อในการประกอบกิจการในประเทศไทย ซึ่งเป็นเหตุให้ได้รับเงินได้หรือผลกำไรในประเทศไทย ซึ่งเป็นบุคคลผู้มีหน้าที่และความรับผิดในการยื่นรายการและเสียภาษีไม่สามารถจะคำนวณกำไรสุทธิเพื่อเสียภาษี ตามบทบัญญัติในส่วนนี้ได้ ให้นำบทบัญญัติว่าด้วยการประเมินภาษี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โดยอนุโล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สอง ดูเทียบเคียงกับ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การประเมินตามความในมาตรานี้ จะอุทธรณ์การประเมินก็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วรรคท้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DC4-6026-4249-B3B2-D22D3938099F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713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การแทนหรือทำการติดต่อโดยการตกลงทำสัญญาแท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จทก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ยิบอินซอย จำกั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มอบอำนาจจากผู้ขายในต่างประเทศให้ลงชื่อในสัญญาซื้อขายเรือขุดให้แก่การท่าเรือแห่งประเทศไทย การที่โจทก์ลงชื่อในสัญญาซื้อขายแทนผู้ขายในต่างประเทศ ย่อมได้ชื่อว่าเป็นผู้กระทำการแทนในการทำสัญญาซื้อขายนั้นแล้ว โจทก์จึงต้องยื่นรายการและเสียภาษีเงินได้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พิพากษาฎีกา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2/250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DA4-9A94-4E1D-B564-C260A745D9A7}" type="slidenum">
              <a:t>1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89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ำการแทนหรือทำการติดต่อโดยการตกลงทำสัญญาแท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จทก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บูรพาสากลเศรษฐกิจ จำกั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แต่งตั้งจาก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ต่างประเทศให้เป็นผู้ติดต่อเจรจาตกลง กับกระทรวงคมนาคมและทศ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ขายอุปกรณ์โทรศัพท์แทน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บริษัทฯ โจทก์จะได้รับค่านายหน้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ค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OB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รับคำสั่งซื้อจาก ทศ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การดำเนินการของโจทก์ ทศท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กลงซื้อจะได้ชำระราคาโดยเปิดเลตเตอร์ออฟ เครดิตตรงไปยัง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ช่นนี้ถือได้ว่า 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ในประเทศไทย โดยมีบริษัทฯ โจทก์เป็นผู้ทำการแทนหรือผู้ทำการติดต่อในการขายอุปกรณ์ โทรศัพท์ในประเทศไทย บริษัทฯ โจทก์มีหน้าที่และความรับผิดในการยื่นรายการ และเสียภาษีเงินได้นิติบุคคลแทนบริษัท อ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ายได้จากการขายอุปกรณ์โทรศัพท์ดังกล่าว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พิพากษาฎีกา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37 - 263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705-93D3-411B-AB42-E6AAF5A7DD70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893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็นตัวเชื่อมให้ผู้ซื้อและผู้ขายติดต่อก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ที่บริษัทต่างประเทศขายสินค้าให้แก่ลูกค้าในประเทศไทยได้   ก็เนื่องจากโจทก์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  โรทราโค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กั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ัวเชื่อมให้ผู้ซื้อและผู้ขายติดต่อกัน ถือได้ว่าโจทก์เป็นผู้ทำการแทน หรือผู้ทำการติดต่อให้แก่บริษัท ซึ่งตั้งขึ้นตามกฎหมายต่างประเทศเกี่ยวกับการขายสินค้าเมื่อบริษัทต่างประเทศได้รับชำระค่าสินค้าย่อมมีเงินได้หรือผลกำไรรวมอยู่ด้วย โจทก์จึงมีหน้าที่และความรับผิดในการยื่นรายการและเสียภาษีเงินได้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ประมวลรัษฎาก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พิพากษาฎีกา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56/252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A7B-F881-4B42-B574-6021F98CB1A9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89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ฯ 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/25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ื่อง เงินได้บริษัทหรือห้างหุ้นส่วนนิติบุคคล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ประมวลรัษฎากร ล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งห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764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ที่บริษัทหรือห้างหุ้นส่วนนิติบุคคลในต่างประเทศขายสินค้าให้แก่ผู้ซื้อในประเทศ โดยบุคคลในประเทศเป็นผู้ดำเนินการแนะนำให้ผู้ซื้อสั่งซื้อสินค้าจากต่างประเทศ ถ้าบุคคลในประเทศไทยประกอบธุรกิจอย่างเป็นอิสระจากบริษัทหรือห้างหุ้นส่วนนิติบุคคลในต่างประเทศดังกล่าวในกรณีดังต่อไปนี้  ให้พึงเข้าใจว่าบุคคลในประเทศมิใช่ลูกจ้างหรือผู้ทำการแทนหรือผู้ทำการติดต่อที่บริษัทหรือห้างหุ้นส่วนนิติบุคคลในต่าง ประเทศ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ประกอบกิจการในประเทศไทยตามความ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ประมวลรัษฎ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4240" y="3909960"/>
            <a:ext cx="911520" cy="527040"/>
          </a:xfrm>
          <a:custGeom>
            <a:avLst/>
            <a:gdLst/>
            <a:ahLst/>
            <a:rect l="l" t="t" r="r" b="b"/>
            <a:pathLst>
              <a:path w="2531" h="1465">
                <a:moveTo>
                  <a:pt x="4514" y="11112"/>
                </a:moveTo>
                <a:cubicBezTo>
                  <a:pt x="4476" y="11088"/>
                  <a:pt x="4427" y="11069"/>
                  <a:pt x="4390" y="11038"/>
                </a:cubicBezTo>
                <a:cubicBezTo>
                  <a:pt x="4360" y="11013"/>
                  <a:pt x="4313" y="10983"/>
                  <a:pt x="4291" y="10964"/>
                </a:cubicBezTo>
                <a:cubicBezTo>
                  <a:pt x="4231" y="10912"/>
                  <a:pt x="4187" y="10879"/>
                  <a:pt x="4118" y="10840"/>
                </a:cubicBezTo>
                <a:cubicBezTo>
                  <a:pt x="4027" y="10788"/>
                  <a:pt x="3909" y="10791"/>
                  <a:pt x="3820" y="10740"/>
                </a:cubicBezTo>
                <a:cubicBezTo>
                  <a:pt x="3673" y="10655"/>
                  <a:pt x="3538" y="10593"/>
                  <a:pt x="3373" y="10542"/>
                </a:cubicBezTo>
                <a:cubicBezTo>
                  <a:pt x="3255" y="10506"/>
                  <a:pt x="3107" y="10484"/>
                  <a:pt x="3001" y="10443"/>
                </a:cubicBezTo>
                <a:cubicBezTo>
                  <a:pt x="2853" y="10385"/>
                  <a:pt x="2807" y="10382"/>
                  <a:pt x="2654" y="10443"/>
                </a:cubicBezTo>
                <a:cubicBezTo>
                  <a:pt x="2449" y="10525"/>
                  <a:pt x="2315" y="10612"/>
                  <a:pt x="2158" y="10765"/>
                </a:cubicBezTo>
                <a:cubicBezTo>
                  <a:pt x="2042" y="10878"/>
                  <a:pt x="1993" y="10975"/>
                  <a:pt x="1984" y="11137"/>
                </a:cubicBezTo>
                <a:cubicBezTo>
                  <a:pt x="1980" y="11208"/>
                  <a:pt x="1960" y="11375"/>
                  <a:pt x="2009" y="11435"/>
                </a:cubicBezTo>
                <a:cubicBezTo>
                  <a:pt x="2112" y="11561"/>
                  <a:pt x="2299" y="11662"/>
                  <a:pt x="2431" y="11757"/>
                </a:cubicBezTo>
                <a:cubicBezTo>
                  <a:pt x="2545" y="11839"/>
                  <a:pt x="2692" y="11846"/>
                  <a:pt x="2828" y="11857"/>
                </a:cubicBezTo>
                <a:cubicBezTo>
                  <a:pt x="3027" y="11873"/>
                  <a:pt x="3204" y="11837"/>
                  <a:pt x="3398" y="11807"/>
                </a:cubicBezTo>
                <a:cubicBezTo>
                  <a:pt x="3630" y="11771"/>
                  <a:pt x="3908" y="11691"/>
                  <a:pt x="4093" y="11534"/>
                </a:cubicBezTo>
                <a:cubicBezTo>
                  <a:pt x="4159" y="11478"/>
                  <a:pt x="4212" y="11407"/>
                  <a:pt x="4242" y="11336"/>
                </a:cubicBezTo>
                <a:cubicBezTo>
                  <a:pt x="4242" y="11328"/>
                  <a:pt x="4242" y="11319"/>
                  <a:pt x="4242" y="11311"/>
                </a:cubicBezTo>
              </a:path>
            </a:pathLst>
          </a:custGeom>
          <a:noFill/>
          <a:ln cap="rnd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E11-20D4-430C-9828-C064637FAA0C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4600" indent="-444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สำหรับการขนส่งสินค้าทางทะเลแก่บริษัท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ฯ ไทย และเงินปันผลจากกิจการดังกล่า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 โดยให้เลือกเสียภาษีสำหรับเงินชดเชยดอกเบี้ยหรือเงินปันผลจากการยืมหลักทรัพย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ตามประมวลรัษฎากรแก่องค์การร่วมไทยมาเลเซี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A787-9D07-4229-9906-FC8CD9A90A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89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ฯ 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/25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764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างปฏิบัติบุคคลในประเทศได้กระทำการเป็นนายหน้าหรือตัวแทนเพื่อการขายสินค้าให้แก่บริษัทหรือห้างหุ้นส่วนนิติบุคคลต่างๆ ในต่างประเทศเป็นการทั่วไป  โดยมิได้กระทำให้แก่บริษัทหรือ ห้างหุ้นส่วนนิติบุคคลในต่างประเทศแห่งใดแห่งหนึ่ง หรือกลุ่มใดกลุ่มหนึ่งโดยเฉพาะหรือเป็นส่วนใหญ่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7640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สัญญา หรือข้อตกลงระหว่างบุคคลในประเทศกับ บริษัทหรือห้างหุ้นส่วนนิติบุคคลในต่างประเทศที่มีผลเป็นการจำกัดสิทธิบุคคลในประเทศในการกระทำการเป็นนายหน้า หรือตัวแทนเพื่อการขายสินค้าประเภทเดียวกันกับบุคคลอื่นในต่างประเทศ  และในทางปฏิบัติไม่เคยปรากฏว่ามีการจำกัดสิทธิเช่นนั้น แล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7200" y="13500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41E-4F2D-418D-A09D-D132FE4E8586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179280" y="1485720"/>
            <a:ext cx="889344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ฯ 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/25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ประกอบธุรกิจดังกล่าว  บุคคลในประเทศมิได้รับประโยชน์อย่างอื่นจากบริษัทหรือห้างหุ้นส่วนนิติบุคคลในต่างประเทศ  เว้นแต่ค่านายหน้าสำหรับการซื้อขายสินค้าแต่ละคราวเท่านั้น แล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ซื้อขายสินค้า   ผู้ซื้อสินค้าได้ชำระ  หรือจะได้ชำระเงินค่าสินค้าให้แก่บริษัทหรือห้างหุ้นส่วนนิติบุคคลในต่างประเทศซึ่งเป็นผู้ขายสินค้านั้นโดยตร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279360"/>
            <a:ext cx="8218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ประกอบกิจการในประเทศไทยตาม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76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แห่งประมวลรัษฎากร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D81-EE04-411B-9FF8-C400E5B6E069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48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ที่ดำเนินเป็นทางค้าหรือหากำไร</a:t>
            </a:r>
            <a:br>
              <a:rPr sz="4000"/>
            </a:b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รัฐลบาลต่างประเทศ องค์การของรัฐบาลต่างประเทศ และนิติบุคคลอื่นที่ตั้งขึ้นตามกฎหมายของต่างประเทศ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ประกอบกิจการอื่นใดที่มิใช่การขนส่งระหว่างประเทศผ่านประเทศไทย ดังนี้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้ามาประกอบกิจการในประเทศไทยแห่งเดียวโดย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แร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ทั้งในประเทศอื่นและในประเทศไทย ซึ่งกฎหมายกำหนดให้เสียภาษิเงินได้นิติบุคคลจากฐานกำไรสุทธิเฉพาะรายได้จากการประกอบกิจการในประเทศไทยเท่านั้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ลูกจ้าง ผู้ทำการแทน หรือผู้ทำการติดต่อในการประกอบกิจการในประเทศไทย ซึ่งเป็นเหตุให้ได้รับเงินได้หรือผลกำไรในประเทศ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341-F64B-48D6-8651-535E0057A930}" type="slidenum">
              <a:t>192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61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ร่วมค้า 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Joint Venture: JV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สถานะเป็นห้างหุ้นส่วนสามัญไม่จดทะเบีย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1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กฎหมายแพ่งและพาณิช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ของกิจการร่วมค้า ต้องมีการร่วมกัน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ทุน</a:t>
            </a:r>
            <a:r>
              <a:rPr b="0" lang="hi-IN" sz="24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ร่วม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ำเนินกิจการ</a:t>
            </a:r>
            <a:r>
              <a:rPr b="0" lang="hi-IN" sz="24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ร่วม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เป็นทางค้าหรือหากำไ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ร่วม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ในผลการดำเนินงาน – กำไรหรือขาดทุ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ร่วม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ผิดต่อบุคคลภายนอกโดยไม่จำกัดจำนว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ข้าร่วมค้า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กับบริษัท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เป็นบริษัทไทยหรือบริษัทต่างประเทศ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กับห้างหุ้นส่ว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วนนิติบุคคลกับห้างหุ้นส่ว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และหรือห้างหุ้นสวนนิติบุคคลกับ บุคคลธรรมดา คณะบุคคล ห้างหุ้นส่วนสามัญ หรือนิติบุคคลอื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07F-5B02-4129-BF17-8FBE503884A3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61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ร่วมค้า 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Joint Venture: JV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นื่องจากความต้องการด้านทุน เทคโนโลยี และความประสงค์ของคู่สัญญ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ูกกำหนดให้เป็น “บริษัทหรือห้างหุ้นส่วนนิติบุคคล” 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มีหน้าที่เสียภาษีเงินได้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หน่วยทางภาษีเงินได้นิติบุคคล ที่ต้องมีและใช้เลขประจำตัวผู้เสียภาษีอากร และหน้าที่อื่นทางภาษีอากร เช่น เกี่ยวกับการหักภาษีเงินได้ ณ ที่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น้าที่จัดทำบัญชีและส่งงบดุลบัญชีกำไรขาดทุน ตามกฎหมายว่าด้วยการบัญช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ารยกเว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จา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ortium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ข้าร่วมทำสัญญาทางธุรกิจเพื่อให้ได้มาซึ่งงานที่ต้องทำเป็นสัดส่วนของแต่ละฝ่าย ซึ่งแต่ละฝ่ายต่างต้องรับผิดชอบในผลงานของอีกฝ่ายหนึ่งด้ว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459-D8CE-4FC6-A669-BFC52E6C3B5D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้างหุ้นส่วนสามัญ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vs. Joint Ven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79280" y="1341360"/>
          <a:ext cx="8785440" cy="5167440"/>
        </p:xfrm>
        <a:graphic>
          <a:graphicData uri="http://schemas.openxmlformats.org/drawingml/2006/table">
            <a:tbl>
              <a:tblPr/>
              <a:tblGrid>
                <a:gridCol w="2592360"/>
                <a:gridCol w="3024360"/>
                <a:gridCol w="316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ราย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ห้างหุ้นส่วนสามัญที่มิใช่นิติบุคค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Joint Ven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หน่วยทาง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PI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5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ว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CIT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ผู้เป็นหุ้นส่ว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All of them 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ordinary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At least 1 partner is ‘Corporate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เงินส่วนแบ่งของกำไ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(Share of Profit)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เป็นเงินได้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40(8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ได้รับยกเว้น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PI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42(1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เป็นเงินได้ตาม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40(4)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ข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ดู 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5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ทวิ พรฎ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.(1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.4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4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สถานภาพตามประมวลกฎหมายแพ่งและพาณิชย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Non Juristic Partnership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ห้างหุ้นส่วนสามัญไม่จดทะเบียน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As well as 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cs typeface="Microsoft Sans Serif"/>
                        </a:rPr>
                        <a:t>เช่นเดียวกัน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Arial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9DB-32AC-41DE-9D31-1CBB08089B91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9308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7308720" y="611496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759,440 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878040" y="1006920"/>
            <a:ext cx="7805520" cy="5355000"/>
            <a:chOff x="878040" y="1006920"/>
            <a:chExt cx="7805520" cy="5355000"/>
          </a:xfrm>
        </p:grpSpPr>
        <p:grpSp>
          <p:nvGrpSpPr>
            <p:cNvPr id="828" name=""/>
            <p:cNvGrpSpPr/>
            <p:nvPr/>
          </p:nvGrpSpPr>
          <p:grpSpPr>
            <a:xfrm>
              <a:off x="878040" y="3093840"/>
              <a:ext cx="164880" cy="190800"/>
              <a:chOff x="878040" y="3093840"/>
              <a:chExt cx="164880" cy="190800"/>
            </a:xfrm>
          </p:grpSpPr>
          <p:sp>
            <p:nvSpPr>
              <p:cNvPr id="829" name=""/>
              <p:cNvSpPr/>
              <p:nvPr/>
            </p:nvSpPr>
            <p:spPr>
              <a:xfrm>
                <a:off x="878040" y="323028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943920" y="309384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1814400" y="6165720"/>
              <a:ext cx="164880" cy="190800"/>
              <a:chOff x="1814400" y="6165720"/>
              <a:chExt cx="164880" cy="190800"/>
            </a:xfrm>
          </p:grpSpPr>
          <p:sp>
            <p:nvSpPr>
              <p:cNvPr id="832" name=""/>
              <p:cNvSpPr/>
              <p:nvPr/>
            </p:nvSpPr>
            <p:spPr>
              <a:xfrm>
                <a:off x="1814400" y="630216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1880280" y="6165720"/>
                <a:ext cx="99000" cy="19080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1814400" y="5733720"/>
              <a:ext cx="164880" cy="190800"/>
              <a:chOff x="1814400" y="5733720"/>
              <a:chExt cx="164880" cy="190800"/>
            </a:xfrm>
          </p:grpSpPr>
          <p:sp>
            <p:nvSpPr>
              <p:cNvPr id="835" name=""/>
              <p:cNvSpPr/>
              <p:nvPr/>
            </p:nvSpPr>
            <p:spPr>
              <a:xfrm>
                <a:off x="1814400" y="587016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1880280" y="573372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627280" y="3742920"/>
              <a:ext cx="164880" cy="190800"/>
              <a:chOff x="2627280" y="3742920"/>
              <a:chExt cx="164880" cy="190800"/>
            </a:xfrm>
          </p:grpSpPr>
          <p:sp>
            <p:nvSpPr>
              <p:cNvPr id="838" name=""/>
              <p:cNvSpPr/>
              <p:nvPr/>
            </p:nvSpPr>
            <p:spPr>
              <a:xfrm>
                <a:off x="2627280" y="387936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2693160" y="374292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7443720" y="5445000"/>
              <a:ext cx="1231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800,000 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08720" y="5683320"/>
              <a:ext cx="13035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759,440  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36000" y="4124160"/>
              <a:ext cx="14475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559,440 5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27720" y="3225960"/>
              <a:ext cx="1447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031,468 4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27720" y="4797360"/>
              <a:ext cx="1231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00,000 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27720" y="4989600"/>
              <a:ext cx="1231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700,000 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64000" y="1006920"/>
              <a:ext cx="3887640" cy="222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423" y="1869"/>
                  </a:moveTo>
                  <a:lnTo>
                    <a:pt x="-423" y="1869"/>
                  </a:lnTo>
                  <a:lnTo>
                    <a:pt x="-423" y="31050"/>
                  </a:lnTo>
                  <a:lnTo>
                    <a:pt x="19616" y="3159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มีทุนที่ชำระแล้วในวันสุดท้ายของรอบระยะเวลาบัญช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ไม่เกิน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5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ล้านบาท สำหรับกำไรสุทธิที่เกิดขึ้นในรอบระยะเวลาบัญชีซึ่งเริ่มในหรือหลังวันที่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1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มกราคม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2454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เป็นต้นไป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1 –  1,000,000 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บาท        </a:t>
              </a:r>
              <a:r>
                <a:rPr b="1" lang="th-TH" sz="2000" spc="-1" strike="noStrike">
                  <a:solidFill>
                    <a:srgbClr val="009999"/>
                  </a:solidFill>
                  <a:latin typeface="Angsana New"/>
                </a:rPr>
                <a:t>15</a:t>
              </a:r>
              <a:r>
                <a:rPr b="1" lang="en-US" sz="2000" spc="-1" strike="noStrike">
                  <a:solidFill>
                    <a:srgbClr val="009999"/>
                  </a:solidFill>
                  <a:latin typeface="Angsana New"/>
                </a:rPr>
                <a:t>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BF4-9D9A-4557-88F1-9DED28E30B94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B8F-F479-4DF1-B413-A9B22B61D4F9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เงินได้นิติบุคคล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จากฐานกำไรสุทธิ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79280" y="1406520"/>
            <a:ext cx="88394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 ให้เสียภาษีเงินได้นิติบุคคลในอั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%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ไท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มีทุนจดทะเบียนชำระแล้ว ณ วันสุดท้ายของรอบระย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ลาบัญชี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เกินกว่า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ล้าน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และมิใช่บริษัทจดทะเบีย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ข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ดำเนินเป็นทางค้าหรือหากำไรโดยรัฐบาลต่า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 องค์การของรัฐบาลต่างประเทศ หรือนิติบุคคล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ของต่างประเท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FB0-BC1B-4837-B13B-F2C5079F159F}" type="slidenum">
              <a:t>198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63640" y="70920"/>
            <a:ext cx="56880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ภาษีเงินได้นิติบุคคล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จากฐานกำไรสุทธิ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หรับบริษัทจดทะเบียน</a:t>
            </a:r>
            <a:r>
              <a:rPr b="0" lang="th-TH" sz="2800" spc="-1" strike="noStrike">
                <a:solidFill>
                  <a:srgbClr val="0066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ดทะเบียนในตลาดหลักทรัพย์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sted Co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82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ดทะเบียนก่อ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ดอัตราลงเหล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ำไรสุทธิในส่วนที่ไม่เกิ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เป็นเวล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รอบบัญชีที่เริ่มในหรือหลั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อั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ำไรสุทธิในส่วนที่เกินกว่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82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จดทะเบียน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ดอัตราลงเหล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โดยไม่จำกัดจำนวนเป็นเวล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รอบระยะเวลาบัญชีที่เริ่มในหรือหลังวันที่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ดเบียนในตลาดหลักทรัพย์ใหม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I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82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53352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จดทะเบียนตั้งแต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4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ลดอัตราลงเหลื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 เป็นเวล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รอบบัญชีที่เริ่มในหรือหลังวันที่จดทะเบียนในตลาดหลัก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530-FED9-4B18-BA3C-D932B9246048}" type="slidenum">
              <a:t>19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920" y="1484280"/>
            <a:ext cx="8758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ทั่วไป ที่ต้องนำไป ใช้กับลักษณะอื่นๆ ในประมวลรัษฎากร เว้นแต่ในลักษณะอื่นนั้น จะมีข้อความแสดงให้เห็นเป็นอย่างอื่น จึงเท่ากับเป็นกฎหมายทั่วไปของลักษณะต่อๆ ม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ที่สำคัญ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 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นิยามศัพท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ให้ตราพระราชกฤษฎีกา เพื่อยกเว้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 หรือลดอัตรา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กี่ยวกับรัฐมนตรีผู้รักษาการตามประมว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 และอำนาจของรัฐมนตร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D83-235D-4B14-94C0-E0AAFD5A40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907920"/>
            <a:ext cx="8713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ละภาษีเงินได้นิติบุคคล สำหรับเงินได้จากการปลดหนี้หรือการประนอมหนี้ตามกฎหมายล้มละล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ตามประมวลรัษฎากรให้แก่ลูกหนี้และเจ้าหนี้ สำหรับเงินได้จากโอนทรัพย์สิน การขายสินค้าหรือการให้บริการ และการกระทำตราสาร อันเนื่องมาจากการดำเนินการตามคำขอประนอมหนี้หรือแผนฟื้นฟู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สำหรับการนำเข้าสินค้าเพื่อนำไปใช้ในเขตพื้นที่พัฒนาร่วมไท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เลเซี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แก่บริษัทบริหารสินทรัพ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C6AB-C69D-44D7-B742-27CB745810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35760" y="404640"/>
            <a:ext cx="38534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556000" y="12366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9640" y="1523880"/>
            <a:ext cx="4032360" cy="100836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นจดทะเบียนชำระ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สุดท้ายของ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≤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500720" y="2028960"/>
            <a:ext cx="7920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00640" y="1482840"/>
            <a:ext cx="3519360" cy="106956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ก้าวหน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695480" y="1589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56000" y="25322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701440" y="2460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300640" y="2317680"/>
            <a:ext cx="78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93000" y="21016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084720" y="2101680"/>
            <a:ext cx="136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59560" y="18860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51640" y="18860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667480" y="227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1280" y="2101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307120" y="1992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16720" y="1776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827840" y="15606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39640" y="2965320"/>
            <a:ext cx="4032360" cy="863640"/>
          </a:xfrm>
          <a:prstGeom prst="diamond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500720" y="33973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92720" y="3036960"/>
            <a:ext cx="3527280" cy="703800"/>
          </a:xfrm>
          <a:prstGeom prst="rect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ลดอัตรา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695480" y="2965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556000" y="38289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701440" y="38289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622120" y="109224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ฏ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(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39640" y="4260960"/>
            <a:ext cx="4032360" cy="86364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house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500720" y="46926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292720" y="4332240"/>
            <a:ext cx="352728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ยกเว้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NP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8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695480" y="4260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56000" y="512460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01440" y="5124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26920" y="5557680"/>
            <a:ext cx="345780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F5D-176B-40D4-AEB8-C2EE09E00753}" type="slidenum">
              <a:t>2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635760" y="404640"/>
            <a:ext cx="385344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556000" y="12366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39640" y="1523880"/>
            <a:ext cx="4032360" cy="100836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ุนจดทะเบียนชำระ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วันสุดท้ายของ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≤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4500720" y="2028960"/>
            <a:ext cx="79200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300640" y="1482840"/>
            <a:ext cx="3519360" cy="106956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ก้าวหน้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695480" y="15890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556000" y="253224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01440" y="2460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300640" y="2317680"/>
            <a:ext cx="78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093000" y="21016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084720" y="2101680"/>
            <a:ext cx="136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459560" y="188604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451640" y="18860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667480" y="227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091280" y="2101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307120" y="1992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516720" y="17762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827840" y="15606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39640" y="2965320"/>
            <a:ext cx="4032360" cy="863640"/>
          </a:xfrm>
          <a:prstGeom prst="diamond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500720" y="33973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92720" y="3036960"/>
            <a:ext cx="3527280" cy="703800"/>
          </a:xfrm>
          <a:prstGeom prst="rect">
            <a:avLst/>
          </a:prstGeom>
          <a:solidFill>
            <a:srgbClr val="4b1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ลดอัตรา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695480" y="2965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556000" y="38289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701440" y="38289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623560" y="1092240"/>
            <a:ext cx="28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 พรฏ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(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39640" y="4260960"/>
            <a:ext cx="4032360" cy="863640"/>
          </a:xfrm>
          <a:prstGeom prst="diamond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กิจกา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house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00720" y="46926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292720" y="4332240"/>
            <a:ext cx="352728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การยกเว้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NP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8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95480" y="4260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556000" y="5124600"/>
            <a:ext cx="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701440" y="51246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26920" y="5557680"/>
            <a:ext cx="345780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on NP 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0A5-0E8F-4F26-8A8B-4EA76F8D7C17}" type="slidenum">
              <a:t>2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ปรียบเทียบจำนวน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108000" y="1773360"/>
          <a:ext cx="9001080" cy="3646440"/>
        </p:xfrm>
        <a:graphic>
          <a:graphicData uri="http://schemas.openxmlformats.org/drawingml/2006/table">
            <a:tbl>
              <a:tblPr/>
              <a:tblGrid>
                <a:gridCol w="3024000"/>
                <a:gridCol w="576360"/>
                <a:gridCol w="1584360"/>
                <a:gridCol w="576360"/>
                <a:gridCol w="1584360"/>
                <a:gridCol w="165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ช่วงกำไรสุทธ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IT Am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-1,0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000,001-3,0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,000,001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00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5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% of Divide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25,00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8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110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5,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377820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578560" y="1773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655-382A-4ED3-816C-32819EB033C2}" type="slidenum">
              <a:t>2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ตรา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CIT 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 พรฎ</a:t>
            </a: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31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ได้สิทธิเสียภาษีเงินได้นิติบุคคลจากกำไรสุทธิตามอัตราใน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สิ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กิจการร่วมค้าไม่ใช่ บริษัทหรือห้างหุ้นส่วนนิติบุคคลที่มีทุนที่ชำระแล้วในวันสุดท้ายของรอบระยะเวลาบัญชีไม่เกินห้าล้านบา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ใน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ุ่งหมายที่จะให้สิทธิแก่เฉพาะบริษัทหรือห้างหุ้นส่วนนิติบุคคลที่ตั้งขึ่นตามกฎหมายไทยเท่านั้น ไม่รวมถึงกิจการร่วมค้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FBB-0429-4744-86A3-9431EE8C21DB}" type="slidenum">
              <a:t>2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48720" cy="6334200"/>
          </a:xfrm>
          <a:prstGeom prst="rect">
            <a:avLst/>
          </a:prstGeom>
          <a:ln w="0">
            <a:noFill/>
          </a:ln>
        </p:spPr>
      </p:pic>
      <p:grpSp>
        <p:nvGrpSpPr>
          <p:cNvPr id="923" name=""/>
          <p:cNvGrpSpPr/>
          <p:nvPr/>
        </p:nvGrpSpPr>
        <p:grpSpPr>
          <a:xfrm>
            <a:off x="684360" y="561960"/>
            <a:ext cx="8143560" cy="6646320"/>
            <a:chOff x="684360" y="561960"/>
            <a:chExt cx="8143560" cy="6646320"/>
          </a:xfrm>
        </p:grpSpPr>
        <p:sp>
          <p:nvSpPr>
            <p:cNvPr id="924" name=""/>
            <p:cNvSpPr/>
            <p:nvPr/>
          </p:nvSpPr>
          <p:spPr>
            <a:xfrm>
              <a:off x="7308720" y="623736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031,468 4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84360" y="1196640"/>
              <a:ext cx="164880" cy="190800"/>
              <a:chOff x="684360" y="1196640"/>
              <a:chExt cx="164880" cy="190800"/>
            </a:xfrm>
          </p:grpSpPr>
          <p:sp>
            <p:nvSpPr>
              <p:cNvPr id="926" name=""/>
              <p:cNvSpPr/>
              <p:nvPr/>
            </p:nvSpPr>
            <p:spPr>
              <a:xfrm>
                <a:off x="684360" y="133308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750240" y="119664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684360" y="2517480"/>
              <a:ext cx="164880" cy="190800"/>
              <a:chOff x="684360" y="2517480"/>
              <a:chExt cx="164880" cy="190800"/>
            </a:xfrm>
          </p:grpSpPr>
          <p:sp>
            <p:nvSpPr>
              <p:cNvPr id="929" name=""/>
              <p:cNvSpPr/>
              <p:nvPr/>
            </p:nvSpPr>
            <p:spPr>
              <a:xfrm>
                <a:off x="684360" y="265392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750240" y="251748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684360" y="6308280"/>
              <a:ext cx="164880" cy="190800"/>
              <a:chOff x="684360" y="6308280"/>
              <a:chExt cx="164880" cy="190800"/>
            </a:xfrm>
          </p:grpSpPr>
          <p:sp>
            <p:nvSpPr>
              <p:cNvPr id="932" name=""/>
              <p:cNvSpPr/>
              <p:nvPr/>
            </p:nvSpPr>
            <p:spPr>
              <a:xfrm>
                <a:off x="684360" y="6444720"/>
                <a:ext cx="65880" cy="5436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750240" y="6308280"/>
                <a:ext cx="99000" cy="190440"/>
              </a:xfrm>
              <a:prstGeom prst="line">
                <a:avLst/>
              </a:prstGeom>
              <a:ln w="38160">
                <a:solidFill>
                  <a:srgbClr val="0000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7524720" y="5421240"/>
              <a:ext cx="1303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29,370 6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16800" y="4724280"/>
              <a:ext cx="1303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72,727 2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08720" y="1569960"/>
              <a:ext cx="14400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3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302600" y="561960"/>
              <a:ext cx="1446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5,5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308720" y="895320"/>
              <a:ext cx="1511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4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08720" y="1112760"/>
              <a:ext cx="1511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1,5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380360" y="1341360"/>
              <a:ext cx="1303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5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08720" y="2001960"/>
              <a:ext cx="14400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3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80360" y="2252520"/>
              <a:ext cx="1439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80360" y="2468520"/>
              <a:ext cx="1439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4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08720" y="298440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80360" y="3211560"/>
              <a:ext cx="14396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7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308720" y="353700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386,363 7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08720" y="376560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5,613,636 2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08720" y="600876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031,468 4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08720" y="4221000"/>
              <a:ext cx="1440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5,613,636 2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16800" y="5792760"/>
              <a:ext cx="13032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15,734 2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722-B097-4880-88C5-451E87A80A0A}" type="slidenum">
              <a:t>2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ัญชีทำการ </a:t>
            </a: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Trade Account</a:t>
            </a:r>
            <a:r>
              <a:rPr b="0" lang="th-TH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9640" y="1384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ือ บัญชีแสดงกำไรหรือขาดทุนขั้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สินค้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หั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ต้นทุนสินค้าที่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นค้าคงเหลือต้นปี    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บว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ซื้อ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ในการซื้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เป็นสินค้าที่มีเพื่อขาย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4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หั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สินค้าคงเหลือปลายงว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xxx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434960"/>
                <a:tab algn="l" pos="5560920"/>
                <a:tab algn="l" pos="673092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ขั้นต้น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าดทุนขั้นต้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0FF-473E-479C-9C57-54670EF6A546}" type="slidenum">
              <a:t>2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748720" cy="638172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304920" y="0"/>
            <a:ext cx="8534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สัมพันธ์ของกำไรสุทธิทางบัญชีกับกำไรสุทธิ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657600" y="1371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65760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657600" y="4670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9051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905120" y="3962520"/>
            <a:ext cx="0" cy="25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905120" y="531504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657600" y="6041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52280" y="817560"/>
            <a:ext cx="350532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AA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enerally Accepted Accounting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030920" y="814320"/>
            <a:ext cx="49842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นทึกรายการทางการเงินที่เกิดขึ้นในรอ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ะยะเวลาบัญชีทุกรายการตามหลัก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คู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uble Entry A/C System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52280" y="2209680"/>
            <a:ext cx="3505320" cy="115416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บดุล งบกำไรขาดทุ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หรือขาดทุนสุทธิทางบัญช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งิ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15800" y="2228760"/>
            <a:ext cx="5016240" cy="115452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และรับรองบัญชีโดย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PA/ 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เสนอต่อผู้เป็นเจ้าของ สาธารณชนโด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่านกระทรวงพาณิชย์ และกรมสรรพ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4227480"/>
            <a:ext cx="4800600" cy="1410120"/>
          </a:xfrm>
          <a:prstGeom prst="rect">
            <a:avLst/>
          </a:prstGeom>
          <a:gradFill rotWithShape="0">
            <a:gsLst>
              <a:gs pos="0">
                <a:srgbClr val="280607"/>
              </a:gs>
              <a:gs pos="100000">
                <a:srgbClr val="580e1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ได้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เกี่ยวกับราย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ในการตีราคา ท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และหนี้สิน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051800" y="5645160"/>
            <a:ext cx="49568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คำนวณภาษีเงินได้นิติบุคคล เพื่อย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52280" y="4213080"/>
            <a:ext cx="3505320" cy="1081080"/>
          </a:xfrm>
          <a:prstGeom prst="rect">
            <a:avLst/>
          </a:prstGeom>
          <a:gradFill rotWithShape="0">
            <a:gsLst>
              <a:gs pos="0">
                <a:srgbClr val="280607"/>
              </a:gs>
              <a:gs pos="100000">
                <a:srgbClr val="580e1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ทางภาษีอาการ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2280" y="5635800"/>
            <a:ext cx="35053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หรือขาดทุนสุทธิทางภาษีอ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905120" y="3352680"/>
            <a:ext cx="0" cy="2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65360" y="35528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ับปรุงให้เป็นไป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11160" y="374796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508720" y="256536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804000" y="256536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020000" y="32860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722840" y="511200"/>
            <a:ext cx="27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Trans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D9E-0665-4010-91DB-3F206F21CC7E}" type="slidenum">
              <a:t>2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วามแตกต่างของรายได้ รายจ่ายทางบัญชี </a:t>
            </a:r>
            <a:br>
              <a:rPr sz="3600"/>
            </a:br>
            <a:r>
              <a:rPr b="1" lang="hi-IN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ับรายได้ รายจ่ายทางภาษีอากร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108000" y="1251000"/>
          <a:ext cx="8964720" cy="5284800"/>
        </p:xfrm>
        <a:graphic>
          <a:graphicData uri="http://schemas.openxmlformats.org/drawingml/2006/table">
            <a:tbl>
              <a:tblPr/>
              <a:tblGrid>
                <a:gridCol w="647640"/>
                <a:gridCol w="1295280"/>
                <a:gridCol w="3457800"/>
                <a:gridCol w="3564000"/>
              </a:tblGrid>
              <a:tr h="49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างภาษีอากร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2f"/>
                        </a:gs>
                        <a:gs pos="100000">
                          <a:srgbClr val="0066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ทั้งรายได้และ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รับรู้ทั้งรายได้และ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10199"/>
                        </a:gs>
                        <a:gs pos="50000">
                          <a:srgbClr val="000046"/>
                        </a:gs>
                        <a:gs pos="100000">
                          <a:srgbClr val="010199"/>
                        </a:gs>
                      </a:gsLst>
                      <a:lin ang="5400000"/>
                    </a:gra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ับรู้ทั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  <a:tr h="7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S UI Gothic"/>
                          <a:ea typeface="Microsoft Sans Serif"/>
                        </a:rPr>
                        <a:t>X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หักออ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บวกกลับ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รับรู้ทั้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ล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                  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บัญชี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0" lang="hi-IN" sz="2400" spc="-1" strike="noStrike" u="sng">
                          <a:solidFill>
                            <a:srgbClr val="ffffff"/>
                          </a:solidFill>
                          <a:uFillTx/>
                          <a:latin typeface="Microsoft Sans Serif"/>
                          <a:cs typeface="Microsoft Sans Serif"/>
                        </a:rPr>
                        <a:t>ภาษ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99"/>
                    </a:solidFill>
                  </a:tcPr>
                </a:tc>
              </a:tr>
              <a:tr h="7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บวกเพิ่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460017"/>
                        </a:gs>
                        <a:gs pos="100000">
                          <a:srgbClr val="9900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ได้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     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  <a:tr h="75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ับปรุงหักออก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2f00"/>
                        </a:gs>
                        <a:gs pos="100000">
                          <a:srgbClr val="006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X     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ต้องปรับปรุงใดๆ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46"/>
                        </a:gs>
                        <a:gs pos="100000">
                          <a:srgbClr val="0000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79" name=""/>
          <p:cNvSpPr/>
          <p:nvPr/>
        </p:nvSpPr>
        <p:spPr>
          <a:xfrm rot="16200000">
            <a:off x="-1024920" y="4155480"/>
            <a:ext cx="28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บัญช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ancia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9DA-BC97-4020-B56B-B3EFB6BBE2BB}" type="slidenum">
              <a:t>2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5985360" y="2279520"/>
            <a:ext cx="1476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riteria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get prof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24440" y="623880"/>
            <a:ext cx="1605600" cy="5205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 l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096680" y="609480"/>
            <a:ext cx="1608840" cy="52056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 co. l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2590920" y="609480"/>
          <a:ext cx="3962160" cy="1005120"/>
        </p:xfrm>
        <a:graphic>
          <a:graphicData uri="http://schemas.openxmlformats.org/drawingml/2006/table">
            <a:tbl>
              <a:tblPr/>
              <a:tblGrid>
                <a:gridCol w="2286000"/>
                <a:gridCol w="1676160"/>
              </a:tblGrid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upply of Goo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upply of Serv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Service Fe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Le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984" name=""/>
          <p:cNvSpPr/>
          <p:nvPr/>
        </p:nvSpPr>
        <p:spPr>
          <a:xfrm>
            <a:off x="1981080" y="914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3080" y="9144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0" y="1600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00400" y="1981080"/>
            <a:ext cx="2743200" cy="609840"/>
          </a:xfrm>
          <a:prstGeom prst="diamond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692880" y="20606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rke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867280" y="2286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461360" y="2041560"/>
            <a:ext cx="1454040" cy="4597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57200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00400" y="2971800"/>
            <a:ext cx="2743200" cy="609480"/>
          </a:xfrm>
          <a:prstGeom prst="diamond">
            <a:avLst/>
          </a:pr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465360" y="2895480"/>
            <a:ext cx="222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lation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tractor (M2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523880" y="327672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523880" y="3276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696080" y="3276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764160" y="3565440"/>
            <a:ext cx="193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0880" y="3978360"/>
            <a:ext cx="2286000" cy="609480"/>
          </a:xfrm>
          <a:prstGeom prst="diamond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61760" y="40989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aso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590920" y="4267080"/>
            <a:ext cx="457200" cy="15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48120" y="4267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523880" y="4572000"/>
            <a:ext cx="0" cy="334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553080" y="3978360"/>
            <a:ext cx="2286000" cy="609480"/>
          </a:xfrm>
          <a:prstGeom prst="diamond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933960" y="40989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aso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6095880" y="4267080"/>
            <a:ext cx="457200" cy="15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095880" y="4267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76960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048120" y="4800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5638680" y="4800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429000" y="4562640"/>
            <a:ext cx="2209680" cy="4597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n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00800" y="5257800"/>
            <a:ext cx="2514600" cy="45972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.65 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ทวิ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989440" y="0"/>
            <a:ext cx="30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79360" y="5538960"/>
            <a:ext cx="2908800" cy="119124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UP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Resale Pric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Cost Plus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Other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52280" y="4906800"/>
            <a:ext cx="2667240" cy="6426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nsfer Pri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13/25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279200" y="10666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Any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666880" y="388620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499080" y="1905120"/>
            <a:ext cx="304920" cy="3045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172200" y="388620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315200" y="472428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095880" y="289548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666880" y="289548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066680" y="457200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6560" y="1143000"/>
            <a:ext cx="2244240" cy="669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st of goods Sol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st of Servic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terest on Lo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086120" y="2057400"/>
            <a:ext cx="1247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ffe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2286000" y="2286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83808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837720" y="2286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91120" y="2590920"/>
            <a:ext cx="304560" cy="30456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D68-DCA8-45CF-806B-2B588052A52F}" type="slidenum">
              <a:t>208</a:t>
            </a:fld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1471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หตุอันสมควรตาม ป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1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7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/2546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94480" y="1171440"/>
            <a:ext cx="1700280" cy="52056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236000" y="1123920"/>
            <a:ext cx="1439640" cy="52056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2554200" y="1052640"/>
          <a:ext cx="4105440" cy="74772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ห้บริการโดยไม่คิดค่าบริการหรือคิดค่าบริการต่ำกว่าราคาตลา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002f"/>
                        </a:gs>
                        <a:gs pos="100000">
                          <a:srgbClr val="6600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34" name=""/>
          <p:cNvSpPr/>
          <p:nvPr/>
        </p:nvSpPr>
        <p:spPr>
          <a:xfrm>
            <a:off x="1978200" y="14288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673680" y="1428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46560" y="17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401840" y="2060640"/>
            <a:ext cx="3889440" cy="1152360"/>
          </a:xfrm>
          <a:prstGeom prst="diamond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การแก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ราชการที่กระท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ตามนโยบายของรัฐบา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291280" y="263700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213600" y="2403360"/>
            <a:ext cx="2388960" cy="4597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346560" y="3213000"/>
            <a:ext cx="1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403280" y="3662280"/>
            <a:ext cx="3889440" cy="1133640"/>
          </a:xfrm>
          <a:prstGeom prst="diamond">
            <a:avLst/>
          </a:pr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ฉพาะการดำเนินงานต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ตถุประสงค์ของโครงการพิเศ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ัดตั้งขึ้นโดยรัฐบา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90920" y="330192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506920" y="225900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291280" y="4221000"/>
            <a:ext cx="86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213600" y="4041720"/>
            <a:ext cx="2388960" cy="4597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n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506920" y="3897360"/>
            <a:ext cx="304920" cy="3049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346560" y="4795920"/>
            <a:ext cx="1440" cy="43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490920" y="4873680"/>
            <a:ext cx="304920" cy="304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122560" y="5284800"/>
            <a:ext cx="2388960" cy="45972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eason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920" y="58514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0BC-7D24-4FAA-9593-A8DD1D507FDF}" type="slidenum">
              <a:t>2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แก่บริษัทหรือห้างฯ ต่างประเทศ สำหรับเงินชดเชยดอกเบี้ยหรือเงินปันผลจากการยืมหลักทรัพย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แก่ดอกเบี้ยเงินกู้ยืมเพื่อซื้อหรือให้ได้มาซึ่งทรัพย์ส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สำหรับเงินได้จากการขายอสังหาริมทรัพย์โดยให้ผู้มีเงินได้มีสิทธิเลือกเสียภาษี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ติบุคคล แก่บริษัทที่มีตลาดหลักทรัพย์แห่งประเทศไทย ถือหุ้นไม่น้อย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9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ป็นผู้เสนอขายใบแสดงสิทธิในผลผลประโยชน์ที่เกิดจากหลักทรัพย์อ้างอิงไท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59B4-1D93-490E-A27D-1FEDEAA988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20872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052" name=""/>
          <p:cNvGrpSpPr/>
          <p:nvPr/>
        </p:nvGrpSpPr>
        <p:grpSpPr>
          <a:xfrm>
            <a:off x="7157880" y="2108160"/>
            <a:ext cx="1517760" cy="3367800"/>
            <a:chOff x="7157880" y="2108160"/>
            <a:chExt cx="1517760" cy="3367800"/>
          </a:xfrm>
        </p:grpSpPr>
        <p:sp>
          <p:nvSpPr>
            <p:cNvPr id="1053" name=""/>
            <p:cNvSpPr/>
            <p:nvPr/>
          </p:nvSpPr>
          <p:spPr>
            <a:xfrm>
              <a:off x="7157880" y="2108160"/>
              <a:ext cx="14464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5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57880" y="2468520"/>
              <a:ext cx="1446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5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57880" y="4124160"/>
              <a:ext cx="1446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0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229520" y="443700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157880" y="4797360"/>
              <a:ext cx="14464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4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7C1-04AD-4AC6-A8F5-8D169F628E5A}" type="slidenum">
              <a:t>2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56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46A-7798-451D-A2EB-0FB051D97011}" type="slidenum">
              <a:t>2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468360" y="911160"/>
            <a:ext cx="8136000" cy="4899240"/>
          </a:xfrm>
          <a:prstGeom prst="rect">
            <a:avLst/>
          </a:prstGeom>
          <a:ln w="0">
            <a:noFill/>
          </a:ln>
        </p:spPr>
      </p:pic>
      <p:grpSp>
        <p:nvGrpSpPr>
          <p:cNvPr id="1060" name=""/>
          <p:cNvGrpSpPr/>
          <p:nvPr/>
        </p:nvGrpSpPr>
        <p:grpSpPr>
          <a:xfrm>
            <a:off x="7020000" y="1268280"/>
            <a:ext cx="1446120" cy="2460240"/>
            <a:chOff x="7020000" y="1268280"/>
            <a:chExt cx="1446120" cy="2460240"/>
          </a:xfrm>
        </p:grpSpPr>
        <p:sp>
          <p:nvSpPr>
            <p:cNvPr id="1061" name=""/>
            <p:cNvSpPr/>
            <p:nvPr/>
          </p:nvSpPr>
          <p:spPr>
            <a:xfrm>
              <a:off x="7020000" y="17733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6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20000" y="203688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020000" y="275760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,5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20000" y="126828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4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ED6-8F5D-47B4-9334-75628B316FE2}" type="slidenum">
              <a:t>2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ภทรายได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ประเภทรายได้ทา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จำแนกออก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 คื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รายได้จาก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มายถึง รายได้จากการดำเนินกิจการตามกรอบวัตถุประสงค์ เช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สินค้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บริ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ออก เป็น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รายได้เนื่องจากกิจ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มายถึง รายได้ที่ไม่ได้มุ่งประสงค์จะก่อให้เกิดขึ้นโดยตรงจากประกอบกิจการ เช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จากการขายทรัพย์ส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จากอัตราแลกเปลี่ย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ปรับเนื่องจากการผิดสัญญ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2440" indent="-362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งวัล ส่วนลด หรือประโยชน์ใดๆ จากการส่งเสริมการขาย เป็น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6E8-0703-4B71-BFD7-0FD92774FB16}" type="slidenum">
              <a:t>213</a:t>
            </a:fld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08720" cy="6480000"/>
          </a:xfrm>
          <a:prstGeom prst="rect">
            <a:avLst/>
          </a:prstGeom>
          <a:ln w="0">
            <a:noFill/>
          </a:ln>
        </p:spPr>
      </p:pic>
      <p:grpSp>
        <p:nvGrpSpPr>
          <p:cNvPr id="1068" name=""/>
          <p:cNvGrpSpPr/>
          <p:nvPr/>
        </p:nvGrpSpPr>
        <p:grpSpPr>
          <a:xfrm>
            <a:off x="3989520" y="884160"/>
            <a:ext cx="4620960" cy="6324120"/>
            <a:chOff x="3989520" y="884160"/>
            <a:chExt cx="4620960" cy="6324120"/>
          </a:xfrm>
        </p:grpSpPr>
        <p:sp>
          <p:nvSpPr>
            <p:cNvPr id="1069" name=""/>
            <p:cNvSpPr/>
            <p:nvPr/>
          </p:nvSpPr>
          <p:spPr>
            <a:xfrm>
              <a:off x="7093080" y="8841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,1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086600" y="60213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41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93080" y="578160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,0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93080" y="62373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,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164360" y="13161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54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93080" y="465300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093080" y="491652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5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093080" y="513252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8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93080" y="40053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93080" y="3765600"/>
              <a:ext cx="14461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93080" y="33321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45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57880" y="2421000"/>
              <a:ext cx="14464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3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989520" y="4149720"/>
              <a:ext cx="2663640" cy="1511280"/>
            </a:xfrm>
            <a:prstGeom prst="wedgeRoundRectCallout">
              <a:avLst>
                <a:gd name="adj1" fmla="val 68949"/>
                <a:gd name="adj2" fmla="val 88342"/>
                <a:gd name="adj3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ได้แก่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ค่าประกันภัย        </a:t>
              </a:r>
              <a:r>
                <a:rPr b="1" i="1" lang="en-US" sz="2200" spc="-1" strike="noStrike">
                  <a:solidFill>
                    <a:srgbClr val="0000a8"/>
                  </a:solidFill>
                  <a:latin typeface="Arial"/>
                </a:rPr>
                <a:t>50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ค่าใช้จ่ายเบ็ดเตล็ด   </a:t>
              </a:r>
              <a:r>
                <a:rPr b="1" i="1" lang="en-US" sz="2200" spc="-1" strike="noStrike" u="sng">
                  <a:solidFill>
                    <a:srgbClr val="0000a8"/>
                  </a:solidFill>
                  <a:uFillTx/>
                  <a:latin typeface="Arial"/>
                </a:rPr>
                <a:t>91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รวม              </a:t>
              </a:r>
              <a:r>
                <a:rPr b="1" i="1" lang="en-US" sz="2200" spc="-1" strike="noStrike" u="sng">
                  <a:solidFill>
                    <a:srgbClr val="0000a8"/>
                  </a:solidFill>
                  <a:uFillTx/>
                  <a:latin typeface="Arial"/>
                </a:rPr>
                <a:t>141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4FA-946F-470F-9C0B-EFE759F6B222}" type="slidenum">
              <a:t>2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684360" y="1631880"/>
            <a:ext cx="7991280" cy="4178520"/>
          </a:xfrm>
          <a:prstGeom prst="rect">
            <a:avLst/>
          </a:prstGeom>
          <a:ln w="0">
            <a:noFill/>
          </a:ln>
        </p:spPr>
      </p:pic>
      <p:grpSp>
        <p:nvGrpSpPr>
          <p:cNvPr id="1083" name=""/>
          <p:cNvGrpSpPr/>
          <p:nvPr/>
        </p:nvGrpSpPr>
        <p:grpSpPr>
          <a:xfrm>
            <a:off x="2987640" y="2131920"/>
            <a:ext cx="5398920" cy="3179160"/>
            <a:chOff x="2987640" y="2131920"/>
            <a:chExt cx="5398920" cy="3179160"/>
          </a:xfrm>
        </p:grpSpPr>
        <p:sp>
          <p:nvSpPr>
            <p:cNvPr id="1084" name=""/>
            <p:cNvSpPr/>
            <p:nvPr/>
          </p:nvSpPr>
          <p:spPr>
            <a:xfrm>
              <a:off x="6940440" y="43401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940440" y="4003560"/>
              <a:ext cx="1446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4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600,000 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87640" y="2131920"/>
              <a:ext cx="3743280" cy="1511280"/>
            </a:xfrm>
            <a:prstGeom prst="wedgeRoundRectCallout">
              <a:avLst>
                <a:gd name="adj1" fmla="val 61578"/>
                <a:gd name="adj2" fmla="val 88342"/>
                <a:gd name="adj3" fmla="val 16667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ได้แก่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ค่าสนับสนุนการศึกษา           </a:t>
              </a:r>
              <a:r>
                <a:rPr b="1" i="1" lang="en-US" sz="2200" spc="-1" strike="noStrike">
                  <a:solidFill>
                    <a:srgbClr val="0000a8"/>
                  </a:solidFill>
                  <a:latin typeface="Arial"/>
                </a:rPr>
                <a:t>400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ค่าเสื่อมราคาทรัพย์สินส่วนเกิน   </a:t>
              </a:r>
              <a:r>
                <a:rPr b="1" i="1" lang="en-US" sz="2200" spc="-1" strike="noStrike">
                  <a:solidFill>
                    <a:srgbClr val="0000a8"/>
                  </a:solidFill>
                  <a:latin typeface="Arial"/>
                </a:rPr>
                <a:t>2</a:t>
              </a:r>
              <a:r>
                <a:rPr b="1" i="1" lang="en-US" sz="2200" spc="-1" strike="noStrike" u="sng">
                  <a:solidFill>
                    <a:srgbClr val="0000a8"/>
                  </a:solidFill>
                  <a:uFillTx/>
                  <a:latin typeface="Arial"/>
                </a:rPr>
                <a:t>00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200" spc="-1" strike="noStrike">
                  <a:solidFill>
                    <a:srgbClr val="0000a8"/>
                  </a:solidFill>
                  <a:latin typeface="Arial"/>
                </a:rPr>
                <a:t>รวม                            </a:t>
              </a:r>
              <a:r>
                <a:rPr b="1" i="1" lang="en-US" sz="2200" spc="-1" strike="noStrike" u="sng">
                  <a:solidFill>
                    <a:srgbClr val="0000a8"/>
                  </a:solidFill>
                  <a:uFillTx/>
                  <a:latin typeface="Arial"/>
                </a:rPr>
                <a:t>600,000.-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9CF-C421-4357-B9B4-9B12E6F46D57}" type="slidenum">
              <a:t>2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81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 หมายถึง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โดยสภาพของรายจ่ายนั้นไม่ใช่รายจ่ายเพื่อหากำไรหรือรายจ่ายเพื่อกิจการโดยเฉพาะ ซึ่งในทางบัญชีก็ไม่ได้นำรายการรายจ่ายนี้ไปถือเป็นรายจ่าย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. 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ผลของกฎหมาย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 รายจ่ายซึ่งโดยปกติทั่วไปถือเป็นรายจ่ายในการคำนวณกำไรหรือขาดทุนทางบัญชี แต่ห้ามมิให้นำมาถือเป็นรายจ่ายในการคำนวณกำไรหรือขาดทุน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ย่างไรก็ตาม ด้านตรงข้ามของหลักเกณฑ์เกี่ยวกับรายจ่ายต้องห้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Deductible Expendi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่อมเป็นหลักเกณฑ์เกี่ยวกับรายจ่ายที่ไม่ต้องห้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ductible Expendi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ปริย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EF4-B561-4DFE-8E1A-2FA14A4C742C}" type="slidenum">
              <a:t>216</a:t>
            </a:fld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สำรอง เช่น สำรองตามกฎหมาย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กองทุ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อันมีลักษณะเป็นการส่วนตัว การให้โดยเสน่หา และการกุศลที่มิใช่การกุศลสาธารณะ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อันมีลักษณะเป็นการลงทุน รายจ่ายในการต่อเติม เปลี่ยนแปลง ขยายออก หรือทำให้ดีขึ้นซึ่งทรัพย์ส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ที่ชำระหรือพึงต้องชำระ ภาษีซื้อที่เครดิตได้ และภาษีซื้อต้องห้า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 (1)(2)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E85-9B82-430A-8999-54DB5748994A}" type="slidenum">
              <a:t>217</a:t>
            </a:fld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78920" y="1170000"/>
            <a:ext cx="8915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7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ถอนทุนโดยปราศจากค่าตอบแทนให้ห้างหุ้นส่วน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กำหนดขึ้นเองโดยไม่มีการจ่ายจริ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หน้าด้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ตอบแทนแก่ทรัพย์สินที่บริษัทหรือห้างหุ้นส่วนนิติบุคคลเป็นเจ้าของและใช้เอ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เป็นไปไม่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ที่คิดให้แก่เงินทุน เงินสำรอง เงินกองทุนของตนเอง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เป็นไปไม่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ขาดทุนสุทธิยกมาในส่วนที่เกินก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เหลืออดเหลือท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1F1-5495-44ED-9434-8495A6BF5280}" type="slidenum">
              <a:t>218</a:t>
            </a:fld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9384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28600" y="133524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มิใช่รายจ่ายเพื่อหากำไรหรือเพื่อกิจการโดยเฉพา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ขนานแท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มิใช่รายจ่ายเพื่อกิจการในประเทศไทยโดยเฉพาะ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6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ของทรัพยากรธรรมชาติที่สูญหรือสิ้นไปได้เนื่องจากกิจการที่ทำ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เป็นไปไม่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B2F-4E31-4EE3-9677-ADE96CA7446D}" type="slidenum">
              <a:t>219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อากรตามประมวลรัษฎากรทุกประเทภแก่ผู้จัดสรรที่ดิน สำหรับการโอนทรัพย์สินที่เป็นสาธารณูปโภคและบริการสาธารณะให้แก่นิติบุคคลหมู่บ้านจัดสรรและนิติบุคคลตามกฎหมาย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มูลค่าเพิ่ม ภาษีธุรกิจเฉพาะ และอากรแสตมป์แก่บริษัทบริหารสินทรัพ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 สำหรับกำไรสุทธิของบริษัทจอทะเบียนตามกฎหมายว่าด้วยหลักทรัพย์และตลาดหลักทรัพย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ธุรกิจสำหรับราย รับจากการซื้อหรือขายตั๋วเงินหรือตราสารแสดงสิทธิในหนี้ใดๆ ในแต่ละเดือนภาษีเป็นจำนวนเท่ากับผลขาดทุนจากการซื้อหรือขายตั๋วเงินหรือตราสารแสดงสิทธิในหนี้ใดๆ ในเดือน ภาษีน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AFD9-14BE-4C19-83C5-E1FE30B3CC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แท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6" name=""/>
          <p:cNvGraphicFramePr/>
          <p:nvPr/>
        </p:nvGraphicFramePr>
        <p:xfrm>
          <a:off x="250920" y="1600200"/>
          <a:ext cx="8642160" cy="2870280"/>
        </p:xfrm>
        <a:graphic>
          <a:graphicData uri="http://schemas.openxmlformats.org/drawingml/2006/table">
            <a:tbl>
              <a:tblPr/>
              <a:tblGrid>
                <a:gridCol w="4608360"/>
                <a:gridCol w="4033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รายจ่ายต้องห้ามโดยแท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ในทางบัญชีไม่ถือเป็นรายจ่า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ต้องห้ามโดยแท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ข้าลักษณะเป็นหลีกเลี่ยงภาษ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จ่ายที่เป็นไปไม่ได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)(2)(3)(5)(6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(7)(1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3)(1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10)(11)(1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09A-D2F1-469A-85B0-2B09924A2DA4}" type="slidenum">
              <a:t>220</a:t>
            </a:fld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42984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ผลของกฎหมาย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8124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กองทุนสำรองเลี้ยงชีพที่ไม่เป็นไปตามหลักเกณฑ์ในกฎกระทรวง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3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ในส่วนที่ไม่เป็นไปตามหลักเกณฑ์ใน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เงินเพิ่ม ค่าปรับทางอาญาตามประมวลรัษฎากร และค่าภาษีเงินได้นิติบุคคลที่จ่ายจากกำไรสุทธ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ขาย หรือภาษีมูลค่าเพิ่มที่ไม่ได้เรียกเก็บหรือออกให้แก่บุคคล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B65-1A55-4E94-B838-FE87651AC86B}" type="slidenum">
              <a:t>221</a:t>
            </a:fld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ผลของกฎหมาย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ดือนของผู้ถือหุ้นหรือผู้เป็นหุ้นส่วนในส่วนที่จ่ายเกินสมคว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ซึ่งควรจะได้จ่ายในรอบระยะเวลาบัญชี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เสียหายอันอาจได้กลับคืนเนื่องจากการประกันหรือสัญญาคุ้นกันใดๆ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Matching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ซื้อทรัพย์สิน และรายจ่ายในการซื้อหรือขายทรัพย์ส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ทั้งสินค้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ส่วนที่เกินปกติโดยไม่มีเหตุอันสมคว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ของทรัพย์สินนอกจากสินค้า ที่ตีราคาต่ำล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ด้อยค่าของทรัพย์ส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evalu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8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พิสูจน์ไม่ได้ว่าใครเป็นผู้รั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A3A-8C87-4319-98E9-7DFB14B6A2FB}" type="slidenum">
              <a:t>222</a:t>
            </a:fld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81360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ต้องห้ามโดยผลของกฎหมาย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75960" y="1197000"/>
            <a:ext cx="8915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9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ที่กำหนดจ่ายผลกำไรที่ได้เมื่อสิ้นรอบระยะเวลาบัญชีแล้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เป็นกำไรขั้นต้น กำไรต่อหน่วย หรือกำไรสุทธ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9640" indent="-3556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จกำหนดจ่ายจากรายได้ หรือพฤติกรรมของพนักงาน 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ขยัน</a:t>
            </a: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ต้นทุนทรัพย์สินประเภท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ในส่วนที่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เช่า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ในส่วนที่เกิน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,0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ต่อคันต่อเดือน หรื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2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ต่อคันต่อวัน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C7A-3BB9-4538-8EA7-640070D4FC1A}" type="slidenum">
              <a:t>223</a:t>
            </a:fld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826920" y="260280"/>
            <a:ext cx="3598920" cy="495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Donation &amp; Ch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556000" y="7635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24000" y="1052640"/>
            <a:ext cx="4464000" cy="117144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4789080" y="1628640"/>
            <a:ext cx="6462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859280" y="126828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843280" y="220500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435640" y="1125360"/>
            <a:ext cx="352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ของ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556000" y="2205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4789080" y="3213000"/>
            <a:ext cx="6462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859280" y="276372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843280" y="378936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556000" y="3789360"/>
            <a:ext cx="0" cy="376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24000" y="4165560"/>
            <a:ext cx="4464000" cy="144144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รายจ่ายเพื่อการกุศลสาธารณะ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พื่อการศึกษาหรือเพื่อการการกีฬ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ฯ เกี่ยวภาษีเงินได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789080" y="4886280"/>
            <a:ext cx="6462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859280" y="443700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843280" y="5589720"/>
            <a:ext cx="28872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435640" y="4253040"/>
            <a:ext cx="3529080" cy="1465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ตาม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556000" y="5589720"/>
            <a:ext cx="0" cy="376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95280" y="5965920"/>
            <a:ext cx="4681440" cy="9716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24000" y="2637000"/>
            <a:ext cx="4464000" cy="115236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435640" y="2781360"/>
            <a:ext cx="352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สองเท่าของ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BC9-F45C-4AFE-B420-0BAED7C537E2}" type="slidenum">
              <a:t>2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หรือมูลค่าของทรัพย์สินเป็นจำนวนสองเท่าของรายจ่ายที่จ่ายไปเป็นค่าใช้จ่ายเพื่อสนับสนุนการศึกษา แต่ต้องไม่เก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ก่อนหักรายจ่ายเพื่อการกุศลสาธารณะหรือเพื่อการสาธารณะประโยชน์  และเพื่อการศึกษาหรือเพื่อการกีฬา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 ให้เป็นไปตามหลักเกณฑ์ วิธีการ และเงื่อนไขที่อธิบดีกรมสรรพากรประกาศ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เพื่อสนับสนุนการศึกษาดังกล่าว ต้องเป็นค่าใช้จ่ายสำหรับโครงการที่กระทรวงศึกษาให้ความเห็นชอบ และเป็นค่าใช้จ่ายดัง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หาหรือจัดสร้างอาคาร อาคารพร้อมที่ดิน หรือที่ดินให้แก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ศึกษา เพื่อใช้ประโยชน์ทางการศึกษ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การสนับสนุนการศึกษาตามพระราชกฤษฎีก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F58-9407-413C-A92A-47361F7F19E6}" type="slidenum">
              <a:t>2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หาวัสดุอุปกรณ์เพื่อการศึกษา แบบเรียน ตำรา หนังส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างวิชาการ สื่อ และเทคโนโลยีเพื่อการศึกษา ตลอดจ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สดุอุปกรณ์อื่นๆ ที่เกี่ยวข้องกับการศึกษาให้แก่ สถา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 ตามที่รัฐมนตรีว่า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ทรวงการคลัง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การสนับสนุนการศึกษาตามพระราชกฤษฎีก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5CA-7A43-4D7E-AF26-AAC4D83AE8E1}" type="slidenum">
              <a:t>2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การสนับสนุนการศึกษาตามพระราชกฤษฎีก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0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79280" y="1339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IT CIT VAT SB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D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บุคคลธรรมดา  หรือบริษัทหรือห้างหุ้นส่วนนิติบุคคล  สำหรับเงินได้ที่ได้รับจากการโอนทรัพย์สิน หรือการขายสินค้า หรือสำหรับการกระทำตราสารอันเนื่องมา จากการดำเนินการสนับสนุนการศึกษา ตามโครงการที่กระทรวงศึกษาธิการให้ความเห็นชอบ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ผู้โอนจะต้องไม่นำต้นทุนของทรัพย์สินหรือสินค้าซึ่งได้รับยกเว้นภาษีดังกล่าวมาหักเป็นค่าใช้จ่ายในการคำนวณภาษีเงินได้ของบุคคลธรรมดา  หรือบริษัทหรือห้างหุ้นส่วนนิติบุคคล ทั้งนี้ ให้เป็นไปตามหลักเกณฑ์ วิธีการและเงื่อนไขที่อธิบดีกรมสรรพากรประกาศ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A8B-D3F8-42D5-A031-E596D7BAFF97}" type="slidenum">
              <a:t>2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</a:t>
            </a:r>
            <a:r>
              <a:rPr b="1" lang="th-TH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สนับสนุนด้านการเรียนรู้และนันทนาการ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 พรฎ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8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หรือมูลค่าของทรัพย์สินเป็นจำนวนสองเท่าของรายจ่ายที่จ่ายไปเป็นค่าใช้จ่ายในการจัดสร้างและการบำรุงรักษาสนามเด็กเล่น สวนสาธารณะ หรือสนามกีฬาของเอกชนที่เปิดให้ประชาชนใช้เป็นการทั่วไป โดยไม่เก็บค่าบริการใดๆ หรือสนามเด็กเล่น สวนสาธารณะ หรือสนามกีฬาของทางราชการ แต่เมื่อรวมกับรายจ่ายที่จ่ายไปเป็นค่าใช้จ่ายเพื่อสนับสนุนการศึกษาสำหรับโครงการที่กระทรวงศึกษาธิการให้ความเห็นชอบแล้ว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2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ต้องไม่เกิน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10%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ของกำไรสุทธิก่อนหักรายจ่ายเพื่อการกุศลสาธารณะหรือเพื่อการสาธารณประโยชน์ และรายจ่ายเพื่อการศึกษาหรือเพื่อการกีฬา ตามมาตรา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A4B-29ED-4439-8186-B041ED57C0F0}" type="slidenum">
              <a:t>2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</a:t>
            </a:r>
            <a:r>
              <a:rPr b="1" lang="th-TH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การสนับสนุนด้านการเรียนรู้และนันทนาการ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 พรฎ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28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บริจาคให้แก่กองทุนฟื้นฟูสมรรถภาพคนพิการ กองทุนส่งเสริมการจัดสวัสดิการสังคม กองทุนคุ้มครองเด็ก หรือกองทุนพัฒนากีฬาแห่งชาติที่จัดตั้งขึ้นตามมติคณะรัฐมนตรี เมื่อ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ุมภาพันธ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จำนวนเงินหรือมูลค่าของทรัพย์สินเท่าที่บริจาค แต่เมื่อรวมกับรายจ่ายเพื่อการกุศลสาธารณะ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แล้ว ต้องไม่เกินร้อยละสองของกำไรสุทธิก่อนหักรายจ่ายเพื่อการกุศลสาธารณ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E3D-377F-4D11-BABC-B3B49F395B3A}" type="slidenum">
              <a:t>2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สำหรับกำไรสุทธิของบริษัทหรือห้างหุ้นส่วนนิติบุคคลที่ประกอบกิจ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OH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ยกเว้น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ได้บุคคลธรรมดาสำหรับเงินได้จากการแสดงภาพยนตร์หรือโทรทัศน์ให้แก่นักแสดงต่างประเทศที่ได้ถูก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ั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งิน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การเลือกเสีย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ละภาษีเงินได้นิติบุคคล สำหรับการบริจาคเงินเพื่อสมทบกองทุนโครงการปลูกป่าชายเลนถาวร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54DE-296D-4E05-B5A2-AA4699076C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826920" y="260280"/>
            <a:ext cx="3598920" cy="495360"/>
          </a:xfrm>
          <a:prstGeom prst="rect">
            <a:avLst/>
          </a:prstGeom>
          <a:solidFill>
            <a:srgbClr val="3399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Donation &amp; Ch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556000" y="763560"/>
            <a:ext cx="0" cy="28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24000" y="1052640"/>
            <a:ext cx="4464000" cy="1171440"/>
          </a:xfrm>
          <a:prstGeom prst="flowChartDecision">
            <a:avLst/>
          </a:prstGeom>
          <a:solidFill>
            <a:srgbClr val="010199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4789080" y="162864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859280" y="126828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843280" y="220500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435640" y="907920"/>
            <a:ext cx="3529080" cy="14101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สองเท่าของ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556000" y="2205000"/>
            <a:ext cx="0" cy="287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24000" y="2492280"/>
            <a:ext cx="4464000" cy="1441440"/>
          </a:xfrm>
          <a:prstGeom prst="flowChartDecision">
            <a:avLst/>
          </a:prstGeom>
          <a:solidFill>
            <a:srgbClr val="010199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รายจ่ายเพื่อการกุศลสาธารณ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พื่อการสาธารณประโยช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ฯ เกี่ยวภาษีเงินได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4789080" y="321300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859280" y="276372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843280" y="3916440"/>
            <a:ext cx="28872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435640" y="2433600"/>
            <a:ext cx="3529080" cy="155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ได้ตาม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556000" y="3916440"/>
            <a:ext cx="0" cy="3762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24000" y="4292640"/>
            <a:ext cx="4464000" cy="1441440"/>
          </a:xfrm>
          <a:prstGeom prst="flowChartDecision">
            <a:avLst/>
          </a:prstGeom>
          <a:solidFill>
            <a:srgbClr val="010199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รายจ่ายเพื่อการกุศลสาธารณ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พื่อการสาธารณประโยชน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ฯ เกี่ยวภาษีเงินได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4789080" y="501336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859280" y="456408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43280" y="571644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435640" y="4233960"/>
            <a:ext cx="3529080" cy="155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ได้ตาม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6000" y="5716440"/>
            <a:ext cx="0" cy="37656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0920" y="6093000"/>
            <a:ext cx="4608360" cy="97164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61C-90F6-4AA2-B20C-C37C809E7215}" type="slidenum">
              <a:t>2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507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before Donation                   1,000,000,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Donation (10/110)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   90,909.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oyal Decree 420 &amp; 4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909,090.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Donation under sec.65 Ter(3)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17,825.31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891,264.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t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5,454.55 + 17,825.31) 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63,279.86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.545% + 1.783%)     = 6.328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ุป บริจาคตาม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420 &amp; 428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จำนว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328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ก่อนหักค่าการกุศล แต่เป็นรายจ่ายได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87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B88-CFCE-465E-81A5-A387175059A1}" type="slidenum">
              <a:t>2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เพื่อการสนับสนุนการกีฬาตามโครงการตามยุทธศาสตร์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ีสร้างกีฬาชาติ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548 – 2551)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พรฎ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58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บริจาคเพื่อจัดหาอุปกรณ์กีฬาสำหรับการฝึกซ้อมหรือการแข่งขันกีฬา หรือส่งเสริมสนับสนุนการพัฒนานักกีฬาและบุคลากรด้านกีฬา เท่ากับจำนวนเงินหรือมูลค่าของทรัพย์สินเป็นจำน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ของรายจ่ายที่จ่ายไปเป็นค่าใช้จ่ายเพื่อสนับสนุนการกีฬาตามโครงการตามยุทธศาสตร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สร้างกีฬาชาต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 – 2551)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แต่ต้องไม่เกินร้อยละ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20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ของกำไรสุทธิก่อนหักรายจ่ายเพื่อการกุศลสาธารณะหรือเพื่อการสาธารณประโยชน์ และรายจ่ายเพื่อการศึกษาหรือเพื่อการกีฬาตามมาตรา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3)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สำหรับเงินได้ที่เกิดขึ้นตั้งแต่ป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5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8F1-D55E-48A1-8323-7018E3947506}" type="slidenum">
              <a:t>2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826920" y="198360"/>
            <a:ext cx="360072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Donation &amp; Ch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556000" y="774720"/>
            <a:ext cx="0" cy="216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24000" y="1001880"/>
            <a:ext cx="4464000" cy="83808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ตาม 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8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4789080" y="142704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859280" y="104616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843280" y="1824120"/>
            <a:ext cx="28872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435640" y="928800"/>
            <a:ext cx="3529080" cy="9709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ของ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%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556000" y="1824120"/>
            <a:ext cx="0" cy="287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24000" y="3276720"/>
            <a:ext cx="4464000" cy="106668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เพื่อการกุศลสาธารณะหรือเพื่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าธารณประโยชน์ตามม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ฯ เกี่ยวภาษีเงินได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4789080" y="380988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886280" y="339408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843280" y="434340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462640" y="3209760"/>
            <a:ext cx="3529080" cy="146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ได้ตาม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514600" y="4343400"/>
            <a:ext cx="0" cy="3049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04920" y="4648320"/>
            <a:ext cx="4464000" cy="111744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เพื่อการศึกษาหรือเพื่อการกีฬ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ฯ เกี่ยวภาษีเงินได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4789080" y="521496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859280" y="4765680"/>
            <a:ext cx="289080" cy="3049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843280" y="571644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435640" y="4581360"/>
            <a:ext cx="3529080" cy="14655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กับจำนวนที่จ่ายจริงของส่วนที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ได้ตามจำนวนที่จ่ายจริงแต่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%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14600" y="5791320"/>
            <a:ext cx="0" cy="30456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95280" y="6093000"/>
            <a:ext cx="4681440" cy="97164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ต้องห้า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24000" y="2133720"/>
            <a:ext cx="4464000" cy="838080"/>
          </a:xfrm>
          <a:prstGeom prst="flowChartDecision">
            <a:avLst/>
          </a:prstGeom>
          <a:solidFill>
            <a:srgbClr val="000000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 วิธีการ แล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ื่อนไขตาม พรฎ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4789080" y="2540160"/>
            <a:ext cx="64620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59280" y="2179800"/>
            <a:ext cx="289080" cy="3045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435640" y="2036880"/>
            <a:ext cx="3529080" cy="9709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ในกาคำนวณ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&amp;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สองเท่าของจำนวนที่จ่ายจริง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 NP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835360" y="297180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548080" y="2971800"/>
            <a:ext cx="0" cy="287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452-9620-44FB-92A4-241D9BE5C649}" type="slidenum">
              <a:t>2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/>
          </p:nvPr>
        </p:nvSpPr>
        <p:spPr>
          <a:xfrm>
            <a:off x="250920" y="456840"/>
            <a:ext cx="86421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P before Donation                       1,000,000,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Donation 1.5 times (20/120)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166,666.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oyal Decree (#45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    833,333.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Donation (10/110 of 1 M)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   90,909.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oyal Decree (#420 &amp; #42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    742,424.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Donation sec.65 Ter(3) 14,277.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14,277.4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28,554.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alance                                     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713,869.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t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ที่บริจาคจริ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11,111.11 + 45,454.55 + 28,554.86) =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1.111% + 4.546% + 2.855%)  =   18.812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ถือเป็นรายจ่ายได้จำนวน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6,130.6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6,666.6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1.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ท่าข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1,111.1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71F-6135-42FA-966C-65E778931C0A}" type="slidenum">
              <a:t>2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2771640" y="228600"/>
            <a:ext cx="3672000" cy="4557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onation VAT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08000" y="1214280"/>
            <a:ext cx="2879640" cy="28083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องค์กรสาธารณะกุศ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ถานศึกษาของ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2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พยาบาล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3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ภากาชาดไท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4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วัดวาอารา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5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ูลนิธิ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มาคม</a:t>
            </a: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Public Or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6.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โรงเรียน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หาวิทยาลั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อกชนประกอบกิจการใ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ูปนิติบุคค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132000" y="1197000"/>
            <a:ext cx="2952720" cy="280980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การ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มีโครงการเพื่อ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่วยเหลือผู้ประสบภั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บัต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รัฐบาล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ราช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จาคต่อให้แก่สถา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hi-IN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227640" y="1197000"/>
            <a:ext cx="2843280" cy="28051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4f03a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ส่วนราชการ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รัฐวิสาหกิ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เช่น กรมตำรว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08000" y="4387680"/>
            <a:ext cx="2879640" cy="91296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 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VAT Exempt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81(1)(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น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132000" y="4390920"/>
            <a:ext cx="2952720" cy="909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: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: Non Vat 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227640" y="4389480"/>
            <a:ext cx="2881440" cy="91116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CIT: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ม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.65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cs typeface="Microsoft Sans Serif"/>
              </a:rPr>
              <a:t>ตรี </a:t>
            </a:r>
            <a:r>
              <a:rPr b="1" lang="th-TH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(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Deemed Sale V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11456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476360" y="907920"/>
            <a:ext cx="6191280" cy="0"/>
          </a:xfrm>
          <a:prstGeom prst="line">
            <a:avLst/>
          </a:prstGeom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643280" y="692280"/>
            <a:ext cx="0" cy="4888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67640" y="907920"/>
            <a:ext cx="0" cy="27000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76360" y="907920"/>
            <a:ext cx="0" cy="289080"/>
          </a:xfrm>
          <a:prstGeom prst="line">
            <a:avLst/>
          </a:prstGeom>
          <a:ln w="9360">
            <a:solidFill>
              <a:srgbClr val="f4f0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08000" y="5445000"/>
            <a:ext cx="2879640" cy="1008720"/>
          </a:xfrm>
          <a:prstGeom prst="rect">
            <a:avLst/>
          </a:prstGeom>
          <a:solidFill>
            <a:srgbClr val="010199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Unclaimable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Deduct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21164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236000" y="4103640"/>
            <a:ext cx="720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271320" y="3357720"/>
            <a:ext cx="2725560" cy="39888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กาศ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132000" y="5452920"/>
            <a:ext cx="2952720" cy="1008720"/>
          </a:xfrm>
          <a:prstGeom prst="rect">
            <a:avLst/>
          </a:prstGeom>
          <a:solidFill>
            <a:srgbClr val="003300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Input Tax: Claim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Output Tax: 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227640" y="5452920"/>
            <a:ext cx="2881440" cy="1008720"/>
          </a:xfrm>
          <a:prstGeom prst="rect">
            <a:avLst/>
          </a:prstGeom>
          <a:solidFill>
            <a:srgbClr val="660066"/>
          </a:solidFill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Input Tax: Unclaim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	</a:t>
            </a: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f03a"/>
                </a:solidFill>
                <a:latin typeface="Arial"/>
                <a:ea typeface="Microsoft Sans Serif"/>
              </a:rPr>
              <a:t>Output Tax: V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1D9-A0F3-4D2B-8657-1D4684FCAA7C}" type="slidenum">
              <a:t>2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่ารับรองหรือค่าบริการ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ุณลักษณะของค่ารับรองหรือค่าบริการ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รณีจำเป็นตามธรรมเนียมประเพณีทางธุรกิจทั่วไป และผู้ที่ถูกรับรองต้องไม่ใช่ลูกจ้าง เว้นแต่ลูกจ้างจะมีส่วนเข้าร่วมในการ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ค่าใช้จ่ายอันอาจอำนวยประโยชน์แก่กิจการ เช่น ค่าอาหาร ค่าที่พัก ค่าเครื่องดื่ม ค่าดูมหรสพ หรือค่าใช้จ่ายเกี่ยวกับการกีฬา เป็นต้น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ห้เป็นสิ่งของต้องมีมูลค่า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00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รา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403-61A1-44CF-B113-A83F7CBD1876}" type="slidenum">
              <a:t>23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่ารับรองหรือค่าบริการ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หลักฐานการจ่าย และได้รับอนุมัติจากผู้มีอำนาจในกิจการค่ารับรองดังกล่าวให้รวมค่าภาษีมูลค่าเพิ่ม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ค่ารับรองหรือค่าบริการที่จะนำไปถือเป็นรายจ่าย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จำนวนที่จ่ายจริง แต่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.3%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ได้ก่อนหักรายจ่ายใดๆ ที่นำมาคำนวณกำไรหรือขาดทุนสุทธิทางภาษีอากร หรือเงินทุนจดทะเบียนชำระแล้ว ณ วันสุดท้ายของรอบระยะเวลาบัญชี แล้วแต่อย่างใดจะมากกว่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ค่ารับรองสูงสุดต้อง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63E-F5BC-4481-8227-414E312CB85B}" type="slidenum">
              <a:t>237</a:t>
            </a:fld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่ารับรองหรือค่าบริการ</a:t>
            </a:r>
            <a:r>
              <a:rPr b="0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52280" y="990720"/>
            <a:ext cx="3810240" cy="75204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่ารับรองตามบัญช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629400" y="990720"/>
            <a:ext cx="2438280" cy="108756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เงินทุนจดทะเบีย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ชำระแล้ว ณ วันสิ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สิ้นรอบระยะเวล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52280" y="5029200"/>
            <a:ext cx="3733920" cy="7081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่ารับรองทางบัญช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648320" y="5029200"/>
            <a:ext cx="3886200" cy="68580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ทางภาษ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981080" y="6172200"/>
            <a:ext cx="4648320" cy="533520"/>
          </a:xfrm>
          <a:prstGeom prst="rect">
            <a:avLst/>
          </a:prstGeom>
          <a:gradFill rotWithShape="0">
            <a:gsLst>
              <a:gs pos="0">
                <a:srgbClr val="2f002f"/>
              </a:gs>
              <a:gs pos="100000">
                <a:srgbClr val="6600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ถือเป็นรายจ่ายตามจำนวนที่น้อยกว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981080" y="5715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981080" y="4800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629400" y="5715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191120" y="5943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334120" y="3886200"/>
            <a:ext cx="2590560" cy="7621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ูณ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4648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334120" y="2666880"/>
            <a:ext cx="2590560" cy="7621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จำนวนที่มากกว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629400" y="3429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92468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5257800" y="236232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257800" y="2057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629400" y="23623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114800" y="990720"/>
            <a:ext cx="2362320" cy="10810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รายได้ก่อนหักราย จ่ายใดๆ ที่ นำมาคำนวณ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981080" y="1752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52280" y="1981080"/>
            <a:ext cx="3810240" cy="30502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เป็นไปตามหลักเกณฑ์ในกฎกระทรวง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ฉบับที่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143 (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พ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.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ศ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.25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จำเป็นตามธรรมเนียมประเพณีทางธุรกิจทั่วไ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รับรองบุคคลภายนอ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อาจอำนายประโยชน์แก่กิจกา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่าสิ่งของไม่เกิน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,000 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บ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น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icrosoft Sans Serif"/>
              </a:rPr>
              <a:t>/</a:t>
            </a: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ครา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รวมค่าภาษีมูลค่าเพิ่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ีหลักฐานการจ่า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มีการอนุมัติสั่งจ่ายโดยผู้มีอำนา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81080" y="594360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6B0-108B-4CAF-9627-5FF4D52C77AE}" type="slidenum">
              <a:t>238</a:t>
            </a:fld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0" name=""/>
          <p:cNvGraphicFramePr/>
          <p:nvPr/>
        </p:nvGraphicFramePr>
        <p:xfrm>
          <a:off x="2556000" y="260280"/>
          <a:ext cx="4024080" cy="1101960"/>
        </p:xfrm>
        <a:graphic>
          <a:graphicData uri="http://schemas.openxmlformats.org/drawingml/2006/table">
            <a:tbl>
              <a:tblPr/>
              <a:tblGrid>
                <a:gridCol w="4024080"/>
              </a:tblGrid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Member Fee, Fe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Golf Club, Sport Cl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Entertainment Cl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1" name=""/>
          <p:cNvSpPr/>
          <p:nvPr/>
        </p:nvSpPr>
        <p:spPr>
          <a:xfrm>
            <a:off x="4570560" y="1343160"/>
            <a:ext cx="1440" cy="28404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843280" y="1627200"/>
            <a:ext cx="3457440" cy="117144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กเป็นกรรมสิทธิ์โด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็ดขาดของกรรม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ปรึกษาหรือ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6300720" y="2203560"/>
            <a:ext cx="719280" cy="0"/>
          </a:xfrm>
          <a:prstGeom prst="line">
            <a:avLst/>
          </a:prstGeom>
          <a:ln w="1908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2124000" y="2203560"/>
            <a:ext cx="719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124000" y="2205000"/>
            <a:ext cx="0" cy="7333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971640" y="3948120"/>
            <a:ext cx="2282760" cy="71928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ใช้เพื่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84360" y="4308480"/>
            <a:ext cx="0" cy="503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268360" y="4797360"/>
            <a:ext cx="2159280" cy="108108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รายจ่ายต้องห้ามตาม 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225960" y="4308480"/>
            <a:ext cx="4093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635280" y="4308480"/>
            <a:ext cx="0" cy="5014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08000" y="4811760"/>
            <a:ext cx="1942920" cy="141012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โดย  เฉลียเป็นรายปีตามอายุสมาชิ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411280" y="1843200"/>
            <a:ext cx="289080" cy="30456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2560" y="394812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276720" y="394812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516720" y="1827360"/>
            <a:ext cx="28872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68360" y="2940120"/>
            <a:ext cx="3168720" cy="72288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เงินได้ของผู้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้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684360" y="4308480"/>
            <a:ext cx="287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22560" y="365904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020000" y="2205000"/>
            <a:ext cx="1440" cy="7333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869080" y="3948120"/>
            <a:ext cx="2282760" cy="719280"/>
          </a:xfrm>
          <a:prstGeom prst="flowChartDecision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ำไปใช้เพื่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รอ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581800" y="4308480"/>
            <a:ext cx="0" cy="5032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877080" y="4811760"/>
            <a:ext cx="2268360" cy="173916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นำไปใช้ในกิจการไม่ต้องห้าม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พิจารณาเป็นรายกรณ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532720" y="4308480"/>
            <a:ext cx="0" cy="50148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580000" y="3948120"/>
            <a:ext cx="28908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174160" y="3948120"/>
            <a:ext cx="2887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292720" y="2940120"/>
            <a:ext cx="3382920" cy="72288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ถือเป็นเงินได้ของผู้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put Tax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้า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020000" y="3659040"/>
            <a:ext cx="1440" cy="2844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8101080" y="4308480"/>
            <a:ext cx="409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5559480" y="4308480"/>
            <a:ext cx="2872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649760" y="4797360"/>
            <a:ext cx="2009880" cy="1081080"/>
          </a:xfrm>
          <a:prstGeom prst="rect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รับรองโดย  เฉลี่ยเป็นรายปีตามอายุสมาชิ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60440" y="41904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56/25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3D1-C5BD-4A4F-A532-4AD78B1CBA8F}" type="slidenum">
              <a:t>239</a:t>
            </a:fld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 ภาษีเงินได้นิติบุคคล สำหรับการบริจาคเพื่อสนับสนุนการศึกษ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และภาษีเงินได้นิติบุคคล สำหรับการบริจาคให้แก่กองทุนสวัสดิการภายในส่วนราช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 ณ ที่จ่าย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ค่าเช่าเรือเดินทะเลคงเหลือ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ให้แก่บริษัทหรือห้างหุ้นส่วนนิติบุคคลที่ประกอบกิจการค้าน้ำมันกลางทะเ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ดา สำหรับเงินได้สุทธิในส่วนที่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,0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4988-90B6-4222-9230-2937845BD3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ที่ถือเป็นรายจ่ายต้องห้าม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ที่เครดิตได้ และภาษีซื้อต้องห้า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(1) (2)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ี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สามารถนำไปเป็นเครดิตหักออกจากภาษีขาย ในการคำนวณภาษีมูลค่าเพิ่มที่ต้องชำร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มีใบกำกับภาษี หรือมีใบกำกับภาษีแต่ไม่อาจพิสูจน์ได้ว่ามีการจ่ายภาษีซื้อตามใบกำกับภาษีไปจริ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มีข้อความไม่ครบถ้วนบริบูรณ์ในส่วนที่เป็นสาระสำคัญ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6/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ไม่เกี่ยวข้องโดยตรงกับการประกอบกิจการ หรือภาษีซื้อสำหรับรายจ่ายต้องห้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F64-5582-4E9B-8BF6-9D61FD1FCF01}" type="slidenum">
              <a:t>240</a:t>
            </a:fld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ที่ถือเป็นรายจ่ายต้องห้าม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ออกโดยผู้ที่ไม่มีสิทธิออกใบกำกับ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นี้ภาษีมูลค่าเพิ่มที่ได้ชำระหรือพึงต้องชำระตามแบบ 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ขายที่ไม่เรียกเก็บหรือออกให้แก่ผู้ซื้อสินค้าหรือผู้รับบริการ ก็ถือเป็นรายจ่ายต้องห้าม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้วยเช่นก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590-4F57-44D7-A5D5-C8F5EA7CC936}" type="slidenum">
              <a:t>241</a:t>
            </a:fld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ภาษีซื้อสำหรับค่ารับรอง และภาษีซื้อต้องห้าม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 (6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นี้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รวมทั้งภาษีซื้อสำหรับสินค้าหรือบริการที่เกี่ยวกับรถยนต์ดังกล่า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รถยนต์ที่ไม่ใช่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ซึ่งทำการดัดแปลงให้เป็นรถยนต์ที่ไม่ใช่รถยนต์นั่งหรือรถยนต์โดยสารที่มีที่นั่ง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อย่างย่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ทรัพย์สินหรือรายจ่ายที่ใช้ในกิจการประเภทที่ไม่ต้องเสีย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F4A-A202-46A8-BBDA-F0DD71B19C76}" type="slidenum">
              <a:t>242</a:t>
            </a:fld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94920" y="277560"/>
            <a:ext cx="806292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จากการเฉลี่ยในส่วนที่เป็นของกิจการที่ไม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สินค้าหรือบริการที่ต้องใช้ในกิจการทั้ง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ไม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รายได้ในส่วน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น้อย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ประกอบการจดทะเบียนเลือกใช้สิทธิไม่เฉลี่ยภาษีซื้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การก่อสร้างอาคารหรืออสังหาริมทรัพย์ที่ใช้ในกิจการ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่อมา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นับแต่เดือนที่สร้างเสร็จสมบูรณ์ได้ขายหรือให้เช่าหรือนำไปใช้ในกิจการที่ต้องเสี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 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1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ใบกำกับภาษี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A90-1C39-4F83-BA90-D5A84B892162}" type="slidenum">
              <a:t>243</a:t>
            </a:fld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9640" y="152280"/>
            <a:ext cx="81216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ื่อ ที่อยู่ และเลขประจำตัวผู้เสียภาษีอากรของผู้ออกใบกำกับภาษี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ใบกำกับภาษีไม่ใช่เอกสารฉบับแรก และรายการ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อกสารออกเป็นชุด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ได้ตีพิมพ์หรือจัดทำด้วยระบบคอมพิวเตอร์ กรณีจัดทำใบกำกับภาษีด้วยระบบคอมพิวเตอร์ทั้งฉบั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ของสำนักใหญ่ที่สาขานำไปออกโดยไม่มีรายการ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าขาที่ออกใบกำกับภาษีคือ 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..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สำหรับค่าใช้จ่ายเกี่ยวกับรถยนต์ที่ออกโดยผู้ประกอบกิจการสถานีบริการน้ำมัน โดยไม่มีรายการ 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ลขทะเบียนรถยนต์</a:t>
            </a: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777-D432-4136-A7CE-0275060B41C9}" type="slidenum">
              <a:t>244</a:t>
            </a:fld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1356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ต้องห้ามที่ถือเป็นรายจ่ายได้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สำเนาใบกำกับภาษีแบบเต็มรูป เว้นแต่ใบกำกับภาษีที่ไม่ใช่เอกสารฉบับแรกซึ่งมีราย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ออกเป็นชุ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ตามใบกำกับภาษีแบบเต็มรูปที่รายการในใบกำกับภาษีได้ถูกแก้ไขเปลี่ยนแปลง เว้นแต่รายการดัง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ที่อยู่ของผู้ออกใบกำกับภาษี เนื่องจากทางราชการได้ประกาศเปลี่ยนแปลง เลขที่ ชื่อถนน หมู่บ้าน ตำบลหรือแขวง อำเภอหรือเขต หรือจังหวัด โดยลงลายมือชื่อกำกับการแก้ไข หรือประทับด้วยตรายาง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ทางราชการประกาศเปลี่ยนแปลง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ก้ไขเลขประจำตัวผู้เสียภาษีอากรของผู้ออกใบกำกับภาษี โดยลงลายมือชื่อกำกับการแก้ไข หรือประทับด้วยตรายางภาย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นับแต่วันที่กรมสรรพากรได้แจ้งการเปลี่ยนแปลงรายการดังกล่าวให้ใหม่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EE9-C9B7-418B-9724-AC3593D2A3FE}" type="slidenum">
              <a:t>245</a:t>
            </a:fld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611280" y="479520"/>
            <a:ext cx="8064360" cy="561816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>
            <a:off x="3276720" y="765000"/>
            <a:ext cx="3600360" cy="503280"/>
          </a:xfrm>
          <a:prstGeom prst="wedgeRoundRectCallout">
            <a:avLst>
              <a:gd name="adj1" fmla="val 57671"/>
              <a:gd name="adj2" fmla="val 163879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0000a8"/>
                </a:solidFill>
                <a:latin typeface="Arial"/>
              </a:rPr>
              <a:t>ได้แก่ เงินปันผลจากบริษัทจดทะเบีย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948360" y="1676520"/>
            <a:ext cx="1446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    </a:t>
            </a: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500,000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948360" y="3621240"/>
            <a:ext cx="1446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    </a:t>
            </a: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800,000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77080" y="5373720"/>
            <a:ext cx="16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      </a:t>
            </a: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86,363 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877080" y="5637240"/>
            <a:ext cx="1511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  </a:t>
            </a:r>
            <a:r>
              <a:rPr b="1" i="1" lang="en-US" sz="2400" spc="-1" strike="noStrike">
                <a:solidFill>
                  <a:srgbClr val="0000a8"/>
                </a:solidFill>
                <a:latin typeface="Browallia New"/>
                <a:ea typeface="Browallia New"/>
              </a:rPr>
              <a:t>1,386,363 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52A-475C-4504-ACF4-D400A18EE76F}" type="slidenum">
              <a:t>2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609480" y="4535640"/>
            <a:ext cx="7772400" cy="83808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ผู้ได้รับสิทธิประโยชน์ตามมาตรา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5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(10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กฎหมายไทยทั่วไป                                   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olding Compa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One Way &amp; 25% Holder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จดทะเบีย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isted Company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ผู้จ่ายเงินปันผลหรือเงินส่วนแบ่งของกำ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ตั้งขึ้นตามกฎหมายไทย                                                          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cs typeface="Microsoft Sans Serif"/>
              </a:rPr>
              <a:t>กองทุนรวมที่ตั้งขึ้นโดยบริษัทจัดการกิจการลงทุน</a:t>
            </a:r>
            <a:r>
              <a:rPr b="0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3. IFCT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 (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cs typeface="Microsoft Sans Serif"/>
              </a:rPr>
              <a:t>บรรษัทเงินทุนอุตสาหกรรมแห่งประเทศไทย</a:t>
            </a:r>
            <a:r>
              <a:rPr b="0" lang="th-TH" sz="2800" spc="-1" strike="noStrike">
                <a:solidFill>
                  <a:srgbClr val="010199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่วม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oint Ven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B7A-C8A7-488C-A0EF-C61E0BE3F236}" type="slidenum">
              <a:t>247</a:t>
            </a:fld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Holding Co., Ltd.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0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44360" y="126792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เป็นบริษัทแม่ที่ตั้งขึ้นตามกฎหมายของประเทศไทย ซึ่งเข้าถือหุ้นในบริษัทลูกที่ตั้งขึ้นตามกฎหมายของประเทศไท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เงินลงทุนนั้นจะมีที่มาโดยทางใ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เงินกู้ยืมเพื่อลงทุนในบริษัทในเครือ ถือเป็นรายจ่ายในการดำเนินกิจการได้ เพราะบทบัญญัติ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พิเศษ กำหนดให้ไม่ต้องนำเงินปันผลมารวมเป็นรายได้เพื่อคำนวณภาษีเงินได้นิติบุคคลเท่านั้น มิได้ห้ามทางด้านรายจ่ายเพื่อก่อให้เกิดเงินปันผลดังกล่าว เช่น ดอกเบี้ย หรือค่าใช้จ่ายอื่นๆ เป็นต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หุ้นในบริษัทลูกไม่น้อยก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หุ้นที่มีสิทธิออกเสียงในบริษัทลูก โดยถือทางเดียว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ลูกไม่ได้ถือหุ้นในบริษัทแม่ไม่ว่าทางตรงหรือทางอ้อ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ราะการดังกล่าว บริษัทลูกได้จ่ายเงินปันผลให้แก่บริษัทแ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75B-C0A7-4C28-A6F5-8F39A42CCD8E}" type="slidenum">
              <a:t>2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07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</a:t>
            </a:r>
            <a:r>
              <a:rPr b="0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4643280" y="2090880"/>
            <a:ext cx="5040" cy="1430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762120" y="2776680"/>
            <a:ext cx="7619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676520" y="224316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666880" y="2624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657600" y="2624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62720" y="2624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53080" y="2624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467480" y="216684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1676520" y="31575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657600" y="315756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4648320" y="31575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1575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449532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49568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52388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152352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731484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315200" y="2624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08000" y="4076280"/>
            <a:ext cx="8964720" cy="2492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ไม่เข้าเงื่อนไข จะไม่ได้สิทธิประโยชน์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ส่วนแบ่งของกำไรจากกิจการร่วม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Joint Ventur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บริษัทหรือห้างหุ้นส่วนนิติบุคคลที่ตั้งขึ้นตามกฎหมายไทยหรือที่ตั้งขึ้นตามกฎหมายของต่างประเทศได้รับ ให้ได้รับยกเว้นภาษีเงินได้นิติบุคคล 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ห่งพระราชก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516760" y="285912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455440" y="285912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-87840" y="2227320"/>
            <a:ext cx="18205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หุ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ลงทุ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7482960" y="2227320"/>
            <a:ext cx="18205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อนหุ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ลงทุ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488960" y="1562040"/>
            <a:ext cx="63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นประกาศจ่ายเงินปันผล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/</a:t>
            </a: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ินส่วนเบ่งกำ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-25920" y="9079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เงื่อนไขการได้สิทธิประโยชน์ตามมาตรา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65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 u="sng">
                <a:solidFill>
                  <a:srgbClr val="ffffff"/>
                </a:solidFill>
                <a:uFillTx/>
                <a:latin typeface="Microsoft Sans Serif"/>
                <a:ea typeface="Microsoft Sans Serif"/>
              </a:rPr>
              <a:t>(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492640" y="3467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ng – term Invest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3D4-AACC-4BC6-8EDF-9BE152C1C299}" type="slidenum">
              <a:t>249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72560" y="122400"/>
            <a:ext cx="76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ระราชกฤษฎีกาฯ 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ดอัตราภาษีเงินได้นิติบุคคลสำหรับกำไรสุทธิของบริษัทหรือห้างหุ้นส่วนนิติบุคคลขนาดกลางและขนาดย่อ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MEs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มูลค่าของฐานภาษีของกิกจากรขนาดย่อ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ว้นภาษีเงินได้บุคคลธรรม ดา และภาษีเงินได้นิติบุคคลให้แก่ลูกหนี้ที่ได้รับปลดหรือลดหนี้จากเจ้าหนี้สถาบันการเงินหรือเจ้าหนี้อื่น ที่กระทำระหว่างป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-254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B1D4-6B89-4AF7-A7DA-25C0C0B318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79280" y="880920"/>
            <a:ext cx="2016360" cy="52056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Co., Lt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197080" y="1125360"/>
            <a:ext cx="5032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627280" y="880920"/>
            <a:ext cx="2305080" cy="52056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เงินปันผ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932360" y="1125360"/>
            <a:ext cx="1224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218640" y="860400"/>
            <a:ext cx="1945440" cy="520560"/>
          </a:xfrm>
          <a:prstGeom prst="rect">
            <a:avLst/>
          </a:prstGeom>
          <a:solidFill>
            <a:srgbClr val="66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. Co.,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419640" y="1413000"/>
            <a:ext cx="0" cy="36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476360" y="1751040"/>
            <a:ext cx="3906720" cy="914400"/>
          </a:xfrm>
          <a:prstGeom prst="diamond">
            <a:avLst/>
          </a:prstGeom>
          <a:solidFill>
            <a:srgbClr val="a5002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หุ้นไว้น้อย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่อนและหรือหลังได้รับเงินปันผ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383080" y="220500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668920" y="1749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419640" y="263052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76360" y="3046320"/>
            <a:ext cx="3906720" cy="669960"/>
          </a:xfrm>
          <a:prstGeom prst="diamond">
            <a:avLst/>
          </a:prstGeom>
          <a:solidFill>
            <a:srgbClr val="0101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as Listed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383080" y="338472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668920" y="2924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6469920" y="2997360"/>
            <a:ext cx="2262600" cy="752040"/>
          </a:xfrm>
          <a:prstGeom prst="rect">
            <a:avLst/>
          </a:prstGeom>
          <a:solidFill>
            <a:srgbClr val="0101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596760" y="2637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419640" y="371628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476360" y="4132440"/>
            <a:ext cx="3906720" cy="664920"/>
          </a:xfrm>
          <a:prstGeom prst="diamond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. as Holding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383080" y="44578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668920" y="4005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631680" y="371628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19640" y="4797360"/>
            <a:ext cx="0" cy="35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476360" y="5157720"/>
            <a:ext cx="3906720" cy="73656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as general Thai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5364000" y="5516640"/>
            <a:ext cx="107964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66892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631680" y="47973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623320" y="189000"/>
            <a:ext cx="248760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7800" y="3716280"/>
            <a:ext cx="2670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25% &amp; up 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ne Way 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489000" y="4076640"/>
            <a:ext cx="2306880" cy="752040"/>
          </a:xfrm>
          <a:prstGeom prst="rect">
            <a:avLst/>
          </a:prstGeom>
          <a:solidFill>
            <a:srgbClr val="00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415920" y="1803240"/>
            <a:ext cx="2306880" cy="752040"/>
          </a:xfrm>
          <a:prstGeom prst="rect">
            <a:avLst/>
          </a:prstGeom>
          <a:solidFill>
            <a:srgbClr val="a5002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Income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16720" y="5114880"/>
            <a:ext cx="2303280" cy="752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Ex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% 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419640" y="5877000"/>
            <a:ext cx="0" cy="360360"/>
          </a:xfrm>
          <a:prstGeom prst="line">
            <a:avLst/>
          </a:prstGeom>
          <a:ln cap="rnd"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403280" y="6199200"/>
            <a:ext cx="3960720" cy="825480"/>
          </a:xfrm>
          <a:prstGeom prst="rect">
            <a:avLst/>
          </a:prstGeom>
          <a:solidFill>
            <a:srgbClr val="a5002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Income 100% Divid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631680" y="57801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08000" y="2924280"/>
            <a:ext cx="280836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476360" y="2781360"/>
            <a:ext cx="0" cy="36036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71640" y="2781360"/>
            <a:ext cx="0" cy="36036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79280" y="2781360"/>
            <a:ext cx="0" cy="360360"/>
          </a:xfrm>
          <a:prstGeom prst="line">
            <a:avLst/>
          </a:prstGeom>
          <a:ln cap="rnd"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09880" y="29242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Month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506960" y="29242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Month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953280" y="25160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ide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9520" y="177336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ng Te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D84-D655-44AA-8260-E6BD238B437D}" type="slidenum">
              <a:t>2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3" name=""/>
          <p:cNvGraphicFramePr/>
          <p:nvPr/>
        </p:nvGraphicFramePr>
        <p:xfrm>
          <a:off x="108000" y="1268280"/>
          <a:ext cx="9072360" cy="4891320"/>
        </p:xfrm>
        <a:graphic>
          <a:graphicData uri="http://schemas.openxmlformats.org/drawingml/2006/table">
            <a:tbl>
              <a:tblPr/>
              <a:tblGrid>
                <a:gridCol w="1981080"/>
                <a:gridCol w="990720"/>
                <a:gridCol w="990720"/>
                <a:gridCol w="1001520"/>
                <a:gridCol w="1012680"/>
                <a:gridCol w="1151280"/>
                <a:gridCol w="873000"/>
                <a:gridCol w="1071360"/>
              </a:tblGrid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       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จ่าย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         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ivide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hi-IN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ทยทั่วไป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Mutual  Fu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องทุนรว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J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่วมค้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โรงเรียนเอกชน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In-hou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รือเดินทะเล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BO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ที่ได้รับส่งเสริมการลงทุน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ื่นๆ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Part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Foreig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n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Co.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168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พรบ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ทรัพย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General Thai 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Holding 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 ข้อ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ู ขัอ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Listed 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ณี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2,3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(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ี่ไม่เข้าเงื่อนไข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5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 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)</a:t>
                      </a:r>
                      <a:r>
                        <a:rPr b="1" lang="th-TH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J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uristic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artnershi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35040" indent="-6350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Foreign Co.Lt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In Thai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Non Ope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354" name=""/>
          <p:cNvSpPr/>
          <p:nvPr/>
        </p:nvSpPr>
        <p:spPr>
          <a:xfrm>
            <a:off x="250920" y="40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ได้รับสิทฺธิประโยชน์ตามม</a:t>
            </a:r>
            <a:r>
              <a:rPr b="1" lang="th-TH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าตรา </a:t>
            </a: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65 </a:t>
            </a: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r>
              <a:rPr b="1" lang="en-GB" sz="36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08000" y="1268280"/>
            <a:ext cx="1942920" cy="1513080"/>
          </a:xfrm>
          <a:prstGeom prst="rtTriangle">
            <a:avLst/>
          </a:prstGeom>
          <a:solidFill>
            <a:srgbClr val="009900"/>
          </a:solidFill>
          <a:ln cap="rnd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91520" y="210816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id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045-0403-459C-B207-A83F7AF10247}" type="slidenum">
              <a:t>251</a:t>
            </a:fld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รายได้ตาม พรฎ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84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ภาษีเงินได้นิติบุคคล สำหรับเงินได้ของบริษัทหรือห้างหุ้นส่วนนิติบุคคล ดัง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สุทธิที่ได้จากกิจการสถานฝึกอบรมเพื่อพัฒนาฝีมือแรงงานของลูกจ้างของบริษัทหรือห้างหุ้นส่วนนิติบุคคลนั้นหรือของบริษัทหรือห้างหุ้นส่วนนิติบุคคลในเครือเดียวกั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ปันผลหรือเงินส่วนแบ่งของกำไรที่ได้จากบริษัทหรือห้างหุ้นส่วนนิติบุคคลที่ประกอบกิจการตา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8040" indent="-420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บริษัทหรือห้างหุ้นส่วนนิติบุคคลดังกล่าว จะต้องมิได้ประกอบกิจการอื่นนอกจากกิจการสถานฝึกอบรมเพื่อพัฒนาฝีมือแรง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B23-9E22-4D0C-8364-29910EC4184D}" type="slidenum">
              <a:t>2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กเว้นรายได้ตาม พรฎ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14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ภาษีเงินได้นิติบุคคล สำหรับเงินได้จากการขนส่งสินค้าทางทะเลระหว่างประเทศ ให้แก่บริษัทหรือห้างหุ้นส่วนนิติบุคคลที่ตั้งขึ้นตามกฎหมายไทย โดยมีเงื่อนไขดังต่อไป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ใช้เรือที่จดทะเบียนเป็นเรือไทยตามกฎหมายว่าด้วยเรือไทยในการขนส่งสินค้าดังกล่า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คนประจำเรือที่มีสัญชาติไทยในอัตราส่วนที่กำหนดไว้ตาม กฎหมายว่าด้วยเรือ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กำไรสุทธิเพื่อประโยชน์ในการได้รับยกเว้นภาษีเงินได้นิติบุคคล ให้เป็นไปตาม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ยกเว้นภาษีเงินได้บุคคลธรรมดา และภาษีเงินได้นิติบุคคล สำหรับเงินได้พึงประเมินที่เป็นเงินปันผลหรือเงินส่วนแบ่งของกำไรที่ได้ จากบริษัทหรือห้างหุ้นส่วนนิติบุคคลที่ได้รับยกเว้นภาษีเงินได้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ซึ่งเป็นผู้อยู่ใน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ที่ตั้งขึ้นตามกฎหมายไทย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E29-EF2D-428A-82D4-C450B899B7F0}" type="slidenum">
              <a:t>2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9920" indent="-4399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Microsoft Sans Serif"/>
              <a:buAutoNum type="arabicPeriod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ดังต่อไปนี้ หักเป็นรายจ่ายได้เพิ่มขึ้นจำนว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ที่ได้จ่ายไปนั้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ส่งลูกจ้างเข้ารับการศึกษาหรือฝึกอบรมในสถานศึกษาหรือสถาบันฝึกอบรมที่วิชาชีพที่ราชการจัดตั้งขึ้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blic Training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ฝึกอบรมลูกจ้างของต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 house Training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สูตรที่ได้รับความเห็นชอบและอนุมัติค่าใช้จ่ายโดยกรมพัฒนาฝีมือแรง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ฝึกอบรมตามกฎหมายว่าด้วยการฝึกอบรมวิชาชี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582-9959-4146-8C3F-AE400C019C9F}" type="slidenum">
              <a:t>254</a:t>
            </a:fld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3151800" y="387360"/>
            <a:ext cx="2858400" cy="64260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raining Ex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648320" y="1038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771640" y="1343160"/>
            <a:ext cx="3745080" cy="1157040"/>
          </a:xfrm>
          <a:prstGeom prst="diamond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หลักเกณฑ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 และเงือนไขใ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3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050920" y="191916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322360" y="1469880"/>
            <a:ext cx="304920" cy="304920"/>
          </a:xfrm>
          <a:prstGeom prst="ellipse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715080" y="1469880"/>
            <a:ext cx="304920" cy="3049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516720" y="1919160"/>
            <a:ext cx="798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2050560" y="19191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7308720" y="1919160"/>
            <a:ext cx="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-16920" y="2554200"/>
            <a:ext cx="4231440" cy="1922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-house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ุมัติจากกรมพัฒนาฝีมือแรง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Public Training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บ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ฝึกอบรมฝีมือแรง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4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050920" y="448164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08000" y="4862520"/>
            <a:ext cx="403848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ทางภาษีอากร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%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ที่ได้จ่ายไปจริ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692680" y="2576520"/>
            <a:ext cx="3200400" cy="75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ักเป็นรายจ่ายทางภาษีอากรได้ตามที่จ่ายจริ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5D5-525D-4A46-A965-D5C14D15A017}" type="slidenum">
              <a:t>255</a:t>
            </a:fld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151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In house Trai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78920" y="1035000"/>
            <a:ext cx="871380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หลักสูตรที่จัดขึ้นเพื่อพัฒนาฝีมือแรงงานของลูกจ้าง และได้รับการรับรองจากกรมพัฒนาฝีมือแรงงาน กระทรวงแรงงาน และค่าใช้จ่ายในการฝึกอบรมลูกจ้างแต่ละคนนั้นต้องเป็นไปตามอัตราที่ได้รับอนุมัติจากกระทรวงแรง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ฝึกอบรมต้องเป็นไปเพื่อประโยชน์ของกิจการของนายจ้าง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ูกจ้างที่เข้ารับการฝึกอบรมต้องเป็นลูกจ้างของตน โดยนายจ้างต้องจัดทำทะเบียนลูกจ้างตามกฎหมายว่าด้วยการคุ้มครองแรงงานเพื่อเป็นหลักฐานการทำงานของลูกจ้า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มีการกำหนดเงื่อนไขให้ลูกจ้างที่เข้ารับการฝึกอบรมนั้นกลับเข้าทำงานหลังจากการฝึกอบรมเสร็จสิ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ำหนดลักษณะ ขนาด และคุณสมบัติของวัสดุอุปกรณ์ที่จะใช้ในการฝึกอบรม เพื่อมิให้ปะปนกับวัสดุอุปกรณ์ที่ใช้ในการประกอบกิจการตามปกติของบริษัทหรือห้างหุ้นส่วนนิติบุคคล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E9B-8DB2-467D-81CD-67B97D8419E2}" type="slidenum">
              <a:t>2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294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915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จ้างเพื่อทำการวิจัยและพัฒน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R&amp;D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แก่หน่วยงานของรัฐหรือเอกชนหรือของตนเอง 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บริจาคเงินหรือทรัพย์สินเพื่อสนับสนุนการศึกษาและรายจ่ายเพื่อการสนับสนุนด้านการเรียนรู้และนันทนากา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แต่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%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กำไรสุทธิ ตาม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46C-49E1-41C2-94C9-C936CB942D64}" type="slidenum">
              <a:t>257</a:t>
            </a:fld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3492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เพื่อการได้มาซึ่งทรัพย์สินประเภทอุปกรณ์ที่มีผลต่อการประหยัดพลังงานที่ไม่เคยผ่านการใช้งาน เพื่อการปรับเปลี่ยนแทนอุปกรณ์เดิม เป็นจำนวนร้อยล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ค่าใช้จ่ายนั้น เฉพาะในส่วนที่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 ตาม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5236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ด้มาและพร้อมใช้งานได้ในระหว่า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ุลามค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5236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ให้ยกเว้นตามส่วนเฉลี่ยเป็นจำนวนเท่ากันของจำนวนเงินได้ที่ได้รับยกเว้นภาษี สำหรับระยะเวล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นับแต่รอบระยะเวลาบัญชีแรกที่ได้ทรัพย์สินดังกล่าวมาและพร้อมใช้งานได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5236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ามหลักเกณฑ์ วิธีการ และเงื่อนไขตาม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5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784-ABBC-4DDE-8F09-FFED2C78EB44}" type="slidenum">
              <a:t>258</a:t>
            </a:fld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อธิบดีกรมสรรพากร </a:t>
            </a:r>
            <a:br>
              <a:rPr sz="3200"/>
            </a:b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กี่ยวกับภาษีเงินได้ 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45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อุปกรณ์ที่มีผลต่อการประหยัดพลังง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อุปกรณ์ประสิทธิภาพสูงที่ประหยัดพลังงานและ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ลดความต้องการพลังงาน ซึ่งสามารถทำงานครบกระบวน การด้วยตัวเอง ที่ได้รับการรับรองจากกรมพัฒนาพลังงานทดแทนและอนุรักษ์พลังงานว่ามีผลต่อการประหยัดพลังงา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เพื่อการได้มาซึ่งทรัพย์สินประเภทอุปกรณ์ที่มีผลต่อการประหยัดพลังง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มูลค่าของอุปกรณ์ เครื่องจักร รวมถึงค่าใช้จ่ายในการติดตั้งอุปกรณ์หรือเครื่องจักรที่มีผลต่อการประหยัดพลังงาน ต้องเป็นไปตามหลักเกณฑ์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อุปกรณ์เดิมต้องมีหลักฐานการได้มาซึ่งทรัพย์สิน ไม่ว่าจะเป็นใบเสร็จรับเงิน ใบกำกับภาษี ใบส่งสินค้า ใบแจ้งหนี้ สัญญาซื้อขายโอนกรรมสิทธิ์ในทรัพย์สิน บัญชีทรัพย์สิน หรือเอกสารอื่นใดในทำนองเดียวกัน และทรัพย์สินประเภทอุปกรณ์ที่มีผลต่อการประหยัดพลังงานที่นำมาปรับเปลี่ยน ต้องเป็นการได้มาโดยมีค่าตอบแทน และพร้อมใช้งานได้ภายใ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C53-0212-4F7F-A3E0-B4752016F22F}" type="slidenum">
              <a:t>2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ซื้อที่เป็นรายจ่ายได้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9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ป็นรายจ่ายต้องห้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ที่ชำระ ตามแบบ 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ภาษีมูลค่าเพิ่มพึงชำระ ณ วันสิ้นรอบระยะเวลาบัญช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ของบริษัทหรือห้างหุ้นส่วนนิติบุคคลที่เป็นผู้ประกอบการจดทะเบียนมีสิทธินำไปเครดิตหักออกจากภาษีข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ป็นรายจ่าย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ต้องห้ามนำมาหักในการคำนวณ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-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สำหรับค่ารับรอบหรือบริ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อื่นตามที่กำหนดโดย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ซื้อที่ต้องห้ามนำมาหักในการคำนวณภาษีมูลค่า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2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กรมสรรพากร เกี่ยวกับภาษีมูลค่าเพิ่ม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B15-AFB4-45D7-A4EB-30A9106F1A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กาศอธิบดีกรมสรรพากร </a:t>
            </a:r>
            <a:br>
              <a:rPr sz="3200"/>
            </a:b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กี่ยวกับภาษีเงินได้ 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1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45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– </a:t>
            </a:r>
            <a:r>
              <a:rPr b="1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่อ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ทรัพย์สินประเภทเดียวกันกับทรัพย์สินประเภทอุปกรณ์เดิมก่อนมีการปรับเปลี่ย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ประสงค์จะขอรับสิทธิยกเว้นภาษีเงินได้ สำหรับเงินได้ที่จ่ายเป็นค่าใช้จ่ายเพื่อการได้มาซึ่งทรัพย์สินประเภทอุปกรณ์ที่มีผลต่อการประหยัดพลังงาน ซึ่งเป็นการปรับเปลี่ยนแทนอุปกรณ์เดิม ต้องยื่นคำขอต่อกรมพัฒนาพลังงานทดแทนและอนุรักษ์พลังงานให้ตรวจสอบและได้รับหนังสือรับรองว่าเป็นอุปกรณ์ที่มีผลต่อการประหยัดพลังงานตามหลักเกณฑ์ที่กรมพัฒนาพลังงานทดแทนและอนุรักษ์พลังงานกำหน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ซึ่งได้รับสิทธิยกเว้นภาษีเงินได้นิติบุคคลดังกล่าว หากได้ขายทรัพย์สินดังกล่าวในปีใด ให้หมดสิทธิยกเว้นภาษีเงินได้นิติบุคคลตั้งแต่ปีที่ขายทรัพย์สินดังกล่าว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ที่จะขอรับสิทธิยกเว้นภาษีเงินได้ ต้องไม่ได้รับสิทธิประโยชน์หรืออยู่ระหว่างการพิจารณาขอรับสิทธิประโยชน์สนับสนุนจากส่วนราชการโดยตรงเพื่อการส่งเสริมการลงทุนด้านอนุรักษ์พลังงานโครงการอื่นใ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DB8-3D7C-48C7-8210-268940CA46F9}" type="slidenum">
              <a:t>2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18072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142560" y="1123560"/>
            <a:ext cx="8893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ได้ที่ได้จ่ายเพื่อการลงทุนหรือการต่อเดิมเปลี่ยนแปลง ขยายออก หรือทำให้ดีขึ้นซึ่งทรัพย์สิน แต่ไม่ใช่เป็นการซ่อมแซมให้คงสภาพเดิม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ให้แก่บริษัทจดทะเบียน เป็น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งินได้ที่ได้จ่ายไปนั้น โดยการดำเนินการดังกล่าวต้องเกี่ยวเนื่องกับธุรกิจหลักของกิจการและจัดทำเป็นโครงการที่มีมูลค่าตั้งแต่ห้าล้านบาทขึ้นไป ทั้งนี้ ตามหลักเกณฑ์ วิธีการ และเงื่อนไขที่อธิบดีกรมสรรพากรประกาศกำหนด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้องจ่ายภายในห้ารอบระยะเวลาบัญชีนับแต่รอบระยะเวลาบัญชีที่เริ่มในหรือหลั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 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6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EB9-29A8-4C63-AC30-F7B784CAEABE}" type="slidenum">
              <a:t>261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 ตามมาตรา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กี่ยวเนื่องกับธุรกิจหลักของกิจการ โดยมีแผนโครงการพร้อมที่จะให้เจ้าพนักงานประเมินตรวจสอบ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หลักของกิจ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ธุรกิจที่เกี่ยวเนื่องโดยตรงกับการผลิตสินค้าหรือการขายสินค้าหรือการให้บริการที่กิจการกระทำเป็นปกต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ครงกา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โครงการการลงทุนของบริษัทในทรัพย์สินที่เกี่ยวเนื่องกับการดำเนินธุรกิจหลักของกิจการ ไม่ว่าจะเป็นการลงทุนในทรัพย์สินใหม่ การต่อเติม เปลี่ยนแปลง ขยายออก หรือทำให้ดีขึ้นซึ่งทรัพย์สิน แต่ไม่ใช่เป็นการซ่อมแซมให้คงสภาพเดิม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โดยบริษัทต้องจัดทำเป็นแผนโครงการซึ่งได้รับอนุมัติแผนโครงการจากกรรมการผู้มีอำนาจของบริษั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7CB-2A45-44EA-9F1E-0AFF54685EE0}" type="slidenum">
              <a:t>2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เงินได้ที่ได้จ่ายเพื่อการได้มาซึ่งทรัพย์สินตามโครงการ และได้จัดทำเป็นโครงการที่มีมูลค่าตั้งแต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้านบาทขึ้นไป ในทรัพย์สินดังต่อไปนี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ครื่องจักร ส่วนประกอบ อุปกรณ์ เครื่องมือ เครื่องใช้ เครื่องตกแต่ง และเฟอร์นิเจอร์ บรรดาที่ใช้ในการดำเนินธุรกิจหลักของ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ปรแกรมคอมพิวเตอร์โดยการพัฒนาโปรแกรมคอมพิวเตอร์ หรือซื้อโปรแกรมหรือซื้อลิขสิทธิ์โปรแกรมคอมพิวเตอร์ มาใช้ในธุรกิจหลักของกิจการของบริษัท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านพาหนะที่จดทะเบียนในราชอาณาจักรที่ใช้ในการดำเนินธุรกิจหลักของกิจการ แต่ไม่รวมถึงรถยนต์นั่งหรือรถยนต์โดยสาร ที่มีที่นั่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ตามกฎหมายว่าด้วยพิกัดอัตราภาษีสรรพสามิตที่มิใช่ได้มาเพื่อนำออกให้เช่า ซึ่งเป็นธุรกิจหลักของ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ทรัพย์สินดังกล่าว ได้แก่ มูลค่าของต้นทุนเพื่อการได้มาซึ่งทรัพย์สินจนถึงวันที่ทรัพย์สินนั้นใช้การได้ตามประสงค์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C51-D59D-49D1-95B8-2388CCFE67D6}" type="slidenum">
              <a:t>2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ซึ่งมูลค่าของทรัพย์สินนั้นรวมเป็นมูลค่าของโครงการได้ ต้องเป็นไปตามหลักเกณฑ์ วิธีการ และเงื่อนไขดังต่อไปนี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เคยผ่านการใช้งานมาก่อ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สามารถหักค่าสึกหรอและค่าเสื่อมราคาของทรัพย์สิน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และต้องได้ทรัพย์สินนั้นมาและอยู่ในสภาพพร้อมที่จะใช้การได้ตามประสงค์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นับแต่รอบระยะเวลาบัญชีที่เริ่มในหรือหลัง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หักค่าสึกหรอและค่าเสื่อมราคาของทรัพย์สินนั้นเป็นระยะเวลาไม่น้อยกว่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ทรัพย์สินอยู่ในสภาพพร้อมที่จะใช้การได้ตามประสงค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อยู่ในราชอาณาจักร แต่ไม่รวมถึงกรณีทรัพย์สินประเภทยานพาหนะต้องเป็นทรัพย์สินที่ต้องจดทะเบียนตามกฎหมายว่าด้วยยานพาหนะนั้นๆ ในราชอาณาจักร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90E-C219-4B09-B440-52427FC8F825}" type="slidenum">
              <a:t>2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/>
          </p:nvPr>
        </p:nvSpPr>
        <p:spPr>
          <a:xfrm>
            <a:off x="179280" y="1773000"/>
            <a:ext cx="8785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ซึ่งมูลค่าของทรัพย์สินนั้นรวมเป็นมูลค่าของโครงการได้ ต้องเป็นไปตามหลักเกณฑ์ วิธีการ และเงื่อนไข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นำไปใช้ในกิจการที่ได้รับการส่งเสริมการลงทุน ซึ่งก่อให้เกิดรายได้ที่ได้รับยกเว้นภาษีเงินได้นิติบุคคลตามกฎหมายว่าด้วยการส่งเสริมการลงทุน ไม่ว่าทั้งหมดหรือบางส่ว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นำไปใช้ในกิจการ ซึ่งก่อให้เกิดรายได้ที่ได้รับยกเว้นภาษีเงินได้นิติบุคคลตามพระราชกฤษฎีกา ที่ออกตามความในประมวลรัษฎากร ไม่ว่าทั้งหมดหรือบางส่ว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11280" y="56372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กรมสรรพากร เกี่ยวกับภาษีเงิน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6) </a:t>
            </a: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1A4-D8DF-49D3-B7EE-01AFFCBB1A2F}" type="slidenum">
              <a:t>2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ไม่ใช่ทรัพย์สินในกรณีดังต่อไปนี้ ที่ได้รับสิทธิประโยชน์ทางภาษีที่เกี่ยว ข้องกับทรัพย์สิน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อันเกิดจากรายจ่ายที่ได้จ่ายไปเป็นค่าจ้างเพื่อการวิจัยและพัฒนาเทคโนโลยี ซึ่งใช้สิทธิประโยชน์ทางภาษีตามมาตรการส่งเสริมการวิจัยและพัฒนาเทคโนโลยี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ือลำใหม่ที่ซื้อทดแทนเรือลำเก่าซึ่งใช้สิทธิประโยชน์ทางภาษีตามมาตรการภาษีเพื่อส่งเสริมกิจการพาณิชยนาวี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ุปกรณ์ประหยัดพลังงานที่ซื้อทดแทนอุปกรณ์เดิมซึ่งใช้สิทธิประโยชน์ทางภาษีตามมาตรการภาษีเพื่อสนับสนุนการเพิ่มประสิทธิภาพการใช้พลังงาน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เครื่องจักรที่ใช้ในการประกอบกิจการที่ซื้อทดแทนเครื่องจักรเก่าที่ใช้ในการประกอบกิจการซึ่งใช้สิทธิประโยชน์ทางภาษีตามมาตรการขายเครื่องจักรเก่าเพื่อซื้อเครื่องจักรใหม่ทดแทนตาม 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9BF-2E70-4C42-8E85-9BE7C0B7EFBB}" type="slidenum">
              <a:t>2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และเงือนไข เกี่ยวกับเงินได้ที่ได้จ่ายเพื่อการลงทุนตามมาตรา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ษัทมีสิทธิยกเว้นภาษีเงินได้นิติบุคคลเป็นจำนวน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งินได้ที่ได้จ่ายซึ่งเป็นมูลค่าของโครงการที่กำหนด และเป็นเงินได้ที่จ่ายไปจริง โดยบริษัทได้จ่ายเงินได้ดังกล่าวไปในรอบระยะเวลาบัญชีใด ให้มีสิทธิยกเว้นภาษีเงินได้ในรอบระยะเวลาบัญชีนั้น และต้องมีหลักฐานการจ่ายเงินที่ได้จ่ายในรอบระยะเวลาบัญชีนั้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บริษัทได้ใช้สิทธิยกเว้นภาษีเงินได้นิติบุคคลในรอบระยะเวลาบัญชีใดแล้ว และต่อมาได้ปฏิบัติไม่เป็นไปตามหลักเกณฑ์ วิธีการ และเงื่อนไขที่กำหนด บริษัทไม่มีสิทธิได้รับยกเว้นภาษีเงินได้นิติบุคคล บริษัทต้องนำเงินได้ที่ใช้สิทธิยกเว้นภาษีเงินได้นิติบุคคลไปแล้ว ไปรวมเป็นรายได้ในการคำนวณกำไรสุทธิเพื่อเสียภาษีเงินได้นิติบุคคลและกรณีที่บริษัทยื่นแบบแสดงรายการภาษีเงินได้นิติบุคคลเพิ่มเติมเพื่อเสียภาษีเงินได้นิติบุคคลเพิ่มเติมของรอบระยะเวลาบัญชีที่ได้ใช้สิทธิยกเว้นภาษีเงินได้นิติบุคคลนั้น บริษัทต้องรับผิดเสียเงินเพิ่ม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3DF-442E-484D-9A91-48D3F838B5BD}" type="slidenum">
              <a:t>2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32544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เงินได้ที่ได้รับจากการขายทรัพย์สินประเภทเครื่องจักรที่ใช้ในการประกอบกิจการเพื่อซื้อเครื่องจักรใหม่ทดแทน โดยจะต้องไม่นำมูลค่าต้นทุนส่วนที่เหลือของเครื่องจักรที่ขายมาหักเป็นรายจ่ายในการคำนวณภาษีเงินได้ของบริษัทหรือห้างหุ้นส่วนนิติบุคคล ทั้งนี้ เฉพาะการขายที่ได้กระทำในระหว่า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ันวาคม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5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ามหลักเกณฑ์ วิธีการ และเงื่อนไขที่อธิบดีกรมสรรพากรประกาศกำหน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 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6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9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D3C-93B1-45CB-B2A3-6A24CA169F21}" type="slidenum">
              <a:t>268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 และเงื่อนไขการยกเว้นภาษีเงินได้นิติบุคคลสำหรับเงินได้จากการขายเครื่องจักรเพื่อซื้อเครื่องจักรใหม่ทดแทนตามม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เครื่องจักรที่ใช้ในการประกอบกิจการที่ขายต้องมีหลักฐานการได้มาซึ่งทรัพย์สิน ไม่ว่าจะเป็นใบเสร็จรับเงิน ใบกำกับภาษี ใบส่งสินค้า ใบแจ้งหนี้ สัญญาซื้อขายโอนกรรมสิทธิ์ในทรัพย์สิน บัญชีทรัพย์สิน หรือเอกสารอื่นใดในทำนองเดียวกัน โดยเครื่องจักรใหม่ที่ซื้อทดแทนต้องเป็นทรัพย์สินประเภทเดียวกันกับทรัพย์สินประเภทเครื่องจักรที่ใช้ในการประกอบกิจการที่ขาย ซึ่งมีวัตถุประสงค์เพื่อเพิ่มกำลังการผลิตหรือการให้บริการที่ดีขึ้น หรือเพื่อเพิ่มประสิทธิภาพในการผลิตหรือการให้บริการของกิจการ และต้องเป็นเครื่องจักรที่ไม่เคยผ่านการใช้งานมาก่อ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66560" y="54450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กรมสรรพากร เกี่ยวกับภาษีเงินได้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6) </a:t>
            </a: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32C-D5BE-471E-BBE9-41841ED9FFF4}" type="slidenum">
              <a:t>2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85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ารกำหนดเปรียบเทียบแต่เพียงสถานเดีย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การลดเงินเพิ่มอากรแสตมป์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ฎกระทรวง ฉบับที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ไม่มีการใช้บังคับเนื่องจากมี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ทับซ้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 อำนาจตรวจค้น ยึด อายัด บัญชีและเอกสารหลักฐาน 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 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 อำนาจสั่งให้แปลเอกสารเป็นภาษาไทย 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ผู้ตรวจสอบและรับรองบัญช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B19-E753-48B0-ADB2-F7BA5F1AB7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874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 และเงื่อนไขการยกเว้นภาษีเงินได้นิติบุคคลสำหรับการขายเครื่องจักรเพื่อซื้อเครื่องจักรใหม่ทดแทนตามม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549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บริษัทหรือห้างหุ้นส่วนนิติบุคคลขายทรัพย์สินประเภทเครื่องจักรที่ใช้ในการประกอบกิจการก่อนซื้อเครื่องจักรใหม่ทดแทน บริษัทหรือห้างหุ้นส่วนนิติบุคคลนั้นต้องซื้อเครื่องจักรใหม่ทดแทนภายในระยะเวลา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ขายทรัพย์สินประเภทเครื่องจักรที่ใช้ในการประกอบกิจการ หรือในกรณีที่บริษัทหรือห้างหุ้นส่วนนิติบุคคลซื้อทรัพย์สินประเภทเครื่องจักรใหม่ทดแทนก่อนขายทรัพย์สินประเภทเครื่องจักรที่ใช้ในการประกอบกิจการ บริษัทหรือห้างหุ้นส่วนนิติบุคคลนั้นต้องขายทรัพย์สินประเภทเครื่องจักรที่ใช้ในการประกอบกิจการภายในระยะเวลา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นับแต่วันที่ได้ซื้อทรัพย์สินประเภทเครื่องจักรใหม่ทดแท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97B-3867-4698-B341-C0AAA00EC82F}" type="slidenum">
              <a:t>2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44000" y="115920"/>
            <a:ext cx="8820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 วิธีการ และเงื่อนไขการยกเว้นภาษีเงินได้นิติบุคคลสำหรับการขายเครื่องจักรเพื่อซื้อเครื่องจักรใหม่ทดแทนตามม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ห่ง พรฎ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60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32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549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ประเภทเครื่องจักรที่ใช้ในการประกอบกิจการที่ขายเพื่อซื้อเครื่องจักรใหม่ทดแทน ต้องไม่ใช่ทรัพย์สินในกรณีดังต่อไปนี้ ที่ได้รับสิทธิประโยชน์ทางภาษีที่เกี่ยวข้องกับทรัพย์สิน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ที่นำไปใช้ในกิจการที่ได้รับการส่งเสริมการลงทุนซึ่งก่อให้เกิดรายได้ที่ได้รับยกเว้นภาษีเงินได้นิติบุคคลตามกฎหมายว่าด้วยการส่งเสริมการลงทุน ไม่ว่าทั้งหมดหรือบางส่วน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ที่นำไปใช้ในกิจการซึ่งก่อให้เกิดรายได้ที่ได้รับยกเว้นภาษีเงินได้นิติบุคคลตามพระราชกฤษฎีกา ที่ออกตามความในประมวลรัษฎากร ไม่ว่าทั้งหมดหรือบางส่วน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อันเกิดจากรายจ่ายที่ได้จ่ายไปเป็นค่าจ้างเพื่อการวิจัยและพัฒนาเทคโนโลยี ซึ่งใช้สิทธิประโยชน์ทางภาษีตามมาตรการส่งเสริมการวิจัยและพัฒนาเทคโนโลยีตาม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9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ุปกรณ์ประหยัดพลังงานที่ซื้อทดแทนอุปกรณ์เดิมซึ่งใช้สิทธิประโยชน์ทางภาษีตามมาตรการภาษีเพื่อสนับสนุนการเพิ่มประสิทธิภาพการใช้พลังงานตามพรฎ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3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A2B-A8E5-477B-A874-F49C8A276E2E}" type="slidenum">
              <a:t>2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841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79280" y="128376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ขาดทุนสุทธิยกมา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อบระยะเวลาบัญชี 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2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ค่าขนส่งภายในประเทศ ค่าไฟฟ้า และค่าประปา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สำหรับผู้ได้รับส่งเสริมการลงทุนในเขต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เงื่อนไข วิธีการ และระยะเวลาที่คณะกรรม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I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จ่ายในการติดตั้งหรือก่อสร้างสิ่งอำนวยความสะดวก เช่น ระบบไฟฟ้า ถนน ระบบสาธารณูปโภคอื่น 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สำหรับผู้ได้รับส่งเสริมการลงทุนในเขต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ที่คณะกรรม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I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907-8148-4639-BEC1-1A35F98FAF79}" type="slidenum">
              <a:t>272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รายจ่ายที่หักได้เพิ่มขึ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28600" y="119664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จ้างลูกจ้างคนพ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อการมีลูกจ้าง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ขึ้นไป หรือเศษขอ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ถึ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 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ตาม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ฟื้นฟูสมรรถภาพคนพ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่าใช้จ่ายในการจัดอุปกรณ์อำนวยความสะดวกโดยตรงแก่คนพิการในอาคาร สถานที่ ยานพาหนะ หรือบริการสาธารณะอื่นๆ จำน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%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รายจ่ายดังกล่าว ตามพร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ฟื้นฟูสมรรถภาพคนพิ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7E0-D0D6-4790-A7F8-C95D663F27B1}" type="slidenum">
              <a:t>273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684360" y="995400"/>
            <a:ext cx="7632720" cy="510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5ED-3595-499B-9740-9BF5E8B9F0C7}" type="slidenum">
              <a:t>2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ลขาดทุนสุทธิยกมาไม่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915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ผลขาดทุนสุทธิทางภาษีอากร ซึ่งได้ปรับปรุงให้เป็นไปตามเงื่อนไขแห่งประมวลรัษฎากรแล้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ลขาดทุนสุทธิดังกล่าว ต้องเป็นผลขาดทุนสุทธิของรอบระยะ เวลาบัญชีที่นับย้อนหลังขึ้นไป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 ก่อนรอบระยะเวลาบัญชีปีปัจจุบั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ผลขาดทุนสุทธิไปถือเป็นรายจ่าย ให้นำผลขาดทุนสุทธิของรอบระยะเวลาบัญชีที่เกิดขึ้นก่อน ไปหักเป็นรายจ่ายในการคำนวณกำไรสุทธิของรอบระยะเวลาบัญชีที่มีกำไรสุทธิเป็นปีแรกในช่วงเวลาไม่เก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หลังจากปีที่มีผลขาดทุนสุทธิดังกล่าว ตาม</a:t>
            </a:r>
            <a:r>
              <a:rPr b="1" lang="th-TH" sz="2800" spc="-1" strike="noStrike" u="sng">
                <a:solidFill>
                  <a:srgbClr val="ffff00"/>
                </a:solidFill>
                <a:uFillTx/>
                <a:latin typeface="Microsoft Sans Serif"/>
                <a:cs typeface="Microsoft Sans Serif"/>
              </a:rPr>
              <a:t>หลักผลขาดทุนเกิดขึ้นก่อนให้นำมาหักก่อ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Firs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loss, Firs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us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ยังมีผลขาดทุนสุทธิเหลืออยู่ ก็ให้นำผลขาดทุนสุทธิดังกล่าวไปหักเป็นรายจ่ายในการคำนวณกำไรสุทธิของรอบระยะเวลาบัญชีปีต่อไป ตามหลักเกณฑ์ข้าง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058-6EB0-4339-96F3-60FADF51D8AB}" type="slidenum">
              <a:t>275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ลขาดทุนสุทธิยกมาไม่เกิ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28240" y="1268280"/>
            <a:ext cx="8591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นำผลขาดทุนสุทธิยกมาถือเป็นรายจ่าย ให้นำมาหักเป็นรายจ่ายได้เพียงเท่าที่ไม่เกินกว่ากำไรสุทธิของรอบระยะเวลาบัญชีนั้นเท่าน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896-20F0-4816-9828-153CA086CC98}" type="slidenum">
              <a:t>27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611280" y="419040"/>
            <a:ext cx="8064360" cy="596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DC0-5AE2-48CA-AFDE-05E562CF0A88}" type="slidenum">
              <a:t>2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" descr=""/>
          <p:cNvPicPr/>
          <p:nvPr/>
        </p:nvPicPr>
        <p:blipFill>
          <a:blip r:embed="rId1"/>
          <a:stretch/>
        </p:blipFill>
        <p:spPr>
          <a:xfrm>
            <a:off x="539640" y="1487520"/>
            <a:ext cx="7993080" cy="331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9E7-6AFC-4DD8-95A6-2E77B85F501C}" type="slidenum">
              <a:t>2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468360" y="385920"/>
            <a:ext cx="8209080" cy="6211800"/>
          </a:xfrm>
          <a:prstGeom prst="rect">
            <a:avLst/>
          </a:prstGeom>
          <a:ln w="0">
            <a:noFill/>
          </a:ln>
        </p:spPr>
      </p:pic>
      <p:grpSp>
        <p:nvGrpSpPr>
          <p:cNvPr id="1422" name=""/>
          <p:cNvGrpSpPr/>
          <p:nvPr/>
        </p:nvGrpSpPr>
        <p:grpSpPr>
          <a:xfrm>
            <a:off x="1454040" y="981000"/>
            <a:ext cx="7367760" cy="5839920"/>
            <a:chOff x="1454040" y="981000"/>
            <a:chExt cx="7367760" cy="5839920"/>
          </a:xfrm>
        </p:grpSpPr>
        <p:sp>
          <p:nvSpPr>
            <p:cNvPr id="1423" name=""/>
            <p:cNvSpPr/>
            <p:nvPr/>
          </p:nvSpPr>
          <p:spPr>
            <a:xfrm>
              <a:off x="2771640" y="1222200"/>
              <a:ext cx="6050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1 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มกราคม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0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   31         </a:t>
              </a:r>
              <a:r>
                <a:rPr b="1" i="1" lang="th-TH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ธันวาคม 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4" name=""/>
            <p:cNvGrpSpPr/>
            <p:nvPr/>
          </p:nvGrpSpPr>
          <p:grpSpPr>
            <a:xfrm>
              <a:off x="1454040" y="981000"/>
              <a:ext cx="6575400" cy="5839920"/>
              <a:chOff x="1454040" y="981000"/>
              <a:chExt cx="6575400" cy="5839920"/>
            </a:xfrm>
          </p:grpSpPr>
          <p:grpSp>
            <p:nvGrpSpPr>
              <p:cNvPr id="1425" name=""/>
              <p:cNvGrpSpPr/>
              <p:nvPr/>
            </p:nvGrpSpPr>
            <p:grpSpPr>
              <a:xfrm>
                <a:off x="1454040" y="2301480"/>
                <a:ext cx="164880" cy="190800"/>
                <a:chOff x="1454040" y="2301480"/>
                <a:chExt cx="164880" cy="19080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1454040" y="243792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V="1">
                  <a:off x="1519920" y="230148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1454040" y="2950920"/>
                <a:ext cx="164880" cy="190800"/>
                <a:chOff x="1454040" y="2950920"/>
                <a:chExt cx="164880" cy="19080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1454040" y="308736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>
                  <a:off x="1519920" y="295092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1454040" y="3644640"/>
                <a:ext cx="164880" cy="190800"/>
                <a:chOff x="1454040" y="3644640"/>
                <a:chExt cx="164880" cy="19080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1454040" y="378108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V="1">
                  <a:off x="1519920" y="364464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1454040" y="4292280"/>
                <a:ext cx="164880" cy="190800"/>
                <a:chOff x="1454040" y="4292280"/>
                <a:chExt cx="164880" cy="19080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1454040" y="442872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V="1">
                  <a:off x="1519920" y="429228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1454040" y="4750920"/>
                <a:ext cx="164880" cy="190800"/>
                <a:chOff x="1454040" y="4750920"/>
                <a:chExt cx="164880" cy="19080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1454040" y="4887360"/>
                  <a:ext cx="65880" cy="5436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V="1">
                  <a:off x="1519920" y="4750920"/>
                  <a:ext cx="99000" cy="190440"/>
                </a:xfrm>
                <a:prstGeom prst="line">
                  <a:avLst/>
                </a:prstGeom>
                <a:ln w="38160">
                  <a:solidFill>
                    <a:srgbClr val="0000a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0" name=""/>
              <p:cNvSpPr/>
              <p:nvPr/>
            </p:nvSpPr>
            <p:spPr>
              <a:xfrm>
                <a:off x="3727440" y="981000"/>
                <a:ext cx="266400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hi-IN" sz="20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บริษัท  เจริญกิจ  จำกัด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92360" y="5589720"/>
                <a:ext cx="633708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24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เจริญ                                                                          ส้มจี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นายเจริญ  ชมภูนุช                                                          นางส้มจีน  ชมภูนุช  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กรรมการ</a:t>
                </a:r>
                <a:r>
                  <a:rPr b="1" i="1" lang="en-US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                                             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กรรมการ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                        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30  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cs typeface="Browallia New"/>
                  </a:rPr>
                  <a:t>มีนาคม              </a:t>
                </a:r>
                <a:r>
                  <a:rPr b="1" i="1" lang="th-TH" sz="1600" spc="-1" strike="noStrike">
                    <a:solidFill>
                      <a:srgbClr val="0000a8"/>
                    </a:solidFill>
                    <a:latin typeface="Browallia New"/>
                    <a:ea typeface="Browallia New"/>
                  </a:rPr>
                  <a:t>255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E59-5F62-46CB-A190-728B4C58EC6C}" type="slidenum">
              <a:t>2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8000" y="1483920"/>
            <a:ext cx="9036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 อำนาจในการขยายกำหนดเวลาตามประมวลรัษฎากร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าทศ การมีและใช้เลขประจำตัวผู้เสียภาษีอากร ดู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าทศ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ภาษีเงินได้บุคคลธรรมดาและภาษีเงินได้นิติบุคคลหัก ณ ที่จ่าย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ตุทศ เกี่ยวกับการจ่ายเงินได้ที่ต้องหัก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2D1-2DAE-448A-8EF9-E49B782D9A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4896000"/>
          </a:xfrm>
          <a:prstGeom prst="rect">
            <a:avLst/>
          </a:prstGeom>
          <a:ln w="0">
            <a:noFill/>
          </a:ln>
        </p:spPr>
      </p:pic>
      <p:grpSp>
        <p:nvGrpSpPr>
          <p:cNvPr id="1443" name=""/>
          <p:cNvGrpSpPr/>
          <p:nvPr/>
        </p:nvGrpSpPr>
        <p:grpSpPr>
          <a:xfrm>
            <a:off x="1332000" y="1738440"/>
            <a:ext cx="7335720" cy="2392560"/>
            <a:chOff x="1332000" y="1738440"/>
            <a:chExt cx="7335720" cy="2392560"/>
          </a:xfrm>
        </p:grpSpPr>
        <p:sp>
          <p:nvSpPr>
            <p:cNvPr id="1444" name=""/>
            <p:cNvSpPr/>
            <p:nvPr/>
          </p:nvSpPr>
          <p:spPr>
            <a:xfrm>
              <a:off x="3846600" y="326232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นายศักดิ์  เรืองสิน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97360" y="297324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ศักดิ์  เรืองสิน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125960" y="1738440"/>
              <a:ext cx="454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ข้าพเจ้าได้ทดสอบรายการข้างต้นแล้วเห็นว่าถูกต้อง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32000" y="2025720"/>
              <a:ext cx="4181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i-IN" sz="2000" spc="-1" strike="noStrike">
                  <a:solidFill>
                    <a:srgbClr val="0000a8"/>
                  </a:solidFill>
                  <a:latin typeface="Arial"/>
                </a:rPr>
                <a:t>เป็น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ความจริงตามที่รายงานทุกประการ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225960" y="3549600"/>
              <a:ext cx="28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31          </a:t>
              </a:r>
              <a:r>
                <a:rPr b="1" i="1" lang="hi-IN" sz="2000" spc="-1" strike="noStrike">
                  <a:solidFill>
                    <a:srgbClr val="0000a8"/>
                  </a:solidFill>
                  <a:latin typeface="Browallia New"/>
                  <a:cs typeface="Browallia New"/>
                </a:rPr>
                <a:t>มีนาคม           </a:t>
              </a:r>
              <a:r>
                <a:rPr b="1" i="1" lang="en-US" sz="2000" spc="-1" strike="noStrike">
                  <a:solidFill>
                    <a:srgbClr val="0000a8"/>
                  </a:solidFill>
                  <a:latin typeface="Browallia New"/>
                  <a:ea typeface="Browallia New"/>
                </a:rPr>
                <a:t>255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C0C-A5DC-4AE7-9DF7-554A98002315}" type="slidenum">
              <a:t>2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2411280" y="2708280"/>
            <a:ext cx="424836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สวัสดี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2BC9-5189-4018-81F9-CB6B1E583AE2}" type="slidenum">
              <a:t>2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ตถุประสงค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ที่มุ่งจะขจัดการฟ้องร้องดำเนินคดี อาญาแก่ผู้กระทำความผิดตามประมวลรัษฎากรเกี่ยวกับหน้าที่ที่ต้องปฏิบัติในทา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เพื่อมิให้คดีความรกโรงรกศาลและสร้างหลักการประนีประนอมยอมความ อันจะช่วยประหยัดค่าใช้จ่ายทั้งทางฝายผู้เสีย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บเขตอำนาจหน้าที่ในการเปรียบเทียบกำหนดค่าปร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ความผิดที่มีโทษปรับสถานเดียว หรือมีโทษปรับและหรือจำคุกไม่เกินหกเดือ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ระทำความผิดในเขตกรุงเทพมหาน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อำนาจของอธิบดี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ระทำความผิดในเขตจังหวัด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อำนาจของผู้ว่าราชการจังหวัดในเขตจังหวัด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7680" y="95400"/>
            <a:ext cx="71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การเปรียบเทียบโด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ค่าปรับแต่เพียงสถานเดีย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6693-7E71-46D3-A672-4312440F53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งค์การของรัฐบา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การของรัฐบาลตามกฎหมายว่าด้วยการจัดตั้งองค์การของรัฐบาล อาทิ กระทรวง ทบวง กรม และจังหวั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รัฐตามกฎหมายที่จัดตั้งขึ้น เช่น เทศบาล กรุงเทพมหานคร เมืองพัทยา องค์การบริหารราชการส่วนจังหวัด องค์การบริหารราชการส่วนตำบล และรัฐวิสาหกิจที่มิใช่บริษัทหรือห้างหุ้นส่วนนิติบุคคล เป็นต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ธุรกิจที่รัฐบาลเป็นเจ้าของที่ไม่มีฐานะเป็นนิติบุคคล เช่น องค์การค้าของคุรุสภา โรงงานยาสูบ กระทรวงการคลัง สรรพากรสาส์น โรงพิมพ์ส่วนท้องถิ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7DD-158E-4856-A40F-49076792669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บเขตอำนาจหน้าที่ในการเปรียบเทียบกำหนดค่าปร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ความผิดที่มีโทษปรับหรือโทษจำคุก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แต่ไม่เกินหนึ่งป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ทั้งปรับทั้งจำ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โทษจำคุก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แต่ไม่เกินหนึ่งป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อำนาจของคณะกรรมการ ซึ่งประกอบด้วยอธิบดี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ผู้ที่ได้รับมอบ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กรมการปกครอ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ผู้ที่ได้รับมอบหม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อธิบดีกรมตำรว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ผู้ที่ได้รับมอบห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ต้องหาใช้ค่าปรับตามที่เปรียบเทีย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ระยะเวลาที่ผู้มีอำนาจเปรียบเทียบกำหนด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อันคุ้มผู้ต้องหามิให้ถูกฟ้องร้องต่อไปในกรณีแห่งความผิดนั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7680" y="95400"/>
            <a:ext cx="71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การเปรียบเทียบโด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ค่าปรับแต่เพียงสถานเดีย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0E72-D5D8-412D-A0DA-DE39CFA366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ดังต่อไป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ดำเนินการฟ้องร้องต่อ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มีอำนาจเปรียบเทียบเห็นว่าไม่ควรใช้อำนาจเปรียบ เทีย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เปรียบเทียบ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ต้องหาไม่ยอมตามที่เปรียบเทียบหร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อมแล้วแต่ไม่ชำระค่าปรับภายในระยะเวลาที่ผู้มีอำนาจเปรียบเทียบ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มิให้ดำเนินการเปรียบเทียบตามกฎหมายอื่นอี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67680" y="95400"/>
            <a:ext cx="71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การเปรียบเทียบโด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ค่าปรับแต่เพียงสถานเดีย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C32A-AD68-42FF-AC70-F38A8BE4FA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จะต้องเสียเงินเพิ่มภาษีอากรตามบทบัญญัติแห่งประมวลรัษฎากร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ุคคลนั้นยินยอม และชำระเงินเพิ่ม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ที่กำหนดในกฎกระทรวง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ถือว่าเป็นอันคุ้มบุคคลนั้นมิให้ต้องรับผิดเสียเงินเพิ่ม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ทั่ว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ด้วยการลดเงินเพิ่มอากรแสตมป์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 รมต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การกระทรวงการคลังได้ออกกฎกระทรวง ฉบับที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1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กตามความในประมวลรัษฎากร ว่าด้วยอากรแสตมป์และอากรมหรส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3640" y="237960"/>
            <a:ext cx="86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รี การลดเงินเพิ่มอากรแสตมป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86B8-FEBE-483C-8711-E44CABCE84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23920" y="237960"/>
            <a:ext cx="31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จัตว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การชำระภาษีอากร ณ ที่ว่าการอำเภ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ำนาจรัฐมนตรีว่าการกระทรวงการคลังที่จะกำหนดให้ไปเสีย ณ สำนักงานแห่งอื่น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กฎหมายทั่วไป เมื่อเทียบกับบทบัญญัติกฎหมายพิเศษ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ให้อำนาจอธิบดีกรม สรรพากรที่จะกำหนดให้ไปเสีย ณ สำนักงานแห่งอื่นก็ได้ ดังนั้น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จึงไม่มีผลใช้บังคับ ตามหลัก “กฎหมายพิเศษใช้บังคับก่อนหรือยกเว้นกฎหมายทั่วไป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ED98-0FBB-44A0-A852-E7B1793770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1280" y="165240"/>
            <a:ext cx="69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บญจ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นว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50560" y="1052280"/>
            <a:ext cx="8713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มีเหตุอันควรเชื่อว่ามีการหลีกเลี่ยงการเสีย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ธิบดีมีอำนาจเข้าไปหรือออกคำสั่งเป็นหนังสือให้เจ้าพนักงานสรรพากรเข้าไปในสถานที่หรือยานพาหนะใดเพื่อทำการตรวจค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ึดหรืออายั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หลักฐานอื่นที่เกี่ยวก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สันนิษฐานว่าเกี่ยวกับภาษีอากรที่จะต้องเสียได้ทั่วราชอาณา จั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จังหวัดอื่นนอกจากกรุงเทพมหานค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ว่าราชการจังหวัดหรือสรรพากรเขตมีอำนาจเช่นเดียวกับอธิบดีสำหรับในเขตท้องที่จังหวัดหรือเขตนั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ค้น ยึด อายัด บัญชีและเอกสารหลักฐานต้องกระทำในระหว่างเวลาพระอาทิตย์ขึ้นถึงพระอาทิตย์ตก หรือในระหว่างเวลาทำการของผู้ประกอบกิจการนั้น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ระเบียบการตรวจสอบ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26AD-F4A4-47F2-BEEE-3EC395C98C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1840" y="1386000"/>
            <a:ext cx="86612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ดรู้อยู่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อำนวยความสะดว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ขัดขวางเจ้าพนักงานผู้กระทำตามหน้าที่ตามความใ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ผิดต้องระวางโทษปรับไม่เกินห้าพัน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ทั้งปรับทั้งจ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9600" y="268200"/>
            <a:ext cx="69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บญจ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นว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D695-2D69-4EBE-BCEB-72B9D7AC9B0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1840" y="1197000"/>
            <a:ext cx="87328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รดาบัญช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สารและหลักฐานต่างๆ ซึ่งเกี่ยวกับหรือสันนิษฐานว่าเกี่ยวกับภาษีอากรที่จะต้องเสีย ถ้าทำเป็นภาษา ต่างประเ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นักงานเจ้าหน้าที่จะสั่งให้บุคคลใดที่มีหน้าที่รับผิดชอบจัดการแปลเป็นภาษาไทยให้เสร็จภายในเวลาที่สมควรก็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ดไม่ปฏิบัติตามคำสั่งของเจ้าพนักงาน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นักงานเจ้าที่ตามความใ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ผิดต้องระวางโทษปรับไม่เกินห้าพันบา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4400" y="195120"/>
            <a:ext cx="59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ฉ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B81D-55D7-4C09-B197-C0D10A5D4C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769480" y="165240"/>
            <a:ext cx="30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ัต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แห่งการจัดเก็บภาษีอากรตาม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รับรองบัญชี จะกระทำได้ก็แต่โดยบุคคลที่ได้รับอนุญาตจากอธิบด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จะขอใบอนุญาตจากอธิบดีตามความในวรรคก่อนต้องเป็นผู้มีคุณสมบัต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ฏิบัติตามระเบียบที่อธิบดีกำหนดโดยอนุมัติรัฐมนตร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ได้รับใบอนุญาตดังกล่าว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ฝ่าฝืนระเบียบที่อธิบดี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อาจพิจารณาสั่งถอนใบอนุญาตเสียก็ได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แห่งมาตรานี้จะใช้บังคับในเขตจังหวัดใ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ธิบดีประกาศโดยอนุมัติรัฐมนตรี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46E9-3166-4DAB-A341-7F82D68809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03040" y="123840"/>
            <a:ext cx="306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ัต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ในการจัดเก็บภาษีเงินได้นิติบุคคลจากฐานกำไ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ุทธิ ซึ่งกำหนดให้บริษัทหรือห้างฯ นิติบุคคลจัดทำ และแน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บดุล บัญชีทำการ และบัญชีกำไรขาดทุนไปพร้อมกับแบ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บดุลดังกล่าวต้องผ่านการตรวจส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รับร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บุคคลที่ได้รับผู้สอบบัญชีอนุญาตหรือผู้สอบบัญช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สอบบัญชีอนุญาตหรือผู้สอบบัญชีภาษีอากรต้องมีคุณสมบัต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ฏิบัติตามระเบียบที่อธิบดีกำหนดโดยอนุมัติรัฐมนตร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สั่งกรมสรรพากรที่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98/2544,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22/254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23/254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สอบบัญชีอนุญาตหรือผู้สอบบัญชีภาษีอากรฝ่าฝืนระเบีย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อธิบดี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อาจพิจารณาสั่งถอนใบอนุญาตเสียก็ได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61D3-E006-40BA-82E2-A032BD9ECD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ยายกำหนดเวลา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ฏฐ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197000"/>
          <a:ext cx="8785440" cy="5322960"/>
        </p:xfrm>
        <a:graphic>
          <a:graphicData uri="http://schemas.openxmlformats.org/drawingml/2006/table">
            <a:tbl>
              <a:tblPr/>
              <a:tblGrid>
                <a:gridCol w="2521080"/>
                <a:gridCol w="3095640"/>
                <a:gridCol w="316872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ว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ร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ว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้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ป็นอำนาจขอ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ธิบดีกรมสรรพ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มต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่าการกระทรวงคลั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หนดเวลาที่มีอำนาจขย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ยื่น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แจ้งราย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อุทธรณ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ารเสียภาษ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ุกกรณีตามประมวลรัษฎาก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ูลเหตุในการขยายกำหนดเวล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ต้องปฏิบัติมิได้อยู่ในประเทศไท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เหตุจำเป็น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ูลเหตุใด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ลของการขยายกำหนดเวล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ค่าปรับอาญา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เบี้ยป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เพิ่ม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,89/1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ลดลงกึ่งหนึ่ง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หลือ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0.75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ม่มีเงิน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=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นิรโทษกรรมทางภาษีอากร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Tax Amnesty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0A5-4D38-4AC2-89B0-261F228B34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ทศไทยหรือราชอาณาจั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่า “ประเทศไทย” หรือ “ราชอาณาจักร” ปรากฏในประมวลรัษฎากรมาตราใดบ้า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บทบัญญัติที่เป็นหลักการจัดเก็บภาษีแต่ละประเภ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2200" y="3141720"/>
          <a:ext cx="8642160" cy="3106440"/>
        </p:xfrm>
        <a:graphic>
          <a:graphicData uri="http://schemas.openxmlformats.org/drawingml/2006/table">
            <a:tbl>
              <a:tblPr/>
              <a:tblGrid>
                <a:gridCol w="4938480"/>
                <a:gridCol w="3703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ภาษีอาก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กการจัดเก็บเป็นไปตา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เพิ่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7/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ธุรกิจเฉพา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ากรแสตมป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A78-4A7F-486C-B71B-BE5D958CA6A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ขยายกำหนดเวลา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อัฏฐ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9280" y="1197000"/>
          <a:ext cx="8785440" cy="2820960"/>
        </p:xfrm>
        <a:graphic>
          <a:graphicData uri="http://schemas.openxmlformats.org/drawingml/2006/table">
            <a:tbl>
              <a:tblPr/>
              <a:tblGrid>
                <a:gridCol w="2521080"/>
                <a:gridCol w="3095640"/>
                <a:gridCol w="31687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ว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ร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ฏฐ ว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้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ลของการขยายกำหนดเวล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่อ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ยายเวลาการออกหมายเรียกฯ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,2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ยายเวลาการขอคืนภาษีตาม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ขยายเวลาการผ่อนชำระ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PIT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ช่นเดียวกั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4A3-596B-49D1-9DB1-B3D36DFD6E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4000" y="189000"/>
            <a:ext cx="84596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อกาทศ 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าทศ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52360" y="1196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า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ในการจัดเก็บภาษีอากรตาม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มีอำนาจกำหนดให้ผู้มีหน้าที่เสีย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จ่ายเงินได้มีและใช้เลขประจำตั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ารปฏิบัติการตามประมวลรัษฎากรก็ได้ตามหลักเกณฑ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วิธีการที่อธิบดี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อนุมัติรัฐมนตร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ตามวรรคหนึ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ประกาศในราชกิจจานุเบกษ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ประกาศอธิบดีกรมสรรพากร ลง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ุลาค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า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ใดฝ่าฝืนหรือไม่ปฏิบัติตามประกาศที่ออกตามความใ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าท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ผิดต้องระวางโทษปรับไม่เกินสองพั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4998-7B79-4A5D-A3BE-5E3C21B815C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1224000"/>
            <a:ext cx="91440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0880" y="1219320"/>
            <a:ext cx="4191120" cy="5333760"/>
          </a:xfrm>
          <a:prstGeom prst="line">
            <a:avLst/>
          </a:prstGeom>
          <a:ln w="38160">
            <a:solidFill>
              <a:srgbClr val="f7a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219320"/>
            <a:ext cx="4191120" cy="5333760"/>
          </a:xfrm>
          <a:prstGeom prst="line">
            <a:avLst/>
          </a:prstGeom>
          <a:ln w="38160">
            <a:solidFill>
              <a:srgbClr val="f7a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553080"/>
            <a:ext cx="8381880" cy="0"/>
          </a:xfrm>
          <a:prstGeom prst="line">
            <a:avLst/>
          </a:prstGeom>
          <a:ln w="38160">
            <a:solidFill>
              <a:srgbClr val="f7a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980720" y="2457360"/>
            <a:ext cx="2590920" cy="3429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457360"/>
            <a:ext cx="2666880" cy="3429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5886360"/>
            <a:ext cx="52578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6267600"/>
            <a:ext cx="6934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143000" y="1847520"/>
            <a:ext cx="3429000" cy="44197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847880"/>
            <a:ext cx="3505320" cy="44197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1467000"/>
            <a:ext cx="380880" cy="533160"/>
          </a:xfrm>
          <a:prstGeom prst="line">
            <a:avLst/>
          </a:prstGeom>
          <a:ln w="38160">
            <a:solidFill>
              <a:srgbClr val="f7ad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152800"/>
            <a:ext cx="533160" cy="7617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028840" y="2152800"/>
            <a:ext cx="685800" cy="8380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23440" y="249120"/>
            <a:ext cx="43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WT.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 ม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ตร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88960" y="1065240"/>
            <a:ext cx="21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7adf0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7adf0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7adf0"/>
                </a:solidFill>
                <a:latin typeface="Microsoft Sans Serif"/>
                <a:cs typeface="Microsoft Sans Serif"/>
              </a:rPr>
              <a:t>เตร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0" y="1655640"/>
            <a:ext cx="352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9933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1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9933"/>
                </a:solidFill>
                <a:latin typeface="Microsoft Sans Serif"/>
                <a:cs typeface="Microsoft Sans Serif"/>
              </a:rPr>
              <a:t>แก้ไขโดย ฉบับที่ </a:t>
            </a: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229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234 </a:t>
            </a:r>
            <a:r>
              <a:rPr b="0" lang="hi-IN" sz="2800" spc="-1" strike="noStrike">
                <a:solidFill>
                  <a:srgbClr val="ff9933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9933"/>
                </a:solidFill>
                <a:latin typeface="Microsoft Sans Serif"/>
                <a:ea typeface="Microsoft Sans Serif"/>
              </a:rPr>
              <a:t>23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20240" y="1295280"/>
            <a:ext cx="37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คำสั่งกรมสรรพากรที่ ท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4/2528 (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แก้ไขโดย ท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101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2544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,104/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25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en-US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00ffff"/>
                </a:solidFill>
                <a:latin typeface="Microsoft Sans Serif"/>
                <a:ea typeface="Microsoft Sans Serif"/>
              </a:rPr>
              <a:t>111/25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309-F9E1-4C83-9A28-FAB7390D8A1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WT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รณีที่กฎหมายบัญญัติโดยชัดแจ้งเกี่ยวก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จ่าย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เงินได้ที่ต้องหัก ณ ที่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เงินได้ที่ต้องถูกหัก ณ ที่จ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 วิธีการ และเงื่อนไขในการคำนวณภาษีเงินได้หั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ที่จ่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เป็นกรณีที่กฎหมายบัญญัติให้อำนาจอธิบดีกรมสรรพากรในอันทีจะกำหนดให้ผู้จ่ายเงินได้ที่ไม่มีหน้าที่ต้อง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ผู้มีหน้าที่หัก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 วิธีการ เงื่อนไข และอัตราที่กำหนดโดยกฎกระทรว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014-AF8B-4AFF-A898-5B6F249138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184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WT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5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280" y="1324080"/>
          <a:ext cx="8856720" cy="4763880"/>
        </p:xfrm>
        <a:graphic>
          <a:graphicData uri="http://schemas.openxmlformats.org/drawingml/2006/table">
            <a:tbl>
              <a:tblPr/>
              <a:tblGrid>
                <a:gridCol w="2664000"/>
                <a:gridCol w="3097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ร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8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กฎหมาย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มีหน้าทีหัก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มี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เงินได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วิธีการคำนวณ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แบบนำส่ง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W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พิเศ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ภาครัฐและภาคเอกช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ั้งที่เป็นผู้อยู่ในไทย และมิได้เป็นผู้อยู่ในไท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(1) – (8)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ีทั้งส่วนที่ยุ่งยาก และส่วนที่คำนวณเป็นอัตราร้อยละของเงินได้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, 2, 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ฎหมายทั่วไป ใช้บังค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ลัง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ติมเต็ม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0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คเอกชน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ส่วนใหญ่เป็นผู้อยู่ในไท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าม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0(5) – (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คำนวณเป็นอัตราร้อยละของเงินได้ทั้งหม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ง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371-1E42-4704-BF30-EB833A20AD9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920" y="18900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ความเบื้องต้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–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 เป็นบทบัญญัติเกี่ยวกับใบผ่า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Clearanc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 การให้ดอกเบี้ยแก่ผู้ได้รับคืนภาษีอากร ดู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BC3-96E5-4A60-99CA-B48707290A8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050920" y="44280"/>
            <a:ext cx="453708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836640"/>
            <a:ext cx="8820360" cy="66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ัฐมนตรีว่าการกระทรวงการคลังรักษาการตามประมว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 เพื่อให้ทราบว่ากฎหมายภาษีอากรฉบับนี้ อยู่ในอำนา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และการควบคุมของกระทรวงการคลั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ฐมนตรีว่าการกระทรวงการคลังมีอำนาจดังนี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งตั้งเจ้าพนักงานประเมินและเจ้าพนักงานอื่น โด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ในราชกิจจานุเบกษ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 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ประกาศกระทรวงการ คลัง ว่าด้วยการแต่งตั้งเจ้าพนักงาน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กฎกระทรวง โดยประกาศใน ร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หรือยกเลิกอากรแสตมป์ฯ แต่ต้องให้เวลาล่วง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ไม่น้อยกว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กฎกระทรวง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กิจการอื่นเพื่อปฏิบัติการตาม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*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ทุกฉบับที่ออกตามความใน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72396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อาศัยอำนาจ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7B33-942F-41E7-8703-3AD68BDFA14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4360" y="189000"/>
            <a:ext cx="777528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กระทรวงที่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ลักษณะแสตมป์ปิดทั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สี่เหลี่ยมผืนผ้าขนา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x 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ภา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“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พระอุเท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ทราธิราชทรงพิ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อยู่ในวงกลม ส่วนบนมีอักษรว่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ตมป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ส่วนล่างแสดงราคาอากรแสตมป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ีน้ำเงินอ่อ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ีหมากสุ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ีเขีย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ีส้มแก่ทับสีเหลื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การชำระเงินเพิ่มอากรที่ถือว่าเป็นอันคุ้มบุคคลมิให้ต้องรับผิดเสียเงินเพิ่มอากร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หรือการลดเงินเพิ่ม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B53F-FFD8-4DB9-9990-6034E68EFB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349800" y="189000"/>
            <a:ext cx="2374560" cy="23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2877120" y="262260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314172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มีลักษณะเป็นสี่เหลี่ยมผืนผ้า ขนาดกว้า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าว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ภาพพระอุเทนทราธิราชดีดพิณอยู่ในวงกลม ส่วน บนมีอักษรว่า “อากรแสตมป์” ส่วนล่างแสดงราคาอากรแสตมป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สีน้ำเงินอ่อ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สีหมากสุ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สีเขีย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นิดราค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สีส้มแก่ทับสีเหลื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B48-E488-40E3-87CB-DCA82C7A4FD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4360" y="189000"/>
            <a:ext cx="7775280" cy="9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กระทรวงที่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อื่น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79280" y="1339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2 (17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รายการเงินได้ที่รับยกเว้นไม่ต้องนำมารวมคำนวณเพื่อเสียภาษีเงินได้บุคคลธรรมด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ำหนดให้สินค้ายาสูบเป็นสินค้าที่โรงงานยาสูบ ต้องเสียภาษีเงินได้ทุกทอดแทนผู้ขายสินค้าที่เป็นผู้มีหน้าที่เสียภาษีเงินได้บุคคลธรรมด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กำหนดกิจการที่ผู้ประกอบการไม่ต้องจัดทำและเก็บต้นขั้วหรือสำเนาใบรับตา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เกี่ยวกับค่ารับรองที่จะถือเป็นรายจ่ายในการคำนวณกำไรสุทธ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465A-BB87-4A8C-A35C-BF42198F837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549360"/>
            <a:ext cx="864072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ไท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ชอาณาจั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"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ภาคพื้นทวีปตามหลักกฎหมายระหว่างประเทศและส่วนที่เป็นเกาะ แก่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ไหล่ทวีปที่เป็นสิทธิของประเทศไทย ตามหลักกฎหมายระหว่างประเทศที่ยอมรับนับถือกันโดยทั่วไป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ล์ทะเ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ามความตกลงกับต่างประเทศด้ว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เศรษฐกิจจำเพา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ล์ทะเ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พื้นที่พัฒนาร่วมไทย – มาเลเซีย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ะราชบัญญัติองค์กรร่วมไทย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เลเซีย 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25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CA8-66C8-4D61-A5E8-0C05D97D0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4360" y="189000"/>
            <a:ext cx="7775280" cy="9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กระทรวงที่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อื่น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79280" y="133956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กำหนดหลักเกณฑ์ เงื่อนไข และอัตราการหักภาษีเงินได้ ณ ที่จ่าย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่วมกับ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กำหนด ให้สินค้ายาสูบเป็นสินค้าที่โรงงานยาสูบต้องเสียภาษีเงินได้ทุกทอดแทนผู้ขายสินค้าที่เป็นผู้มีหน้าที่เสียภาษีเงินได้นิติบุคค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เงื่อนไข การจ่ายเงินสมทบเข้ากองทุนสำรองเลี้ยงชีพ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6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65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9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เงื่อนไข การจำหน่ายหนี้สูญออกจากบัญชีลูกห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A064-CABF-41D1-A48B-AE21F3E1966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4360" y="189000"/>
            <a:ext cx="7775280" cy="9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ฎกระทรวงที่ออก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มาตราอื่น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79280" y="133992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77/1 (8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กรณีที่ถือว่าเป็นการข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9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78/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 เกณฑ์เกี่ยวกับความรับผิดในการเสียภาษีมูลค่าเพิ่มบางกรณ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6/5 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เงื่อนไขเกี่ยวกับการตั้งตัวแทนเพื่อรับชำระค่าสินค้าหรือค่าบริการ และออกใบกำกับภาษีแทนผู้ประกอบ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กระทรวง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ตามความใน 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2(17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รายการเงินได้ที่รับยกเว้นไม่ต้องนำมารวมคำนวณเพื่อเสียภาษีเงินได้บุคคลธรรมดาบางกรณ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6F73-E7F7-4EA3-9244-F4AAAB8BF35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89000"/>
            <a:ext cx="91440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ถึง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นว ใบผ่าน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ผ่า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Tax Clearance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ถึง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 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เป็นบทบัญญัติที่เป็นกฎหมายทั่ว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ับภาษีเงินได้บุคคลธรรมดา โดยเฉพาะคนต่างด้าวที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เดินทางออกจากประเทศไท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ปัจจุบันบทบัญญัติเกี่ยวกับใบผ่า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ผลใช้บังคับในวงจำกัด ตามประกาศอธิบดีกรมสรรพากร ลงวัน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ทั่วไปคนต่างด้าวผู้เดินทางออกนอกราชอาณาจักร ไม่ต้องขอรับใบผ่านภาษีอากร เว้นแต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ค้างชำระ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เป็นตัวแทนของบริษัทหรือห้างหุ้นส่วนนิ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ตาม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7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หรือ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77/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335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กแสดงสาธาร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CD5B-C01A-41EE-852D-01BF600EC7F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68360" y="189000"/>
            <a:ext cx="8351640" cy="67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เกี่ยวกับใบผ่าน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1840" y="1125360"/>
            <a:ext cx="873288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ต้องชำระภาษีอากรค้างให้ เสร็จสิ้นไปก่อนออกเดินทา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รับใบผ่าน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ไม่ต้องขอรับใบผ่านภาษี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ตามประกาศอธิบดีกรมสรรพากร ลงวัน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ะบวนการออกใบผ่านภาษี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อกใบผ่านภาษีฯ กรณีรีบด่วนและชั่วครา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ผู้ยื่นคำร้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หลักประก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หลักทรัพย์อยู่ในประเทศไทยพอคุ้มค่าภาษีอากรที่ค้างหรือที่จะต้องชำร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ผ่านภาษีอากรให้มีอายุใช้ได้สิบห้าวันนับแต่วันออ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ต่ออายุใบผ่านภาษีอากรก่อนสิ้นอายุ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ต่ออายุให้อีกสิบห้าวั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E19B-25E7-4353-AF15-992B5C51F37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189000"/>
            <a:ext cx="8351640" cy="67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เกณฑ์เกี่ยวกับใบผ่าน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1840" y="1125360"/>
            <a:ext cx="87328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ซึ่งมีความจำเป็นต้องเดินทางเข้าออกประเทศไทยเป็นปกติธุระเกี่ยวกับการประกอบอาชีพหรือวิชาชีพจะขอใบผ่านภาษีฯ ที่ออกให้ใช้เป็นประจำ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นต่างด้าวผู้ใดเดินทางออกจากประเทศไทยโดยไม่มีใบผ่า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พยายามกระทำการเช่นว่านั้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ระวางโทษปรับไม่เกินหนึ่งพันบาท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จำคุกไม่เกินหนึ่งเดือนหรือทั้งปรับทั้งจำ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7BFB-839E-4819-A2D9-0E55BDAFBF2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340000" y="260280"/>
            <a:ext cx="439272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1450800"/>
            <a:ext cx="87138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ศ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ธิบดีหรือผู้ซึ่งอธิบดีมอบหมายสั่งให้ดอกเบี้ยแก่ผู้ได้รับคืนเงิ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อัตราร้อยล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เดือนหรือเศษของเดือนของเงินภาษีอากรที่ได้รับคื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ไม่คิดทบต้น ทั้งนี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หลักเกณฑ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เงื่อนไขที่กำหนดโดยกฎกระทรว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ที่ให้ตามวรรคหนึ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ให้เกินกว่าจำนว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รับคืนและให้จ่ายจากเงินภาษีอากรที่จัดเก็บได้ตามประมว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ษฎากร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9B15-38AD-43E5-9786-3A059220141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50920" y="189000"/>
            <a:ext cx="871380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ให้ดอกเบี้ย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1279440"/>
            <a:ext cx="88408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ป็นการบรรเทาภาระความเสียหายและให้ประโยชน์ตอบแทนแก่ผู้ได้รับคืนเงินภาษีอากรที่ชำระภาษีอากรไว้เกินหรือไม่มีหน้าที่ต้องชำร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อำนวยให้เกิดความเป็นธรรมในการจัดเก็บ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คิดดอกเบี้ยที่จะให้แก่ผู้ได้รับคืนเงินภาษีอากรเป็นไปตามกฎกระทรว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6482-1EFF-4873-A9A5-0F30B6F4CC4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95280" y="187200"/>
            <a:ext cx="806436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ให้ดอกเบี้ย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50560" y="1052280"/>
            <a:ext cx="8497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ที่ถูกหักไว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คิดดอกเบี้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วันถัดจากวันครบกำหนดระยะเวลาสามเดือนนับแต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สิ้นกำหนดระยะเวลายื่นแบบแสดงรายการตามที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กำหน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ตามที่ได้รับการขยายหรือเลื่อนให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คืนเงินภาษีอากรต้องยื่นแบบแสดง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ี่ยวกับเง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ถูกหักไว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ยื่นคำร้องขอคืนเงิ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ผู้ได้รับคืนเงินภาษีอากรไม่ต้องยื่นแบบแสดง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กี่ยวกับเงินภาษีอากรที่ถูกหักไว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ชำระตามแบบแสดง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ว่าจะชำระพร้อมกับการยื่นหรือไม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คิดดอกเบี้ยตั้งแต่วันถัดจา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ครบระยะเวลาสามเดือ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บแต่วันยื่นคำร้องขอคืนเงิ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27EB-C528-4F32-A8A3-ACDB97C738E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11280" y="260280"/>
            <a:ext cx="806436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ให้ดอกเบี้ย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840" y="1214280"/>
            <a:ext cx="873288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ที่ชำระตามการประเมินของเจ้าพนัก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ตามคำสั่งของพนักงานเจ้าหน้าที่หรือคืนเงิ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ที่ชำระสำหรับสินค้าที่นำเข้าใน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ิดดอกเบี้ยตั้งแต่วันชำระ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ิดดอกเบี้ยตาม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ิดจนถึงวันที่ลงในหนังสือแจ้งคำสั่งคืนเง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สำหรับการคืนเงินภาษีมูลค่าเพิ่มที่กรมศุลกากรเรียกเก็บเพื่อกรม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ิดจนถึงวันอนุมัติให้คื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ที่ชำระตามการประเมินของเจ้าพนักงาน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หรือตามคำสั่งของพนักงานเจ้าหน้าที่หรือคืนเงินภาษี มูลค่าเพิ่มที่ชำระสำหรับสินค้าที่นำเข้าใน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คิดดอกเบี้ยตั้งแต่วันชำระ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15F1-CEFD-4E43-A7F2-512DB0F833D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1280" y="52560"/>
            <a:ext cx="806436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ให้ดอกเบี้ยตาม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1840" y="981000"/>
            <a:ext cx="8732880" cy="74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คืนเงินภาษีอากรที่ชำระตามการประเมินของเจ้าพนัก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ตามคำสั่งของพนักงานเจ้าหน้าที่หรือคืนเงิ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ที่ชำระสำหรับสินค้าที่นำเข้าในราชอาณาจั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ร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ิดดอกเบี้ยตั้งแต่วันชำระ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คิดให้ต่อเมื่อได้มีการยื่นแบบแสดงรายการหรือคำร้องขอคื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ภาษีอากรภายในกำหนดเวลาที่กฎหมายกำหนด หรือภายใน เวลาที่ได้รับการขย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ลื่อนให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ผู้ยื่นคำร้องต้องนำเอกสารหรือหลักฐานต่างๆ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ี่ยวข้องไปแสดงต่อเจ้าพนักงานเพื่อพิสูจน์ว่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เสียภาษีอากรเกินไปด้ว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ยื่นคำร้องขอคืนเงินภาษีอากรไม่นำเอกสารหรือหลักฐ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แสดงต่อเจ้าพนักงานภายในกำหนดเวลาที่เจ้าพนักงานสั่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ระงับการคิดดอกเบี้ยให้ในระหว่างเวลาที่ขยายให้จนถึงวันที่ได้ปฏิบัติตามคำสั่งของเจ้าพนัก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5ACD-6607-4D42-A1B1-2D2F3949B29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ไมล์ทะเล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วามเร็วของเรือหรือเครื่องบินคิดเป็น น๊อต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knots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รือ ไมล์ทะเลต่อชั่วโมง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autical miles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hour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่วนความเร็วบนบกคิดเป็น ไมล์ต่อช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miles per hour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mph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บางทีเขีย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m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h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รือ ก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/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ชม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m = 0.6213712 mile = 0.5399555 nautical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ล์ทะเล เท่ากับ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8532449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โลเมตร หรื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,076 fe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ที่มาของ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คือ เอาเส้นรอบวงโลกเฉลี่ย มาคิดเป็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6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งศ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ิปดาของเส้นรอบวงโลกเฉลี่ย ค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ัศมีโลกเฉลี่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378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โลเมตร เส้นรอบวงโลกจึงประมา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0074.156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โลเมตรหาร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6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ะกลายเป็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องศา หาร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จะกลายเป็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ิปดาจะได้คำตอบประมา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.855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โลเมต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บก 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tatute mile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ตามกฎหมาย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=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,76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หลา 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,280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ฟุต หรือ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.6093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โลเมต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106-1883-410E-9CAB-3DE472B6D4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00" y="115920"/>
            <a:ext cx="8496000" cy="8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1179360"/>
            <a:ext cx="869616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และบัญชีอัตราภาษีเงินได้ และบัญชีอัตรา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ใน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พิเศษเมื่อเทียบกับบทบัญญัติใน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่งเป็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ดังนี้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เบ็ดเสร็จทั่วไ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ณะกรรมการวินิจฉั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 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รว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D286-05A2-465C-B34E-FC9AD326285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และบัญชีอัตราภาษีเงิน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0/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บัญชีอัตราอากรแสตมป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63A-4FF7-4302-9AD9-74CAB678DF2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2920" y="115920"/>
            <a:ext cx="889308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94920" y="1197000"/>
            <a:ext cx="849780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เป็นบทบัญญัติที่เป็นกฎหมายทั่วไปของบทบัญญัติใน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ปวง ในขณะที่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ที่เป็นกฎหมายทั่วไปของ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CD6-7159-459E-8E34-B3BAA4727E6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657440" y="189000"/>
            <a:ext cx="57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669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เกี่ยวกับบทเบ็ดเสร็จทั่ว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หมว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1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เกี่ยวกับเรื่องทั่วๆ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ตามหลักกฎหมายทั่วไ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Jus Generale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บัญญัติให้นำไปใช้บังคับกับบทบัญญัติใ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ต่างๆ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กรมสรรพากรมีอำนาจหน้าที่และควบคุม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ภาษีอากรตามลักษณ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ับผิดทางภาษีอากรของห้างหุ้นส่วนสามัญ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คณะบุคคลที่มิใช่นิติบุคค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ลงลายมือชื่อในแบบแสดง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อกสารอื่น ซึ่งบริษัทหรือห้างหุ้นส่วนนิ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ต้องทำย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EB30-3F3B-4D87-8940-433A7548F8F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47640" y="71280"/>
            <a:ext cx="7740720" cy="83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981000"/>
            <a:ext cx="8785440" cy="52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9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ส่งหมายเรีย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ังสือแจ้งให้เสีย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หนังสือ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ทั่วไปในการคำนวณเงินตราต่า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ทศให้เป็นเงินตราไท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เกณฑ์ทั่วไปในการตีราคาทรัพย์สิน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โยชน์อื่นใดเป็นเง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เจ้าพนักงานนำเรื่องที่ทราบโดยหน้าที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ชการแจ้งแก่บุคคลอื่นโดยมิชอ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อธิบดีในการเปิดเผยรายละเอียดเกี่ยวกั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สีย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สอบบัญชี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1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กำหนดเกี่ยวกับสถานที่ชำระ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รับใบแทนใบเสร็จรับเงินค่า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A892-F4AC-4E68-8933-260D9227163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47640" y="0"/>
            <a:ext cx="7740720" cy="97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1077840"/>
            <a:ext cx="878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เกี่ยวกับภาษีอากรค้า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ารเร่งรั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ค้า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เกี่ยวกับภาษีอากรค้า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การเร่งรั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ค้าง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เกี่ยวกับอำนาจในการเร่งรัดภาษีอาก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้าง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เจ้าพนักงานฝ่าฝืนบท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8704-1871-46D7-99D0-DACE8FDC5F9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ลักษณะ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ฝ่ายสรรพ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พิเศษของลักษณ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ซึ่งบัญญัติไว้ใน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ี้ ให้อยู่ในอำนาจหน้าที่และการควบคุมของกรมสรรพากร ซึ่งแบ่งเป็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ได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, 7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มิใช่ภาษีอากรประเมิน ได้แก่ อากรแสตมป์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ผิดชอบทางภาษีอากรของคณะบุคคลที่มิใช่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ผู้อำนวยการหรือผู้จัด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F9B4-F7C7-4286-A977-E26D9043A11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5280"/>
            <a:ext cx="814716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ผิดชอบลงลายมือชื่อในรายการ รายงาน หรือเอกสารอื่นซึ่งบริษัทหรือห้างหุ้นส่วนจดทะเบียนเป็นนิติบุคคลต้องทำยื่นนั้น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 สำหรับบริษัทจำกั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ป็นหุ้นส่วนผู้จัดการ สำหรับห้างหุ้นส่วนนิติบุคคล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จัดการ สำหรับสาขาของบริษัทหรือห้างหุ้นส่วนนิต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่งที่ตั้งขึ้นตามกฎหมายไทยหรือที่ตั้งขึ้นตามกฎหมายขอ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างประเทศ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ยื่น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ลงลายมือชื่อคนเดียวและไม่มีตราประทับ ถือว่าแบบนั้นสมบูรณ์หรือ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ือว่าแบบนั้นสมบูรณ์ตามกฎห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66B-2BD6-44E6-8DD2-F600D087B28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075520" cy="92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520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ุปผู้ลงลายมือชื่อในรายการ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อกสารอื่น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บริษัทหรือห้างหุ้นส่วนนิติบุคคลต้องทำยื่น ตาม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520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50920" y="1628640"/>
          <a:ext cx="8785080" cy="3024360"/>
        </p:xfrm>
        <a:graphic>
          <a:graphicData uri="http://schemas.openxmlformats.org/drawingml/2006/table">
            <a:tbl>
              <a:tblPr/>
              <a:tblGrid>
                <a:gridCol w="5241960"/>
                <a:gridCol w="3543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ต้องทำยื่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ลงลายมือชื่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จำกัดที่ตั้งขึ้นตาม กม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ทย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้างหุ้นส่วนนิติบุคคล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ไทย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ร่วมค้า          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	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ริษัทหรือห้างฯ นิติบุคคล 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(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ปท</a:t>
                      </a:r>
                      <a:r>
                        <a:rPr b="0" lang="th-TH" sz="28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รรม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ุ้นส่วนผู้จัดการ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หุ้นส่วนผู้จัดกา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ผู้จัดการสาขาในไท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440-B9BA-4F7A-8CF7-CF2D9CD557C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78544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เอกสารอื่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บริษัท หรือห้างหุ้นส่วนนิ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ต้องทำยื่น ได้แก่ แบบแสดงรายการ แบบแจ้งข้อความ 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ท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นำส่งภาษีเงินได้หัก ณ ที่จ่า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กรณีภาษีเงินได้บุคคลธรรมดาและภาษีเงินได้นิติบุคค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, 2, 3, 53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9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53C-113F-4D80-A6B9-AB4CEF128B0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เขตต่อเนื่อง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36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ขตต่อเนื่องของประเทศไทย คือ เขตที่อยู่ถัดจากทะเลอาณาเขตของประเทศไทยออกไป  ยาว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ามอนุสัญญากรุงเจนีวา ว่าด้วยทะเลอาณาเขต และเขตต่อเนื่อง 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958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ด้กำหนดความกว้างของเขตต่อเนื่องไวว่า ต้อ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 ทะเลโดยวัดจากเส้นฐานซึ่งไช้วัดความกว้างของทะเลอาณาเขต แต่ตามอนุสัญญาสหประชาชาติว่าด้วยกฎหมายทะเล 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98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่า เขตต่อเนื่องมีความกว้า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โดยวัดจากเส้นฐานซึ่งใช้วัดความกว้างของทะเลอาณาเขต แต่ส่วนที่เป็นเขต ต่อเนื่องอย่างแท้จริงนั้นมีความกว้างเพียง 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เท่านั้นโดยวัดต่อจากขอบนอกสุดของทะเลอาณาเขตซึ่งมีความกว้า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โดยวัดจากเส้นฐ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ประเทศไทยได้ประกาศกำหนดเขตต่อเนื่อง เมื่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งหาคม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38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นราชกิจจานุเบกษา ตอน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9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ลง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9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สิงหาคม พ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538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ังนี้ เขตต่อเนื่องของราชอาณาจักรไทย คือ บริเวณที่อยู่ถัดจากทะเลอาณาเขตของราชอาณาจักรไทย โดยมีความกว้า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ัดจากเส้นฐานที่ใช้วัดความกว้างของทะเลอาณาเขต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ำหนดความกว้างของเขตต่อเนื่องไว้ว่าต้องต้อ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4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โดยวัดจากเส้นฐานที่ใช้วัดความกว้างของทะเลอาณาเขต โดยส่วนที่เป็นเขตต่อเนื่องอย่างแท้จริงนั้นจะมีความกว้างเพีย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เท่านั้น โดยวัดจากขอบนอกสุดของทะเลอาณาเขตซึ่งมีความกว้าง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2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โดยวัดจากเส้นฐาน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A89-A792-40D7-ACBA-0CECE5E769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ส่งหมายเรียก หนังสือแจ้งให้เสียภาษีอากร หรือหนังสืออื่นตามประมวลรัษฎากรม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โดยทางไปรษณีย์ลงทะเบียนตอบรับ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ไปตามกฎหมาย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ด้วยไปรษณีย์ รวมถึงการส่ง ณ ตู้ ป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งโดยเจ้าพนักงานนำไปส่ง ให้คำนึงถึงประเด็นต่อไป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ตามจ่าหน้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ที่ส่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ลาที่ส่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ไม่สามารถส่งตามวิธี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 ให้ส่งโดยวิธ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ิดหมาย หนังสือแจ้ง หรือหนังสืออื่นแล้วแต่กรณี ในที่ซึ่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ห็นได้ง่าย ณ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อยู่หรือสำนักงานของบุคคลนั้น 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้านที่บุคคลนั้นมีชื่ออยู่ในทะเบียนราษฎรครั้งสุดท้าย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371-32F3-44C3-9D6B-4585BE186F0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ส่งหมายเรียก หนังสือแจ้งให้เสียภาษีอากร หรือหนังสืออื่นตามประมวลรัษฎากรม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ในกรณีไม่สามารถส่งตามวิธี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 ให้ส่งโดยวิธีโฆษณ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อความย่อใน นส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จำหน่ายเป็นปกติในท้องที่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หมายฯ ทั้งสี่กรณีดังกล่าวเป็นกรณีที่กฎหมายให้ถือว่าเป็นอันได้รับแล้ว ตามหลัก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กฎหมายปิดปาก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ส่งหมายฯ โดยวิธีอื่น กระทำได้หรือไม่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C623-1ADB-4EC4-B14A-CF8C4641D04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4000" y="118728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ัญญัติไว้เป็นอย่างอื่น ถ้าจำเป็นต้องคำนวณเงินตราต่างประเทศเป็นเงินตราไทยเพื่อปฏิบัติการตามลักษณะนี้ ให้คิดตามอัตราแลกเปลี่ยนซึ่งกระทรวงการคลังประกาศเป็นคราว 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2852640"/>
            <a:ext cx="5400720" cy="703800"/>
          </a:xfrm>
          <a:prstGeom prst="rect">
            <a:avLst/>
          </a:prstGeom>
          <a:solidFill>
            <a:srgbClr val="010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ม่มีบัญญัติเป็นอื่นให้ใช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5673600"/>
            <a:ext cx="5400720" cy="1313640"/>
          </a:xfrm>
          <a:prstGeom prst="rect">
            <a:avLst/>
          </a:prstGeom>
          <a:solidFill>
            <a:srgbClr val="6636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8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ให้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</a:t>
            </a:r>
            <a:r>
              <a:rPr b="1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Actual Rate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OT Rate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ต้องปฏิบัติตามหลักความสม่ำเสมอ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Consisten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43480" y="3575160"/>
            <a:ext cx="28872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43480" y="544824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47600" y="3790800"/>
            <a:ext cx="5410440" cy="703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กรมสรรพากรประกาศกำหน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43480" y="451152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47600" y="4724280"/>
            <a:ext cx="5410440" cy="703800"/>
          </a:xfrm>
          <a:prstGeom prst="rect">
            <a:avLst/>
          </a:prstGeom>
          <a:solidFill>
            <a:srgbClr val="551b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</a:t>
            </a:r>
            <a:r>
              <a:rPr b="1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ของธนาคารแห่งประเทศไท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76560" y="3789360"/>
            <a:ext cx="149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78000" y="4743360"/>
            <a:ext cx="151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74400" y="5823000"/>
            <a:ext cx="14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3F7-6C41-413D-BFDB-DD8B48D08E9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32000" y="44280"/>
            <a:ext cx="27352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Exchange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200" y="728640"/>
            <a:ext cx="13860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381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่วไ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371600"/>
            <a:ext cx="2895480" cy="9169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ไม่มีบัญญัติเป็นอื่นให้ใช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ที่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ค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2480" y="2579760"/>
            <a:ext cx="3030480" cy="9169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ก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ลัง ลว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8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</a:t>
            </a:r>
            <a:r>
              <a:rPr b="1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อ้างอิ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Reference R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3809880"/>
            <a:ext cx="2971800" cy="916920"/>
          </a:xfrm>
          <a:prstGeom prst="rect">
            <a:avLst/>
          </a:prstGeom>
          <a:solidFill>
            <a:srgbClr val="551b3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Com. Bank Rat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BOT Rate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วันนั้น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onsis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3440" y="5002200"/>
            <a:ext cx="3173760" cy="1465560"/>
          </a:xfrm>
          <a:prstGeom prst="rect">
            <a:avLst/>
          </a:prstGeom>
          <a:solidFill>
            <a:srgbClr val="6636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บุคคลธรรมดา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เงินได้หัก ณ ที่จ่าย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เฉพาะ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แสตมป์ทุกกรณ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อกจากประเด็น ม</a:t>
            </a:r>
            <a:r>
              <a:rPr b="0" lang="th-TH" sz="1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79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237492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594240"/>
            <a:ext cx="2890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4800600"/>
            <a:ext cx="2890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14320" y="730080"/>
            <a:ext cx="15444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381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ม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1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เศ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08000" y="1447920"/>
            <a:ext cx="5328720" cy="2440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ตรา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,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 ที่เป็นเงินตราต่างประเทศ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คงเหลือในวันสุดท้ายของรอบบัญชี หรือ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ได้มาหรือจ่ายไปในระหว่างรอบระยะเวล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ที่เกิดเหตุการณ์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8)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นทุนสินค้าที่นำเข้าจากต่างประเทศ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38960" y="4044960"/>
            <a:ext cx="5247720" cy="143460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V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Export goods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อื่นจากต่างประเทศ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</a:t>
            </a:r>
            <a:r>
              <a:rPr b="0" lang="en-US" sz="2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Import goo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69228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126828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19640" y="692280"/>
            <a:ext cx="0" cy="590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44197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F32-8F96-4C60-BB78-3E31656D96B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้อสรุป การใช้อัตราแลกเปลี่ยนเพื่อการปฏิบัติการทางภาษีอากร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 – จ่ายเงินตราต่างประเทศที่ได้แลกเปลี่ยนเป็นเงินตราไทย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ตามอัตราแลกเปลี่ยนที่เกิดขึ้นจริง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ctual Rate: Commercial Bank Rate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อัตราแลกเปลี่ยนเพื่อการลงบัญชี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แห้ง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ใช้อัตราแลกเปลี่ยนตามมาตรา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E58-614C-45EB-ACED-582B8ED7E1A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7308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1123560"/>
            <a:ext cx="8964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ว้นแต่จะมีบทบัญญัติไว้เป็นอย่างอื่น ถ้าจะต้องตีราคาทรัพย์สินหรือประโยชน์อื่นใดเป็นเงิน ให้ถือราคาหรือค่าอันพึงม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คาตลา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วันที่ได้ทรัพย์สินหรือประโยชน์นั้น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กับ “เงินได้พึงประเมิน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ได้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5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ฐานภาษี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9/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รับ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ผู้ใดโดยหน้าที่ราชการ ได้รู้เรื่องกิจการของผู้เสียภาษีอากรหรือของผู้อื่นที่เกี่ยวข้อง จะนำออกแจ้งแก่ผู้ใด หรือยังให้ทราบกันไปโดยวิธีใดไม่ได้ เว้นแต่จะมีอำนาจที่จะทำได้โดยชอบด้วยกฎหมาย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ผู้ใดฝ่าฝืนบทบัญญัติ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ีความ ผิดต้องระวางโทษปรับ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หรือจำคุกไม่เก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ดือน หรือทั้งปรับทั้งจำ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ประกอ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E5D-2238-42C7-B11A-F52201386F9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90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ในการจัดเก็บภาษีอากร อธิบดีกรมสรรพากรมีอำนาจเปิดเผยรายละเอียดดังต่อไปนี้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ประกอบการจดทะเบียนภาษีมูลค่าเพิ่ม ฐานภาษีมูลค่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ิ่ม หรือจำนวนภาษีมูลค่าเพิ่มที่ถูกประเมินเพิ่มเติมขอ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นั้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เสียภาษีอากรและจำนวนภาษีอากรที่เสีย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สอบบัญชี และพฤติการณ์ของผู้สอบบัญชีเกี่ยวกับกา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และรับรองบัญชี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 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ามระเบียบที่รัฐมนตรีว่าการกระทรวงการคลังกำหน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ระเบียบกระทรวงการคลัง เรื่อง การเปิดเผยรายละเอียดเกี่ยวกับผู้เสีย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5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งวันท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25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A4F-7D47-4264-A6E4-2A9FDD8CEAC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จะมีบทบัญญัติหรืออธิบดีจะสั่งเป็นอย่างอื่น ให้นำเงินภาษีอากรไปเสีย ณ ที่ว่าการอำเภอ และการเสียภาษีอากรนั้น ให้ถือว่าเป็นการสมบูรณ์ เมื่อได้รับใบเสร็จรับเงินซึ่งนายอำเภอได้ลงลายมือชื่อรับเงินแล้ว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ทั่วไ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 ท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1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ถ้าผู้เสียภาษีอากรต้องการขอใบแทนใบเสร็จที่เจ้าพนักงาน ได้ออกให้ไปแล้ว ให้ขอรับได้ ณ ที่ว่าการอำเภอ โดยเสียค่าธรรมเนียมฉบับ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ตางค์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ค้าง” หมายถึง จำนวนภาษีอากรที่ผู้ต้องเสียหรือนำส่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ิได้ชำระให้ครบถ้วนตามแบบแสดงรายการที่ยื่น หรือ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ังสือแจ้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 เงินเพิ่ม ถือเป็น หนี้ภาษีอากรค้าง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9/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3E6-8C2C-46BC-A84D-6F9EB5CE3F7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การเร่งรัดหนี้ภาษีอากรค้า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ึด อายัด และขายทอดตลาดทรัพย์ส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อธิบดีกรมสรรพากรมีอำนาจสั่งยึดหรืออายัดและขายทอ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ลาดทรัพย์สินของผู้ต้องรับผิดเสียภาษีอากรหรือนำส่ง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ได้ทั่วราชอาณาจักร โดยมิต้องขอให้ศาลออกหมายยึดหร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่ง อำนาจดังกล่าวอธิบดีจะมอบให้รองอธิบดีหรือสรรพากรเขต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รรพากรภา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็ได้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จังหวัดอื่นนอกจากกรุงเทพมหานคร ให้ผู้ว่าราชการจังหวัดม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ช่นเดียวกับอธิบดีกรมสรรพากรภายในเขตท้องที่จังหวัด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ั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ยึดและขายทอดตลาดทรัพย์สิน ให้ปฏิบัติตามประมว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ฎหมายวิธีพิจารณาความแพ่งโดยอนุโล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DFA-B32A-48FA-8EFE-5390F439FA5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209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ร่งรัดหนี้ภาษีอากรค้าง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ึด อายัด และขายทอดตลาดทรัพย์สิน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อายัดให้ปฏิบัติตามระเบียบที่อธิบดีกำหนดโดย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นุมัติรัฐมนตร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ที่ได้จากการขายทอดตลาดดังกล่าว ให้หักค่า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รรมเนียม ค่าใช้จ่ายในการยึดและขายทอดตลาด และ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ภาษีอากรค้างถ้ามีเงินเหลือให้คืนแก่เจ้าของ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รัพย์สิ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ต้องรับผิดเสียภาษีอากรตามวรรคสอง ให้หมายความ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ถึงผู้เป็นหุ้นส่วนจำพวกไม่จำกัดความรับผิดในห้าง หุ้นส่วนนิติบุคคลด้วย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มาตรา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7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ประกอบ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4B2-9072-4E8C-A98C-227891CD6E9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เขตเศรษฐกิจจำเพาะ </a:t>
            </a:r>
            <a:br>
              <a:rPr sz="4000"/>
            </a:br>
            <a:r>
              <a:rPr b="0" lang="th-TH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Exclusive Economic Zone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EEZ</a:t>
            </a:r>
            <a:r>
              <a:rPr b="0" lang="th-TH" sz="3200" spc="-1" strike="noStrike">
                <a:solidFill>
                  <a:srgbClr val="ffff00"/>
                </a:solidFill>
                <a:latin typeface="Arial"/>
                <a:ea typeface="Microsoft Sans Serif"/>
              </a:rPr>
              <a:t>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856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ขตที่มีความกว้างไม่เกิ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00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ไมล์ทะเล วัดจากเส้นฐานซึ่งใช้วัดความกว้างของทะเลอาณาเขต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982 UNCLOS ,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้อ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7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รัฐชายฝั่งมีสิทธิแต่เพียงผู้เดียว อธิปไตยเหนือเขตนี้ในการสำรวจ แสวงหาประโยชน์ อนุรักษ์และจัดการทรัพยากรธรรมชาติทั้งที่มีชีวิตและไม่มีชีวิต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ของรัฐอื่นใ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EZ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ของรัฐชายฝั่ง รัฐอื่น ยังคงมีเสรีภายในเรื่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การเดินเรือ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of navigation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การบินผ่าน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of overflight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ในการวงสายเคเบิลและท่อใต้ทะเล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to lay submarine cables and pipelines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ในการวิจัยวิทยาศาสตร์ทางทะเล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of scientific research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เสรีภาพในการสร้างเกาะเทียมและสิ่งติดตั้งอื่น ๆ 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reedom to construct artificial islands and other installations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902-4A60-4CE9-B7F5-B729DC315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4920" y="144000"/>
            <a:ext cx="82090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856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ได้มีคำสั่งยึดหรืออายัด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 ห้ามผู้ใดทำลาย ย้ายไปเสีย ซ่อนเร้น หรือโอนไปให้แก่บุคคลอื่นซึ่งทรัพย์สินที่ถูกยึดหรืออายัดดังกล่าว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090-9167-497A-9C7B-64246010ADF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4920" y="144000"/>
            <a:ext cx="82090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บัญญัติใน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เบ็ดเสร็จทั่วไป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2360" y="1123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พื่อประโยชน์ในการดำเนินการ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มีอำนาจ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สรรพากรจังหวัดมีอำนาจ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หมายเรียกผู้ต้องรับผิดชำระภาษีอากรค้างและบุคค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ด ๆ ที่มีเหตุสมควรเชื่อว่าจะเป็นประโยชน์แก่การจัดเก็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ค้างมาให้ถ้อยค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่งบุคคลดังกล่าว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นำบัญชี เอกสาร หรือหลักฐา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ื่นอันจำเป็นแก่การจัดเก็บภาษีอากรค้างมาตรวจสอบ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อกคำสั่งเป็นหนังสือให้เจ้าพนักงานสรรพากรทำการตรว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้นหรือยึดบัญชีเอกสารหรือหลักฐานอื่นของบุคคลดังกล่าว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ดำเนินการต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ให้เวลาล่วงหน้าไม่น้อยกว่าเจ็ดวันนับแต่วันได้รับหมายเรียกหรือคำสั่ง การออกคำสั่งและทำการตา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ไปตามระเบียบที่อธิบดีกำหน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BDA-0445-43B5-9A1C-51F5162F9F9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ญัติขึ้นเพื่อให้มีหน่วยงานพิเศษในการวินิจฉัยบทบัญญัติแห่งประมวลรัษฎากร อันเป็นกฎหมายพิเศษที่ต้องมีผู้ทรงความรู้เกี่ยวกับประมวลรัษฎากรเป็นอย่างด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ด้วยบทบัญญัติตา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ถึง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ฎฐ 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คณะของคณะกรรมการวินิจฉั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รงคุณวุฒิอาจได้รับแต่งตั้งให้เป็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อี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พ้นจากวาร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ญ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ประชุ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FF3B-6147-4290-8BD6-1CBD60B2721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14600" indent="-251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ณะกรรมการเป็นเจ้าพนักงานตามประมวลกฎหมายอาญาเพื่อให้ได้มาซึ่งข้อมูลหลักฐ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14600" indent="-251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ัตต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ของคณะกรรมการวินิจฉัย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14600" indent="-251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ฏฐ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มผู้ทรงคุณวุฒิที่มีส่วนได้เสียเข้าร่วมประชุมหรือลงม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14600" indent="-251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BD43-8ABC-4283-BDC3-9D156E30D07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ทวิ องค์คณะ 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ลัดกระทรวงการคลั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ธานกรรม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กรมสรรพ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กรมศุลก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ธิบดีกรมสรรพสามิต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อำนวยการสำนักงานเศรษฐกิจการคลัง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าธิการคณะกรรมการกฤษฎีก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ทรงคุณวุฒิ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รัฐมนตรีแต่งตั้งเป็นกรรม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สามค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้าราชการสังกัดกระทรวงการคลั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ลขานุการ แล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5562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งตั้งโดยคณะกรรม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ช่วยเลขานุ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1E64-C1BF-468F-A67A-8CD5F7566B8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ัตต อำนาจของ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ขอบเขตในการใช้อำนาจของเจ้าพนักงานประเมินและพนักงานเจ้าหน้าที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ระยะเวลาในการตรวจสอบและประเมิน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นิจฉัยปัญหาเกี่ยวกับภาษีอากรที่กรมสรรพากรขอความเห็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ำปรึกษาหรือเสนอแนะแก่รัฐมนตรีในการจัดเก็บ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ตา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ได้รับความเห็นชอบจาก คร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ในราชกิจจานุเบกษาแล้ว ให้เจ้าพนักงานประเมินและพนักงานเจ้าหน้าที่ปฏิบัติตาม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7257-4CFC-402F-913E-C085FD88734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117360"/>
            <a:ext cx="9144000" cy="129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ัตต อำนาจของ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คณะกรรมการวินิจฉั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ขอบเขตในการใช้อำนาจของเจ้าพนักงานประเมินและพนักงานเจ้าหน้าที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หลักเกณฑ์ วิธีการ และระยะเวลาในการตรวจสอบและประเมิน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นิจฉัยปัญหาเกี่ยวกับภาษีอากรที่กรมสรรพากรขอความเห็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ำปรึกษาหรือเสนอแนะแก่รัฐมนตรีในการจัดเก็บภาษีอาก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ำหนดตา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ื่อได้รับความเห็นชอบจาก ครม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ประกาศใน รจ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้ว ให้เจ้าพนักงานประเมินและพนักงานเจ้าหน้าที่ปฏิบัติตาม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ำวินิจฉัยของคณะกรรมการวินิจฉัยภาษีอากรตา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เป็นที่สุด และในกรณีที่มีการเปลี่ยนแปลงคำวินิจฉัยในภายหลัง คำวินิจฉัยเปลี่ยนแปลงนั้นมิให้มีผลใช้บังคับย้อนหลัง เว้นในกรณีที่มีคำพิพากษาอันถึงที่สุดมีผลเป็นการเปลี่ยนแปลงคำวินิจฉัย ก็ให้เจ้าพนักงานประเมินหรือพนักงานเจ้าหน้าที่มีอำนาจดำเนินการตามคำพิพากษาในส่วนที่เป็นโทษย้อนหลังได้เฉพาะบุคคลซึ่งเป็นคู่ความในคดีนั้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9B0B-B0B4-45E8-95DA-ECDE23D1F09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333360"/>
            <a:ext cx="914400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 ตั้งแต่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แบ่งเป็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 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อยู่ในส่วนใดๆ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และการเสีย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34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–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ว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บทบัญญัติเกี่ยวกับวิธีการบริหารการจัดเก็บ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 โดยกำหนดความหมายของภาษีอากรประเมินไว้ใ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หมายถึง ภาษีเงินได้ 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มูลค่าเพิ่ม 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ภาษีธุรกิจเฉพาะ ตาม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9CD5-AA9C-46EE-B691-C329E0BF444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115920"/>
            <a:ext cx="914400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กับ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ที่ถือเป็นหัวใจของหมวดนี้คือ 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กำหนดให้นำบทบัญญัติ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นเกี่ยวกับวิธีการบริหารการจัดเก็บภาษีอากรประเมิน ไปใช้กับภาษีอากรประเมินใ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ว้นแต่ในหมวดว่าด้วยภาษีอากรประเมินดังกล่าวจะมีบทบัญญัติวิธีการบริหารการจัดเก็บภาษีอากรไว้เป็นอย่างอื่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หมวด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โดยการยื่นรายการประเมินตนเ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และอำนาจเจ้าพนักงาน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อากร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ของผู้ต้องเสีย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5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การประเมินของเจ้าพนักงาน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6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7AA4-E8FA-480F-AEA7-94490A1691C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15920"/>
            <a:ext cx="9144000" cy="9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มวด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กับ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79280" y="1195560"/>
            <a:ext cx="8785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12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4 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มายของ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เกี่ยวกับวิธีการเกี่ยวแก่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6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C06B-2588-44B9-8B20-7A8F4EAA484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22600" y="981000"/>
            <a:ext cx="3894120" cy="5400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479760" y="149400"/>
            <a:ext cx="259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ระเทศไท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59720" y="56340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8777" y="15652"/>
                </a:moveTo>
                <a:lnTo>
                  <a:pt x="18777" y="1565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64000" y="5796000"/>
            <a:ext cx="627120" cy="581040"/>
          </a:xfrm>
          <a:custGeom>
            <a:avLst/>
            <a:gdLst/>
            <a:ahLst/>
            <a:rect l="l" t="t" r="r" b="b"/>
            <a:pathLst>
              <a:path w="1738" h="1614">
                <a:moveTo>
                  <a:pt x="13891" y="16545"/>
                </a:moveTo>
                <a:cubicBezTo>
                  <a:pt x="13873" y="16510"/>
                  <a:pt x="13880" y="16499"/>
                  <a:pt x="13866" y="16470"/>
                </a:cubicBezTo>
                <a:cubicBezTo>
                  <a:pt x="13850" y="16437"/>
                  <a:pt x="13834" y="16444"/>
                  <a:pt x="13816" y="16421"/>
                </a:cubicBezTo>
                <a:cubicBezTo>
                  <a:pt x="13797" y="16397"/>
                  <a:pt x="13812" y="16366"/>
                  <a:pt x="13791" y="16346"/>
                </a:cubicBezTo>
                <a:cubicBezTo>
                  <a:pt x="13777" y="16333"/>
                  <a:pt x="13755" y="16307"/>
                  <a:pt x="13742" y="16297"/>
                </a:cubicBezTo>
                <a:cubicBezTo>
                  <a:pt x="13722" y="16281"/>
                  <a:pt x="13709" y="16261"/>
                  <a:pt x="13692" y="16247"/>
                </a:cubicBezTo>
                <a:cubicBezTo>
                  <a:pt x="13674" y="16232"/>
                  <a:pt x="13636" y="16231"/>
                  <a:pt x="13618" y="16222"/>
                </a:cubicBezTo>
                <a:cubicBezTo>
                  <a:pt x="13600" y="16213"/>
                  <a:pt x="13567" y="16185"/>
                  <a:pt x="13543" y="16173"/>
                </a:cubicBezTo>
                <a:cubicBezTo>
                  <a:pt x="13508" y="16155"/>
                  <a:pt x="13498" y="16162"/>
                  <a:pt x="13469" y="16148"/>
                </a:cubicBezTo>
                <a:cubicBezTo>
                  <a:pt x="13443" y="16135"/>
                  <a:pt x="13415" y="16126"/>
                  <a:pt x="13395" y="16123"/>
                </a:cubicBezTo>
                <a:cubicBezTo>
                  <a:pt x="13357" y="16116"/>
                  <a:pt x="13298" y="16101"/>
                  <a:pt x="13271" y="16098"/>
                </a:cubicBezTo>
                <a:cubicBezTo>
                  <a:pt x="13165" y="16085"/>
                  <a:pt x="13013" y="16085"/>
                  <a:pt x="12923" y="16123"/>
                </a:cubicBezTo>
                <a:cubicBezTo>
                  <a:pt x="12889" y="16137"/>
                  <a:pt x="12884" y="16162"/>
                  <a:pt x="12849" y="16173"/>
                </a:cubicBezTo>
                <a:cubicBezTo>
                  <a:pt x="12812" y="16184"/>
                  <a:pt x="12790" y="16189"/>
                  <a:pt x="12774" y="16197"/>
                </a:cubicBezTo>
                <a:cubicBezTo>
                  <a:pt x="12742" y="16213"/>
                  <a:pt x="12748" y="16229"/>
                  <a:pt x="12725" y="16247"/>
                </a:cubicBezTo>
                <a:cubicBezTo>
                  <a:pt x="12696" y="16270"/>
                  <a:pt x="12695" y="16264"/>
                  <a:pt x="12675" y="16297"/>
                </a:cubicBezTo>
                <a:cubicBezTo>
                  <a:pt x="12659" y="16325"/>
                  <a:pt x="12643" y="16325"/>
                  <a:pt x="12626" y="16346"/>
                </a:cubicBezTo>
                <a:cubicBezTo>
                  <a:pt x="12608" y="16368"/>
                  <a:pt x="12597" y="16385"/>
                  <a:pt x="12576" y="16421"/>
                </a:cubicBezTo>
                <a:cubicBezTo>
                  <a:pt x="12558" y="16451"/>
                  <a:pt x="12564" y="16469"/>
                  <a:pt x="12551" y="16495"/>
                </a:cubicBezTo>
                <a:cubicBezTo>
                  <a:pt x="12542" y="16513"/>
                  <a:pt x="12514" y="16546"/>
                  <a:pt x="12502" y="16570"/>
                </a:cubicBezTo>
                <a:cubicBezTo>
                  <a:pt x="12492" y="16590"/>
                  <a:pt x="12458" y="16611"/>
                  <a:pt x="12452" y="16644"/>
                </a:cubicBezTo>
                <a:cubicBezTo>
                  <a:pt x="12446" y="16677"/>
                  <a:pt x="12433" y="16685"/>
                  <a:pt x="12427" y="16718"/>
                </a:cubicBezTo>
                <a:cubicBezTo>
                  <a:pt x="12418" y="16771"/>
                  <a:pt x="12407" y="16849"/>
                  <a:pt x="12402" y="16892"/>
                </a:cubicBezTo>
                <a:cubicBezTo>
                  <a:pt x="12389" y="16996"/>
                  <a:pt x="12400" y="17149"/>
                  <a:pt x="12427" y="17214"/>
                </a:cubicBezTo>
                <a:cubicBezTo>
                  <a:pt x="12444" y="17254"/>
                  <a:pt x="12436" y="17257"/>
                  <a:pt x="12452" y="17289"/>
                </a:cubicBezTo>
                <a:cubicBezTo>
                  <a:pt x="12467" y="17318"/>
                  <a:pt x="12456" y="17337"/>
                  <a:pt x="12477" y="17363"/>
                </a:cubicBezTo>
                <a:cubicBezTo>
                  <a:pt x="12485" y="17373"/>
                  <a:pt x="12516" y="17404"/>
                  <a:pt x="12526" y="17413"/>
                </a:cubicBezTo>
                <a:cubicBezTo>
                  <a:pt x="12540" y="17426"/>
                  <a:pt x="12563" y="17451"/>
                  <a:pt x="12576" y="17462"/>
                </a:cubicBezTo>
                <a:cubicBezTo>
                  <a:pt x="12600" y="17481"/>
                  <a:pt x="12630" y="17465"/>
                  <a:pt x="12650" y="17487"/>
                </a:cubicBezTo>
                <a:cubicBezTo>
                  <a:pt x="12673" y="17512"/>
                  <a:pt x="12667" y="17518"/>
                  <a:pt x="12700" y="17537"/>
                </a:cubicBezTo>
                <a:cubicBezTo>
                  <a:pt x="12720" y="17549"/>
                  <a:pt x="12752" y="17545"/>
                  <a:pt x="12774" y="17562"/>
                </a:cubicBezTo>
                <a:cubicBezTo>
                  <a:pt x="12792" y="17576"/>
                  <a:pt x="12815" y="17594"/>
                  <a:pt x="12849" y="17611"/>
                </a:cubicBezTo>
                <a:cubicBezTo>
                  <a:pt x="12879" y="17626"/>
                  <a:pt x="12886" y="17619"/>
                  <a:pt x="12923" y="17636"/>
                </a:cubicBezTo>
                <a:cubicBezTo>
                  <a:pt x="12955" y="17651"/>
                  <a:pt x="12989" y="17649"/>
                  <a:pt x="13022" y="17661"/>
                </a:cubicBezTo>
                <a:cubicBezTo>
                  <a:pt x="13055" y="17673"/>
                  <a:pt x="13089" y="17674"/>
                  <a:pt x="13122" y="17686"/>
                </a:cubicBezTo>
                <a:cubicBezTo>
                  <a:pt x="13157" y="17699"/>
                  <a:pt x="13170" y="17708"/>
                  <a:pt x="13196" y="17711"/>
                </a:cubicBezTo>
                <a:cubicBezTo>
                  <a:pt x="13276" y="17721"/>
                  <a:pt x="13346" y="17695"/>
                  <a:pt x="13419" y="17686"/>
                </a:cubicBezTo>
                <a:cubicBezTo>
                  <a:pt x="13486" y="17678"/>
                  <a:pt x="13535" y="17678"/>
                  <a:pt x="13593" y="17661"/>
                </a:cubicBezTo>
                <a:cubicBezTo>
                  <a:pt x="13635" y="17648"/>
                  <a:pt x="13676" y="17653"/>
                  <a:pt x="13717" y="17636"/>
                </a:cubicBezTo>
                <a:cubicBezTo>
                  <a:pt x="13731" y="17630"/>
                  <a:pt x="13769" y="17597"/>
                  <a:pt x="13791" y="17587"/>
                </a:cubicBezTo>
                <a:cubicBezTo>
                  <a:pt x="13831" y="17568"/>
                  <a:pt x="13844" y="17550"/>
                  <a:pt x="13866" y="17512"/>
                </a:cubicBezTo>
                <a:cubicBezTo>
                  <a:pt x="13886" y="17478"/>
                  <a:pt x="13898" y="17458"/>
                  <a:pt x="13915" y="17438"/>
                </a:cubicBezTo>
                <a:cubicBezTo>
                  <a:pt x="13950" y="17396"/>
                  <a:pt x="13980" y="17355"/>
                  <a:pt x="14015" y="17314"/>
                </a:cubicBezTo>
                <a:cubicBezTo>
                  <a:pt x="14052" y="17270"/>
                  <a:pt x="14044" y="17256"/>
                  <a:pt x="14064" y="17214"/>
                </a:cubicBezTo>
                <a:cubicBezTo>
                  <a:pt x="14082" y="17177"/>
                  <a:pt x="14106" y="17158"/>
                  <a:pt x="14114" y="17115"/>
                </a:cubicBezTo>
                <a:cubicBezTo>
                  <a:pt x="14125" y="17051"/>
                  <a:pt x="14135" y="16922"/>
                  <a:pt x="14139" y="16892"/>
                </a:cubicBezTo>
                <a:cubicBezTo>
                  <a:pt x="14151" y="16799"/>
                  <a:pt x="14121" y="16672"/>
                  <a:pt x="14114" y="16619"/>
                </a:cubicBezTo>
                <a:cubicBezTo>
                  <a:pt x="14107" y="16564"/>
                  <a:pt x="14109" y="16542"/>
                  <a:pt x="14089" y="16495"/>
                </a:cubicBezTo>
                <a:cubicBezTo>
                  <a:pt x="14075" y="16463"/>
                  <a:pt x="14054" y="16426"/>
                  <a:pt x="14039" y="16396"/>
                </a:cubicBezTo>
                <a:cubicBezTo>
                  <a:pt x="14014" y="16344"/>
                  <a:pt x="13999" y="16363"/>
                  <a:pt x="13965" y="16321"/>
                </a:cubicBezTo>
                <a:cubicBezTo>
                  <a:pt x="13930" y="16278"/>
                  <a:pt x="13932" y="16283"/>
                  <a:pt x="13891" y="16247"/>
                </a:cubicBezTo>
                <a:cubicBezTo>
                  <a:pt x="13864" y="16223"/>
                  <a:pt x="13829" y="16183"/>
                  <a:pt x="13816" y="16173"/>
                </a:cubicBezTo>
                <a:cubicBezTo>
                  <a:pt x="13792" y="16156"/>
                  <a:pt x="13769" y="16167"/>
                  <a:pt x="13742" y="16148"/>
                </a:cubicBezTo>
                <a:cubicBezTo>
                  <a:pt x="13742" y="16123"/>
                  <a:pt x="13742" y="16115"/>
                  <a:pt x="13717" y="161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733-18F4-45D0-9EAA-11EFD5A84B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11592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รายการ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3840" y="1557360"/>
            <a:ext cx="891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รายการและชำระภาษี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บัญชีพิเศษ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ัญชีงบดุล หรือบัญชีอื่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รอกข้อความ การแสดงหรือแจ้งข้อคว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โยชน์ในการจัดเก็บ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ตามแบบแสดง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ก่อนถึงกำหนดเวลาการยื่นแบ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ดง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ชำระภาษีตามหนังสือแจ้งการประเมิ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ออกหมายเรียกกรณีผู้มีเงินได้ยื่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สดง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865B-E733-48BF-A071-0115CC3CBA5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11592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รายการ</a:t>
            </a:r>
            <a:br>
              <a:rPr sz="4400"/>
            </a:b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ภาษีอาก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3840" y="1557360"/>
            <a:ext cx="891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การประเมินและแจ้งการประเมินตามผลกา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วจสอบตามหมายเรียก กรณีให้ความร่วมมือ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ไต่สว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ประเมิน และ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จ้งการ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ผลการตรวจสอบตา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เรีย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มีเงินได้ไม่ให้ความร่วมมือใ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ไต่สว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2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ประเมินเบี้ยปร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ช้อำนา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ออกหมายเรียกกรณีผู้มีเงินได้มิได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แบบแสดงรา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E1AA-7911-456B-BDA8-22448678B49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11592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ยื่นรายการ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ละการเสียภาษีอาก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3840" y="1484280"/>
            <a:ext cx="891216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การประเมินและแจ้งการ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ผ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ตามหมายเรีย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มีเงินได้ให้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ร่วมมือในการตรวจสอบไต่สว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การประเมินและแจ้งการ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ผล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ตรวจสอบตามหมายเรียก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ผู้มีเงินได้ไม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ความร่วมมือในการตรวจสอบไต่สว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การประเมินเบี้ยปรับ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ใช้อำนาจ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มิน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เพิ่มเนื่องจากการชำระหรือการนำส่งภาษีล่าช้า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บี้ยปรับและเงินเพิ่มให้ถือเป็นเงิ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เงิน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ตว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ส่งหนังสือแจ้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แก่ผู้ขอคืนภาษ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DD5F-58DF-4947-A71C-303C38F9611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 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 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อุทธรณ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  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แบบการอุทธรณ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การประเมินที่อำเภอมีหน้าที่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ม่มีผลใช้บังคับแล้ว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การประเมินที่เจ้าพนักงานประเมิน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ผู้ประเม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ไม่เป็นการทุเลาการเสีย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ในการออกหมายเรียกของคณะกรรม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อุทธรณ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หมดสิทธิที่จะอุทธรณ์คำวินิจฉัยอุทธรณ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คำวินิจฉัยอุทธรณ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8A28-86A4-4BCE-ADED-1ADB81F942D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 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่วน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 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บทกำหนดโท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ฝ่าฝื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ฝ่าฝื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   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ฝ่าฝืน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9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หลีกเลี่ยงภาษีอาก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กรณีเจตนาละเลยไม่ยื่นรายการ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หลีกเลี่ยงหรือพยายามหลีกเลี่ยงการเสียภาษ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8D19-A43A-46B6-9984-DD3331C6685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4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85840" y="1341360"/>
            <a:ext cx="8750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ความหมายของภาษีอากรประเมินว่า หมายถึง 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ประเภทที่มีระบุไว้ในหมวดภาษีอากรนั้นๆ ว่าเป็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กรประเมิ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ภาษีอากรที่ในมาตราแรกของหมวดนั้นบัญญัติว่าเป็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ประเมิน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FC32-34B6-4113-818E-4F00C35BDBC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71640" y="189000"/>
            <a:ext cx="7272360" cy="10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มาตรา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5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ลักการเกี่ยวกับวิธีการเกี่ยวแก่ภาษีอากรประเมิ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1484280"/>
            <a:ext cx="8713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กฎหมายทั่วไปที่กำหนดหลักการใช้บทบัญญัติใน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ว้ว่า “เว้นแต่จะมีบัญญัติไว้เป็นอย่างอื่นในหมวดต่าง ๆ แห่งลักษณะนี้ ให้นำบทบัญญัติใน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ปใช้บังคับกับภาษีอากร ประเมินใน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หมวด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บัญญัติว่าด้วยวิธีการเกี่ยวแก่ภาษีอากรประเมิน เป็นลักษณะ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ypical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ประมวลรัษฎากร ที่บัญญัติหลักเกณฑ์ที่ใช้ร่วมกันของภาษีอากรประเมินไว้เป็นกฎหมายทั่วไป หากจะมีบทบัญญัติกฎหมายพิเศษ ก็ให้บัญญัติไว้เป็นการเฉพาะในหมวดที่ว่าด้วยภาษีอากรประเมินแต่ละประเภ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4C11-3A46-4060-9C1E-98053DDCF12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27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สียภาษีโดยการยื่นรายการประเมินตนเอง โดยผู้ต้องเสียหรือผู้นำส่งภาษีอากร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24000" y="1698480"/>
          <a:ext cx="8569080" cy="5043600"/>
        </p:xfrm>
        <a:graphic>
          <a:graphicData uri="http://schemas.openxmlformats.org/drawingml/2006/table">
            <a:tbl>
              <a:tblPr/>
              <a:tblGrid>
                <a:gridCol w="3384360"/>
                <a:gridCol w="518472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Microsoft Sans Serif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หลั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บุคคลธรรมด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หัก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ล่วงหน้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ครึ่งป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ประจำป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2, 53, 59, 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2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6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นิติบุคคล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หัก ณ ที่จ่า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ครึ่งป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  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-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เงินได้ประจำป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2, 53, 59, 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9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7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8, 6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, 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มูลค่าเพิ่ม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3 – 83/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ภาษีธุรกิจเฉพา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91/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DDC-5D28-4863-8140-4B628A4E7262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จ้าพนักงานประเมินและอำนาจของเจ้าพนักงานประเม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24000" y="1628640"/>
          <a:ext cx="8640720" cy="5051520"/>
        </p:xfrm>
        <a:graphic>
          <a:graphicData uri="http://schemas.openxmlformats.org/drawingml/2006/table">
            <a:tbl>
              <a:tblPr/>
              <a:tblGrid>
                <a:gridCol w="5760720"/>
                <a:gridCol w="2880000"/>
              </a:tblGrid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บทบัญญัต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จ้าพนักงาน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6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กอบ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ก่อนถึงกำหนดเวลายื่นราย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ทว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ตามแบบแสดงรายการที่ยื่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8, 27, 18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4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ในการออกหมายเรีย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19, 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5.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และแจ้งการประเมิน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0, 21, 1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4, 25, 18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ตร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6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เบี้ยป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2, 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7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ประเมินเงินเพิ่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8.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ำนาจเรียกตรวจสอบกรณีขอคืนภาษี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มา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7 </a:t>
                      </a:r>
                      <a:r>
                        <a:rPr b="0" lang="th-TH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จัตว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422-0676-4552-9DEF-70335C4BD9E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227240" y="260280"/>
            <a:ext cx="320040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ิธีการเกี่ยวแก่ภาษีอากรประเมิ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ืน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รี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อุทธรณ์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8 – 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อาญ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5 – 3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วิ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แจ้งรายการ การจัดทำบัญชีพิเศษ งบดุล บัญชีทำการ และบัญชีกำไรขาดทุ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ๆ ของผู้ต้องเสีย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3933720"/>
            <a:ext cx="7907400" cy="1495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สรุ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Microsoft Sans Serif"/>
              </a:rPr>
              <a:t>วิธีการเกี่ยวแก่ภาษีอากรประเมิน หมายถึง </a:t>
            </a:r>
            <a:r>
              <a:rPr b="0" lang="hi-IN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บริหารการจัดเก็บภาษีอากรประเมิ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4CA-ADF8-4C0C-9418-BF52CD75666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3:31:15Z</dcterms:created>
  <dc:creator>pool</dc:creator>
  <dc:description/>
  <dc:language>en-US</dc:language>
  <cp:lastModifiedBy>RD</cp:lastModifiedBy>
  <dcterms:modified xsi:type="dcterms:W3CDTF">2008-03-24T07:16:49Z</dcterms:modified>
  <cp:revision>94</cp:revision>
  <dc:subject/>
  <dc:title>Slide 1</dc:title>
</cp:coreProperties>
</file>